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76B6-DB6F-4A9C-B914-7A8D399E7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3561-08EA-4CAE-9077-BA84DD4B7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C12A-8C20-4F2F-B935-89E0B260E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F2ED-F679-4D2E-BE52-CE7B3B155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51259-0F6B-4F61-BA98-CBCE79ED9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3E101-B47C-4C5E-8F52-0939FD6B1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0ED97-A4A9-4A84-BB39-65D887DA6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5E85A-0E79-4E5B-92FC-713AA3C55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4DC68-1BB3-4A1C-ABDF-FB981FB19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1A5B2-8FF9-42E6-A8DA-2A24F02FD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77A40-86AB-4F2A-9095-1A2C8A97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60F0-8EB3-4626-A321-EEB7F8E5F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9AECE-F2A6-4D7D-B67F-23AC4E5B4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51C3E-E38F-4319-91AA-A725F17A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57F35-FFA8-4FF4-AAB0-ECEC397CA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667AF-53C7-4DCC-BBD3-79FBF86C2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CE78F-99DA-45E3-B0B9-71505769E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0967-21E6-4A87-BF01-13AB47B73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4BF2-D622-4597-B290-9F6A3BEAB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BD74-5DE4-4D37-A2F7-3DEAF91D0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97E1-101D-4713-8346-9C4015BD9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13D3-C3F3-4BA5-ADD9-312329BFF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B0FE-4D57-469A-91DD-0F246C271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F8EE-5CAA-4568-AFBA-5D1750996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1A09E-FBA1-410A-8FAB-435B9B8F680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0AC7D-BF33-4C1E-8405-207B26DDCC1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914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3600" spc="-1" strike="noStrike">
                <a:solidFill>
                  <a:srgbClr val="ffff66"/>
                </a:solidFill>
                <a:latin typeface="Arial Black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Arial Black"/>
              </a:rPr>
              <a:t>Подготовка устного публичного выступления</a:t>
            </a:r>
            <a:r>
              <a:rPr b="1" lang="ru-RU" sz="3600" spc="-1" strike="noStrike">
                <a:solidFill>
                  <a:srgbClr val="ffff00"/>
                </a:solidFill>
                <a:latin typeface="Arial Black"/>
              </a:rPr>
              <a:t>»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762120" y="685440"/>
            <a:ext cx="8007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Возможные интонационные окраски выступлений следующи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мажорн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беспечная или юмористическ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шутлив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сердитая или упрекающ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мрачн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торжественн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предостерегающ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просительна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7720" y="456840"/>
            <a:ext cx="80074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формулировать основной тезис означает ответить на вопрос, зачем говорить (цель) и о чем говорить (средства достижения цели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Требования к основному тезису выступления: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фраза должна утверждать главную мысль и соответствовать цели выступления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суждение должно быть кратким, ясным, легко удерживаться в кратковременной памяти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мысль должна пониматься однозначно, не заключать в себе противореч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3160" y="533520"/>
            <a:ext cx="831204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После подготовки плана выступления полезно проконтролировать себя вопросами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Вызывает ли мое выступление интерес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Достаточно ли я знаю по данному вопросу и имеется ли у меня достаточно данных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Смогу ли я закончить выступление в отведенное время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Соответствует ли мое выступление уровню моих знаний и опыту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8007480" cy="556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Оценка аудитории и                                обстанов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просите себя: «Кто мои слушатели?». Если ответ затруднителен, то лучше представить себе группу из двух-трех человек, к которым обращено выступление и готовить речь для них. Обязательно нужно принять во внимание следующие характеристики аудитории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возраст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уровень образования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профессия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цель прихода людей на выступлени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уровень заинтересованности в тем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уровень осведомленности в данном вопрос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6840" y="533160"/>
            <a:ext cx="838836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Желательно заранее поговорить с некоторыми людьми из предполагаемой публики, чтобы лучше узнать аудиторию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сто выступления – очень важный фактор успешного выступления. Для того, чтобы чувствовать себя уверенно, нужно заранее придти в зал и освоиться. Если предполагается использование микрофона, то его необходимо отрегулировать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385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         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дирование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80071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ценка темы, цели и аудитории является основой и фоном следующего этапа докоммуникативной фазы – «кодирования», т.е. создания сообщения на данную тему, с заданной целью, для данной аудитории и в соответствии с конкретной обстановкой.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Этот этап включает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одбор материалов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композиционно-логическое оформление речи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использование фактологического материала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работу над языком и стилем выступле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Фактологический материал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ифровые данные, для облегчения восприятия лучше демонстрировать посредством таблиц и графиков, а не злоупотреблять их зачитывание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учше всего, когда в устном выступлении количество цифрового материала ограничено, на него лучше ссылаться, а не приводить полностью, так как цифры скорее утомляют слушателей, нежели вызывают интерес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коммуникативная фаза обязательно должна завершаться репетицией выступления. Потренироваться можно перед близкими или друзьями, можно использовать средства аудиозаписи и видеозаписи, чтобы проконтролировать хронометраж, качество выступления – одним словом, посмотреть на себя со сторон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5638680" y="1600200"/>
            <a:ext cx="289584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одготовка по существу вопросов: 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анализ проблемы, ситуаци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формирование целей, задач, общего подхода к выступлению и собственной позици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одготовка речи и аргументации вывод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одбор необходимых документов и материал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Учитывать возрастной и половой фактор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оммуникативная фаза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Коммуникативная фаз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это произнесение речи, ответы на вопросы слушателей, ведение дискуссии и т.д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ратору, стремящемуся к достижению успеха, конструктивного результата, необходимо тщательно подготовить выступление. Такую подготовку можно представить в виде следующих составных частей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готов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анеры повед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итывать сложившиеся ритуалы и субординаци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лан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I. Введение. 2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II. Этапы подготовка реч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1. Докоммуникативная фаз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a. Определение темы и цели выступления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b. Оценка аудитории и обстановк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c. Кодирование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2. Коммуникативная фаза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III. Структура выступления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1. Вступление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2. Основная часть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3. Заключение</a:t>
            </a: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труктура выступления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Выступление должно состоять из трех частей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Вступлени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Основная часть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Заключени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Примерное распределение времен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вступление – 10-15%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основная часть – 60-65%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заключение – 20-30%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1. Вступление.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3962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Вступлени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важная часть, так как более всего запоминается слушателям, поэтому должно быть тщательно продуманным. Оно включает: объясление цели, название доклада и расшифровку подзаголовка с целью точного определения содержания выступления, четкое определение стержневой идеи. «Засиживаться» на вступлении не стоит – оно должно быть кратки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 подготовке вступления следует выбрать тему, которая имеет целью вызвать интерес публи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6" descr=""/>
          <p:cNvPicPr/>
          <p:nvPr/>
        </p:nvPicPr>
        <p:blipFill>
          <a:blip r:embed="rId1"/>
          <a:stretch/>
        </p:blipFill>
        <p:spPr>
          <a:xfrm>
            <a:off x="4267080" y="1981080"/>
            <a:ext cx="464832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        </a:t>
            </a: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2.Основная часть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Основная часть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всестороннее обоснование главного тезиса.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Некоторые варианты системного построения аргументаци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проблемное изложение (выявление и анализ противоречий, путей их разрешения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хронологическое изложени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изложение от причин к следствиям (от частного к общему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индуктивное изложение (от общего к частному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ссматриваются различные аспекты, способствующие лучшему осмыслению слушателями идеи. При этом очень важно не перерасходовать время, обязательно оставив его для заключ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лан развития основной части должен быть ясным. Предмет выступления должен раскрываться конкретно и стройно. Должно быть подобрано как можно больше фактологических материалов и необходимых пример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      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3. Заключение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Заключение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формулирование выводов, которые следуют из главной цели и основной идеи выступл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авильно построенное заключение способствует хорошему впечатлению от выступления в цело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заключении имеет смысл повторить стержневую идею и, кроме того, вновь (в кратком виде) вернуться к тем моментам основной части, которые вызвали интерес слушателей. Закончить выступление можно решительным заявлением, подводящим итог выступлени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7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789012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веде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чевое мастерство, ораторское искусство – совокупность операций по подготовке и произнесению публичной речи, проведению беседы, дискуссии с целью добиться желаемой реакции аудитор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только умение подготовить речь, но и умение свободно держаться перед публикой, безукоризненно владеть голосом, жестом и мимикой и безошибочно реагировать на поведение аудитории – таковы объективные требования к стремящемуся произвести желаемое воздействие на слушател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7" descr="79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3880" y="304920"/>
            <a:ext cx="624852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 Black"/>
              </a:rPr>
              <a:t>II. Этапы подготовки речи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боту по подготовке речи можно подразделить на две основные фазы: 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докоммуникативную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т.е. подготовку выступления и 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коммуникативную</a:t>
            </a:r>
            <a:r>
              <a:rPr b="0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взаимодействие с аудиторие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762120" y="456840"/>
            <a:ext cx="8007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1. Докоммуникативная фаз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докоммуникативной фазе различают два начальных этапа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определение темы и цели выступления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оценка аудитории и обстановк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бота на этих этапах носит характер учета и оценки объективных данных: тема и цель выступления обычно задаются программой, расписанием и т.п. Состояние аудитории и обстановка также не выбираются выступающи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914040" y="685800"/>
            <a:ext cx="3809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пределение темы и цели выступ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ему выступления следует тщательно выбирать. Если есть возможность, то нужно остановиться на том, что хорошо знакомо и интересно лично выступающему. Тогда это, возможно, будет интересно и значимо для других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тем, нужно попробовать сузить темы выступления, чтобы она представляла наибольший интерес. Необходимо решить: описывать ли предмет, разъяснять что-либо о предмете, оспаривать ли некую точку зрения или излагать новую версию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е надо пытаться «втиснуть» слишком много материала в ограниченное время. Еще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експир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казал: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«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Где мало слов, там вес они имеют»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10" descr=""/>
          <p:cNvPicPr/>
          <p:nvPr/>
        </p:nvPicPr>
        <p:blipFill>
          <a:blip r:embed="rId1"/>
          <a:stretch/>
        </p:blipFill>
        <p:spPr>
          <a:xfrm>
            <a:off x="4876920" y="838080"/>
            <a:ext cx="3927240" cy="51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456840"/>
            <a:ext cx="3927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Если есть возможность, то необходимо подумать над будущей речью несколько дней. За это время появится множество новых иде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Стержневая идея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– это основной тезис, который необходимо ясно сформулировать с самого начала. Знание цели усиливает внимание. В речи может быть несколько стержневых идей, но не более трех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тержневая идея дает возможность задать определенную тональность выступлению. Например, доклады на научно-технические темы могут произноситься с сердитой, упрекающей интонацией, смысл которой состоим в не произносимых, но подразумеваемых выражениях типа «Если вы не сделаете этого, то пожалеете», или «Не могу понять, почему вы не делаете то-то и то-то». Подобный слегка раздраженный тон позволяет докладчику эффективнее донести свою идею до слушателе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7" descr=""/>
          <p:cNvPicPr/>
          <p:nvPr/>
        </p:nvPicPr>
        <p:blipFill>
          <a:blip r:embed="rId1"/>
          <a:stretch/>
        </p:blipFill>
        <p:spPr>
          <a:xfrm>
            <a:off x="4952880" y="1676520"/>
            <a:ext cx="3581640" cy="3429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ван</cp:lastModifiedBy>
  <dcterms:modified xsi:type="dcterms:W3CDTF">2015-11-19T18:48:3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