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7C4B-F1C9-48E5-B7BC-DB47B71A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B37F-CBE9-43DB-AD1B-A7A6F78D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68E0-88A8-4DD0-AC5E-19546E59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79A3-EE03-4734-BB90-C12289E8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FF9C-711E-4B59-B1CE-9478C2C2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2FD1-62B7-4FF1-A385-666B7EF7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31C9-E89F-4CD6-A53A-99EAEF17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7899-92E4-46E8-AB1F-383C0042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1F6E-E8A3-4944-A699-42532A3E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41DE-91C6-4F76-9A18-4CDCF345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7542-89BC-44D3-833B-4D3DE8A1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F502-832A-4224-9B7A-3FF829D0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BE99-0D80-4972-ACAB-DDF9745A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2D47-233D-40DE-86E8-6F822014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5F5A-5D7B-4F3C-B6CE-6978BC87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4534-ED33-4D34-ACD7-67529E293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6540-3DE4-4814-9FCA-856330C7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81F7-9C3B-48C1-A84C-66632BD4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66EC-C447-4861-83E7-B6959F49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28EC-87CD-4A81-BED3-66519CF1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C50D-3DCB-490E-8D66-1916FB92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B828-F51A-4624-8503-444B8912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C4CD-0173-44C0-9C95-CA8B641A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625A-A00C-4C75-96EF-E18CC0E9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45F4-F39B-4A83-B5CF-23A58BD2CD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80FB-E0EA-4160-9A1D-088343B59EA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Подготовка устного публичного выступления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зможные интонационные окраски выступлений следующ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ажор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еспечная или юмористическ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шутлив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ердитая или упрек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рач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оржествен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остерег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ситель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улировать основной тезис означает ответить на вопрос, зачем говорить (цель) и о чем говорить (средства достижения цел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ребования к основному тезису выступле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раза должна утверждать главную мысль и соответствовать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уждение должно быть кратким, ясным, легко удерживаться в кратковременной памя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ысль должна пониматься однозначно, не заключать в себе противореч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1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ле подготовки плана выступления полезно проконтролировать себя вопросам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зывает ли мое выступление интерес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статочно ли я знаю по данному вопросу и имеется ли у меня достаточно данн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могу ли я закончить выступление в отведенное врем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ответствует ли мое выступление уровню моих знаний и опыт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074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ценка аудитории и                                обстанов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осите себя: «Кто мои слушатели?». Если ответ затруднителен, то лучше представить себе группу из двух-трех человек, к которым обращено выступление и готовить речь для них. Обязательно нужно принять во внимание следующие характеристики аудитор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озрас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фесс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ль прихода людей на выступ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заинтересованности в тем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сведомленности в данном вопрос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8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тельно заранее поговорить с некоторыми людьми из предполагаемой публики, чтобы лучше узнать аудитор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выступления – очень важный фактор успешного выступления. Для того, чтобы чувствовать себя уверенно, нужно заранее придти в зал и освоиться. Если предполагается использование микрофона, то его необходимо отрегулиров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дирова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07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ка темы, цели и аудитории является основой и фоном следующего этапа докоммуникативной фазы – «кодирования», т.е. создания сообщения на данную тему, с заданной целью, для данной аудитории и в соответствии с конкретной обстановкой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т этап включ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материал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мпозиционно-логическое оформление реч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ние фактологического материал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боту над языком и стилем выступ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актологический материал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овые данные, для облегчения восприятия лучше демонстрировать посредством таблиц и графиков, а не злоупотреблять их зачиты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всего, когда в устном выступлении количество цифрового материала ограничено, на него лучше ссылаться, а не приводить полностью, так как цифры скорее утомляют слушателей, нежели вызывают интере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оммуникативная фаза обязательно должна завершаться репетицией выступления. Потренироваться можно перед близкими или друзьями, можно использовать средства аудиозаписи и видеозаписи, чтобы проконтролировать хронометраж, качество выступления – одним словом, посмотреть на себя со сторо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дготовка по существу вопросов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ализ проблемы, ситу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ормирование целей, задач, общего подхода к выступлению и собственной пози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готовка речи и аргументации выв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необходимых документов и материал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читывать возрастной и половой факт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ммуникативная фаз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муникативная ф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произнесение речи, ответы на вопросы слушателей, ведение дискусси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тору, стремящемуся к достижению успеха, конструктивного результата, необходимо тщательно подготовить выступление. Такую подготовку можно представить в виде следующих составных ча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неры по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ть сложившиеся ритуалы и субордин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. Введение.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. Этапы подготовка реч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Докоммуникативная фа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a. Определение темы и цели выступ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b. Оценка аудитории и обстанов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c. Кодирова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Коммуникативная фаза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I. Структура выступления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Вступле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Основная часть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3. Заключение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выступлен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ступление должно состоять из трех час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ступ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сновная ча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Заклю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мерное распределение врем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ступление – 10-1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сновная часть – 60-6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аключение – 20-3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Вступление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ступ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ажная часть, так как более всего запоминается слушателям, поэтому должно быть тщательно продуманным. Оно включает: объясление цели, название доклада и расшифровку подзаголовка с целью точного определения содержания выступления, четкое определение стержневой идеи. «Засиживаться» на вступлении не стоит – оно должно быть кратки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одготовке вступления следует выбрать тему, которая имеет целью вызвать интерес публ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2.Основная час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новная ча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сестороннее обоснование главного тезиса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которые варианты системного построения аргумент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блемное изложение (выявление и анализ противоречий, путей их разрешен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хронологическое излож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зложение от причин к следствиям (от частного к общему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ндуктивное изложение (от общего к частном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ются различные аспекты, способствующие лучшему осмыслению слушателями идеи. При этом очень важно не перерасходовать время, обязательно оставив его для заклю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 развития основной части должен быть ясным. Предмет выступления должен раскрываться конкретно и стройно. Должно быть подобрано как можно больше фактологических материалов и необходимых при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. Заключе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люч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формулирование выводов, которые следуют из главной цели и основной идеи выступ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построенное заключение способствует хорошему впечатлению от выступления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ключении имеет смысл повторить стержневую идею и, кроме того, вновь (в кратком виде) вернуться к тем моментам основной части, которые вызвали интерес слушателей. Закончить выступление можно решительным заявлением, подводящим итог выступл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901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евое мастерство, ораторское искусство – совокупность операций по подготовке и произнесению публичной речи, проведению беседы, дискуссии с целью добиться желаемой реакции аудито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олько умение подготовить речь, но и умение свободно держаться перед публикой, безукоризненно владеть голосом, жестом и мимикой и безошибочно реагировать на поведение аудитории – таковы объективные требования к стремящемуся произвести желаемое воздействие на слуш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04920"/>
            <a:ext cx="62485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II. Этапы подготовки реч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по подготовке речи можно подразделить на две основные фазы: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докоммуникативну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.е. подготовку выступления и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ммуникативную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заимодействие с аудитор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 Докоммуникативная ф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окоммуникативной фазе различают два начальных этап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ение темы и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ка аудитории и обстанов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 этих этапах носит характер учета и оценки объективных данных: тема и цель выступления обычно задаются программой, расписанием и т.п. Состояние аудитории и обстановка также не выбираются выступающ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темы и цели высту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му выступления следует тщательно выбирать. Если есть возможность, то нужно остановиться на том, что хорошо знакомо и интересно лично выступающему. Тогда это, возможно, будет интересно и значимо для други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тем, нужно попробовать сузить темы выступления, чтобы она представляла наибольший интерес. Необходимо решить: описывать ли предмет, разъяснять что-либо о предмете, оспаривать ли некую точку зрения или излагать новую верс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надо пытаться «втиснуть» слишком много материала в ограниченное время. Ещ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експ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ал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де мало слов, там вес они имеют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92724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392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есть возможность, то необходимо подумать над будущей речью несколько дней. За это время появится множество новых и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тержневая иде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это основной тезис, который необходимо ясно сформулировать с самого начала. Знание цели усиливает внимание. В речи может быть несколько стержневых идей, но не более тре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ржневая идея дает возможность задать определенную тональность выступлению. Например, доклады на научно-технические темы могут произноситься с сердитой, упрекающей интонацией, смысл которой состоим в не произносимых, но подразумеваемых выражениях типа «Если вы не сделаете этого, то пожалеете», или «Не могу понять, почему вы не делаете то-то и то-то». Подобный слегка раздраженный тон позволяет докладчику эффективнее донести свою идею до слуша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81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5-11-19T18:48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