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43CD-6EA6-4629-B307-65AC0D2A7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E70A-570B-4A3C-ACE5-A8B4240F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7AD4-1FD0-408E-B5FE-BFFF322F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B64D-D249-40DF-8657-483139AD8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08C4-2F82-4C11-B820-EBB1666C7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9C01-B9E6-40B4-B938-CD079167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D7AB-1291-4B5D-8F8F-280BE267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1249-2220-4E0E-A413-FFFA8384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55C2-DAB0-4050-83DF-07330F20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370A-30FE-4567-8985-77DAE170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1E22-3381-4018-8A19-3CC69409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FA71-7FA7-4407-90AF-CCFCAD4E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B074-DFCA-433F-B444-AE94ACAC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6AF9-BBF5-4306-9C91-1EEB34B5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A0A5-F6FF-4A7D-B908-8E73F859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AB77-F426-46A1-B9DC-AED5AF907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4F31-DD87-4834-9C70-D753D1274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9441-8EC4-4F11-84F3-FA16F97F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BE31-AA46-4765-B176-46D73A8C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AE84-DD76-46AF-A1BC-481AE140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DC34-67BF-4C1A-9945-B3C5361C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3917-E4BA-4F03-858B-4C8F43A3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650A-F1F1-4B60-B6E4-990ED745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8079-E7EC-48A5-825D-AB1C8A88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897F-43AF-4FB7-868C-0727826682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ADA0-E8C1-4BCE-97FE-4DA071E1C31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Подготовка устного публичного выступления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озможные интонационные окраски выступлений следующ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ажор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беспечная или юмористическ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шутлив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ердитая или упрек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рач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торжествен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едостерег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осительна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456840"/>
            <a:ext cx="8007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формулировать основной тезис означает ответить на вопрос, зачем говорить (цель) и о чем говорить (средства достижения цели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Требования к основному тезису выступления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раза должна утверждать главную мысль и соответствовать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уждение должно быть кратким, ясным, легко удерживаться в кратковременной памят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мысль должна пониматься однозначно, не заключать в себе противореч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83120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осле подготовки плана выступления полезно проконтролировать себя вопросам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Вызывает ли мое выступление интерес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Достаточно ли я знаю по данному вопросу и имеется ли у меня достаточно данных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могу ли я закончить выступление в отведенное время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оответствует ли мое выступление уровню моих знаний и опыту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8007480" cy="55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ценка аудитории и                                обстанов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росите себя: «Кто мои слушатели?». Если ответ затруднителен, то лучше представить себе группу из двух-трех человек, к которым обращено выступление и готовить речь для них. Обязательно нужно принять во внимание следующие характеристики аудитори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озраст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бразова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фесс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цель прихода людей на выступл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заинтересованности в тем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сведомленности в данном вопрос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3883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елательно заранее поговорить с некоторыми людьми из предполагаемой публики, чтобы лучше узнать аудиторию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сто выступления – очень важный фактор успешного выступления. Для того, чтобы чувствовать себя уверенно, нужно заранее придти в зал и освоиться. Если предполагается использование микрофона, то его необходимо отрегулирова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85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дирова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07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ценка темы, цели и аудитории является основой и фоном следующего этапа докоммуникативной фазы – «кодирования», т.е. создания сообщения на данную тему, с заданной целью, для данной аудитории и в соответствии с конкретной обстановкой.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Этот этап включа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материалов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композиционно-логическое оформление реч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использование фактологического материал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работу над языком и стилем выступл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Фактологический материал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фровые данные, для облегчения восприятия лучше демонстрировать посредством таблиц и графиков, а не злоупотреблять их зачитывани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чше всего, когда в устном выступлении количество цифрового материала ограничено, на него лучше ссылаться, а не приводить полностью, так как цифры скорее утомляют слушателей, нежели вызывают интере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коммуникативная фаза обязательно должна завершаться репетицией выступления. Потренироваться можно перед близкими или друзьями, можно использовать средства аудиозаписи и видеозаписи, чтобы проконтролировать хронометраж, качество выступления – одним словом, посмотреть на себя со сторо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28958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одготовка по существу вопросов: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анализ проблемы, ситуа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ормирование целей, задач, общего подхода к выступлению и собственной пози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готовка речи и аргументации вывод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необходимых документов и материал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Учитывать возрастной и половой фактор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ммуникативная фаз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ммуникативная фаз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произнесение речи, ответы на вопросы слушателей, ведение дискуссии и т.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атору, стремящемуся к достижению успеха, конструктивного результата, необходимо тщательно подготовить выступление. Такую подготовку можно представить в виде следующих составных часте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неры повед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ывать сложившиеся ритуалы и субординац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. Введение. 2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. Этапы подготовка реч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Докоммуникативная фаз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a. Определение темы и цели выступле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b. Оценка аудитории и обстановк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c. Кодирова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Коммуникативная фаза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I. Структура выступления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Вступле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Основная часть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3. Заключение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руктура выступления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ыступление должно состоять из трех часте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Вступл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Основная ча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Заключ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имерное распределение времен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вступление – 10-1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сновная часть – 60-6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заключение – 20-30%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1. Вступление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ступл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ажная часть, так как более всего запоминается слушателям, поэтому должно быть тщательно продуманным. Оно включает: объясление цели, название доклада и расшифровку подзаголовка с целью точного определения содержания выступления, четкое определение стержневой идеи. «Засиживаться» на вступлении не стоит – оно должно быть кратки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подготовке вступления следует выбрать тему, которая имеет целью вызвать интерес публ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46483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2.Основная часть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сновная час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сестороннее обоснование главного тезиса.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екоторые варианты системного построения аргумента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блемное изложение (выявление и анализ противоречий, путей их разрешения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хронологическое излож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зложение от причин к следствиям (от частного к общему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ндуктивное изложение (от общего к частному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атриваются различные аспекты, способствующие лучшему осмыслению слушателями идеи. При этом очень важно не перерасходовать время, обязательно оставив его для заклю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н развития основной части должен быть ясным. Предмет выступления должен раскрываться конкретно и стройно. Должно быть подобрано как можно больше фактологических материалов и необходимых приме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3. Заключе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ключе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формулирование выводов, которые следуют из главной цели и основной идеи выступл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ьно построенное заключение способствует хорошему впечатлению от выступления в цел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заключении имеет смысл повторить стержневую идею и, кроме того, вновь (в кратком виде) вернуться к тем моментам основной части, которые вызвали интерес слушателей. Закончить выступление можно решительным заявлением, подводящим итог выступлен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8901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вед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чевое мастерство, ораторское искусство – совокупность операций по подготовке и произнесению публичной речи, проведению беседы, дискуссии с целью добиться желаемой реакции аудитор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только умение подготовить речь, но и умение свободно держаться перед публикой, безукоризненно владеть голосом, жестом и мимикой и безошибочно реагировать на поведение аудитории – таковы объективные требования к стремящемуся произвести желаемое воздействие на слуша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7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04920"/>
            <a:ext cx="62485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II. Этапы подготовки речи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у по подготовке речи можно подразделить на две основные фазы: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докоммуникативную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т.е. подготовку выступления и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коммуникативную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взаимодействие с аудитори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4568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. Докоммуникативная фа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окоммуникативной фазе различают два начальных этап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пределение темы и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ценка аудитории и обстанов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на этих этапах носит характер учета и оценки объективных данных: тема и цель выступления обычно задаются программой, расписанием и т.п. Состояние аудитории и обстановка также не выбираются выступающи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040" y="68580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ение темы и цели выступ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ему выступления следует тщательно выбирать. Если есть возможность, то нужно остановиться на том, что хорошо знакомо и интересно лично выступающему. Тогда это, возможно, будет интересно и значимо для други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тем, нужно попробовать сузить темы выступления, чтобы она представляла наибольший интерес. Необходимо решить: описывать ли предмет, разъяснять что-либо о предмете, оспаривать ли некую точку зрения или излагать новую версию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 надо пытаться «втиснуть» слишком много материала в ограниченное время. Еще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експир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азал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Где мало слов, там вес они имеют»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0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92724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456840"/>
            <a:ext cx="3927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сли есть возможность, то необходимо подумать над будущей речью несколько дней. За это время появится множество новых ид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Стержневая иде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это основной тезис, который необходимо ясно сформулировать с самого начала. Знание цели усиливает внимание. В речи может быть несколько стержневых идей, но не более тре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ержневая идея дает возможность задать определенную тональность выступлению. Например, доклады на научно-технические темы могут произноситься с сердитой, упрекающей интонацией, смысл которой состоим в не произносимых, но подразумеваемых выражениях типа «Если вы не сделаете этого, то пожалеете», или «Не могу понять, почему вы не делаете то-то и то-то». Подобный слегка раздраженный тон позволяет докладчику эффективнее донести свою идею до слушател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5816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ван</cp:lastModifiedBy>
  <dcterms:modified xsi:type="dcterms:W3CDTF">2015-11-19T18:48:3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