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8E5E-7357-4803-B8A3-0C44C6B82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ABC9-CA15-4AE4-82CE-AC02A3A82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E8CD-7134-4BC8-9475-08923E19E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26A4-7DAE-40FE-8477-BAC037713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B906F-E0AC-4AC7-AF80-F668BE505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9C697-1F8E-4BC4-B761-1CB011669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54A89-8F59-4AD6-A773-9DFE9ABE2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BD497-49BC-4D0D-8C5F-505172CFF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7A1DE-E972-4426-9CCC-049FC79E9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BA0F0-E407-49D8-A027-0C6D29EB5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0D36C-47A0-46A7-9900-260E29E5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C310-AA9B-4BF2-B9E7-980C3B3D9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59FDA-41B3-485A-8E82-70153E88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C6C55-C7A6-41D7-B5B7-C819C64E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E0FE2-BF45-4F0B-B1AC-EB15BFE4D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5F7F2-D828-4820-A34A-66FC89946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685A0-D908-4A1B-8482-9231CD4EA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B31B-8115-4524-8B6E-28AF5DC5D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5118-4EAA-44D5-9089-821298E2D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A581-61D4-4549-B293-4E1DE61A1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7BC9-3DB3-4D60-83F5-FCF889997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7C70-2229-4E89-A8E8-74DF04CD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32E7-CC3E-436D-A3AA-8202BFB9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036C-87DF-4444-9E86-EC7144F3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33EEE-1F53-46DB-96B3-55613F20DA1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C35E8-33C3-4437-ADF6-8BF2FDECCD0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914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3600" spc="-1" strike="noStrike">
                <a:solidFill>
                  <a:srgbClr val="ffff66"/>
                </a:solidFill>
                <a:latin typeface="Arial Black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Подготовка устного публичного выступления</a:t>
            </a:r>
            <a:r>
              <a:rPr b="1" lang="ru-RU" sz="3600" spc="-1" strike="noStrike">
                <a:solidFill>
                  <a:srgbClr val="ffff00"/>
                </a:solidFill>
                <a:latin typeface="Arial Black"/>
              </a:rPr>
              <a:t>»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762120" y="685440"/>
            <a:ext cx="8007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Возможные интонационные окраски выступлений следующи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мажорн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беспечная или юмористическ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шутлив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ердитая или упрекающ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мрачн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торжественн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редостерегающ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росительна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7720" y="456840"/>
            <a:ext cx="8007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формулировать основной тезис означает ответить на вопрос, зачем говорить (цель) и о чем говорить (средства достижения цели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Требования к основному тезису выступления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фраза должна утверждать главную мысль и соответствовать цели выступлени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суждение должно быть кратким, ясным, легко удерживаться в кратковременной памят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мысль должна пониматься однозначно, не заключать в себе противореч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3160" y="533520"/>
            <a:ext cx="83120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осле подготовки плана выступления полезно проконтролировать себя вопросами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Вызывает ли мое выступление интерес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Достаточно ли я знаю по данному вопросу и имеется ли у меня достаточно данных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могу ли я закончить выступление в отведенное время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оответствует ли мое выступление уровню моих знаний и опыту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8007480" cy="556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ценка аудитории и                                обстанов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росите себя: «Кто мои слушатели?». Если ответ затруднителен, то лучше представить себе группу из двух-трех человек, к которым обращено выступление и готовить речь для них. Обязательно нужно принять во внимание следующие характеристики аудитории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возраст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уровень образовани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рофесси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цель прихода людей на выступлени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уровень заинтересованности в тем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уровень осведомленности в данном вопрос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6840" y="533160"/>
            <a:ext cx="838836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елательно заранее поговорить с некоторыми людьми из предполагаемой публики, чтобы лучше узнать аудиторию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сто выступления – очень важный фактор успешного выступления. Для того, чтобы чувствовать себя уверенно, нужно заранее придти в зал и освоиться. Если предполагается использование микрофона, то его необходимо отрегулировать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385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дирование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8007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ценка темы, цели и аудитории является основой и фоном следующего этапа докоммуникативной фазы – «кодирования», т.е. создания сообщения на данную тему, с заданной целью, для данной аудитории и в соответствии с конкретной обстановкой.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Этот этап включае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дбор материалов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композиционно-логическое оформление реч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использование фактологического материала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работу над языком и стилем выступле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Фактологический материал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ифровые данные, для облегчения восприятия лучше демонстрировать посредством таблиц и графиков, а не злоупотреблять их зачитывание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учше всего, когда в устном выступлении количество цифрового материала ограничено, на него лучше ссылаться, а не приводить полностью, так как цифры скорее утомляют слушателей, нежели вызывают интерес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коммуникативная фаза обязательно должна завершаться репетицией выступления. Потренироваться можно перед близкими или друзьями, можно использовать средства аудиозаписи и видеозаписи, чтобы проконтролировать хронометраж, качество выступления – одним словом, посмотреть на себя со сторон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5638680" y="1600200"/>
            <a:ext cx="28958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одготовка по существу вопросов: 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анализ проблемы, ситуац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формирование целей, задач, общего подхода к выступлению и собственной позиц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дготовка речи и аргументации вывод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дбор необходимых документов и материал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Учитывать возрастной и половой фактор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оммуникативная фаза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оммуникативная фаз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это произнесение речи, ответы на вопросы слушателей, ведение дискуссии и т.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ратору, стремящемуся к достижению успеха, конструктивного результата, необходимо тщательно подготовить выступление. Такую подготовку можно представить в виде следующих составных частей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готов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неры повед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итывать сложившиеся ритуалы и субординаци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ла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I. Введение. 2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II. Этапы подготовка реч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1. Докоммуникативная фаз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a. Определение темы и цели выступления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b. Оценка аудитории и обстановк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c. Кодирование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2. Коммуникативная фаза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III. Структура выступления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1. Вступление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2. Основная часть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3. Заключение</a:t>
            </a: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труктура выступления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ыступление должно состоять из трех часте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Вступл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Основная част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Заключ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римерное распределение времен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вступление – 10-15%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сновная часть – 60-65%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заключение – 20-30%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1. Вступление.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3962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Вступлен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важная часть, так как более всего запоминается слушателям, поэтому должно быть тщательно продуманным. Оно включает: объясление цели, название доклада и расшифровку подзаголовка с целью точного определения содержания выступления, четкое определение стержневой идеи. «Засиживаться» на вступлении не стоит – оно должно быть кратки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 подготовке вступления следует выбрать тему, которая имеет целью вызвать интерес публ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1"/>
          <a:stretch/>
        </p:blipFill>
        <p:spPr>
          <a:xfrm>
            <a:off x="4267080" y="1981080"/>
            <a:ext cx="464832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        </a:t>
            </a: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2.Основная часть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Основная част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всестороннее обоснование главного тезиса.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Некоторые варианты системного построения аргументац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роблемное изложение (выявление и анализ противоречий, путей их разрешения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хронологическое изложени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изложение от причин к следствиям (от частного к общему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индуктивное изложение (от общего к частному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сматриваются различные аспекты, способствующие лучшему осмыслению слушателями идеи. При этом очень важно не перерасходовать время, обязательно оставив его для заключ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лан развития основной части должен быть ясным. Предмет выступления должен раскрываться конкретно и стройно. Должно быть подобрано как можно больше фактологических материалов и необходимых пример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3. Заключение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Заключение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формулирование выводов, которые следуют из главной цели и основной идеи выступл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авильно построенное заключение способствует хорошему впечатлению от выступления в цел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заключении имеет смысл повторить стержневую идею и, кроме того, вновь (в кратком виде) вернуться к тем моментам основной части, которые вызвали интерес слушателей. Закончить выступление можно решительным заявлением, подводящим итог выступлени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7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89012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веде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чевое мастерство, ораторское искусство – совокупность операций по подготовке и произнесению публичной речи, проведению беседы, дискуссии с целью добиться желаемой реакции аудитор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только умение подготовить речь, но и умение свободно держаться перед публикой, безукоризненно владеть голосом, жестом и мимикой и безошибочно реагировать на поведение аудитории – таковы объективные требования к стремящемуся произвести желаемое воздействие на слушате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7" descr="79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304920"/>
            <a:ext cx="624852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 Black"/>
              </a:rPr>
              <a:t>II. Этапы подготовки речи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у по подготовке речи можно подразделить на две основные фазы: 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докоммуникативную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т.е. подготовку выступления и 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коммуникативную</a:t>
            </a:r>
            <a:r>
              <a:rPr b="0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взаимодействие с аудиторие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762120" y="456840"/>
            <a:ext cx="8007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1. Докоммуникативная фа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докоммуникативной фазе различают два начальных этап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пределение темы и цели выступлени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ценка аудитории и обстанов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бота на этих этапах носит характер учета и оценки объективных данных: тема и цель выступления обычно задаются программой, расписанием и т.п. Состояние аудитории и обстановка также не выбираются выступающи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914040" y="685800"/>
            <a:ext cx="3809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пределение темы и цели выступ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ему выступления следует тщательно выбирать. Если есть возможность, то нужно остановиться на том, что хорошо знакомо и интересно лично выступающему. Тогда это, возможно, будет интересно и значимо для других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тем, нужно попробовать сузить темы выступления, чтобы она представляла наибольший интерес. Необходимо решить: описывать ли предмет, разъяснять что-либо о предмете, оспаривать ли некую точку зрения или излагать новую версию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е надо пытаться «втиснуть» слишком много материала в ограниченное время. Еще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експир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казал: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«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Где мало слов, там вес они имеют»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10" descr=""/>
          <p:cNvPicPr/>
          <p:nvPr/>
        </p:nvPicPr>
        <p:blipFill>
          <a:blip r:embed="rId1"/>
          <a:stretch/>
        </p:blipFill>
        <p:spPr>
          <a:xfrm>
            <a:off x="4876920" y="838080"/>
            <a:ext cx="3927240" cy="51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456840"/>
            <a:ext cx="3927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Если есть возможность, то необходимо подумать над будущей речью несколько дней. За это время появится множество новых иде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Стержневая идея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– это основной тезис, который необходимо ясно сформулировать с самого начала. Знание цели усиливает внимание. В речи может быть несколько стержневых идей, но не более трех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тержневая идея дает возможность задать определенную тональность выступлению. Например, доклады на научно-технические темы могут произноситься с сердитой, упрекающей интонацией, смысл которой состоим в не произносимых, но подразумеваемых выражениях типа «Если вы не сделаете этого, то пожалеете», или «Не могу понять, почему вы не делаете то-то и то-то». Подобный слегка раздраженный тон позволяет докладчику эффективнее донести свою идею до слушателе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7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581640" cy="3429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ван</cp:lastModifiedBy>
  <dcterms:modified xsi:type="dcterms:W3CDTF">2015-11-19T18:48:3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