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9FF-8976-4AB2-B98D-DBBF3DA9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5F5-82DC-469A-9385-4FED9DC2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145-E45C-439C-8635-6E0134D3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E8C-6E15-4A54-B65B-1013B481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266-0F07-4C90-9DE4-F82E416C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BDB6-EBA8-4315-8CAD-0C1D7912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D63D-0A0A-4AF9-AB8B-CC207C7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5564-5307-4F1D-98F9-51920F34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A196-C809-40AC-9D3C-D1A7C470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E9B5-BE94-4851-9D17-D2808F3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7CFC-3AB9-4C04-89CD-4EE1FE88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F6AE-6133-456B-8D26-725DFD4B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8817-69C4-4401-AF70-D323F04C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F3EC-F2AE-4A4B-93B9-12BE6B52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B1EE-F2A8-4443-BE4D-BC7535B0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6E76-B0AA-4BBE-9FBF-4262BECC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25A-CB39-47F2-A329-6525A88E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74A-5A6B-4245-80B1-88B41550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537-09BE-4C72-85AE-0CD4D4EE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6CF-E7B7-4CBE-9766-E2BF0364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681-7AC0-4DAA-8D1E-EE71BBA3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15F-2D93-4C03-9962-093D6C7F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562-28D3-411F-BB2C-C5BBD382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9CA-6F72-45F0-B315-570F9AA9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3A5-07C7-45A7-9F9D-B8607FD19B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F0F-8C2A-4E57-93F2-914302854C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Подготовка устного публичного выступления</a:t>
            </a: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зможные интонационные окраски выступлений следующ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ажор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беспечная или юмористическ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шутлив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ердитая или упрек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мрач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торжественн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едостерегающа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проситель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улировать основной тезис означает ответить на вопрос, зачем говорить (цель) и о чем говорить (средства достижения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Требования к основному тезису выступлени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раза должна утверждать главную мысль и соответствовать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уждение должно быть кратким, ясным, легко удерживаться в кратковременной памя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мысль должна пониматься однозначно, не заключать в себе противореч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831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сле подготовки плана выступления полезно проконтролировать себя вопросам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Вызывает ли мое выступление интерес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статочно ли я знаю по данному вопросу и имеется ли у меня достаточно данны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могу ли я закончить выступление в отведенное врем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Соответствует ли мое выступление уровню моих знаний и опыт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0748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ценка аудитории и                                обстанов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росите себя: «Кто мои слушатели?». Если ответ затруднителен, то лучше представить себе группу из двух-трех человек, к которым обращено выступление и готовить речь для них. Обязательно нужно принять во внимание следующие характеристики аудитор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озраст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бразова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фесс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цель прихода людей на выступл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заинтересованности в тем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ровень осведомленности в данном вопрос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388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лательно заранее поговорить с некоторыми людьми из предполагаемой публики, чтобы лучше узнать аудитор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выступления – очень важный фактор успешного выступления. Для того, чтобы чувствовать себя уверенно, нужно заранее придти в зал и освоиться. Если предполагается использование микрофона, то его необходимо отрегулирова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85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дирова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07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ка темы, цели и аудитории является основой и фоном следующего этапа докоммуникативной фазы – «кодирования», т.е. создания сообщения на данную тему, с заданной целью, для данной аудитории и в соответствии с конкретной обстановкой.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Этот этап включ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материал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композиционно-логическое оформление реч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использование фактологического материал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боту над языком и стилем выступ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Фактологический материал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фровые данные, для облегчения восприятия лучше демонстрировать посредством таблиц и графиков, а не злоупотреблять их зачиты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е всего, когда в устном выступлении количество цифрового материала ограничено, на него лучше ссылаться, а не приводить полностью, так как цифры скорее утомляют слушателей, нежели вызывают интере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коммуникативная фаза обязательно должна завершаться репетицией выступления. Потренироваться можно перед близкими или друзьями, можно использовать средства аудиозаписи и видеозаписи, чтобы проконтролировать хронометраж, качество выступления – одним словом, посмотреть на себя со сторо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одготовка по существу вопросов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анализ проблемы, ситуа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формирование целей, задач, общего подхода к выступлению и собственной позиц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готовка речи и аргументации вывод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дбор необходимых документов и материал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Учитывать возрастной и половой факт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ммуникативная фаз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ммуникативная ф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произнесение речи, ответы на вопросы слушателей, ведение дискусси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тору, стремящемуся к достижению успеха, конструктивного результата, необходимо тщательно подготовить выступление. Такую подготовку можно представить в виде следующих составных ча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еры пове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ывать сложившиеся ритуалы и субордин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. Введение.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. Этапы подготовка реч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Докоммуникативная фа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a. Определение темы и цели выступ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b. Оценка аудитории и обстанов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c. Кодирова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Коммуникативная фаза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III. Структура выступления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1. Вступление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2. Основная часть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3. Заключение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выступлени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ступление должно состоять из трех час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Вступл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сновная ча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Заключ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имерное распределение време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ступление – 10-1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сновная часть – 60-65%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лючение – 20-3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1. Вступление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ажная часть, так как более всего запоминается слушателям, поэтому должно быть тщательно продуманным. Оно включает: объясление цели, название доклада и расшифровку подзаголовка с целью точного определения содержания выступления, четкое определение стержневой идеи. «Засиживаться» на вступлении не стоит – оно должно быть кратк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подготовке вступления следует выбрать тему, которая имеет целью вызвать интерес публ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2.Основная часть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овная час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всестороннее обоснование главного тезиса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которые варианты системного построения аргумент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блемное изложение (выявление и анализ противоречий, путей их разрешения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хронологическое изложени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зложение от причин к следствиям (от частного к общему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дуктивное изложение (от общего к частному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атриваются различные аспекты, способствующие лучшему осмыслению слушателями идеи. При этом очень важно не перерасходовать время, обязательно оставив его для заклю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развития основной части должен быть ясным. Предмет выступления должен раскрываться конкретно и стройно. Должно быть подобрано как можно больше фактологических материалов и необходимых при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3. Заключение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ключ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формулирование выводов, которые следуют из главной цели и основной идеи выступл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остроенное заключение способствует хорошему впечатлению от выступления в цел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ключении имеет смысл повторить стержневую идею и, кроме того, вновь (в кратком виде) вернуться к тем моментам основной части, которые вызвали интерес слушателей. Закончить выступление можно решительным заявлением, подводящим итог выступл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901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чевое мастерство, ораторское искусство – совокупность операций по подготовке и произнесению публичной речи, проведению беседы, дискуссии с целью добиться желаемой реакции аудитор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только умение подготовить речь, но и умение свободно держаться перед публикой, безукоризненно владеть голосом, жестом и мимикой и безошибочно реагировать на поведение аудитории – таковы объективные требования к стремящемуся произвести желаемое воздействие на слуш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04920"/>
            <a:ext cx="62485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II. Этапы подготовки речи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у по подготовке речи можно подразделить на две основные фазы: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докоммуникативну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т.е. подготовку выступления и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оммуникативную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взаимодействие с аудитор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456840"/>
            <a:ext cx="8007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1. Докоммуникативная фа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окоммуникативной фазе различают два начальных этап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пределение темы и цели выступл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ценка аудитории и обстанов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на этих этапах носит характер учета и оценки объективных данных: тема и цель выступления обычно задаются программой, расписанием и т.п. Состояние аудитории и обстановка также не выбираются выступающи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6858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ределение темы и цели вы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му выступления следует тщательно выбирать. Если есть возможность, то нужно остановиться на том, что хорошо знакомо и интересно лично выступающему. Тогда это, возможно, будет интересно и значимо для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тем, нужно попробовать сузить темы выступления, чтобы она представляла наибольший интерес. Необходимо решить: описывать ли предмет, разъяснять что-либо о предмете, оспаривать ли некую точку зрения или излагать новую верс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надо пытаться «втиснуть» слишком много материала в ограниченное время. Ещ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експир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азал: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Где мало слов, там вес они имеют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92724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3927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есть возможность, то необходимо подумать над будущей речью несколько дней. За это время появится множество новых и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Стержневая иде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– это основной тезис, который необходимо ясно сформулировать с самого начала. Знание цели усиливает внимание. В речи может быть несколько стержневых идей, но не более тре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ржневая идея дает возможность задать определенную тональность выступлению. Например, доклады на научно-технические темы могут произноситься с сердитой, упрекающей интонацией, смысл которой состоим в не произносимых, но подразумеваемых выражениях типа «Если вы не сделаете этого, то пожалеете», или «Не могу понять, почему вы не делаете то-то и то-то». Подобный слегка раздраженный тон позволяет докладчику эффективнее донести свою идею до слушател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</cp:lastModifiedBy>
  <dcterms:modified xsi:type="dcterms:W3CDTF">2015-11-19T18:48:3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