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B691-1E67-4A24-92D2-E3D0410DF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E4D2-3156-4F64-B650-966A2EC7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0029-206A-466A-8AB3-5638B54A4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170D-A344-4D4A-9C36-3F7B5ED15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EA35-3FCB-48A7-9E19-B2920EF6E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7C50-2E23-4862-94CF-18734436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0C80-8597-443E-BF78-24F9C500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1E95-206C-49D4-A63D-FD00F821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0C06-BCF7-48F0-9A98-7C51FA49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8B30-11B3-4D45-831A-0C52EEC7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1199-65FA-465E-BEF1-5F84EE9F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EA23-3304-4366-976E-215E574D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6933-8EF9-4423-9D5E-73E75457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9B0B-35BE-46EB-99AE-94EE5907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0575-332B-4F6D-9E7D-C0B69E06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A906-674D-458A-A4C1-5855582F3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47E8-5DB5-4DDB-8905-6F06AAC05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A964-EA5D-4737-ADC8-B70D1E7F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B67E-EA83-47DF-9BAB-512F2B54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F729-C7A7-4C48-AE92-DB315559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E1AD-C2EA-4E31-B623-12DFA6C4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3011-DEBA-4B30-9D6F-03C6898D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C3CB-F7A1-4A3A-8A6A-D2E21317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8839-B3B0-4F85-BDDD-68D057BC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0DA3-2A11-4162-9776-5355F73511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9BE1-A4D8-4265-A5B4-EF6C4EC7138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Подготовка устного публичного выступления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озможные интонационные окраски выступлений следующ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ажор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беспечная или юмористическ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шутлив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ердитая или упрек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рач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торжествен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едостерег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осительна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456840"/>
            <a:ext cx="8007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формулировать основной тезис означает ответить на вопрос, зачем говорить (цель) и о чем говорить (средства достижения цели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Требования к основному тезису выступления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раза должна утверждать главную мысль и соответствовать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уждение должно быть кратким, ясным, легко удерживаться в кратковременной памят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мысль должна пониматься однозначно, не заключать в себе противореч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83120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осле подготовки плана выступления полезно проконтролировать себя вопросам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Вызывает ли мое выступление интерес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Достаточно ли я знаю по данному вопросу и имеется ли у меня достаточно данных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могу ли я закончить выступление в отведенное время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оответствует ли мое выступление уровню моих знаний и опыту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8007480" cy="55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ценка аудитории и                                обстанов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росите себя: «Кто мои слушатели?». Если ответ затруднителен, то лучше представить себе группу из двух-трех человек, к которым обращено выступление и готовить речь для них. Обязательно нужно принять во внимание следующие характеристики аудитори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озраст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бразова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фесс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цель прихода людей на выступл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заинтересованности в тем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сведомленности в данном вопрос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3883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елательно заранее поговорить с некоторыми людьми из предполагаемой публики, чтобы лучше узнать аудиторию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сто выступления – очень важный фактор успешного выступления. Для того, чтобы чувствовать себя уверенно, нужно заранее придти в зал и освоиться. Если предполагается использование микрофона, то его необходимо отрегулирова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85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дирова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07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ценка темы, цели и аудитории является основой и фоном следующего этапа докоммуникативной фазы – «кодирования», т.е. создания сообщения на данную тему, с заданной целью, для данной аудитории и в соответствии с конкретной обстановкой.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Этот этап включа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материалов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композиционно-логическое оформление реч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использование фактологического материал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работу над языком и стилем выступл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Фактологический материал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фровые данные, для облегчения восприятия лучше демонстрировать посредством таблиц и графиков, а не злоупотреблять их зачитывани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чше всего, когда в устном выступлении количество цифрового материала ограничено, на него лучше ссылаться, а не приводить полностью, так как цифры скорее утомляют слушателей, нежели вызывают интере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коммуникативная фаза обязательно должна завершаться репетицией выступления. Потренироваться можно перед близкими или друзьями, можно использовать средства аудиозаписи и видеозаписи, чтобы проконтролировать хронометраж, качество выступления – одним словом, посмотреть на себя со сторо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28958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одготовка по существу вопросов: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анализ проблемы, ситуа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ормирование целей, задач, общего подхода к выступлению и собственной пози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готовка речи и аргументации вывод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необходимых документов и материал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Учитывать возрастной и половой фактор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ммуникативная фаз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ммуникативная фаз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произнесение речи, ответы на вопросы слушателей, ведение дискуссии и т.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атору, стремящемуся к достижению успеха, конструктивного результата, необходимо тщательно подготовить выступление. Такую подготовку можно представить в виде следующих составных часте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неры повед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ывать сложившиеся ритуалы и субординац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. Введение. 2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. Этапы подготовка реч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Докоммуникативная фаз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a. Определение темы и цели выступле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b. Оценка аудитории и обстановк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c. Кодирова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Коммуникативная фаза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I. Структура выступления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Вступле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Основная часть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3. Заключение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руктура выступления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ыступление должно состоять из трех часте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Вступл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Основная ча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Заключ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имерное распределение времен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вступление – 10-1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сновная часть – 60-6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заключение – 20-30%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1. Вступление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ступл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ажная часть, так как более всего запоминается слушателям, поэтому должно быть тщательно продуманным. Оно включает: объясление цели, название доклада и расшифровку подзаголовка с целью точного определения содержания выступления, четкое определение стержневой идеи. «Засиживаться» на вступлении не стоит – оно должно быть кратки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подготовке вступления следует выбрать тему, которая имеет целью вызвать интерес публ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46483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2.Основная часть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сновная час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сестороннее обоснование главного тезиса.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екоторые варианты системного построения аргумента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блемное изложение (выявление и анализ противоречий, путей их разрешения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хронологическое излож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зложение от причин к следствиям (от частного к общему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ндуктивное изложение (от общего к частному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атриваются различные аспекты, способствующие лучшему осмыслению слушателями идеи. При этом очень важно не перерасходовать время, обязательно оставив его для заклю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н развития основной части должен быть ясным. Предмет выступления должен раскрываться конкретно и стройно. Должно быть подобрано как можно больше фактологических материалов и необходимых приме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3. Заключе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ключе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формулирование выводов, которые следуют из главной цели и основной идеи выступл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ьно построенное заключение способствует хорошему впечатлению от выступления в цел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заключении имеет смысл повторить стержневую идею и, кроме того, вновь (в кратком виде) вернуться к тем моментам основной части, которые вызвали интерес слушателей. Закончить выступление можно решительным заявлением, подводящим итог выступлен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8901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вед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чевое мастерство, ораторское искусство – совокупность операций по подготовке и произнесению публичной речи, проведению беседы, дискуссии с целью добиться желаемой реакции аудитор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только умение подготовить речь, но и умение свободно держаться перед публикой, безукоризненно владеть голосом, жестом и мимикой и безошибочно реагировать на поведение аудитории – таковы объективные требования к стремящемуся произвести желаемое воздействие на слуша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7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04920"/>
            <a:ext cx="62485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II. Этапы подготовки речи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у по подготовке речи можно подразделить на две основные фазы: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докоммуникативную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т.е. подготовку выступления и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коммуникативную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взаимодействие с аудитори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4568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. Докоммуникативная фа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окоммуникативной фазе различают два начальных этап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пределение темы и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ценка аудитории и обстанов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на этих этапах носит характер учета и оценки объективных данных: тема и цель выступления обычно задаются программой, расписанием и т.п. Состояние аудитории и обстановка также не выбираются выступающи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040" y="68580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ение темы и цели выступ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ему выступления следует тщательно выбирать. Если есть возможность, то нужно остановиться на том, что хорошо знакомо и интересно лично выступающему. Тогда это, возможно, будет интересно и значимо для други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тем, нужно попробовать сузить темы выступления, чтобы она представляла наибольший интерес. Необходимо решить: описывать ли предмет, разъяснять что-либо о предмете, оспаривать ли некую точку зрения или излагать новую версию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 надо пытаться «втиснуть» слишком много материала в ограниченное время. Еще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експир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азал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Где мало слов, там вес они имеют»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0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92724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456840"/>
            <a:ext cx="3927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сли есть возможность, то необходимо подумать над будущей речью несколько дней. За это время появится множество новых ид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Стержневая иде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это основной тезис, который необходимо ясно сформулировать с самого начала. Знание цели усиливает внимание. В речи может быть несколько стержневых идей, но не более тре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ержневая идея дает возможность задать определенную тональность выступлению. Например, доклады на научно-технические темы могут произноситься с сердитой, упрекающей интонацией, смысл которой состоим в не произносимых, но подразумеваемых выражениях типа «Если вы не сделаете этого, то пожалеете», или «Не могу понять, почему вы не делаете то-то и то-то». Подобный слегка раздраженный тон позволяет докладчику эффективнее донести свою идею до слушател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5816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ван</cp:lastModifiedBy>
  <dcterms:modified xsi:type="dcterms:W3CDTF">2015-11-19T18:48:3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