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1661-F6F4-40C8-81AE-3FAE21E67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51C4-48A7-44D8-9444-38B8D02C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5A69-C6D4-4994-A296-EC7A5352E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763E-F016-4273-B839-3DEAF046E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93D4-F863-4AAD-9B45-531C11034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C12B-71AE-4E23-ACAB-F9351AD3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FFF6-86C8-4621-A91F-D06CFD7E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552A-FEF5-4259-9761-0DBFDB99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E43D-C76D-4DDC-8813-108FFD1A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AAD3-1AA8-46F0-A50A-496C174A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330A-0037-43D7-BDC7-4F48DBC2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A58C-6CC6-4C8A-AA3B-90C44107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E160-2D6D-42B4-928E-0E27A0CD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F20D-6FE4-4104-95F1-88D5C397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791A-2A15-421C-9025-85017D41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67D2-F2FE-4870-8F7F-65E1C0EB2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8F4F-0038-4ED2-A380-B2826D64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4D25-7AA6-4FDE-ADB0-65404D62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8D42-B790-422F-A17D-6E70CA78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50C5-270E-4F3F-B0F5-E8D2C93A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9CDC-C674-4591-8C1E-2076DC22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D2E8-B0FD-459A-B363-B46D809E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4A7F-5746-4767-B6E1-67463757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B113-8478-4FFF-A879-21C5A8D5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56D4-DFB0-4E16-88D9-56141B0EBA81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5B81-AF12-497D-B8BD-841C61D0A6F1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766800" y="1844640"/>
            <a:ext cx="7142040" cy="37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вчальна дисциплі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uk-UA" sz="3200" spc="-1" strike="noStrike">
                <a:solidFill>
                  <a:srgbClr val="002060"/>
                </a:solidFill>
                <a:latin typeface="Arial"/>
              </a:rPr>
              <a:t>Стратегічне прогнозування політичних ситуацій та процесів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Автор – Лепський Максим Анатолійович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.філос.н., профес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Рисунок 2" descr="Рисунок2.wmf"/>
          <p:cNvPicPr/>
          <p:nvPr/>
        </p:nvPicPr>
        <p:blipFill>
          <a:blip r:embed="rId1"/>
          <a:stretch/>
        </p:blipFill>
        <p:spPr>
          <a:xfrm>
            <a:off x="6649920" y="428760"/>
            <a:ext cx="2494080" cy="1928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герб alt"/>
          <p:cNvPicPr/>
          <p:nvPr/>
        </p:nvPicPr>
        <p:blipFill>
          <a:blip r:embed="rId2"/>
          <a:stretch/>
        </p:blipFill>
        <p:spPr>
          <a:xfrm>
            <a:off x="539640" y="189000"/>
            <a:ext cx="117000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611280" y="189000"/>
            <a:ext cx="799308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. Ствердження єдності соціально технологічного цикл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2060"/>
                </a:solidFill>
                <a:latin typeface="Arial"/>
              </a:rPr>
              <a:t>Соціальна діагностика,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едметом якої є визначення соціальних проблем та з’ясування сучасного її стану, є основою для пошукового прогноз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2060"/>
                </a:solidFill>
                <a:latin typeface="Arial"/>
              </a:rPr>
              <a:t>Проектний та плановий прогнози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значають можливість просторово-часової визначеності майбутнього стану прогнозного об’єкту як конструювання на множині умов майбутнього бажаного його образу та структурного дизайну майбутньог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Програмний та організаційний прогноз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ідображають інституційну узгодженість потенціалів суб’єктів та технологічну визначеність управління як здійснення цільової спрямованості проектного та планового прогнозів. Програмний прогноз відображає можливості об’єднання суб’єктних зусиль, їх погодження у єдиній цільовій орієнтації, просторово-часовій визначеності, а організаційний прогноз погоджує суб’єктні можливості з потенціалом організації, її ресурс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. Дослідження у соціології законів та закономірностей – як основи науково обґрунтованих принципів соціологічного та прогностичного аудиту управлінських рішен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826920" y="620640"/>
            <a:ext cx="79218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. Гармонізація прогнозної оптики дослідження майбутньо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визначенні об'єктивних перспективних проблем, простору майбутнього та масштабу суб'єктів розвитку, єдності новацій та опору та т.і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826920" y="2276640"/>
            <a:ext cx="78487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4. Формування зручних алгоритмі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 відбору та використання методів прогнозуванн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омплексування їх між собо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раз найбільш відомими є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«дерево відбору методів прогнозування» Скотта Армстронга та Кестена Грін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ідбору методів стратегічного управління FAROU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мплексування методів прогнозування та стратегічного управління «Форсайт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 Запоріжжі розроблюється система комплексування методів «стратегічного прогнозування» (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иконано у держбюджетній темі «Соціологія політики: імітаційно-ігрове моделювання та прогнозування політичних ситуацій та процесів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15/11  № ДР0111У000106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3"/>
          <p:cNvSpPr/>
          <p:nvPr/>
        </p:nvSpPr>
        <p:spPr>
          <a:xfrm>
            <a:off x="611280" y="297828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82971"/>
                </a:solidFill>
                <a:latin typeface="Arial"/>
              </a:rPr>
              <a:t>Дякую за увагу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900000" y="549360"/>
            <a:ext cx="63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b00000"/>
                </a:solidFill>
                <a:latin typeface="Arial"/>
              </a:rPr>
              <a:t>Стратегічне прогнозування як системна технологія дослідження майбутнього складних політичних ситуацій та процесі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1116000" y="2133720"/>
            <a:ext cx="705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’єктом дослідженн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є політичні ситуації та процеси, значущі для політичного управління, що потребують методико-методологічного дослідження соціології політи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едметом дослідженн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є стратегічне прогнозування у зміні політичних станів системи взаємодії політичних суб’єктів у політичному просторі та часі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3"/>
          <p:cNvSpPr/>
          <p:nvPr/>
        </p:nvSpPr>
        <p:spPr>
          <a:xfrm>
            <a:off x="611280" y="714240"/>
            <a:ext cx="799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82971"/>
                </a:solidFill>
                <a:latin typeface="Arial"/>
              </a:rPr>
              <a:t>Виклик 1. Прогнозування серед інших форм антиципаці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82971"/>
                </a:solidFill>
                <a:latin typeface="Arial"/>
              </a:rPr>
              <a:t>Місце прогнозування серед інших форм антиципації. Чи залишилось місце для науки про майбутнє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785880" y="1214280"/>
            <a:ext cx="5143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Форми випереджаючого віддзеркалення 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редчутт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редбачення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іщування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гнозування..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йбільш раннім і загальним поняттям, що охоплює всі форми прояву випереджаючого віддзеркалення, є поняття 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«антиципація»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введене в психологію   В. Вундт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571680" y="3933720"/>
            <a:ext cx="63576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Класичною дефініцією антиципації стало наступне визначення: </a:t>
            </a:r>
            <a:r>
              <a:rPr b="1" i="1" lang="uk-UA" sz="2400" spc="-1" strike="noStrike">
                <a:solidFill>
                  <a:srgbClr val="382971"/>
                </a:solidFill>
                <a:latin typeface="Arial"/>
              </a:rPr>
              <a:t>"Антиципація – це здатні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82971"/>
                </a:solidFill>
                <a:latin typeface="Arial"/>
              </a:rPr>
              <a:t> </a:t>
            </a:r>
            <a:r>
              <a:rPr b="1" i="1" lang="uk-UA" sz="2400" spc="-1" strike="noStrike">
                <a:solidFill>
                  <a:srgbClr val="382971"/>
                </a:solidFill>
                <a:latin typeface="Arial"/>
              </a:rPr>
              <a:t>(в найширшому сенсі) діяти та ухвалювати ті або інші рішення з певним тимчасово-просторовим попередженням відносно очікуваних, майбутніх подій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d0d0d"/>
                </a:solidFill>
                <a:latin typeface="Arial"/>
              </a:rPr>
              <a:t>  </a:t>
            </a:r>
            <a:r>
              <a:rPr b="0" lang="uk-UA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1800" spc="-1" strike="noStrike">
                <a:solidFill>
                  <a:srgbClr val="404040"/>
                </a:solidFill>
                <a:latin typeface="Arial"/>
              </a:rPr>
              <a:t>[Б. Ф. Ломов, Е. Н. Сурков, 1980, с. 5].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Группа 8"/>
          <p:cNvGrpSpPr/>
          <p:nvPr/>
        </p:nvGrpSpPr>
        <p:grpSpPr>
          <a:xfrm>
            <a:off x="6858000" y="928800"/>
            <a:ext cx="1928880" cy="2798640"/>
            <a:chOff x="6858000" y="928800"/>
            <a:chExt cx="1928880" cy="2798640"/>
          </a:xfrm>
        </p:grpSpPr>
        <p:pic>
          <p:nvPicPr>
            <p:cNvPr id="91" name="Рисунок 9" descr="Ломов.jpg"/>
            <p:cNvPicPr/>
            <p:nvPr/>
          </p:nvPicPr>
          <p:blipFill>
            <a:blip r:embed="rId1"/>
            <a:stretch/>
          </p:blipFill>
          <p:spPr>
            <a:xfrm>
              <a:off x="6908760" y="928800"/>
              <a:ext cx="1770120" cy="2798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2" name="TextBox 10"/>
            <p:cNvGrpSpPr/>
            <p:nvPr/>
          </p:nvGrpSpPr>
          <p:grpSpPr>
            <a:xfrm>
              <a:off x="6858000" y="2333520"/>
              <a:ext cx="1928880" cy="407520"/>
              <a:chOff x="6858000" y="2333520"/>
              <a:chExt cx="1928880" cy="407520"/>
            </a:xfrm>
          </p:grpSpPr>
          <p:pic>
            <p:nvPicPr>
              <p:cNvPr id="93" name="TextBox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0" y="2333520"/>
                <a:ext cx="1928880" cy="37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"/>
              <p:cNvSpPr/>
              <p:nvPr/>
            </p:nvSpPr>
            <p:spPr>
              <a:xfrm>
                <a:off x="6926040" y="2372760"/>
                <a:ext cx="179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382971"/>
                    </a:solidFill>
                    <a:latin typeface="Arial"/>
                  </a:rPr>
                  <a:t>Б.Ф. Ломо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95" name="Прямоугольник 14" descr=""/>
          <p:cNvPicPr/>
          <p:nvPr/>
        </p:nvPicPr>
        <p:blipFill>
          <a:blip r:embed="rId3"/>
          <a:stretch/>
        </p:blipFill>
        <p:spPr>
          <a:xfrm>
            <a:off x="324000" y="878040"/>
            <a:ext cx="443700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3"/>
          <p:cNvSpPr/>
          <p:nvPr/>
        </p:nvSpPr>
        <p:spPr>
          <a:xfrm>
            <a:off x="611280" y="71424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82971"/>
                </a:solidFill>
                <a:latin typeface="Arial"/>
              </a:rPr>
              <a:t>Виклик 2. Прогнозування як діяльність та соціальна технологі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82971"/>
                </a:solidFill>
                <a:latin typeface="Arial"/>
              </a:rPr>
              <a:t>Проблема формування прогнозної та управлінської культур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3"/>
          <p:cNvSpPr/>
          <p:nvPr/>
        </p:nvSpPr>
        <p:spPr>
          <a:xfrm>
            <a:off x="611280" y="714240"/>
            <a:ext cx="7993080" cy="69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38297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82971"/>
                </a:solidFill>
                <a:latin typeface="Arial"/>
              </a:rPr>
              <a:t>Формування потреби в українських «Фабриках думки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 60 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роках у США соціологів було більше, а ніж у всіх країнах світу разом. Сьогодні у США більш ніж 20 тисяч професійних соціологів, підготовлених 250 університетами та коледжами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Кравченко А.І. Соціологія, 2002 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Фабрики думки»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nk Tanks)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- ц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ублічн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інститу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щ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дійснюю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консультуванн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щод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ержавних та корпоративних контрактів, як правило, в області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олітичног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иробництва та оцінки можливих соціально-економічних наслідків політичних рішень.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Інтелектуаль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одукція цих організацій - прикладна політична експертиза, дослідження та аналітика, а також фундаментальні теоретичні праці. Як правило, діяльність цих організацій відрізняє стратегічне цілепокладання, засноване на певних уявленнях про бажані соціально-економічні і політичні результа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Лише до к.60-х у США їх було майже 600 (200 некомерційних, 300 комерційних та 75 тих, що працюють на федеральний уряд) з роботи О.І.Неклесса «Фабрики думки врятували Америку», 2005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овідник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«Фабрики думки у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Центральні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та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Східні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Європ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»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наведен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ан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о 150 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рганізаці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з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яки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чвер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находитьс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території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колишньог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РСР: в 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Україн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 14,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у Білорус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— 8,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у Литв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— 7, в 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Естонії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— 5, в Латвії — 4. 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nk Tanks in Central and Eastern Europe: A Comprehensive Directory — Second Edition. Freedom House, 199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60428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3"/>
          <p:cNvSpPr/>
          <p:nvPr/>
        </p:nvSpPr>
        <p:spPr>
          <a:xfrm>
            <a:off x="611280" y="714240"/>
            <a:ext cx="7993080" cy="40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82971"/>
                </a:solidFill>
                <a:latin typeface="Arial"/>
              </a:rPr>
              <a:t>2. Створення циклу формування соціологічної та прогностичної культури 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Середня школа - «Суспільствознавство»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Коледж - впровадження молодшого спеціаліста «Соціології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Вища школа – обов'язковий предмет для всіх спеціальностей «Соціологія» з модулем соціальне прогнозуванн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82971"/>
                </a:solidFill>
                <a:latin typeface="Arial"/>
              </a:rPr>
              <a:t>3. Створення системи соціологічного та прогностичного аудиту державних та регіональних управлінських рішен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82971"/>
                </a:solidFill>
                <a:latin typeface="Arial"/>
              </a:rPr>
              <a:t>4. Створення української аутентичної науково-дослідної прогр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3"/>
          <p:cNvSpPr/>
          <p:nvPr/>
        </p:nvSpPr>
        <p:spPr>
          <a:xfrm>
            <a:off x="611280" y="71424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82971"/>
                </a:solidFill>
                <a:latin typeface="Arial"/>
              </a:rPr>
              <a:t>Виклик 3. Прогнозування як діяльність та соціальна технологі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82971"/>
                </a:solidFill>
                <a:latin typeface="Arial"/>
              </a:rPr>
              <a:t>Проблема формування прогнозної та управлінської культур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0T20:45:03Z</dcterms:created>
  <dc:creator>Users</dc:creator>
  <dc:description/>
  <dc:language>en-US</dc:language>
  <cp:lastModifiedBy>1</cp:lastModifiedBy>
  <cp:lastPrinted>2014-06-22T19:29:31Z</cp:lastPrinted>
  <dcterms:modified xsi:type="dcterms:W3CDTF">2016-01-20T19:33:12Z</dcterms:modified>
  <cp:revision>41</cp:revision>
  <dc:subject/>
  <dc:title>Слайд 1</dc:title>
</cp:coreProperties>
</file>