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9187-0770-4579-BEF1-A4576D9C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D5D-8C99-4D9B-9E9C-93A1E028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579-2A4B-4F7B-BAF7-D75453CD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23D-A506-4DA8-A366-A6ED6B84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72DB-7CC3-45E8-AA34-C62A30A1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83D8-DAAA-4ECA-B2F8-2E572AB0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BDC0-1B31-4D76-9198-911EABF4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118F-A7BB-4C54-8873-B94837EA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41CC-FC18-4514-A10B-CE1047D2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FD48-CDA6-49D9-BCA6-8A5D868C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038D-035B-4700-989C-FE0275AF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F924-F960-4DB1-A784-3C176352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2707-314F-4330-85D9-54ACC0AF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D826-03C7-44BC-BC0A-F288F301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3874-8301-444E-A40B-5FE19D5A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D910-4273-470B-8061-964DC5A9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D02F-D160-443D-BFD8-B334D361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CFE-8864-47FE-A666-D340E6E9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191-B059-430D-B050-C06895F4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9A3-3889-4DF2-A45A-1D6A31CD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2C46-EF98-40E5-B710-46792E23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0533-1243-4058-B784-AC7F1FDC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470-F52B-4600-A514-BD7216E0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8896-18E9-4AF5-AC15-C8135EB9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66FA-584F-4140-BC10-A0DF898D76B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0BAB-60D8-4472-AADF-2B3C22C61C1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766800" y="1844640"/>
            <a:ext cx="714204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вчальна дисциплі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uk-UA" sz="3200" spc="-1" strike="noStrike">
                <a:solidFill>
                  <a:srgbClr val="002060"/>
                </a:solidFill>
                <a:latin typeface="Arial"/>
              </a:rPr>
              <a:t>Стратегічне прогнозування політичних ситуацій та процесів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Автор – Лепський Максим Анатолійович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.філос.н., профе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Рисунок 2" descr="Рисунок2.wmf"/>
          <p:cNvPicPr/>
          <p:nvPr/>
        </p:nvPicPr>
        <p:blipFill>
          <a:blip r:embed="rId1"/>
          <a:stretch/>
        </p:blipFill>
        <p:spPr>
          <a:xfrm>
            <a:off x="6649920" y="428760"/>
            <a:ext cx="2494080" cy="1928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герб alt"/>
          <p:cNvPicPr/>
          <p:nvPr/>
        </p:nvPicPr>
        <p:blipFill>
          <a:blip r:embed="rId2"/>
          <a:stretch/>
        </p:blipFill>
        <p:spPr>
          <a:xfrm>
            <a:off x="539640" y="189000"/>
            <a:ext cx="117000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611280" y="189000"/>
            <a:ext cx="79930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Ствердження єдності соціально технологічного цикл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2060"/>
                </a:solidFill>
                <a:latin typeface="Arial"/>
              </a:rPr>
              <a:t>Соціальна діагностика,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едметом якої є визначення соціальних проблем та з’ясування сучасного її стану, є основою для пошукового прогноз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2060"/>
                </a:solidFill>
                <a:latin typeface="Arial"/>
              </a:rPr>
              <a:t>Проектний та плановий прогнози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значають можливість просторово-часової визначеності майбутнього стану прогнозного об’єкту як конструювання на множині умов майбутнього бажаного його образу та структурного дизайну майбутнь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Програмний та організаційний прогноз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ідображають інституційну узгодженість потенціалів суб’єктів та технологічну визначеність управління як здійснення цільової спрямованості проектного та планового прогнозів. Програмний прогноз відображає можливості об’єднання суб’єктних зусиль, їх погодження у єдиній цільовій орієнтації, просторово-часовій визначеності, а організаційний прогноз погоджує суб’єктні можливості з потенціалом організації, її ресурс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Дослідження у соціології законів та закономірностей – як основи науково обґрунтованих принципів соціологічного та прогностичного аудиту управлінських ріш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826920" y="620640"/>
            <a:ext cx="79218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 Гармонізація прогнозної оптики дослідження майбутнь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визначенні об'єктивних перспективних проблем, простору майбутнього та масштабу суб'єктів розвитку, єдності новацій та опору та т.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826920" y="2276640"/>
            <a:ext cx="78487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. Формування зручних алгоритмі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 відбору та використання методів прогнозуванн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мплексування їх між собо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раз найбільш відомими є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«дерево відбору методів прогнозування» Скотта Армстронга та Кестена Грін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дбору методів стратегічного управління FAROU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мплексування методів прогнозування та стратегічного управління «Форсайт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Запоріжжі розроблюється система комплексування методів «стратегічного прогнозування» (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конано у держбюджетній темі «Соціологія політики: імітаційно-ігрове моделювання та прогнозування політичних ситуацій та процесів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15/11  № ДР0111У000106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611280" y="2978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82971"/>
                </a:solidFill>
                <a:latin typeface="Arial"/>
              </a:rPr>
              <a:t>Дякую за уваг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900000" y="549360"/>
            <a:ext cx="63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b00000"/>
                </a:solidFill>
                <a:latin typeface="Arial"/>
              </a:rPr>
              <a:t>Стратегічне прогнозування як системна технологія дослідження майбутнього складних політичних ситуацій та процес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1116000" y="2133720"/>
            <a:ext cx="705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’єктом дослідженн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є політичні ситуації та процеси, значущі для політичного управління, що потребують методико-методологічного дослідження соціології політ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метом дослідженн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є стратегічне прогнозування у зміні політичних станів системи взаємодії політичних суб’єктів у політичному просторі та час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611280" y="71424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82971"/>
                </a:solidFill>
                <a:latin typeface="Arial"/>
              </a:rPr>
              <a:t>Виклик 1. Прогнозування серед інших форм антиципаці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82971"/>
                </a:solidFill>
                <a:latin typeface="Arial"/>
              </a:rPr>
              <a:t>Місце прогнозування серед інших форм антиципації. Чи залишилось місце для науки про майбутнє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85880" y="1214280"/>
            <a:ext cx="5143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Форми випереджаючого віддзеркалення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дчутт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дбаченн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щуванн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гнозування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йбільш раннім і загальним поняттям, що охоплює всі форми прояву випереджаючого віддзеркалення, є поняття </a:t>
            </a:r>
            <a:r>
              <a:rPr b="0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«антиципація»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введене в психологію   В. Вунд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571680" y="3933720"/>
            <a:ext cx="63576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ласичною дефініцією антиципації стало наступне визначення: </a:t>
            </a:r>
            <a:r>
              <a:rPr b="1" i="1" lang="uk-UA" sz="2400" spc="-1" strike="noStrike">
                <a:solidFill>
                  <a:srgbClr val="382971"/>
                </a:solidFill>
                <a:latin typeface="Arial"/>
              </a:rPr>
              <a:t>"Антиципація – це здатні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82971"/>
                </a:solidFill>
                <a:latin typeface="Arial"/>
              </a:rPr>
              <a:t> </a:t>
            </a:r>
            <a:r>
              <a:rPr b="1" i="1" lang="uk-UA" sz="2400" spc="-1" strike="noStrike">
                <a:solidFill>
                  <a:srgbClr val="382971"/>
                </a:solidFill>
                <a:latin typeface="Arial"/>
              </a:rPr>
              <a:t>(в найширшому сенсі) діяти та ухвалювати ті або інші рішення з певним тимчасово-просторовим попередженням відносно очікуваних, майбутніх подій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d0d0d"/>
                </a:solidFill>
                <a:latin typeface="Arial"/>
              </a:rPr>
              <a:t>  </a:t>
            </a:r>
            <a:r>
              <a:rPr b="0" lang="uk-UA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800" spc="-1" strike="noStrike">
                <a:solidFill>
                  <a:srgbClr val="404040"/>
                </a:solidFill>
                <a:latin typeface="Arial"/>
              </a:rPr>
              <a:t>[Б. Ф. Ломов, Е. Н. Сурков, 1980, с. 5].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Группа 8"/>
          <p:cNvGrpSpPr/>
          <p:nvPr/>
        </p:nvGrpSpPr>
        <p:grpSpPr>
          <a:xfrm>
            <a:off x="6858000" y="928800"/>
            <a:ext cx="1928880" cy="2798640"/>
            <a:chOff x="6858000" y="928800"/>
            <a:chExt cx="1928880" cy="2798640"/>
          </a:xfrm>
        </p:grpSpPr>
        <p:pic>
          <p:nvPicPr>
            <p:cNvPr id="91" name="Рисунок 9" descr="Ломов.jpg"/>
            <p:cNvPicPr/>
            <p:nvPr/>
          </p:nvPicPr>
          <p:blipFill>
            <a:blip r:embed="rId1"/>
            <a:stretch/>
          </p:blipFill>
          <p:spPr>
            <a:xfrm>
              <a:off x="6908760" y="928800"/>
              <a:ext cx="1770120" cy="2798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TextBox 10"/>
            <p:cNvGrpSpPr/>
            <p:nvPr/>
          </p:nvGrpSpPr>
          <p:grpSpPr>
            <a:xfrm>
              <a:off x="6858000" y="2333520"/>
              <a:ext cx="1928880" cy="407520"/>
              <a:chOff x="6858000" y="2333520"/>
              <a:chExt cx="1928880" cy="407520"/>
            </a:xfrm>
          </p:grpSpPr>
          <p:pic>
            <p:nvPicPr>
              <p:cNvPr id="93" name="TextBox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0" y="2333520"/>
                <a:ext cx="1928880" cy="37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6926040" y="2372760"/>
                <a:ext cx="179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382971"/>
                    </a:solidFill>
                    <a:latin typeface="Arial"/>
                  </a:rPr>
                  <a:t>Б.Ф. Ломо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95" name="Прямоугольник 14" descr=""/>
          <p:cNvPicPr/>
          <p:nvPr/>
        </p:nvPicPr>
        <p:blipFill>
          <a:blip r:embed="rId3"/>
          <a:stretch/>
        </p:blipFill>
        <p:spPr>
          <a:xfrm>
            <a:off x="324000" y="878040"/>
            <a:ext cx="443700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611280" y="7142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82971"/>
                </a:solidFill>
                <a:latin typeface="Arial"/>
              </a:rPr>
              <a:t>Виклик 2. Прогнозування як діяльність та соціальна технологі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82971"/>
                </a:solidFill>
                <a:latin typeface="Arial"/>
              </a:rPr>
              <a:t>Проблема формування прогнозної та управлінської культу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611280" y="714240"/>
            <a:ext cx="7993080" cy="69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38297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82971"/>
                </a:solidFill>
                <a:latin typeface="Arial"/>
              </a:rPr>
              <a:t>Формування потреби в українських «Фабриках думки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 60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роках у США соціологів було більше, а ніж у всіх країнах світу разом. Сьогодні у США більш ніж 20 тисяч професійних соціологів, підготовлених 250 університетами та коледжами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равченко А.І. Соціологія, 2002 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Фабрики думки»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k Tanks)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- ц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ублічн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нститу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щ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дійснюю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нсультуванн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щод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ержавних та корпоративних контрактів, як правило, в області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літично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иробництва та оцінки можливих соціально-економічних наслідків політичних рішень.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Інтелектуаль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дукція цих організацій - прикладна політична експертиза, дослідження та аналітика, а також фундаментальні теоретичні праці. Як правило, діяльність цих організацій відрізняє стратегічне цілепокладання, засноване на певних уявленнях про бажані соціально-економічні і політичні результа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Лише до к.60-х у США їх було майже 600 (200 некомерційних, 300 комерційних та 75 тих, що працюють на федеральний уряд) з роботи О.І.Неклесса «Фабрики думки врятували Америку», 200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овідник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«Фабрики думки у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Центральні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хідні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Європ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аведен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ан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 150 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рганізаці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з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яки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чвер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находить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ериторі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колишньо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РСР: в 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країн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 14,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 Білорус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 8,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у Литві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 7, в 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Естоні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 5, в Латвії — 4.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nk Tanks in Central and Eastern Europe: A Comprehensive Directory — Second Edition. Freedom House, 199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6042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611280" y="714240"/>
            <a:ext cx="799308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82971"/>
                </a:solidFill>
                <a:latin typeface="Arial"/>
              </a:rPr>
              <a:t>2. Створення циклу формування соціологічної та прогностичної культури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Середня школа - «Суспільствознавство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Коледж - впровадження молодшого спеціаліста «Соціології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ища школа – обов'язковий предмет для всіх спеціальностей «Соціологія» з модулем соціальне прогнозуванн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82971"/>
                </a:solidFill>
                <a:latin typeface="Arial"/>
              </a:rPr>
              <a:t>3. Створення системи соціологічного та прогностичного аудиту державних та регіональних управлінських ріш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82971"/>
                </a:solidFill>
                <a:latin typeface="Arial"/>
              </a:rPr>
              <a:t>4. Створення української аутентичної науково-дослідної прог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"/>
          <p:cNvSpPr/>
          <p:nvPr/>
        </p:nvSpPr>
        <p:spPr>
          <a:xfrm>
            <a:off x="611280" y="7142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82971"/>
                </a:solidFill>
                <a:latin typeface="Arial"/>
              </a:rPr>
              <a:t>Виклик 3. Прогнозування як діяльність та соціальна технологі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82971"/>
                </a:solidFill>
                <a:latin typeface="Arial"/>
              </a:rPr>
              <a:t>Проблема формування прогнозної та управлінської культу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20:45:03Z</dcterms:created>
  <dc:creator>Users</dc:creator>
  <dc:description/>
  <dc:language>en-US</dc:language>
  <cp:lastModifiedBy>1</cp:lastModifiedBy>
  <cp:lastPrinted>2014-06-22T19:29:31Z</cp:lastPrinted>
  <dcterms:modified xsi:type="dcterms:W3CDTF">2016-01-20T19:33:12Z</dcterms:modified>
  <cp:revision>41</cp:revision>
  <dc:subject/>
  <dc:title>Слайд 1</dc:title>
</cp:coreProperties>
</file>