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A86-15F7-4CB1-913F-15DE1897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324-0866-46CA-8A1B-2D503738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55B-A5B4-4D67-BD11-41857060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362-F324-4820-822E-8B3C8558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1C25-1131-409D-A4AB-AF33B091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51D2-1BB3-4131-8408-9C119D46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14A4-E974-4F7D-99AA-7F0279B2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7804-7EEA-4698-84AD-3306223B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10B7-A37A-4E3A-A04C-64363FA9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AE4C-94D1-4A40-8F7A-E139545E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E0BB-19B0-488E-83E5-326EF765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522-7230-42E5-AF1B-0D266094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F74A-B956-4E2A-88C1-6529FC64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0FE3-2ED4-46A4-9978-3DCA5A92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6DB2-5BAA-42EB-81D1-7D993664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6DBF-A1CA-49EB-A7F7-0B4111D7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2E38-07CE-4346-9924-599AEA72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A14-36EC-41E5-8F71-F1810E27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242-C4B7-45BB-8142-4171B157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9ED-1AAC-45B3-9C39-C08F610D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399-AF8A-4CA1-892C-4CA574BD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7D5-6485-4B53-A4DD-A5FDC758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D09-D91A-4BD0-AE8B-8FB3523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D98-433B-47BD-86F7-2E028A8B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1F7F-02C2-4D6A-A90F-6F4CBBA572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700C-8E5B-4CF7-92B2-AFCD0B4E7C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Соціальні технології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в рекламі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Мета 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формування навичок пректування, впровадження та оцінки ефективності соціальних технологій в різних типах рекламних повідомлен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Здобуті знання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пецифіка соціотехнологічної діяльност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 застосування соціальних технологій в рекламних повідомлення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іагностика типу соціальної технологі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 можливості використання некомерційного програмного забезпечення у просуванні продуктів та послу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онструювання соціальних технологі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Здобуті навич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ористування національними та міжнародними відкритими інформаційними баз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експертиза соціальних технологі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оцінка ефективності соціальних технологі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Практична робо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266688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наліз соціальних технологій в рекламі товарів та послу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оціальні технології інноваційної діяльност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ослідження специфіки реалізації соціальної технологі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оціальні технології в інтернет-реклам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5:33:10Z</dcterms:created>
  <dc:creator>Oleksandra</dc:creator>
  <dc:description/>
  <dc:language>en-US</dc:language>
  <cp:lastModifiedBy>Oleksandra</cp:lastModifiedBy>
  <dcterms:modified xsi:type="dcterms:W3CDTF">2016-01-24T20:03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