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E77C-D7D2-4346-AD0C-BEEF43D0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439-9990-4E2D-9D74-2222FA59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174-D549-4CCB-A500-CE173048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975-FFA2-4D9F-AB90-B168B7D4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2169-832D-4B30-B22D-76F83673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8593-322E-465B-8A56-6F985DEE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9136-19D4-455D-A615-6495994A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7CA0-0F41-41CD-B041-0B9BF368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00D6-A771-4D1E-8F71-208E675A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2EBB-39C0-4A74-BEA6-E789E962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B4B2-8470-4539-A017-37B43C22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4A35-085C-4444-B842-38E0E0A6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4033-B7CF-47A9-B7FC-2F23937E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7642-0468-49F1-B50E-83C3EFDF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5E86-3E1B-4E26-AA9C-102A2947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6CFE-B766-4FF3-A8CB-1B726005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9B17-D2F1-4AC6-BF89-26DA7C8A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F7C-C15E-4FE0-816B-22BFCC9F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E64-5637-479E-B635-081FE844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DE48-E6E1-4471-912A-3F52F9AE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935-7ED1-4303-BA86-7CFECE22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1940-7C88-4A20-AA48-449AFE0F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CF6C-C28D-4F68-AA5B-8510BC9A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587-1ED2-4441-8F90-F6819727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4DF2-1807-4F3C-BE9E-F3D4EF830B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721A-C5A0-4692-A0AC-AFB94303E2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Соціальні технології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в рекламі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Мета 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формування навичок пректування, впровадження та оцінки ефективності соціальних технологій в різних типах рекламних повідомлень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Здобуті знання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7848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пецифіка соціотехнологічної діяльності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- застосування соціальних технологій в рекламних повідомлення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діагностика типу соціальної технологі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- можливості використання некомерційного програмного забезпечення у просуванні продуктів та послу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конструювання соціальних технологі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Здобуті навичк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користування національними та міжнародними відкритими інформаційними баз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експертиза соціальних технологі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оцінка ефективності соціальних технологі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Verdana"/>
              </a:rPr>
              <a:t>Практична робот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520" y="266688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аналіз соціальних технологій в рекламі товарів та послу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оціальні технології інноваційної діяльності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дослідження специфіки реалізації соціальної технологі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соціальні технології в інтернет-рекламі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5:33:10Z</dcterms:created>
  <dc:creator>Oleksandra</dc:creator>
  <dc:description/>
  <dc:language>en-US</dc:language>
  <cp:lastModifiedBy>Oleksandra</cp:lastModifiedBy>
  <dcterms:modified xsi:type="dcterms:W3CDTF">2016-01-24T20:03:1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