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99BF-4D7B-4024-9930-12369901F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2C35-62D3-4F4F-92F5-0369A7879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B4EC-9D87-4AB7-B733-91F2CD306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C7B5-8112-4579-89EA-E823DF0A1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7DA5-7F11-425A-BE86-D8BA4FAEF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6E73-E17D-493D-B0C5-503CE8CDF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EE7C-9A57-4B84-BC61-771EFDD04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939C-6453-4981-9BCD-8D49164ED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BBDD-0505-4397-B037-E56E61247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3FD9-25F4-4D10-84A9-6F1760460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608C-A574-48EE-A210-0F76D71AA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81F2-F386-4CA1-A5C6-47D6BFC6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B6245-1EF8-45E1-BE78-BE101EF7F6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13336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о-малоросс</a:t>
            </a: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йскій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оварь»</a:t>
            </a:r>
            <a:br>
              <a:rPr sz="4400"/>
            </a:b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.Тимченка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5092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шомовні слова реєстру передаються по-різному, а саме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до них в українській частині даються такі ж іншомовні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повідники (напр.: Абсолютъ, абсолютъ; Автографія, автокграфія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ія, теорія і т. д.)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поряд з іншомовними відповідникам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них даються також українські (напр.: Автографическій, авто-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графичный, власнопысный; Автографъ, автокграфъ,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сноручне пысьмо)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до них в українській частині даються тільки українські відповідники (напр.: Гаеръ, блазень, штукарь; Гардеробщикъ, шатный; Гардина, запона, заслона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4" descr="pic07_05.jpg"/>
          <p:cNvPicPr/>
          <p:nvPr/>
        </p:nvPicPr>
        <p:blipFill>
          <a:blip r:embed="rId1"/>
          <a:stretch/>
        </p:blipFill>
        <p:spPr>
          <a:xfrm>
            <a:off x="971640" y="4508640"/>
            <a:ext cx="6769080" cy="20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ед українських відповідників є й слова, створені  попередніми лексикографами, напр.: вынець (поряд з алкоголь) — до рос. алкоголь; глынець — до рос. алюминій; рослынаръ (поруч з ботаныкъ) — до рос. ботаникъ і т. ін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одо іншомовних відповідників в українській частині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ника, то вони часто наводяться в спольщеній формі, напр.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ангарда (до рос. авангардъ)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ансаля (до рос. аванзалъ)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цыза (до рос. акцизъ)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яса, клясовый (до рос. класеь, классный) і т. ін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3" descr="siscott24.gif"/>
          <p:cNvPicPr/>
          <p:nvPr/>
        </p:nvPicPr>
        <p:blipFill>
          <a:blip r:embed="rId1"/>
          <a:stretch/>
        </p:blipFill>
        <p:spPr>
          <a:xfrm>
            <a:off x="6372360" y="5033880"/>
            <a:ext cx="251604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9528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700" spc="-1" strike="noStrike">
                <a:solidFill>
                  <a:srgbClr val="000000"/>
                </a:solidFill>
                <a:latin typeface="Calibri"/>
              </a:rPr>
              <a:t>Крім спольщених українських відповідників до іншомовних слів реєстру, зустрічаємо в словнику й прямі запозичення з  польської мови (ці слова, як і багато з поданих вище, вживаються в такій формі в західноукраїнських землях), напр.: имбрыкъ до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авы — до рос. кофейникъ; пушка на каву —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о рос. кофейница: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марына, марынарка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льота —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о рос. флот і т. ін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3" descr="1319743090.jpg"/>
          <p:cNvPicPr/>
          <p:nvPr/>
        </p:nvPicPr>
        <p:blipFill>
          <a:blip r:embed="rId1"/>
          <a:stretch/>
        </p:blipFill>
        <p:spPr>
          <a:xfrm>
            <a:off x="4356000" y="3357720"/>
            <a:ext cx="435780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1128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Рецензії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У передмові до «Словаря української мови» Грінченко  наводить короткий уривок з передмови до словника Тимченка,  зазначаючи, що в ньому «прикладів ні російських, ні українських нема»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У «Літературно-науковому віснику» і в «Киевской старине» вказують, що в словнику подається чимало  непевних або навіть «викуваних» українських відповідників до російських слів, напр.: водывоза на рос. водовозъ; первкутня на рос. діагональ та ін. і що взагалі українські слова нічим, крім поодиноких випадків, не засвідчуються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ливо цінна друга рецензія: в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ій не тільки вказується на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значені вище хиби словника, але й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уваються дві важливі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моги до справді наукового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ника: повнота подавання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сичного матеріалу і потвердження цього матеріалу прикладами з народної поезії і з творів письменників. Словник Тимченка, зазначається в цій рецензії, не задовольняє першої вимоги — повноти охоплення української лексики. А з приводу другої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моги рецензент говорить так: «Для массы слов его [словаря] вполне имеет место вопрос, да откуда же они, эти слова взяты?».Не схвалює рецензент і того, що в словнику є іноді посилання на не потверджений прикладами матеріал інших лексикографів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Рисунок 3" descr="1e265c.jpg"/>
          <p:cNvPicPr/>
          <p:nvPr/>
        </p:nvPicPr>
        <p:blipFill>
          <a:blip r:embed="rId1"/>
          <a:stretch/>
        </p:blipFill>
        <p:spPr>
          <a:xfrm>
            <a:off x="250920" y="836640"/>
            <a:ext cx="3744720" cy="25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же, у російсько-українському словнику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. Тимченка, що вийшов у кінці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IX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. є хиба як у російському реєстрі, так і в частині українській. Цей словник в усіх відношеннях стояв на значно нижчому рівні, ніж словник Уманця і Спілки, і, звичайно, не відбивав лексики  української літературної мови кінц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IX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2700000" y="476280"/>
            <a:ext cx="59864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Євген Костянтинович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Тимченко  — український мовознавець-україніст, перекладач,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втор праць із фонетики, граматики, лексики, лексикографії, діалектології та історії української мов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3" descr="200px-Тимченко_Є.jpg"/>
          <p:cNvPicPr/>
          <p:nvPr/>
        </p:nvPicPr>
        <p:blipFill>
          <a:blip r:embed="rId1"/>
          <a:stretch/>
        </p:blipFill>
        <p:spPr>
          <a:xfrm>
            <a:off x="250920" y="907920"/>
            <a:ext cx="2881080" cy="40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о-малоросс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йскій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оварь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2 тт., 1897–1899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Содержимое 3" descr="i.jpg"/>
          <p:cNvPicPr/>
          <p:nvPr/>
        </p:nvPicPr>
        <p:blipFill>
          <a:blip r:embed="rId1"/>
          <a:stretch/>
        </p:blipFill>
        <p:spPr>
          <a:xfrm>
            <a:off x="4572000" y="3357720"/>
            <a:ext cx="3840120" cy="287964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4" descr="tk_sob_large_197_07_10_10_09_37.jpg"/>
          <p:cNvPicPr/>
          <p:nvPr/>
        </p:nvPicPr>
        <p:blipFill>
          <a:blip r:embed="rId2"/>
          <a:stretch/>
        </p:blipFill>
        <p:spPr>
          <a:xfrm>
            <a:off x="755640" y="1773360"/>
            <a:ext cx="345600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Реєстр  російських слів  -  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близько 40 00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924360" y="1557360"/>
            <a:ext cx="4556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Російські реєстрові слова у словнику Тимченка подаються без наголосів, а українські відповідники (надруковані  російською абеткою — так званою ерыжкою») скрізь мають  наголос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3" descr="Grot-jat.jpg"/>
          <p:cNvPicPr/>
          <p:nvPr/>
        </p:nvPicPr>
        <p:blipFill>
          <a:blip r:embed="rId1"/>
          <a:stretch/>
        </p:blipFill>
        <p:spPr>
          <a:xfrm>
            <a:off x="0" y="2276640"/>
            <a:ext cx="419400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53964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укописні матеріали журналу «Киевская старина» 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лова,  записані з уст народу в різних місцях України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друковані праці, яких у списку 31, причому з них чотири лексикографічні — словники Закревського, Желеховського, Уманця і Спілки (І і II томи) і Шейковського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З художньої літератури використано  Куліша, Марка Вовчка, Шевченка,  Стороженка і Галятовського («Ключ разумения», 1659 p.).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етнографічні матеріали («Песни Галицкой и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«Угорской Руси» Як. Головацького, «Нова збирка народных малорусских приказок» М. Комарова та ін.)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3" descr="92458590_knigi1.jpg"/>
          <p:cNvPicPr/>
          <p:nvPr/>
        </p:nvPicPr>
        <p:blipFill>
          <a:blip r:embed="rId1"/>
          <a:stretch/>
        </p:blipFill>
        <p:spPr>
          <a:xfrm>
            <a:off x="1258920" y="260280"/>
            <a:ext cx="6392880" cy="195912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4"/>
          <p:cNvSpPr/>
          <p:nvPr/>
        </p:nvSpPr>
        <p:spPr>
          <a:xfrm>
            <a:off x="1784880" y="1700280"/>
            <a:ext cx="492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Calibri"/>
              </a:rPr>
              <a:t>Джерела української частини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9528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жерелами  російського реєстру словник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Словарь церковнославянского и русского языка» Академії наук (2-е вид., 1867 р.)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Толковый словарь  живого великорусского языка» В. Даля (вид. 1887 p.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3" descr="454775531.jpg"/>
          <p:cNvPicPr/>
          <p:nvPr/>
        </p:nvPicPr>
        <p:blipFill>
          <a:blip r:embed="rId1"/>
          <a:stretch/>
        </p:blipFill>
        <p:spPr>
          <a:xfrm>
            <a:off x="4356000" y="3743280"/>
            <a:ext cx="4272120" cy="289728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4" descr="ImageCache.jpg"/>
          <p:cNvPicPr/>
          <p:nvPr/>
        </p:nvPicPr>
        <p:blipFill>
          <a:blip r:embed="rId2"/>
          <a:stretch/>
        </p:blipFill>
        <p:spPr>
          <a:xfrm>
            <a:off x="900000" y="4508640"/>
            <a:ext cx="263376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  укладався словник Тимченка, ці лексикографічні праці були вже застарілими: вони містили багато архаїзмів та діалектизмів, а нової лексики російської мови не мали, і це негативно відбилося на доборі слів реєстру словника Тимченка (в ньому знаходимо, 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., такі діалектні або застарілі слова, не вживані в  літературній російській мові, як бакалда, бакуня, балдріан і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.)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3" descr="440124_html_2318ca68.jpg"/>
          <p:cNvPicPr/>
          <p:nvPr/>
        </p:nvPicPr>
        <p:blipFill>
          <a:blip r:embed="rId1"/>
          <a:stretch/>
        </p:blipFill>
        <p:spPr>
          <a:xfrm>
            <a:off x="395280" y="4941720"/>
            <a:ext cx="2647800" cy="175104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4" descr="RIA-099535-Preview.jpg.1000x297x1.jpg"/>
          <p:cNvPicPr/>
          <p:nvPr/>
        </p:nvPicPr>
        <p:blipFill>
          <a:blip r:embed="rId2"/>
          <a:stretch/>
        </p:blipFill>
        <p:spPr>
          <a:xfrm>
            <a:off x="4762440" y="4305240"/>
            <a:ext cx="438156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9528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аїнська частина словника розроблена досить примітивно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ення слова дуже рідко ілюструються прикладами. В цьому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ношенні словник Тимченка стоїть значно нижче розглянутої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ці Уманця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ловнику Тимченка є значні розходження з словником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анця і в українських відповідниках, хоч обидва ці словник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адались одночасно, в багатьох випадках на спільних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іалах, а для І тома своєї роботи Тимченко користувався І і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мами словника Уманця. Ці розходження можна виявити пр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му зіставленні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Содержимое 3" descr="Снимок.PNG"/>
          <p:cNvPicPr/>
          <p:nvPr/>
        </p:nvPicPr>
        <p:blipFill>
          <a:blip r:embed="rId1"/>
          <a:stretch/>
        </p:blipFill>
        <p:spPr>
          <a:xfrm>
            <a:off x="179280" y="692280"/>
            <a:ext cx="8707680" cy="43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4T18:09:12Z</dcterms:created>
  <dc:creator>ANNA</dc:creator>
  <dc:description/>
  <dc:language>en-US</dc:language>
  <cp:lastModifiedBy>1</cp:lastModifiedBy>
  <dcterms:modified xsi:type="dcterms:W3CDTF">2015-05-21T20:13:11Z</dcterms:modified>
  <cp:revision>11</cp:revision>
  <dc:subject/>
  <dc:title>Слайд 1</dc:title>
</cp:coreProperties>
</file>