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5025-7A08-494F-A14B-108F44E6F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46DD-766F-4DAD-8C17-D0E589C9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DB8A-0F96-4CEB-B165-1D80F7481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58F5-B64A-4333-BFFE-3CBBC41F0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96DE-12D8-4581-9C3E-484DA0A6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0FE9-43EE-4F43-AEA9-B707910B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B4C9-5D7B-4644-BE6D-DC2BFC8A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CBA7-169A-49A0-A74C-B48F1EE6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E417-1EFC-4795-841A-70A16843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FAB1-0EBE-48A5-A96E-44FF8CBE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445F-F142-4CDE-84FA-14778EDF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2670-4DA9-46E3-BBE8-B88B4CD3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71F6-B8C2-4757-B9D3-D2FCD39AEE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-малоросс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йскій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варь»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.Тимченка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5092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шомовні слова реєстру передаються по-різному, а саме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о них в українській частині даються такі ж іншомовні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ники (напр.: Абсолютъ, абсолютъ; Автографія, автокграфія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ія, теорія і т. д.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оряд з іншомовними відповідникам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них даються також українські (напр.: Автографическій, авто-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графичный, власнопысный; Автографъ, автокграфъ,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сноручне пысьмо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до них в українській частині даються тільки українські відповідники (напр.: Гаеръ, блазень, штукарь; Гардеробщикъ, шатный; Гардина, запона, заслона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pic07_05.jpg"/>
          <p:cNvPicPr/>
          <p:nvPr/>
        </p:nvPicPr>
        <p:blipFill>
          <a:blip r:embed="rId1"/>
          <a:stretch/>
        </p:blipFill>
        <p:spPr>
          <a:xfrm>
            <a:off x="971640" y="4508640"/>
            <a:ext cx="676908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д українських відповідників є й слова, створені  попередніми лексикографами, напр.: вынець (поряд з алкоголь) — до рос. алкоголь; глынець — до рос. алюминій; рослынаръ (поруч з ботаныкъ) — до рос. ботаникъ і т. і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до іншомовних відповідників в українській частині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ика, то вони часто наводяться в спольщеній формі, напр.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нгарда (до рос. авангард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нсаля (до рос. аванзал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ыза (до рос. акциз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яса, клясовый (до рос. класеь, классный) і т. і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3" descr="siscott24.gif"/>
          <p:cNvPicPr/>
          <p:nvPr/>
        </p:nvPicPr>
        <p:blipFill>
          <a:blip r:embed="rId1"/>
          <a:stretch/>
        </p:blipFill>
        <p:spPr>
          <a:xfrm>
            <a:off x="6372360" y="5033880"/>
            <a:ext cx="25160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Крім спольщених українських відповідників до іншомовних слів реєстру, зустрічаємо в словнику й прямі запозичення з  польської мови (ці слова, як і багато з поданих вище, вживаються в такій формі в західноукраїнських землях), напр.: имбрыкъ до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вы — до рос. кофейникъ; пушка на каву —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 рос. кофейница: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арына, марынарка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льота —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 рос. флот і т. ін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1319743090.jpg"/>
          <p:cNvPicPr/>
          <p:nvPr/>
        </p:nvPicPr>
        <p:blipFill>
          <a:blip r:embed="rId1"/>
          <a:stretch/>
        </p:blipFill>
        <p:spPr>
          <a:xfrm>
            <a:off x="4356000" y="3357720"/>
            <a:ext cx="435780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11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Рецензії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У передмові до «Словаря української мови» Грінченко  наводить короткий уривок з передмови до словника Тимченка,  зазначаючи, що в ньому «прикладів ні російських, ні українських нема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У «Літературно-науковому віснику» і в «Киевской старине» вказують, що в словнику подається чимало  непевних або навіть «викуваних» українських відповідників до російських слів, напр.: водывоза на рос. водовозъ; первкутня на рос. діагональ та ін. і що взагалі українські слова нічим, крім поодиноких випадків, не засвідчуютьс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ливо цінна друга рецензія: в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ій не тільки вказується н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значені вище хиби словника, але й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уваються дві важливі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моги до справді наукового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ика: повнота подавання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сичного матеріалу і потвердження цього матеріалу прикладами з народної поезії і з творів письменників. Словник Тимченка, зазначається в цій рецензії, не задовольняє першої вимоги — повноти охоплення української лексики. А з приводу другої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моги рецензент говорить так: «Для массы слов его [словаря] вполне имеет место вопрос, да откуда же они, эти слова взяты?».Не схвалює рецензент і того, що в словнику є іноді посилання на не потверджений прикладами матеріал інших лексикографів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1e265c.jpg"/>
          <p:cNvPicPr/>
          <p:nvPr/>
        </p:nvPicPr>
        <p:blipFill>
          <a:blip r:embed="rId1"/>
          <a:stretch/>
        </p:blipFill>
        <p:spPr>
          <a:xfrm>
            <a:off x="250920" y="836640"/>
            <a:ext cx="374472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же, у російсько-українському словник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. Тимченка, що вийшов у кінц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є хиба як у російському реєстрі, так і в частині українській. Цей словник в усіх відношеннях стояв на значно нижчому рівні, ніж словник Уманця і Спілки, і, звичайно, не відбивав лексики  української літературної мови кінц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700000" y="476280"/>
            <a:ext cx="5986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Євген Костянтинович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Тимченко  — український мовознавець-україніст, перекладач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втор праць із фонетики, граматики, лексики, лексикографії, діалектології та історії української мов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200px-Тимченко_Є.jpg"/>
          <p:cNvPicPr/>
          <p:nvPr/>
        </p:nvPicPr>
        <p:blipFill>
          <a:blip r:embed="rId1"/>
          <a:stretch/>
        </p:blipFill>
        <p:spPr>
          <a:xfrm>
            <a:off x="250920" y="907920"/>
            <a:ext cx="288108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-малоросс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йскій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варь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 тт., 1897–1899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i.jpg"/>
          <p:cNvPicPr/>
          <p:nvPr/>
        </p:nvPicPr>
        <p:blipFill>
          <a:blip r:embed="rId1"/>
          <a:stretch/>
        </p:blipFill>
        <p:spPr>
          <a:xfrm>
            <a:off x="4572000" y="335772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tk_sob_large_197_07_10_10_09_37.jpg"/>
          <p:cNvPicPr/>
          <p:nvPr/>
        </p:nvPicPr>
        <p:blipFill>
          <a:blip r:embed="rId2"/>
          <a:stretch/>
        </p:blipFill>
        <p:spPr>
          <a:xfrm>
            <a:off x="755640" y="1773360"/>
            <a:ext cx="345600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Реєстр  російських слів  - 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близько 40 0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24360" y="1557360"/>
            <a:ext cx="4556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Російські реєстрові слова у словнику Тимченка подаються без наголосів, а українські відповідники (надруковані  російською абеткою — так званою ерыжкою») скрізь мають  наголос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Grot-jat.jpg"/>
          <p:cNvPicPr/>
          <p:nvPr/>
        </p:nvPicPr>
        <p:blipFill>
          <a:blip r:embed="rId1"/>
          <a:stretch/>
        </p:blipFill>
        <p:spPr>
          <a:xfrm>
            <a:off x="0" y="2276640"/>
            <a:ext cx="419400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укописні матеріали журналу «Киевская старина» 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лова,  записані з уст народу в різних місцях України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руковані праці, яких у списку 31, причому з них чотири лексикографічні — словники Закревського, Желеховського, Уманця і Спілки (І і II томи) і Шейковського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 художньої літератури використано  Куліша, Марка Вовчка, Шевченка,  Стороженка і Галятовського («Ключ разумения», 1659 p.)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етнографічні матеріали («Песни Галицкой 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Угорской Руси» Як. Головацького, «Нова збирка народных малорусских приказок» М. Комарова та ін.)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92458590_knigi1.jpg"/>
          <p:cNvPicPr/>
          <p:nvPr/>
        </p:nvPicPr>
        <p:blipFill>
          <a:blip r:embed="rId1"/>
          <a:stretch/>
        </p:blipFill>
        <p:spPr>
          <a:xfrm>
            <a:off x="1258920" y="260280"/>
            <a:ext cx="6392880" cy="19591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1784880" y="1700280"/>
            <a:ext cx="492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Джерела української частин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жерелами  російського реєстру словни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Словарь церковнославянского и русского языка» Академії наук (2-е вид., 1867 р.)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Толковый словарь  живого великорусского языка» В. Даля (вид. 1887 p.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454775531.jpg"/>
          <p:cNvPicPr/>
          <p:nvPr/>
        </p:nvPicPr>
        <p:blipFill>
          <a:blip r:embed="rId1"/>
          <a:stretch/>
        </p:blipFill>
        <p:spPr>
          <a:xfrm>
            <a:off x="4356000" y="3743280"/>
            <a:ext cx="4272120" cy="28972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ImageCache.jpg"/>
          <p:cNvPicPr/>
          <p:nvPr/>
        </p:nvPicPr>
        <p:blipFill>
          <a:blip r:embed="rId2"/>
          <a:stretch/>
        </p:blipFill>
        <p:spPr>
          <a:xfrm>
            <a:off x="900000" y="4508640"/>
            <a:ext cx="26337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  укладався словник Тимченка, ці лексикографічні праці були вже застарілими: вони містили багато архаїзмів та діалектизмів, а нової лексики російської мови не мали, і це негативно відбилося на доборі слів реєстру словника Тимченка (в ньому знаходимо,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., такі діалектні або застарілі слова, не вживані в  літературній російській мові, як бакалда, бакуня, балдріан і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.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440124_html_2318ca68.jpg"/>
          <p:cNvPicPr/>
          <p:nvPr/>
        </p:nvPicPr>
        <p:blipFill>
          <a:blip r:embed="rId1"/>
          <a:stretch/>
        </p:blipFill>
        <p:spPr>
          <a:xfrm>
            <a:off x="395280" y="4941720"/>
            <a:ext cx="2647800" cy="17510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RIA-099535-Preview.jpg.1000x297x1.jpg"/>
          <p:cNvPicPr/>
          <p:nvPr/>
        </p:nvPicPr>
        <p:blipFill>
          <a:blip r:embed="rId2"/>
          <a:stretch/>
        </p:blipFill>
        <p:spPr>
          <a:xfrm>
            <a:off x="4762440" y="4305240"/>
            <a:ext cx="43815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їнська частина словника розроблена досить примітивно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ня слова дуже рідко ілюструються прикладами. В цьому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шенні словник Тимченка стоїть значно нижче розглянутої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ці Уманц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ловнику Тимченка є значні розходження з словником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анця і в українських відповідниках, хоч обидва ці словник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ались одночасно, в багатьох випадках на спільних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іалах, а для І тома своєї роботи Тимченко користувався І і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ами словника Уманця. Ці розходження можна виявити пр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му зіставленні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3" descr="Снимок.PNG"/>
          <p:cNvPicPr/>
          <p:nvPr/>
        </p:nvPicPr>
        <p:blipFill>
          <a:blip r:embed="rId1"/>
          <a:stretch/>
        </p:blipFill>
        <p:spPr>
          <a:xfrm>
            <a:off x="179280" y="692280"/>
            <a:ext cx="870768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4T18:09:12Z</dcterms:created>
  <dc:creator>ANNA</dc:creator>
  <dc:description/>
  <dc:language>en-US</dc:language>
  <cp:lastModifiedBy>1</cp:lastModifiedBy>
  <dcterms:modified xsi:type="dcterms:W3CDTF">2015-05-21T20:13:11Z</dcterms:modified>
  <cp:revision>11</cp:revision>
  <dc:subject/>
  <dc:title>Слайд 1</dc:title>
</cp:coreProperties>
</file>