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511-62AA-4B58-9420-1B6FCB24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D305-75E4-4DB3-98D1-C3904FF0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EF7-3085-4A9E-ACA2-CAB13F85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7E9C-69AF-4345-8AB8-8FCFB443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596-D912-4C58-8217-4BBF0FFA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B28-208D-4D6A-86C1-8B9AC54C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2AD0-C824-4D4A-BFF4-1D104D41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787-9DB7-40E1-BED2-F112725D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797B-1F51-4DD3-8679-26F16C84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F07-B70A-4F98-8213-294ED8C9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75D-1191-4038-8D4F-553410EB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E748-F94F-49A0-8BEB-BDC042F4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E89A-25F9-45DF-A747-E2173F2974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Тимче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омовні слова реєстру передаються по-різному, а са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о них в українській частині даються такі ж іншомовні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ки (напр.: Абсолютъ, абсолютъ; Автографія, автокграфі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, теорія і т. д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ряд з іншомовними відповідник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их даються також українські (напр.: Автографическій, авто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рафичный, власнопысный; Автографъ, автокграфъ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оручне пысьмо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 них в українській частині даються тільки українські відповідники (напр.: Гаеръ, блазень, штукарь; Гардеробщикъ, шатный; Гардина, запона, заслон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pic07_05.jpg"/>
          <p:cNvPicPr/>
          <p:nvPr/>
        </p:nvPicPr>
        <p:blipFill>
          <a:blip r:embed="rId1"/>
          <a:stretch/>
        </p:blipFill>
        <p:spPr>
          <a:xfrm>
            <a:off x="971640" y="4508640"/>
            <a:ext cx="67690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 українських відповідників є й слова, створені  попередніми лексикографами, напр.: вынець (поряд з алкоголь) — до рос. алкоголь; глынець — до рос. алюминій; рослынаръ (поруч з ботаныкъ) — до рос. ботаникъ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ншомовних відповідників в українській частин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, то вони часто наводяться в спольщеній формі, напр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гарда (до рос. авангард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саля (до рос. аванзал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ыза (до рос. акциз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са, клясовый (до рос. класеь, классный)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siscott24.gif"/>
          <p:cNvPicPr/>
          <p:nvPr/>
        </p:nvPicPr>
        <p:blipFill>
          <a:blip r:embed="rId1"/>
          <a:stretch/>
        </p:blipFill>
        <p:spPr>
          <a:xfrm>
            <a:off x="6372360" y="5033880"/>
            <a:ext cx="2516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рім спольщених українських відповідників до іншомовних слів реєстру, зустрічаємо в словнику й прямі запозичення з  польської мови (ці слова, як і багато з поданих вище, вживаються в такій формі в західноукраїнських землях), напр.: имбрыкъ д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вы — до рос. кофейникъ; пушка на каву 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кофейница: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ына, марынарк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льота 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флот і т. і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1319743090.jpg"/>
          <p:cNvPicPr/>
          <p:nvPr/>
        </p:nvPicPr>
        <p:blipFill>
          <a:blip r:embed="rId1"/>
          <a:stretch/>
        </p:blipFill>
        <p:spPr>
          <a:xfrm>
            <a:off x="4356000" y="3357720"/>
            <a:ext cx="4357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ценз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передмові до «Словаря української мови» Грінченко  наводить короткий уривок з передмови до словника Тимченка,  зазначаючи, що в ньому «прикладів ні російських, ні українських нема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«Літературно-науковому віснику» і в «Киевской старине» вказують, що в словнику подається чимало  непевних або навіть «викуваних» українських відповідників до російських слів, напр.: водывоза на рос. водовозъ; первкутня на рос. діагональ та ін. і що взагалі українські слова нічим, крім поодиноких випадків, не засвідчую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 цінна друга рецензія: 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й не тільки вказується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ені вище хиби словника, але 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уваються дві важлив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правді науков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: повнота подаванн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ного матеріалу і потвердження цього матеріалу прикладами з народної поезії і з творів письменників. Словник Тимченка, зазначається в цій рецензії, не задовольняє першої вимоги — повноти охоплення української лексики. А з приводу друг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рецензент говорить так: «Для массы слов его [словаря] вполне имеет место вопрос, да откуда же они, эти слова взяты?».Не схвалює рецензент і того, що в словнику є іноді посилання на не потверджений прикладами матеріал інших лексикографі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e265c.jpg"/>
          <p:cNvPicPr/>
          <p:nvPr/>
        </p:nvPicPr>
        <p:blipFill>
          <a:blip r:embed="rId1"/>
          <a:stretch/>
        </p:blipFill>
        <p:spPr>
          <a:xfrm>
            <a:off x="250920" y="836640"/>
            <a:ext cx="3744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у російсько-українському словни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 Тимченка, що вийшов у кінц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є хиба як у російському реєстрі, так і в частині українській. Цей словник в усіх відношеннях стояв на значно нижчому рівні, ніж словник Уманця і Спілки, і, звичайно, не відбивав лексики  української літературної мови кінц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Євген Костянтино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Тимченко  — український мовознавець-україніст, перекладач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втор праць із фонетики, граматики, лексики, лексикографії, діалектології та історії української мов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00px-Тимченко_Є.jpg"/>
          <p:cNvPicPr/>
          <p:nvPr/>
        </p:nvPicPr>
        <p:blipFill>
          <a:blip r:embed="rId1"/>
          <a:stretch/>
        </p:blipFill>
        <p:spPr>
          <a:xfrm>
            <a:off x="250920" y="907920"/>
            <a:ext cx="28810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тт., 1897–189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.jpg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tk_sob_large_197_07_10_10_09_37.jpg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еєстр  російських слів  -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лизько 40 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155736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осійські реєстрові слова у словнику Тимченка подаються без наголосів, а українські відповідники (надруковані  російською абеткою — так званою ерыжкою») скрізь мають  наголос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rot-jat.jpg"/>
          <p:cNvPicPr/>
          <p:nvPr/>
        </p:nvPicPr>
        <p:blipFill>
          <a:blip r:embed="rId1"/>
          <a:stretch/>
        </p:blipFill>
        <p:spPr>
          <a:xfrm>
            <a:off x="0" y="2276640"/>
            <a:ext cx="4194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писні матеріали журналу «Киевская старина» 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ова,  записані з уст народу в різних місцях Україн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уковані праці, яких у списку 31, причому з них чотири лексикографічні — словники Закревського, Желеховського, Уманця і Спілки (І і II томи) і Шейковськ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 художньої літератури використано  Куліша, Марка Вовчка, Шевченка,  Стороженка і Галятовського («Ключ разумения», 1659 p.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тнографічні матеріали («Песни Галицк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Угорской Руси» Як. Головацького, «Нова збирка народных малорусских приказок» М. Комарова та ін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92458590_knigi1.jpg"/>
          <p:cNvPicPr/>
          <p:nvPr/>
        </p:nvPicPr>
        <p:blipFill>
          <a:blip r:embed="rId1"/>
          <a:stretch/>
        </p:blipFill>
        <p:spPr>
          <a:xfrm>
            <a:off x="1258920" y="260280"/>
            <a:ext cx="6392880" cy="1959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4880" y="170028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жерела української частин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жерелами  російського реєстру слов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оварь церковнославянского и русского языка» Академії наук (2-е вид., 1867 р.)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лковый словарь  живого великорусского языка» В. Даля (вид. 1887 p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54775531.jpg"/>
          <p:cNvPicPr/>
          <p:nvPr/>
        </p:nvPicPr>
        <p:blipFill>
          <a:blip r:embed="rId1"/>
          <a:stretch/>
        </p:blipFill>
        <p:spPr>
          <a:xfrm>
            <a:off x="4356000" y="3743280"/>
            <a:ext cx="4272120" cy="289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Cache.jpg"/>
          <p:cNvPicPr/>
          <p:nvPr/>
        </p:nvPicPr>
        <p:blipFill>
          <a:blip r:embed="rId2"/>
          <a:stretch/>
        </p:blipFill>
        <p:spPr>
          <a:xfrm>
            <a:off x="900000" y="4508640"/>
            <a:ext cx="263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 укладався словник Тимченка, ці лексикографічні праці були вже застарілими: вони містили багато архаїзмів та діалектизмів, а нової лексики російської мови не мали, і це негативно відбилося на доборі слів реєстру словника Тимченка (в ньому знаходимо,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, такі діалектні або застарілі слова, не вживані в  літературній російській мові, як бакалда, бакуня, балдріан 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440124_html_2318ca68.jpg"/>
          <p:cNvPicPr/>
          <p:nvPr/>
        </p:nvPicPr>
        <p:blipFill>
          <a:blip r:embed="rId1"/>
          <a:stretch/>
        </p:blipFill>
        <p:spPr>
          <a:xfrm>
            <a:off x="395280" y="4941720"/>
            <a:ext cx="2647800" cy="1751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RIA-099535-Preview.jpg.1000x297x1.jpg"/>
          <p:cNvPicPr/>
          <p:nvPr/>
        </p:nvPicPr>
        <p:blipFill>
          <a:blip r:embed="rId2"/>
          <a:stretch/>
        </p:blipFill>
        <p:spPr>
          <a:xfrm>
            <a:off x="4762440" y="4305240"/>
            <a:ext cx="438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частина словника розроблена досить примітив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слова дуже рідко ілюструються прикладами. В ць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шенні словник Тимченка стоїть значно нижче розглянут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 Уманц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нику Тимченка є значні розходження з словник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ця і в українських відповідниках, хоч обидва ці сло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лись одночасно, в багатьох випадках на спільних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ах, а для І тома своєї роботи Тимченко користувався І 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ми словника Уманця. Ці розходження можна виявити п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му зіставленн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Снимок.PNG"/>
          <p:cNvPicPr/>
          <p:nvPr/>
        </p:nvPicPr>
        <p:blipFill>
          <a:blip r:embed="rId1"/>
          <a:stretch/>
        </p:blipFill>
        <p:spPr>
          <a:xfrm>
            <a:off x="179280" y="692280"/>
            <a:ext cx="87076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09:12Z</dcterms:created>
  <dc:creator>ANNA</dc:creator>
  <dc:description/>
  <dc:language>en-US</dc:language>
  <cp:lastModifiedBy>1</cp:lastModifiedBy>
  <dcterms:modified xsi:type="dcterms:W3CDTF">2015-05-21T20:13:11Z</dcterms:modified>
  <cp:revision>11</cp:revision>
  <dc:subject/>
  <dc:title>Слайд 1</dc:title>
</cp:coreProperties>
</file>