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6624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68360" y="4248000"/>
            <a:ext cx="6624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683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631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08280" y="16002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68360" y="42480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08280" y="42480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48560" y="42480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68360" y="16002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68360" y="27432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683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68360" y="16002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31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68360" y="4248000"/>
            <a:ext cx="6624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6624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68360" y="4248000"/>
            <a:ext cx="6624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683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631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8280" y="16002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68360" y="42480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08280" y="42480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48560" y="4248000"/>
            <a:ext cx="2133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68360" y="27432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683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3160" y="42480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683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63160" y="1600200"/>
            <a:ext cx="3232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68360" y="4248000"/>
            <a:ext cx="6624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В работе\Детский школьный\DetskShk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68360" y="16002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"/>
          <p:cNvSpPr/>
          <p:nvPr/>
        </p:nvSpPr>
        <p:spPr>
          <a:xfrm>
            <a:off x="-18720" y="65502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228"/>
                </a:solidFill>
                <a:latin typeface="Ariston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В работе\Детский школьный\DetskShk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1"/>
          <p:cNvSpPr/>
          <p:nvPr/>
        </p:nvSpPr>
        <p:spPr>
          <a:xfrm>
            <a:off x="-18720" y="65502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228"/>
                </a:solidFill>
                <a:latin typeface="Ariston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K:\ProPowerPoint\Шаблоны\В работе\Детский школьный\DetskShko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68360" y="16002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krlib.com.ua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1197000"/>
            <a:ext cx="576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Українська література для дітей і про ді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23640" y="3068280"/>
            <a:ext cx="5040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124000" y="189000"/>
            <a:ext cx="662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вчення студентами творів українського письменства, які окреслюють царину літератури для дітей і юнацтва. Це вивчення має базуватися на твердому переконанні, що дитяча література є органічною частиною літератури взагалі. Вона об’єктивно відбиває головні закономірності розвитку літературно-художнього процесу в ціл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K:\ProPowerPoint\Шаблоны\В работе\Детский школьный\DetsShkPri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9640" y="105264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озділ 1. Література для дітей від найдавніших часів до ХІХ с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K:\ProPowerPoint\Шаблоны\В работе\Детский школьный\DetskShkPrint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4800" y="1267920"/>
            <a:ext cx="849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Дитячі твори в усній народній творчост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5kl_t2_Folklor03.jpg"/>
          <p:cNvPicPr/>
          <p:nvPr/>
        </p:nvPicPr>
        <p:blipFill>
          <a:blip r:embed="rId2"/>
          <a:stretch/>
        </p:blipFill>
        <p:spPr>
          <a:xfrm>
            <a:off x="1908000" y="2997360"/>
            <a:ext cx="5410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родження і формування української дитячої літерату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IMGP7054.JPG"/>
          <p:cNvPicPr/>
          <p:nvPr/>
        </p:nvPicPr>
        <p:blipFill>
          <a:blip r:embed="rId1"/>
          <a:stretch/>
        </p:blipFill>
        <p:spPr>
          <a:xfrm>
            <a:off x="2268360" y="1932120"/>
            <a:ext cx="6624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K:\ProPowerPoint\Шаблоны\В работе\Детский школьный\DetskShkPri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итяча література ХIХ ст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4" descr="017.jpg"/>
          <p:cNvPicPr/>
          <p:nvPr/>
        </p:nvPicPr>
        <p:blipFill>
          <a:blip r:embed="rId2"/>
          <a:stretch/>
        </p:blipFill>
        <p:spPr>
          <a:xfrm>
            <a:off x="1763640" y="1844640"/>
            <a:ext cx="19573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K:\ProPowerPoint\Шаблоны\В работе\Детский школьный\DetskShkPri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озділ 2. Жанрове розмаїття дитячої літератури ХХ-ХХІ с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6" descr="1 -002(2).jpg"/>
          <p:cNvPicPr/>
          <p:nvPr/>
        </p:nvPicPr>
        <p:blipFill>
          <a:blip r:embed="rId2"/>
          <a:stretch/>
        </p:blipFill>
        <p:spPr>
          <a:xfrm>
            <a:off x="755640" y="1413000"/>
            <a:ext cx="5264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K:\ProPowerPoint\Шаблоны\В работе\Детский школьный\DetskShk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90756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Інформаційні ресурси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63280" y="2204640"/>
            <a:ext cx="626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ібліотека української літератури. – Режим доступу: </a:t>
            </a:r>
            <a:r>
              <a:rPr b="0" lang="uk-UA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krlib.com.ua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аща література юним читачам. – Режим доступу: http://www.chl.kiev.ua/k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4T19:35:44Z</dcterms:created>
  <dc:creator>Admin</dc:creator>
  <dc:description>http://propowerpoint.ru - Бесплатные шаблоны для презентаций. Полезные советы и уроки  PowerPoint .</dc:description>
  <dc:language>en-US</dc:language>
  <cp:lastModifiedBy>Admin</cp:lastModifiedBy>
  <dcterms:modified xsi:type="dcterms:W3CDTF">2017-01-14T19:51:16Z</dcterms:modified>
  <cp:revision>2</cp:revision>
  <dc:subject/>
  <dc:title>Українська література для дітей і про дітей</dc:title>
</cp:coreProperties>
</file>