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png" ContentType="image/png"/>
  <Override PartName="/ppt/media/image6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23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7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49A-0943-4C07-B702-6F78900F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646-37A1-43A0-AF79-5AA21D74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B6AC1-D6D8-4188-A267-2D85A756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C6F11-624F-48AF-B353-1135D683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88D40-2871-434C-A9F4-9E681100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3A9FC-1696-4BD5-B168-3AC3A02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0B432-636F-4048-A58A-7643DC34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116BF-39DA-4C4B-B903-28C801C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5BFA7-4828-4F05-BA70-3079FD95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EFDCB-D07F-49D9-B335-84492CC0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1C763-4BA8-40EF-A400-F1CB7E2A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62C9E-5141-411E-AF1F-6D724D60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669-DA2E-41A0-9222-E4978E67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472B2-6278-4E69-AF36-7731B8FD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2D066-9312-45A4-AAE4-5376C71D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8FFB0-64C0-412F-BEAB-684FB00B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245D3-F5FE-4324-862E-3308C229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4D7BA-B2C8-4D6B-87B1-B1EAF635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D3914-F95B-46BD-BCA4-0149BFD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D7220-FC8D-4923-8EE3-4BC3F170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A89E1-5969-4DC5-9A49-08B57503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FCF1F-3614-4F23-80EF-CF9029FC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E6B04-E736-4E11-BB59-B97B16FA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F7E-C01C-48C1-9C52-D951DF4B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FBDAC-D4ED-4FD9-96AB-A5213613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193DD-A3EC-4815-9873-70C7B39E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7217F-5C34-479C-9050-EA3E290F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6EEA5-1B8B-4D65-AE93-1F857388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BD989-20C1-4D14-91BC-1F009401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8C9EC-D0C5-4192-A71B-D32049D0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EDED8-B6ED-4721-8B39-ADCB0FB7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47C4C-2C81-482B-A985-BD7CAD04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98DCC-7576-429F-AC5D-A36CA8B2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EEB4E-6376-4A03-8222-95E45FBE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0E02C-C7E3-4585-9396-699F9B62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0FBBE-C633-4E80-8907-F53432AB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16407-A142-4078-BDB4-E0305268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5B9E2-DE85-4F03-9B15-C16AAF39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894E3-3EA8-4705-8228-6074F6AC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E5283-A54A-4C80-81F8-369D55C1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6E31E-56F5-4E2C-BC9F-F75310F1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7B342-A3DE-4272-BEE8-C8E57D6A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1038E-F15A-4662-B637-312B5C10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1FCA7-EC37-4CFE-80BE-5ABD5E69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F778D-3840-4220-9A2A-6451532F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8F9B3-8E5B-44D8-82DC-CD61CC02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C599A-E413-42F3-944C-E8839624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B299D-DCAB-4FE9-ABAA-D8538591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4295F-C189-4A76-84BD-0B041755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A301F-6AD0-4660-8864-15D3BBB9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4BB31-7EC2-414F-829F-66D797C1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54C54-7315-4838-AE99-B74CA3B9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BDB67-5198-47A4-ABF1-AD44DE7A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ABA42-79F2-4267-87C4-85FFC329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A147C-6B4F-45EE-AE0A-75B4BC1E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2E933-3DD9-436F-AC9A-6EDDE0A9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451AE-2F28-47EE-AD70-A1653129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23444-67D2-4EF3-A81A-0BE2B85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AE423-EF78-49AE-BE43-33F04FCD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F6EF1-34A0-4224-99DE-32017669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51045-CC85-4321-9B06-C637B1EA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9B761-C0DC-4AFE-BEDC-304F20D7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E8514-BF16-4508-8F8C-140AE898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9D1D5-A7FA-48BB-B30D-561BF10B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E9EF7-1F34-42B6-9552-D3B84B32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EDABB-713C-402A-976C-2C74FECE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EC0E3-E241-403A-920D-32B2E187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A1EBF-75B0-44A3-9D56-BC423B4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03D-12CE-48E7-816D-889BEFF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4EFF5-1C6C-44A1-881E-F7E806C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037D7-5C9B-4F9A-9F1D-FD543E0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500C8-F958-4157-AD89-F2DBD022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D4517-AF26-45EF-B748-3967986C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797E3-B011-4957-9DD3-0EA6C7C5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B3A2-8038-4325-9A0A-4294E112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FBC9-F53A-407D-9AA7-665F8BB1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EECD-4358-4F03-9EBE-A153F1AF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F6C9-FDBD-4803-B02B-491B6D5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D42D-915F-46E6-B18A-E55B587C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920-7F3A-4147-BB62-B02F7C07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7154-52B3-43C5-A4BD-8380758F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414F-7375-47DB-8899-6B7D4362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116D-576C-4A74-BD67-B02E3982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331F-5437-4D2B-B604-7FDE55CB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FF91-BBE5-4A08-B5C2-E2B7906B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38FF-283D-4CFE-B19C-47B616FA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B1C4-B6DE-4E3F-B98D-E90659F4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A4BC4-F335-4FAB-A06C-A5004C25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EF7AB-2396-44FF-B790-95242352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8DA0A-DFF1-42E0-BEF4-1EEC2105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858-12C1-41F7-B4AF-F8CEB965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495A-965D-49EB-9EA6-E056C82B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9881-8662-4AFE-9DB1-F295751C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55A2E-B5C1-45D3-8846-E2EBF0A5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5670-2D2F-453A-8440-ABB00DE8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88DF-12AB-4BFB-A73E-6646C4CD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FE6F-A6CA-49AD-8E34-A8AE170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E47EC-0364-46C4-A959-39D50411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A0F3-F539-4B85-8A58-03BF48B0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8151-AA0E-40EC-BEBA-CF24EE09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70DA9-B5C7-417C-ABBF-8533E7BC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346-6B22-4BCE-B8B8-5D9FAF0F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5F335C-AE66-4D92-8BF0-4FFA56F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F7C4E-7D54-4A7E-AF0A-01E2AE7F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28E4E-8830-4E77-A347-CDDACD59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15388-2066-4174-BFDD-F2A6FC98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96BF4-31A7-44BD-B199-6B3BAC71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8D747-E6DC-450D-8B9D-8EA817B9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C8983-1D7F-4933-AF60-7990FB14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86615-FAFA-4047-BA52-F36ECC3E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91903-CCCA-42E6-BE83-A5EF9AFF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BDA9E-24ED-428B-AE91-CE691D48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C0C-4B94-4A14-9549-48453C02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D42A1-8AB8-494B-89A5-669843B0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70916-2D13-4EC2-83BB-46E78142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09D5B-26E4-4958-9492-2C3EE8C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4BF2F-586A-4C9D-BD04-195B3A98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7CFB7-493D-4675-BA5F-E30949A3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760C-9D3B-44A8-9EF4-87C900D8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E3064-FEEF-446C-AE56-2812B48D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ED625-18DD-475A-AFEB-62421F7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0F31-9E0D-406A-BE91-54375880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85FA3-ABD4-4CCB-845D-FCAC70CC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176-75DE-4BBF-9A6F-B2EF3517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EBD8-719B-4FFB-AACE-2CCB76F8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88A9-41CE-4AF8-B6ED-04EFF9BA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E5685-570F-47A8-9FCB-7F2170F1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ACF84-CA01-417C-B0D8-A488CD97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8CC5E-5A00-49D0-840F-FEE36860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0F209-C593-48CB-BA8E-1685D7A0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C02C5-D5A0-4B00-8240-5C78B2E5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719E2-58D2-44F8-A85B-2BAFBC02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1E65-3096-4A22-8877-85837CF0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BF12-C4D1-48F4-9411-11CE08C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B83-0686-4CFA-BF06-6E9E1AAD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9F778-0053-4783-95CB-C6AF76B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E14BD-4615-454E-BA3C-A911821A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B606-B8C3-4B2E-9171-448D1A3D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DE76F-54D7-4350-82A7-56DB9B51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6146-D7D6-493A-BCCA-D2AACF2E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A08D8-9146-42E9-A383-59C1EE96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6512A-7DA5-4B04-8FB7-DF5E057F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A691B-8301-4B4C-9ED5-75856077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4C084-A5D6-4329-BDDC-35574D10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E2326-B5DE-41BB-AA9C-521BF28F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366-2E36-48DF-A28F-8406643C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10E68-0BBB-4D2A-ACBE-D9679B0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64B13-DC2C-4130-85F1-EAB5464A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969BE-0D51-4622-8D61-28BC1C31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238F7-60F5-4A82-8FC4-1B14473F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7C1BB-64BA-4F5F-A86A-1BF776D5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5BD6E-DD47-43D3-87CA-6C854F5F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A0D48-8C6F-4E88-B7DD-5FE1EF34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F566A-3CBD-41E4-BA6B-475090A4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E3C8C-9727-4947-B497-748C36ED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52E72-8D40-47E1-A65A-EEAA5622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21.xml"/><Relationship Id="rId32" Type="http://schemas.openxmlformats.org/officeDocument/2006/relationships/slideLayout" Target="../slideLayouts/slideLayout122.xml"/><Relationship Id="rId33" Type="http://schemas.openxmlformats.org/officeDocument/2006/relationships/slideLayout" Target="../slideLayouts/slideLayout123.xml"/><Relationship Id="rId34" Type="http://schemas.openxmlformats.org/officeDocument/2006/relationships/slideLayout" Target="../slideLayouts/slideLayout124.xml"/><Relationship Id="rId35" Type="http://schemas.openxmlformats.org/officeDocument/2006/relationships/slideLayout" Target="../slideLayouts/slideLayout125.xml"/><Relationship Id="rId36" Type="http://schemas.openxmlformats.org/officeDocument/2006/relationships/slideLayout" Target="../slideLayouts/slideLayout126.xml"/><Relationship Id="rId37" Type="http://schemas.openxmlformats.org/officeDocument/2006/relationships/slideLayout" Target="../slideLayouts/slideLayout127.xml"/><Relationship Id="rId38" Type="http://schemas.openxmlformats.org/officeDocument/2006/relationships/slideLayout" Target="../slideLayouts/slideLayout128.xml"/><Relationship Id="rId39" Type="http://schemas.openxmlformats.org/officeDocument/2006/relationships/slideLayout" Target="../slideLayouts/slideLayout129.xml"/><Relationship Id="rId40" Type="http://schemas.openxmlformats.org/officeDocument/2006/relationships/slideLayout" Target="../slideLayouts/slideLayout130.xml"/><Relationship Id="rId41" Type="http://schemas.openxmlformats.org/officeDocument/2006/relationships/slideLayout" Target="../slideLayouts/slideLayout131.xml"/><Relationship Id="rId4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3827-477B-44C1-9B6F-2023353B2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2F1A-B9B3-4C3C-82F5-DF55B81277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9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9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1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3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57A0-0EB4-4013-844B-C59534E720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1"/>
    <p:sldLayoutId id="2147483780" r:id="rId32"/>
    <p:sldLayoutId id="2147483781" r:id="rId33"/>
    <p:sldLayoutId id="2147483782" r:id="rId34"/>
    <p:sldLayoutId id="2147483783" r:id="rId35"/>
    <p:sldLayoutId id="2147483784" r:id="rId36"/>
    <p:sldLayoutId id="2147483785" r:id="rId37"/>
    <p:sldLayoutId id="2147483786" r:id="rId38"/>
    <p:sldLayoutId id="2147483787" r:id="rId39"/>
    <p:sldLayoutId id="2147483788" r:id="rId40"/>
    <p:sldLayoutId id="2147483789" r:id="rId41"/>
    <p:sldLayoutId id="2147483790" r:id="rId4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8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EE6F-0B79-4C43-AC07-843DF9B9A1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3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9A0B-691E-440E-9E6F-070003FCEC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847C-F0F0-419C-ACAC-BDA26135B48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C297-0BE5-4EFB-A4DE-2D17FFC7FF7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2E60-7424-4578-A030-EF6D76DF8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B764-7419-4471-88FD-C9B3578A4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4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8016-008B-401D-A047-F1649AC60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943D-1B8F-46CF-AE99-70BC4E80E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57D3-BA1C-4268-AA66-C1EB7428F3E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89AC-553F-4481-AB97-68DA127F82F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900000" y="26028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снов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03280" y="1916280"/>
            <a:ext cx="7201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метр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 Равные порознь третьему, равны между соб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2. Если к равным прибавить равные, получим рав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3. Если от равных отнимем равные, то получим рав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059280" y="6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ксиомы…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стулаты Евкли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каждой точки ко всякой другой точке можно провести пряму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ую ограниченную прямую можно продолжить неопределён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любого центра можно описать окружность любого радиу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прямые углы рав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если прямая, падающая на две прямые, образует внутренние и по одну сторону углы, меньше двух прямых, то продолженные эти прямые неограниченно встретятся с той стороны, где углы меньше двух прям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 чем говорится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стулате Евкли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504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ли две прямы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образуют при пересечении с третьей прямой внутренние односторонние угл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сумма величин которых меньше двух прямых углов (т.е. меньше 180°; рис. 1), то эти две прямые обязательно пересекаются, причем именно с той стороны от третьей прямой, по которую расположены углы а и в (составляющие вместе менее 180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Рисунок 1"/>
          <p:cNvPicPr/>
          <p:nvPr/>
        </p:nvPicPr>
        <p:blipFill>
          <a:blip r:embed="rId1"/>
          <a:stretch/>
        </p:blipFill>
        <p:spPr>
          <a:xfrm>
            <a:off x="5435640" y="2205000"/>
            <a:ext cx="336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достатки "Начал"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Многие определения крайне туман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Формулировки  определений  включают  в  себя  понятия,  которые  сами  долж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ь определены ("длина", "ширина", "граница"..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и одно из определений, приведенных выше, не используется в доказательства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х-либо теор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042920" y="1773360"/>
            <a:ext cx="691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ксиоматическая теория.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дел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уть аксиоматического мет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числяются основные пон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сновные объекты: t1, t2, …, t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отношения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…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k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ормулируются аксиомы, в которых сообщаются некоторые свойства основ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й, необходимые для построения тео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окупность Т = {t1, …, tn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k; A1, …, Am} наз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сиоматической те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ией (А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8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о объектов, реализующих систему аксиом, называ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дел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ой схемы, которая определена аксио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остроена модель теории Т, то говорят, что построена интерпретация системы аксиом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 = {А1, А2, ..., Аm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 к системе акси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противореч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независ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полн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971640" y="4149720"/>
                <a:ext cx="669600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84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ксиоматик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е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сновные объек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точка, в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сновные отнош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ложение векторов, умножение вектора на число, скалярное умножение векторов, откладывание вектора от т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аксиоматики: 5 групп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: Аксиомы сложения вектор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: Аксиомы умножения ве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действительное числ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: Аксиомы размерност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: Аксиомы скаляр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едения вектор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: Аксиомы откладывания вектор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2736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"/>
              </a:rPr>
              <a:t>Следствия из аксиом Ве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468360" y="5516640"/>
            <a:ext cx="8136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едмет «Основания геометрии» относят к началу 19 в. До этого математики были единодушны относительно объектов математики ( числа, фигуры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5076720" y="3141720"/>
            <a:ext cx="3424320" cy="347652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240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ксиоматик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ильбер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объ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точка, прямая, плоскость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ринадлежать, лежать между, конгруэнтность (равенство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аксиоматики (5 групп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Аксиомы принадлежности (8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Аксиомы порядка (4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Аксиомы конгруэнтности (5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Аксиомы непрерывности (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Аксиома параллельност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273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екоторые следствия из аксиом аксиоматики Гильбе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Две прямые имеют не более одной общей то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Две различные плоскости либо не имеют совсем общих точек, либо имеют общую прямую, на которой лежат все общие точки этих двух плоск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Плоскость и не лежащая на ней пря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ют не более одной общей то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Геометрия Лобаче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Лобачевский  построил новую геометрию, откинув постулат Евклида, заменив его другим, прямо противоположным по смыслу: “Через точку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вне прямой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в плоскости, определяемой точкой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и прямой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проходит по крайней мере две прямые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не имеющие общей точки с прямой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умма углов тре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орема о сумме углов треугольника готовит первый “сюрприз”: в геометрии Лобачевского сумма углов любого треугольника меньше 180°. Разность между 180° и суммой углов треугольника положительна и называется дефектом (D) этого треугольника. Формула для площади треугольника S=k*D, то есть площадь связана с его дефектом. Самую большую площадь имеет треугольник с нулевыми углами, а его стороны имеют бесконечную дли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3961080" cy="28069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еометрии Лобачевск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неравных равносторонних треугольника имеют неравные уг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еометрии Лобачевского не существует подобных фигу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углы одного треугольника равны соответственно углам другого треугольника, то эти треугольники рав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ометрическое место точек, находящихся на данном расстоянии от данной прямой и лежащих по одну сторону есть кривая линия, которая называется эквидистан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можные расположения двух прямых на плоскости Лобачевск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 несовпадающие прямые либо пересекаются в одной точке, либо параллельны, либо являются расходящими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842472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следования Саккер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50560" y="458100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ипотезу тупого угла, допускающую существование четырехугольника, у которого четвертый угол ф тупой, Саккери отверг пр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омощи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строгого рассуждения. Однако доказать, что и гипотеза острого угла неверна, ни сам Саккери, ни его последователи не смогли. Неприступная "крепость" пятого постулата осталась непокор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3" name="" descr="Рисунок 3"/>
          <p:cNvPicPr/>
          <p:nvPr/>
        </p:nvPicPr>
        <p:blipFill>
          <a:blip r:embed="rId2"/>
          <a:stretch/>
        </p:blipFill>
        <p:spPr>
          <a:xfrm>
            <a:off x="250920" y="1268280"/>
            <a:ext cx="3203640" cy="30211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527280" y="692280"/>
            <a:ext cx="561672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тальянец Саккери рассматривал четырехугольник с тремя прямыми углами (рис. 3). Четвертый угол (обозначим его через ф) мог оказаться прямым, тупым или острым. Саккери установил, что гипотеза прямого угла, т.е. утверждение о том, что четвертый угол ф всегда равен 900, позволяет доказать пятый постулат. Иначе говоря, гипотеза прямого угла представляет собой новую аксиому, эквивалентную пятому посту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535280" cy="316728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961080" cy="31068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3241800" cy="338436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 txBox="1"/>
          <p:nvPr/>
        </p:nvSpPr>
        <p:spPr>
          <a:xfrm>
            <a:off x="1116000" y="189000"/>
            <a:ext cx="36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вые свед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 тыс. до н.э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ощадь треуголь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ощадь кру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470560" y="1557360"/>
            <a:ext cx="3673440" cy="21193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356000" y="3860640"/>
                <a:ext cx="316872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еометрия, как и другие науки, требовала исследования, последовательного постро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3008160" cy="3571920"/>
          </a:xfrm>
          <a:prstGeom prst="rect">
            <a:avLst/>
          </a:prstGeom>
          <a:ln w="9360">
            <a:solidFill>
              <a:srgbClr val="1b1810"/>
            </a:solidFill>
            <a:miter/>
          </a:ln>
        </p:spPr>
      </p:pic>
      <p:sp>
        <p:nvSpPr>
          <p:cNvPr id="793" name=""/>
          <p:cNvSpPr txBox="1"/>
          <p:nvPr/>
        </p:nvSpPr>
        <p:spPr>
          <a:xfrm>
            <a:off x="1403280" y="4508640"/>
            <a:ext cx="568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его "Начал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5076720" y="404640"/>
            <a:ext cx="42465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вклид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684360" y="47592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Именно в Александрии Евклид основывает математическую школу и пишет большой труд по геометрии, объединенный под общим названием «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чала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» — главный труд своей жизни. Полагают, что он был написан около 325 года до нашей э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Предшественники Евклида — Фалес, Пифагор, Аристотель и другие много сделали для развития геометрии. Но все это были отдельные фрагменты, а не единая логическая сх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3 КНИ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6 книга – основы плани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9 – арифметика в геометрическом из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книга – теория несоизмеримы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-13 – основы стер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6877080" y="3789360"/>
            <a:ext cx="21286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826560" y="2133720"/>
            <a:ext cx="770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Точка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, что не имеет част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Ли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есть длина без шири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есть такая линия, которая одинаково расположена по отношению ко всем своим точк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есть то, что имеет только длину и ширин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Некоторые основные опре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9:46:43Z</dcterms:created>
  <dc:creator>Nastya</dc:creator>
  <dc:description/>
  <dc:language>en-US</dc:language>
  <cp:lastModifiedBy>komp</cp:lastModifiedBy>
  <dcterms:modified xsi:type="dcterms:W3CDTF">2012-12-22T18:38:26Z</dcterms:modified>
  <cp:revision>7</cp:revision>
  <dc:subject/>
  <dc:title>Слайд 1</dc:title>
</cp:coreProperties>
</file>