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png" ContentType="image/png"/>
  <Override PartName="/ppt/media/image6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23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7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47F-AC9B-4331-A003-756DDDF7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CE4-99F4-48DC-A419-74A5DF1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B585-4A19-490E-ADA2-3E2B754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E8ACB-77BF-46EC-BD3B-103C785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93968-9860-4741-8047-82D5DFE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E9C89-317F-4E14-9195-7EC6F15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9CE90-C914-47DF-8846-C13633A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D403E-643E-46EC-83DB-AA38F90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075F9-2350-4FFF-9C71-35D51B0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AD778-F75F-482C-9D2A-01E73261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55BB5-1DAE-48F4-82EF-A868C809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98AC5-918B-4085-AFF1-3FEEA633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254-E688-4712-8777-E890F51E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AB515-58D7-49C9-9073-6CD3E208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6A64-903C-442D-82BF-C8FB8BC5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296A9-492B-4A82-B5C9-513D44F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7B8C0-285D-4FDE-B2FE-CA70D102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04D4A-FCF1-4D7A-9224-73BBD25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674688-8396-4D37-AC5A-D9E1FE1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E1D23-E7BC-4752-BCB5-D0A3999B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1CB76-2F43-4DFE-B0D7-55590D6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349C0-04BC-45E9-99DD-0BBC6F8A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C2EAC-0C02-465E-86CA-66C862A9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FC9-AF22-4C8A-885E-70BAC6FA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BB46F-CF8B-4928-9BDF-DAE143BD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2716D-2F6D-4537-BE36-88E67172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7362D-3631-4377-B708-F0F57A6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26E06-C7AA-463F-A7E3-0F2D206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BB62A-C687-4064-896C-73D55894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D4031-70EB-4956-A20E-A748540D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8691-A585-4E4D-957B-5D9ACFA0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875BB-D075-4741-96B7-0429D2F9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9C15E-A1DB-47F1-8FD8-84BC7F5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9AF9C-581B-40BB-9436-7636C1E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45C7A-971C-404C-8F5D-DEAA5949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CF732-0E86-4EE2-B08F-28FC3CAA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43ED8-47E9-4B00-BD93-677040A8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63D8B-CCD4-42CF-8B00-C1F356DE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5EC46-239C-4F87-94C2-6BA18495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05CD7-C694-48A2-A4E1-F840B4D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318D2-BB68-4469-9948-D052955C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60AD0-326A-4C90-BE1A-803E81CD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916DE-6CCF-447A-A683-3876013F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E1E42-E9CF-42AD-9256-0F3C39F4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68560-3663-428C-8F2A-DFD0050B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5F7B1-2693-48A6-BADC-07CF6B9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8B313-6B94-4B5F-A710-65C9EB58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954A0-AE4A-46AE-A089-5E87BB9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33B0B-9FAE-4F38-9BA3-FD41BA1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15A32-7303-4EC8-9546-BEBADCA6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0E55F-4F49-43EE-B045-2E26575D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0107C-70DA-44B0-905F-2634FBFB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465E3-ECEC-4AB9-8FBC-A9865CA8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9817D-1BCE-44E3-9E52-ECB93E57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6BFFE-9D8D-4C8B-9F01-1148740E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6982B-A3CA-4343-AFCB-C11C4A87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9706A-B20C-4507-987F-C7BD5B5F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87D3CD-3A74-4DD4-B785-1AF0CF5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DFA5D-2E96-4087-8B8C-A40C1504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9BF40-256B-4BCB-8D76-4CA68C0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8B63C-4F08-4E59-AFAA-99BBE188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E33E8-44E3-446C-9EB7-15ED6025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7A601-1A18-4BA1-82C1-AC27CAC7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E4897-7BDB-420B-A802-E6B2368E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F2B6C-EA20-41DB-B180-3505CBD4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D28BD-48C7-46F6-9F1B-F2C7413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D4B6-7415-46B3-824F-7CE40356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D61F0-C9C1-45C3-B8FB-A9B5E0F7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CF6-39F9-4374-8EDE-53A97C76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826E6-5044-4EBE-BFD4-07DF5F3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60E7F-B732-4A14-B5A7-55E29F6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A09A-5A52-49CD-8A9F-A3960F4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31A96-A3C5-4A81-870D-AB402BD4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011C3-455B-4057-834E-66CE22FF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41F3-0E38-452A-8900-85CBA9FE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D12E-7033-492B-BC64-5F28BB38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CB06-55ED-475E-9CB1-180477FD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4DD3-C730-4C34-88BD-5BFBA74F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D719-C638-4E79-A920-5A1E440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919-D83A-4F51-B338-5EC42931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9359-CC79-4CBB-A2B8-FA7BA1B9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764CC-7555-40A3-AC86-EC9ABF1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0150-56DF-49E6-B228-D7CFC09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5FDE-9AC9-4C81-802A-13628D7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B92E-3AC6-476A-A630-64909293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FE7F-3705-479F-AD3C-8F9A9437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67FA4-96C3-4D56-8F65-CC346DF6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6D8B-6239-457C-97FD-72C51A1F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B84E1-FD67-42A0-BEAA-A60A917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C4005-0654-4DD9-ABDF-2ABECB8B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BD0-37CB-4690-B0B0-5140403D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46E7-710B-43B2-B9E2-6EEEFB5B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9CD6-57A2-4248-AC79-7D70CF8C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F924-9F26-44FD-B962-7AF406C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0591B-2583-4FF0-B568-DE55BAA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D6C1-8651-425C-82A9-5FFA0EF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E40C-6F73-467D-ABD0-5E5700E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FC12-B24E-4658-8E31-91A8DD5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58EB-3F14-49DF-8A20-9093A9B9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C989-89A2-44DD-B825-6B7F92BF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5A9D6-40A2-4970-AB26-9E49B8CD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FE0-F50A-4285-9108-BE8C539C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91A18-08F0-45DD-BCD6-0D074785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61F8E-BCDE-4701-8FE5-6E1B6F73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E65C0-D8BD-4BEF-A3F3-3D244532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EB8DD-BD22-4B76-BFC4-C0002A8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9672B-B34C-42B1-A86E-13F3C636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B77B8-3BA7-4076-9C3B-BE04002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8D9E3-6851-45D8-BA51-B5C1F36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14998-0643-4C6D-859C-2BD3158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EB266-80ED-4ED1-81FE-165E695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5BD3F-61E7-460C-A562-68B4DDA0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8E8-843D-409C-A101-55B222BF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3C2C9-0B93-49BB-8664-13E13209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68BE0-B7DA-44AA-B388-002675B7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D07F-CFEF-46D6-9551-2F61465A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4F21-9A2B-4178-85D3-E7DEF513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9D781-6CA1-41A3-B48E-FFD8EE52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6B236-218E-4D04-BCAC-56BC5CA0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0323-157D-45A4-9EA8-981AC427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5084-8F69-4DB6-9E9C-5444342B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C728-EC90-4C21-A20B-4283ED3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B68B-17BD-4001-B642-3455C28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7EC-FF8E-40F3-8725-7D3598B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1E8F-9993-4CE4-AA57-C96F6E94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7A4BA-568F-4820-A8DF-B1721D1E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029F4-884A-458B-8905-89C4CB96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EFEE5-D688-497D-B7C8-46D28D48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2B5AE-D9A1-4BDD-82C0-D0B279E3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CF9C-621D-4169-ADF8-DA82B488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B4F8-4B86-4AB2-83C9-9E71C6E4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B109-D231-4134-BCB7-DCD8D70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557D-C98D-4A30-B27F-EF2E70E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164A2-F1A4-4FBF-8035-2601AEB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BB3-7F80-4582-88CC-FFBCBFC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05238-859B-4121-9F5F-D8A50DC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4928B-09FD-465A-97E9-903E5856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4503-81B8-4FD1-AA23-D9C7B07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4192-9C0E-4F4B-8F19-B669578B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EE3EB-352C-488E-898C-62E4FFEF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D355B-6608-48E2-841B-F103DB67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9E51-A9A0-4C89-9103-8BDA8C33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EF95-7841-4961-8743-375F53CA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2E1A-7C8F-49E4-A76E-74207DAB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29303-862E-4886-A537-B6EAD67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F79-85CC-4874-A66B-191E4B1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B0A3C-B7A0-44EE-B802-AF37342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0FE0C-661B-432F-B0B4-0F7954D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AE00-0126-4D71-A1FC-FDF8EE3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92B53-E4C6-40E8-8102-F537A670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AEC4-6014-4CF3-9809-212D0201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71E7-0A1D-4C68-B4D2-2348FB25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8422-03ED-4271-9F6C-3798BC20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83220-C411-479A-9E8E-1FC50FF4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4E899-FDE0-4EB1-9D3C-7A09A464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3418A-B4CA-481B-AB50-73457510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21.xml"/><Relationship Id="rId32" Type="http://schemas.openxmlformats.org/officeDocument/2006/relationships/slideLayout" Target="../slideLayouts/slideLayout122.xml"/><Relationship Id="rId33" Type="http://schemas.openxmlformats.org/officeDocument/2006/relationships/slideLayout" Target="../slideLayouts/slideLayout123.xml"/><Relationship Id="rId34" Type="http://schemas.openxmlformats.org/officeDocument/2006/relationships/slideLayout" Target="../slideLayouts/slideLayout124.xml"/><Relationship Id="rId35" Type="http://schemas.openxmlformats.org/officeDocument/2006/relationships/slideLayout" Target="../slideLayouts/slideLayout125.xml"/><Relationship Id="rId36" Type="http://schemas.openxmlformats.org/officeDocument/2006/relationships/slideLayout" Target="../slideLayouts/slideLayout126.xml"/><Relationship Id="rId37" Type="http://schemas.openxmlformats.org/officeDocument/2006/relationships/slideLayout" Target="../slideLayouts/slideLayout127.xml"/><Relationship Id="rId38" Type="http://schemas.openxmlformats.org/officeDocument/2006/relationships/slideLayout" Target="../slideLayouts/slideLayout128.xml"/><Relationship Id="rId39" Type="http://schemas.openxmlformats.org/officeDocument/2006/relationships/slideLayout" Target="../slideLayouts/slideLayout129.xml"/><Relationship Id="rId40" Type="http://schemas.openxmlformats.org/officeDocument/2006/relationships/slideLayout" Target="../slideLayouts/slideLayout130.xml"/><Relationship Id="rId41" Type="http://schemas.openxmlformats.org/officeDocument/2006/relationships/slideLayout" Target="../slideLayouts/slideLayout131.xml"/><Relationship Id="rId4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D52-FF33-4D5E-97BA-56A7E0BAE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86AA-979E-4788-A117-E64151C4E6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9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9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3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9D64-18FF-431A-98B4-4DA615B632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1"/>
    <p:sldLayoutId id="2147483780" r:id="rId32"/>
    <p:sldLayoutId id="2147483781" r:id="rId33"/>
    <p:sldLayoutId id="2147483782" r:id="rId34"/>
    <p:sldLayoutId id="2147483783" r:id="rId35"/>
    <p:sldLayoutId id="2147483784" r:id="rId36"/>
    <p:sldLayoutId id="2147483785" r:id="rId37"/>
    <p:sldLayoutId id="2147483786" r:id="rId38"/>
    <p:sldLayoutId id="2147483787" r:id="rId39"/>
    <p:sldLayoutId id="2147483788" r:id="rId40"/>
    <p:sldLayoutId id="2147483789" r:id="rId41"/>
    <p:sldLayoutId id="2147483790" r:id="rId4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8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10D8-80BD-4306-B198-D334928C16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3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F89B-E7A5-4EF4-9C09-E6A1AC50AD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227-945B-4CD6-BFAA-F999B236894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2E00-2806-4879-8BF0-A40F8BE93C1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9CC-D1DE-4E0B-80A7-3F1DB9C18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B6C-91B3-439F-A795-13DD8AE58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4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647-D215-4D0E-90E1-2AB48DE40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A4B9-060E-4606-A3B1-B4884EEC4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B7F2-7878-4F7C-BD69-570B84B743C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6C37-6E39-452F-8926-96ED6709AF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900000" y="26028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нов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03280" y="1916280"/>
            <a:ext cx="7201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еометр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 Равные порознь третьему, равны между соб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2. Если к равным прибавить равные, получим рав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3. Если от равных отнимем равные, то получим равны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059280" y="6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ксиомы…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стулаты Евкли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каждой точки ко всякой другой точке можно провести пряму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ую ограниченную прямую можно продолжить неопределён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любого центра можно описать окружность любого радиу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прямые углы рав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если прямая, падающая на две прямые, образует внутренние и по одну сторону углы, меньше двух прямых, то продолженные эти прямые неограниченно встретятся с той стороны, где углы меньше двух прям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 чем говорится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стулате Евкли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504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ли две прямы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образуют при пересечении с третьей прямой внутренние односторонние угл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сумма величин которых меньше двух прямых углов (т.е. меньше 180°; рис. 1), то эти две прямые обязательно пересекаются, причем именно с той стороны от третьей прямой, по которую расположены углы а и в (составляющие вместе менее 180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Рисунок 1"/>
          <p:cNvPicPr/>
          <p:nvPr/>
        </p:nvPicPr>
        <p:blipFill>
          <a:blip r:embed="rId1"/>
          <a:stretch/>
        </p:blipFill>
        <p:spPr>
          <a:xfrm>
            <a:off x="5435640" y="2205000"/>
            <a:ext cx="336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достатки "Начал"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Многие определения крайне туман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Формулировки  определений  включают  в  себя  понятия,  которые  сами  долж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ь определены ("длина", "ширина", "граница"..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и одно из определений, приведенных выше, не используется в доказательств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х-либо теор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042920" y="1773360"/>
            <a:ext cx="69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сиоматическая теория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дел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уть аксиоматического мет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числяются основные по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сновные объекты: t1, t2, …, t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отношения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улируются аксиомы, в которых сообщаются некоторые свойства осно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й, необходимые для построения те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окупность Т = {t1, …, tn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; A1, …, Am}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сиоматической те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ией (А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8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о объектов, реализующих систему аксиом, называю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дел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ой схемы, которая определена аксио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строена модель теории Т, то говорят, что построена интерпретация системы аксиом: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 = {А1, А2, ..., Аm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 к системе акси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не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полн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971640" y="4149720"/>
                <a:ext cx="66960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84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ксиоматик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е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ые объек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точка, в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сновные отнош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сложение векторов, умножение вектора на число, скалярное умножение векторов, откладывание вектора от то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аксиоматики: 5 групп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: Аксиомы сложения вект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: Аксиомы умножения в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действительное числ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: Аксиомы размерн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: Аксиомы скаляр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изведения вект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: Аксиомы откладывания вектор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273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"/>
              </a:rPr>
              <a:t>Следствия из аксиом Ве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468360" y="5516640"/>
            <a:ext cx="8136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едмет «Основания геометрии» относят к началу 19 в. До этого математики были единодушны относительно объектов математики ( числа, фигуры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424320" cy="347652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240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ксиоматик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ильбер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объек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точка, прямая, плоскость 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принадлежать, лежать между, конгруэнтность (равенство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аксиоматики (5 групп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Аксиомы принадлежности (8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Аксиомы порядка (4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Аксиомы конгруэнтности (5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 Аксиомы непрерывности (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. Аксиома параллельност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273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Некоторые следствия из аксиом аксиоматики Гильб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Две прямые имеют не более одной общей то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Две различные плоскости либо не имеют совсем общих точек, либо имеют общую прямую, на которой лежат все общие точки этих двух плоскос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Плоскость и не лежащая на ней пря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ют не более одной общей то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Геометрия Лобаче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Лобачевский  построил новую геометрию, откинув постулат Евклида, заменив его другим, прямо противоположным по смыслу: “Через точку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вне прям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в плоскости, определяемой точк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и прям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проходит по крайней мере две прямые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не имеющие общей точки с прямо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мма углов 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орема о сумме углов треугольника готовит первый “сюрприз”: в геометрии Лобачевского сумма углов любого треугольника меньше 180°. Разность между 180° и суммой углов треугольника положительна и называется дефектом (D) этого треугольника. Формула для площади треугольника S=k*D, то есть площадь связана с его дефектом. Самую большую площадь имеет треугольник с нулевыми углами, а его стороны имеют бесконечную дли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3961080" cy="2806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еометрии Лобачевск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неравных равносторонних треугольника имеют неравные уг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еометрии Лобачевского не существует подобных фигу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углы одного треугольника равны соответственно углам другого треугольника, то эти треугольники рав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метрическое место точек, находящихся на данном расстоянии от данной прямой и лежащих по одну сторону есть кривая линия, которая называется эквидистан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можные расположения двух прямых на плоскости Лобачевск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несовпадающие прямые либо пересекаются в одной точке, либо параллельны, либо являются расходящими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842472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следования Саккер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50560" y="458100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ипотезу тупого угла, допускающую существование четырехугольника, у которого четвертый угол ф тупой, Саккери отверг пр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омощи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строгого рассуждения. Однако доказать, что и гипотеза острого угла неверна, ни сам Саккери, ни его последователи не смогли. Неприступная "крепость" пятого постулата осталась непокор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3" name="" descr="Рисунок 3"/>
          <p:cNvPicPr/>
          <p:nvPr/>
        </p:nvPicPr>
        <p:blipFill>
          <a:blip r:embed="rId2"/>
          <a:stretch/>
        </p:blipFill>
        <p:spPr>
          <a:xfrm>
            <a:off x="250920" y="1268280"/>
            <a:ext cx="3203640" cy="30211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527280" y="692280"/>
            <a:ext cx="56167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тальянец Саккери рассматривал четырехугольник с тремя прямыми углами (рис. 3). Четвертый угол (обозначим его через ф) мог оказаться прямым, тупым или острым. Саккери установил, что гипотеза прямого угла, т.е. утверждение о том, что четвертый угол ф всегда равен 900, позволяет доказать пятый постулат. Иначе говоря, гипотеза прямого угла представляет собой новую аксиому, эквивалентную пятому постул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535280" cy="316728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3961080" cy="310680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3241800" cy="338436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250920" y="429264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16000" y="189000"/>
            <a:ext cx="36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вые свед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 тыс. до н.э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ощадь треуго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ощадь кр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470560" y="1557360"/>
            <a:ext cx="3673440" cy="21193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356000" y="3860640"/>
                <a:ext cx="3168720" cy="18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Геометрия, как и другие науки, требовала исследования, последовательного постро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3008160" cy="3571920"/>
          </a:xfrm>
          <a:prstGeom prst="rect">
            <a:avLst/>
          </a:prstGeom>
          <a:ln w="9360">
            <a:solidFill>
              <a:srgbClr val="1b1810"/>
            </a:solidFill>
            <a:miter/>
          </a:ln>
        </p:spPr>
      </p:pic>
      <p:sp>
        <p:nvSpPr>
          <p:cNvPr id="793" name=""/>
          <p:cNvSpPr txBox="1"/>
          <p:nvPr/>
        </p:nvSpPr>
        <p:spPr>
          <a:xfrm>
            <a:off x="1403280" y="4508640"/>
            <a:ext cx="568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его "Начал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076720" y="404640"/>
            <a:ext cx="42465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вклид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4360" y="47592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Именно в Александрии Евклид основывает математическую школу и пишет большой труд по геометрии, объединенный под общим названием «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чал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» — главный труд своей жизни. Полагают, что он был написан около 325 года до нашей э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Предшественники Евклида — Фалес, Пифагор, Аристотель и другие много сделали для развития геометрии. Но все это были отдельные фрагменты, а не единая логическая сх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3 КНИ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6 книга – основы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9 – арифметика в геометрическом из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книга – теория несоизмеримы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-13 – основы стер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6877080" y="3789360"/>
            <a:ext cx="21286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26560" y="2133720"/>
            <a:ext cx="7705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Точка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, что не имеет част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Ли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есть длина без шири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ряма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есть такая линия, которая одинаково расположена по отношению ко всем своим точк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Поверх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есть то, что имеет только длину и ширин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екоторые основные 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9:46:43Z</dcterms:created>
  <dc:creator>Nastya</dc:creator>
  <dc:description/>
  <dc:language>en-US</dc:language>
  <cp:lastModifiedBy>komp</cp:lastModifiedBy>
  <dcterms:modified xsi:type="dcterms:W3CDTF">2012-12-22T18:38:26Z</dcterms:modified>
  <cp:revision>7</cp:revision>
  <dc:subject/>
  <dc:title>Слайд 1</dc:title>
</cp:coreProperties>
</file>