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B78-E391-4AF7-B4D9-8F112C10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CEC-33AF-4CB5-916C-740CF862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4C3-CC09-414E-B7D2-EFCC5F8B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B5B-E143-4BF4-92C4-22E5B1C3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C248-DCBD-4A04-82E7-E5CA1261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2A93-F1A0-4D26-925D-44712E4F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76CF-580F-4C4C-B595-B9DF2E9E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0689-5E7C-45A7-8275-037A00E6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CEDA-AA09-4912-B45B-2D98EC08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7A29-DD3D-427F-A923-29E7611C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AFFC-AE19-4862-8F5C-65067EBE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96D-F715-45F6-B880-95E91D42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6C20-E7D6-49AE-9871-C920DD1D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D84A-2031-43EE-BF71-AD3F9D71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DF44-AA8B-4A30-94B8-C261FACD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9015-C39D-43AA-9DFD-A09F04AD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11E3-315D-4A0D-9508-5C581209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AF391-38C9-44AF-8FB0-44D8BF25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DB5EB-F0D2-43B9-8490-82DFEA47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B5E22-D024-483C-800B-7426F8D5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29A6D-4E5D-4CDA-B85C-97FAA81B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A9627-F214-447B-B549-6BC3B345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C41-C4E1-4489-AAA3-59A25BF0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9DDCA-6C8B-43CA-90A6-7AF21153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E97B9-75D6-4B46-A737-ACCE1D51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E5F66-FEB3-4EF1-B693-F96407C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0B6B7-FCCD-4A8A-BDD3-93728F24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6C0B1-035B-4A63-9D10-DC598749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93707-4418-479A-9F7D-E9967ACC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82AC2-3902-435D-A29B-B9F2B1AB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AC0EC-5CE2-40BE-B918-CEC2A815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4F6A-2A3E-4BB1-94A7-8F407C3D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55D46-A611-46D9-8AC2-4ACA8C09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BA0-ED21-46CF-B390-6B859B5E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86D28-6C7C-4D94-A1D4-7CBB20D7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13AC-84AC-4A99-9D2B-C977C05B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CE45-D1E2-44E7-8A80-29675BA6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A902-8353-4035-9D25-52D05341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91403-FC35-4B22-AA99-038B9384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E463B-3848-4C45-933B-09EC7677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D044-027A-4546-9423-E1E65896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4F8A-A379-4433-AA06-20FE46E6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9939-04E2-41D4-BE1D-8C334A50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89620-35B1-45F7-93CB-016339F8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04F-7A64-4CED-9D99-DB206770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8C73-6A91-4587-9017-A96FE47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7243-C5BB-4666-AF81-88828785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C20FB-4AD4-4894-B355-3B274B35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EBA89-3F8B-429F-9C7B-ACE356CD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1F4ED-0F67-4DA6-8E1A-34B3C742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1EC31-9789-4FD4-9132-B4E5EEAF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7BAD6-5372-47BB-BC31-96FC2C4F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61659-0C70-4A96-9302-9236183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A12B8-8E55-4978-BDD5-5A63E77F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D95DB-367C-4641-8D8E-3F88D4EC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E01-E8E9-4BD7-81AB-BD6B77D2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2E06-BF8E-4114-A562-4C8F0507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FB03-282B-42BD-BF64-191A31B1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4A68-0D06-4E0E-A9B4-F2CEC11B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4AA1B-B7CF-4232-87DF-C649928E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21447-9031-4D11-A7E7-87C99CD4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D0B59-1F7A-4B76-8624-2DDE54AB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E2151-CD69-4A1D-91E1-B7890CAD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AA05F-5475-41B3-9117-E702EBE9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87782-2D8D-4964-AB93-342BBC4D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ADDF9-928A-4AA1-914B-2CA5861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C63-28E8-49BB-AFAB-C6913CFB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A1274-B7ED-408D-9B8D-B0A67C74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B7409-D29A-43AA-B78E-89496BE0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1B9A5-0F7A-42D7-BCEA-CF8F9647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2C3-4FBE-4D3F-AAC2-9E295BD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EA8-70D5-4B82-8617-DDE999AD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FD71-4C31-47AF-8CE8-41C85282922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6BBB-1AAF-44BD-BBE1-C957E7107AC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B06A-4927-4C3D-899C-0C4BD969A3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FC0E-3EEF-4BA0-9582-8D059D13BA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A367-BA5D-4B87-B23A-DE8DBB8FC2D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8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9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3A5E-C7A7-4F75-A97D-BC175E50209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99640" y="692280"/>
            <a:ext cx="748836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ff0000"/>
                </a:solidFill>
                <a:latin typeface="Garamond"/>
              </a:rPr>
              <a:t>«</a:t>
            </a:r>
            <a:r>
              <a:rPr b="1" lang="uk-UA" sz="4100" spc="-1" strike="noStrike">
                <a:solidFill>
                  <a:srgbClr val="ff0000"/>
                </a:solidFill>
                <a:latin typeface="Arial"/>
              </a:rPr>
              <a:t>Фізіологія праці</a:t>
            </a:r>
            <a:r>
              <a:rPr b="1" lang="uk-UA" sz="4100" spc="-1" strike="noStrike">
                <a:solidFill>
                  <a:srgbClr val="ff0000"/>
                </a:solidFill>
                <a:latin typeface="Garamond"/>
              </a:rPr>
              <a:t>»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Garamond"/>
              </a:rPr>
              <a:t>Кафедра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4100" spc="-1" strike="noStrike">
                <a:solidFill>
                  <a:srgbClr val="ffffff"/>
                </a:solidFill>
                <a:latin typeface="Garamond"/>
              </a:rPr>
              <a:t>фізіології, імунології та біохімії з курсом цивільного захисту та медицини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Garamond"/>
              </a:rPr>
              <a:t>к.б.н., доцент Малько М.М.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92d050"/>
                </a:solidFill>
                <a:latin typeface="Arial"/>
              </a:rPr>
              <a:t>Мета</a:t>
            </a:r>
            <a:r>
              <a:rPr b="0" lang="uk-UA" sz="6100" spc="-1" strike="noStrike">
                <a:solidFill>
                  <a:srgbClr val="92d050"/>
                </a:solidFill>
                <a:latin typeface="Arial"/>
              </a:rPr>
              <a:t>:</a:t>
            </a:r>
            <a:endParaRPr b="0" lang="en-US" sz="61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надання студентам сучасного уявлення про механізми адаптації організму людини до виконання різних типів робіт, роль регуляторних систем при роботі та методи оцінки фізичної та розумової працездатності, а також засоби збереження працездатності організму при трудовій діяльності та основні види професійних захворювань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eaeaea"/>
                </a:solidFill>
                <a:latin typeface="Arial"/>
              </a:rPr>
              <a:t>Завдання</a:t>
            </a:r>
            <a:r>
              <a:rPr b="0" lang="uk-UA" sz="61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формування у студентів уявлень про принципи фізіологічної класифікації різних видів робіт; механізми формування навичок, роль нервової та ендокринної систем, особливості обміну білків, вуглеводів та жирів, функції вісцеральних органів та систем при роботі; динаміку функціональних станів при роботі та закономірності розвитку професійних захворювань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У результаті вивчення навчальної дисципліни студент повинен</a:t>
            </a:r>
            <a:r>
              <a:rPr b="1" lang="uk-UA" sz="36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uk-UA" sz="4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uk-UA" sz="2000" spc="-1" strike="noStrike">
                <a:solidFill>
                  <a:srgbClr val="00cc66"/>
                </a:solidFill>
                <a:latin typeface="Times New Roman"/>
              </a:rPr>
              <a:t>знати</a:t>
            </a:r>
            <a:r>
              <a:rPr b="1" lang="uk-UA" sz="20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0" lang="uk-UA" sz="2000" spc="-1" strike="noStrike">
                <a:solidFill>
                  <a:srgbClr val="eaeaea"/>
                </a:solidFill>
                <a:latin typeface="Times New Roman"/>
              </a:rPr>
              <a:t> специфіку впливу різних видів робіт на системи життєдіяльності, гомеостаз і здоров'я організму людини; методичні особливості оцінки фізичної підготовленості та розумової працездатності; фізіологічні основи профвідбору; засоби корекції станів зниженої працездатності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cc66"/>
                </a:solidFill>
                <a:latin typeface="Times New Roman"/>
              </a:rPr>
              <a:t>  </a:t>
            </a:r>
            <a:r>
              <a:rPr b="1" lang="uk-UA" sz="2000" spc="-1" strike="noStrike">
                <a:solidFill>
                  <a:srgbClr val="00cc66"/>
                </a:solidFill>
                <a:latin typeface="Times New Roman"/>
              </a:rPr>
              <a:t>вміти</a:t>
            </a:r>
            <a:r>
              <a:rPr b="1" lang="uk-UA" sz="20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0" lang="uk-UA" sz="2000" spc="-1" strike="noStrike">
                <a:solidFill>
                  <a:srgbClr val="eaeaea"/>
                </a:solidFill>
                <a:latin typeface="Times New Roman"/>
              </a:rPr>
              <a:t> адекватно використовувати термінологічний апарат для характеристики фізіологічних станів організму при роботі, визначати ознаки адаптованості організму людини до розумової та фізичної роботи; правильно аналізувати небезпеки щодо виникнення профзахворювань та пропонувати гігієнічні заходи щодо попередження їх розвитку, проводити професійний відбір за заданими властивостями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Utsaah"/>
              </a:rPr>
              <a:t>ТИПИ РОБО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8" name="" descr="Картинки по запросу мязова робота"/>
          <p:cNvPicPr/>
          <p:nvPr/>
        </p:nvPicPr>
        <p:blipFill>
          <a:blip r:embed="rId1"/>
          <a:stretch/>
        </p:blipFill>
        <p:spPr>
          <a:xfrm>
            <a:off x="250920" y="1773360"/>
            <a:ext cx="4033800" cy="27702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Картинки по запросу розумова робота"/>
          <p:cNvPicPr/>
          <p:nvPr/>
        </p:nvPicPr>
        <p:blipFill>
          <a:blip r:embed="rId2"/>
          <a:stretch/>
        </p:blipFill>
        <p:spPr>
          <a:xfrm>
            <a:off x="4645080" y="1773360"/>
            <a:ext cx="4174920" cy="2735280"/>
          </a:xfrm>
          <a:prstGeom prst="rect">
            <a:avLst/>
          </a:prstGeom>
          <a:ln w="0">
            <a:noFill/>
          </a:ln>
        </p:spPr>
      </p:pic>
      <p:sp>
        <p:nvSpPr>
          <p:cNvPr id="400" name="Заголовок 1"/>
          <p:cNvSpPr/>
          <p:nvPr/>
        </p:nvSpPr>
        <p:spPr>
          <a:xfrm>
            <a:off x="755640" y="4724280"/>
            <a:ext cx="295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Фізична робота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5003640" y="4724280"/>
            <a:ext cx="3311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Розумова робота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0:30:54Z</dcterms:created>
  <dc:creator>user</dc:creator>
  <dc:description/>
  <dc:language>en-US</dc:language>
  <cp:lastModifiedBy>Максим</cp:lastModifiedBy>
  <dcterms:modified xsi:type="dcterms:W3CDTF">2017-12-09T16:50:22Z</dcterms:modified>
  <cp:revision>8</cp:revision>
  <dc:subject/>
  <dc:title>Презентация PowerPoint</dc:title>
</cp:coreProperties>
</file>