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ED8-2F38-4463-A284-DA9777EB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5BF-EE4E-4B61-BA9D-3AD4ABBA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99F-3E06-4638-B266-D2B8FD76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25C8-A912-4752-8851-100760B8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C32-3303-4845-8A95-F732E54F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C34A-E1B9-4AB7-8495-D4EB871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8E3D-9CBE-4573-A7C8-164D726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B23-A192-4A57-8000-356795F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33A0-0C38-44B1-9CC2-E3361F3C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2C2A-30B5-4EC8-B15D-F139EFDE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E16F-EE56-4691-916F-302E38AA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C94-DD40-4ACF-8748-28E1BA6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F760-E766-442A-B997-2437B1F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5D63-3C6C-425F-A435-B0CB6F9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E21-2602-430C-892E-898F8C7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76F-78B2-46D7-870A-D4F40C8B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6B3B-9D5D-4947-885E-53FD9A92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D0459-0302-4602-912A-6E535E3C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52ADD-7F9F-43C3-B3A1-C18412E3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A49BC-9D7F-405D-B0D7-D92F6A6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F6C71-ED20-47CC-A8AB-A51F2E69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646D1-D336-4CD1-B84F-6B1D036E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964-A923-41AB-9277-8B0BB767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0EC5F-F331-44C7-BB77-3B64DE3B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E2AA9-10F3-4C8C-9D25-9DCA16D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C5938-0F26-4C66-845E-A8CCDA3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36F07-2CE5-450D-B37D-382C2CC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B759B-4AA8-4450-84D8-07097ACB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87FE7-E9F0-4643-AC52-F743CEE8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BEC41-F7B0-4CA3-824E-B08B4466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71D9-5880-45CB-9B17-E766199F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E975-A338-463F-963D-95FF85B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014F-4978-40F8-B917-A037A9EF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3D6-CB3A-41AC-A3BE-6E44B71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E7D3-7741-4770-B7B9-CB6E1BB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B11E-834C-4584-8359-F4209756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3DE7-61A7-4941-ACAC-553E6027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B0F1-1568-4D93-8E41-7C2130EB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6DB6-83A6-493A-9DDC-018D053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8830-E92E-4092-99DC-EDC4D1A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8C78B-4D57-4E1B-B9E8-19C1F3EA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305C-8AD2-4B3E-9829-CFFC589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C94E-BC78-41C6-84F0-980605F1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3CE1-A4FB-4247-B4D3-C51EEDAF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EF4-875F-49D6-8CFF-775DEBB7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C955-CC07-4D13-A2CB-7A7E8C32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03F9-4FE2-4704-8B00-2767ED35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DE2B-31B6-4DF3-A575-6894FE99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285A-77E8-4773-BEE9-A45B093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D04B-433E-4E4F-9516-20AAB4F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F7BF-02D3-4E92-95B2-D868C84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6687-FF2E-4D49-B1D0-F7D4339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04F5-6486-46B4-8B57-87E7C93E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4501-2559-4002-B680-9CB267ED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B11FD-6BB6-4593-A8FF-542F8D4C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2CC-EC5F-4805-B410-AEB364AB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3434-F365-4BC5-9B51-E66FDDCA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4D796-1362-49B9-A320-CDA6E673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9E18-9929-40A1-A78F-0089073A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D4056-F52F-43A9-B4E4-5540F536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4600E-97C2-4B11-B0E6-4E5138D6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145E-56A0-46DA-BB1E-C4A67FE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C740-4454-42C7-927D-143BC12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EBE0C-67F5-44C8-B7FC-707290A7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4B042-44E7-44AF-BBC1-118FDB6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4B7A-4CD7-488B-B6B2-3C21CA2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81D-8588-49E5-9BD4-AC61AA8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06947-FFB1-4D02-8B36-91DA704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56F6F-4E8A-4C0B-8EA7-53115D6A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6597-8D54-47F0-8891-AF8AE06A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6B1-C305-4ABC-BB7E-AB227455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F15-FD18-4E0D-B5D6-E3729DC9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5F5-D644-48E8-B9E8-A349681D954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4FF-0919-477F-ADA0-D6883C6C83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655-8FDB-48E9-92AF-43852AEDA2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03F-5FD5-4C38-A585-D2ED7EA42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BD9-C498-49E7-A367-9B93EE02381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8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683-4DA0-4B18-9CFE-A49131531C9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99640" y="692280"/>
            <a:ext cx="748836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ff0000"/>
                </a:solidFill>
                <a:latin typeface="Garamond"/>
              </a:rPr>
              <a:t>«</a:t>
            </a:r>
            <a:r>
              <a:rPr b="1" lang="uk-UA" sz="4100" spc="-1" strike="noStrike">
                <a:solidFill>
                  <a:srgbClr val="ff0000"/>
                </a:solidFill>
                <a:latin typeface="Arial"/>
              </a:rPr>
              <a:t>Фізіологія праці</a:t>
            </a:r>
            <a:r>
              <a:rPr b="1" lang="uk-UA" sz="4100" spc="-1" strike="noStrike">
                <a:solidFill>
                  <a:srgbClr val="ff0000"/>
                </a:solidFill>
                <a:latin typeface="Garamond"/>
              </a:rPr>
              <a:t>»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Кафедра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фізіології, імунології та біохімії з курсом цивільного захисту та медицини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Garamond"/>
              </a:rPr>
              <a:t>к.б.н., доцент Малько М.М.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92d050"/>
                </a:solidFill>
                <a:latin typeface="Arial"/>
              </a:rPr>
              <a:t>Мета</a:t>
            </a:r>
            <a:r>
              <a:rPr b="0" lang="uk-UA" sz="61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61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надання студентам сучасного уявлення про механізми адаптації організму людини до виконання різних типів робіт, роль регуляторних систем при роботі та методи оцінки фізичної та розумової працездатності, а також засоби збереження працездатності організму при трудовій діяльності та основні види професійних захворювань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eaeaea"/>
                </a:solidFill>
                <a:latin typeface="Arial"/>
              </a:rPr>
              <a:t>Завдання</a:t>
            </a:r>
            <a:r>
              <a:rPr b="0" lang="uk-UA" sz="61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6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формування у студентів уявлень про принципи фізіологічної класифікації різних видів робіт; механізми формування навичок, роль нервової та ендокринної систем, особливості обміну білків, вуглеводів та жирів, функції вісцеральних органів та систем при роботі; динаміку функціональних станів при роботі та закономірності розвитку професійних захворювань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У результаті вивчення навчальної дисципліни студент повинен</a:t>
            </a:r>
            <a:r>
              <a:rPr b="1" lang="uk-UA" sz="36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uk-UA" sz="4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знати</a:t>
            </a:r>
            <a:r>
              <a:rPr b="1" lang="uk-UA" sz="20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uk-UA" sz="2000" spc="-1" strike="noStrike">
                <a:solidFill>
                  <a:srgbClr val="eaeaea"/>
                </a:solidFill>
                <a:latin typeface="Times New Roman"/>
              </a:rPr>
              <a:t> специфіку впливу різних видів робіт на системи життєдіяльності, гомеостаз і здоров'я організму людини; методичні особливості оцінки фізичної підготовленості та розумової працездатності; фізіологічні основи профвідбору; засоби корекції станів зниженої працездатност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  </a:t>
            </a:r>
            <a:r>
              <a:rPr b="1" lang="uk-UA" sz="2000" spc="-1" strike="noStrike">
                <a:solidFill>
                  <a:srgbClr val="00cc66"/>
                </a:solidFill>
                <a:latin typeface="Times New Roman"/>
              </a:rPr>
              <a:t>вміти</a:t>
            </a:r>
            <a:r>
              <a:rPr b="1" lang="uk-UA" sz="20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uk-UA" sz="2000" spc="-1" strike="noStrike">
                <a:solidFill>
                  <a:srgbClr val="eaeaea"/>
                </a:solidFill>
                <a:latin typeface="Times New Roman"/>
              </a:rPr>
              <a:t> адекватно використовувати термінологічний апарат для характеристики фізіологічних станів організму при роботі, визначати ознаки адаптованості організму людини до розумової та фізичної роботи; правильно аналізувати небезпеки щодо виникнення профзахворювань та пропонувати гігієнічні заходи щодо попередження їх розвитку, проводити професійний відбір за заданими властивостями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Utsaah"/>
              </a:rPr>
              <a:t>ТИПИ РОБО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8" name="" descr="Картинки по запросу мязова робота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2770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Картинки по запросу розумова робота"/>
          <p:cNvPicPr/>
          <p:nvPr/>
        </p:nvPicPr>
        <p:blipFill>
          <a:blip r:embed="rId2"/>
          <a:stretch/>
        </p:blipFill>
        <p:spPr>
          <a:xfrm>
            <a:off x="4645080" y="1773360"/>
            <a:ext cx="4174920" cy="2735280"/>
          </a:xfrm>
          <a:prstGeom prst="rect">
            <a:avLst/>
          </a:prstGeom>
          <a:ln w="0">
            <a:noFill/>
          </a:ln>
        </p:spPr>
      </p:pic>
      <p:sp>
        <p:nvSpPr>
          <p:cNvPr id="400" name="Заголовок 1"/>
          <p:cNvSpPr/>
          <p:nvPr/>
        </p:nvSpPr>
        <p:spPr>
          <a:xfrm>
            <a:off x="755640" y="4724280"/>
            <a:ext cx="295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Фізична робо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1" name="Заголовок 1"/>
          <p:cNvSpPr/>
          <p:nvPr/>
        </p:nvSpPr>
        <p:spPr>
          <a:xfrm>
            <a:off x="5003640" y="4724280"/>
            <a:ext cx="331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Розумова робота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0:30:54Z</dcterms:created>
  <dc:creator>user</dc:creator>
  <dc:description/>
  <dc:language>en-US</dc:language>
  <cp:lastModifiedBy>Максим</cp:lastModifiedBy>
  <dcterms:modified xsi:type="dcterms:W3CDTF">2017-12-09T16:50:22Z</dcterms:modified>
  <cp:revision>8</cp:revision>
  <dc:subject/>
  <dc:title>Презентация PowerPoint</dc:title>
</cp:coreProperties>
</file>