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115-8B3D-4A1A-AD6A-51621152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3CC-A8D0-409F-BBAB-8E972197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E1B-7A16-4640-BA31-944D97C3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3C6-064E-4C8F-AF5B-13895A73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1B93-F043-4706-B784-9672F61C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3FCB-ADB3-407E-83A0-3905A0EB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D62A-F796-4899-8D52-0BD7CAF5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00B2-7924-4139-B9A1-5908A142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E6B0-33E5-43B7-95B3-2363B7B3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D6D7-A600-4EFD-B470-B26F5946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8233-F79B-42E3-8065-F0993CA3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642-3210-4BC5-9FB9-728E57D7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4B2E-0670-47B2-BDCA-2FD3DD8E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9F40-9D2C-47AC-B6A2-7D7318D7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8703-1461-462B-9EBD-443BCEA5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639B-8023-4C6C-BA38-712888E1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1C8A-60F3-458D-8162-95B23CB3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4FE-033B-41A6-AE3A-988E5B38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2DA-6243-40F9-A767-64FAACB0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82A-EE36-4E51-941F-9E3E46C2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C13-0EF2-4676-B140-61BD7ABB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DBA-01B0-44E2-B8AA-CC1E108A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73C-0EF3-4780-A828-1BD38EA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770-D124-4B9E-95A5-7F0C76A1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CBBC-95F5-48FE-BCD6-E33D620F15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478-4560-43D1-A778-4E91D4FFF6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0066"/>
                </a:solidFill>
                <a:latin typeface="Times New Roman"/>
              </a:rPr>
              <a:t>Мета та завдання навчального курсу</a:t>
            </a:r>
            <a:r>
              <a:rPr b="1" i="1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2200"/>
            </a:br>
            <a:r>
              <a:rPr b="1" i="1" lang="uk-UA" sz="2200" spc="-1" strike="noStrike">
                <a:solidFill>
                  <a:srgbClr val="ff0066"/>
                </a:solidFill>
                <a:latin typeface="Times New Roman"/>
              </a:rPr>
              <a:t>«Особливості розслідування комп'ютерних злочинів»</a:t>
            </a: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66ff"/>
                </a:solidFill>
                <a:latin typeface="Arial"/>
              </a:rPr>
              <a:t>Мета</a:t>
            </a:r>
            <a:r>
              <a:rPr b="0" i="1" lang="uk-UA" sz="22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0" i="1" lang="uk-UA" sz="2200" spc="-1" strike="noStrike">
                <a:solidFill>
                  <a:srgbClr val="ffffff"/>
                </a:solidFill>
                <a:latin typeface="Arial"/>
              </a:rPr>
              <a:t> засвоєння теоретичних та практичних знань щодо закономірності виникнення, збирання, дослідження, оцінювання і використання електронних доказів, а також придбання студентами знань, навичок та вмінь, пов'язаних з використанням інформаційних технологій, розслідування та попередження злочинів в сфері використання електронно-обчислювальних маши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66ff"/>
                </a:solidFill>
                <a:latin typeface="Arial"/>
              </a:rPr>
              <a:t>Завдання:</a:t>
            </a:r>
            <a:r>
              <a:rPr b="0" i="1" lang="uk-UA" sz="2200" spc="-1" strike="noStrike">
                <a:solidFill>
                  <a:srgbClr val="ffffff"/>
                </a:solidFill>
                <a:latin typeface="Arial"/>
              </a:rPr>
              <a:t> систематизоване засвоєння та закріплення теоретичних знань державного регулювання та протидії злочинності в глобальній інформаційній мережі Інтернет, набуття вміння застосовувати отримані знання при використанні сучасних інформаційних технологі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33cc"/>
                </a:solidFill>
                <a:latin typeface="Arial"/>
              </a:rPr>
              <a:t>В процесі вивчення курсу </a:t>
            </a:r>
            <a:br>
              <a:rPr sz="2200"/>
            </a:br>
            <a:r>
              <a:rPr b="1" i="1" lang="uk-UA" sz="2200" spc="-1" strike="noStrike">
                <a:solidFill>
                  <a:srgbClr val="ff33cc"/>
                </a:solidFill>
                <a:latin typeface="Arial"/>
              </a:rPr>
              <a:t>«Особливості розслідування комп'ютерних злочинів» студенти</a:t>
            </a:r>
            <a:r>
              <a:rPr b="1" i="1" lang="ru-RU" sz="2200" spc="-1" strike="noStrike">
                <a:solidFill>
                  <a:srgbClr val="ff33cc"/>
                </a:solidFill>
                <a:latin typeface="Arial"/>
              </a:rPr>
              <a:t> повинні знати та вміти:</a:t>
            </a:r>
            <a:endParaRPr b="1" lang="en-US" sz="2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007480" cy="42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99ff33"/>
                </a:solidFill>
                <a:latin typeface="Arial"/>
              </a:rPr>
              <a:t>Знати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особливості розслідування злочинів у сфері використання електронно-обчислювальних машин (комп'ютерів), систем та комп'ютерних мереж на початковому етапі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особливості розслідування злочинів у сфері використання електронно-обчислювальних машин (комп'ютерів), систем та комп'ютерних мереж і мереж електрозв'язку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обставини, які сприяють комп'ютерним злочинам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методи попередження злочинів у сфері використання електронно-обчислювальних машин (комп'ютерів), систем та комп'ютерних мереж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99ff33"/>
                </a:solidFill>
                <a:latin typeface="Arial"/>
              </a:rPr>
              <a:t>Вміти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застосовувати знання про основні засоби і заходи захисту інформації в автоматизованих системах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значати, які діяння є злочинними і з якими ознаками складу злочину (наука кримінального права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значати, які методи і засоби виявлення і дослідження електронних слідів, що проявляються при підготовці до злочину, його здійсненні і прихованні (криміналістика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користовувати порядок збирання, перевірки, оцінки доказів, процесуального провадження по кримінальних справах (наука кримінального процесу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значати обставини, що сприяли здійсненню злочинів і заходи для їхнього попередження (кримінологія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ff00"/>
                </a:solidFill>
                <a:latin typeface="Times New Roman"/>
              </a:rPr>
              <a:t>МІЖДИСЦИПЛІНАРНІ</a:t>
            </a:r>
            <a:r>
              <a:rPr b="0" lang="uk-UA" sz="3600" spc="-1" strike="noStrike">
                <a:solidFill>
                  <a:srgbClr val="00ff00"/>
                </a:solidFill>
                <a:latin typeface="Times New Roman"/>
              </a:rPr>
              <a:t> ЗВ’ЯЗ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Monotype Corsiva"/>
              </a:rPr>
              <a:t>«Особливості розслідування комп'ютерних злочинів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Monotype Corsiva"/>
              </a:rPr>
              <a:t>як навчальна дисципліна тісно пов'яза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Monotype Corsiva"/>
              </a:rPr>
              <a:t>і взаємодіє з іншими галузями права, видами державної діяльності, науками і навчальними дисциплінами, а са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з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онституційним пра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законодавством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про судоустрій, прокурорський нагляд і адвокату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римінальним пра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риміналістико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судовою психологіє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римінологіє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ЗМІСТ КУРСУ </a:t>
            </a:r>
            <a:br>
              <a:rPr sz="3200"/>
            </a:b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«Особливості розслідування комп'ютерних злочинів»</a:t>
            </a: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Модуль 1</a:t>
            </a: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Monotype Corsiva"/>
              </a:rPr>
              <a:t>Теоретичні і методологічні основи кваліфікації злочинів у сфері високих технологі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Модуль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озкриття та розслідування злочинів у сфері використання високих технологі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ff"/>
                </a:solidFill>
                <a:latin typeface="Arial Black"/>
              </a:rPr>
              <a:t>САМОСТИЙНА РОБОТА СТУДЕНТІВ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ffff66"/>
                </a:solidFill>
                <a:latin typeface="Arial"/>
              </a:rPr>
              <a:t>Зміст самостійної роботи з "Особливості розслідування комп’ютерних злочинів"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66"/>
                </a:solidFill>
                <a:latin typeface="Arial"/>
              </a:rPr>
              <a:t>складаю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тійне опрацювання теоретичних питань кур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ідготовка до семінарських та практичних занять, опрацювання першоджерел та навчальної літерату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писання реферат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Інші форми самостійної робо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66"/>
                </a:solidFill>
                <a:latin typeface="Arial"/>
              </a:rPr>
              <a:t>КРИТЕРІЇ ОЦІНЮВАННЯ ЗНАНЬ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99"/>
                </a:solidFill>
                <a:latin typeface="Arial"/>
              </a:rPr>
              <a:t>Оцінка "зараховано"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кваліфікується як здатність переносити знання попередніх рівнів на нестандартні завдання (застосувати у нестандартних ситуаціях) та виробляти нові знання (творчість). Студент відповідає грамотно, творче використовує додаткову літературу, самостійно одержує інформацію, опубліковану в періодичному виданні. Студент вміє аналізувати, порівнювати, узагальнювати, абстрагувати і конкретизувати, класифікувати і систематизувати матері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99"/>
                </a:solidFill>
                <a:latin typeface="Arial"/>
              </a:rPr>
              <a:t>Оцінка "незараховано"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відсутність належних суджень, знань властивостей і зв'язків. Кваліфікується як нездатність орієнтуватися у причинно-наслідкових та інших зв'язків і механізмах (алгоритмах) перебігу явищ (процесів) та невміння кваліфікувати предмет за суттєвими ознаками. Крім того студент не знає основних понять і тем навчального матеріал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uk-UA" sz="3200" spc="-1" strike="noStrike">
                <a:solidFill>
                  <a:srgbClr val="ff00ff"/>
                </a:solidFill>
                <a:latin typeface="Times New Roman"/>
              </a:rPr>
              <a:t>РОЗПОДІЛ БАЛІВ ЗА ВИДАМИ РОБОТИ</a:t>
            </a:r>
            <a:br>
              <a:rPr sz="3200"/>
            </a:br>
            <a:r>
              <a:rPr b="1" i="1" lang="uk-UA" sz="3200" spc="-1" strike="noStrike">
                <a:solidFill>
                  <a:srgbClr val="ff00ff"/>
                </a:solidFill>
                <a:latin typeface="Times New Roman"/>
              </a:rPr>
              <a:t>ТА ФОРМАМИ КОНТРОЛЮ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ідсумкова контрольна робота по модулю 1 - 30 балі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ідсумкова контрольна робота по модулю 2 - 30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Індивідуальна робота студентів -   20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Робота (активність) на семінарських заняттях - 8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рисутність на лекційних заняттях - 4 б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своєння матеріалу (позитивне) на семінарських заняттях - 8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00"/>
                </a:solidFill>
                <a:latin typeface="Arial"/>
              </a:rPr>
              <a:t>РАЗОМ</a:t>
            </a:r>
            <a:r>
              <a:rPr b="0" lang="uk-UA" sz="2800" spc="-1" strike="noStrike">
                <a:solidFill>
                  <a:srgbClr val="00ff00"/>
                </a:solidFill>
                <a:latin typeface="Arial"/>
              </a:rPr>
              <a:t>:                         </a:t>
            </a:r>
            <a:r>
              <a:rPr b="1" lang="uk-UA" sz="2800" spc="-1" strike="noStrike">
                <a:solidFill>
                  <a:srgbClr val="00ff00"/>
                </a:solidFill>
                <a:latin typeface="Arial"/>
              </a:rPr>
              <a:t>100 БАЛ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ff00"/>
                </a:solidFill>
                <a:latin typeface="Monotype Corsiva"/>
              </a:rPr>
              <a:t>РЕКОМЕНДОВАНА ЛІТЕРАТУР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Голубєва В.О., Гавловський В.Д., Цимбалюк В.С., Хараберюш І. Ф. “Проблеми боротьби зі злочинами у сфері використання комп’ютерних технологій” //Донецький юридичний інституту Луганського державного університету внутрішніх справ. – Донецьк: РВВ ЛДУВС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Шинкаренко І.Р. , Голубєв В.О., Карчевський М.В., Хараберюш І. Ф. Злочини в сфері використання комп'ютерної техніки: кваліфікація, розслідування та протидія. //Донецький юридичний інституту Луганського державного університету внутрішніх справ. – Донецьк: РВВ ЛДУВС, 20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 Противодействие компьютерной преступности на региональном уровне, II Международная научно-конференция «Безопасность и защита информации в информационных системах», (Харьков, 29-30 апреля 2009 г.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ybercrime New Threats in Cyber Space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, Международная конференция, 12-13 декабря 2007, г. Загреб, Республика Хорват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, “Конвенція по боротьбі з к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берзлочинн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стю,  як елемент правового механізму взаємодії правоохоронних органів з провайдерами у боротьбі з комп’ютерними злочинами”, Міжнародний науково-практичний семінар Донецьк: РВВ ЛДУВС, 12 грудня 2008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Снігерьов О.П., Голубєв В.О. До проблеми класифікації злочинів у сфері комп’ютерної інформації // Вісник Університету внутрішніх справ.— 2009.— №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Голубєв В.О. Захист банківських автоматизованих систем // Бізнес і безпека. —Київ.— 2000. —Вип.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 Противодействие компьютерной преступности на региональном уровне, II Международная научно-конференция «Безопасность и защита информации в информационных системах», (Харьков, 29-30 апреля 2009 г.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Голубев В.А. Безопасность компьютерных технологий и расследование компьютерных инцидентов  // Методическое пособие по проведению семинарских занятий. Астана.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 — 18-28 октября.—  20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8:27:38Z</dcterms:created>
  <dc:creator>Customer</dc:creator>
  <dc:description/>
  <dc:language>en-US</dc:language>
  <cp:lastModifiedBy>Customer</cp:lastModifiedBy>
  <dcterms:modified xsi:type="dcterms:W3CDTF">2012-01-18T09:40:38Z</dcterms:modified>
  <cp:revision>11</cp:revision>
  <dc:subject/>
  <dc:title>Мета та завдання навчального курсу «Особливості розслідування комп'ютерних злочинів» </dc:title>
</cp:coreProperties>
</file>