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602A-FF9D-4ED6-8D52-9F6AAFECD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B3B2-B8AF-4BD2-8394-0A855FAB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212B-6F07-4846-94CC-6FEB34AEC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FC61-EFAB-4AC5-BC7C-506B337E6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F4AC-4CF3-432B-B0B1-7C5D48525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3EED-0270-4B90-9FCA-DE596A01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A721-03F2-4A23-A45A-E8A0F2B7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A0C5-4F1E-4CA2-8B57-B21E3274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F441-A6B1-447D-8DE0-39F32A5C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0339-468B-48BA-9FA0-31835C10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F394-B526-4B13-85F4-9D299209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5237-F477-4145-A1D0-5795CC21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7A30-96BB-4B2A-9C69-DEF5DFAC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7EDE-9DD8-481C-9EE1-F235EAB2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79E7-0135-4250-B08B-963AB178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6196-E30F-420F-A90C-5269E81B7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1692-7E15-44D6-A8E8-4F0A859D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1B83-93A4-499E-B7F0-DF014C10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1964-DDEE-4AF3-9FC5-673AF289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E18B-3695-4981-AC38-6DECCC9C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3BC0-BC2F-4CC2-97A1-0672D4E4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F101-5139-4256-BE31-D59058C1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9F44-7085-4C2E-8CB9-527B69C4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4D55-DE7B-4172-9B20-D6C0AE91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2FA4-545D-444E-B92C-04405346AD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9A14-0B39-45A7-977C-090940B601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ff0066"/>
                </a:solidFill>
                <a:latin typeface="Times New Roman"/>
              </a:rPr>
              <a:t>Мета та завдання навчального курсу</a:t>
            </a:r>
            <a:r>
              <a:rPr b="1" i="1" lang="en-US" sz="2200" spc="-1" strike="noStrike">
                <a:solidFill>
                  <a:srgbClr val="ff0066"/>
                </a:solidFill>
                <a:latin typeface="Times New Roman"/>
              </a:rPr>
              <a:t> </a:t>
            </a:r>
            <a:br>
              <a:rPr sz="2200"/>
            </a:br>
            <a:r>
              <a:rPr b="1" i="1" lang="uk-UA" sz="2200" spc="-1" strike="noStrike">
                <a:solidFill>
                  <a:srgbClr val="ff0066"/>
                </a:solidFill>
                <a:latin typeface="Times New Roman"/>
              </a:rPr>
              <a:t>«Особливості розслідування комп'ютерних злочинів»</a:t>
            </a:r>
            <a:r>
              <a:rPr b="1" lang="uk-UA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3366ff"/>
                </a:solidFill>
                <a:latin typeface="Arial"/>
              </a:rPr>
              <a:t>Мета</a:t>
            </a:r>
            <a:r>
              <a:rPr b="0" i="1" lang="uk-UA" sz="2200" spc="-1" strike="noStrike">
                <a:solidFill>
                  <a:srgbClr val="3366ff"/>
                </a:solidFill>
                <a:latin typeface="Arial"/>
              </a:rPr>
              <a:t>:</a:t>
            </a:r>
            <a:r>
              <a:rPr b="0" i="1" lang="uk-UA" sz="2200" spc="-1" strike="noStrike">
                <a:solidFill>
                  <a:srgbClr val="ffffff"/>
                </a:solidFill>
                <a:latin typeface="Arial"/>
              </a:rPr>
              <a:t> засвоєння теоретичних та практичних знань щодо закономірності виникнення, збирання, дослідження, оцінювання і використання електронних доказів, а також придбання студентами знань, навичок та вмінь, пов'язаних з використанням інформаційних технологій, розслідування та попередження злочинів в сфері використання електронно-обчислювальних машин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3366ff"/>
                </a:solidFill>
                <a:latin typeface="Arial"/>
              </a:rPr>
              <a:t>Завдання:</a:t>
            </a:r>
            <a:r>
              <a:rPr b="0" i="1" lang="uk-UA" sz="2200" spc="-1" strike="noStrike">
                <a:solidFill>
                  <a:srgbClr val="ffffff"/>
                </a:solidFill>
                <a:latin typeface="Arial"/>
              </a:rPr>
              <a:t> систематизоване засвоєння та закріплення теоретичних знань державного регулювання та протидії злочинності в глобальній інформаційній мережі Інтернет, набуття вміння застосовувати отримані знання при використанні сучасних інформаційних технологі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ff33cc"/>
                </a:solidFill>
                <a:latin typeface="Arial"/>
              </a:rPr>
              <a:t>В процесі вивчення курсу </a:t>
            </a:r>
            <a:br>
              <a:rPr sz="2200"/>
            </a:br>
            <a:r>
              <a:rPr b="1" i="1" lang="uk-UA" sz="2200" spc="-1" strike="noStrike">
                <a:solidFill>
                  <a:srgbClr val="ff33cc"/>
                </a:solidFill>
                <a:latin typeface="Arial"/>
              </a:rPr>
              <a:t>«Особливості розслідування комп'ютерних злочинів» студенти</a:t>
            </a:r>
            <a:r>
              <a:rPr b="1" i="1" lang="ru-RU" sz="2200" spc="-1" strike="noStrike">
                <a:solidFill>
                  <a:srgbClr val="ff33cc"/>
                </a:solidFill>
                <a:latin typeface="Arial"/>
              </a:rPr>
              <a:t> повинні знати та вміти:</a:t>
            </a:r>
            <a:endParaRPr b="1" lang="en-US" sz="2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8007480" cy="42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1500" spc="-1" strike="noStrike">
                <a:solidFill>
                  <a:srgbClr val="99ff33"/>
                </a:solidFill>
                <a:latin typeface="Arial"/>
              </a:rPr>
              <a:t>Знати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ffffff"/>
                </a:solidFill>
                <a:latin typeface="Arial"/>
              </a:rPr>
              <a:t>особливості розслідування злочинів у сфері використання електронно-обчислювальних машин (комп'ютерів), систем та комп'ютерних мереж на початковому етапі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ffffff"/>
                </a:solidFill>
                <a:latin typeface="Arial"/>
              </a:rPr>
              <a:t>особливості розслідування злочинів у сфері використання електронно-обчислювальних машин (комп'ютерів), систем та комп'ютерних мереж і мереж електрозв'язку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ffffff"/>
                </a:solidFill>
                <a:latin typeface="Arial"/>
              </a:rPr>
              <a:t>обставини, які сприяють комп'ютерним злочинам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ffffff"/>
                </a:solidFill>
                <a:latin typeface="Arial"/>
              </a:rPr>
              <a:t>методи попередження злочинів у сфері використання електронно-обчислювальних машин (комп'ютерів), систем та комп'ютерних мереж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1500" spc="-1" strike="noStrike">
                <a:solidFill>
                  <a:srgbClr val="99ff33"/>
                </a:solidFill>
                <a:latin typeface="Arial"/>
              </a:rPr>
              <a:t>Вміти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ffffff"/>
                </a:solidFill>
                <a:latin typeface="Arial"/>
              </a:rPr>
              <a:t>застосовувати знання про основні засоби і заходи захисту інформації в автоматизованих системах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ffffff"/>
                </a:solidFill>
                <a:latin typeface="Arial"/>
              </a:rPr>
              <a:t>визначати, які діяння є злочинними і з якими ознаками складу злочину (наука кримінального права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ffffff"/>
                </a:solidFill>
                <a:latin typeface="Arial"/>
              </a:rPr>
              <a:t>визначати, які методи і засоби виявлення і дослідження електронних слідів, що проявляються при підготовці до злочину, його здійсненні і прихованні (криміналістика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ffffff"/>
                </a:solidFill>
                <a:latin typeface="Arial"/>
              </a:rPr>
              <a:t>використовувати порядок збирання, перевірки, оцінки доказів, процесуального провадження по кримінальних справах (наука кримінального процесу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ffffff"/>
                </a:solidFill>
                <a:latin typeface="Arial"/>
              </a:rPr>
              <a:t>визначати обставини, що сприяли здійсненню злочинів і заходи для їхнього попередження (кримінологія)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ff00"/>
                </a:solidFill>
                <a:latin typeface="Times New Roman"/>
              </a:rPr>
              <a:t>МІЖДИСЦИПЛІНАРНІ</a:t>
            </a:r>
            <a:r>
              <a:rPr b="0" lang="uk-UA" sz="3600" spc="-1" strike="noStrike">
                <a:solidFill>
                  <a:srgbClr val="00ff00"/>
                </a:solidFill>
                <a:latin typeface="Times New Roman"/>
              </a:rPr>
              <a:t> ЗВ’ЯЗК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33cc"/>
                </a:solidFill>
                <a:latin typeface="Monotype Corsiva"/>
              </a:rPr>
              <a:t>«Особливості розслідування комп'ютерних злочинів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33cc"/>
                </a:solidFill>
                <a:latin typeface="Monotype Corsiva"/>
              </a:rPr>
              <a:t>як навчальна дисципліна тісно пов'яза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33cc"/>
                </a:solidFill>
                <a:latin typeface="Monotype Corsiva"/>
              </a:rPr>
              <a:t>і взаємодіє з іншими галузями права, видами державної діяльності, науками і навчальними дисциплінами, а сам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ff00"/>
                </a:solidFill>
                <a:latin typeface="Georgia"/>
              </a:rPr>
              <a:t>з </a:t>
            </a:r>
            <a:r>
              <a:rPr b="1" i="1" lang="uk-UA" sz="2000" spc="-1" strike="noStrike">
                <a:solidFill>
                  <a:srgbClr val="00ff00"/>
                </a:solidFill>
                <a:latin typeface="Georgia"/>
              </a:rPr>
              <a:t>конституційним право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Georgia"/>
              </a:rPr>
              <a:t> </a:t>
            </a:r>
            <a:r>
              <a:rPr b="1" lang="uk-UA" sz="2000" spc="-1" strike="noStrike">
                <a:solidFill>
                  <a:srgbClr val="00ff00"/>
                </a:solidFill>
                <a:latin typeface="Georgia"/>
              </a:rPr>
              <a:t> </a:t>
            </a:r>
            <a:r>
              <a:rPr b="1" lang="uk-UA" sz="2000" spc="-1" strike="noStrike">
                <a:solidFill>
                  <a:srgbClr val="00ff00"/>
                </a:solidFill>
                <a:latin typeface="Georgia"/>
              </a:rPr>
              <a:t>законодавством </a:t>
            </a:r>
            <a:r>
              <a:rPr b="1" i="1" lang="uk-UA" sz="2000" spc="-1" strike="noStrike">
                <a:solidFill>
                  <a:srgbClr val="00ff00"/>
                </a:solidFill>
                <a:latin typeface="Georgia"/>
              </a:rPr>
              <a:t>про судоустрій, прокурорський нагляд і адвокатур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ff00"/>
                </a:solidFill>
                <a:latin typeface="Georgia"/>
              </a:rPr>
              <a:t> </a:t>
            </a:r>
            <a:r>
              <a:rPr b="1" i="1" lang="uk-UA" sz="2000" spc="-1" strike="noStrike">
                <a:solidFill>
                  <a:srgbClr val="00ff00"/>
                </a:solidFill>
                <a:latin typeface="Georgia"/>
              </a:rPr>
              <a:t>кримінальним право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Georgia"/>
              </a:rPr>
              <a:t> </a:t>
            </a:r>
            <a:r>
              <a:rPr b="1" i="1" lang="uk-UA" sz="2000" spc="-1" strike="noStrike">
                <a:solidFill>
                  <a:srgbClr val="00ff00"/>
                </a:solidFill>
                <a:latin typeface="Georgia"/>
              </a:rPr>
              <a:t>криміналістико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ff00"/>
                </a:solidFill>
                <a:latin typeface="Georgia"/>
              </a:rPr>
              <a:t>судовою психологіє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ff00"/>
                </a:solidFill>
                <a:latin typeface="Georgia"/>
              </a:rPr>
              <a:t> </a:t>
            </a:r>
            <a:r>
              <a:rPr b="1" i="1" lang="uk-UA" sz="2000" spc="-1" strike="noStrike">
                <a:solidFill>
                  <a:srgbClr val="00ff00"/>
                </a:solidFill>
                <a:latin typeface="Georgia"/>
              </a:rPr>
              <a:t>кримінологіє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366ff"/>
                </a:solidFill>
                <a:latin typeface="Arial"/>
              </a:rPr>
              <a:t>ЗМІСТ КУРСУ </a:t>
            </a:r>
            <a:br>
              <a:rPr sz="3200"/>
            </a:br>
            <a:r>
              <a:rPr b="1" i="1" lang="uk-UA" sz="3200" spc="-1" strike="noStrike">
                <a:solidFill>
                  <a:srgbClr val="3366ff"/>
                </a:solidFill>
                <a:latin typeface="Arial"/>
              </a:rPr>
              <a:t>«Особливості розслідування комп'ютерних злочинів»</a:t>
            </a:r>
            <a:r>
              <a:rPr b="1" lang="uk-UA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66"/>
                </a:solidFill>
                <a:latin typeface="Arial"/>
              </a:rPr>
              <a:t>Модуль 1</a:t>
            </a:r>
            <a:r>
              <a:rPr b="0" lang="uk-UA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Monotype Corsiva"/>
              </a:rPr>
              <a:t>Теоретичні і методологічні основи кваліфікації злочинів у сфері високих технологі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66"/>
                </a:solidFill>
                <a:latin typeface="Arial"/>
              </a:rPr>
              <a:t>Модуль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Розкриття та розслідування злочинів у сфері використання високих технологі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ff"/>
                </a:solidFill>
                <a:latin typeface="Arial Black"/>
              </a:rPr>
              <a:t>САМОСТИЙНА РОБОТА СТУДЕНТІВ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3200" spc="-1" strike="noStrike">
                <a:solidFill>
                  <a:srgbClr val="ffff66"/>
                </a:solidFill>
                <a:latin typeface="Arial"/>
              </a:rPr>
              <a:t>Зміст самостійної роботи з "Особливості розслідування комп’ютерних злочинів"</a:t>
            </a: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ffff66"/>
                </a:solidFill>
                <a:latin typeface="Arial"/>
              </a:rPr>
              <a:t>складают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амостійне опрацювання теоретичних питань курс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ідготовка до семінарських та практичних занять, опрацювання першоджерел та навчальної літератур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писання рефераті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Інші форми самостійної робо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ff66"/>
                </a:solidFill>
                <a:latin typeface="Arial"/>
              </a:rPr>
              <a:t>КРИТЕРІЇ ОЦІНЮВАННЯ ЗНАНЬ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0099"/>
                </a:solidFill>
                <a:latin typeface="Arial"/>
              </a:rPr>
              <a:t>Оцінка "зараховано"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– кваліфікується як здатність переносити знання попередніх рівнів на нестандартні завдання (застосувати у нестандартних ситуаціях) та виробляти нові знання (творчість). Студент відповідає грамотно, творче використовує додаткову літературу, самостійно одержує інформацію, опубліковану в періодичному виданні. Студент вміє аналізувати, порівнювати, узагальнювати, абстрагувати і конкретизувати, класифікувати і систематизувати матеріа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0099"/>
                </a:solidFill>
                <a:latin typeface="Arial"/>
              </a:rPr>
              <a:t>Оцінка "незараховано"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– відсутність належних суджень, знань властивостей і зв'язків. Кваліфікується як нездатність орієнтуватися у причинно-наслідкових та інших зв'язків і механізмах (алгоритмах) перебігу явищ (процесів) та невміння кваліфікувати предмет за суттєвими ознаками. Крім того студент не знає основних понять і тем навчального матеріал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uk-UA" sz="3200" spc="-1" strike="noStrike">
                <a:solidFill>
                  <a:srgbClr val="ff00ff"/>
                </a:solidFill>
                <a:latin typeface="Times New Roman"/>
              </a:rPr>
              <a:t>РОЗПОДІЛ БАЛІВ ЗА ВИДАМИ РОБОТИ</a:t>
            </a:r>
            <a:br>
              <a:rPr sz="3200"/>
            </a:br>
            <a:r>
              <a:rPr b="1" i="1" lang="uk-UA" sz="3200" spc="-1" strike="noStrike">
                <a:solidFill>
                  <a:srgbClr val="ff00ff"/>
                </a:solidFill>
                <a:latin typeface="Times New Roman"/>
              </a:rPr>
              <a:t>ТА ФОРМАМИ КОНТРОЛЮ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Підсумкова контрольна робота по модулю 1 - 30 балів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Підсумкова контрольна робота по модулю 2 - 30 балі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Індивідуальна робота студентів -   20 балі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Робота (активність) на семінарських заняттях - 8 балі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Присутність на лекційних заняттях - 4 ба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Засвоєння матеріалу (позитивне) на семінарських заняттях - 8 балі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ff00"/>
                </a:solidFill>
                <a:latin typeface="Arial"/>
              </a:rPr>
              <a:t>РАЗОМ</a:t>
            </a:r>
            <a:r>
              <a:rPr b="0" lang="uk-UA" sz="2800" spc="-1" strike="noStrike">
                <a:solidFill>
                  <a:srgbClr val="00ff00"/>
                </a:solidFill>
                <a:latin typeface="Arial"/>
              </a:rPr>
              <a:t>:                         </a:t>
            </a:r>
            <a:r>
              <a:rPr b="1" lang="uk-UA" sz="2800" spc="-1" strike="noStrike">
                <a:solidFill>
                  <a:srgbClr val="00ff00"/>
                </a:solidFill>
                <a:latin typeface="Arial"/>
              </a:rPr>
              <a:t>100 БАЛІ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ff00"/>
                </a:solidFill>
                <a:latin typeface="Monotype Corsiva"/>
              </a:rPr>
              <a:t>РЕКОМЕНДОВАНА ЛІТЕРАТУР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ffffff"/>
                </a:solidFill>
                <a:latin typeface="Arial"/>
              </a:rPr>
              <a:t>Голубєва В.О., Гавловський В.Д., Цимбалюк В.С., Хараберюш І. Ф. “Проблеми боротьби зі злочинами у сфері використання комп’ютерних технологій” //Донецький юридичний інституту Луганського державного університету внутрішніх справ. – Донецьк: РВВ ЛДУВС,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ffffff"/>
                </a:solidFill>
                <a:latin typeface="Arial"/>
              </a:rPr>
              <a:t>Шинкаренко І.Р. , Голубєв В.О., Карчевський М.В., Хараберюш І. Ф. Злочини в сфері використання комп'ютерної техніки: кваліфікація, розслідування та протидія. //Донецький юридичний інституту Луганського державного університету внутрішніх справ. – Донецьк: РВВ ЛДУВС, 200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ffffff"/>
                </a:solidFill>
                <a:latin typeface="Arial"/>
              </a:rPr>
              <a:t>Владимир Голубев Противодействие компьютерной преступности на региональном уровне, II Международная научно-конференция «Безопасность и защита информации в информационных системах», (Харьков, 29-30 апреля 2009 г.)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ffffff"/>
                </a:solidFill>
                <a:latin typeface="Arial"/>
              </a:rPr>
              <a:t>Владимир Голубев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ybercrime New Threats in Cyber Space</a:t>
            </a:r>
            <a:r>
              <a:rPr b="0" i="1" lang="uk-UA" sz="1200" spc="-1" strike="noStrike">
                <a:solidFill>
                  <a:srgbClr val="ffffff"/>
                </a:solidFill>
                <a:latin typeface="Arial"/>
              </a:rPr>
              <a:t>, Международная конференция, 12-13 декабря 2007, г. Загреб, Республика Хорват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ffffff"/>
                </a:solidFill>
                <a:latin typeface="Arial"/>
              </a:rPr>
              <a:t>Владимир Голубев, “Конвенція по боротьбі з к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i="1" lang="uk-UA" sz="1200" spc="-1" strike="noStrike">
                <a:solidFill>
                  <a:srgbClr val="ffffff"/>
                </a:solidFill>
                <a:latin typeface="Arial"/>
              </a:rPr>
              <a:t>берзлочинн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i="1" lang="uk-UA" sz="1200" spc="-1" strike="noStrike">
                <a:solidFill>
                  <a:srgbClr val="ffffff"/>
                </a:solidFill>
                <a:latin typeface="Arial"/>
              </a:rPr>
              <a:t>стю,  як елемент правового механізму взаємодії правоохоронних органів з провайдерами у боротьбі з комп’ютерними злочинами”, Міжнародний науково-практичний семінар Донецьк: РВВ ЛДУВС, 12 грудня 2008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ffffff"/>
                </a:solidFill>
                <a:latin typeface="Arial"/>
              </a:rPr>
              <a:t>Снігерьов О.П., Голубєв В.О. До проблеми класифікації злочинів у сфері комп’ютерної інформації // Вісник Університету внутрішніх справ.— 2009.— №5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ffffff"/>
                </a:solidFill>
                <a:latin typeface="Arial"/>
              </a:rPr>
              <a:t>Голубєв В.О. Захист банківських автоматизованих систем // Бізнес і безпека. —Київ.— 2000. —Вип.1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ffffff"/>
                </a:solidFill>
                <a:latin typeface="Arial"/>
              </a:rPr>
              <a:t>Владимир Голубев Противодействие компьютерной преступности на региональном уровне, II Международная научно-конференция «Безопасность и защита информации в информационных системах», (Харьков, 29-30 апреля 2009 г.)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Голубев В.А. Безопасность компьютерных технологий и расследование компьютерных инцидентов  // Методическое пособие по проведению семинарских занятий. Астана.</a:t>
            </a:r>
            <a:r>
              <a:rPr b="0" i="1" lang="uk-UA" sz="1200" spc="-1" strike="noStrike">
                <a:solidFill>
                  <a:srgbClr val="ffffff"/>
                </a:solidFill>
                <a:latin typeface="Arial"/>
              </a:rPr>
              <a:t> — 18-28 октября.—  2011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08:27:38Z</dcterms:created>
  <dc:creator>Customer</dc:creator>
  <dc:description/>
  <dc:language>en-US</dc:language>
  <cp:lastModifiedBy>Customer</cp:lastModifiedBy>
  <dcterms:modified xsi:type="dcterms:W3CDTF">2012-01-18T09:40:38Z</dcterms:modified>
  <cp:revision>11</cp:revision>
  <dc:subject/>
  <dc:title>Мета та завдання навчального курсу «Особливості розслідування комп'ютерних злочинів» </dc:title>
</cp:coreProperties>
</file>