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DBB-43E6-42D0-A21A-EC677EA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C04-B68F-4D02-A0C4-C8A8132E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976-B553-4F3E-9C4D-DD1C3E0B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12C-744F-46F2-B1E7-B556BA00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4924-0D78-4E1F-B5F9-470A9B2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DC5-07FB-42A5-A75A-FE24DB6E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B743-DD80-4993-A940-B146F7A6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6D86-4F4B-4B90-8722-286E1A09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6A8B-C4D2-4369-91E1-2049C11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2EC8-E909-4DB1-9DD5-C99D9EB2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2FF3-38AC-40E6-9194-A6A062A8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FBD-4219-4F96-A118-3135DA9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A0C4-7FFF-4311-AFBF-BE862E2D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8BE2-1D61-4398-9909-9886F04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39B-B6B2-4DBB-90A7-81243E27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4116-3018-497F-8FD4-10FF1EF9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B3CE-15B7-417C-9C86-1661446D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352-EABF-4573-9B55-0280343A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87A-CCFF-4070-9321-F34D0DDD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B84-96B0-46B4-AD41-470CE358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6C4-881D-4F45-A46A-B35F7324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817-347A-4CB8-8F0A-13CBA17F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38A-B52C-4907-BEE9-DC761CA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9A3E-79B6-4074-BD92-5D92659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2173-0261-4F3E-A0D5-2956118BA2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B80-0FE9-4ACB-9C7A-D68ECCFD6C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Мета та завдання навчального курсу</a:t>
            </a:r>
            <a:r>
              <a:rPr b="1" i="1" lang="en-US" sz="2200" spc="-1" strike="noStrike">
                <a:solidFill>
                  <a:srgbClr val="ff0066"/>
                </a:solidFill>
                <a:latin typeface="Times New Roman"/>
              </a:rPr>
              <a:t> </a:t>
            </a:r>
            <a:br>
              <a:rPr sz="2200"/>
            </a:br>
            <a:r>
              <a:rPr b="1" i="1" lang="uk-UA" sz="2200" spc="-1" strike="noStrike">
                <a:solidFill>
                  <a:srgbClr val="ff0066"/>
                </a:solidFill>
                <a:latin typeface="Times New Roman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Мета</a:t>
            </a:r>
            <a:r>
              <a:rPr b="0" i="1" lang="uk-UA" sz="22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засвоєння теоретичних та практичних знань щодо закономірності виникнення, збирання, дослідження, оцінювання і використання електронних доказів, а також придбання студентами знань, навичок та вмінь, пов'язаних з використанням інформаційних технологій, розслідування та попередження злочинів в сфері використання електронно-обчислювальних маши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66ff"/>
                </a:solidFill>
                <a:latin typeface="Arial"/>
              </a:rPr>
              <a:t>Завдання:</a:t>
            </a:r>
            <a:r>
              <a:rPr b="0" i="1" lang="uk-UA" sz="2200" spc="-1" strike="noStrike">
                <a:solidFill>
                  <a:srgbClr val="ffffff"/>
                </a:solidFill>
                <a:latin typeface="Arial"/>
              </a:rPr>
              <a:t> систематизоване засвоєння та закріплення теоретичних знань державного регулювання та протидії злочинності в глобальній інформаційній мережі Інтернет, набуття вміння застосовувати отримані знання при використанні сучасних інформаційних технологі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В процесі вивчення курсу </a:t>
            </a:r>
            <a:br>
              <a:rPr sz="2200"/>
            </a:br>
            <a:r>
              <a:rPr b="1" i="1" lang="uk-UA" sz="2200" spc="-1" strike="noStrike">
                <a:solidFill>
                  <a:srgbClr val="ff33cc"/>
                </a:solidFill>
                <a:latin typeface="Arial"/>
              </a:rPr>
              <a:t>«Особливості розслідування комп'ютерних злочинів» студенти</a:t>
            </a:r>
            <a:r>
              <a:rPr b="1" i="1" lang="ru-RU" sz="2200" spc="-1" strike="noStrike">
                <a:solidFill>
                  <a:srgbClr val="ff33cc"/>
                </a:solidFill>
                <a:latin typeface="Arial"/>
              </a:rPr>
              <a:t> повинні знати та вміти:</a:t>
            </a:r>
            <a:endParaRPr b="1" lang="en-US" sz="2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Зна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на початковому етапі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собливості розслідування злочинів у сфері використання електронно-обчислювальних машин (комп'ютерів), систем та комп'ютерних мереж і мереж електрозв'язку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обставини, які сприяють комп'ютерним злочинам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методи попередження злочинів у сфері використання електронно-обчислювальних машин (комп'ютерів), систем та комп'ютерних мереж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500" spc="-1" strike="noStrike">
                <a:solidFill>
                  <a:srgbClr val="99ff33"/>
                </a:solidFill>
                <a:latin typeface="Arial"/>
              </a:rPr>
              <a:t>Вміти: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застосовувати знання про основні засоби і заходи захисту інформації в автоматизованих системах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діяння є злочинними і з якими ознаками складу злочину (наука кримінального прав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, які методи і засоби виявлення і дослідження електронних слідів, що проявляються при підготовці до злочину, його здійсненні і прихованні (криміналістика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користовувати порядок збирання, перевірки, оцінки доказів, процесуального провадження по кримінальних справах (наука кримінального процесу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Arial"/>
              </a:rPr>
              <a:t>визначати обставини, що сприяли здійсненню злочинів і заходи для їхнього попередження (кримінологія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Times New Roman"/>
              </a:rPr>
              <a:t>МІЖДИСЦИПЛІНАРНІ</a:t>
            </a:r>
            <a:r>
              <a:rPr b="0" lang="uk-UA" sz="3600" spc="-1" strike="noStrike">
                <a:solidFill>
                  <a:srgbClr val="00ff00"/>
                </a:solidFill>
                <a:latin typeface="Times New Roman"/>
              </a:rPr>
              <a:t> ЗВ’ЯЗ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«Особливості розслідування комп'ютерних злочинів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як навчальна дисципліна тісно пов'яза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Monotype Corsiva"/>
              </a:rPr>
              <a:t>і взаємодіє з іншими галузями права, видами державної діяльності, науками і навчальними дисциплінами, а сам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онституцій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законодавством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про судоустрій, прокурорський нагляд і адвокату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ьним пра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алістико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судовою психологіє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ff00"/>
                </a:solidFill>
                <a:latin typeface="Georgia"/>
              </a:rPr>
              <a:t> </a:t>
            </a:r>
            <a:r>
              <a:rPr b="1" i="1" lang="uk-UA" sz="2000" spc="-1" strike="noStrike">
                <a:solidFill>
                  <a:srgbClr val="00ff00"/>
                </a:solidFill>
                <a:latin typeface="Georgia"/>
              </a:rPr>
              <a:t>кримінологіє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ЗМІСТ КУРСУ </a:t>
            </a:r>
            <a:br>
              <a:rPr sz="3200"/>
            </a:br>
            <a:r>
              <a:rPr b="1" i="1" lang="uk-UA" sz="3200" spc="-1" strike="noStrike">
                <a:solidFill>
                  <a:srgbClr val="3366ff"/>
                </a:solidFill>
                <a:latin typeface="Arial"/>
              </a:rPr>
              <a:t>«Особливості розслідування комп'ютерних злочинів»</a:t>
            </a:r>
            <a:r>
              <a:rPr b="1" lang="uk-UA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1</a:t>
            </a:r>
            <a:r>
              <a:rPr b="0" lang="uk-UA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Monotype Corsiva"/>
              </a:rPr>
              <a:t>Теоретичні і методологічні основи кваліфікації злочинів у сфері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Модуль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криття та розслідування злочинів у сфері використання високих технологі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ff"/>
                </a:solidFill>
                <a:latin typeface="Arial Black"/>
              </a:rPr>
              <a:t>САМОСТИЙНА РОБОТА СТУДЕНТІВ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Зміст самостійної роботи з "Особливості розслідування комп’ютерних злочинів"</a:t>
            </a: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66"/>
                </a:solidFill>
                <a:latin typeface="Arial"/>
              </a:rPr>
              <a:t>складаю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стійне опрацювання теоретичних питань кур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ідготовка до семінарських та практичних занять, опрацювання першоджерел та навчальної літерату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писання реферат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Інші форми самостійної робо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66"/>
                </a:solidFill>
                <a:latin typeface="Arial"/>
              </a:rPr>
              <a:t>КРИТЕРІЇ ОЦІНЮВАННЯ ЗНАНЬ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зараховано"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– кваліфікується як здатність переносити знання попередніх рівнів на нестандартні завдання (застосувати у нестандартних ситуаціях) та виробляти нові знання (творчість). Студент відповідає грамотно, творче використовує додаткову літературу, самостійно одержує інформацію, опубліковану в періодичному виданні. Студент вміє аналізувати, порівнювати, узагальнювати, абстрагувати і конкретизувати, класифікувати і систематизувати матері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99"/>
                </a:solidFill>
                <a:latin typeface="Arial"/>
              </a:rPr>
              <a:t>Оцінка "незараховано"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відсутність належних суджень, знань властивостей і зв'язків. Кваліфікується як нездатність орієнтуватися у причинно-наслідкових та інших зв'язків і механізмах (алгоритмах) перебігу явищ (процесів) та невміння кваліфікувати предмет за суттєвими ознаками. Крім того студент не знає основних понять і тем навчального матеріа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РОЗПОДІЛ БАЛІВ ЗА ВИДАМИ РОБОТИ</a:t>
            </a:r>
            <a:br>
              <a:rPr sz="3200"/>
            </a:br>
            <a:r>
              <a:rPr b="1" i="1" lang="uk-UA" sz="3200" spc="-1" strike="noStrike">
                <a:solidFill>
                  <a:srgbClr val="ff00ff"/>
                </a:solidFill>
                <a:latin typeface="Times New Roman"/>
              </a:rPr>
              <a:t>ТА ФОРМАМИ КОНТРОЛЮ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1 - 30 балі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ідсумкова контрольна робота по модулю 2 - 3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Індивідуальна робота студентів -   20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Робота (активність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Присутність на лекційних заняттях - 4 б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Засвоєння матеріалу (позитивне) на семінарських заняттях - 8 балі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РАЗОМ</a:t>
            </a:r>
            <a:r>
              <a:rPr b="0" lang="uk-UA" sz="2800" spc="-1" strike="noStrike">
                <a:solidFill>
                  <a:srgbClr val="00ff00"/>
                </a:solidFill>
                <a:latin typeface="Arial"/>
              </a:rPr>
              <a:t>:                         </a:t>
            </a:r>
            <a:r>
              <a:rPr b="1" lang="uk-UA" sz="2800" spc="-1" strike="noStrike">
                <a:solidFill>
                  <a:srgbClr val="00ff00"/>
                </a:solidFill>
                <a:latin typeface="Arial"/>
              </a:rPr>
              <a:t>100 БА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00"/>
                </a:solidFill>
                <a:latin typeface="Monotype Corsiva"/>
              </a:rPr>
              <a:t>РЕКОМЕНДОВАНА ЛІТЕРАТУ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а В.О., Гавловський В.Д., Цимбалюк В.С., Хараберюш І. Ф. “Проблеми боротьби зі злочинами у сфері використання комп’ютерних технологій” //Донецький юридичний інституту Луганського державного університету внутрішніх справ. – Донецьк: РВВ ЛДУВС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Шинкаренко І.Р. , Голубєв В.О., Карчевський М.В., Хараберюш І. Ф. Злочини в сфері використання комп'ютерної техніки: кваліфікація, розслідування та протидія. //Донецький юридичний інституту Луганського державного університету внутрішніх справ. – Донецьк: РВВ ЛДУВС, 2007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ybercrime New Threats in Cyber Space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, Международная конференция, 12-13 декабря 2007, г. Загреб, Республика Хорват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, “Конвенція по боротьбі з к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берзлочинн</a:t>
            </a: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тю,  як елемент правового механізму взаємодії правоохоронних органів з провайдерами у боротьбі з комп’ютерними злочинами”, Міжнародний науково-практичний семінар Донецьк: РВВ ЛДУВС, 12 грудня 2008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Снігерьов О.П., Голубєв В.О. До проблеми класифікації злочинів у сфері комп’ютерної інформації // Вісник Університету внутрішніх справ.— 2009.— №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Голубєв В.О. Захист банківських автоматизованих систем // Бізнес і безпека. —Київ.— 2000. —Вип.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Владимир Голубев Противодействие компьютерной преступности на региональном уровне, II Международная научно-конференция «Безопасность и защита информации в информационных системах», (Харьков, 29-30 апреля 2009 г.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Голубев В.А. Безопасность компьютерных технологий и расследование компьютерных инцидентов  // Методическое пособие по проведению семинарских занятий. Астана.</a:t>
            </a:r>
            <a:r>
              <a:rPr b="0" i="1" lang="uk-UA" sz="1200" spc="-1" strike="noStrike">
                <a:solidFill>
                  <a:srgbClr val="ffffff"/>
                </a:solidFill>
                <a:latin typeface="Arial"/>
              </a:rPr>
              <a:t> — 18-28 октября.—  20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08:27:38Z</dcterms:created>
  <dc:creator>Customer</dc:creator>
  <dc:description/>
  <dc:language>en-US</dc:language>
  <cp:lastModifiedBy>Customer</cp:lastModifiedBy>
  <dcterms:modified xsi:type="dcterms:W3CDTF">2012-01-18T09:40:38Z</dcterms:modified>
  <cp:revision>11</cp:revision>
  <dc:subject/>
  <dc:title>Мета та завдання навчального курсу «Особливості розслідування комп'ютерних злочинів» </dc:title>
</cp:coreProperties>
</file>