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5F73-DA42-4C23-B315-5C02232145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78A8-CCBB-4C22-93F7-254F14AE5B8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CF3E-9A94-4836-8962-1D035FF9D7C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5AC-B80F-4A3E-B0BF-9A349526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555-E977-40E5-9B47-1E867100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3EB-8B98-42D6-A9A4-4F3109DB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01D-1B29-4E06-90A3-B05FAC64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C13-CD6D-45C7-8A64-EBBCC81D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E38-198F-44CA-A64F-51F11FF7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1F6-5839-448A-86A8-C4F56112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388-92F7-4F47-9F5D-27F94EA6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EC1-3E0C-49B7-8089-A70C56BD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92F-45A8-48DA-9576-5B666E5B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06E-49B7-4657-B46D-CF76C682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CDB-7BE7-46E2-873B-0EC4B2CC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6BB5-C9A7-4983-B8EC-B7D094E84F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vestukraine.com/uk/regions/industrial-parks" TargetMode="External"/><Relationship Id="rId2" Type="http://schemas.openxmlformats.org/officeDocument/2006/relationships/hyperlink" Target="http://investukraine.com/uk/regions/regions" TargetMode="External"/><Relationship Id="rId3" Type="http://schemas.openxmlformats.org/officeDocument/2006/relationships/hyperlink" Target="http://investukraine.com/uk/regions/regional-centers-for-investment-and-development" TargetMode="External"/><Relationship Id="rId4" Type="http://schemas.openxmlformats.org/officeDocument/2006/relationships/hyperlink" Target="http://investukraine.com/uk/regions/industrial-parks" TargetMode="External"/><Relationship Id="rId5" Type="http://schemas.openxmlformats.org/officeDocument/2006/relationships/hyperlink" Target="http://investukraine.com/uk/regions/industrial-parks/legislation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720" y="2592360"/>
            <a:ext cx="9180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c00"/>
                </a:solidFill>
                <a:latin typeface="Calibri"/>
              </a:rPr>
              <a:t>Інструменти та механізми підтримки </a:t>
            </a:r>
            <a:br>
              <a:rPr sz="2800"/>
            </a:br>
            <a:r>
              <a:rPr b="1" lang="uk-UA" sz="2800" spc="-1" strike="noStrike">
                <a:solidFill>
                  <a:srgbClr val="ffcc00"/>
                </a:solidFill>
                <a:latin typeface="Calibri"/>
              </a:rPr>
              <a:t> інвестиційної діяльності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55640" y="141300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alibri"/>
              </a:rPr>
              <a:t>Державне агентство з інвестицій та управ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alibri"/>
              </a:rPr>
              <a:t>національними проектами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861080" y="566100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alibri"/>
              </a:rPr>
              <a:t>м. Ял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alibri"/>
              </a:rPr>
              <a:t>14 червня 2013 ро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476360" y="436572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libri"/>
              </a:rPr>
              <a:t>Василь Федюк – директор  Департаменту інвестиційної політики та регіонального розви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Підтримка створення індустріальних паркі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nvestukraine.com/uk/regions/industrial-pa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Регiони</a:t>
            </a: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Регіональні центри</a:t>
            </a: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Індустріальні парки</a:t>
            </a: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Нормативно-правова база</a:t>
            </a: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Можливості для створе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Методична інформаці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Контак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Запитання та відповід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Інструменти місцевого </a:t>
            </a: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економічного</a:t>
            </a: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 розвит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Наявні ресурс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Стратегічний п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Портфель  проектів”/ Багаторічний план залучення інвестиці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Агенція місцевого розвитку (залучення інвестиці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Програма розвитку інвестиційної діяльності/ підприємниц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Фонд підтримки підприємниц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Маркетинг/ брендінг/ Інвестиційний веб-порт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Генеральний план, місцеві правила забудов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Кластер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1800" y="189000"/>
            <a:ext cx="77738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Стратегічний та проектний підхі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4865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c0504d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762120" y="1600200"/>
            <a:ext cx="7315200" cy="4089240"/>
            <a:chOff x="762120" y="1600200"/>
            <a:chExt cx="7315200" cy="4089240"/>
          </a:xfrm>
        </p:grpSpPr>
        <p:sp>
          <p:nvSpPr>
            <p:cNvPr id="95" name="Rectangle 5"/>
            <p:cNvSpPr/>
            <p:nvPr/>
          </p:nvSpPr>
          <p:spPr>
            <a:xfrm>
              <a:off x="2772000" y="1600200"/>
              <a:ext cx="3312360" cy="40176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2700000" y="1600200"/>
              <a:ext cx="3456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Calibri"/>
                </a:rPr>
                <a:t>Стратегія економічного розвит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3697200" y="2403360"/>
              <a:ext cx="1145160" cy="524160"/>
            </a:xfrm>
            <a:prstGeom prst="rect">
              <a:avLst/>
            </a:prstGeom>
            <a:solidFill>
              <a:srgbClr val="0b4f80"/>
            </a:solidFill>
            <a:ln w="12600">
              <a:solidFill>
                <a:srgbClr val="024e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>
              <a:off x="3652920" y="2470320"/>
              <a:ext cx="1233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Calibri"/>
                </a:rPr>
                <a:t>СТРАТЕГІНЧА  ЦІЛЬ </a:t>
              </a: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6281280" y="2403360"/>
              <a:ext cx="1144440" cy="524160"/>
            </a:xfrm>
            <a:prstGeom prst="rect">
              <a:avLst/>
            </a:prstGeom>
            <a:solidFill>
              <a:srgbClr val="0b4f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242040" y="2470320"/>
              <a:ext cx="12319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Calibri"/>
                </a:rPr>
                <a:t>СТРАТЕГІЧНА ЦІЛЬ </a:t>
              </a: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>
              <a:off x="1113480" y="2403360"/>
              <a:ext cx="1144440" cy="524160"/>
            </a:xfrm>
            <a:prstGeom prst="rect">
              <a:avLst/>
            </a:prstGeom>
            <a:solidFill>
              <a:srgbClr val="0b4f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1073160" y="2470320"/>
              <a:ext cx="1233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Calibri"/>
                </a:rPr>
                <a:t>СТРАТЕГІЧНА  ЦІЛЬ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762120" y="3354480"/>
              <a:ext cx="638280" cy="39024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К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3033720" y="3273120"/>
              <a:ext cx="619200" cy="39024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3949200" y="3273120"/>
              <a:ext cx="585720" cy="37152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4886280" y="3273120"/>
              <a:ext cx="617040" cy="37152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>
              <a:off x="5624640" y="3273120"/>
              <a:ext cx="610920" cy="37152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8"/>
            <p:cNvSpPr/>
            <p:nvPr/>
          </p:nvSpPr>
          <p:spPr>
            <a:xfrm>
              <a:off x="6586920" y="3273120"/>
              <a:ext cx="592200" cy="37152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9"/>
            <p:cNvSpPr/>
            <p:nvPr/>
          </p:nvSpPr>
          <p:spPr>
            <a:xfrm>
              <a:off x="7471080" y="3283920"/>
              <a:ext cx="584280" cy="36072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0"/>
            <p:cNvSpPr/>
            <p:nvPr/>
          </p:nvSpPr>
          <p:spPr>
            <a:xfrm>
              <a:off x="1521360" y="4947120"/>
              <a:ext cx="32832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1"/>
            <p:cNvSpPr/>
            <p:nvPr/>
          </p:nvSpPr>
          <p:spPr>
            <a:xfrm>
              <a:off x="5805000" y="4947120"/>
              <a:ext cx="32832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2"/>
            <p:cNvSpPr/>
            <p:nvPr/>
          </p:nvSpPr>
          <p:spPr>
            <a:xfrm>
              <a:off x="6689520" y="4947120"/>
              <a:ext cx="32868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3"/>
            <p:cNvSpPr/>
            <p:nvPr/>
          </p:nvSpPr>
          <p:spPr>
            <a:xfrm>
              <a:off x="7573320" y="4947120"/>
              <a:ext cx="32868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4"/>
            <p:cNvSpPr/>
            <p:nvPr/>
          </p:nvSpPr>
          <p:spPr>
            <a:xfrm>
              <a:off x="2405520" y="4947120"/>
              <a:ext cx="32832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4105440" y="4947120"/>
              <a:ext cx="32832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6"/>
            <p:cNvSpPr/>
            <p:nvPr/>
          </p:nvSpPr>
          <p:spPr>
            <a:xfrm>
              <a:off x="3221640" y="4947120"/>
              <a:ext cx="32868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7"/>
            <p:cNvSpPr/>
            <p:nvPr/>
          </p:nvSpPr>
          <p:spPr>
            <a:xfrm>
              <a:off x="4989240" y="4947120"/>
              <a:ext cx="32832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>
              <a:off x="4269600" y="1936440"/>
              <a:ext cx="0" cy="26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H="1">
              <a:off x="1686960" y="2202840"/>
              <a:ext cx="516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6853680" y="220284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>
              <a:off x="1685520" y="220284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2409840" y="2649240"/>
              <a:ext cx="116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4993200" y="2649240"/>
              <a:ext cx="116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4"/>
            <p:cNvSpPr/>
            <p:nvPr/>
          </p:nvSpPr>
          <p:spPr>
            <a:xfrm>
              <a:off x="3390120" y="4278240"/>
              <a:ext cx="176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>
              <a:off x="4269600" y="2938680"/>
              <a:ext cx="0" cy="33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>
              <a:off x="4273920" y="3073320"/>
              <a:ext cx="8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3390120" y="3073320"/>
              <a:ext cx="8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>
              <a:off x="5153400" y="30733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9"/>
            <p:cNvSpPr/>
            <p:nvPr/>
          </p:nvSpPr>
          <p:spPr>
            <a:xfrm>
              <a:off x="3385800" y="30733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0"/>
            <p:cNvSpPr/>
            <p:nvPr/>
          </p:nvSpPr>
          <p:spPr>
            <a:xfrm>
              <a:off x="5973480" y="4278240"/>
              <a:ext cx="17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1"/>
            <p:cNvSpPr/>
            <p:nvPr/>
          </p:nvSpPr>
          <p:spPr>
            <a:xfrm>
              <a:off x="7129800" y="3475080"/>
              <a:ext cx="33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>
              <a:off x="6853680" y="2938680"/>
              <a:ext cx="0" cy="33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3"/>
            <p:cNvSpPr/>
            <p:nvPr/>
          </p:nvSpPr>
          <p:spPr>
            <a:xfrm>
              <a:off x="6858000" y="3073320"/>
              <a:ext cx="8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4"/>
            <p:cNvSpPr/>
            <p:nvPr/>
          </p:nvSpPr>
          <p:spPr>
            <a:xfrm>
              <a:off x="5969520" y="3073320"/>
              <a:ext cx="88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5"/>
            <p:cNvSpPr/>
            <p:nvPr/>
          </p:nvSpPr>
          <p:spPr>
            <a:xfrm>
              <a:off x="7737480" y="30733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6"/>
            <p:cNvSpPr/>
            <p:nvPr/>
          </p:nvSpPr>
          <p:spPr>
            <a:xfrm>
              <a:off x="5969520" y="30733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7"/>
            <p:cNvSpPr/>
            <p:nvPr/>
          </p:nvSpPr>
          <p:spPr>
            <a:xfrm>
              <a:off x="257004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8"/>
            <p:cNvSpPr/>
            <p:nvPr/>
          </p:nvSpPr>
          <p:spPr>
            <a:xfrm>
              <a:off x="805680" y="4278240"/>
              <a:ext cx="176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9"/>
            <p:cNvSpPr/>
            <p:nvPr/>
          </p:nvSpPr>
          <p:spPr>
            <a:xfrm>
              <a:off x="1678680" y="3103920"/>
              <a:ext cx="55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50"/>
            <p:cNvSpPr/>
            <p:nvPr/>
          </p:nvSpPr>
          <p:spPr>
            <a:xfrm>
              <a:off x="1040760" y="3103920"/>
              <a:ext cx="64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1"/>
            <p:cNvSpPr/>
            <p:nvPr/>
          </p:nvSpPr>
          <p:spPr>
            <a:xfrm>
              <a:off x="2236320" y="31039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2"/>
            <p:cNvSpPr/>
            <p:nvPr/>
          </p:nvSpPr>
          <p:spPr>
            <a:xfrm>
              <a:off x="1040760" y="31039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3"/>
            <p:cNvSpPr/>
            <p:nvPr/>
          </p:nvSpPr>
          <p:spPr>
            <a:xfrm>
              <a:off x="1365120" y="4613400"/>
              <a:ext cx="641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b4f80"/>
                  </a:solidFill>
                  <a:latin typeface="Calibri"/>
                </a:rPr>
                <a:t>ЗАХО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4"/>
            <p:cNvSpPr/>
            <p:nvPr/>
          </p:nvSpPr>
          <p:spPr>
            <a:xfrm>
              <a:off x="3913920" y="4613400"/>
              <a:ext cx="7131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b4f80"/>
                  </a:solidFill>
                  <a:latin typeface="Calibri"/>
                </a:rPr>
                <a:t>ЗВАХО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5"/>
            <p:cNvSpPr/>
            <p:nvPr/>
          </p:nvSpPr>
          <p:spPr>
            <a:xfrm>
              <a:off x="6532560" y="4613400"/>
              <a:ext cx="641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b4f80"/>
                  </a:solidFill>
                  <a:latin typeface="Calibri"/>
                </a:rPr>
                <a:t>ЗАХО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56"/>
            <p:cNvSpPr/>
            <p:nvPr/>
          </p:nvSpPr>
          <p:spPr>
            <a:xfrm flipV="1">
              <a:off x="6853680" y="434664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7"/>
            <p:cNvSpPr/>
            <p:nvPr/>
          </p:nvSpPr>
          <p:spPr>
            <a:xfrm flipV="1">
              <a:off x="4269600" y="434664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8"/>
            <p:cNvSpPr/>
            <p:nvPr/>
          </p:nvSpPr>
          <p:spPr>
            <a:xfrm flipV="1">
              <a:off x="1685520" y="434664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9"/>
            <p:cNvSpPr/>
            <p:nvPr/>
          </p:nvSpPr>
          <p:spPr>
            <a:xfrm>
              <a:off x="80172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0"/>
            <p:cNvSpPr/>
            <p:nvPr/>
          </p:nvSpPr>
          <p:spPr>
            <a:xfrm>
              <a:off x="338580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1"/>
            <p:cNvSpPr/>
            <p:nvPr/>
          </p:nvSpPr>
          <p:spPr>
            <a:xfrm>
              <a:off x="515340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2"/>
            <p:cNvSpPr/>
            <p:nvPr/>
          </p:nvSpPr>
          <p:spPr>
            <a:xfrm>
              <a:off x="596952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3"/>
            <p:cNvSpPr/>
            <p:nvPr/>
          </p:nvSpPr>
          <p:spPr>
            <a:xfrm>
              <a:off x="773748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4"/>
            <p:cNvSpPr/>
            <p:nvPr/>
          </p:nvSpPr>
          <p:spPr>
            <a:xfrm>
              <a:off x="6245640" y="3475080"/>
              <a:ext cx="33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5"/>
            <p:cNvSpPr/>
            <p:nvPr/>
          </p:nvSpPr>
          <p:spPr>
            <a:xfrm>
              <a:off x="4545720" y="3475080"/>
              <a:ext cx="33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6"/>
            <p:cNvSpPr/>
            <p:nvPr/>
          </p:nvSpPr>
          <p:spPr>
            <a:xfrm>
              <a:off x="3661920" y="3475080"/>
              <a:ext cx="33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7"/>
            <p:cNvSpPr/>
            <p:nvPr/>
          </p:nvSpPr>
          <p:spPr>
            <a:xfrm>
              <a:off x="1479240" y="3479760"/>
              <a:ext cx="33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8"/>
            <p:cNvSpPr/>
            <p:nvPr/>
          </p:nvSpPr>
          <p:spPr>
            <a:xfrm flipH="1">
              <a:off x="2977560" y="4411800"/>
              <a:ext cx="408240" cy="80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69"/>
            <p:cNvSpPr/>
            <p:nvPr/>
          </p:nvSpPr>
          <p:spPr>
            <a:xfrm flipH="1">
              <a:off x="5561640" y="4411800"/>
              <a:ext cx="407520" cy="80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0"/>
            <p:cNvSpPr/>
            <p:nvPr/>
          </p:nvSpPr>
          <p:spPr>
            <a:xfrm>
              <a:off x="2637720" y="4411800"/>
              <a:ext cx="271800" cy="80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1"/>
            <p:cNvSpPr/>
            <p:nvPr/>
          </p:nvSpPr>
          <p:spPr>
            <a:xfrm>
              <a:off x="5221800" y="4411800"/>
              <a:ext cx="271800" cy="80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72"/>
            <p:cNvSpPr/>
            <p:nvPr/>
          </p:nvSpPr>
          <p:spPr>
            <a:xfrm>
              <a:off x="7805520" y="4411800"/>
              <a:ext cx="271800" cy="80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3"/>
            <p:cNvSpPr/>
            <p:nvPr/>
          </p:nvSpPr>
          <p:spPr>
            <a:xfrm>
              <a:off x="1606320" y="5418000"/>
              <a:ext cx="181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74"/>
            <p:cNvSpPr/>
            <p:nvPr/>
          </p:nvSpPr>
          <p:spPr>
            <a:xfrm>
              <a:off x="4189320" y="5418000"/>
              <a:ext cx="180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5"/>
            <p:cNvSpPr/>
            <p:nvPr/>
          </p:nvSpPr>
          <p:spPr>
            <a:xfrm>
              <a:off x="6761520" y="5418000"/>
              <a:ext cx="180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>
              <a:off x="4269600" y="220284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7"/>
            <p:cNvSpPr/>
            <p:nvPr/>
          </p:nvSpPr>
          <p:spPr>
            <a:xfrm>
              <a:off x="3114720" y="3809880"/>
              <a:ext cx="2310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8"/>
            <p:cNvSpPr/>
            <p:nvPr/>
          </p:nvSpPr>
          <p:spPr>
            <a:xfrm>
              <a:off x="5696640" y="3809880"/>
              <a:ext cx="2311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79"/>
          <p:cNvSpPr/>
          <p:nvPr/>
        </p:nvSpPr>
        <p:spPr>
          <a:xfrm>
            <a:off x="1905120" y="3352680"/>
            <a:ext cx="579240" cy="355680"/>
          </a:xfrm>
          <a:prstGeom prst="rect">
            <a:avLst/>
          </a:prstGeom>
          <a:solidFill>
            <a:srgbClr val="7399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Calibri"/>
              </a:rPr>
              <a:t>ПРІОРИТЕ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0"/>
          <p:cNvSpPr/>
          <p:nvPr/>
        </p:nvSpPr>
        <p:spPr>
          <a:xfrm>
            <a:off x="395280" y="5300640"/>
            <a:ext cx="7772400" cy="720720"/>
          </a:xfrm>
          <a:prstGeom prst="flowChartMerge">
            <a:avLst/>
          </a:prstGeom>
          <a:solidFill>
            <a:srgbClr val="97d9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7375e"/>
                </a:solidFill>
                <a:latin typeface="Arial"/>
              </a:rPr>
              <a:t>“</a:t>
            </a:r>
            <a:r>
              <a:rPr b="1" lang="uk-UA" sz="1600" spc="-1" strike="noStrike">
                <a:solidFill>
                  <a:srgbClr val="17375e"/>
                </a:solidFill>
                <a:latin typeface="Arial"/>
              </a:rPr>
              <a:t>портфель” проек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  <a:ea typeface="Arial"/>
              </a:rPr>
              <a:t>Механізми фінансування прое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132000" y="3716280"/>
            <a:ext cx="260064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нти (МТ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987640" y="3284640"/>
            <a:ext cx="3024360" cy="312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едитні ресур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771640" y="2421000"/>
            <a:ext cx="3368880" cy="288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ержавний  і місцеви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340000" y="2349360"/>
            <a:ext cx="739800" cy="2649600"/>
          </a:xfrm>
          <a:prstGeom prst="line">
            <a:avLst/>
          </a:prstGeom>
          <a:ln w="127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 flipH="1">
            <a:off x="6011640" y="2205000"/>
            <a:ext cx="672840" cy="2674800"/>
          </a:xfrm>
          <a:prstGeom prst="line">
            <a:avLst/>
          </a:prstGeom>
          <a:ln w="127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2987640" y="4941720"/>
            <a:ext cx="3135240" cy="6480"/>
          </a:xfrm>
          <a:prstGeom prst="line">
            <a:avLst/>
          </a:prstGeom>
          <a:ln w="127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5724360" y="2781360"/>
            <a:ext cx="3419640" cy="1330200"/>
          </a:xfrm>
          <a:prstGeom prst="leftArrow">
            <a:avLst>
              <a:gd name="adj1" fmla="val 50000"/>
              <a:gd name="adj2" fmla="val 5752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Організація заходів із залучення донор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Ефективна координація залучених донор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4356000" y="1341360"/>
            <a:ext cx="1800360" cy="75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Місце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бюдж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7"/>
          <p:cNvSpPr/>
          <p:nvPr/>
        </p:nvSpPr>
        <p:spPr>
          <a:xfrm>
            <a:off x="250920" y="2781360"/>
            <a:ext cx="2390760" cy="1152360"/>
          </a:xfrm>
          <a:prstGeom prst="rightArrow">
            <a:avLst>
              <a:gd name="adj1" fmla="val 50000"/>
              <a:gd name="adj2" fmla="val 4685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Кредити банків 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міжнародних фін. організаці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943320" y="2319120"/>
            <a:ext cx="1868760" cy="495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Приватні вітчизняні інвестиці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276720" y="4149720"/>
            <a:ext cx="2600280" cy="287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агодійні внески бізн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7"/>
          <p:cNvSpPr/>
          <p:nvPr/>
        </p:nvSpPr>
        <p:spPr>
          <a:xfrm>
            <a:off x="250920" y="1844640"/>
            <a:ext cx="2390760" cy="1265400"/>
          </a:xfrm>
          <a:prstGeom prst="rightArrow">
            <a:avLst>
              <a:gd name="adj1" fmla="val 50000"/>
              <a:gd name="adj2" fmla="val 4684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Прямі іноземні інвести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7"/>
          <p:cNvSpPr/>
          <p:nvPr/>
        </p:nvSpPr>
        <p:spPr>
          <a:xfrm>
            <a:off x="324000" y="4292640"/>
            <a:ext cx="2449440" cy="1152360"/>
          </a:xfrm>
          <a:prstGeom prst="rightArrow">
            <a:avLst>
              <a:gd name="adj1" fmla="val 50000"/>
              <a:gd name="adj2" fmla="val 4685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Проекти держав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приватного партне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9"/>
          <p:cNvSpPr/>
          <p:nvPr/>
        </p:nvSpPr>
        <p:spPr>
          <a:xfrm>
            <a:off x="5796000" y="4005360"/>
            <a:ext cx="2736720" cy="990360"/>
          </a:xfrm>
          <a:prstGeom prst="leftArrow">
            <a:avLst>
              <a:gd name="adj1" fmla="val 50000"/>
              <a:gd name="adj2" fmla="val 5389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Проекти за підтримки місцевого бізнесу, громади та МТ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843280" y="2852640"/>
            <a:ext cx="336852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Інвести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>
            <a:off x="2195640" y="836640"/>
            <a:ext cx="2639880" cy="11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Держав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бюдж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203640" y="4508640"/>
            <a:ext cx="2671560" cy="288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екти на кошти гром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7"/>
          <p:cNvSpPr/>
          <p:nvPr/>
        </p:nvSpPr>
        <p:spPr>
          <a:xfrm>
            <a:off x="179280" y="3645000"/>
            <a:ext cx="1959120" cy="936360"/>
          </a:xfrm>
          <a:prstGeom prst="rightArrow">
            <a:avLst>
              <a:gd name="adj1" fmla="val 50000"/>
              <a:gd name="adj2" fmla="val 4686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Ліз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9"/>
          <p:cNvSpPr/>
          <p:nvPr/>
        </p:nvSpPr>
        <p:spPr>
          <a:xfrm>
            <a:off x="6372360" y="4797360"/>
            <a:ext cx="2135160" cy="990720"/>
          </a:xfrm>
          <a:prstGeom prst="leftArrow">
            <a:avLst>
              <a:gd name="adj1" fmla="val 50000"/>
              <a:gd name="adj2" fmla="val 5387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Муніципальні кредити/ обліг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17375e"/>
                </a:solidFill>
                <a:latin typeface="Calibri"/>
              </a:rPr>
              <a:t>Нові продукти Держінвестпроект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50920" y="5950080"/>
            <a:ext cx="5041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375e"/>
                </a:solidFill>
                <a:latin typeface="Calibri"/>
              </a:rPr>
              <a:t>http://www.ukrproject.gov.ua/node?page=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23640" y="1052640"/>
            <a:ext cx="533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Інвестиційний атлас України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– інформаційно-аналітичний продукт </a:t>
            </a: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Держінвестпроек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Актуальна  інформація </a:t>
            </a: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про інвестиційні можливості  України та окремих регіон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Інформаційна підтримка інвесторі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Сприяння </a:t>
            </a: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діловим візитам та інвестиційним місі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Допомога </a:t>
            </a: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в прийнятті ефективних бізнес ріш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Наступний крок –  електронна інвестиційна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C:\Documents and Settings\vsheshurak.UKRPROJECT\Мои документы\Мои рисунки\Atlas (title).bmp"/>
          <p:cNvPicPr/>
          <p:nvPr/>
        </p:nvPicPr>
        <p:blipFill>
          <a:blip r:embed="rId1"/>
          <a:stretch/>
        </p:blipFill>
        <p:spPr>
          <a:xfrm>
            <a:off x="5580000" y="1946160"/>
            <a:ext cx="3282840" cy="32832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5"/>
          <p:cNvSpPr/>
          <p:nvPr/>
        </p:nvSpPr>
        <p:spPr>
          <a:xfrm>
            <a:off x="971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Інвестиційний атлас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Calibri"/>
              </a:rPr>
              <a:t>Дослідження інвестиційної приваблив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000" y="764640"/>
            <a:ext cx="460836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Виконання розпорядження Кабінету Міністрів України та Національного плану ді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Виконавці: </a:t>
            </a: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Київський міжнародний інститут соціології</a:t>
            </a: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, </a:t>
            </a: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Інститут економічних досліджень та політичних консультаці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Побудовано на використанні 3-х компонентів, які мають практичне застосування при прийнятті рішень про інвестуванн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7375e"/>
                </a:solidFill>
                <a:latin typeface="Calibri"/>
              </a:rPr>
              <a:t>інвестиційний потенціал регіоні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7375e"/>
                </a:solidFill>
                <a:latin typeface="Calibri"/>
              </a:rPr>
              <a:t>інвестиційні ризики в регіо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7375e"/>
                </a:solidFill>
                <a:latin typeface="Calibri"/>
              </a:rPr>
              <a:t>бар’єри та перешкоди для інвестуван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Підготовлено рекомендації  для кожного регі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Проводитиметься щоро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C:\Documents and Settings\vsheshurak.UKRPROJECT\Мои документы\Мои рисунки\Research.bmp"/>
          <p:cNvPicPr/>
          <p:nvPr/>
        </p:nvPicPr>
        <p:blipFill>
          <a:blip r:embed="rId1"/>
          <a:stretch/>
        </p:blipFill>
        <p:spPr>
          <a:xfrm>
            <a:off x="5219640" y="944640"/>
            <a:ext cx="3586320" cy="50767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4"/>
          <p:cNvSpPr/>
          <p:nvPr/>
        </p:nvSpPr>
        <p:spPr>
          <a:xfrm>
            <a:off x="4158000" y="6165720"/>
            <a:ext cx="45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ttp://www.ukrproject.gov.ua/node?page=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Calibri"/>
              </a:rPr>
              <a:t>Індекс інвестиційної привабливості регіон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4" descr="C:\Documents and Settings\vsheshurak.UKRPROJECT\Мои документы\Мои рисунки\Рейтинг регіонів (інвест привабливість).png"/>
          <p:cNvPicPr/>
          <p:nvPr/>
        </p:nvPicPr>
        <p:blipFill>
          <a:blip r:embed="rId1"/>
          <a:stretch/>
        </p:blipFill>
        <p:spPr>
          <a:xfrm>
            <a:off x="554040" y="-27000"/>
            <a:ext cx="819468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Calibri"/>
              </a:rPr>
              <a:t>Інформаційний вісник «Енергія розвитк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4000" y="947880"/>
            <a:ext cx="518472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uk-UA" sz="1700" spc="-1" strike="noStrike">
                <a:solidFill>
                  <a:srgbClr val="17375e"/>
                </a:solidFill>
                <a:latin typeface="Calibri"/>
              </a:rPr>
              <a:t>Мета і завданн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формування позитивного інвестиційного іміджу регіоні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покращення інвестиційного середовищ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підвищення якості послуг інвестора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розвиток партнерства Держінвестпроекту з регіонами та бізнес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17375e"/>
                </a:solidFill>
                <a:latin typeface="Calibri"/>
              </a:rPr>
              <a:t>Змістовне наповненн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інформація про інвестиційну діяльність в Україні і регіона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публiкації про кращі вітчизняні та зарубіжні практи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коментарі експертів, відгуки інвесторі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17375e"/>
                </a:solidFill>
                <a:latin typeface="Calibri"/>
              </a:rPr>
              <a:t>Звiт про роботу регiональних центрiв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508720" y="1125360"/>
            <a:ext cx="3378240" cy="48247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4"/>
          <p:cNvSpPr/>
          <p:nvPr/>
        </p:nvSpPr>
        <p:spPr>
          <a:xfrm>
            <a:off x="4373280" y="602136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ttp://www.ukrproject.gov.ua/node?page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4373640" y="6308640"/>
            <a:ext cx="45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375e"/>
                </a:solidFill>
                <a:latin typeface="Calibri"/>
              </a:rPr>
              <a:t>http://www.ukrproject.gov.ua/node?page=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491920"/>
            <a:ext cx="822960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Myriad Pro"/>
              </a:rPr>
              <a:t>Дякую за уваг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yriad Pro"/>
              </a:rPr>
              <a:t>v.fedyuk@ukrproject.gov.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Calibri"/>
              </a:rPr>
              <a:t>ПІІ в регіони Украї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731880" y="907920"/>
            <a:ext cx="76802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Calibri"/>
              </a:rPr>
              <a:t>ПІІ на мешканця в регіонах Украї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хема 1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8053560" cy="496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1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Що впливає на рішення інвест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войная стрелка влево/вправо 17"/>
          <p:cNvSpPr/>
          <p:nvPr/>
        </p:nvSpPr>
        <p:spPr>
          <a:xfrm rot="2710200">
            <a:off x="5547960" y="2193480"/>
            <a:ext cx="1533600" cy="346320"/>
          </a:xfrm>
          <a:prstGeom prst="leftRightArrow">
            <a:avLst>
              <a:gd name="adj1" fmla="val 50000"/>
              <a:gd name="adj2" fmla="val 49961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Стрелка вниз 18"/>
          <p:cNvGrpSpPr/>
          <p:nvPr/>
        </p:nvGrpSpPr>
        <p:grpSpPr>
          <a:xfrm>
            <a:off x="4449600" y="1957320"/>
            <a:ext cx="536760" cy="646200"/>
            <a:chOff x="4449600" y="1957320"/>
            <a:chExt cx="536760" cy="646200"/>
          </a:xfrm>
        </p:grpSpPr>
        <p:pic>
          <p:nvPicPr>
            <p:cNvPr id="60" name="Стрелка вниз 18" descr=""/>
            <p:cNvPicPr/>
            <p:nvPr/>
          </p:nvPicPr>
          <p:blipFill>
            <a:blip r:embed="rId2"/>
            <a:stretch/>
          </p:blipFill>
          <p:spPr>
            <a:xfrm>
              <a:off x="4449600" y="1957320"/>
              <a:ext cx="536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608360" y="1989000"/>
              <a:ext cx="2160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6"/>
          <p:cNvGrpSpPr/>
          <p:nvPr/>
        </p:nvGrpSpPr>
        <p:grpSpPr>
          <a:xfrm>
            <a:off x="3067920" y="3225960"/>
            <a:ext cx="668520" cy="371520"/>
            <a:chOff x="3067920" y="3225960"/>
            <a:chExt cx="668520" cy="371520"/>
          </a:xfrm>
        </p:grpSpPr>
        <p:sp>
          <p:nvSpPr>
            <p:cNvPr id="63" name="Стрелка вправо 7"/>
            <p:cNvSpPr/>
            <p:nvPr/>
          </p:nvSpPr>
          <p:spPr>
            <a:xfrm flipH="1" flipV="1" rot="10885200">
              <a:off x="3073680" y="3233880"/>
              <a:ext cx="658080" cy="355320"/>
            </a:xfrm>
            <a:prstGeom prst="rightArrow">
              <a:avLst>
                <a:gd name="adj1" fmla="val 60000"/>
                <a:gd name="adj2" fmla="val 22431"/>
              </a:avLst>
            </a:prstGeom>
            <a:gradFill rotWithShape="0">
              <a:gsLst>
                <a:gs pos="0">
                  <a:srgbClr val="ccddfe"/>
                </a:gs>
                <a:gs pos="100000">
                  <a:srgbClr val="f0f5ff"/>
                </a:gs>
              </a:gsLst>
              <a:lin ang="16338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Стрелка вправо 4"/>
            <p:cNvSpPr/>
            <p:nvPr/>
          </p:nvSpPr>
          <p:spPr>
            <a:xfrm rot="85200">
              <a:off x="3070440" y="3287880"/>
              <a:ext cx="610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Забезпечення інвестиційної діяльн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457200" y="682560"/>
            <a:ext cx="82296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Правова основа інституційного забезпеч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Конституц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ія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Податковий код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Митний код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Закони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місцеве самоврядування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місцеві державні адміністрації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 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інвестиційну діяльність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режим іноземного інвестування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стимулювання інвестиційної діяльності у пріоритетних галузях економіки з метою створення нових робочих місць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державно-приватне партнерство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концесії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індустріальні парки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Суб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’</a:t>
            </a: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єкти </a:t>
            </a: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інституційного забезпеч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81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Президент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Верховна Рада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Кабінет Міністрів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Міністерство економічного розвитку і торгівл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Держінвестпроект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Calibri"/>
              </a:rPr>
              <a:t>27 регіональних центрів з інвестицій та розвит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Державне агентство з екологічних інвестиці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Інші центральні органи виконавчої вл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Органи місцевого самовряд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Місцеві органи виконавчої вл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Овал 21"/>
          <p:cNvSpPr/>
          <p:nvPr/>
        </p:nvSpPr>
        <p:spPr>
          <a:xfrm>
            <a:off x="2268360" y="3429000"/>
            <a:ext cx="358920" cy="360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/>
          <p:cNvSpPr/>
          <p:nvPr/>
        </p:nvSpPr>
        <p:spPr>
          <a:xfrm>
            <a:off x="1403280" y="2708280"/>
            <a:ext cx="6337440" cy="504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Регіональний центр з інвестицій та розвит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17"/>
          <p:cNvSpPr/>
          <p:nvPr/>
        </p:nvSpPr>
        <p:spPr>
          <a:xfrm rot="5400000">
            <a:off x="3742920" y="1305000"/>
            <a:ext cx="28908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18"/>
          <p:cNvSpPr/>
          <p:nvPr/>
        </p:nvSpPr>
        <p:spPr>
          <a:xfrm rot="16200000">
            <a:off x="5040360" y="1304640"/>
            <a:ext cx="28908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5508720" y="1125360"/>
            <a:ext cx="3024000" cy="935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ержінвест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5"/>
          <p:cNvSpPr/>
          <p:nvPr/>
        </p:nvSpPr>
        <p:spPr>
          <a:xfrm>
            <a:off x="539640" y="1125360"/>
            <a:ext cx="3024360" cy="935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ДА, обл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Співпраця Держінвестпроекту з регіона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трелка вниз 4"/>
          <p:cNvSpPr/>
          <p:nvPr/>
        </p:nvSpPr>
        <p:spPr>
          <a:xfrm>
            <a:off x="4427640" y="2060640"/>
            <a:ext cx="21744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140360" y="170028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alibri"/>
              </a:rPr>
              <a:t>У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4"/>
          <p:cNvSpPr/>
          <p:nvPr/>
        </p:nvSpPr>
        <p:spPr>
          <a:xfrm>
            <a:off x="3995640" y="1052640"/>
            <a:ext cx="1081080" cy="10810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22"/>
          <p:cNvSpPr/>
          <p:nvPr/>
        </p:nvSpPr>
        <p:spPr>
          <a:xfrm>
            <a:off x="2268360" y="3933720"/>
            <a:ext cx="358920" cy="358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3"/>
          <p:cNvSpPr/>
          <p:nvPr/>
        </p:nvSpPr>
        <p:spPr>
          <a:xfrm>
            <a:off x="2268360" y="4508640"/>
            <a:ext cx="358920" cy="360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24"/>
          <p:cNvSpPr/>
          <p:nvPr/>
        </p:nvSpPr>
        <p:spPr>
          <a:xfrm>
            <a:off x="2268360" y="5084640"/>
            <a:ext cx="358920" cy="360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2627280" y="341316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Єдине інвестиційне вік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Інформаційно-ресурсна підтримка, б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ази да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аціональні та інвестиційні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Інвестиційний маркетинг територ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5"/>
          <p:cNvSpPr/>
          <p:nvPr/>
        </p:nvSpPr>
        <p:spPr>
          <a:xfrm>
            <a:off x="250920" y="836640"/>
            <a:ext cx="86421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Суб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’</a:t>
            </a: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єкти </a:t>
            </a: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інфраструктури інвестдіяльн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1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Спеціальні економічні зо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Індустріальні па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Технопа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Наукові па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Бізнес-центр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Бізнес-інкубатор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Інвестиційні фонд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Інститути спільного інвест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7:13:13Z</dcterms:created>
  <dc:creator>YAR</dc:creator>
  <dc:description/>
  <dc:language>en-US</dc:language>
  <cp:lastModifiedBy>SuperVisor</cp:lastModifiedBy>
  <cp:lastPrinted>2012-03-27T19:37:19Z</cp:lastPrinted>
  <dcterms:modified xsi:type="dcterms:W3CDTF">2020-12-06T16:33:26Z</dcterms:modified>
  <cp:revision>401</cp:revision>
  <dc:subject/>
  <dc:title>Слайд 1</dc:title>
</cp:coreProperties>
</file>