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E6B2-DBA4-47C3-A6B4-63A6376A71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0832-642C-4A43-B1C9-4AEBE0B654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F6C-CEE4-4223-B4E8-03BA42CA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F77-388E-428D-8C56-62C8B63D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9F4-D10D-4FB2-AEC6-1E7F7230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22D-5FF4-47A7-B846-57656C96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1D45-ED8A-43C0-846C-E450DCB2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0F0C-73EF-4793-9F0F-C18BAD2D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A3ED-55C9-494D-B268-6631582D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2715-20EC-4D93-B7BE-6D6F1E19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6158-A1F5-47A0-AB4C-9B82467A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DD08-FC7B-4417-B978-C94F11EA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BED2-0DAF-4D76-844C-80EB0ABF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ED5-18E5-4E42-93F9-18071465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952C-8C52-414D-91A9-15DFBBB8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6A29-514A-4D68-88E5-04CAE46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35ED-B30E-45CD-874D-B5461783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59EB-A6A7-4B76-BAC5-8E37ADBB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0117-F9D3-4CBB-86DD-B0E404F4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295-F284-4B5B-A10C-23FB9E71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C14-5DD1-4C60-B3DE-67ED2EC8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D78-DD6B-493E-82F6-0AE0D769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B51-1E0B-4774-9464-E47E422D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9F9-C88F-4A1E-8E81-D256C317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640-0CD0-4BA5-A74D-6AB28096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AC0-317A-4638-A209-420DF104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54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172200"/>
            <a:ext cx="408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E230-4787-4198-9809-D562146AB8D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E1FD-D8ED-475D-A7AD-020E2CE935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092560"/>
            <a:ext cx="74678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олітичне управлі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4200" y="5534640"/>
            <a:ext cx="8777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c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олітичне управлі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2960" y="1428840"/>
            <a:ext cx="8105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Дана спеціалізація виклик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ускладненням політико-адміністративних методів управління сучасною державо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- якісним зростанням ролі інформаційно-комунікативних процесів в системах управлі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- перетворенням структур управління національними державами в складову частину транскордонних систем глобального управлі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- неодмінним включенням бізнесу, неурядових і міжнародних організацій, а також інших цивільних структур до процесу розробки державних стратегі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олитическое управ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42960" y="1357200"/>
            <a:ext cx="8321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Ці сучасні тенденції розвитку систем державного і корпоративного управління перетворюють експертно-консультаційний супровід рішень в необхідний компонент діяльності всіх адміністративних структур державного, регіонального та місцевого рівні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Фахівці в області </a:t>
            </a:r>
            <a:r>
              <a:rPr b="0" lang="en-US" sz="2000" spc="-1" strike="noStrike">
                <a:solidFill>
                  <a:srgbClr val="ffc000"/>
                </a:solidFill>
                <a:latin typeface="Tahoma"/>
              </a:rPr>
              <a:t>PR- GR-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комунікацій стають одними з центральних фігур, які забезпечують позиціонування органів державного управління, розвиток їх відносин з бізнес-корпораціями і цивільними структу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Знання основ організації міжнародних систем та режимів стає обов'язковим для сучасного фахівця в галузі управлін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47:38Z</dcterms:created>
  <dc:creator>Default User</dc:creator>
  <dc:description/>
  <dc:language>en-US</dc:language>
  <cp:lastModifiedBy>user</cp:lastModifiedBy>
  <dcterms:modified xsi:type="dcterms:W3CDTF">2018-09-25T15:02:40Z</dcterms:modified>
  <cp:revision>24</cp:revision>
  <dc:subject/>
  <dc:title>Политическое упр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41049</vt:lpwstr>
  </property>
</Properties>
</file>