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3D20-CF51-4887-90E5-7F606FBEEB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9EAD-DE2E-436A-A415-9D2DBD6207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BD1-6E68-49A3-98A7-6C3EF451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8361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07E-924D-4B8F-98B6-25F6EEC7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304-E9DD-47FA-8146-A5A844FA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9A5-A34B-40F3-9C58-3FD3A53E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9523-9290-4744-BFDD-728DB822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887B-847B-438F-8E91-6AC597DF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5092-C753-4BBA-8A04-179C70F8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D62B-608E-4983-8F9F-E8A3C66F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5FF0-5A0C-484B-986D-792E21AC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022A-721D-431A-AD96-92AEE6E0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FDA5-5B9C-4A1D-BB2C-6E2C6742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34B-5180-41B0-A0E2-807052A7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8FC2-CA51-4D5E-A843-8D688B23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706B-04AC-4938-859F-CC279D93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8361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0C5E-6A10-40E5-8A3F-FB190534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AD6E-A44C-4332-B6CE-03A4DD76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4479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83616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1E7B-BA40-4DA0-B63F-AB7C1364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E15-0BEC-4EED-B840-C4D80695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A24-B6DD-48D5-887F-71151566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B26-27F8-4517-AF63-0B7BA12B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221-2AB6-4BC6-9586-D924C7DC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E58-8B5A-4F80-8514-5F048E7E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83616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2B6-3A01-45EB-A706-D71B1A5D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4479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83616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105-00C0-4536-A184-0E697CCD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54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172200"/>
            <a:ext cx="408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71DD-A1BF-4C7B-A5F8-B02D892512F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E642-471A-4391-8F4F-80DC917F8D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5092560"/>
            <a:ext cx="74678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олітичне управлі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4200" y="5534640"/>
            <a:ext cx="87775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c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олітичне управлі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42960" y="1428840"/>
            <a:ext cx="8105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Дана спеціалізація виклик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ускладненням політико-адміністративних методів управління сучасною державо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- якісним зростанням ролі інформаційно-комунікативних процесів в системах управлін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- перетворенням структур управління національними державами в складову частину транскордонних систем глобального управлін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- неодмінним включенням бізнесу, неурядових і міжнародних організацій, а також інших цивільних структур до процесу розробки державних стратегі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олитическое управ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42960" y="1357200"/>
            <a:ext cx="8321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Ці сучасні тенденції розвитку систем державного і корпоративного управління перетворюють експертно-консультаційний супровід рішень в необхідний компонент діяльності всіх адміністративних структур державного, регіонального та місцевого рівні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Фахівці в області </a:t>
            </a:r>
            <a:r>
              <a:rPr b="0" lang="en-US" sz="2000" spc="-1" strike="noStrike">
                <a:solidFill>
                  <a:srgbClr val="ffc000"/>
                </a:solidFill>
                <a:latin typeface="Tahoma"/>
              </a:rPr>
              <a:t>PR- GR-</a:t>
            </a: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комунікацій стають одними з центральних фігур, які забезпечують позиціонування органів державного управління, розвиток їх відносин з бізнес-корпораціями і цивільними структур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Знання основ організації міжнародних систем та режимів стає обов'язковим для сучасного фахівця в галузі управлін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4:47:38Z</dcterms:created>
  <dc:creator>Default User</dc:creator>
  <dc:description/>
  <dc:language>en-US</dc:language>
  <cp:lastModifiedBy>user</cp:lastModifiedBy>
  <dcterms:modified xsi:type="dcterms:W3CDTF">2018-09-25T15:02:40Z</dcterms:modified>
  <cp:revision>24</cp:revision>
  <dc:subject/>
  <dc:title>Политическое управ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41049</vt:lpwstr>
  </property>
</Properties>
</file>