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45C79-4ABA-4D5D-8F2A-CE56FB5D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DC900-DF9C-46E9-9A61-D034E228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65AFA-E266-4C26-AF45-2D474CEE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20F57-DB68-4D05-B141-0B470AF0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B9F7-3B41-4E15-A1E5-C2E13367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2F7F-0212-40D6-B03A-8340AA50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384B-8EC2-447B-A19F-BFC7A7D3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1EA0-6485-49CA-A2C5-8FC825F7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E4B2-27B4-4837-8BBD-2C439656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BE67-7F59-49C5-8023-267547A2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E54A-6982-43F7-AA99-8932FF45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08555-6507-4FA0-8DDC-64C35268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48C6-A9A0-48B7-BF8E-F4ED4491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DCB7-16EE-45E5-83BB-CB997C70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C48D-2BD9-4453-9CFD-050EA74B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5C1C-1BA2-4EE4-B074-6D8F88CB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C371-88E3-49CD-B7BA-12E2E354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3D9B4-F1FA-450B-B445-CE9210F4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B6B5C-6114-457A-921E-97F6FCF6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B7328-C835-40B0-BE6F-3ED59483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4445-486A-470C-93EB-B9448BB1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0E5C6-5936-49EE-B7A1-ABFC022D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9D0F3-F5EF-47A8-9CDB-740D79FB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8C874-3663-4BDA-9DB1-3F491DC5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184E-C90D-4540-968E-ED86CF3012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4FB3-E674-4DC5-A659-2F42365A8050}" type="slidenum">
              <a:rPr b="0" lang="ru-RU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8c1ba"/>
                </a:solidFill>
                <a:latin typeface="Garamond"/>
              </a:rPr>
              <a:t>ПЛАСТИЧНИЙ ТА ЕНЕРГЕТИЧНИЙ ОБМІН КЛІТИНИ</a:t>
            </a:r>
            <a:br>
              <a:rPr sz="5400"/>
            </a:b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4572000" y="44370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Garamond"/>
              </a:rPr>
              <a:t>Сумарна реакція клітинного дихання виглядає наступним чином: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893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→ 6С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 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 + 38 АТФ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В клітинах багатьох мікроорганізмів може відбуватися </a:t>
            </a:r>
            <a:r>
              <a:rPr b="1" lang="uk-UA" sz="2800" spc="-1" strike="noStrike">
                <a:solidFill>
                  <a:srgbClr val="ffcc00"/>
                </a:solidFill>
                <a:latin typeface="Garamond"/>
              </a:rPr>
              <a:t>анаеробний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кислювально-відновлювальний процес перетворення органічних сполук з утворенням АТФ, який називається </a:t>
            </a:r>
            <a:r>
              <a:rPr b="1" i="1" lang="uk-UA" sz="2800" spc="-1" strike="noStrike">
                <a:solidFill>
                  <a:srgbClr val="ffcc00"/>
                </a:solidFill>
                <a:latin typeface="Garamond"/>
              </a:rPr>
              <a:t>бродінням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інцевими продуктами спиртового бродіння є етиловий спирт (С2Н5ОН), вуглекислий газ і дві молекули АТФ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→    2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5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Н + С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2АТФ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При молочнокислому бродінні, піруват, що утворився при розпаді глюкози, відновлюється до молочної кислоти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Н + Н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   →    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ПЛАСТИЧНИЙ ОБМІН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а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вт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Автотрофна асиміляція.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Автотрофні організми здатні самостійно синтезувати органічні речовини з неорганічни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лежно від того, яке джерело енергії використовують для синтезу органічних речовин автотрофні організми, їх підрозділяють на дві групи: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фот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хем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d8c1ba"/>
                </a:solidFill>
                <a:latin typeface="Garamond"/>
              </a:rPr>
              <a:t>Фототрофи</a:t>
            </a: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трофа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є зелені рослини, для яких характерний фотосинтез, що відбувається завдяки наявності у хлоропластах пігменту хлорофіл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синтез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кладний багатоступінчастий процес перетворення сонячної енергії в потенційну енергію хімічних зв'язків в органічних речовинах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хема электронного транспорта при фотосинтезе</a:t>
            </a:r>
            <a:endParaRPr b="1" lang="en-US" sz="32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4" name="Picture 5" descr="z -схема фотосинтеза"/>
          <p:cNvPicPr/>
          <p:nvPr/>
        </p:nvPicPr>
        <p:blipFill>
          <a:blip r:embed="rId1"/>
          <a:stretch/>
        </p:blipFill>
        <p:spPr>
          <a:xfrm>
            <a:off x="1547640" y="1047600"/>
            <a:ext cx="59169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хема фотосинтеза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6" name="Picture 5" descr="z- схема 2 (полнее)"/>
          <p:cNvPicPr/>
          <p:nvPr/>
        </p:nvPicPr>
        <p:blipFill>
          <a:blip r:embed="rId1"/>
          <a:stretch/>
        </p:blipFill>
        <p:spPr>
          <a:xfrm>
            <a:off x="2124000" y="942840"/>
            <a:ext cx="468324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схема фотосинтеза"/>
          <p:cNvPicPr/>
          <p:nvPr/>
        </p:nvPicPr>
        <p:blipFill>
          <a:blip r:embed="rId1"/>
          <a:stretch/>
        </p:blipFill>
        <p:spPr>
          <a:xfrm>
            <a:off x="1989000" y="0"/>
            <a:ext cx="51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Фотосинтез у прокаріотичних організмів  має певні особливості залежно від видової специфічності. Так, наприклад, ціанобактерії і прохлорофіти здійснюють фотосинтез з виділенням кисню, а пурпурні, зелені та галобактерії – без цього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рім того деякі бактерії можуть використовувати спеціальні пігменти для цього процесу: галобактерії здійснюють складний цикл фотохімічних реакцій за допомогою бактеріородопсину, ціанобактерії містять фікоціанін, що часом більш активно, ніж наявний у них хлорофіл, приймає участь у фотосинтезі та ін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Хемосинтез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интез органічних речовин у автотрофних бактерій з використанням енергії, що виділяється при хімічних реакціях окислення неорганічних сполук: сірководню, сірки, аміаку, азотної кислоти, заліза та ін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Бактерії, що нітрифікують, живуть у ґрунті і водоймах. Деякі з них одержують енергію в результаті окислювання аміаку в азотисту кислот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N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3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   → 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N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етаболіз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– це сукупність величезної кількості біохімічних процесів, кожний з яких представляє собою певну послідовність багатьох хімічних реакцій, які здійснюються за участю ферментів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На рівні клітини обмін речовин складається з двох взаємно пов’язаних процесів, які протікають одночасно: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ї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ан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плас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ї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ат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енерге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У теплих водоймах, що містять сірководень, живуть безбарвні бактерії, які здатні добувати енергію, необхідну для синтезу органічної речовини з вуглекислоти в повній темряві, окислюючи сірководень і накопичуючи сірк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 + O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    →    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 + 2S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При виснаженні запасів сірководню бактерії використовують відкладену в них сірку, окислюючи її до сірчаної кислоти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  →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Інша група бактерій окислює азотисту кислоту до азотної і використовує виділену енергію для синтезу речовин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О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→ 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відбувається в клітинах тварин, грибів, деяких бактерій, які синтезують органічні сполуки для свого тіла з вже готових органічних речовин, що надходять з їжею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спостерігається у організмів, які містять пігмент хлорофіл і на світлі можуть бути автотрофами, а за умов відсутності світла стають гетеротрофами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538280" y="3241800"/>
            <a:ext cx="180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я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це сукупність реакцій біосинтезу, тобто процес утворення органічних сполук, специфічних для даної клітини: з простих речовин утворюються більш складні, а з низькомолекулярних – високомолекулярн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я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– це сукупність реакцій розщеплення речовин, завдяки чому здійснюється розпад органічних сполук на більш прості і виділяється енергія.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СО2 і Н2О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продукти дисиміляції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8c1ba"/>
                </a:solidFill>
                <a:latin typeface="Garamond"/>
              </a:rPr>
              <a:t>ЕНЕРГЕТИЧНИЙ ОБМІН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денозинтрифосфат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АТФ) – основний акумулятор і універсальний переносник енергії в клітині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2050920" y="0"/>
          <a:ext cx="53294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29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ди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ероб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наеробними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У більшості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аеробних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рганізмів енергетичний обмін представляє собою сукупність аеробних та анаеробних процесів, які можуть доповнювати один одного або переважати залежно від конкретних умов існування.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01680" y="228600"/>
            <a:ext cx="8540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Цикл трикарбоновых кислот або цикл Кребса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0" name="Picture 5" descr="цикл Кребса"/>
          <p:cNvPicPr/>
          <p:nvPr/>
        </p:nvPicPr>
        <p:blipFill>
          <a:blip r:embed="rId1"/>
          <a:stretch/>
        </p:blipFill>
        <p:spPr>
          <a:xfrm>
            <a:off x="1692360" y="692280"/>
            <a:ext cx="559584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В процесі ЦТК утворюються НАДН та ФАДН2, які далі окислюються в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дихальному ланцюз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Цей етап називається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тканинни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літинним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дихання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і здійснюється у еукаріот в мітохондріях, а у прокаріот – в клітинній мембрані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8360" y="2602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Сопряжение процессов дыхания и фосфорилирования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3" name="Picture 5" descr="схема дыхания"/>
          <p:cNvPicPr/>
          <p:nvPr/>
        </p:nvPicPr>
        <p:blipFill>
          <a:blip r:embed="rId1"/>
          <a:stretch/>
        </p:blipFill>
        <p:spPr>
          <a:xfrm>
            <a:off x="2195640" y="1125360"/>
            <a:ext cx="47019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8:29:12Z</dcterms:created>
  <dc:creator>comp</dc:creator>
  <dc:description/>
  <dc:language>en-US</dc:language>
  <cp:lastModifiedBy>asus</cp:lastModifiedBy>
  <dcterms:modified xsi:type="dcterms:W3CDTF">2018-12-09T16:06:58Z</dcterms:modified>
  <cp:revision>4</cp:revision>
  <dc:subject/>
  <dc:title>ПЛАСТИЧНИЙ ТА ЕНЕРГЕТИЧНИЙ ОБМІН КЛІТИНИ</dc:title>
</cp:coreProperties>
</file>