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B1DC7-D407-4D2E-851C-F0EF93D30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6B8CE-B94A-42C4-9C67-3C96B9D55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50336-D0F6-4ECA-A3BE-D4481CE69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AF078-3696-4A6A-A6F8-AE449E447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54DA7-60DC-4FF0-9FB7-6445671B8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DE4BE-089E-47C5-9716-A78937D08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78548-2850-4CFF-A68A-4E8222A4D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6F647-3990-4CC5-8601-41193A4C5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ACE0E-6EF1-45E8-8BEB-D23DDBD3A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3A817-CCE4-45AD-9E36-9602EAE8B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08D6B-A8BD-41CC-B71F-72F7187A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D33E6-D48C-48E9-BA1E-A23C7C17D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2026D-3B06-45DF-9806-1E48F4C7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44963-16D2-40A0-BFBC-C3E97052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4CF80-9DE8-49D9-8BDE-A2E360F3D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42639-198D-4261-AAC8-2A199B281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EB214-E8A3-4866-B40E-240282F7A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90A5F-0B55-4694-9539-E6F821EC4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949AE-569A-44C0-8DBA-FFA88C2DE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1C340-D382-4EA2-A9ED-5EAB2A705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BB074-D161-4B3E-ADEE-E29AFA3CA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805B3-8E4A-469F-94BE-E32D872F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DC6C1-9165-40CB-96E4-A9E47AD8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46525-0CEB-4E89-B5D7-CF11F4C5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93A13-0021-45CB-998C-7DAEDACC16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15150"/>
                  </a:gs>
                  <a:gs pos="100000">
                    <a:srgbClr val="8a63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a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95756"/>
                  </a:gs>
                  <a:gs pos="100000">
                    <a:srgbClr val="8a636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755453"/>
                </a:gs>
                <a:gs pos="100000">
                  <a:srgbClr val="8a636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4444"/>
                </a:gs>
                <a:gs pos="100000">
                  <a:srgbClr val="8a6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15150"/>
                  </a:gs>
                  <a:gs pos="100000">
                    <a:srgbClr val="8a63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a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95756"/>
                  </a:gs>
                  <a:gs pos="100000">
                    <a:srgbClr val="8a636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755453"/>
                </a:gs>
                <a:gs pos="100000">
                  <a:srgbClr val="8a636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4444"/>
                </a:gs>
                <a:gs pos="100000">
                  <a:srgbClr val="8a6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908E7-B9DC-4919-A19C-EAD08A878AD2}" type="slidenum">
              <a:rPr b="0" lang="ru-RU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777240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d8c1ba"/>
                </a:solidFill>
                <a:latin typeface="Garamond"/>
              </a:rPr>
              <a:t>ПЛАСТИЧНИЙ ТА ЕНЕРГЕТИЧНИЙ ОБМІН КЛІТИНИ</a:t>
            </a:r>
            <a:br>
              <a:rPr sz="5400"/>
            </a:br>
            <a:endParaRPr b="1" lang="en-US" sz="5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01" name="Прямоугольник 1"/>
          <p:cNvSpPr/>
          <p:nvPr/>
        </p:nvSpPr>
        <p:spPr>
          <a:xfrm>
            <a:off x="4572000" y="4437000"/>
            <a:ext cx="45720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cc00"/>
                </a:solidFill>
                <a:latin typeface="Garamond"/>
              </a:rPr>
              <a:t>Сумарна реакція клітинного дихання виглядає наступним чином:</a:t>
            </a:r>
            <a:endParaRPr b="1" lang="en-US" sz="36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560" y="2205000"/>
            <a:ext cx="88930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С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6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Н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12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О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6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 + 6О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 → 6СО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 + 6 Н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О + 38 АТФ</a:t>
            </a:r>
            <a:endParaRPr b="0" lang="en-US" sz="36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В клітинах багатьох мікроорганізмів може відбуватися </a:t>
            </a:r>
            <a:r>
              <a:rPr b="1" lang="uk-UA" sz="2800" spc="-1" strike="noStrike">
                <a:solidFill>
                  <a:srgbClr val="ffcc00"/>
                </a:solidFill>
                <a:latin typeface="Garamond"/>
              </a:rPr>
              <a:t>анаеробний</a:t>
            </a: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 окислювально-відновлювальний процес перетворення органічних сполук з утворенням АТФ, який називається </a:t>
            </a:r>
            <a:r>
              <a:rPr b="1" i="1" lang="uk-UA" sz="2800" spc="-1" strike="noStrike">
                <a:solidFill>
                  <a:srgbClr val="ffcc00"/>
                </a:solidFill>
                <a:latin typeface="Garamond"/>
              </a:rPr>
              <a:t>бродінням</a:t>
            </a:r>
            <a:r>
              <a:rPr b="0" lang="uk-UA" sz="2800" spc="-1" strike="noStrike">
                <a:solidFill>
                  <a:srgbClr val="ffcc00"/>
                </a:solidFill>
                <a:latin typeface="Garamond"/>
              </a:rPr>
              <a:t>.</a:t>
            </a: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39480" indent="-33948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Кінцевими продуктами спиртового бродіння є етиловий спирт (С2Н5ОН), вуглекислий газ і дві молекули АТФ: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	</a:t>
            </a: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С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6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Н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12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О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6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 →    2С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Н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5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ОН + СО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 + 2АТФ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39480" indent="-33948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При молочнокислому бродінні, піруват, що утворився при розпаді глюкози, відновлюється до молочної кислоти: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	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С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3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Н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4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О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3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 + НАДН + Н</a:t>
            </a:r>
            <a:r>
              <a:rPr b="1" lang="uk-UA" sz="2800" spc="-1" strike="noStrike" baseline="30000">
                <a:solidFill>
                  <a:srgbClr val="f7f3f3"/>
                </a:solidFill>
                <a:latin typeface="Garamond"/>
              </a:rPr>
              <a:t>+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    →    С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3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Н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6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О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3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 + НАД</a:t>
            </a:r>
            <a:r>
              <a:rPr b="1" lang="uk-UA" sz="2800" spc="-1" strike="noStrike" baseline="30000">
                <a:solidFill>
                  <a:srgbClr val="f7f3f3"/>
                </a:solidFill>
                <a:latin typeface="Garamond"/>
              </a:rPr>
              <a:t>+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d8c1ba"/>
                </a:solidFill>
                <a:latin typeface="Garamond"/>
              </a:rPr>
              <a:t>ПЛАСТИЧНИЙ ОБМІН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За типом асиміляції організми можуть бути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втотрофним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,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гетеротрофним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і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міксотрофним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d8c1ba"/>
                </a:solidFill>
                <a:latin typeface="Garamond"/>
              </a:rPr>
              <a:t>Автотрофна асиміляція. 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4358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Автотрофні організми здатні самостійно синтезувати органічні речовини з неорганічних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Залежно від того, яке джерело енергії використовують для синтезу органічних речовин автотрофні організми, їх підрозділяють на дві групи: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фототроф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і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хемотроф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d8c1ba"/>
                </a:solidFill>
                <a:latin typeface="Garamond"/>
              </a:rPr>
              <a:t>Фототрофи</a:t>
            </a:r>
            <a:r>
              <a:rPr b="1" lang="ru-RU" sz="4400" spc="-1" strike="noStrike">
                <a:solidFill>
                  <a:srgbClr val="d8c1ba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Фототрофам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є зелені рослини, для яких характерний фотосинтез, що відбувається завдяки наявності у хлоропластах пігменту хлорофілу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35880" indent="-3358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Фотосинтез</a:t>
            </a:r>
            <a:r>
              <a:rPr b="1" i="1" lang="uk-UA" sz="32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– це складний багатоступінчастий процес перетворення сонячної енергії в потенційну енергію хімічних зв'язків в органічних речовинах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Схема электронного транспорта при фотосинтезе</a:t>
            </a:r>
            <a:endParaRPr b="1" lang="en-US" sz="32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124" name="Picture 5" descr="z -схема фотосинтеза"/>
          <p:cNvPicPr/>
          <p:nvPr/>
        </p:nvPicPr>
        <p:blipFill>
          <a:blip r:embed="rId1"/>
          <a:stretch/>
        </p:blipFill>
        <p:spPr>
          <a:xfrm>
            <a:off x="1547640" y="1047600"/>
            <a:ext cx="5916960" cy="58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Garamond"/>
              </a:rPr>
              <a:t>Схема фотосинтеза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126" name="Picture 5" descr="z- схема 2 (полнее)"/>
          <p:cNvPicPr/>
          <p:nvPr/>
        </p:nvPicPr>
        <p:blipFill>
          <a:blip r:embed="rId1"/>
          <a:stretch/>
        </p:blipFill>
        <p:spPr>
          <a:xfrm>
            <a:off x="2124000" y="942840"/>
            <a:ext cx="4683240" cy="59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схема фотосинтеза"/>
          <p:cNvPicPr/>
          <p:nvPr/>
        </p:nvPicPr>
        <p:blipFill>
          <a:blip r:embed="rId1"/>
          <a:stretch/>
        </p:blipFill>
        <p:spPr>
          <a:xfrm>
            <a:off x="1989000" y="0"/>
            <a:ext cx="5162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Фотосинтез у прокаріотичних організмів  має певні особливості залежно від видової специфічності. Так, наприклад, ціанобактерії і прохлорофіти здійснюють фотосинтез з виділенням кисню, а пурпурні, зелені та галобактерії – без цього.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08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08520" indent="-30852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Крім того деякі бактерії можуть використовувати спеціальні пігменти для цього процесу: галобактерії здійснюють складний цикл фотохімічних реакцій за допомогою бактеріородопсину, ціанобактерії містять фікоціанін, що часом більш активно, ніж наявний у них хлорофіл, приймає участь у фотосинтезі та ін.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89308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Хемосинтез</a:t>
            </a:r>
            <a:r>
              <a:rPr b="1" lang="uk-UA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– це синтез органічних речовин у автотрофних бактерій з використанням енергії, що виділяється при хімічних реакціях окислення неорганічних сполук: сірководню, сірки, аміаку, азотної кислоти, заліза та ін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35880" indent="-3358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Бактерії, що нітрифікують, живуть у ґрунті і водоймах. Деякі з них одержують енергію в результаті окислювання аміаку в азотисту кислоту: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 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NH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3 + 3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O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    →     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HNO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 + 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H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O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</a:t>
            </a:r>
            <a:r>
              <a:rPr b="1" i="1" lang="uk-UA" sz="3200" spc="-1" strike="noStrike">
                <a:solidFill>
                  <a:srgbClr val="f7f3f3"/>
                </a:solidFill>
                <a:latin typeface="Garamond"/>
              </a:rPr>
              <a:t>енергія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метаболізм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– це сукупність величезної кількості біохімічних процесів, кожний з яких представляє собою певну послідовність багатьох хімічних реакцій, які здійснюються за участю ферментів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22200" indent="-32220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На рівні клітини обмін речовин складається з двох взаємно пов’язаних процесів, які протікають одночасно: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симіляції</a:t>
            </a:r>
            <a:r>
              <a:rPr b="1" lang="uk-UA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(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анаболізм,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або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пластичний обмін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) та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дисиміляції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(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катаболізм,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або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енергетичний обмін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)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2220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У теплих водоймах, що містять сірководень, живуть безбарвні бактерії, які здатні добувати енергію, необхідну для синтезу органічної речовини з вуглекислоти в повній темряві, окислюючи сірководень і накопичуючи сірку: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2H</a:t>
            </a:r>
            <a:r>
              <a:rPr b="1" lang="en-US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S + O</a:t>
            </a:r>
            <a:r>
              <a:rPr b="1" lang="en-US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    →    2H</a:t>
            </a:r>
            <a:r>
              <a:rPr b="1" lang="en-US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O + 2S + </a:t>
            </a:r>
            <a:r>
              <a:rPr b="1" i="1" lang="uk-UA" sz="3200" spc="-1" strike="noStrike">
                <a:solidFill>
                  <a:srgbClr val="f7f3f3"/>
                </a:solidFill>
                <a:latin typeface="Garamond"/>
              </a:rPr>
              <a:t>енергія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При виснаженні запасів сірководню бактерії використовують відкладену в них сірку, окислюючи її до сірчаної кислоти: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S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 3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O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 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H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O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  →    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H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SO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4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 </a:t>
            </a:r>
            <a:r>
              <a:rPr b="1" i="1" lang="uk-UA" sz="3200" spc="-1" strike="noStrike">
                <a:solidFill>
                  <a:srgbClr val="f7f3f3"/>
                </a:solidFill>
                <a:latin typeface="Garamond"/>
              </a:rPr>
              <a:t>енергія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Інша група бактерій окислює азотисту кислоту до азотної і використовує виділену енергію для синтезу речовин: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HNO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 О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→ 2HNO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3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 енергія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6421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Гетеротрофна асиміляція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відбувається в клітинах тварин, грибів, деяких бактерій, які синтезують органічні сполуки для свого тіла з вже готових органічних речовин, що надходять з їжею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Міксотрофна асиміляція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спостерігається у організмів, які містять пігмент хлорофіл і на світлі можуть бути автотрофами, а за умов відсутності світла стають гетеротрофами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132" name="Rectangle 20"/>
          <p:cNvSpPr/>
          <p:nvPr/>
        </p:nvSpPr>
        <p:spPr>
          <a:xfrm>
            <a:off x="1538280" y="3241800"/>
            <a:ext cx="180720" cy="7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7f3f3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7f3f3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симіляція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– це сукупність реакцій біосинтезу, тобто процес утворення органічних сполук, специфічних для даної клітини: з простих речовин утворюються більш складні, а з низькомолекулярних – високомолекулярні.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Дисиміляція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– це сукупність реакцій розщеплення речовин, завдяки чому здійснюється розпад органічних сполук на більш прості і виділяється енергія.</a:t>
            </a:r>
            <a:r>
              <a:rPr b="0" lang="ru-RU" sz="32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29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	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СО2 і Н2О</a:t>
            </a:r>
            <a:r>
              <a:rPr b="1" lang="ru-RU" sz="32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– продукти дисиміляції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d8c1ba"/>
                </a:solidFill>
                <a:latin typeface="Garamond"/>
              </a:rPr>
              <a:t>ЕНЕРГЕТИЧНИЙ ОБМІН</a:t>
            </a:r>
            <a:br>
              <a:rPr sz="4000"/>
            </a:b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денозинтрифосфат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(АТФ) – основний акумулятор і універсальний переносник енергії в клітині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Object 4"/>
          <p:cNvGraphicFramePr/>
          <p:nvPr/>
        </p:nvGraphicFramePr>
        <p:xfrm>
          <a:off x="2050920" y="0"/>
          <a:ext cx="532944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0"/>
                    <a:ext cx="53294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За типом дисиміляції організми можуть бути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еробним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та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наеробними.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У більшості 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аеробних</a:t>
            </a: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 організмів енергетичний обмін представляє собою сукупність аеробних та анаеробних процесів, які можуть доповнювати один одного або переважати залежно від конкретних умов існування. 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301680" y="228600"/>
            <a:ext cx="8540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Цикл трикарбоновых кислот або цикл Кребса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110" name="Picture 5" descr="цикл Кребса"/>
          <p:cNvPicPr/>
          <p:nvPr/>
        </p:nvPicPr>
        <p:blipFill>
          <a:blip r:embed="rId1"/>
          <a:stretch/>
        </p:blipFill>
        <p:spPr>
          <a:xfrm>
            <a:off x="1692360" y="692280"/>
            <a:ext cx="5595840" cy="59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В процесі ЦТК утворюються НАДН та ФАДН2, які далі окислюються в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дихальному ланцюзі.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Цей етап називається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тканинним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або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клітинним </a:t>
            </a:r>
            <a:r>
              <a:rPr b="1" i="1" lang="uk-UA" sz="3200" spc="-1" strike="noStrike">
                <a:solidFill>
                  <a:srgbClr val="f7f3f3"/>
                </a:solidFill>
                <a:latin typeface="Garamond"/>
              </a:rPr>
              <a:t>диханням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, і здійснюється у еукаріот в мітохондріях, а у прокаріот – в клітинній мембрані</a:t>
            </a:r>
            <a:r>
              <a:rPr b="0" lang="ru-RU" sz="32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468360" y="260280"/>
            <a:ext cx="82296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Сопряжение процессов дыхания и фосфорилирования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113" name="Picture 5" descr="схема дыхания"/>
          <p:cNvPicPr/>
          <p:nvPr/>
        </p:nvPicPr>
        <p:blipFill>
          <a:blip r:embed="rId1"/>
          <a:stretch/>
        </p:blipFill>
        <p:spPr>
          <a:xfrm>
            <a:off x="2195640" y="1125360"/>
            <a:ext cx="4701960" cy="56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1T08:29:12Z</dcterms:created>
  <dc:creator>comp</dc:creator>
  <dc:description/>
  <dc:language>en-US</dc:language>
  <cp:lastModifiedBy>asus</cp:lastModifiedBy>
  <dcterms:modified xsi:type="dcterms:W3CDTF">2018-12-09T16:06:58Z</dcterms:modified>
  <cp:revision>4</cp:revision>
  <dc:subject/>
  <dc:title>ПЛАСТИЧНИЙ ТА ЕНЕРГЕТИЧНИЙ ОБМІН КЛІТИНИ</dc:title>
</cp:coreProperties>
</file>