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B2674-94DE-4EE0-9DF6-32B6F571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D8020-B7BE-4A71-9378-499031D9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EE19F-ED81-43A0-A04D-8BB1CA1A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4BF87-09AC-4FD0-B62C-9E6AAE50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A3F2-073E-4AC2-94F2-6B46C27C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6952-4B46-469C-A52C-E0DB4BEE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BAC4-CC58-444E-8FE5-21947E7B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5DE5-2A0F-46A2-ACED-8751468F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323C-A856-4B31-B7BB-A9A91404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AB78-9413-4638-90C0-BC60D528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B6F5-02DD-44E7-9211-DD9DC9A4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178CF-B128-49CC-BA3B-F90578A6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35D1-8759-4608-BFF4-59B43CD3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7751-8D70-471C-8741-0FFAB91C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FF30-543D-4F38-BFC6-FA803BEC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8FED-927B-4C53-96DC-856C3147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EC38-76C8-4C32-A7E1-42539EBB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D817B-E166-4ECA-AA62-229BE139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7FAFB-E4BF-40B2-A1EE-BD8E3BE2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295C7-FFE6-47A5-B643-3D33EAE8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7B19F-2FF6-4C28-996E-B9DF8E57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81891-9D6C-481E-AA9C-CD43D622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B0D1B-FF8D-45F6-96C6-D6FB1E6F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10F3A-DA6D-4103-9C18-3EB25F62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A646-77D2-4972-91E1-6F103817B5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4A48-D9A5-4576-BA99-81AD43FA5799}" type="slidenum">
              <a:rPr b="0" lang="ru-RU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d8c1ba"/>
                </a:solidFill>
                <a:latin typeface="Garamond"/>
              </a:rPr>
              <a:t>ПЛАСТИЧНИЙ ТА ЕНЕРГЕТИЧНИЙ ОБМІН КЛІТИНИ</a:t>
            </a:r>
            <a:br>
              <a:rPr sz="5400"/>
            </a:b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1" name="Прямоугольник 1"/>
          <p:cNvSpPr/>
          <p:nvPr/>
        </p:nvSpPr>
        <p:spPr>
          <a:xfrm>
            <a:off x="4572000" y="4437000"/>
            <a:ext cx="4572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cc00"/>
                </a:solidFill>
                <a:latin typeface="Garamond"/>
              </a:rPr>
              <a:t>Сумарна реакція клітинного дихання виглядає наступним чином:</a:t>
            </a:r>
            <a:endParaRPr b="1" lang="en-US" sz="36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893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1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+ 6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→ 6С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+ 6 Н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О + 38 АТФ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В клітинах багатьох мікроорганізмів може відбуватися </a:t>
            </a:r>
            <a:r>
              <a:rPr b="1" lang="uk-UA" sz="2800" spc="-1" strike="noStrike">
                <a:solidFill>
                  <a:srgbClr val="ffcc00"/>
                </a:solidFill>
                <a:latin typeface="Garamond"/>
              </a:rPr>
              <a:t>анаеробний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окислювально-відновлювальний процес перетворення органічних сполук з утворенням АТФ, який називається </a:t>
            </a:r>
            <a:r>
              <a:rPr b="1" i="1" lang="uk-UA" sz="2800" spc="-1" strike="noStrike">
                <a:solidFill>
                  <a:srgbClr val="ffcc00"/>
                </a:solidFill>
                <a:latin typeface="Garamond"/>
              </a:rPr>
              <a:t>бродінням</a:t>
            </a:r>
            <a:r>
              <a:rPr b="0" lang="uk-UA" sz="2800" spc="-1" strike="noStrike">
                <a:solidFill>
                  <a:srgbClr val="ffcc00"/>
                </a:solidFill>
                <a:latin typeface="Garamond"/>
              </a:rPr>
              <a:t>.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Кінцевими продуктами спиртового бродіння є етиловий спирт (С2Н5ОН), вуглекислий газ і дві молекули АТФ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1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→    2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5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Н + С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2АТФ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При молочнокислому бродінні, піруват, що утворився при розпаді глюкози, відновлюється до молочної кислоти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4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НАДН + Н</a:t>
            </a:r>
            <a:r>
              <a:rPr b="1" lang="uk-UA" sz="2800" spc="-1" strike="noStrike" baseline="30000">
                <a:solidFill>
                  <a:srgbClr val="f7f3f3"/>
                </a:solidFill>
                <a:latin typeface="Garamond"/>
              </a:rPr>
              <a:t>+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   →    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НАД</a:t>
            </a:r>
            <a:r>
              <a:rPr b="1" lang="uk-UA" sz="2800" spc="-1" strike="noStrike" baseline="30000">
                <a:solidFill>
                  <a:srgbClr val="f7f3f3"/>
                </a:solidFill>
                <a:latin typeface="Garamond"/>
              </a:rPr>
              <a:t>+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8c1ba"/>
                </a:solidFill>
                <a:latin typeface="Garamond"/>
              </a:rPr>
              <a:t>ПЛАСТИЧНИЙ ОБМІН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 типом асиміляції організми можуть бути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вт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,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гетер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і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ікс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8c1ba"/>
                </a:solidFill>
                <a:latin typeface="Garamond"/>
              </a:rPr>
              <a:t>Автотрофна асиміляція.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358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Автотрофні організми здатні самостійно синтезувати органічні речовини з неорганічних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лежно від того, яке джерело енергії використовують для синтезу органічних речовин автотрофні організми, їх підрозділяють на дві групи: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фототроф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і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хемотроф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d8c1ba"/>
                </a:solidFill>
                <a:latin typeface="Garamond"/>
              </a:rPr>
              <a:t>Фототрофи</a:t>
            </a:r>
            <a:r>
              <a:rPr b="1" lang="ru-RU" sz="4400" spc="-1" strike="noStrike">
                <a:solidFill>
                  <a:srgbClr val="d8c1ba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Фототрофа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є зелені рослини, для яких характерний фотосинтез, що відбувається завдяки наявності у хлоропластах пігменту хлорофілу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Фотосинтез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– це складний багатоступінчастий процес перетворення сонячної енергії в потенційну енергію хімічних зв'язків в органічних речовинах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Схема электронного транспорта при фотосинтезе</a:t>
            </a:r>
            <a:endParaRPr b="1" lang="en-US" sz="32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4" name="Picture 5" descr="z -схема фотосинтеза"/>
          <p:cNvPicPr/>
          <p:nvPr/>
        </p:nvPicPr>
        <p:blipFill>
          <a:blip r:embed="rId1"/>
          <a:stretch/>
        </p:blipFill>
        <p:spPr>
          <a:xfrm>
            <a:off x="1547640" y="1047600"/>
            <a:ext cx="591696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Схема фотосинтеза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6" name="Picture 5" descr="z- схема 2 (полнее)"/>
          <p:cNvPicPr/>
          <p:nvPr/>
        </p:nvPicPr>
        <p:blipFill>
          <a:blip r:embed="rId1"/>
          <a:stretch/>
        </p:blipFill>
        <p:spPr>
          <a:xfrm>
            <a:off x="2124000" y="942840"/>
            <a:ext cx="468324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схема фотосинтеза"/>
          <p:cNvPicPr/>
          <p:nvPr/>
        </p:nvPicPr>
        <p:blipFill>
          <a:blip r:embed="rId1"/>
          <a:stretch/>
        </p:blipFill>
        <p:spPr>
          <a:xfrm>
            <a:off x="1989000" y="0"/>
            <a:ext cx="5162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Фотосинтез у прокаріотичних організмів  має певні особливості залежно від видової специфічності. Так, наприклад, ціанобактерії і прохлорофіти здійснюють фотосинтез з виділенням кисню, а пурпурні, зелені та галобактерії – без цього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-30852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Крім того деякі бактерії можуть використовувати спеціальні пігменти для цього процесу: галобактерії здійснюють складний цикл фотохімічних реакцій за допомогою бактеріородопсину, ціанобактерії містять фікоціанін, що часом більш активно, ніж наявний у них хлорофіл, приймає участь у фотосинтезі та ін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893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Хемосинтез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– це синтез органічних речовин у автотрофних бактерій з використанням енергії, що виділяється при хімічних реакціях окислення неорганічних сполук: сірководню, сірки, аміаку, азотної кислоти, заліза та ін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Бактерії, що нітрифікують, живуть у ґрунті і водоймах. Деякі з них одержують енергію в результаті окислювання аміаку в азотисту кислоту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NH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3 + 3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   →    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N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+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етаболіз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– це сукупність величезної кількості біохімічних процесів, кожний з яких представляє собою певну послідовність багатьох хімічних реакцій, які здійснюються за участю ферментів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На рівні клітини обмін речовин складається з двох взаємно пов’язаних процесів, які протікають одночасно: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симіляції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(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анаболізм,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пластичний обмін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) та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дисиміляції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(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катаболізм,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енергетичний обмін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)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У теплих водоймах, що містять сірководень, живуть безбарвні бактерії, які здатні добувати енергію, необхідну для синтезу органічної речовини з вуглекислоти в повній темряві, окислюючи сірководень і накопичуючи сірку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2H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 + O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    →    2H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 + 2S +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При виснаженні запасів сірководню бактерії використовують відкладену в них сірку, окислюючи її до сірчаної кислоти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3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  →   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4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Інша група бактерій окислює азотисту кислоту до азотної і використовує виділену енергію для синтезу речовин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HN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О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→ 2HN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Гетеротрофна асиміляція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відбувається в клітинах тварин, грибів, деяких бактерій, які синтезують органічні сполуки для свого тіла з вже готових органічних речовин, що надходять з їжею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іксотрофна асиміляція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спостерігається у організмів, які містять пігмент хлорофіл і на світлі можуть бути автотрофами, а за умов відсутності світла стають гетеротрофами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32" name="Rectangle 20"/>
          <p:cNvSpPr/>
          <p:nvPr/>
        </p:nvSpPr>
        <p:spPr>
          <a:xfrm>
            <a:off x="1538280" y="3241800"/>
            <a:ext cx="18072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симіляція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– це сукупність реакцій біосинтезу, тобто процес утворення органічних сполук, специфічних для даної клітини: з простих речовин утворюються більш складні, а з низькомолекулярних – високомолекулярні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Дисиміляція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– це сукупність реакцій розщеплення речовин, завдяки чому здійснюється розпад органічних сполук на більш прості і виділяється енергія.</a:t>
            </a:r>
            <a:r>
              <a:rPr b="0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СО2 і Н2О</a:t>
            </a:r>
            <a:r>
              <a:rPr b="1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– продукти дисиміляції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d8c1ba"/>
                </a:solidFill>
                <a:latin typeface="Garamond"/>
              </a:rPr>
              <a:t>ЕНЕРГЕТИЧНИЙ ОБМІН</a:t>
            </a:r>
            <a:br>
              <a:rPr sz="4000"/>
            </a:b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денозинтрифосфат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(АТФ) – основний акумулятор і універсальний переносник енергії в клітині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4"/>
          <p:cNvGraphicFramePr/>
          <p:nvPr/>
        </p:nvGraphicFramePr>
        <p:xfrm>
          <a:off x="2050920" y="0"/>
          <a:ext cx="53294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0"/>
                    <a:ext cx="53294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 типом дисиміляції організми можуть бути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ероб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та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наеробними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У більшості 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аеробних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організмів енергетичний обмін представляє собою сукупність аеробних та анаеробних процесів, які можуть доповнювати один одного або переважати залежно від конкретних умов існування.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301680" y="228600"/>
            <a:ext cx="8540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Цикл трикарбоновых кислот або цикл Кребса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0" name="Picture 5" descr="цикл Кребса"/>
          <p:cNvPicPr/>
          <p:nvPr/>
        </p:nvPicPr>
        <p:blipFill>
          <a:blip r:embed="rId1"/>
          <a:stretch/>
        </p:blipFill>
        <p:spPr>
          <a:xfrm>
            <a:off x="1692360" y="692280"/>
            <a:ext cx="5595840" cy="59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В процесі ЦТК утворюються НАДН та ФАДН2, які далі окислюються в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дихальному ланцюзі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Цей етап називається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тканинни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клітинним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дихання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, і здійснюється у еукаріот в мітохондріях, а у прокаріот – в клітинній мембрані</a:t>
            </a:r>
            <a:r>
              <a:rPr b="0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468360" y="2602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Сопряжение процессов дыхания и фосфорилирования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3" name="Picture 5" descr="схема дыхания"/>
          <p:cNvPicPr/>
          <p:nvPr/>
        </p:nvPicPr>
        <p:blipFill>
          <a:blip r:embed="rId1"/>
          <a:stretch/>
        </p:blipFill>
        <p:spPr>
          <a:xfrm>
            <a:off x="2195640" y="1125360"/>
            <a:ext cx="470196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08:29:12Z</dcterms:created>
  <dc:creator>comp</dc:creator>
  <dc:description/>
  <dc:language>en-US</dc:language>
  <cp:lastModifiedBy>asus</cp:lastModifiedBy>
  <dcterms:modified xsi:type="dcterms:W3CDTF">2018-12-09T16:06:58Z</dcterms:modified>
  <cp:revision>4</cp:revision>
  <dc:subject/>
  <dc:title>ПЛАСТИЧНИЙ ТА ЕНЕРГЕТИЧНИЙ ОБМІН КЛІТИНИ</dc:title>
</cp:coreProperties>
</file>