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4B21-A338-45FC-9C30-13F3E52A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B76C-8D0A-46FA-909A-17EF326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C5F7-B967-48A7-BF4C-4363433C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B9DB-43A3-494D-9E0C-C88ADFA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C80-D297-49E0-AE86-503CB924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2438-1F21-4BB9-B46D-3371266D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5F5-C1FF-40B0-AC06-37EFA0D8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B98-4CA7-40E9-9286-BC0E24C8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9C0-ADE7-45A6-9A7E-24ADF3FB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7E68-28DA-448F-BBC4-91CD9051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7990-BA63-4DA3-8EE2-CA8D9C8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EA69-3151-4204-BAF8-50C80B2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E88-8EA7-46C8-A480-FC504F5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17C3-5BE4-4141-9E9B-B700376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C10A-72AE-4549-A45E-D5EDF7F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DD5-A769-4539-A01A-C404D3DC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86AF-266A-4D31-ACF1-65964C39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15F7-2F04-48B3-948A-39BC0F8A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12B9-6B5E-4913-B0DD-3FB05872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453E-45F8-46AB-898E-42F1521E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F129-F4D3-4F93-88B0-BA5768E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AEF2-A1BE-4DFD-A915-EF02730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C327-241A-4870-B657-138C95D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A2E1-E263-46DD-8005-7943F825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1099-8FEA-4C29-AB12-ACC10E150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926-349D-4C50-9539-C6C7DF06A421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8c1ba"/>
                </a:solidFill>
                <a:latin typeface="Garamond"/>
              </a:rPr>
              <a:t>ПЛАСТИЧНИЙ ТА ЕНЕРГЕТИЧНИЙ ОБМІН КЛІТИНИ</a:t>
            </a:r>
            <a:br>
              <a:rPr sz="5400"/>
            </a:b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572000" y="44370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Garamond"/>
              </a:rPr>
              <a:t>Сумарна реакція клітинного дихання виглядає наступним чином: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893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→ 6СО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 + 6 Н</a:t>
            </a:r>
            <a:r>
              <a:rPr b="1" lang="uk-UA" sz="36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600" spc="-1" strike="noStrike">
                <a:solidFill>
                  <a:srgbClr val="f7f3f3"/>
                </a:solidFill>
                <a:latin typeface="Garamond"/>
              </a:rPr>
              <a:t>О + 38 АТФ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В клітинах багатьох мікроорганізмів може відбуватися </a:t>
            </a:r>
            <a:r>
              <a:rPr b="1" lang="uk-UA" sz="2800" spc="-1" strike="noStrike">
                <a:solidFill>
                  <a:srgbClr val="ffcc00"/>
                </a:solidFill>
                <a:latin typeface="Garamond"/>
              </a:rPr>
              <a:t>анаеробний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кислювально-відновлювальний процес перетворення органічних сполук з утворенням АТФ, який називається </a:t>
            </a:r>
            <a:r>
              <a:rPr b="1" i="1" lang="uk-UA" sz="2800" spc="-1" strike="noStrike">
                <a:solidFill>
                  <a:srgbClr val="ffcc00"/>
                </a:solidFill>
                <a:latin typeface="Garamond"/>
              </a:rPr>
              <a:t>бродінням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інцевими продуктами спиртового бродіння є етиловий спирт (С2Н5ОН), вуглекислий газ і дві молекули АТФ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1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→    2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5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Н + С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2АТФ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При молочнокислому бродінні, піруват, що утворився при розпаді глюкози, відновлюється до молочної кислоти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Н + Н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   →    С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Н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6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О</a:t>
            </a:r>
            <a:r>
              <a:rPr b="1" lang="uk-UA" sz="28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 + НАД</a:t>
            </a:r>
            <a:r>
              <a:rPr b="1" lang="uk-UA" sz="2800" spc="-1" strike="noStrike" baseline="30000">
                <a:solidFill>
                  <a:srgbClr val="f7f3f3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ПЛАСТИЧНИЙ ОБМІН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а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вт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8c1ba"/>
                </a:solidFill>
                <a:latin typeface="Garamond"/>
              </a:rPr>
              <a:t>Автотрофна асиміляція.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Автотрофні організми здатні самостійно синтезувати органічні речовини з неорганічни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лежно від того, яке джерело енергії використовують для синтезу органічних речовин автотрофні організми, їх підрозділяють на дві групи: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фот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і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хемотроф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8c1ba"/>
                </a:solidFill>
                <a:latin typeface="Garamond"/>
              </a:rPr>
              <a:t>Фототрофи</a:t>
            </a: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трофа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є зелені рослини, для яких характерний фотосинтез, що відбувається завдяки наявності у хлоропластах пігменту хлорофіл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Фотосинтез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кладний багатоступінчастий процес перетворення сонячної енергії в потенційну енергію хімічних зв'язків в органічних речовинах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хема электронного транспорта при фотосинтезе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Picture 5" descr="z -схема фотосинтеза"/>
          <p:cNvPicPr/>
          <p:nvPr/>
        </p:nvPicPr>
        <p:blipFill>
          <a:blip r:embed="rId1"/>
          <a:stretch/>
        </p:blipFill>
        <p:spPr>
          <a:xfrm>
            <a:off x="1547640" y="1047600"/>
            <a:ext cx="59169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хема фотосинтеза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Picture 5" descr="z- схема 2 (полнее)"/>
          <p:cNvPicPr/>
          <p:nvPr/>
        </p:nvPicPr>
        <p:blipFill>
          <a:blip r:embed="rId1"/>
          <a:stretch/>
        </p:blipFill>
        <p:spPr>
          <a:xfrm>
            <a:off x="2124000" y="942840"/>
            <a:ext cx="468324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схема фотосинтеза"/>
          <p:cNvPicPr/>
          <p:nvPr/>
        </p:nvPicPr>
        <p:blipFill>
          <a:blip r:embed="rId1"/>
          <a:stretch/>
        </p:blipFill>
        <p:spPr>
          <a:xfrm>
            <a:off x="1989000" y="0"/>
            <a:ext cx="51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Фотосинтез у прокаріотичних організмів  має певні особливості залежно від видової специфічності. Так, наприклад, ціанобактерії і прохлорофіти здійснюють фотосинтез з виділенням кисню, а пурпурні, зелені та галобактерії – без цього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Крім того деякі бактерії можуть використовувати спеціальні пігменти для цього процесу: галобактерії здійснюють складний цикл фотохімічних реакцій за допомогою бактеріородопсину, ціанобактерії містять фікоціанін, що часом більш активно, ніж наявний у них хлорофіл, приймає участь у фотосинтезі та ін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Хемосинтез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– це синтез органічних речовин у автотрофних бактерій з використанням енергії, що виділяється при хімічних реакціях окислення неорганічних сполук: сірководню, сірки, аміаку, азотної кислоти, заліза та ін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Бактерії, що нітрифікують, живуть у ґрунті і водоймах. Деякі з них одержують енергію в результаті окислювання аміаку в азотисту кислот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N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3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   → 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N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етаболіз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– це сукупність величезної кількості біохімічних процесів, кожний з яких представляє собою певну послідовність багатьох хімічних реакцій, які здійснюються за участю ферментів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На рівні клітини обмін речовин складається з двох взаємно пов’язаних процесів, які протікають одночасно: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ї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ан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плас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ї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атаболізм,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енергетичний обмін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У теплих водоймах, що містять сірководень, живуть безбарвні бактерії, які здатні добувати енергію, необхідну для синтезу органічної речовини з вуглекислоти в повній темряві, окислюючи сірководень і накопичуючи сірку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 + O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    →    2H</a:t>
            </a:r>
            <a:r>
              <a:rPr b="1" lang="en-US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 + 2S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При виснаженні запасів сірководню бактерії використовують відкладену в них сірку, окислюючи її до сірчаної кислоти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3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O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  →    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H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S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4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Інша група бактерій окислює азотисту кислоту до азотної і використовує виділену енергію для синтезу речовин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О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2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→ 2HNO</a:t>
            </a:r>
            <a:r>
              <a:rPr b="1" lang="uk-UA" sz="3200" spc="-1" strike="noStrike" baseline="-25000">
                <a:solidFill>
                  <a:srgbClr val="f7f3f3"/>
                </a:solidFill>
                <a:latin typeface="Garamond"/>
              </a:rPr>
              <a:t>3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+ енергія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Гетер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відбувається в клітинах тварин, грибів, деяких бактерій, які синтезують органічні сполуки для свого тіла з вже готових органічних речовин, що надходять з їжею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Міксотрофна асиміляція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спостерігається у організмів, які містять пігмент хлорофіл і на світлі можуть бути автотрофами, а за умов відсутності світла стають гетеротрофами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538280" y="3241800"/>
            <a:ext cx="180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симіляція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це сукупність реакцій біосинтезу, тобто процес утворення органічних сполук, специфічних для даної клітини: з простих речовин утворюються більш складні, а з низькомолекулярних – високомолекулярн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Дисиміляція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 – це сукупність реакцій розщеплення речовин, завдяки чому здійснюється розпад органічних сполук на більш прості і виділяється енергія.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СО2 і Н2О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7f3f3"/>
                </a:solidFill>
                <a:latin typeface="Garamond"/>
              </a:rPr>
              <a:t>– продукти дисиміляції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8c1ba"/>
                </a:solidFill>
                <a:latin typeface="Garamond"/>
              </a:rPr>
              <a:t>ЕНЕРГЕТИЧНИЙ ОБМІН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денозинтрифосфат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(АТФ) – основний акумулятор і універсальний переносник енергії в клітині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2050920" y="0"/>
          <a:ext cx="53294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За типом дисиміляції організми можуть бути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еробними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та </a:t>
            </a:r>
            <a:r>
              <a:rPr b="1" i="1" lang="uk-UA" sz="3200" spc="-1" strike="noStrike">
                <a:solidFill>
                  <a:srgbClr val="ffcc00"/>
                </a:solidFill>
                <a:latin typeface="Garamond"/>
              </a:rPr>
              <a:t>анаеробними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У більшості </a:t>
            </a:r>
            <a:r>
              <a:rPr b="1" lang="uk-UA" sz="2800" spc="-1" strike="noStrike">
                <a:solidFill>
                  <a:srgbClr val="f7f3f3"/>
                </a:solidFill>
                <a:latin typeface="Garamond"/>
              </a:rPr>
              <a:t>аеробних</a:t>
            </a:r>
            <a:r>
              <a:rPr b="0" lang="uk-UA" sz="2800" spc="-1" strike="noStrike">
                <a:solidFill>
                  <a:srgbClr val="f7f3f3"/>
                </a:solidFill>
                <a:latin typeface="Garamond"/>
              </a:rPr>
              <a:t> організмів енергетичний обмін представляє собою сукупність аеробних та анаеробних процесів, які можуть доповнювати один одного або переважати залежно від конкретних умов існування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1680" y="228600"/>
            <a:ext cx="8540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Цикл трикарбоновых кислот або цикл Кребса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0" name="Picture 5" descr="цикл Кребса"/>
          <p:cNvPicPr/>
          <p:nvPr/>
        </p:nvPicPr>
        <p:blipFill>
          <a:blip r:embed="rId1"/>
          <a:stretch/>
        </p:blipFill>
        <p:spPr>
          <a:xfrm>
            <a:off x="1692360" y="692280"/>
            <a:ext cx="559584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В процесі ЦТК утворюються НАДН та ФАДН2, які далі окислюються в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дихальному ланцюзі.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Цей етап називається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тканинни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 або </a:t>
            </a:r>
            <a:r>
              <a:rPr b="0" i="1" lang="uk-UA" sz="3200" spc="-1" strike="noStrike">
                <a:solidFill>
                  <a:srgbClr val="f7f3f3"/>
                </a:solidFill>
                <a:latin typeface="Garamond"/>
              </a:rPr>
              <a:t>клітинним </a:t>
            </a:r>
            <a:r>
              <a:rPr b="1" i="1" lang="uk-UA" sz="3200" spc="-1" strike="noStrike">
                <a:solidFill>
                  <a:srgbClr val="f7f3f3"/>
                </a:solidFill>
                <a:latin typeface="Garamond"/>
              </a:rPr>
              <a:t>диханням</a:t>
            </a:r>
            <a:r>
              <a:rPr b="0" lang="uk-UA" sz="3200" spc="-1" strike="noStrike">
                <a:solidFill>
                  <a:srgbClr val="f7f3f3"/>
                </a:solidFill>
                <a:latin typeface="Garamond"/>
              </a:rPr>
              <a:t>, і здійснюється у еукаріот в мітохондріях, а у прокаріот – в клітинній мембрані</a:t>
            </a:r>
            <a:r>
              <a:rPr b="0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8360" y="2602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Сопряжение процессов дыхания и фосфорилирования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3" name="Picture 5" descr="схема дыхания"/>
          <p:cNvPicPr/>
          <p:nvPr/>
        </p:nvPicPr>
        <p:blipFill>
          <a:blip r:embed="rId1"/>
          <a:stretch/>
        </p:blipFill>
        <p:spPr>
          <a:xfrm>
            <a:off x="2195640" y="1125360"/>
            <a:ext cx="47019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29:12Z</dcterms:created>
  <dc:creator>comp</dc:creator>
  <dc:description/>
  <dc:language>en-US</dc:language>
  <cp:lastModifiedBy>asus</cp:lastModifiedBy>
  <dcterms:modified xsi:type="dcterms:W3CDTF">2018-12-09T16:06:58Z</dcterms:modified>
  <cp:revision>4</cp:revision>
  <dc:subject/>
  <dc:title>ПЛАСТИЧНИЙ ТА ЕНЕРГЕТИЧНИЙ ОБМІН КЛІТИНИ</dc:title>
</cp:coreProperties>
</file>