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2489-7E64-4C9E-B190-6DB29DA8A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4A69-55AD-4D7D-93C9-36A794B0C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E27F-67E3-47CD-A3C6-1340A1780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BD39-33C3-428B-A3F1-E797FCFBE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D73E1-1C7F-40E3-B6AD-061A5DD78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04300-60CA-4BCB-9C56-2BAA43213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9316E-F6E5-4FDE-BC4F-210C21C5D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64291-291F-4BD8-AC5C-E42C33E09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ABB78-4E3B-4F52-9221-D1C47F5CF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B46EE-CFEC-49AF-8899-877390B21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C9E77-E91D-491B-BD11-768E8B91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3CF0-EF82-4CE5-9A81-94A6687A4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893B5-FA1B-46CA-A8DF-6CAA85CD8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2E318-7381-41AB-9715-55A161C28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2E59B-F03D-4560-8DB7-31CE09737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43168-6087-4EB0-BD3C-DE77D0342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2C3B7-0AAD-4C69-9A43-6BBE10C5C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8AF2-6056-4B56-8875-9CB321EB9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9D76-64AD-4352-B271-B5298C15D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0D57-A151-4E23-8E0C-F999191DC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0FD8-DC70-4832-BFFE-6952B11CD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BB7D-C185-4299-ABCB-990E7C80E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788A-176C-42B7-9709-CBA541B51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521D-01CD-43C3-846B-3AD3AF7F9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1048F-8415-4879-B226-A8EC0F80F5B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44AEF-C257-4173-859F-44D1C4E095E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7600" y="333000"/>
            <a:ext cx="7855200" cy="101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70c0"/>
                </a:solidFill>
                <a:latin typeface="Arial"/>
              </a:rPr>
              <a:t>ОСНОВИ МЕДИЧНИХ ЗНАНЬ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43000" y="2071440"/>
            <a:ext cx="753912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Лекція № 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Загальне вчення про здоров’я і хворобу. Суспільне та індивідуальне здоров’я. 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Вплив соціальних і екологічних факторів на здоров'я людини, стан здоров'я населення Україн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6357960" y="4929120"/>
            <a:ext cx="25668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85520" y="285840"/>
            <a:ext cx="771516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4. </a:t>
            </a:r>
            <a:r>
              <a:rPr b="1" i="1" lang="uk-UA" sz="2800" spc="-1" strike="noStrike">
                <a:solidFill>
                  <a:srgbClr val="ff0000"/>
                </a:solidFill>
                <a:latin typeface="Arial"/>
              </a:rPr>
              <a:t>Визначення поняття здоров’я. Компоненти здоров’я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85480" y="1071360"/>
            <a:ext cx="8643960" cy="550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ff0000"/>
                </a:solidFill>
                <a:latin typeface="Arial Black"/>
              </a:rPr>
              <a:t>Проблема здоров'я людини </a:t>
            </a: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є в числі найбільш пріоритетних завдань розвитку суспільства в останні роки внаслідок різкого погіршення демографічної ситуації в країні, а також виражені негативні тенденції в здоров’ї підростаючого поколінн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0000"/>
                </a:solidFill>
                <a:latin typeface="Arial Black"/>
              </a:rPr>
              <a:t>Структуру поширеності хвороб серед дитячої популяції </a:t>
            </a: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формують здебільшого хвороб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органів дихання (48,6%)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органів травлення (7,9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ока та його придаткового апарату (5,4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ендокринної системи, розлади харчування та порушення обміну речовин (5,3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хвороби шкіри та підшкірної клітковини (4,6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кістково-м’язової системи та сполучної тканин (4,5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інфекційні та паразитарні хвороби (3,5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хвороби нервової системи (3,3%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91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Arial"/>
              </a:rPr>
              <a:t>Що таке здоров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1" lang="uk-UA" sz="4000" spc="-1" strike="noStrike">
                <a:solidFill>
                  <a:srgbClr val="ff0000"/>
                </a:solidFill>
                <a:latin typeface="Arial"/>
              </a:rPr>
              <a:t>я?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71720" y="1827360"/>
            <a:ext cx="761184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b050"/>
                </a:solidFill>
                <a:latin typeface="Verdana"/>
              </a:rPr>
              <a:t>У медичній енциклопедії (ВМЕ) </a:t>
            </a:r>
            <a:r>
              <a:rPr b="1" lang="uk-UA" sz="32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 трактується як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стан організму людини, коли функції усіх його органів і систем урівноважені із зовнішнім середовищем і відсутні будь-які хворобливі зміни“.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14200" y="213840"/>
            <a:ext cx="8715600" cy="664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Основним, і можливо, найбільш широко враховуючим соціальну складову здоров’я поряд з медичними складовими, є визначення, подане в 1948 році Всесвітньою організацією охорони здоров’я (ВООЗ)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uk-UA" sz="2800" spc="-1" strike="noStrike">
                <a:solidFill>
                  <a:srgbClr val="7030a0"/>
                </a:solidFill>
                <a:latin typeface="Verdana"/>
              </a:rPr>
              <a:t>Здоров'я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 - це стан повного фізичного, душевного і соціального благополуччя, а не тільки відсутність хвороб і фізичних дефектів“ (</a:t>
            </a: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Статут ВООЗ, 1946 рік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500" spc="-1" strike="noStrike">
                <a:solidFill>
                  <a:srgbClr val="00b050"/>
                </a:solidFill>
                <a:latin typeface="Verdana"/>
              </a:rPr>
              <a:t>Визначення змінено у 1978 році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7030a0"/>
                </a:solidFill>
                <a:latin typeface="Verdana"/>
              </a:rPr>
              <a:t>Здоров’я </a:t>
            </a: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– це стан повного фізичного, духовного і соціального благополуччя, що дає можливість людям проводити соціально та економічно продуктивне життя (</a:t>
            </a:r>
            <a:r>
              <a:rPr b="1" lang="uk-UA" sz="2500" spc="-1" strike="noStrike">
                <a:solidFill>
                  <a:srgbClr val="ff0000"/>
                </a:solidFill>
                <a:latin typeface="Verdana"/>
              </a:rPr>
              <a:t>дефініція здоров’я ВООЗ, 1978 рік</a:t>
            </a: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28400" y="571680"/>
            <a:ext cx="8429400" cy="537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 u="sng">
                <a:solidFill>
                  <a:srgbClr val="ff0000"/>
                </a:solidFill>
                <a:uFillTx/>
                <a:latin typeface="Verdana"/>
              </a:rPr>
              <a:t>І.І. Брехман</a:t>
            </a:r>
            <a:r>
              <a:rPr b="1" lang="uk-UA" sz="2900" spc="-1" strike="noStrike">
                <a:solidFill>
                  <a:srgbClr val="ff0000"/>
                </a:solidFill>
                <a:latin typeface="Verdana"/>
              </a:rPr>
              <a:t> (1990)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засновник валеології - науки про індивідуальне здоров’я людини, визначає </a:t>
            </a:r>
            <a:r>
              <a:rPr b="1" lang="uk-UA" sz="2900" spc="-1" strike="noStrike">
                <a:solidFill>
                  <a:srgbClr val="7030a0"/>
                </a:solidFill>
                <a:latin typeface="Verdana"/>
              </a:rPr>
              <a:t>здоров’я 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як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здатність людини зберігати відповідну віку стійкість в умовах різких змін кількісних і якісних параметрів триєдиного потоку сенсорної, вербальної і структурної інформації“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13840" y="213840"/>
            <a:ext cx="8643960" cy="635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Відомий теоретик медицини </a:t>
            </a:r>
            <a:r>
              <a:rPr b="1" lang="uk-UA" sz="2200" spc="-1" strike="noStrike">
                <a:solidFill>
                  <a:srgbClr val="ff0000"/>
                </a:solidFill>
                <a:latin typeface="Verdana"/>
              </a:rPr>
              <a:t>Ю.П.Лисицин (1985) 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диференціює </a:t>
            </a: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 взаємопов’язаних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рівні здоров’я</a:t>
            </a:r>
            <a:r>
              <a:rPr b="1" lang="uk-UA" sz="2200" spc="-1" strike="noStrike">
                <a:solidFill>
                  <a:srgbClr val="ff0000"/>
                </a:solidFill>
                <a:latin typeface="Verdana"/>
              </a:rPr>
              <a:t> –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суспільний, груповий та індивідуальний</a:t>
            </a:r>
            <a:r>
              <a:rPr b="1" lang="uk-UA" sz="2200" spc="-1" strike="noStrike">
                <a:solidFill>
                  <a:srgbClr val="ff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70c0"/>
                </a:solidFill>
                <a:latin typeface="Verdana"/>
              </a:rPr>
              <a:t>Перший</a:t>
            </a:r>
            <a:r>
              <a:rPr b="1" i="1" lang="uk-UA" sz="2200" spc="-1" strike="noStrike">
                <a:solidFill>
                  <a:srgbClr val="0070c0"/>
                </a:solidFill>
                <a:latin typeface="Verdana"/>
              </a:rPr>
              <a:t> рівень</a:t>
            </a:r>
            <a:r>
              <a:rPr b="1" lang="ru-RU" sz="22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суспільний або громадський</a:t>
            </a: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характеризує здоров’я населення загалом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відображає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систему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матеріальних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духовних відносин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в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суспільстві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70c0"/>
                </a:solidFill>
                <a:latin typeface="Verdana"/>
              </a:rPr>
              <a:t>Другий рівень</a:t>
            </a:r>
            <a:r>
              <a:rPr b="1" lang="uk-UA" sz="22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групове здоров’я</a:t>
            </a:r>
            <a:r>
              <a:rPr b="0" lang="uk-UA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– обумовлене особливостями життєдіяльності, які об’єднують людей даної групи та схожістю соціального оточення, в якому перебувають її члени (здоров’я працюючих у певних галузях, студентів, школярів тощо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70c0"/>
                </a:solidFill>
                <a:latin typeface="Verdana"/>
              </a:rPr>
              <a:t>Третій рівень</a:t>
            </a:r>
            <a:r>
              <a:rPr b="1" lang="ru-RU" sz="22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індивідуальний рівень здоров’я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який формується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в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умовах групи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всього суспільства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але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н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основі притаманних лише даній людині генетичних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фізичних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психічних особливостей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духовних якостей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 способу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життя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99680" y="428400"/>
            <a:ext cx="8286840" cy="61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В.П. Казначеєв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здійснює глибокий аналіз проблем здоров’я і формулює поняття «здоров’я» таким чином: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здоров’я індивіда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є динамічний стан збереження і розвитку його біологічних, фізіологічних та психологічних функцій, оптимальної працездатності і соціальної тривалості активності за максимальної тривалості активного життя</a:t>
            </a:r>
            <a:r>
              <a:rPr b="0" i="1" lang="uk-UA" sz="2400" spc="-1" strike="noStrike">
                <a:solidFill>
                  <a:srgbClr val="000000"/>
                </a:solidFill>
                <a:latin typeface="Verdana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С.А. Чикін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і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Г.Г. Царегородцев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дають таке визначення: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 – це гармонійна єдність біологічних, психічних і трудових функцій, що зумовлює повноцінну безмежну участь людини в різних видах суспільної трудової діяльності»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13840" y="356760"/>
            <a:ext cx="8643960" cy="628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Іншими авторами </a:t>
            </a: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визначається як стан оптимальної життєдіяльності людини, що забезпечує повноту реалізації сутнісних си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Проаналізувавши різні визначення поняття «здоров’я», </a:t>
            </a: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Б.М.Ільїн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пропонує таке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Здоров’я людини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– це функціональний стан організму, що забезпечує тривалість життя, фізичну й розумову працездатність, самопочуття і функцію відтворення здорових нащадків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В.М. Сидоров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, аналізуючи в своїй роботі понад 200 визначень поняття «здоров’я», пропонує таке визначення, яке розкриває перш за все його біосоціальну сутність: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 – це відношення біосоціальної системи з приводу необхідності поновлення її сутнісних сил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253800" y="213840"/>
            <a:ext cx="8675640" cy="655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В.О. Ліщук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 О.В. Мосткова </a:t>
            </a: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та сучасні спеціалісти з валеології, дають своє визначення поняття «здоров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я»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0" i="1" lang="uk-UA" sz="2800" spc="-1" strike="noStrike">
                <a:solidFill>
                  <a:srgbClr val="000000"/>
                </a:solidFill>
                <a:latin typeface="Verdana"/>
              </a:rPr>
              <a:t> це є здатність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пристосуватися до середовища та своїх власних можливостей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- протистояти зовнішнім і внутрішнім факторам, хворобам, старінню та іншим формам деградації; зберігати себе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- збільшувати тривалість повноцінної життєдіяльності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- поліпшувати можливості, властивості та здібності свого організму, якість життя та середовища проживання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- виробляти культурні, духовні та матеріальні цінності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28400" y="214200"/>
            <a:ext cx="8358120" cy="614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Д.Д. Венедиктов 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визначає </a:t>
            </a:r>
            <a:r>
              <a:rPr b="1" lang="uk-UA" sz="28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 як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00b050"/>
                </a:solidFill>
                <a:latin typeface="Verdana"/>
              </a:rPr>
              <a:t>динамічну рівновагу організму з навколишнім середовищем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, коли всі закладені в біологічній та соціальній сутності людини фізичні, духовні та інші здібності виявляються найбільш повно і гармонійно, всі життєво важливі підсистеми людського організму функціонують з максимально можливою інтенсивністю, а загальне поєднання підтримується на рівні, оптимальному для збереження цілісності організму, його працездатності, а також швидкої адаптації до природного й соціального середовища, що безперервно змінюється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214200" y="-360"/>
            <a:ext cx="8715600" cy="642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На сьогодні провідною концепцією щодо визначення стану </a:t>
            </a:r>
            <a:r>
              <a:rPr b="0" i="1" lang="uk-UA" sz="2200" spc="-1" strike="noStrike">
                <a:solidFill>
                  <a:srgbClr val="ff0000"/>
                </a:solidFill>
                <a:latin typeface="Arial Black"/>
              </a:rPr>
              <a:t>здоров’я індивідуума 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є використання поняття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адаптація</a:t>
            </a:r>
            <a:r>
              <a:rPr b="0" lang="uk-UA" sz="2200" spc="-1" strike="noStrike">
                <a:solidFill>
                  <a:srgbClr val="7030a0"/>
                </a:solidFill>
                <a:latin typeface="Arial Black"/>
              </a:rPr>
              <a:t> та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теорії функціональних систем</a:t>
            </a:r>
            <a:r>
              <a:rPr b="0" lang="uk-UA" sz="2200" spc="-1" strike="noStrike">
                <a:solidFill>
                  <a:srgbClr val="7030a0"/>
                </a:solidFill>
                <a:latin typeface="Arial Black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0000"/>
                </a:solidFill>
                <a:latin typeface="Arial Black"/>
              </a:rPr>
              <a:t>За сучасними уявленнями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, з позицій системного підходу, поняття «здоров’я» має включати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біологічні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 та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соціальні</a:t>
            </a:r>
            <a:r>
              <a:rPr b="0" lang="uk-UA" sz="2200" spc="-1" strike="noStrike">
                <a:solidFill>
                  <a:srgbClr val="7030a0"/>
                </a:solidFill>
                <a:latin typeface="Arial Black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характеристики індивідуума та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оцінку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 його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функціональних резервів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, які дозволяють організму активно змінювати свій стан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0000"/>
                </a:solidFill>
                <a:latin typeface="Arial Black"/>
              </a:rPr>
              <a:t>Г.А. Апанасенко 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розглядаючи здоров’я з позицій системної адаптації, вважає, правомірно визначати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здоров’я як динамічний стан</a:t>
            </a:r>
            <a:r>
              <a:rPr b="1" i="1" lang="uk-UA" sz="2200" spc="-1" strike="noStrike">
                <a:solidFill>
                  <a:srgbClr val="000000"/>
                </a:solidFill>
                <a:latin typeface="Arial Black"/>
              </a:rPr>
              <a:t>, який дозволяє здійснити найбільшу кількість видоспецифічних функцій при найбільш економній витраті біологічних ресурсів організму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План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9680" y="1500120"/>
            <a:ext cx="835812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ета та завдання курсу «Основи медичних знань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2. Деякі аспекти поняття права на охорону здоров’я, медичну допомогу в Україні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3. Медицина. Історія. Галузі. Поняття профілактики та лікуванн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4.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изначення поняття здоров’я. Компоненти здоров’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5. Поняття хвороби і проміжних станів людини. Гострі і хронічні хвороби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6. Поняття про суспільне (громадське, популяційне) здоров’я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7. Сучасні критерії оцінки індивідуального та громадського здоров’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8. Вплив езко- та ендогенних факторів на здоров’я людини. Поняття про фактори ризик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28480" y="0"/>
            <a:ext cx="73134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50"/>
                </a:solidFill>
                <a:latin typeface="Verdana"/>
              </a:rPr>
              <a:t>Складові здоров’я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85480" y="713880"/>
            <a:ext cx="8715240" cy="592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Показниками фізичного здоров’я є: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індивідуальні особливості анатомічної будови тіла, досконале (за нормою) фізіологічне функціонування організму в різних умовах спокою, руху, довкілля, генетичної спадщини, рівень фізичного розвитку органів і систем організм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Показники психічного здоров’я</a:t>
            </a: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є:</a:t>
            </a: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індивідуальні особливості психічних процесів і властивостей людини, наприклад, збудженість, емоційність, чутливіс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Показники духовного здоров’я є: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уховний світ особистості, сприйняття духовної культури людства, освіти, науки, мистецтва, релігії, моралі, етик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Показники соціального здоров’я</a:t>
            </a: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в’язані з економічними чинниками, стосунками індивіда з структурними одиницями соціуму (сім’єю, організаціями), з якими створюються соціальні зв’язки: праця, відпочинок, побут, соціальний захист, охорона здоров’я, безпека існування тощо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14200" y="428400"/>
            <a:ext cx="8715600" cy="61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0000"/>
                </a:solidFill>
                <a:latin typeface="Verdana"/>
              </a:rPr>
              <a:t>Лісіцин Ю.П.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підкреслював, що </a:t>
            </a:r>
            <a:r>
              <a:rPr b="0" lang="uk-UA" sz="2200" spc="-1" strike="noStrike">
                <a:solidFill>
                  <a:srgbClr val="ff0000"/>
                </a:solidFill>
                <a:latin typeface="Verdana"/>
              </a:rPr>
              <a:t>здоров’я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і </a:t>
            </a:r>
            <a:r>
              <a:rPr b="0" lang="uk-UA" sz="2200" spc="-1" strike="noStrike">
                <a:solidFill>
                  <a:srgbClr val="ff0000"/>
                </a:solidFill>
                <a:latin typeface="Verdana"/>
              </a:rPr>
              <a:t>хвороба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– категорії, котрі є соціально обумовленими, тобто знаходяться під впливом дії соціальних умов і факторів. </a:t>
            </a: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200" spc="-1" strike="noStrike">
                <a:solidFill>
                  <a:srgbClr val="7030a0"/>
                </a:solidFill>
                <a:latin typeface="Verdana"/>
              </a:rPr>
              <a:t>Здоров’я людини</a:t>
            </a: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 – це гармонічна єдність біологічних і соціальних якостей, обумовлених вродженими і набутими біологічними і соціальними впливами, а хвороба – порушення цієї гармонії, єдності»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b050"/>
                </a:solidFill>
                <a:latin typeface="Verdana"/>
              </a:rPr>
              <a:t>В останній редакції ВООЗ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визначення поняття «здоров’я», де визначається, що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2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 – це стан повного соціального, біологічного та психологічного благополуччя, коли функції всіх органів і систем урівноважені з навколишнім середовищем, відсутні якісь захворювання, хворобливі стани та фізичні дефекти»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00080" y="428400"/>
            <a:ext cx="7742160" cy="121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Arial"/>
              </a:rPr>
              <a:t>5. Поняття хвороби і проміжних станів людин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28760" y="1856880"/>
            <a:ext cx="8572320" cy="46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Сучасний лікар-клініцист, як правило, фіксує хворобу або її відсутність. Проте вже Гален вказував на існування трьох станів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здоров’я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перехідного стану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хвороби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Здоров’я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- це динамічний процес в житті людини. При зниженні його кількості розвивається 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третій рівень здоров’я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третій стан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преморбідний період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 або 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передхвороба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) - стан, при якому можливий розвиток патологічного процесу без зміни сили діючого чинника, внаслідок зниження резервів адаптації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ая соединительная линия 4"/>
          <p:cNvSpPr/>
          <p:nvPr/>
        </p:nvSpPr>
        <p:spPr>
          <a:xfrm flipH="1">
            <a:off x="355680" y="857160"/>
            <a:ext cx="1440" cy="41450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Прямая соединительная линия 9"/>
          <p:cNvSpPr/>
          <p:nvPr/>
        </p:nvSpPr>
        <p:spPr>
          <a:xfrm>
            <a:off x="357120" y="5000760"/>
            <a:ext cx="7715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Прямая соединительная линия 12"/>
          <p:cNvSpPr/>
          <p:nvPr/>
        </p:nvSpPr>
        <p:spPr>
          <a:xfrm flipH="1">
            <a:off x="928800" y="1928880"/>
            <a:ext cx="1440" cy="307188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Прямая соединительная линия 14"/>
          <p:cNvSpPr/>
          <p:nvPr/>
        </p:nvSpPr>
        <p:spPr>
          <a:xfrm flipH="1">
            <a:off x="1998720" y="3214800"/>
            <a:ext cx="1440" cy="178740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Прямая соединительная линия 17"/>
          <p:cNvSpPr/>
          <p:nvPr/>
        </p:nvSpPr>
        <p:spPr>
          <a:xfrm flipH="1">
            <a:off x="3427560" y="4002120"/>
            <a:ext cx="1440" cy="100008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Дуга 18"/>
          <p:cNvSpPr/>
          <p:nvPr/>
        </p:nvSpPr>
        <p:spPr>
          <a:xfrm rot="11587800">
            <a:off x="650520" y="898200"/>
            <a:ext cx="10231560" cy="3759120"/>
          </a:xfrm>
          <a:prstGeom prst="pie">
            <a:avLst/>
          </a:prstGeom>
          <a:noFill/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31" name="Прямая со стрелкой 28"/>
          <p:cNvCxnSpPr/>
          <p:nvPr/>
        </p:nvCxnSpPr>
        <p:spPr>
          <a:xfrm flipH="1" flipV="1">
            <a:off x="1071360" y="1999440"/>
            <a:ext cx="5572800" cy="25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2" name="Прямая со стрелкой 36"/>
          <p:cNvCxnSpPr/>
          <p:nvPr/>
        </p:nvCxnSpPr>
        <p:spPr>
          <a:xfrm flipH="1" flipV="1">
            <a:off x="2071440" y="3214440"/>
            <a:ext cx="457272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3" name="Прямая со стрелкой 39"/>
          <p:cNvCxnSpPr/>
          <p:nvPr/>
        </p:nvCxnSpPr>
        <p:spPr>
          <a:xfrm flipH="1" flipV="1">
            <a:off x="3571200" y="4000320"/>
            <a:ext cx="307260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4" name="TextBox 41"/>
          <p:cNvSpPr/>
          <p:nvPr/>
        </p:nvSpPr>
        <p:spPr>
          <a:xfrm>
            <a:off x="785880" y="521496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Box 42"/>
          <p:cNvSpPr/>
          <p:nvPr/>
        </p:nvSpPr>
        <p:spPr>
          <a:xfrm>
            <a:off x="1714680" y="521496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Box 43"/>
          <p:cNvSpPr/>
          <p:nvPr/>
        </p:nvSpPr>
        <p:spPr>
          <a:xfrm>
            <a:off x="3143160" y="521496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Box 44"/>
          <p:cNvSpPr/>
          <p:nvPr/>
        </p:nvSpPr>
        <p:spPr>
          <a:xfrm>
            <a:off x="4714920" y="514368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Rectangle 1"/>
          <p:cNvSpPr/>
          <p:nvPr/>
        </p:nvSpPr>
        <p:spPr>
          <a:xfrm>
            <a:off x="6286680" y="1573560"/>
            <a:ext cx="264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«Безпечний рівень» здоров’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6715080" y="2788560"/>
            <a:ext cx="2428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чаток формування патологічного процесу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715080" y="3859560"/>
            <a:ext cx="2428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Маніфестація патологічного процесу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0" y="5573880"/>
            <a:ext cx="91440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значення: </a:t>
            </a:r>
            <a:r>
              <a:rPr b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1 - здоров’я; 2 – передхвороба; 3 – неманіфестований патологічний процес; 4 – хвороб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196680"/>
            <a:ext cx="91440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Рис. Здоров’я, «третій стан» (передхвороба + неманіфестований патологічний процес) і хвороба у взаємовідносинах з резервами здоров’я 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[Г. Л. Апанасенко, 2004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28760" y="213840"/>
            <a:ext cx="8572320" cy="628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ff0000"/>
                </a:solidFill>
                <a:latin typeface="Verdana"/>
              </a:rPr>
              <a:t>Третій стан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»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- перехідний між </a:t>
            </a: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здоров’ям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і </a:t>
            </a: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хворобою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, виокремлений з однієї сторони, ступенем (рівнем) зниження резервів здоров’я і можливістю розвитку внаслідок цього патологічного процесу при незмінних умовах життєдіяльності, з іншої – початковими ознаками порушення функцій – </a:t>
            </a: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маніфестацією патологічного процесу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казані межі можуть бути кількісно охарактеризовані відповідним рівнем здоров’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У цей період третього стану у людини є усі ресурси, щоб вийти з фази передхвороби за допомогою зміни свого способу життя (ЗСЖ). Якщо і далі через відсутність у людини знань і мотивації до ЗСЖ зберігається і посилюється тиск на нормативні межі адаптації через несприятливі здоров’яформуючі чинники, то резервні можливості захисних систем організму вичерпуютьс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7120" y="301320"/>
            <a:ext cx="8786880" cy="119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Arial"/>
              </a:rPr>
              <a:t>Передхвороба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– це латентний, прихований період хвороби або стадія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функціональної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готовності організму до розвитку певного захворювання.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71320" y="1571760"/>
            <a:ext cx="8140680" cy="488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ff0000"/>
                </a:solidFill>
                <a:uFillTx/>
                <a:latin typeface="Verdana"/>
              </a:rPr>
              <a:t>Ознаки (індикатори) передхвороби</a:t>
            </a: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загальне нездужа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зниження апетиту / переїда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печія, закреп / діаре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відрижка, нудот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порушення менструального циклу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головні болі, головокружі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часті випадки запамороче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неприємні відчуття в області серц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м’язові судом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підвищення пітливості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нервовий тік, посмикува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сльозотеча без явної причин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біль у м’язах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відчуття загальної слабкості, втом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тривожність, занепокоє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безсоння, сонливість, хронічна роздратованість тощ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13880" y="301320"/>
            <a:ext cx="8286840" cy="112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Хвороба характеризується зниженням пристосованості до середовища і обмеженням свободи життєдіяльності хворого.</a:t>
            </a: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71720" y="2071800"/>
            <a:ext cx="754056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7030a0"/>
                </a:solidFill>
                <a:latin typeface="Verdana"/>
              </a:rPr>
              <a:t>Хвороба 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- це життєдіяльність організму, яка виражається в зміні функції, а також у порушенні будови органів і тканин, що виникає під впливом надзвичайних для даного організму подразників зовнішнього і внутрішнього середовища організму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14240" y="356760"/>
            <a:ext cx="795672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0000"/>
                </a:solidFill>
                <a:latin typeface="Arial"/>
              </a:rPr>
              <a:t>Класифікація хвороб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360" y="1827360"/>
            <a:ext cx="799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7030a0"/>
                </a:solidFill>
                <a:latin typeface="Verdana"/>
              </a:rPr>
              <a:t>За тривалістю перебігу хвороби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7030a0"/>
                </a:solidFill>
                <a:latin typeface="Verdana"/>
              </a:rPr>
              <a:t>За етіологічним чинником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Скругленный прямоугольник 1"/>
          <p:cNvSpPr/>
          <p:nvPr/>
        </p:nvSpPr>
        <p:spPr>
          <a:xfrm>
            <a:off x="971640" y="2421000"/>
            <a:ext cx="2879640" cy="136836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Гостр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тривають недовг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Скругленный прямоугольник 4"/>
          <p:cNvSpPr/>
          <p:nvPr/>
        </p:nvSpPr>
        <p:spPr>
          <a:xfrm>
            <a:off x="4572000" y="2421000"/>
            <a:ext cx="2879640" cy="136836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Хронічн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можуть існувати багато місяців, років, десятилітт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Скругленный прямоугольник 2"/>
          <p:cNvSpPr/>
          <p:nvPr/>
        </p:nvSpPr>
        <p:spPr>
          <a:xfrm>
            <a:off x="4572000" y="443700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неінфекційн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Скругленный прямоугольник 6"/>
          <p:cNvSpPr/>
          <p:nvPr/>
        </p:nvSpPr>
        <p:spPr>
          <a:xfrm>
            <a:off x="1187280" y="4451400"/>
            <a:ext cx="2880000" cy="106524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інфекційн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-360" y="0"/>
            <a:ext cx="8929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0000"/>
                </a:solidFill>
                <a:latin typeface="Verdana"/>
              </a:rPr>
              <a:t>6. Поняття про суспільне (громадське, популяційне) здоров’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Оцінюючи здоров’я окремої людини та суспільства в цілому виділяють два його рівні – </a:t>
            </a:r>
            <a:r>
              <a:rPr b="0" i="1" lang="uk-UA" sz="2400" spc="-1" strike="noStrike">
                <a:solidFill>
                  <a:srgbClr val="000000"/>
                </a:solidFill>
                <a:latin typeface="Verdana"/>
              </a:rPr>
              <a:t>і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ндивідуальне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та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суспільне (громадське, популяційне) здоров’я або здоров’я населенн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Громадське (популяційне, суспільне) здоров’я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або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здоров’я населення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i="1" lang="uk-UA" sz="2400" spc="-1" strike="noStrike">
                <a:solidFill>
                  <a:srgbClr val="000000"/>
                </a:solidFill>
                <a:latin typeface="Verdana"/>
              </a:rPr>
              <a:t>система статистичних та медико-соціальних показників, які визначають особливості відновлення популяції (медико-демографічні характеристики), дієздатність (показники фізичного розвитку) та адаптаційні можливості населення чи популяції до зовнішніх умов (показники захворюваності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714240" y="285840"/>
            <a:ext cx="8143920" cy="621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Останнім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часом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відбувається диференціація даних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понять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поняття 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“громадське здоров’я” або “суспільне здоров’я”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розглядають як медико-соціальний ресурс і потенціал суспільства, що сприяє національній безпеці та соціально-економічному розвитку країни, обумовлений впливом різних факторів і способу життя населенн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здоров’я населення”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визначається як медико-демографічне і соціальне поняття, що відображає фізичний, психічний і соціальний добробут людей, які проживають на певній території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термін 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“популяційне здоров’я”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досить широко використовується епідеміологами та гігієністами, є перекладом з англійської (population – населення) і асоціюється із здоров’ям певних або значних груп народонаселенн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28800" y="28548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0000"/>
                </a:solidFill>
                <a:latin typeface="Arial"/>
              </a:rPr>
              <a:t>1.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Мета та завдання курсу «Основи медичних знань»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-360" y="1642680"/>
            <a:ext cx="8929800" cy="500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0000"/>
                </a:solidFill>
                <a:uFillTx/>
                <a:latin typeface="Arial Black"/>
              </a:rPr>
              <a:t>Мета курсу</a:t>
            </a:r>
            <a:r>
              <a:rPr b="0" i="1" lang="ru-RU" sz="2000" spc="-1" strike="noStrike">
                <a:solidFill>
                  <a:srgbClr val="ff0000"/>
                </a:solidFill>
                <a:latin typeface="Arial Black"/>
              </a:rPr>
              <a:t> «Основи медичних знань»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підготувати фахівців, які володітимуть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знаннями щодо теоретичних основ і сучасних принципів охорони здоров’я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методів вивчення та оцінки стану здоров’я населення у взаємозв’язку з чинниками, що на нього впливають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надати уявлення про методи збереження здоров’я, формування здорового способу життя; розпізнавання та запобігання захворювань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надати знання з освоєння прийомів першої домедичної (долікарської) допомоги потерпілим від нещасних випадків і хворим із гострими захворюваннями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формування навичок виконання різних процедур при допомозі хворим, а також знайомство з основними соціально-медичними проблемами здоров'я населенн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642600" y="285840"/>
            <a:ext cx="8286840" cy="62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На формування популяційного здоров’я істотно впливає так звана </a:t>
            </a:r>
            <a:r>
              <a:rPr b="1" i="1" lang="uk-UA" sz="2400" spc="-1" strike="noStrike">
                <a:solidFill>
                  <a:srgbClr val="ff0000"/>
                </a:solidFill>
                <a:latin typeface="Verdana"/>
              </a:rPr>
              <a:t>поведінка самозбереження населення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тобто свідома система дій і відносин, що визначають якість індивідуального і сімейного здоров’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uk-UA" sz="2400" spc="-1" strike="noStrike">
                <a:solidFill>
                  <a:srgbClr val="ff0000"/>
                </a:solidFill>
                <a:latin typeface="Verdana"/>
              </a:rPr>
              <a:t>Основними складовими поведінки самозбереження є: </a:t>
            </a:r>
            <a:r>
              <a:rPr b="1" i="1" lang="ru-RU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адекватне харчування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уміння правильно відпочивати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достатня фізична активність,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здорова сексуальність,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уміння долати стреси,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планування родини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відсутність шкідливих звичок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428400" y="0"/>
            <a:ext cx="8429400" cy="657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000" spc="-1" strike="noStrike">
                <a:solidFill>
                  <a:srgbClr val="ff0000"/>
                </a:solidFill>
                <a:latin typeface="Verdana"/>
              </a:rPr>
              <a:t>Репродуктивне здоров’я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» -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є одним із аспектів громадського та індивідуального здоров’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ідповідно до рекомендацій Міжнародної конференції з питань народонаселення та розвитку (Каїр, 1994) 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репродуктивне здоров’я</a:t>
            </a:r>
            <a:r>
              <a:rPr b="1" lang="uk-UA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изначається як 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стан повного благополуччя, а не відсутність хвороб репродуктивної системи, порушення її функцій або процесів у ні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Репродуктивне зд</a:t>
            </a: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о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ров</a:t>
            </a: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’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я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характеризує насамперед, здатність до народження дітей, можливість вирішувати коли і як часто їх народжуват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Основними 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показниками</a:t>
            </a: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 репродуктивного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 здоров’я</a:t>
            </a:r>
            <a:r>
              <a:rPr b="1" lang="uk-UA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населення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вважають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кiлькi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ть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пологів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рівень материнської смертності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дитячої смертності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невиношуваність вагітності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кількість абортів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рівень безпліддя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кількість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хвороб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що передаються статевим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шляхом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тощо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285840" y="2428920"/>
          <a:ext cx="8572320" cy="3716280"/>
        </p:xfrm>
        <a:graphic>
          <a:graphicData uri="http://schemas.openxmlformats.org/drawingml/2006/table">
            <a:tbl>
              <a:tblPr/>
              <a:tblGrid>
                <a:gridCol w="2143080"/>
                <a:gridCol w="2143080"/>
                <a:gridCol w="2143080"/>
                <a:gridCol w="2143080"/>
              </a:tblGrid>
              <a:tr h="7833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Оцінка індивідуального  здоров'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ритерії здоров'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явність чи відсутність на момент медичного обстеженн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хронічних захворювань і природжених вад розвит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ункціональний стан основних систем організ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івень резистентності організ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івень досягнутого фізичного і нервово-психологічного розвитку, ступінь його гармонійност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2e0e0"/>
                    </a:solidFill>
                  </a:tcPr>
                </a:tc>
              </a:tr>
            </a:tbl>
          </a:graphicData>
        </a:graphic>
      </p:graphicFrame>
      <p:sp>
        <p:nvSpPr>
          <p:cNvPr id="159" name="Rectangle 1"/>
          <p:cNvSpPr/>
          <p:nvPr/>
        </p:nvSpPr>
        <p:spPr>
          <a:xfrm>
            <a:off x="142920" y="222480"/>
            <a:ext cx="8715240" cy="167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0000"/>
                </a:solidFill>
                <a:latin typeface="Verdana"/>
              </a:rPr>
              <a:t>7. Сучасні критерії оцінки індивідуального та громадського здоров’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Таблиця 1. Критерії оцінки індивідуального здоров’я </a:t>
            </a:r>
            <a:r>
              <a:rPr b="0" i="1" lang="uk-UA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(С. М. Громбах, 1973)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13880" y="-360"/>
            <a:ext cx="82155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КРИТЕРІЇ ОЦІНКИ ЗДОРОВ’Я ДІТЕЙ ТА ПІДЛІТКІВ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357120" y="785880"/>
            <a:ext cx="850104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214200" y="214200"/>
            <a:ext cx="8831520" cy="614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З використанням вищеназваних критеріїв до </a:t>
            </a:r>
            <a:r>
              <a:rPr b="1" i="1" lang="uk-UA" sz="2000" spc="-1" strike="noStrike">
                <a:solidFill>
                  <a:srgbClr val="ff0000"/>
                </a:solidFill>
                <a:latin typeface="Verdana"/>
              </a:rPr>
              <a:t>різних груп здоров’я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ідносяться особи, 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які мають наступні показники, що характеризують стан організму людин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 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– люди з нормальним та гармонійним фізичним та нервово-психічним розвитком, з високим рівнем резистентності при відсутності функціональних відхилень та хронічних захворюван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I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 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– практично здорові, але з функціональними і деякими морфологічними відхиленнями або зниженою резистентністю до гострих і хронічних захворюван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II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 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– з хронічними захворюваннями в стадії субкомпенсації із збереженими функціональними можливостям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V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 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- з хронічними захворюваннями в стадії декомпенсації із зниженими функціональними можливостям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V 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– з хронічними захворюваннями в стадії декомпенсації із значно зниженими функціональними можливостям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785880" y="500040"/>
            <a:ext cx="7929360" cy="478620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ик 2"/>
          <p:cNvSpPr/>
          <p:nvPr/>
        </p:nvSpPr>
        <p:spPr>
          <a:xfrm>
            <a:off x="857160" y="5500800"/>
            <a:ext cx="771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Verdana"/>
              </a:rPr>
              <a:t>Універсальна структура індивідуального здоров’я людини (© Г. Жара, 2017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571680" y="356760"/>
            <a:ext cx="8215200" cy="635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прями </a:t>
            </a: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удосконалення індивідуального здоров’я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изначають за результатами комплексного оцінювання фізичного здоров’я, яке передбачає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- встановлення слабких ланок в організмі для цілеспрямованого впливу на них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- розроблення індивідуальної програми оздоровчих занять і оцінювання їх ефективності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- прогнозування ризику виникнення захворювань, які загрожують життю людин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4680" y="1562040"/>
          <a:ext cx="8998200" cy="3962520"/>
        </p:xfrm>
        <a:graphic>
          <a:graphicData uri="http://schemas.openxmlformats.org/drawingml/2006/table">
            <a:tbl>
              <a:tblPr/>
              <a:tblGrid>
                <a:gridCol w="1814760"/>
                <a:gridCol w="1699920"/>
                <a:gridCol w="1687680"/>
                <a:gridCol w="2054160"/>
                <a:gridCol w="1741680"/>
              </a:tblGrid>
              <a:tr h="5796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Оцінка громадського стану здоров'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мографічні показники здоров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’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 (народжуваність, смертність, природний приріст, смертність немовлят та ін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казники здоров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’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 дитячого населе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ізичний та нервово-психічний розвит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атологічна враженість (інвалідність, поширеність патології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хворюваність (загальний рівень, інфекційна поширеність окремих захворювань та відхилень, тощ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  <p:sp>
        <p:nvSpPr>
          <p:cNvPr id="167" name="Rectangle 1"/>
          <p:cNvSpPr/>
          <p:nvPr/>
        </p:nvSpPr>
        <p:spPr>
          <a:xfrm>
            <a:off x="0" y="502200"/>
            <a:ext cx="9144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Таблиця 2.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Критерії оцінки громадського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(популяційного, суспільного) здоров’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57120" y="285480"/>
            <a:ext cx="8501040" cy="635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На сьогодні, ВООЗ значну увагу в оцінці здоров’я населення країн світу приділяє поряд із вищеназваними показниками ряду</a:t>
            </a:r>
            <a:r>
              <a:rPr b="1" i="1" lang="uk-UA" sz="1900" spc="-1" strike="noStrike">
                <a:solidFill>
                  <a:srgbClr val="000000"/>
                </a:solidFill>
                <a:latin typeface="Verdana"/>
              </a:rPr>
              <a:t> соціальних показників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, які на думку експертів відображають стан та відіграють важливе значення у збереженні суспільного здоров’я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uk-UA" sz="1900" spc="-1" strike="noStrike">
                <a:solidFill>
                  <a:srgbClr val="ff0000"/>
                </a:solidFill>
                <a:latin typeface="Verdana"/>
              </a:rPr>
              <a:t>Громадське (популяційне, суспільне)</a:t>
            </a:r>
            <a:r>
              <a:rPr b="1" lang="uk-UA" sz="19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i="1" lang="uk-UA" sz="1900" spc="-1" strike="noStrike">
                <a:solidFill>
                  <a:srgbClr val="ff0000"/>
                </a:solidFill>
                <a:latin typeface="Verdana"/>
              </a:rPr>
              <a:t>здоров</a:t>
            </a:r>
            <a:r>
              <a:rPr b="1" i="1" lang="ru-RU" sz="1900" spc="-1" strike="noStrike">
                <a:solidFill>
                  <a:srgbClr val="ff0000"/>
                </a:solidFill>
                <a:latin typeface="Verdana"/>
              </a:rPr>
              <a:t>’</a:t>
            </a:r>
            <a:r>
              <a:rPr b="1" i="1" lang="uk-UA" sz="1900" spc="-1" strike="noStrike">
                <a:solidFill>
                  <a:srgbClr val="ff0000"/>
                </a:solidFill>
                <a:latin typeface="Verdana"/>
              </a:rPr>
              <a:t>я</a:t>
            </a:r>
            <a:r>
              <a:rPr b="1" lang="uk-UA" sz="1900" spc="-1" strike="noStrike">
                <a:solidFill>
                  <a:srgbClr val="ff0000"/>
                </a:solidFill>
                <a:latin typeface="Verdana"/>
              </a:rPr>
              <a:t> ВООЗ 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характеризує такими групами показників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900" spc="-1" strike="noStrike">
                <a:solidFill>
                  <a:srgbClr val="7030a0"/>
                </a:solidFill>
                <a:latin typeface="Verdana"/>
              </a:rPr>
              <a:t>Показники, які відносяться до політики в галузі охорони здоров</a:t>
            </a:r>
            <a:r>
              <a:rPr b="1" i="1" lang="ru-RU" sz="1900" spc="-1" strike="noStrike">
                <a:solidFill>
                  <a:srgbClr val="7030a0"/>
                </a:solidFill>
                <a:latin typeface="Verdana"/>
              </a:rPr>
              <a:t>’</a:t>
            </a:r>
            <a:r>
              <a:rPr b="1" i="1" lang="uk-UA" sz="1900" spc="-1" strike="noStrike">
                <a:solidFill>
                  <a:srgbClr val="7030a0"/>
                </a:solidFill>
                <a:latin typeface="Verdana"/>
              </a:rPr>
              <a:t>я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ресурси на життя і на медико-санітарну допомогу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ступінь рівномірності розподілу заходів в суспільстві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рівень участі населення в досягненні здоров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я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наявність органів і структур охорони здоров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я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900" spc="-1" strike="noStrike">
                <a:solidFill>
                  <a:srgbClr val="7030a0"/>
                </a:solidFill>
                <a:latin typeface="Verdana"/>
              </a:rPr>
              <a:t>Соціально-економічні показники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Приріст населення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Валовий національний приріст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Рівень безробіття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Адекватність житлових умов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Вироблення енергії на душу населення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Медичне обслуговування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Наявність медичного обслуговування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Економічна доступність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Фізична доступність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Культурна доступність (розуміння необхідності проф. медоглядів)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Показники охоплення медико-санітарною допомогою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Санітарна просвіта</a:t>
            </a:r>
            <a:r>
              <a:rPr b="1" i="1" lang="uk-UA" sz="25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Забезпеченість доброякісним харчуванням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Забезпеченість доброякісним водопостачанням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Охорона здоров</a:t>
            </a: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я материнства і дитинства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Планування сім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ї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Імунізація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"/>
          <p:cNvSpPr/>
          <p:nvPr/>
        </p:nvSpPr>
        <p:spPr>
          <a:xfrm>
            <a:off x="214200" y="877320"/>
            <a:ext cx="8643960" cy="508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Провідні завдання курсу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формування необхідної теоретичної бази в області основ</a:t>
            </a: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 медичних знань та здорового способу життя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ознайомлення з понятійним апаратом і термінологією в області основ медичних знань і здорового способу життя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надати уявлення про сучасний стан розвитку основ медичних знань закономірності змін у стані здоров’я хворих, факторах соціально-економічного, біологічного, антропогенного, медичного характеру, що впливають на нього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викласти теоретичні основи першої допомоги при різноманітних невідкладних станах, гострих захворюваннях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сприяти засвоєнню принципів профілактичних заходів та методологічних особливостей застосування отриманих знань на практиці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формування знань, навичок і умінь збереження і зміцнення здоров'я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надати змогу майбутнім фахівцям опанувати практичні навички, які необхідні для організації процесу надання першої домедичної допомоги, обирати ефективні форми проведення профілактичних заходів та занять, що поліпшують стан хворих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формування цілісного уявлення про значущість здоров'я в ієрархії людських цінностей і потреб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виховання культури здорового способу життя</a:t>
            </a:r>
            <a:r>
              <a:rPr b="1" lang="uk-UA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856800" y="0"/>
            <a:ext cx="82868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Забезпечення медикаментам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Можливості лікування захворювань і трав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Показники здоров</a:t>
            </a:r>
            <a:r>
              <a:rPr b="1" i="1" lang="en-US" sz="2800" spc="-1" strike="noStrike">
                <a:solidFill>
                  <a:srgbClr val="7030a0"/>
                </a:solidFill>
                <a:latin typeface="Verdana"/>
              </a:rPr>
              <a:t>’</a:t>
            </a: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я популяції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Доля (%) новонароджених з масою тіла менше 2500 г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Доля (%) дітей і підлітків з масою тіла, яка відповідає віковим нормативам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Показники психофізичного розвитку дітей і підлітк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Рівень дитячої смертності (за віковими періодами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Прогностична тривалість житт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Смертність від окремих захворюван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Материнська смертніст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Загальна захворюваність і інвалідизаці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Показники соціальної патології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714240" y="285840"/>
            <a:ext cx="8072640" cy="621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Verdana"/>
              </a:rPr>
              <a:t>8. Вплив езко- та ендогенних факторів на здоров’я людини. Поняття про фактори ризику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Факторами ризику 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вважається ознака, попередня до захворювання, що має з ним самостійний, стійкий, вірогідний зв'язок, який використовується для його прогнозуванн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Об'єднання багато чисельних факторів ризику в якісно однорідні групи дозволило визначити відносну значимість кожної групи у виникненні і розвитку патології у населенн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0" y="1071720"/>
          <a:ext cx="8929800" cy="5273640"/>
        </p:xfrm>
        <a:graphic>
          <a:graphicData uri="http://schemas.openxmlformats.org/drawingml/2006/table">
            <a:tbl>
              <a:tblPr/>
              <a:tblGrid>
                <a:gridCol w="488880"/>
                <a:gridCol w="1725840"/>
                <a:gridCol w="5179680"/>
                <a:gridCol w="15354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з/п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Група факторів ризику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Фактори, що входять до групи ризику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Питома вага впливу на здоров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’</a:t>
                      </a: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я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Спосіб життя і соціальні фактори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ераціональне харчування; адинамія; часті стресові ситуації (дистрес); несприятливі матеріально-побутові умови; шкідливі умови праці та навчання; паління, зловживання алкоголем, вживання наркотиків, зловживання ліками; несприятливий стан у сім’ї, самотність; життя у високо урбанізованому середовищі; низький культурний та освітній рівень життя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9 – 53%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Генетичні фактори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Спадкова схильність до захворювань та дегенеративних станів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8 – 22%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Екологічні фактори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Забруднення повітря, води, грунту, шкідливими хімічними, канцерогенними, мікробіологічними радіоактивними та іншими забруднювачами; антропогенне акустичне, електромагнітне, температурне та ін. забруднення довкілля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7 – 20%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Медичні фактори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изька якість медичної допомоги; несвоєчасність медичної допомоги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8 – 10%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3" name="Text Box 47"/>
          <p:cNvSpPr/>
          <p:nvPr/>
        </p:nvSpPr>
        <p:spPr>
          <a:xfrm>
            <a:off x="2824200" y="2008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Rectangle 68"/>
          <p:cNvSpPr/>
          <p:nvPr/>
        </p:nvSpPr>
        <p:spPr>
          <a:xfrm>
            <a:off x="0" y="3240"/>
            <a:ext cx="91440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70c0"/>
                </a:solidFill>
                <a:latin typeface="Verdana"/>
              </a:rPr>
              <a:t>Таблиця.</a:t>
            </a:r>
            <a:r>
              <a:rPr b="1" lang="ru-RU" sz="1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uk-UA" sz="1800" spc="-1" strike="noStrike">
                <a:solidFill>
                  <a:srgbClr val="0070c0"/>
                </a:solidFill>
                <a:latin typeface="Verdana"/>
              </a:rPr>
              <a:t>Групування факторів ризику та їх вклад у формування індивідуального та громадського здоров</a:t>
            </a:r>
            <a:r>
              <a:rPr b="1" lang="ru-RU" sz="1800" spc="-1" strike="noStrike">
                <a:solidFill>
                  <a:srgbClr val="0070c0"/>
                </a:solidFill>
                <a:latin typeface="Verdana"/>
              </a:rPr>
              <a:t>’</a:t>
            </a:r>
            <a:r>
              <a:rPr b="1" lang="uk-UA" sz="1800" spc="-1" strike="noStrike">
                <a:solidFill>
                  <a:srgbClr val="0070c0"/>
                </a:solidFill>
                <a:latin typeface="Verdana"/>
              </a:rPr>
              <a:t>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Ю. П. Лісіцин, Ю. М. Комаров, 1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87; Сердюк, 1999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85520" y="285840"/>
            <a:ext cx="835812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7030a0"/>
                </a:solidFill>
                <a:latin typeface="Arial"/>
              </a:rPr>
              <a:t>Провідні фактори ризику для здоров’я:</a:t>
            </a: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56800" y="999720"/>
            <a:ext cx="8286840" cy="444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0000"/>
                </a:solidFill>
                <a:uFillTx/>
                <a:latin typeface="Verdana"/>
              </a:rPr>
              <a:t>Первинні провідні чинники ризику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курінн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зловживання алкогол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гіподинамі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нераціональне харчуванн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психоемоційний стре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0000"/>
                </a:solidFill>
                <a:uFillTx/>
                <a:latin typeface="Verdana"/>
              </a:rPr>
              <a:t>Вторинні провідні чинники ризику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діабе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артеріальна гіпертензі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гіперліпідемі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ревматиз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алергі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імунодефіцит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832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Arial"/>
              </a:rPr>
              <a:t>Групи ризику 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– це групи населення, що у більшій мірі, ніж інші, схильні до виникнення різних захворювань.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1. Групи за демографічними ознаками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діт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люди похилого і старечого віку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вдови, вдівці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одинокі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мігранти, біженці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2. Групи виробничого, професійного ризику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Особи, які працюють на шкідливих для здоров’я виробництвах (хімічна, металургійна промисловість, важке машинобудування, транспорт тощо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714240" y="404280"/>
            <a:ext cx="8105760" cy="566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3. Група ризику за ознакою функціонального або патологічного стану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вагітні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недоношені діт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особи з генетичним ризиком, уродженими аномаліями, вадам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інваліди з дитинства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4. Грипи ризику за ознаками низького матеріального рівня життя, бідності, убогості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бідні, незабезпечені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безробітні, безхатченки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5. Група ризику з девіантною поведінкою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зловживання алкоголем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вживання наркотиків, токсичних продуктів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сексуальні меншин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деформація психічного здоров’я тощо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"/>
          <p:cNvSpPr/>
          <p:nvPr/>
        </p:nvSpPr>
        <p:spPr>
          <a:xfrm>
            <a:off x="642960" y="699840"/>
            <a:ext cx="8358120" cy="539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Завдання 1.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Спробуйте оцінити свій фізичний стан за певними важливими показниками, використовуючи опитувальник самооцінки фізичного здоров’я Г. С. Нікіфоров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Опитувальник самооцінки фізичного здоров’я (Г. С. Нікіфоров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1. Вік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Кожний рік надає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один бал. Якщо вам 40 років маєте 40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2. Вага.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Нормальна вага умовно дорівнює зросту в сантиметрах мінус 100. За кожний кілограм нижче норми додається 5 балів, за кожний кілограм понад норми вираховується 5 балів. Припустимо, при зрості 176 см Ви важите 85 кг, тоді за другим показником Ви маєте мінус 45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3. Паління.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Хто не палить, отримує плюс 30 балів. За кожну випалену сигарету вираховується 1 бал. Якщо Ви випалюєте за день 20 сигарет, то ваш третій показник складає мінус 20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"/>
          <p:cNvSpPr/>
          <p:nvPr/>
        </p:nvSpPr>
        <p:spPr>
          <a:xfrm>
            <a:off x="642960" y="539280"/>
            <a:ext cx="835812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4. Витривалість.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Якщо Ви щоденно впродовж не менше 12 хв. виконуєте вправи на розвиток витривалості (бігаєте в рівномірному темпі, плаваєте, катаєтесь на лижах або на велосипеді, тобто робите вправи, які найбільш ефективно зміцнюють серцево-судинну систему), то Ви отримуєте 30 балів. робите вправи чотири рази на тиждень, – Ви набираєте 25 балів, три рази – 20, два рази – 10 і один раз – 5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За інші вправи (комплекс ранкової гімнастики, прогулянка, різні ігри) у цьому тесті бали не нараховуються. Якщо Ви взагалі не займаєтесь фізкультурою, то із загальної суми вираховується 10 балів. Якщо до того ж Ви ведете малорухливий спосіб життя, то втрачаєте ще 2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5. Пульс у спокої.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Якщо число серцевих скорочень у спокої у Вас менше 90, то за кожний удар пульсу з цієї різниці Ви отримуєте один бал. Наприклад, частота пульсу 72 удари на хвилину – маєте 18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6. Відновлення частоти пульсу після навантаження.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Після двохвилинного бігу (можна на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місці) відпочиньте 4 хвилини лежачи. Якщо частота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пульсу перевищує початкову цифру всього на 10 ударів,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и отримуєте 30 балів, на 15 ударів – 15 балів, а на 20 і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ільше – жодного балу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"/>
          <p:cNvSpPr/>
          <p:nvPr/>
        </p:nvSpPr>
        <p:spPr>
          <a:xfrm>
            <a:off x="857160" y="758880"/>
            <a:ext cx="800100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Підрахуйте загальну суму за шістьма показниками. 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Якщо Ви набрали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Менше 20 балів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доцільно звернутися до лікаря для перевірки здоров’я, спробувати скинути зайву вагу, переглянути звички, почати виділяти час для фізичних впра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21-60 балів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слід звернути серйозну увагу на боротьбу з факторами ризику, які вже наявні (зайва вага, куріння, низька фізична активність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61-100 балів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результат непоганий, не знижуйте інтенсивності у розвитку витривалості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Понад 100 балів.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Здоров’я відмінне, ваші резерви наповнені витривалістю та опірністю до хвороб. Продовжуйте так само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"/>
          <p:cNvSpPr/>
          <p:nvPr/>
        </p:nvSpPr>
        <p:spPr>
          <a:xfrm>
            <a:off x="857160" y="310320"/>
            <a:ext cx="8072640" cy="539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Завдання 2.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Оцінити свій спосіб життя за індивідуальним тестом здоров’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Індивідуальний тест здоров’я (Г. Ф. Яцук і співавтори, 1997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1. Ранкова гімнастик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щоденно – 0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2-3 рази на тиждень – 5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не виконується – 10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2. Добирання до навчального закладу (на роботу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загальним (міським) транспортом – 5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автомобілем – 10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велосипедом, пішки – 0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3. Вага тіл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ормальна – 0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вище норми (за кожні 5 кг) – 5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1"/>
          <p:cNvSpPr/>
          <p:nvPr/>
        </p:nvSpPr>
        <p:spPr>
          <a:xfrm>
            <a:off x="1071720" y="214200"/>
            <a:ext cx="778644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Arial Black"/>
              </a:rPr>
              <a:t>2. Деякі аспекти поняття права на охорону здоров’я, медичну допомогу в Україні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Rectangle 1"/>
          <p:cNvSpPr/>
          <p:nvPr/>
        </p:nvSpPr>
        <p:spPr>
          <a:xfrm>
            <a:off x="571680" y="1577880"/>
            <a:ext cx="8215200" cy="420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Зміст права на охорону здоров’я і на медичну допомогу визначено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статтями 283 і 284 Цивільного кодексу (ЦК) України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Статтями 285, 286, 287 і 290 ЦК України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визначені також право на інформацію про стан свого здоров’я і на таємницю про ньог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У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ст. 284 ЦК України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зазначається, що фізична особа має право на надання їй медичної допомоги за її згодою, повнолітня особа може відмовитися від лікування. Фізична особа, яка досягла 14 років і звернулася за наданням їй медичної допомоги, має право на вибір лікаря та вибір методів лікування відповідно до його рекомендаці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У невідкладних випадках, за наявності реальної загрози життю фізичної особи, медична допомога надається без згоди фізичної особи або її батьків (усиновлювачів), опікуна, піклувальни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У відповідності зі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ст. 49 Конституції України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медична допомога повинна надаватися безкоштовн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"/>
          <p:cNvSpPr/>
          <p:nvPr/>
        </p:nvSpPr>
        <p:spPr>
          <a:xfrm>
            <a:off x="1000080" y="315360"/>
            <a:ext cx="771516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4. Палінн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е палить – 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10 цигарок на добу – 5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20 цигарок на добу – 1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5. Харчуванн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багато вершкового масла, яєць, вершків – 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багато цукру, вуглеводів – 5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ситна вечеря після 19.00 год. – 1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6. Виробнича гімнастика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виконується – 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не виконується – 5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7. Регулярність занять фізичними вправам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е займається – 1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2-4 години на тиждень – 5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8 годин на тиждень – 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8. Споживання алкогольних напоїв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е споживає – 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на свята – 5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систематично – 1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"/>
          <p:cNvSpPr/>
          <p:nvPr/>
        </p:nvSpPr>
        <p:spPr>
          <a:xfrm>
            <a:off x="928800" y="811080"/>
            <a:ext cx="8215200" cy="490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Оцінка тесту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менше 25 балів</a:t>
            </a:r>
            <a:r>
              <a:rPr b="0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здоровий спосіб життя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25-50 балів</a:t>
            </a:r>
            <a:r>
              <a:rPr b="0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спосіб життя достатньо здоровий, але при корекції окремих звичок його можна значно поліпшити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більше 50 балів</a:t>
            </a:r>
            <a:r>
              <a:rPr b="0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неправильний спосіб життя, який потребує змін звичок і негайних дій для вдосконалення способу житт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1"/>
          <p:cNvSpPr/>
          <p:nvPr/>
        </p:nvSpPr>
        <p:spPr>
          <a:xfrm>
            <a:off x="857160" y="591480"/>
            <a:ext cx="8001000" cy="52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Завдання 3.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,Bold"/>
              </a:rPr>
              <a:t>Оцініть стан здоров'я за допомогою опитувальника «Стан здоров'я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 Black"/>
                <a:ea typeface="Times New Roman,BoldItalic"/>
              </a:rPr>
              <a:t>Інструкція.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,Bold"/>
              </a:rPr>
              <a:t>Уважно прочитайте запропоновані питання та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иберіть із запропонованого переліку відповідей ту, яка Вам найбільше підходи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Текст опитування</a:t>
            </a: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</a:rPr>
              <a:t>1. Що Ви зробите, якщо побачите, що автобус встигне підійти до зупинки раніше, ніж В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) «візьмете ноги в руки», щоб наздогнати його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б) пропустите його, бо буде наступний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) трохи прискорите крок, можливо, він почекає Вас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2</a:t>
            </a:r>
            <a:r>
              <a:rPr b="0" i="1" lang="ru-RU" sz="1800" spc="-1" strike="noStrike">
                <a:solidFill>
                  <a:srgbClr val="ff0000"/>
                </a:solidFill>
                <a:latin typeface="Arial Black"/>
              </a:rPr>
              <a:t>. Чи підете Ви в похід у компанії людей, значно молодших за Вас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) ні, Ви взагалі не ходите в поход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б) так, якщо вони Вам хоч трохи симпатичні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) неохоче, тому що це може бути стомлив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"/>
          <p:cNvSpPr/>
          <p:nvPr/>
        </p:nvSpPr>
        <p:spPr>
          <a:xfrm>
            <a:off x="928800" y="595800"/>
            <a:ext cx="8001000" cy="530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3. Якщо у Вас видався більш важкий робочий або навчальний день, ніж звичайно, чи зникає у Вас бажання робити ввечері що-небудь, що обіцяє бути цікавим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зовсім не зникає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бажання зникає, але Ви сподіваєтеся, що відчуєте себе краще, і тому не відмовляєтесь від задуманого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так, тому що Ви можете одержувати від цього задоволення, тільки відпочивш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4. Яка Ваша думка про турпоходи всією родиною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Вам подобається, коли це роблять інші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Ви б із задоволенням до них приєдналис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потрібно спробувати разок, як Ви себе будете почувати в такому турпоході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5. Що Ви охоче і швидше за все робите, коли стомлюєтесь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лягаєте спат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п’єте чашку міцної кав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довго гуляєте на свіжому повітрі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"/>
          <p:cNvSpPr/>
          <p:nvPr/>
        </p:nvSpPr>
        <p:spPr>
          <a:xfrm>
            <a:off x="857160" y="731520"/>
            <a:ext cx="828684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6. Що найважливіше для підтримки гарного самопочутт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потрібно більше їст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необхідно багато рухатис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не можна занадто перевтомлюватис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7. Чи приймаєте Ви регулярно лік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е приймаєте навіть під час хвороб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ні, у крайньому випадку – вітамін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так, приймаєт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8. Якій страві Ви надаєте перевагу (і частіше їсте) з перерахованих нижче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гороховий суп із копченим окостом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йогурт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тістечко з кремом або зі збитими вершкам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</a:rPr>
              <a:t>9. Що для Вас найбільш важливо, коли Ви відправляєтеся на відпочинок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) щоб були всі зручності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б) щоб була хоча б мінімальна можливість займатися спортом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) щоб були хоча б мінімальні зручності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1"/>
          <p:cNvSpPr/>
          <p:nvPr/>
        </p:nvSpPr>
        <p:spPr>
          <a:xfrm>
            <a:off x="928800" y="1049400"/>
            <a:ext cx="7715160" cy="47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10. Чи відчуваєте Ви зміну погоди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почуваєте себе через це кілька днів хворим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майже не помічаєте, що погода змінилася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так, якщо Ви стомлені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11. Який Ваш загальний стан, якщо Ви не достатньо поспали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кепський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один-два рази недостатньо поспите – все з рук валиться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Ви так до цього звикли, що вже не звертаєте уваг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Arial Black"/>
                <a:ea typeface="Times New Roman,BoldItalic"/>
              </a:rPr>
              <a:t>Ключ.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икористовуючи таблицю, підрахуйте кількість балів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"/>
          <p:cNvGraphicFramePr/>
          <p:nvPr/>
        </p:nvGraphicFramePr>
        <p:xfrm>
          <a:off x="428760" y="1143000"/>
          <a:ext cx="8501040" cy="5283360"/>
        </p:xfrm>
        <a:graphic>
          <a:graphicData uri="http://schemas.openxmlformats.org/drawingml/2006/table">
            <a:tbl>
              <a:tblPr/>
              <a:tblGrid>
                <a:gridCol w="1404720"/>
                <a:gridCol w="2438640"/>
                <a:gridCol w="2365200"/>
                <a:gridCol w="2292480"/>
              </a:tblGrid>
              <a:tr h="344520">
                <a:tc gridSpan="4"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Кількість балів за відповіді на питання тест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440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Пита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ідповідь – Б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ідповідь – Б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ідповідь – Б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 gridSpan="2"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Загальна кількість балі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1" name="Rectangle 1"/>
          <p:cNvSpPr/>
          <p:nvPr/>
        </p:nvSpPr>
        <p:spPr>
          <a:xfrm>
            <a:off x="357120" y="42912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Таблиця  – Ключ до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,Bold"/>
              </a:rPr>
              <a:t>опитування «Стан здоров'я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"/>
          <p:cNvSpPr/>
          <p:nvPr/>
        </p:nvSpPr>
        <p:spPr>
          <a:xfrm>
            <a:off x="1000080" y="385560"/>
            <a:ext cx="8001000" cy="579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,Italic"/>
              </a:rPr>
              <a:t>Понад 80 балів</a:t>
            </a:r>
            <a:r>
              <a:rPr b="0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У Вас дійсно відмінне самопочуття. Очевидно, тому, що у Вас здоровий організм. Ви не тільки прихильник здорового способу життя, але й на практиці його ведете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,Italic"/>
              </a:rPr>
              <a:t>Від 50 до 80 балів</a:t>
            </a:r>
            <a:r>
              <a:rPr b="0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Нічого страшного з Вашим самопочуттям немає, хоча, звичайно, буває так, що Ви роздратовані або втомилися; на Ваших плечах великий тягар, але лише тому, що Ви його досить добре виносите. Безумовно, з цієї причини Вам піде на користь не відкладати на майбутній рік (місяць, тиждень, день) початок нового життя, а вже зараз перейти до нього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,Italic"/>
              </a:rPr>
              <a:t>Менше 50 балів</a:t>
            </a:r>
            <a:r>
              <a:rPr b="0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и занадто перевантажені. Ви не стежите за станом свого здоров'я. Необхідні зміни в способі житт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3000" y="985320"/>
            <a:ext cx="753912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Дякую за увагу!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785520" y="499680"/>
            <a:ext cx="835812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900" spc="-1" strike="noStrike">
                <a:solidFill>
                  <a:srgbClr val="ff0000"/>
                </a:solidFill>
                <a:latin typeface="Verdana"/>
              </a:rPr>
              <a:t>3. Медицина. Історія. Галузі. Поняття профілактики та лікування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5396040" y="2286000"/>
            <a:ext cx="3531960" cy="378612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3"/>
          <p:cNvSpPr/>
          <p:nvPr/>
        </p:nvSpPr>
        <p:spPr>
          <a:xfrm>
            <a:off x="571680" y="2357280"/>
            <a:ext cx="5143320" cy="31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900" spc="-1" strike="noStrike">
                <a:solidFill>
                  <a:srgbClr val="ff0000"/>
                </a:solidFill>
                <a:latin typeface="Arial Black"/>
              </a:rPr>
              <a:t>Медицина</a:t>
            </a:r>
            <a:r>
              <a:rPr b="0" lang="uk-UA" sz="2900" spc="-1" strike="noStrike">
                <a:solidFill>
                  <a:srgbClr val="000000"/>
                </a:solidFill>
                <a:latin typeface="Arial Black"/>
              </a:rPr>
              <a:t> – галузь науки та практичної діяльності, що спрямована на збереження і зміцнення здоров’я людей, запобігання </a:t>
            </a: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хворобам </a:t>
            </a:r>
            <a:r>
              <a:rPr b="0" lang="uk-UA" sz="2900" spc="-1" strike="noStrike">
                <a:solidFill>
                  <a:srgbClr val="000000"/>
                </a:solidFill>
                <a:latin typeface="Arial Black"/>
              </a:rPr>
              <a:t>та їх лікування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369800" y="1827360"/>
            <a:ext cx="7313400" cy="4114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247680" y="0"/>
            <a:ext cx="8896320" cy="66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142920" y="214200"/>
          <a:ext cx="8786880" cy="6262920"/>
        </p:xfrm>
        <a:graphic>
          <a:graphicData uri="http://schemas.openxmlformats.org/drawingml/2006/table">
            <a:tbl>
              <a:tblPr/>
              <a:tblGrid>
                <a:gridCol w="2313000"/>
                <a:gridCol w="1879560"/>
                <a:gridCol w="2022480"/>
                <a:gridCol w="2571840"/>
              </a:tblGrid>
              <a:tr h="1720800"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4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алузі медицини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4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ивчають :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42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будову та функції організму здорової людини 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анатомія, фізіологія, гістологія, топографічна анатомія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a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хворий організм 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патологічна фізіологія, патологічна анатомія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eb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хвороби та їх лікування 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терапія, хірургія, стоматологія, ендокрино-логія, гінекологія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вплив зовнішніх факторів на здоров’я як окремої людини, так і групи людей, суспільства в цілому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гігієна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соціальна медицина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285840" y="714240"/>
          <a:ext cx="8643960" cy="5102280"/>
        </p:xfrm>
        <a:graphic>
          <a:graphicData uri="http://schemas.openxmlformats.org/drawingml/2006/table">
            <a:tbl>
              <a:tblPr/>
              <a:tblGrid>
                <a:gridCol w="4222800"/>
                <a:gridCol w="4421160"/>
              </a:tblGrid>
              <a:tr h="12859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прями медицини :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16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ЛІКУВАЛЬ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’єктом лікувальної медицини є хвора людин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a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ПРОФІЛАКТИЧ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’єктом профілактичної медицини є практично здорова людин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7T21:26:55Z</dcterms:created>
  <dc:creator>1</dc:creator>
  <dc:description/>
  <dc:language>en-US</dc:language>
  <cp:lastModifiedBy>hp</cp:lastModifiedBy>
  <dcterms:modified xsi:type="dcterms:W3CDTF">2020-02-03T20:37:30Z</dcterms:modified>
  <cp:revision>77</cp:revision>
  <dc:subject/>
  <dc:title>Спортивна медицина</dc:title>
</cp:coreProperties>
</file>