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B64D-F067-4024-98CA-EAA952FDF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AF68-6636-42E0-824F-F04BC72B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F46F-26AD-4BEC-A016-0BAB2DFB8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57FE-6894-453F-AD19-B1099DDFC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E0B9-42A7-456C-89EE-E4F19369E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DEC1-9B65-46D9-8E7D-42A6391B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44C6-2226-4FA9-8171-CA7807AF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CC00-F75A-41BC-8185-B57A9D10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8BF1-09FC-4D3F-9789-CF38ECAA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1D54-5DAE-4A2C-A63A-F6F75C60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24EB-00BF-4E89-ACDC-BEEA69B0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0F6A-1270-4347-879F-4C2D05BE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5294-C399-4CED-AC22-B968CAB2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6829-7ED8-4240-848F-591114DE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DAE0-E151-4119-924F-63F3A825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4609-01FF-40F7-BC6D-326E4F5AE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F2CF-1389-4A01-928D-B0395079C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1A00-E113-4662-B6FE-FD07BB1F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C33E-A8F5-47E5-A1AB-3A4EF31D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7052-3AE5-43D4-9B9A-C4DD2BEC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CE5D-3EF2-4638-B97A-E37F9FDD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AC15-9E33-4613-BD97-73808002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095B-0CB7-4492-900F-8779A7B9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C06F-41DC-43EF-840C-E9B3015E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184D-15A4-4616-95A1-E0D4470C26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CDBE-7B36-4A67-9FE9-E87D9AD0EF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7600" y="333000"/>
            <a:ext cx="7855200" cy="101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70c0"/>
                </a:solidFill>
                <a:latin typeface="Arial"/>
              </a:rPr>
              <a:t>ОСНОВИ МЕДИЧНИХ ЗНАНЬ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3000" y="2071440"/>
            <a:ext cx="753912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Лекція №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гальне вчення про здоров’я і хворобу. Суспільне та індивідуальне здоров’я.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плив соціальних і екологічних факторів на здоров'я людини, стан здоров'я населення Украї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6357960" y="4929120"/>
            <a:ext cx="25668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771516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1" i="1" lang="uk-UA" sz="2800" spc="-1" strike="noStrike">
                <a:solidFill>
                  <a:srgbClr val="ff0000"/>
                </a:solidFill>
                <a:latin typeface="Arial"/>
              </a:rPr>
              <a:t>Визначення поняття здоров’я. Компоненти здоров’я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85480" y="1071360"/>
            <a:ext cx="8643960" cy="550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0000"/>
                </a:solidFill>
                <a:latin typeface="Arial Black"/>
              </a:rPr>
              <a:t>Проблема здоров'я людини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є в числі найбільш пріоритетних завдань розвитку суспільства в останні роки внаслідок різкого погіршення демографічної ситуації в країні, а також виражені негативні тенденції в здоров’ї підростаючого поколі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 Black"/>
              </a:rPr>
              <a:t>Структуру поширеності хвороб серед дитячої популяції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формують здебільшого хвороб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дихання (48,6%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травлення (7,9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ка та його придаткового апарату (5,4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ендокринної системи, розлади харчування та порушення обміну речовин (5,3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шкіри та підшкірної клітковини (4,6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кістково-м’язової системи та сполучної тканин (4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інфекційні та паразитарні хвороби (3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нервової системи (3,3%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91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Що таке здоров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я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1720" y="1827360"/>
            <a:ext cx="76118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b050"/>
                </a:solidFill>
                <a:latin typeface="Verdana"/>
              </a:rPr>
              <a:t>У медичній енциклопедії (ВМЕ) </a:t>
            </a:r>
            <a:r>
              <a:rPr b="1" lang="uk-UA" sz="3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 трактується як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стан організму людини, коли функції усіх його органів і систем урівноважені із зовнішнім середовищем і відсутні будь-які хворобливі зміни“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14200" y="213840"/>
            <a:ext cx="8715600" cy="664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Основним, і можливо, найбільш широко враховуючим соціальну складову здоров’я поряд з медичними складовими, є визначення, подане в 1948 році Всесвітньою організацією охорони здоров’я (ВООЗ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'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- це стан повного фізичного, душевного і соціального благополуччя, а не тільки відсутність хвороб і фізичних дефектів“ (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Статут ВООЗ, 1946 рі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00b050"/>
                </a:solidFill>
                <a:latin typeface="Verdana"/>
              </a:rPr>
              <a:t>Визначення змінено у 1978 році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– це стан повного фізичного, духовного і соціального благополуччя, що дає можливість людям проводити соціально та економічно продуктивне життя (</a:t>
            </a:r>
            <a:r>
              <a:rPr b="1" lang="uk-UA" sz="2500" spc="-1" strike="noStrike">
                <a:solidFill>
                  <a:srgbClr val="ff0000"/>
                </a:solidFill>
                <a:latin typeface="Verdana"/>
              </a:rPr>
              <a:t>дефініція здоров’я ВООЗ, 1978 рік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28400" y="571680"/>
            <a:ext cx="8429400" cy="537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 u="sng">
                <a:solidFill>
                  <a:srgbClr val="ff0000"/>
                </a:solidFill>
                <a:uFillTx/>
                <a:latin typeface="Verdana"/>
              </a:rPr>
              <a:t>І.І. Брехман</a:t>
            </a:r>
            <a:r>
              <a:rPr b="1" lang="uk-UA" sz="2900" spc="-1" strike="noStrike">
                <a:solidFill>
                  <a:srgbClr val="ff0000"/>
                </a:solidFill>
                <a:latin typeface="Verdana"/>
              </a:rPr>
              <a:t> (1990)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асновник валеології - науки про індивідуальне здоров’я людини, визначає </a:t>
            </a: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як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датність людини зберігати відповідну віку стійкість в умовах різких змін кількісних і якісних параметрів триєдиного потоку сенсорної, вербальної і структурної інформації“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13840" y="213840"/>
            <a:ext cx="864396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Відомий теоретик медицини 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Ю.П.Лисицин (1985)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диференціює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 взаємопов’язаних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рівні здоров’я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 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, груповий та індивідуальний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c0"/>
                </a:solidFill>
                <a:latin typeface="Verdana"/>
              </a:rPr>
              <a:t>Перший</a:t>
            </a: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 або громадський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характеризує здоров’я населення загало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ображає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систем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матеріаль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відносин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суспільстві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Другий рівень</a:t>
            </a:r>
            <a:r>
              <a:rPr b="1" lang="uk-UA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групове здоров’я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обумовлене особливостями життєдіяльності, які об’єднують людей даної групи та схожістю соціального оточення, в якому перебувають її члени (здоров’я працюючих у певних галузях, студентів, школярів тощо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Третій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індивідуальний рівень здоров’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який формуєтьс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умовах групи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сього суспільства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ал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н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основі притаманних лише даній людині генет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фіз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психічних особлив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як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 способ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житт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99680" y="428400"/>
            <a:ext cx="828684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П. Казначеє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дійснює глибокий аналіз проблем здоров’я і формулює поняття «здоров’я» таким чином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індивід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є динамічний стан збереження і розвитку його біологічних, фізіологічних та психологічних функцій, оптимальної працездатності і соціальної тривалості активності за максимальної тривалості активного життя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С.А. Чикі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Г.Г. Царегородце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дають таке визначення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гармонійна єдність біологічних, психічних і трудових функцій, що зумовлює повноцінну безмежну участь людини в різних видах суспільної трудової діяльності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13840" y="356760"/>
            <a:ext cx="864396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ншими авторами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визначається як стан оптимальної життєдіяльності людини, що забезпечує повноту реалізації сутнісних си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аналізувавши різні визначення поняття «здоров’я»,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Б.М.Ільї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понує таке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людини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– це функціональний стан організму, що забезпечує тривалість життя, фізичну й розумову працездатність, самопочуття і функцію відтворення здорових нащадків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М. Сидоров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, аналізуючи в своїй роботі понад 200 визначень поняття «здоров’я», пропонує таке визначення, яке розкриває перш за все його біосоціальну сутність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відношення біосоціальної системи з приводу необхідності поновлення її сутнісних сил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53800" y="213840"/>
            <a:ext cx="8675640" cy="65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В.О. Ліщу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 О.В. Мосткова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та сучасні спеціалісти з валеології, дають своє визначення поняття «здор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я»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i="1" lang="uk-UA" sz="2800" spc="-1" strike="noStrike">
                <a:solidFill>
                  <a:srgbClr val="000000"/>
                </a:solidFill>
                <a:latin typeface="Verdana"/>
              </a:rPr>
              <a:t> це є здатність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пристосуватися до середовища та своїх власних можливостей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ротистояти зовнішнім і внутрішнім факторам, хворобам, старінню та іншим формам деградації; зберігати себе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збільшувати тривалість повноцінної життєдіяльності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оліпшувати можливості, властивості та здібності свого організму, якість життя та середовища проживанн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виробляти культурні, духовні та матеріальні цінності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28400" y="214200"/>
            <a:ext cx="83581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Д.Д. Венедиктов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изначає 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як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00b050"/>
                </a:solidFill>
                <a:latin typeface="Verdana"/>
              </a:rPr>
              <a:t>динамічну рівновагу організму з навколишнім середовищем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коли всі закладені в біологічній та соціальній сутності людини фізичні, духовні та інші здібності виявляються найбільш повно і гармонійно, всі життєво важливі підсистеми людського організму функціонують з максимально можливою інтенсивністю, а загальне поєднання підтримується на рівні, оптимальному для збереження цілісності організму, його працездатності, а також швидкої адаптації до природного й соціального середовища, що безперервно змінюється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14200" y="-360"/>
            <a:ext cx="8715600" cy="642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На сьогодні провідною концепцією щодо визначення стану </a:t>
            </a:r>
            <a:r>
              <a:rPr b="0" i="1" lang="uk-UA" sz="2200" spc="-1" strike="noStrike">
                <a:solidFill>
                  <a:srgbClr val="ff0000"/>
                </a:solidFill>
                <a:latin typeface="Arial Black"/>
              </a:rPr>
              <a:t>здоров’я індивідуума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є використання поняття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адаптація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теорії функціональних систем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За сучасними уявленнями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з позицій системного підходу, поняття «здоров’я» має вклю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біологічні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соціальні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характеристики індивідуума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оцінку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його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функціональних резервів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які дозволяють організму активно змінювати свій стан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Г.А. Апанасенко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розглядаючи здоров’я з позицій системної адаптації, вважає, правомірно визна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здоров’я як динамічний стан</a:t>
            </a:r>
            <a:r>
              <a:rPr b="1" i="1" lang="uk-UA" sz="2200" spc="-1" strike="noStrike">
                <a:solidFill>
                  <a:srgbClr val="000000"/>
                </a:solidFill>
                <a:latin typeface="Arial Black"/>
              </a:rPr>
              <a:t>, який дозволяє здійснити найбільшу кількість видоспецифічних функцій при найбільш економній витраті біологічних ресурсів організму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План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83581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та та завдання курсу «Основи медичних знань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. Деякі аспекти поняття права на охорону здоров’я, медичну допомогу в Україн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3. Медицина. Історія. Галузі. Поняття профілактики та лікува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ення поняття здоров’я. Компоненти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5. Поняття хвороби і проміжних станів людини. Гострі і хронічні хвороби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6. Поняття про суспільне (громадське, популяційне) здоров’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7. Сучасні критерії оцінки індивідуального та громадського здоров’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28480" y="0"/>
            <a:ext cx="7313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Verdana"/>
              </a:rPr>
              <a:t>Складові здоров’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85480" y="713880"/>
            <a:ext cx="8715240" cy="592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ами фізичного здоров’я є: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індивідуальні особливості анатомічної будови тіла, досконале (за нормою) фізіологічне функціонування організму в різних умовах спокою, руху, довкілля, генетичної спадщини, рівень фізичного розвитку органів і систем організм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психіч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є: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індивідуальні особливості психічних процесів і властивостей людини, наприклад, збудженість, емоційність, чутливі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духовного здоров’я є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уховний світ особистості, сприйняття духовної культури людства, освіти, науки, мистецтва, релігії, моралі, ети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соціаль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в’язані з економічними чинниками, стосунками індивіда з структурними одиницями соціуму (сім’єю, організаціями), з якими створюються соціальні зв’язки: праця, відпочинок, побут, соціальний захист, охорона здоров’я, безпека існування тощ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14200" y="428400"/>
            <a:ext cx="871560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Лісіцин Ю.П.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ідкреслював, що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здоров’я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хвороба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категорії, котрі є соціально обумовленими, тобто знаходяться під впливом дії соціальних умов і факторів.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 людини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гармонічна єдність біологічних і соціальних якостей, обумовлених вродженими і набутими біологічними і соціальними впливами, а хвороба – порушення цієї гармонії, єдності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b050"/>
                </a:solidFill>
                <a:latin typeface="Verdana"/>
              </a:rPr>
              <a:t>В останній редакції ВООЗ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ення поняття «здоров’я», де визначається, що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стан повного соціального, біологічного та психологічного благополуччя, коли функції всіх органів і систем урівноважені з навколишнім середовищем, відсутні якісь захворювання, хворобливі стани та фізичні дефекти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00080" y="428400"/>
            <a:ext cx="774216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5. Поняття хвороби і проміжних станів людин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28760" y="1856880"/>
            <a:ext cx="8572320" cy="46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Сучасний лікар-клініцист, як правило, фіксує хворобу або її відсутність. Проте вже Гален вказував на існування трьох станів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ерехідного стану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хвороби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- це динамічний процес в житті людини. При зниженні його кількості розвивається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третій рівень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реморбідний період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ередхвороба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) - стан, при якому можливий розвиток патологічного процесу без зміни сили діючого чинника, внаслідок зниження резервів адаптації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ая соединительная линия 4"/>
          <p:cNvSpPr/>
          <p:nvPr/>
        </p:nvSpPr>
        <p:spPr>
          <a:xfrm flipH="1">
            <a:off x="355680" y="857160"/>
            <a:ext cx="1440" cy="4145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Прямая соединительная линия 9"/>
          <p:cNvSpPr/>
          <p:nvPr/>
        </p:nvSpPr>
        <p:spPr>
          <a:xfrm>
            <a:off x="357120" y="5000760"/>
            <a:ext cx="7715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Прямая соединительная линия 12"/>
          <p:cNvSpPr/>
          <p:nvPr/>
        </p:nvSpPr>
        <p:spPr>
          <a:xfrm flipH="1">
            <a:off x="928800" y="1928880"/>
            <a:ext cx="1440" cy="30718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Прямая соединительная линия 14"/>
          <p:cNvSpPr/>
          <p:nvPr/>
        </p:nvSpPr>
        <p:spPr>
          <a:xfrm flipH="1">
            <a:off x="1998720" y="3214800"/>
            <a:ext cx="1440" cy="178740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Прямая соединительная линия 17"/>
          <p:cNvSpPr/>
          <p:nvPr/>
        </p:nvSpPr>
        <p:spPr>
          <a:xfrm flipH="1">
            <a:off x="3427560" y="4002120"/>
            <a:ext cx="1440" cy="10000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Дуга 18"/>
          <p:cNvSpPr/>
          <p:nvPr/>
        </p:nvSpPr>
        <p:spPr>
          <a:xfrm rot="11587800">
            <a:off x="650520" y="898200"/>
            <a:ext cx="10231560" cy="3759120"/>
          </a:xfrm>
          <a:prstGeom prst="pie">
            <a:avLst/>
          </a:prstGeom>
          <a:noFill/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1" name="Прямая со стрелкой 28"/>
          <p:cNvCxnSpPr/>
          <p:nvPr/>
        </p:nvCxnSpPr>
        <p:spPr>
          <a:xfrm flipH="1" flipV="1">
            <a:off x="1071360" y="1999440"/>
            <a:ext cx="557280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2" name="Прямая со стрелкой 36"/>
          <p:cNvCxnSpPr/>
          <p:nvPr/>
        </p:nvCxnSpPr>
        <p:spPr>
          <a:xfrm flipH="1" flipV="1">
            <a:off x="2071440" y="3214440"/>
            <a:ext cx="45727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3" name="Прямая со стрелкой 39"/>
          <p:cNvCxnSpPr/>
          <p:nvPr/>
        </p:nvCxnSpPr>
        <p:spPr>
          <a:xfrm flipH="1" flipV="1">
            <a:off x="3571200" y="4000320"/>
            <a:ext cx="307260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4" name="TextBox 41"/>
          <p:cNvSpPr/>
          <p:nvPr/>
        </p:nvSpPr>
        <p:spPr>
          <a:xfrm>
            <a:off x="7858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Box 42"/>
          <p:cNvSpPr/>
          <p:nvPr/>
        </p:nvSpPr>
        <p:spPr>
          <a:xfrm>
            <a:off x="17146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Box 43"/>
          <p:cNvSpPr/>
          <p:nvPr/>
        </p:nvSpPr>
        <p:spPr>
          <a:xfrm>
            <a:off x="3143160" y="52149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Box 44"/>
          <p:cNvSpPr/>
          <p:nvPr/>
        </p:nvSpPr>
        <p:spPr>
          <a:xfrm>
            <a:off x="4714920" y="51436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6286680" y="1573560"/>
            <a:ext cx="264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«Безпечний рівень» здоров’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715080" y="2788560"/>
            <a:ext cx="242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чаток формуванн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715080" y="3859560"/>
            <a:ext cx="242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Маніфестаці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5573880"/>
            <a:ext cx="9144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значення: </a:t>
            </a: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1 - здоров’я; 2 – передхвороба; 3 – неманіфестований патологічний процес; 4 – хвороб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196680"/>
            <a:ext cx="9144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Рис. Здоров’я, «третій стан» (передхвороба + неманіфестований патологічний процес) і хвороба у взаємовідносинах з резервами здоров’я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[Г. Л. Апанасенко, 2004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28760" y="213840"/>
            <a:ext cx="857232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- перехідний між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м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хворобою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, виокремлений з однієї сторони, ступенем (рівнем) зниження резервів здоров’я і можливістю розвитку внаслідок цього патологічного процесу при незмінних умовах життєдіяльності, з іншої – початковими ознаками порушення функцій –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маніфестацією патологічного процесу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казані межі можуть бути кількісно охарактеризовані відповідним рівнем здоров’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У цей період третього стану у людини є усі ресурси, щоб вийти з фази передхвороби за допомогою зміни свого способу життя (ЗСЖ). Якщо і далі через відсутність у людини знань і мотивації до ЗСЖ зберігається і посилюється тиск на нормативні межі адаптації через несприятливі здоров’яформуючі чинники, то резервні можливості захисних систем організму вичерпують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301320"/>
            <a:ext cx="8786880" cy="119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Передхвороба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– це латентний, прихований період хвороби або стадія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функціональної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готовності організму до розвитку певного захворювання.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1571760"/>
            <a:ext cx="8140680" cy="488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0000"/>
                </a:solidFill>
                <a:uFillTx/>
                <a:latin typeface="Verdana"/>
              </a:rPr>
              <a:t>Ознаки (індикатори) передхвороби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агальне нездуж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ниження апетиту / переїд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ечія, закреп / діаре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рижка, нудот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орушення менструального цикл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головні болі, головокружі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часті випадки запамороче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приємні відчуття в області серц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м’язові суд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ідвищення пітлив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рвовий тік, посмикув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сльозотеча без явної причи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іль у м’язах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чуття загальної слабкості, вт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тривожність, занепокоє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езсоння, сонливість, хронічна роздратованість тощ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3880" y="301320"/>
            <a:ext cx="828684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Хвороба характеризується зниженням пристосованості до середовища і обмеженням свободи життєдіяльності хворого.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71720" y="2071800"/>
            <a:ext cx="754056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Хвороба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- це життєдіяльність організму, яка виражається в зміні функції, а також у порушенні будови органів і тканин, що виникає під впливом надзвичайних для даного організму подразників зовнішнього і внутрішнього середовища організму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9567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Класифікація хвороб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82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тривалістю перебігу хвороб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етіологічним чиннико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Скругленный прямоугольник 1"/>
          <p:cNvSpPr/>
          <p:nvPr/>
        </p:nvSpPr>
        <p:spPr>
          <a:xfrm>
            <a:off x="97164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Гостр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тривають недовг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Скругленный прямоугольник 4"/>
          <p:cNvSpPr/>
          <p:nvPr/>
        </p:nvSpPr>
        <p:spPr>
          <a:xfrm>
            <a:off x="457200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Хроніч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можуть існувати багато місяців, років, десятилітт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Скругленный прямоугольник 2"/>
          <p:cNvSpPr/>
          <p:nvPr/>
        </p:nvSpPr>
        <p:spPr>
          <a:xfrm>
            <a:off x="4572000" y="443700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не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Скругленный прямоугольник 6"/>
          <p:cNvSpPr/>
          <p:nvPr/>
        </p:nvSpPr>
        <p:spPr>
          <a:xfrm>
            <a:off x="1187280" y="4451400"/>
            <a:ext cx="2880000" cy="10652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-360" y="0"/>
            <a:ext cx="8929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6. Поняття про суспільне (громадське, популяційне)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Оцінюючи здоров’я окремої людини та суспільства в цілому виділяють два його рівні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ндивідуальне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т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суспільне (громадське, популяційне) здоров’я або здоров’я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Громадське (популяційне, суспільне)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здоров’я населенн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система статистичних та медико-соціальних показників, які визначають особливості відновлення популяції (медико-демографічні характеристики), дієздатність (показники фізичного розвитку) та адаптаційні можливості населення чи популяції до зовнішніх умов (показники захворюваності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714240" y="285840"/>
            <a:ext cx="814392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Останні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часом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бувається диференціація да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понять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оняття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громадське здоров’я” або “суспіль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розглядають як медико-соціальний ресурс і потенціал суспільства, що сприяє національній безпеці та соціально-економічному розвитку країни, обумовлений впливом різних факторів і способу життя 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здоров’я населенн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ається як медико-демографічне і соціальне поняття, що відображає фізичний, психічний і соціальний добробут людей, які проживають на певній території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термін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популяцій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досить широко використовується епідеміологами та гігієністами, є перекладом з англійської (population – населення) і асоціюється із здоров’ям певних або значних груп народо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880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ета та завдання курсу «Основи медичних знань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1642680"/>
            <a:ext cx="892980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Arial Black"/>
              </a:rPr>
              <a:t>Мета курсу</a:t>
            </a: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 «Основи медичних знань»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підготувати фахівців, які володітимуть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наннями щодо теоретичних основ і сучасних принципів охорони здоров’я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тодів вивчення та оцінки стану здоров’я населення у взаємозв’язку з чинниками, що на нього впливают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уявлення про методи збереження здоров’я, формування здорового способу життя; розпізнавання та запобігання захворюван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знання з освоєння прийомів першої домедичної (долікарської) допомоги потерпілим від нещасних випадків і хворим із гострими захворюваннями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формування навичок виконання різних процедур при допомозі хворим, а також знайомство з основними соціально-медичними проблемами здоров'я населе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42600" y="285840"/>
            <a:ext cx="828684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а формування популяційного здоров’я істотно впливає так звана 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поведінка самозбереження населенн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тобто свідома система дій і відносин, що визначають якість індивідуального і сімейного здоров’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Основними складовими поведінки самозбереження є: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адекватне харчуванн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правильно відпочиват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достатня фізична актив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здорова сексуаль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долати стреси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планування родин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відсутність шкідливих звичо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28400" y="0"/>
            <a:ext cx="8429400" cy="657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епродуктивне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» -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є одним із аспектів громадського та індивідуального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повідно до рекомендацій Міжнародної конференції з питань народонаселення та розвитку (Каїр, 1994)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ається як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стан повного благополуччя, а не відсутність хвороб репродуктивної системи, порушення її функцій або процесів у ні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ов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характеризує насамперед, здатність до народження дітей, можливість вирішувати коли і як часто їх народжува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Основними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показниками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 репродуктивног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населенн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вважаю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iлькi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ь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полог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материнськ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дитяч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невиношуваність вагі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 аборт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рівень безплідд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хвороб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що передаються статевим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шляхом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тощо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85840" y="2428920"/>
          <a:ext cx="8572320" cy="3716280"/>
        </p:xfrm>
        <a:graphic>
          <a:graphicData uri="http://schemas.openxmlformats.org/drawingml/2006/table">
            <a:tbl>
              <a:tblPr/>
              <a:tblGrid>
                <a:gridCol w="2143080"/>
                <a:gridCol w="2143080"/>
                <a:gridCol w="2143080"/>
                <a:gridCol w="2143080"/>
              </a:tblGrid>
              <a:tr h="783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індивідуального 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итерії здоров'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явність чи відсутність на момент медичного обстеженн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ронічних захворювань і природжених вад розвит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ункціональний стан основних систем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резистентності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досягнутого фізичного і нервово-психологічного розвитку, ступінь його гармонійност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e0e0"/>
                    </a:solidFill>
                  </a:tcPr>
                </a:tc>
              </a:tr>
            </a:tbl>
          </a:graphicData>
        </a:graphic>
      </p:graphicFrame>
      <p:sp>
        <p:nvSpPr>
          <p:cNvPr id="159" name="Rectangle 1"/>
          <p:cNvSpPr/>
          <p:nvPr/>
        </p:nvSpPr>
        <p:spPr>
          <a:xfrm>
            <a:off x="142920" y="222480"/>
            <a:ext cx="8715240" cy="16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7. Сучасні критерії оцінки індивідуального та громадського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Таблиця 1. Критерії оцінки індивідуального здоров’я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(С. М. Громбах, 1973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3880" y="-360"/>
            <a:ext cx="8215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КРИТЕРІЇ ОЦІНКИ ЗДОРОВ’Я ДІТЕЙ ТА ПІДЛІТКІВ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357120" y="785880"/>
            <a:ext cx="85010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14200" y="214200"/>
            <a:ext cx="88315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 використанням вищеназваних критеріїв до 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ізних груп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носяться особи,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які мають наступні показники, що характеризують стан організму людин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люди з нормальним та гармонійним фізичним та нервово-психічним розвитком, з високим рівнем резистентності при відсутності функціональних відхилень та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практично здорові, але з функціональними і деякими морфологічними відхиленнями або зниженою резистентністю до гострих і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субкомпенсації із збере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V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- з хронічними захворюваннями в стадії декомпенсації із зни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V 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декомпенсації із значно зниженими функціональними можливост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7929360" cy="47862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2"/>
          <p:cNvSpPr/>
          <p:nvPr/>
        </p:nvSpPr>
        <p:spPr>
          <a:xfrm>
            <a:off x="857160" y="5500800"/>
            <a:ext cx="771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Універсальна структура індивідуального здоров’я людини (© Г. Жара, 2017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71680" y="356760"/>
            <a:ext cx="821520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прями 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удосконалення індивідуального здоров’я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изначають за результатами комплексного оцінювання фізичного здоров’я, яке передбачає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встановлення слабких ланок в організмі для цілеспрямованого впливу на них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розроблення індивідуальної програми оздоровчих занять і оцінювання їх ефективності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прогнозування ризику виникнення захворювань, які загрожують життю люди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4680" y="1562040"/>
          <a:ext cx="8998200" cy="3962520"/>
        </p:xfrm>
        <a:graphic>
          <a:graphicData uri="http://schemas.openxmlformats.org/drawingml/2006/table">
            <a:tbl>
              <a:tblPr/>
              <a:tblGrid>
                <a:gridCol w="1814760"/>
                <a:gridCol w="1699920"/>
                <a:gridCol w="1687680"/>
                <a:gridCol w="2054160"/>
                <a:gridCol w="1741680"/>
              </a:tblGrid>
              <a:tr h="579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громадського стану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мографічні показники здоров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(народжуваність, смертність, природний приріст, смертність немовлят та ін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казники здоров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дитячого насел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ізичний та нервово-психічний розви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атологічна враженість (інвалідність, поширеність патології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хворюваність (загальний рівень, інфекційна поширеність окремих захворювань та відхилень, тощ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  <p:sp>
        <p:nvSpPr>
          <p:cNvPr id="167" name="Rectangle 1"/>
          <p:cNvSpPr/>
          <p:nvPr/>
        </p:nvSpPr>
        <p:spPr>
          <a:xfrm>
            <a:off x="0" y="50220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Таблиця 2.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Критерії оцінки громадсько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(популяційного, суспільного) здоров’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7120" y="285480"/>
            <a:ext cx="850104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 сьогодні, ВООЗ значну увагу в оцінці здоров’я населення країн світу приділяє поряд із вищеназваними показниками ряду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 соціальних показників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, які на думку експертів відображають стан та відіграють важливе значення у збереженні суспільного здоров’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Громадське (популяційне, суспільне)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здоров</a:t>
            </a:r>
            <a:r>
              <a:rPr b="1" i="1" lang="ru-RU" sz="1900" spc="-1" strike="noStrike">
                <a:solidFill>
                  <a:srgbClr val="ff000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я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ВООЗ 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характеризує такими групами показників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Показники, які відносяться до політики в галузі охорони здоров</a:t>
            </a:r>
            <a:r>
              <a:rPr b="1" i="1" lang="ru-RU" sz="19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я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есурси на життя і на медико-санітарну допомогу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ступінь рівномірності розподілу заходів в суспільстві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участі населення в досягненні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явність органів і структур охорони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Соціально-економічні показники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Приріст населенн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аловий національний приріст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безробітт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Адекватність житлових умов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ироблення енергії на душу населенн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Медичне обслуговуванн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Наявність медичного обслуговуванн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Економі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Фізи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Культурна доступність (розуміння необхідності проф. медоглядів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охоплення медико-санітарною допомогою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Санітарна просвіта</a:t>
            </a:r>
            <a:r>
              <a:rPr b="1" i="1" lang="uk-UA" sz="25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харчув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водопостач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Охорона здоров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я материнства і дитинства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Планування сім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ї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Імунізаці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214200" y="877320"/>
            <a:ext cx="8643960" cy="50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ровідні завдання курсу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необхідної теоретичної бази в області основ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 медичних знань та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ознайомлення з понятійним апаратом і термінологією в області основ медичних знань і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уявлення про сучасний стан розвитку основ медичних знань закономірності змін у стані здоров’я хворих, факторах соціально-економічного, біологічного, антропогенного, медичного характеру, що впливають на нього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викласти теоретичні основи першої допомоги при різноманітних невідкладних станах, гострих захворювання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сприяти засвоєнню принципів профілактичних заходів та методологічних особливостей застосування отриманих знань на практиці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знань, навичок і умінь збереження і зміцнення здоров'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змогу майбутнім фахівцям опанувати практичні навички, які необхідні для організації процесу надання першої домедичної допомоги, обирати ефективні форми проведення профілактичних заходів та занять, що поліпшують стан хвори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формування цілісного уявлення про значущість здоров'я в ієрархії людських цінностей і потреб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виховання культури здорового способу життя</a:t>
            </a:r>
            <a:r>
              <a:rPr b="1" lang="uk-UA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56800" y="0"/>
            <a:ext cx="82868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безпечення медикамента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ожливості лікування захворювань і трав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здоров</a:t>
            </a:r>
            <a:r>
              <a:rPr b="1" i="1" lang="en-US" sz="28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я популяції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новонароджених з масою тіла менше 2500 г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дітей і підлітків з масою тіла, яка відповідає віковим норматива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психофізичного розвитку дітей і підлітк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дитячої смертності (за віковими періодами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рогностична тривалість житт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Смертність від окрем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атеринська смертні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гальна захворюваність і інвалідизаці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соціальної патології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14240" y="285840"/>
            <a:ext cx="807264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Факторами ризику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вважається ознака, попередня до захворювання, що має з ним самостійний, стійкий, вірогідний зв'язок, який використовується для його прогнозува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Об'єднання багато чисельних факторів ризику в якісно однорідні групи дозволило визначити відносну значимість кожної групи у виникненні і розвитку патології у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1071720"/>
          <a:ext cx="8929800" cy="5273640"/>
        </p:xfrm>
        <a:graphic>
          <a:graphicData uri="http://schemas.openxmlformats.org/drawingml/2006/table">
            <a:tbl>
              <a:tblPr/>
              <a:tblGrid>
                <a:gridCol w="488880"/>
                <a:gridCol w="1725840"/>
                <a:gridCol w="5179680"/>
                <a:gridCol w="1535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з/п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Група факторів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Фактори, що входять до групи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Питома вага впливу на здоров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я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посіб життя і соціаль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ераціональне харчування; адинамія; часті стресові ситуації (дистрес); несприятливі матеріально-побутові умови; шкідливі умови праці та навчання; паління, зловживання алкоголем, вживання наркотиків, зловживання ліками; несприятливий стан у сім’ї, самотність; життя у високо урбанізованому середовищі; низький культурний та освітній рівень житт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9 – 53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енет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падкова схильність до захворювань та дегенеративних станів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 – 22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Екологі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бруднення повітря, води, грунту, шкідливими хімічними, канцерогенними, мікробіологічними радіоактивними та іншими забруднювачами; антропогенне акустичне, електромагнітне, температурне та ін. забруднення довкілл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 – 2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Мед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изька якість медичної допомоги; несвоєчасність медичної допомоги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 – 1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3" name="Text Box 47"/>
          <p:cNvSpPr/>
          <p:nvPr/>
        </p:nvSpPr>
        <p:spPr>
          <a:xfrm>
            <a:off x="2824200" y="200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68"/>
          <p:cNvSpPr/>
          <p:nvPr/>
        </p:nvSpPr>
        <p:spPr>
          <a:xfrm>
            <a:off x="0" y="324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Таблиця.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Групування факторів ризику та їх вклад у формування індивідуального та громадського здоров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’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Ю. П. Лісіцин, Ю. М. Комаров, 1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87; Сердюк, 1999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83581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7030a0"/>
                </a:solidFill>
                <a:latin typeface="Arial"/>
              </a:rPr>
              <a:t>Провідні фактори ризику для здоров’я: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56800" y="999720"/>
            <a:ext cx="8286840" cy="444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Перв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курі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ловживання алкого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одина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ераціональне харчува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сихоемоційний стре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Втор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діаб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ртеріальна гіпертенз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ерліпіде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ревматиз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лерг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імунодефіци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83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Групи ризику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– це групи населення, що у більшій мірі, ніж інші, схильні до виникнення різних захворювань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1. Групи за демографічними ознаками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люди похилого і старечого віку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дови, вдівц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динок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мігранти, біженці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2. Групи виробничого, професійного ризик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, які працюють на шкідливих для здоров’я виробництвах (хімічна, металургійна промисловість, важке машинобудування, транспорт тощо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14240" y="404280"/>
            <a:ext cx="8105760" cy="566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3. Група ризику за ознакою функціонального або патологічного стан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агіт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недоношені 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 з генетичним ризиком, уродженими аномаліями, вадам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інваліди з дитинств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4. Грипи ризику за ознаками низького матеріального рівня життя, бідності, убогості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ідні, незабезпече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езробітні, безхатченк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5. Група ризику з девіантною поведінкою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зловживання алкоголем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живання наркотиків, токсичних продуктів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сексуальні меншин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еформація психічного здоров’я тощо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642960" y="699840"/>
            <a:ext cx="835812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1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пробуйте оцінити свій фізичний стан за певними важливими показниками, використовуючи опитувальник самооцінки фізичного здоров’я Г. С. Нікіфоро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питувальник самооцінки фізичного здоров’я (Г. С. Нікіфор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Вік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ожний рік надає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дин бал. Якщо вам 40 років маєте 4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Вага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ормальна вага умовно дорівнює зросту в сантиметрах мінус 100. За кожний кілограм нижче норми додається 5 балів, за кожний кілограм понад норми вираховується 5 балів. Припустимо, при зрості 176 см Ви важите 85 кг, тоді за другим показником Ви маєте мінус 4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Палінн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Хто не палить, отримує плюс 30 балів. За кожну випалену сигарету вираховується 1 бал. Якщо Ви випалюєте за день 20 сигарет, то ваш третій показник складає мінус 2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642960" y="539280"/>
            <a:ext cx="835812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Витривалість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Ви щоденно впродовж не менше 12 хв. виконуєте вправи на розвиток витривалості (бігаєте в рівномірному темпі, плаваєте, катаєтесь на лижах або на велосипеді, тобто робите вправи, які найбільш ефективно зміцнюють серцево-судинну систему), то Ви отримуєте 30 балів. робите вправи чотири рази на тиждень, – Ви набираєте 25 балів, три рази – 20, два рази – 10 і один раз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а інші вправи (комплекс ранкової гімнастики, прогулянка, різні ігри) у цьому тесті бали не нараховуються. Якщо Ви взагалі не займаєтесь фізкультурою, то із загальної суми вираховується 10 балів. Якщо до того ж Ви ведете малорухливий спосіб життя, то втрачаєте ще 2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Пульс у спокої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число серцевих скорочень у спокої у Вас менше 90, то за кожний удар пульсу з цієї різниці Ви отримуєте один бал. Наприклад, частота пульсу 72 удари на хвилину – маєте 18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ідновлення частоти пульсу після навантаження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ісля двохвилинного бігу (можна н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ісці) відпочиньте 4 хвилини лежачи. Якщо частот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ульсу перевищує початкову цифру всього на 10 ударів,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отримуєте 30 балів, на 15 ударів – 15 балів, а на 20 і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ільше – жодного бал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857160" y="758880"/>
            <a:ext cx="80010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Підрахуйте загальну суму за шістьма показниками.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Якщо Ви набрал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доцільно звернутися до лікаря для перевірки здоров’я, спробувати скинути зайву вагу, переглянути звички, почати виділяти час для фізичних впра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1-6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лід звернути серйозну увагу на боротьбу з факторами ризику, які вже наявні (зайва вага, куріння, низька фізична активність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1-10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результат непоганий, не знижуйте інтенсивності у розвитку витривалост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онад 100 балів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доров’я відмінне, ваші резерви наповнені витривалістю та опірністю до хвороб. Продовжуйте так само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857160" y="310320"/>
            <a:ext cx="807264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2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Оцінити свій спосіб життя за індивідуальним тестом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Індивідуальний тест здоров’я (Г. Ф. Яцук і співавтори, 1997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Ранкова гімнастик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щоденно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3 рази на тиждень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виконується – 1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Добирання до навчального закладу (на роботу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агальним (міським) транспортом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автомобілем – 1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елосипедом, пішки – 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Вага тіл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ормальна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ще норми (за кожні 5 кг) – 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1071720" y="214200"/>
            <a:ext cx="7786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</a:rPr>
              <a:t>2. Деякі аспекти поняття права на охорону здоров’я, медичну допомогу в Україні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571680" y="1577880"/>
            <a:ext cx="821520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міст права на охорону здоров’я і на медичну допомогу визначено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3 і 284 Цивільного кодексу (ЦК)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5, 286, 287 і 290 ЦК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визначені також право на інформацію про стан свого здоров’я і на таємницю про нь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284 ЦК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зазначається, що фізична особа має право на надання їй медичної допомоги за її згодою, повнолітня особа може відмовитися від лікування. Фізична особа, яка досягла 14 років і звернулася за наданням їй медичної допомоги, має право на вибір лікаря та вибір методів лікування відповідно до його рекомендаці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невідкладних випадках, за наявності реальної загрози життю фізичної особи, медична допомога надається без згоди фізичної особи або її батьків (усиновлювачів), опікуна, піклуваль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відповідності зі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49 Конституції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медична допомога повинна надаватися безкоштов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1000080" y="315360"/>
            <a:ext cx="77151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Палі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алить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10 цигарок на добу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20 цигарок на добу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Харчува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багато вершкового масла, яєць, вершків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гато цукру, вуглеводів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тна вечеря після 19.00 год.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иробнича гімнастик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иконується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 виконується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Регулярність занять фізичними вправам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займається – 1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4 години на тиждень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8 годин на тиждень – 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Споживання алкогольних напої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споживає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а свята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стематично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928800" y="811080"/>
            <a:ext cx="8215200" cy="49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цінка тесту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5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здоровий спосіб житт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5-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посіб життя достатньо здоровий, але при корекції окремих звичок його можна значно поліпшити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більше 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неправильний спосіб життя, який потребує змін звичок і негайних дій для вдосконалення способу житт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"/>
          <p:cNvSpPr/>
          <p:nvPr/>
        </p:nvSpPr>
        <p:spPr>
          <a:xfrm>
            <a:off x="857160" y="591480"/>
            <a:ext cx="8001000" cy="52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3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цініть стан здоров'я за допомогою опитувальника «Стан здоров'я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  <a:ea typeface="Times New Roman,BoldItalic"/>
              </a:rPr>
              <a:t>Інструкці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,Bold"/>
              </a:rPr>
              <a:t>Уважно прочитайте запропоновані питання та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беріть із запропонованого переліку відповідей ту, яка Вам найбільше підходи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Текст опитування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1. Що Ви зробите, якщо побачите, що автобус встигне підійти до зупинки раніше, ніж В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«візьмете ноги в руки», щоб наздогнати й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пропустите його, бо буде наступний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трохи прискорите крок, можливо, він почекає Ва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. Чи підете Ви в похід у компанії людей, значно молодших за Вас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ні, Ви взагалі не ходите в поход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так, якщо вони Вам хоч трохи симпатичн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неохоче, тому що це може бути стомлив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928800" y="595800"/>
            <a:ext cx="8001000" cy="53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Якщо у Вас видався більш важкий робочий або навчальний день, ніж звичайно, чи зникає у Вас бажання робити ввечері що-небудь, що обіцяє бути цікавим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овсім не зникає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жання зникає, але Ви сподіваєтеся, що відчуєте себе краще, і тому не відмовляєтесь від задуман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тому що Ви можете одержувати від цього задоволення, тільки відпочивш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Яка Ваша думка про турпоходи всією родиною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ам подобається, коли це роблять інш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 б із задоволенням до них приєднал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потрібно спробувати разок, як Ви себе будете почувати в такому турпоход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Що Ви охоче і швидше за все робите, коли стомлюєтесь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лягаєте спа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п’єте чашку міцної кав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довго гуляєте на свіжому повітр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857160" y="731520"/>
            <a:ext cx="82868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Що найважливіше для підтримки гарного самопочутт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трібно більше ї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обхідно багато рухат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можна занадто перевтомлюватис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Чи приймаєте Ви регулярно лік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риймаєте навіть під час хвороб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і, у крайньому випадку – вітамі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приймаєт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Якій страві Ви надаєте перевагу (і частіше їсте) з перерахованих нижч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гороховий суп із копченим окос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йогурт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істечко з кремом або зі збитими вершк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9. Що для Вас найбільш важливо, коли Ви відправляєтеся на відпочинок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щоб були всі зручн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щоб була хоча б мінімальна можливість займатися спор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щоб були хоча б мінімальні зручност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"/>
          <p:cNvSpPr/>
          <p:nvPr/>
        </p:nvSpPr>
        <p:spPr>
          <a:xfrm>
            <a:off x="928800" y="1049400"/>
            <a:ext cx="7715160" cy="47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0. Чи відчуваєте Ви зміну погод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чуваєте себе через це кілька днів хворим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майже не помічаєте, що погода змінила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якщо Ви стомлені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1. Який Ваш загальний стан, якщо Ви не достатньо поспал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кепський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один-два рази недостатньо поспите – все з рук валить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и так до цього звикли, що вже не звертаєте уваг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  <a:ea typeface="Times New Roman,BoldItalic"/>
              </a:rPr>
              <a:t>Ключ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користовуючи таблицю, підрахуйте кількість балі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428760" y="1143000"/>
          <a:ext cx="8501040" cy="5283360"/>
        </p:xfrm>
        <a:graphic>
          <a:graphicData uri="http://schemas.openxmlformats.org/drawingml/2006/table">
            <a:tbl>
              <a:tblPr/>
              <a:tblGrid>
                <a:gridCol w="1404720"/>
                <a:gridCol w="2438640"/>
                <a:gridCol w="2365200"/>
                <a:gridCol w="2292480"/>
              </a:tblGrid>
              <a:tr h="344520">
                <a:tc gridSpan="4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ількість балів за відповіді на питання тес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Пит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 gridSpan="2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агальна кількість бал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Rectangle 1"/>
          <p:cNvSpPr/>
          <p:nvPr/>
        </p:nvSpPr>
        <p:spPr>
          <a:xfrm>
            <a:off x="357120" y="42912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Таблиця  – Ключ до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питування «Стан здоров'я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1000080" y="385560"/>
            <a:ext cx="8001000" cy="579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Понад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У Вас дійсно відмінне самопочуття. Очевидно, тому, що у Вас здоровий організм. Ви не тільки прихильник здорового способу життя, але й на практиці його ведет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Від 50 до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ічого страшного з Вашим самопочуттям немає, хоча, звичайно, буває так, що Ви роздратовані або втомилися; на Ваших плечах великий тягар, але лише тому, що Ви його досить добре виносите. Безумовно, з цієї причини Вам піде на користь не відкладати на майбутній рік (місяць, тиждень, день) початок нового життя, а вже зараз перейти до нього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Менше 5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занадто перевантажені. Ви не стежите за станом свого здоров'я. Необхідні зміни в способі житт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985320"/>
            <a:ext cx="753912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Дякую за увагу!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85520" y="499680"/>
            <a:ext cx="835812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Verdana"/>
              </a:rPr>
              <a:t>3. Медицина. Історія. Галузі. Поняття профілактики та лікуванн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396040" y="2286000"/>
            <a:ext cx="3531960" cy="37861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571680" y="2357280"/>
            <a:ext cx="514332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Arial Black"/>
              </a:rPr>
              <a:t>Медицина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 – галузь науки та практичної діяльності, що спрямована на збереження і зміцнення здоров’я людей, запобігання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хворобам 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та їх лікуванн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69800" y="1827360"/>
            <a:ext cx="7313400" cy="4114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247680" y="0"/>
            <a:ext cx="8896320" cy="66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42920" y="214200"/>
          <a:ext cx="8786880" cy="6262920"/>
        </p:xfrm>
        <a:graphic>
          <a:graphicData uri="http://schemas.openxmlformats.org/drawingml/2006/table">
            <a:tbl>
              <a:tblPr/>
              <a:tblGrid>
                <a:gridCol w="2313000"/>
                <a:gridCol w="1879560"/>
                <a:gridCol w="2022480"/>
                <a:gridCol w="2571840"/>
              </a:tblGrid>
              <a:tr h="172080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лузі медицини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вчають :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4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удову та функції організму здорової людини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анатомія, фізіологія, гістологія, топограф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ий організм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патологічна фізіологія, патолог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оби та їх лікування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терапія, хірургія, стоматологія, ендокрино-логія, гінекологія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плив зовнішніх факторів на здоров’я як окремої людини, так і групи людей, суспільства в цілом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ігієна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оціальна медицина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85840" y="714240"/>
          <a:ext cx="8643960" cy="5102280"/>
        </p:xfrm>
        <a:graphic>
          <a:graphicData uri="http://schemas.openxmlformats.org/drawingml/2006/table">
            <a:tbl>
              <a:tblPr/>
              <a:tblGrid>
                <a:gridCol w="4222800"/>
                <a:gridCol w="4421160"/>
              </a:tblGrid>
              <a:tr h="12859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прями медицини 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ЛІКУВАЛЬ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лікувальної медицини є хвор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РОФІЛАКТИЧ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профілактичної медицини є практично здоров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21:26:55Z</dcterms:created>
  <dc:creator>1</dc:creator>
  <dc:description/>
  <dc:language>en-US</dc:language>
  <cp:lastModifiedBy>hp</cp:lastModifiedBy>
  <dcterms:modified xsi:type="dcterms:W3CDTF">2020-02-03T20:37:30Z</dcterms:modified>
  <cp:revision>77</cp:revision>
  <dc:subject/>
  <dc:title>Спортивна медицина</dc:title>
</cp:coreProperties>
</file>