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D2CB-56E3-4B47-AE56-26260876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91B-C7D4-4E2F-ADCA-B74E1E0A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6D2-A60F-426B-8719-7C30578B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6DB-2BA0-4D99-8218-DAE9710F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9842-1F0C-42F3-A38B-F2B0D579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58DD-7532-4733-97C9-6C88227D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7D64-3B34-41AB-A8F0-B5432831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D809-7C78-4015-B866-98E06890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1D8E-9641-4018-A72B-6592A87D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C9E6-2D82-406A-8CE9-E0C7205C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8FC-669A-4B52-BAD7-24947F8F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188-82F8-41A1-84C2-052F84BE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7484-D1A9-4EA6-8CFB-3858EEB6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9E27-87EB-4643-A14C-F087E082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3F28-65D8-43E5-B248-E42A1D55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3B60-E971-4146-B84E-E130F192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7A7-857A-445D-9ECD-D539B12F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B45-692F-4EAF-AB2E-7583A205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9DF-57A2-44D0-A4B7-9C5B3503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2A2-0F72-49CB-AF48-ADE944B1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A26-F578-4D05-87CD-C2A1A41E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87B-3CF2-4C98-A2F3-83F6A052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4AC-EE99-4E33-BFE5-3C6EC41E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CC72-A459-4131-AFD0-DE8F2FB0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51BB-75C2-4748-ADA0-FDE6926543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DC61-D501-42B9-ACE8-4B41A9B606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7600" y="333000"/>
            <a:ext cx="78552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ОСНОВИ МЕДИЧНИХ ЗНАН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2071440"/>
            <a:ext cx="753912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Лекція №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гальне вчення про здоров’я і хворобу. Суспільне та індивідуальне здоров’я.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плив соціальних і екологічних факторів на здоров'я людини, стан здоров'я населення Украї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357960" y="4929120"/>
            <a:ext cx="2566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77151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Визначення поняття здоров’я. Компоненти здоров’я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480" y="1071360"/>
            <a:ext cx="8643960" cy="55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0000"/>
                </a:solidFill>
                <a:latin typeface="Arial Black"/>
              </a:rPr>
              <a:t>Проблема здоров'я людини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є в числі найбільш пріоритетних завдань розвитку суспільства в останні роки внаслідок різкого погіршення демографічної ситуації в країні, а також виражені негативні тенденції в здоров’ї підростаючого поколі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Arial Black"/>
              </a:rPr>
              <a:t>Структуру поширеності хвороб серед дитячої популяції </a:t>
            </a: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формують здебільшого хвороб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дихання (48,6%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рганів травлення (7,9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ока та його придаткового апарату (5,4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ендокринної системи, розлади харчування та порушення обміну речовин (5,3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шкіри та підшкірної клітковини (4,6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кістково-м’язової системи та сполучної тканин (4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інфекційні та паразитарні хвороби (3,5%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- хвороби нервової системи (3,3%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91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Що таке здоров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ff0000"/>
                </a:solidFill>
                <a:latin typeface="Arial"/>
              </a:rPr>
              <a:t>я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1720" y="1827360"/>
            <a:ext cx="76118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b050"/>
                </a:solidFill>
                <a:latin typeface="Verdana"/>
              </a:rPr>
              <a:t>У медичній енциклопедії (ВМЕ) </a:t>
            </a:r>
            <a:r>
              <a:rPr b="1" lang="uk-UA" sz="3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 трактується як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стан організму людини, коли функції усіх його органів і систем урівноважені із зовнішнім середовищем і відсутні будь-які хворобливі зміни“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14200" y="213840"/>
            <a:ext cx="871560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Основним, і можливо, найбільш широко враховуючим соціальну складову здоров’я поряд з медичними складовими, є визначення, подане в 1948 році Всесвітньою організацією охорони здоров’я (ВООЗ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'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- це стан повного фізичного, душевного і соціального благополуччя, а не тільки відсутність хвороб і фізичних дефектів“ (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Статут ВООЗ, 1946 рі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b050"/>
                </a:solidFill>
                <a:latin typeface="Verdana"/>
              </a:rPr>
              <a:t>Визначення змінено у 1978 році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– це стан повного фізичного, духовного і соціального благополуччя, що дає можливість людям проводити соціально та економічно продуктивне життя (</a:t>
            </a:r>
            <a:r>
              <a:rPr b="1" lang="uk-UA" sz="2500" spc="-1" strike="noStrike">
                <a:solidFill>
                  <a:srgbClr val="ff0000"/>
                </a:solidFill>
                <a:latin typeface="Verdana"/>
              </a:rPr>
              <a:t>дефініція здоров’я ВООЗ, 1978 рік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00" y="571680"/>
            <a:ext cx="8429400" cy="537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Verdana"/>
              </a:rPr>
              <a:t>І.І. Брехман</a:t>
            </a:r>
            <a:r>
              <a:rPr b="1" lang="uk-UA" sz="2900" spc="-1" strike="noStrike">
                <a:solidFill>
                  <a:srgbClr val="ff0000"/>
                </a:solidFill>
                <a:latin typeface="Verdana"/>
              </a:rPr>
              <a:t> (1990)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асновник валеології - науки про індивідуальне здоров’я людини, визначає </a:t>
            </a: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доров’я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як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здатність людини зберігати відповідну віку стійкість в умовах різких змін кількісних і якісних параметрів триєдиного потоку сенсорної, вербальної і структурної інформації“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Відомий теоретик медицини 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Ю.П.Лисицин (1985)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диференціює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 взаємопов’язаних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рівні здоров’я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 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, груповий та індивідуальний</a:t>
            </a: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Verdana"/>
              </a:rPr>
              <a:t>Перший</a:t>
            </a: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суспільний або громадський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характеризує здоров’я населення загало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обража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систем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матеріаль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відносин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суспільстві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Другий рівень</a:t>
            </a:r>
            <a:r>
              <a:rPr b="1" lang="uk-UA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групове здоров’я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обумовлене особливостями життєдіяльності, які об’єднують людей даної групи та схожістю соціального оточення, в якому перебувають її члени (здоров’я працюючих у певних галузях, студентів, школярів тощо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Verdana"/>
              </a:rPr>
              <a:t>Третій рівень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i="1" lang="uk-UA" sz="2200" spc="-1" strike="noStrike">
                <a:solidFill>
                  <a:srgbClr val="ff0000"/>
                </a:solidFill>
                <a:latin typeface="Verdana"/>
              </a:rPr>
              <a:t>індивідуальний рівень здоров’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який формуєтьс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умовах групи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сього суспільств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ал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н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основі притаманних лише даній людині генет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фізич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психічних особлив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духовних якосте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 способу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житт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99680" y="428400"/>
            <a:ext cx="828684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П. Казначеє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дійснює глибокий аналіз проблем здоров’я і формулює поняття «здоров’я» таким чином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індивід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є динамічний стан збереження і розвитку його біологічних, фізіологічних та психологічних функцій, оптимальної працездатності і соціальної тривалості активності за максимальної тривалості активного життя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С.А. Чикі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Г.Г. Царегородцев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ають таке визначення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гармонійна єдність біологічних, психічних і трудових функцій, що зумовлює повноцінну безмежну участь людини в різних видах суспільної трудової діяльності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13840" y="356760"/>
            <a:ext cx="864396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Іншими авторами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визначається як стан оптимальної життєдіяльності людини, що забезпечує повноту реалізації сутнісних си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аналізувавши різні визначення поняття «здоров’я»,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Б.М.Ільїн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ропонує так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 людини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– це функціональний стан організму, що забезпечує тривалість життя, фізичну й розумову працездатність, самопочуття і функцію відтворення здорових нащадків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В.М. Сидоров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, аналізуючи в своїй роботі понад 200 визначень поняття «здоров’я», пропонує таке визначення, яке розкриває перш за все його біосоціальну сутність: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– це відношення біосоціальної системи з приводу необхідності поновлення її сутнісних сил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3800" y="213840"/>
            <a:ext cx="8675640" cy="65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В.О. Ліщук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 О.В. Мосткова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та сучасні спеціалісти з валеології, дають своє визначення поняття «здор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»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0" i="1" lang="uk-UA" sz="2800" spc="-1" strike="noStrike">
                <a:solidFill>
                  <a:srgbClr val="000000"/>
                </a:solidFill>
                <a:latin typeface="Verdana"/>
              </a:rPr>
              <a:t> це є здатніс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пристосуватися до середовища та своїх власних можливосте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ротистояти зовнішнім і внутрішнім факторам, хворобам, старінню та іншим формам деградації; зберігати себе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збільшувати тривалість повноцінної життєдіяльності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поліпшувати можливості, властивості та здібності свого організму, якість життя та середовища проживанн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- виробляти культурні, духовні та матеріальні цін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28400" y="214200"/>
            <a:ext cx="8358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Д.Д. Венедиктов 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визначає </a:t>
            </a:r>
            <a:r>
              <a:rPr b="1" lang="uk-UA" sz="28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 як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00b050"/>
                </a:solidFill>
                <a:latin typeface="Verdana"/>
              </a:rPr>
              <a:t>динамічну рівновагу організму з навколишнім середовищем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коли всі закладені в біологічній та соціальній сутності людини фізичні, духовні та інші здібності виявляються найбільш повно і гармонійно, всі життєво важливі підсистеми людського організму функціонують з максимально можливою інтенсивністю, а загальне поєднання підтримується на рівні, оптимальному для збереження цілісності організму, його працездатності, а також швидкої адаптації до природного й соціального середовища, що безперервно змінюєтьс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-360"/>
            <a:ext cx="8715600" cy="642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На сьогодні провідною концепцією щодо визначення стану </a:t>
            </a:r>
            <a:r>
              <a:rPr b="0" i="1" lang="uk-UA" sz="2200" spc="-1" strike="noStrike">
                <a:solidFill>
                  <a:srgbClr val="ff0000"/>
                </a:solidFill>
                <a:latin typeface="Arial Black"/>
              </a:rPr>
              <a:t>здоров’я індивідуума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є використання поняття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адаптація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теорії функціональних систем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За сучасними уявленнями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з позицій системного підходу, поняття «здоров’я» має вклю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біологічні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соціальні</a:t>
            </a:r>
            <a:r>
              <a:rPr b="0" lang="uk-UA" sz="2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характеристики індивідуума та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оцінку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 його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функціональних резервів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, які дозволяють організму активно змінювати свій стан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Arial Black"/>
              </a:rPr>
              <a:t>Г.А. Апанасенко </a:t>
            </a:r>
            <a:r>
              <a:rPr b="0" lang="uk-UA" sz="2200" spc="-1" strike="noStrike">
                <a:solidFill>
                  <a:srgbClr val="000000"/>
                </a:solidFill>
                <a:latin typeface="Arial Black"/>
              </a:rPr>
              <a:t>розглядаючи здоров’я з позицій системної адаптації, вважає, правомірно визначати </a:t>
            </a:r>
            <a:r>
              <a:rPr b="1" i="1" lang="uk-UA" sz="2200" spc="-1" strike="noStrike">
                <a:solidFill>
                  <a:srgbClr val="7030a0"/>
                </a:solidFill>
                <a:latin typeface="Arial Black"/>
              </a:rPr>
              <a:t>здоров’я як динамічний стан</a:t>
            </a:r>
            <a:r>
              <a:rPr b="1" i="1" lang="uk-UA" sz="2200" spc="-1" strike="noStrike">
                <a:solidFill>
                  <a:srgbClr val="000000"/>
                </a:solidFill>
                <a:latin typeface="Arial Black"/>
              </a:rPr>
              <a:t>, який дозволяє здійснити найбільшу кількість видоспецифічних функцій при найбільш економній витраті біологічних ресурсів організм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358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та та завдання курсу «Основи медичних знань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. Деякі аспекти поняття права на охорону здоров’я, медичну допомогу в Україн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3. Медицина. Історія. Галузі. Поняття профілактики та лікува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ення поняття здоров’я. Компоненти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5. Поняття хвороби і проміжних станів людини. Гострі і хронічні хвороби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6. Поняття про суспільне (громадське, популяційне) здоров’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7. Сучасні критерії оцінки індивідуального та громадського здоров’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8480" y="0"/>
            <a:ext cx="7313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Verdana"/>
              </a:rPr>
              <a:t>Складові здоров’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5480" y="713880"/>
            <a:ext cx="8715240" cy="592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ами фізичного здоров’я є: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індивідуальні особливості анатомічної будови тіла, досконале (за нормою) фізіологічне функціонування організму в різних умовах спокою, руху, довкілля, генетичної спадщини, рівень фізичного розвитку органів і систем організ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психіч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є: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індивідуальні особливості психічних процесів і властивостей людини, наприклад, збудженість, емоційність, чутливі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духовного здоров’я є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уховний світ особистості, сприйняття духовної культури людства, освіти, науки, мистецтва, релігії, моралі, ети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Показники соціального здоров’я</a:t>
            </a: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в’язані з економічними чинниками, стосунками індивіда з структурними одиницями соціуму (сім’єю, організаціями), з якими створюються соціальні зв’язки: праця, відпочинок, побут, соціальний захист, охорона здоров’я, безпека існування тощ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428400"/>
            <a:ext cx="8715600" cy="61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Verdana"/>
              </a:rPr>
              <a:t>Лісіцин Ю.П.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ідкреслював, що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здоров’я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0" lang="uk-UA" sz="2200" spc="-1" strike="noStrike">
                <a:solidFill>
                  <a:srgbClr val="ff0000"/>
                </a:solidFill>
                <a:latin typeface="Verdana"/>
              </a:rPr>
              <a:t>хвороба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– категорії, котрі є соціально обумовленими, тобто знаходяться під впливом дії соціальних умов і факторів. 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 людини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гармонічна єдність біологічних і соціальних якостей, обумовлених вродженими і набутими біологічними і соціальними впливами, а хвороба – порушення цієї гармонії, єдності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b050"/>
                </a:solidFill>
                <a:latin typeface="Verdana"/>
              </a:rPr>
              <a:t>В останній редакції ВООЗ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ення поняття «здоров’я», де визначається, що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200" spc="-1" strike="noStrike">
                <a:solidFill>
                  <a:srgbClr val="7030a0"/>
                </a:solidFill>
                <a:latin typeface="Verdana"/>
              </a:rPr>
              <a:t>Здоров’я</a:t>
            </a:r>
            <a:r>
              <a:rPr b="1" i="1" lang="uk-UA" sz="2200" spc="-1" strike="noStrike">
                <a:solidFill>
                  <a:srgbClr val="000000"/>
                </a:solidFill>
                <a:latin typeface="Verdana"/>
              </a:rPr>
              <a:t> – це стан повного соціального, біологічного та психологічного благополуччя, коли функції всіх органів і систем урівноважені з навколишнім середовищем, відсутні якісь захворювання, хворобливі стани та фізичні дефекти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428400"/>
            <a:ext cx="774216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5. Поняття хвороби і проміжних станів людин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8760" y="1856880"/>
            <a:ext cx="8572320" cy="46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учасний лікар-клініцист, як правило, фіксує хворобу або її відсутність. Проте вже Гален вказував на існування трьох стані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ерехідного стан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хвороби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доров’я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- це динамічний процес в житті людини. При зниженні його кількості розвивається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третій рівень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реморбідний період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7030a0"/>
                </a:solidFill>
                <a:latin typeface="Verdana"/>
              </a:rPr>
              <a:t>передхвороба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 - стан, при якому можливий розвиток патологічного процесу без зміни сили діючого чинника, внаслідок зниження резервів адаптаці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ая соединительная линия 4"/>
          <p:cNvSpPr/>
          <p:nvPr/>
        </p:nvSpPr>
        <p:spPr>
          <a:xfrm flipH="1">
            <a:off x="355680" y="857160"/>
            <a:ext cx="1440" cy="4145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Прямая соединительная линия 9"/>
          <p:cNvSpPr/>
          <p:nvPr/>
        </p:nvSpPr>
        <p:spPr>
          <a:xfrm>
            <a:off x="357120" y="5000760"/>
            <a:ext cx="7715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ая соединительная линия 12"/>
          <p:cNvSpPr/>
          <p:nvPr/>
        </p:nvSpPr>
        <p:spPr>
          <a:xfrm flipH="1">
            <a:off x="928800" y="1928880"/>
            <a:ext cx="1440" cy="30718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Прямая соединительная линия 14"/>
          <p:cNvSpPr/>
          <p:nvPr/>
        </p:nvSpPr>
        <p:spPr>
          <a:xfrm flipH="1">
            <a:off x="1998720" y="3214800"/>
            <a:ext cx="1440" cy="178740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17"/>
          <p:cNvSpPr/>
          <p:nvPr/>
        </p:nvSpPr>
        <p:spPr>
          <a:xfrm flipH="1">
            <a:off x="3427560" y="4002120"/>
            <a:ext cx="1440" cy="100008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Дуга 18"/>
          <p:cNvSpPr/>
          <p:nvPr/>
        </p:nvSpPr>
        <p:spPr>
          <a:xfrm rot="11587800">
            <a:off x="650520" y="898200"/>
            <a:ext cx="10231560" cy="3759120"/>
          </a:xfrm>
          <a:prstGeom prst="pie">
            <a:avLst/>
          </a:pr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1" name="Прямая со стрелкой 28"/>
          <p:cNvCxnSpPr/>
          <p:nvPr/>
        </p:nvCxnSpPr>
        <p:spPr>
          <a:xfrm flipH="1" flipV="1">
            <a:off x="1071360" y="1999440"/>
            <a:ext cx="557280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Прямая со стрелкой 36"/>
          <p:cNvCxnSpPr/>
          <p:nvPr/>
        </p:nvCxnSpPr>
        <p:spPr>
          <a:xfrm flipH="1" flipV="1">
            <a:off x="2071440" y="3214440"/>
            <a:ext cx="45727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Прямая со стрелкой 39"/>
          <p:cNvCxnSpPr/>
          <p:nvPr/>
        </p:nvCxnSpPr>
        <p:spPr>
          <a:xfrm flipH="1" flipV="1">
            <a:off x="3571200" y="4000320"/>
            <a:ext cx="30726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TextBox 41"/>
          <p:cNvSpPr/>
          <p:nvPr/>
        </p:nvSpPr>
        <p:spPr>
          <a:xfrm>
            <a:off x="7858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42"/>
          <p:cNvSpPr/>
          <p:nvPr/>
        </p:nvSpPr>
        <p:spPr>
          <a:xfrm>
            <a:off x="1714680" y="52149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3"/>
          <p:cNvSpPr/>
          <p:nvPr/>
        </p:nvSpPr>
        <p:spPr>
          <a:xfrm>
            <a:off x="3143160" y="5214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44"/>
          <p:cNvSpPr/>
          <p:nvPr/>
        </p:nvSpPr>
        <p:spPr>
          <a:xfrm>
            <a:off x="4714920" y="5143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6286680" y="15735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«Безпечний рівень» здоров’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715080" y="2788560"/>
            <a:ext cx="242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чаток формуванн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715080" y="38595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Маніфестація патологічного процес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5573880"/>
            <a:ext cx="914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значення: </a:t>
            </a:r>
            <a:r>
              <a:rPr b="1" lang="uk-UA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 - здоров’я; 2 – передхвороба; 3 – неманіфестований патологічний процес; 4 – хвороб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196680"/>
            <a:ext cx="9144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Рис. Здоров’я, «третій стан» (передхвороба + неманіфестований патологічний процес) і хвороба у взаємовідносинах з резервами здоров’я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[Г. Л. Апанасенко, 2004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28760" y="213840"/>
            <a:ext cx="8572320" cy="62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Третій стан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- перехідний між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здоров’ям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і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хворобою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, виокремлений з однієї сторони, ступенем (рівнем) зниження резервів здоров’я і можливістю розвитку внаслідок цього патологічного процесу при незмінних умовах життєдіяльності, з іншої – початковими ознаками порушення функцій – </a:t>
            </a:r>
            <a:r>
              <a:rPr b="1" lang="uk-UA" sz="2400" spc="-1" strike="noStrike">
                <a:solidFill>
                  <a:srgbClr val="7030a0"/>
                </a:solidFill>
                <a:latin typeface="Verdana"/>
              </a:rPr>
              <a:t>маніфестацією патологічного процесу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казані межі можуть бути кількісно охарактеризовані відповідним рівнем здоров’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цей період третього стану у людини є усі ресурси, щоб вийти з фази передхвороби за допомогою зміни свого способу життя (ЗСЖ). Якщо і далі через відсутність у людини знань і мотивації до ЗСЖ зберігається і посилюється тиск на нормативні межі адаптації через несприятливі здоров’яформуючі чинники, то резервні можливості захисних систем організму вичерпую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301320"/>
            <a:ext cx="8786880" cy="11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Передхвороба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– це латентний, прихований період хвороби або стаді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функціональної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готовності організму до розвитку певного захворювання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71320" y="1571760"/>
            <a:ext cx="8140680" cy="488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0000"/>
                </a:solidFill>
                <a:uFillTx/>
                <a:latin typeface="Verdana"/>
              </a:rPr>
              <a:t>Ознаки (індикатори) передхвороби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агальне нездуж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ниження апетиту / переїд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ечія, закреп / діаре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рижка, нудот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орушення менструального цикл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головні болі, головокружі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часті випадки запамороче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приємні відчуття в області серц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м’язові суд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ідвищення пітлив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нервовий тік, посмикува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сльозотеча без явної причи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іль у м’яза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відчуття загальної слабкості, вто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тривожність, занепокоєнн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безсоння, сонливість, хронічна роздратованість тощ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301320"/>
            <a:ext cx="8286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Хвороба характеризується зниженням пристосованості до середовища і обмеженням свободи життєдіяльності хворого.</a:t>
            </a: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71720" y="2071800"/>
            <a:ext cx="7540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Хвороба </a:t>
            </a:r>
            <a:r>
              <a:rPr b="1" lang="uk-UA" sz="2900" spc="-1" strike="noStrike">
                <a:solidFill>
                  <a:srgbClr val="000000"/>
                </a:solidFill>
                <a:latin typeface="Verdana"/>
              </a:rPr>
              <a:t>- це життєдіяльність організму, яка виражається в зміні функції, а також у порушенні будови органів і тканин, що виникає під впливом надзвичайних для даного організму подразників зовнішнього і внутрішнього середовища організм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956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Класифікація хвороб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тривалістю перебігу хвороб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7030a0"/>
                </a:solidFill>
                <a:latin typeface="Verdana"/>
              </a:rPr>
              <a:t>За етіологічним чинник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Скругленный прямоугольник 1"/>
          <p:cNvSpPr/>
          <p:nvPr/>
        </p:nvSpPr>
        <p:spPr>
          <a:xfrm>
            <a:off x="97164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Гостр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тривають недов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4572000" y="2421000"/>
            <a:ext cx="2879640" cy="1368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Хроніч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можуть існувати багато місяців, років, десятилітт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Скругленный прямоугольник 2"/>
          <p:cNvSpPr/>
          <p:nvPr/>
        </p:nvSpPr>
        <p:spPr>
          <a:xfrm>
            <a:off x="4572000" y="443700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не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1187280" y="4451400"/>
            <a:ext cx="2880000" cy="10652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інфекційн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-360" y="0"/>
            <a:ext cx="8929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6. Поняття про суспільне (громадське, популяційне)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Оцінюючи здоров’я окремої людини та суспільства в цілому виділяють два його рівні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і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ндивідуальне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та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суспільне (громадське, популяційне) здоров’я або здоров’я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Громадське (популяційне, суспільне)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здоров’я населення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</a:rPr>
              <a:t>система статистичних та медико-соціальних показників, які визначають особливості відновлення популяції (медико-демографічні характеристики), дієздатність (показники фізичного розвитку) та адаптаційні можливості населення чи популяції до зовнішніх умов (показники захворюваності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14240" y="285840"/>
            <a:ext cx="814392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Останні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часом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 відбувається диференціація дани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понять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поняття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громадське здоров’я” або “суспіль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розглядають як медико-соціальний ресурс і потенціал суспільства, що сприяє національній безпеці та соціально-економічному розвитку країни, обумовлений впливом різних факторів і способу життя 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здоров’я населенн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визначається як медико-демографічне і соціальне поняття, що відображає фізичний, психічний і соціальний добробут людей, які проживають на певній території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1" lang="uk-UA" sz="2200" spc="-1" strike="noStrike">
                <a:solidFill>
                  <a:srgbClr val="000000"/>
                </a:solidFill>
                <a:latin typeface="Verdana"/>
              </a:rPr>
              <a:t>“популяційне здоров’я” </a:t>
            </a:r>
            <a:r>
              <a:rPr b="0" lang="uk-UA" sz="2200" spc="-1" strike="noStrike">
                <a:solidFill>
                  <a:srgbClr val="000000"/>
                </a:solidFill>
                <a:latin typeface="Verdana"/>
              </a:rPr>
              <a:t>досить широко використовується епідеміологами та гігієністами, є перекладом з англійської (population – населення) і асоціюється із здоров’ям певних або значних груп народонаселенн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а та завдання курсу «Основи медичних знань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642680"/>
            <a:ext cx="89298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 Black"/>
              </a:rPr>
              <a:t>Мета курсу</a:t>
            </a: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 «Основи медичних знань»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 Black"/>
              </a:rPr>
              <a:t>підготувати фахівців, які володітимуть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знаннями щодо теоретичних основ і сучасних принципів охорони здоров’я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тодів вивчення та оцінки стану здоров’я населення у взаємозв’язку з чинниками, що на нього впливают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уявлення про методи збереження здоров’я, формування здорового способу життя; розпізнавання та запобігання захворювань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дати знання з освоєння прийомів першої домедичної (долікарської) допомоги потерпілим від нещасних випадків і хворим із гострими захворюванням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ування навичок виконання різних процедур при допомозі хворим, а також знайомство з основними соціально-медичними проблемами здоров'я населенн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42600" y="285840"/>
            <a:ext cx="82868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 формування популяційного здоров’я істотно впливає так звана 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поведінка самозбереження населення</a:t>
            </a:r>
            <a:r>
              <a:rPr b="1" i="1" lang="uk-UA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 тобто свідома система дій і відносин, що визначають якість індивідуального і сімейного здоров’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2400" spc="-1" strike="noStrike">
                <a:solidFill>
                  <a:srgbClr val="ff0000"/>
                </a:solidFill>
                <a:latin typeface="Verdana"/>
              </a:rPr>
              <a:t>Основними складовими поведінки самозбереження є: 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адекватне харчування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правильно відпочиват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достатня фізична актив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здорова сексуальність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уміння долати стреси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планування родин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- відсутність шкідливих звич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400" y="0"/>
            <a:ext cx="8429400" cy="657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епродуктивне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» -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є одним із аспектів громадського та індивідуального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повідно до рекомендацій Міжнародної конференції з питань народонаселення та розвитку (Каїр, 1994)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изначається як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стан повного благополуччя, а не відсутність хвороб репродуктивної системи, порушення її функцій або процесів у ні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епродуктивне зд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ров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характеризує насамперед, здатність до народження дітей, можливість вирішувати коли і як часто їх народжува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Основними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показниками</a:t>
            </a:r>
            <a:r>
              <a:rPr b="1" i="1" lang="ru-RU" sz="2000" spc="-1" strike="noStrike">
                <a:solidFill>
                  <a:srgbClr val="7030a0"/>
                </a:solidFill>
                <a:latin typeface="Verdana"/>
              </a:rPr>
              <a:t> репродуктивного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 здоров’я</a:t>
            </a:r>
            <a:r>
              <a:rPr b="1" lang="uk-UA" sz="2000" spc="-1" strike="noStrike">
                <a:solidFill>
                  <a:srgbClr val="7030a0"/>
                </a:solidFill>
                <a:latin typeface="Verdana"/>
              </a:rPr>
              <a:t> </a:t>
            </a:r>
            <a:r>
              <a:rPr b="1" i="1" lang="uk-UA" sz="2000" spc="-1" strike="noStrike">
                <a:solidFill>
                  <a:srgbClr val="7030a0"/>
                </a:solidFill>
                <a:latin typeface="Verdana"/>
              </a:rPr>
              <a:t>населення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вважаю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iлькi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ть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полог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материнськ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дитячої смер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невиношуваність вагітності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 абортів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рівень безплідд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кількість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хвороб,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що передаються статеви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шляхом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тощо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85840" y="2428920"/>
          <a:ext cx="8572320" cy="371628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  <a:gridCol w="2143080"/>
                <a:gridCol w="2143080"/>
              </a:tblGrid>
              <a:tr h="78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індивідуального 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итерії здоров'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явність чи відсутність на момент медичного обсте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ронічних захворювань і природжених вад розвит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ункціональний стан основних систем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резистентності органі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івень досягнутого фізичного і нервово-психологічного розвитку, ступінь його гармоній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2e0e0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142920" y="222480"/>
            <a:ext cx="8715240" cy="16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Verdana"/>
              </a:rPr>
              <a:t>7. Сучасні критерії оцінки індивідуального та громадського здоров’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аблиця 1. Критерії оцінки індивідуального здоров’я </a:t>
            </a:r>
            <a:r>
              <a:rPr b="0" i="1" lang="uk-UA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С. М. Громбах, 1973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8215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ЕРІЇ ОЦІНКИ ЗДОРОВ’Я ДІТЕЙ ТА ПІДЛІТКІВ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01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14200" y="214200"/>
            <a:ext cx="88315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 використанням вищеназваних критеріїв до </a:t>
            </a:r>
            <a:r>
              <a:rPr b="1" i="1" lang="uk-UA" sz="2000" spc="-1" strike="noStrike">
                <a:solidFill>
                  <a:srgbClr val="ff0000"/>
                </a:solidFill>
                <a:latin typeface="Verdana"/>
              </a:rPr>
              <a:t>різних груп здоров’я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дносяться особи, </a:t>
            </a: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які мають наступні показники, що характеризують стан організму людин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люди з нормальним та гармонійним фізичним та нервово-психічним розвитком, з високим рівнем резистентності при відсутності функціональних відхилень та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практично здорові, але з функціональними і деякими морфологічними відхиленнями або зниженою резистентністю до гострих і хронічн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II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субкомпенсації із збере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IV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 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- з хронічними захворюваннями в стадії декомпенсації із зниженими функціональними можливостя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V </a:t>
            </a:r>
            <a:r>
              <a:rPr b="1" lang="uk-UA" sz="2000" spc="-1" strike="noStrike">
                <a:solidFill>
                  <a:srgbClr val="ff0000"/>
                </a:solidFill>
                <a:latin typeface="Verdana"/>
              </a:rPr>
              <a:t>група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– з хронічними захворюваннями в стадії декомпенсації із значно зниженими функціональними можливост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785880" y="500040"/>
            <a:ext cx="7929360" cy="47862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857160" y="5500800"/>
            <a:ext cx="77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Універсальна структура індивідуального здоров’я людини (© Г. Жара, 2017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71680" y="356760"/>
            <a:ext cx="821520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прями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удосконалення індивідуального здоров’я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начають за результатами комплексного оцінювання фізичного здоров’я, яке передбачає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встановлення слабких ланок в організмі для цілеспрямованого впливу на ни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розроблення індивідуальної програми оздоровчих занять і оцінювання їх ефективності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прогнозування ризику виникнення захворювань, які загрожують життю люди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4680" y="1562040"/>
          <a:ext cx="8998200" cy="3962520"/>
        </p:xfrm>
        <a:graphic>
          <a:graphicData uri="http://schemas.openxmlformats.org/drawingml/2006/table">
            <a:tbl>
              <a:tblPr/>
              <a:tblGrid>
                <a:gridCol w="1814760"/>
                <a:gridCol w="1699920"/>
                <a:gridCol w="1687680"/>
                <a:gridCol w="2054160"/>
                <a:gridCol w="1741680"/>
              </a:tblGrid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Оцінка громадського стану здоров'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мографічні показники здоров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(народжуваність, смертність, природний приріст, смертність немовлят та ін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казники здоров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дитячого насе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ізичний та нервово-психічний розви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тологічна враженість (інвалідність, поширеність патології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хворюваність (загальний рівень, інфекційна поширеність окремих захворювань та відхилень, тощ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  <p:sp>
        <p:nvSpPr>
          <p:cNvPr id="167" name="Rectangle 1"/>
          <p:cNvSpPr/>
          <p:nvPr/>
        </p:nvSpPr>
        <p:spPr>
          <a:xfrm>
            <a:off x="0" y="5022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Таблиця 2.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Критерії оцінки громадсь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(популяційного, суспільного) здоров’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 сьогодні, ВООЗ значну увагу в оцінці здоров’я населення країн світу приділяє поряд із вищеназваними показниками ряду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 соціальних показників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, які на думку експертів відображають стан та відіграють важливе значення у збереженні суспільного здоров’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Громадське (популяційне, суспільне)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здоров</a:t>
            </a:r>
            <a:r>
              <a:rPr b="1" i="1" lang="ru-RU" sz="1900" spc="-1" strike="noStrike">
                <a:solidFill>
                  <a:srgbClr val="ff000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ff0000"/>
                </a:solidFill>
                <a:latin typeface="Verdana"/>
              </a:rPr>
              <a:t>я</a:t>
            </a:r>
            <a:r>
              <a:rPr b="1" lang="uk-UA" sz="1900" spc="-1" strike="noStrike">
                <a:solidFill>
                  <a:srgbClr val="ff0000"/>
                </a:solidFill>
                <a:latin typeface="Verdana"/>
              </a:rPr>
              <a:t> ВООЗ 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характеризує такими групами показників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Показники, які відносяться до політики в галузі охорони здоров</a:t>
            </a:r>
            <a:r>
              <a:rPr b="1" i="1" lang="ru-RU" sz="19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я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есурси на життя і на медико-санітарну допомог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ступінь рівномірності розподілу заходів в суспільстві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участі населення в досягненні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наявність органів і структур охорони здоров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7030a0"/>
                </a:solidFill>
                <a:latin typeface="Verdana"/>
              </a:rPr>
              <a:t>Соціально-економічні показники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Приріст населенн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аловий національний приріст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Рівень безробіття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Адекватність житлових умов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Verdana"/>
              </a:rPr>
              <a:t>Вироблення енергії на душу населенн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Медичне обслуговуванн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Наявність медичного обслуговуванн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Економі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Фізична доступніст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Культурна доступність (розуміння необхідності проф. медоглядів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охоплення медико-санітарною допомого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Санітарна просвіта</a:t>
            </a:r>
            <a:r>
              <a:rPr b="1" i="1" lang="uk-UA" sz="25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харчув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абезпеченість доброякісним водопостачанням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Охорона здоров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я материнства і дитинств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Планування сім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Імунізаці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214200" y="877320"/>
            <a:ext cx="8643960" cy="50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овідні завдання курсу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необхідної теоретичної бази в області основ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 медичних знань та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ознайомлення з понятійним апаратом і термінологією в області основ медичних знань і здорового способу житт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уявлення про сучасний стан розвитку основ медичних знань закономірності змін у стані здоров’я хворих, факторах соціально-економічного, біологічного, антропогенного, медичного характеру, що впливають на нього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викласти теоретичні основи першої допомоги при різноманітних невідкладних станах, гострих захворювання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сприяти засвоєнню принципів профілактичних заходів та методологічних особливостей застосування отриманих знань на практиці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формування знань, навичок і умінь збереження і зміцнення здоров'я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- надати змогу майбутнім фахівцям опанувати практичні навички, які необхідні для організації процесу надання першої домедичної допомоги, обирати ефективні форми проведення профілактичних заходів та занять, що поліпшують стан хворих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формування цілісного уявлення про значущість здоров'я в ієрархії людських цінностей і потреб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виховання культури здорового способу життя</a:t>
            </a:r>
            <a:r>
              <a:rPr b="1" lang="uk-UA" sz="1600" spc="-1" strike="noStrike">
                <a:solidFill>
                  <a:srgbClr val="000000"/>
                </a:solidFill>
                <a:latin typeface="Arial Black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56800" y="0"/>
            <a:ext cx="8286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безпечення медикамен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ожливості лікування захворювань і трав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Показники здоров</a:t>
            </a:r>
            <a:r>
              <a:rPr b="1" i="1" lang="en-US" sz="2800" spc="-1" strike="noStrike">
                <a:solidFill>
                  <a:srgbClr val="7030a0"/>
                </a:solidFill>
                <a:latin typeface="Verdana"/>
              </a:rPr>
              <a:t>’</a:t>
            </a: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я популяції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новонароджених з масою тіла менше 2500 г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Доля (%) дітей і підлітків з масою тіла, яка відповідає віковим норматив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психофізичного розвитку дітей і підлітк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івень дитячої смертності (за віковими періодами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гностична тривалість житт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Смертність від окремих захворюван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Материнська смертність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Загальна захворюваність і інвалідизаці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оказники соціальної патології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14240" y="285840"/>
            <a:ext cx="8072640" cy="62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8. Вплив езко- та ендогенних факторів на здоров’я людини. Поняття про фактори ризик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Verdana"/>
              </a:rPr>
              <a:t>Факторами ризику </a:t>
            </a: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вважається ознака, попередня до захворювання, що має з ним самостійний, стійкий, вірогідний зв'язок, який використовується для його прогнозува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Об'єднання багато чисельних факторів ризику в якісно однорідні групи дозволило визначити відносну значимість кожної групи у виникненні і розвитку патології у населе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1071720"/>
          <a:ext cx="8929800" cy="5273640"/>
        </p:xfrm>
        <a:graphic>
          <a:graphicData uri="http://schemas.openxmlformats.org/drawingml/2006/table">
            <a:tbl>
              <a:tblPr/>
              <a:tblGrid>
                <a:gridCol w="488880"/>
                <a:gridCol w="1725840"/>
                <a:gridCol w="5179680"/>
                <a:gridCol w="1535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з/п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Група факторів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Фактори, що входять до групи ризику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Питома вага впливу на здоров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’</a:t>
                      </a:r>
                      <a:r>
                        <a:rPr b="1" lang="uk-UA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посіб життя і соціаль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ераціональне харчування; адинамія; часті стресові ситуації (дистрес); несприятливі матеріально-побутові умови; шкідливі умови праці та навчання; паління, зловживання алкоголем, вживання наркотиків, зловживання ліками; несприятливий стан у сім’ї, самотність; життя у високо урбанізованому середовищі; низький культурний та освітній рівень житт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9 – 53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енет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падкова схильність до захворювань та дегенеративних станів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 – 22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Екологі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абруднення повітря, води, грунту, шкідливими хімічними, канцерогенними, мікробіологічними радіоактивними та іншими забруднювачами; антропогенне акустичне, електромагнітне, температурне та ін. забруднення довкілля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 – 2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Медичні фактори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изька якість медичної допомоги; несвоєчасність медичної допомоги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8 – 10%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Text Box 47"/>
          <p:cNvSpPr/>
          <p:nvPr/>
        </p:nvSpPr>
        <p:spPr>
          <a:xfrm>
            <a:off x="282420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0" y="324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Таблиця.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Групування факторів ризику та їх вклад у формування індивідуального та громадського здоров</a:t>
            </a: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’</a:t>
            </a:r>
            <a:r>
              <a:rPr b="1" lang="uk-UA" sz="1800" spc="-1" strike="noStrike">
                <a:solidFill>
                  <a:srgbClr val="0070c0"/>
                </a:solidFill>
                <a:latin typeface="Verdana"/>
              </a:rPr>
              <a:t>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Ю. П. Лісіцин, Ю. М. Комаров, 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87; Сердюк, 1999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520" y="285840"/>
            <a:ext cx="83581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7030a0"/>
                </a:solidFill>
                <a:latin typeface="Arial"/>
              </a:rPr>
              <a:t>Провідні фактори ризику для здоров’я: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8286840" cy="444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Перв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кур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ловживання алког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одина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ераціональне харчув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психоемоційний стре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Вторинні провідні чинники ризик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діаб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ртеріальна гіпертенз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гіперліпідем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ревмат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алергі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імунодефіци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83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Arial"/>
              </a:rPr>
              <a:t>Групи ризику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– це групи населення, що у більшій мірі, ніж інші, схильні до виникнення різних захворювань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1. Групи за демографічними ознаками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люди похилого і старечого вік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дови, вдівц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динок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мігранти, біженці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2. Групи виробничого, професійного ризик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, які працюють на шкідливих для здоров’я виробництвах (хімічна, металургійна промисловість, важке машинобудування, транспорт тощо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14240" y="404280"/>
            <a:ext cx="8105760" cy="56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3. Група ризику за ознакою функціонального або патологічного стану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агіт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недоношені діт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особи з генетичним ризиком, уродженими аномаліями, вадам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інваліди з дитинств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4. Грипи ризику за ознаками низького матеріального рівня життя, бідності, убогості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ідні, незабезпечені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безробітні, безхатчен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 u="sng">
                <a:solidFill>
                  <a:srgbClr val="ff0000"/>
                </a:solidFill>
                <a:uFillTx/>
                <a:latin typeface="Verdana"/>
              </a:rPr>
              <a:t>5. Група ризику з девіантною поведінкою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зловживання алкоголем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вживання наркотиків, токсичних продуктів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сексуальні меншини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Verdana"/>
              </a:rPr>
              <a:t>деформація психічного здоров’я тощ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642960" y="699840"/>
            <a:ext cx="83581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1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пробуйте оцінити свій фізичний стан за певними важливими показниками, використовуючи опитувальник самооцінки фізичного здоров’я Г. С. Нікіфоро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питувальник самооцінки фізичного здоров’я (Г. С. Нікіфор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Вік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жний рік надає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ин бал. Якщо вам 40 років маєте 4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Вага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ормальна вага умовно дорівнює зросту в сантиметрах мінус 100. За кожний кілограм нижче норми додається 5 балів, за кожний кілограм понад норми вираховується 5 балів. Припустимо, при зрості 176 см Ви важите 85 кг, тоді за другим показником Ви маєте мінус 4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Палінн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Хто не палить, отримує плюс 30 балів. За кожну випалену сигарету вираховується 1 бал. Якщо Ви випалюєте за день 20 сигарет, то ваш третій показник складає мінус 2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642960" y="539280"/>
            <a:ext cx="83581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Витривалість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Ви щоденно впродовж не менше 12 хв. виконуєте вправи на розвиток витривалості (бігаєте в рівномірному темпі, плаваєте, катаєтесь на лижах або на велосипеді, тобто робите вправи, які найбільш ефективно зміцнюють серцево-судинну систему), то Ви отримуєте 30 балів. робите вправи чотири рази на тиждень, – Ви набираєте 25 балів, три рази – 20, два рази – 10 і один раз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а інші вправи (комплекс ранкової гімнастики, прогулянка, різні ігри) у цьому тесті бали не нараховуються. Якщо Ви взагалі не займаєтесь фізкультурою, то із загальної суми вираховується 10 балів. Якщо до того ж Ви ведете малорухливий спосіб життя, то втрачаєте ще 2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Пульс у спокої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Якщо число серцевих скорочень у спокої у Вас менше 90, то за кожний удар пульсу з цієї різниці Ви отримуєте один бал. Наприклад, частота пульсу 72 удари на хвилину – маєте 18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ідновлення частоти пульсу після навантаження.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ісля двохвилинного бігу (можна н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ісці) відпочиньте 4 хвилини лежачи. Якщо частота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ульсу перевищує початкову цифру всього на 10 ударів,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отримуєте 30 балів, на 15 ударів – 15 балів, а на 20 і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ільше – жодного ба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857160" y="758880"/>
            <a:ext cx="8001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Підрахуйте загальну суму за шістьма показниками. </a:t>
            </a:r>
            <a:r>
              <a:rPr b="0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Якщо Ви набрал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доцільно звернутися до лікаря для перевірки здоров’я, спробувати скинути зайву вагу, переглянути звички, почати виділяти час для фізичних впр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1-6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лід звернути серйозну увагу на боротьбу з факторами ризику, які вже наявні (зайва вага, куріння, низька фізична активні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1-100 балів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результат непоганий, не знижуйте інтенсивності у розвитку витривалості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над 100 балів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доров’я відмінне, ваші резерви наповнені витривалістю та опірністю до хвороб. Продовжуйте так само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857160" y="310320"/>
            <a:ext cx="807264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2.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Оцінити свій спосіб життя за індивідуальним тестом здоров’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Індивідуальний тест здоров’я (Г. Ф. Яцук і співавтори, 199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. Ранкова гімнастик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щоденно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3 рази на тиждень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виконується – 1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. Добирання до навчального закладу (на роботу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агальним (міським) транспортом – 5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автомобілем – 1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елосипедом, пішки – 0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Вага тіл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ормальна – 0 балі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ще норми (за кожні 5 кг) – 5 балі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071720" y="214200"/>
            <a:ext cx="778644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</a:rPr>
              <a:t>2. Деякі аспекти поняття права на охорону здоров’я, медичну допомогу в Україні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571680" y="1577880"/>
            <a:ext cx="82152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Зміст права на охорону здоров’я і на медичну допомогу визначено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3 і 284 Цивільного кодексу (ЦК)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Статтями 285, 286, 287 і 290 ЦК Україн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визначені також право на інформацію про стан свого здоров’я і на таємницю про нь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284 ЦК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зазначається, що фізична особа має право на надання їй медичної допомоги за її згодою, повнолітня особа може відмовитися від лікування. Фізична особа, яка досягла 14 років і звернулася за наданням їй медичної допомоги, має право на вибір лікаря та вибір методів лікування відповідно до його рекомендаці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невідкладних випадках, за наявності реальної загрози життю фізичної особи, медична допомога надається без згоди фізичної особи або її батьків (усиновлювачів), опікуна, піклуваль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У відповідності зі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ст. 49 Конституції України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медична допомога повинна надаватися безкошто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1000080" y="315360"/>
            <a:ext cx="7715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Палі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алить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10 цигарок на добу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20 цигарок на добу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Харчуван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багато вершкового масла, яєць, вершків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гато цукру, вуглеводів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тна вечеря після 19.00 год.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Виробнича гімнаст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иконується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 виконується – 5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Регулярність занять фізичними вправ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займається – 1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2-4 години на тиждень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8 годин на тиждень – 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Споживання алкогольних напої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споживає – 0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а свята – 5 балі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систематично – 10 балі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928800" y="811080"/>
            <a:ext cx="8215200" cy="49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Оцінка тесту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енше 25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здоровий спосіб житт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25-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спосіб життя достатньо здоровий, але при корекції окремих звичок його можна значно поліпшит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більше 50 балів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– неправильний спосіб життя, який потребує змін звичок і негайних дій для вдосконалення способу житт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857160" y="591480"/>
            <a:ext cx="80010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Завдання 3.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цініть стан здоров'я за допомогою опитувальника «Стан здоров'я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  <a:ea typeface="Times New Roman,BoldItalic"/>
              </a:rPr>
              <a:t>Інструкція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,Bold"/>
              </a:rPr>
              <a:t>Уважно прочитайте запропоновані питання та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беріть із запропонованого переліку відповідей ту, яка Вам найбільше підход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Текст опитування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1. Що Ви зробите, якщо побачите, що автобус встигне підійти до зупинки раніше, ніж В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«візьмете ноги в руки», щоб наздогнати й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пропустите його, бо буде наступн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трохи прискорите крок, можливо, він почекає В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. Чи підете Ви в похід у компанії людей, значно молодших за Вас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ні, Ви взагалі не ходите в поход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так, якщо вони Вам хоч трохи симпатичн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неохоче, тому що це може бути стомли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928800" y="595800"/>
            <a:ext cx="800100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3. Якщо у Вас видався більш важкий робочий або навчальний день, ніж звичайно, чи зникає у Вас бажання робити ввечері що-небудь, що обіцяє бути цікав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зовсім не зникає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бажання зникає, але Ви сподіваєтеся, що відчуєте себе краще, і тому не відмовляєтесь від задуманог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тому що Ви можете одержувати від цього задоволення, тільки відпочивш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4. Яка Ваша думка про турпоходи всією родиною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Вам подобається, коли це роблять інш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Ви б із задоволенням до них приєднал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потрібно спробувати разок, як Ви себе будете почувати в такому турпоход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5. Що Ви охоче і швидше за все робите, коли стомлюєтес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лягаєте спа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п’єте чашку міцної кав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довго гуляєте на свіжому повітр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857160" y="731520"/>
            <a:ext cx="82868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6. Що найважливіше для підтримки гарного самопочутт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трібно більше ї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еобхідно багато рухати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не можна занадто перевтомлювати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7. Чи приймаєте Ви регулярно лі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не приймаєте навіть під час хвороб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ні, у крайньому випадку – вітамін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приймає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8. Якій страві Ви надаєте перевагу (і частіше їсте) з перерахованих нижч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гороховий суп із копченим окос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йогур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істечко з кремом або зі збитими верш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 Black"/>
              </a:rPr>
              <a:t>9. Що для Вас найбільш важливо, коли Ви відправляєтеся на відпочино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) щоб були всі зручності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б) щоб була хоча б мінімальна можливість займатися спорто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) щоб були хоча б мінімальні зручності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"/>
          <p:cNvSpPr/>
          <p:nvPr/>
        </p:nvSpPr>
        <p:spPr>
          <a:xfrm>
            <a:off x="928800" y="1049400"/>
            <a:ext cx="7715160" cy="47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0. Чи відчуваєте Ви зміну погод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почуваєте себе через це кілька днів хвори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майже не помічаєте, що погода змінила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так, якщо Ви стомлен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11. Який Ваш загальний стан, якщо Ви не достатньо поспал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) кепськ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б) один-два рази недостатньо поспите – все з рук валитьс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) Ви так до цього звикли, що вже не звертаєте уваг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Arial Black"/>
                <a:ea typeface="Times New Roman,BoldItalic"/>
              </a:rPr>
              <a:t>Ключ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користовуючи таблицю, підрахуйте кількість балі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428760" y="1143000"/>
          <a:ext cx="8501040" cy="5283360"/>
        </p:xfrm>
        <a:graphic>
          <a:graphicData uri="http://schemas.openxmlformats.org/drawingml/2006/table">
            <a:tbl>
              <a:tblPr/>
              <a:tblGrid>
                <a:gridCol w="1404720"/>
                <a:gridCol w="2438640"/>
                <a:gridCol w="2365200"/>
                <a:gridCol w="2292480"/>
              </a:tblGrid>
              <a:tr h="344520">
                <a:tc gridSpan="4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ількість балів за відповіді на питання те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40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Пит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ідповідь – Б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Arial Black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 –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41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–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–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 gridSpan="2">
                  <a:txBody>
                    <a:bodyPr lIns="0" rIns="0" tIns="0" bIns="0" anchor="ctr">
                      <a:noAutofit/>
                    </a:bodyPr>
                    <a:p>
                      <a:pPr marL="684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агальна кількість бал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marL="66600" algn="ctr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Rectangle 1"/>
          <p:cNvSpPr/>
          <p:nvPr/>
        </p:nvSpPr>
        <p:spPr>
          <a:xfrm>
            <a:off x="357120" y="42912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аблиця  – Ключ до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Times New Roman,Bold"/>
              </a:rPr>
              <a:t>опитування «Стан здоров'я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1000080" y="385560"/>
            <a:ext cx="8001000" cy="579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Понад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 Вас дійсно відмінне самопочуття. Очевидно, тому, що у Вас здоровий організм. Ви не тільки прихильник здорового способу життя, але й на практиці його ведет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Від 50 до 8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ічого страшного з Вашим самопочуттям немає, хоча, звичайно, буває так, що Ви роздратовані або втомилися; на Ваших плечах великий тягар, але лише тому, що Ви його досить добре виносите. Безумовно, з цієї причини Вам піде на користь не відкладати на майбутній рік (місяць, тиждень, день) початок нового життя, а вже зараз перейти до нього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Arial Black"/>
                <a:ea typeface="Times New Roman,Italic"/>
              </a:rPr>
              <a:t>Менше 50 балів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и занадто перевантажені. Ви не стежите за станом свого здоров'я. Необхідні зміни в способі житт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985320"/>
            <a:ext cx="7539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85520" y="499680"/>
            <a:ext cx="83581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Verdana"/>
              </a:rPr>
              <a:t>3. Медицина. Історія. Галузі. Поняття профілактики та лікуванн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396040" y="2286000"/>
            <a:ext cx="3531960" cy="37861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571680" y="2357280"/>
            <a:ext cx="5143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900" spc="-1" strike="noStrike">
                <a:solidFill>
                  <a:srgbClr val="ff0000"/>
                </a:solidFill>
                <a:latin typeface="Arial Black"/>
              </a:rPr>
              <a:t>Медицина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 – галузь науки та практичної діяльності, що спрямована на збереження і зміцнення здоров’я людей, запобігання </a:t>
            </a:r>
            <a:r>
              <a:rPr b="0" lang="ru-RU" sz="2900" spc="-1" strike="noStrike">
                <a:solidFill>
                  <a:srgbClr val="000000"/>
                </a:solidFill>
                <a:latin typeface="Arial Black"/>
              </a:rPr>
              <a:t>хворобам </a:t>
            </a:r>
            <a:r>
              <a:rPr b="0" lang="uk-UA" sz="2900" spc="-1" strike="noStrike">
                <a:solidFill>
                  <a:srgbClr val="000000"/>
                </a:solidFill>
                <a:latin typeface="Arial Black"/>
              </a:rPr>
              <a:t>та їх лікуванн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69800" y="1827360"/>
            <a:ext cx="73134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7680" y="0"/>
            <a:ext cx="889632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2920" y="214200"/>
          <a:ext cx="8786880" cy="6262920"/>
        </p:xfrm>
        <a:graphic>
          <a:graphicData uri="http://schemas.openxmlformats.org/drawingml/2006/table">
            <a:tbl>
              <a:tblPr/>
              <a:tblGrid>
                <a:gridCol w="2313000"/>
                <a:gridCol w="1879560"/>
                <a:gridCol w="2022480"/>
                <a:gridCol w="2571840"/>
              </a:tblGrid>
              <a:tr h="172080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лузі медицин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вчають 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удову та функції організму здорової людин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анатомія, фізіологія, гістологія, топограф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ий організм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патологічна фізіологія, патологічна анатомія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eb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хвороби та їх лікува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терапія, хірургія, стоматологія, ендокрино-логія, гінеколог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плив зовнішніх факторів на здоров’я як окремої людини, так і групи людей, суспільства в цілом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(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гігієн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соціальна медицина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714240"/>
          <a:ext cx="8643960" cy="5102280"/>
        </p:xfrm>
        <a:graphic>
          <a:graphicData uri="http://schemas.openxmlformats.org/drawingml/2006/table">
            <a:tbl>
              <a:tblPr/>
              <a:tblGrid>
                <a:gridCol w="4222800"/>
                <a:gridCol w="4421160"/>
              </a:tblGrid>
              <a:tr h="1285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ями медицини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ЛІКУВАЛЬ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лікувальної медицини є хвор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РОФІЛАКТИЧ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’єктом профілактичної медицини є практично здорова люд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1:26:55Z</dcterms:created>
  <dc:creator>1</dc:creator>
  <dc:description/>
  <dc:language>en-US</dc:language>
  <cp:lastModifiedBy>hp</cp:lastModifiedBy>
  <dcterms:modified xsi:type="dcterms:W3CDTF">2020-02-03T20:37:30Z</dcterms:modified>
  <cp:revision>77</cp:revision>
  <dc:subject/>
  <dc:title>Спортивна медицина</dc:title>
</cp:coreProperties>
</file>