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53767D-1F10-42BB-9846-05AECBB2D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2DB930-C438-4C7E-814F-2EF0FDF0607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42E913-65F4-4DF5-A7CB-18EB7CCF42D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7E464C-0F70-43FE-901C-B628050BE97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C526-A2EC-43CC-B8C3-D5F167AB9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A23E-E42F-4E85-A182-AE53874C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C188-2871-41A9-A1C1-B1D55B1B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3D14-D180-4D9A-B783-8D14A14AE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FFB1-B345-43EF-B3FA-AAF229661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ACE6-1FF0-4B7D-891E-A512D224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875B-3BB7-4DDC-A312-A1970C15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3C57-C337-49EA-AA04-B0BA8C35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FECE-61D6-4656-8153-A7A8CC36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903D-8178-4004-B1F6-EEABB983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4F75-96FA-4936-A6BD-ABEBF7B4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5FBF-07F3-4414-BD1A-9628F11F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AC5E-228E-4DE0-BA41-41B2F573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E266-7149-4E71-AB55-40A2965B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6995-32EA-4708-915C-3B2C3CCF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DBCE-3DB2-4FF9-9755-DB3861D8D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8279-6598-4C55-BEC8-C17774C1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1E90-A871-45E5-AB59-3C734FF2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9A7C-4DCD-441E-A628-E6DAF7D1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9BB8-25C3-46D2-9077-6591A94C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DF82-1FDB-4C00-82EA-BF1803D1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FA75-2EF9-45CC-8767-D07BE523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44D2-9BFB-4571-9A92-EA3BDF9C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B14C-F40E-4199-A217-106DEE90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Равнобедренный треугольник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63FB6A9-D9AE-4F62-A993-72E8B2052A22}" type="slidenum"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4f81b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Прямоугольник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c0504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Прямоугольник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Прямоугольник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Равнобедренный треугольник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680C558-2BD6-41C0-A3B1-71982C1FCB43}" type="slidenum"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1f497d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a94643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640" y="3565440"/>
            <a:ext cx="6889320" cy="12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8000"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Линейные балансовые модели. Модель межотраслевого баланса (модель Леонтьева)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1f497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Задача о распределении ресурсов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Постановка задач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156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едприятие располагает ресурсами сырья, рабочей силы, оборудования, необходимыми для производства любого их 4-х видов продукции. Затраты ресурсов на изготовление единицы продукции каждого вида, прибыль, получаемая предприятием, а также запасы ресурсов указаны в таблице: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02" name="Таблица 3"/>
          <p:cNvGraphicFramePr/>
          <p:nvPr/>
        </p:nvGraphicFramePr>
        <p:xfrm>
          <a:off x="1643040" y="2714760"/>
          <a:ext cx="6240960" cy="3053160"/>
        </p:xfrm>
        <a:graphic>
          <a:graphicData uri="http://schemas.openxmlformats.org/drawingml/2006/table">
            <a:tbl>
              <a:tblPr/>
              <a:tblGrid>
                <a:gridCol w="1793160"/>
                <a:gridCol w="848160"/>
                <a:gridCol w="848160"/>
                <a:gridCol w="848160"/>
                <a:gridCol w="848160"/>
                <a:gridCol w="1054800"/>
              </a:tblGrid>
              <a:tr h="86616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Виды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Нормы расхода ресурсов на единицу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Запасы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449640"/>
                          <a:tab algn="ctr" pos="2970000"/>
                          <a:tab algn="r" pos="5940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Сырье, 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449640"/>
                          <a:tab algn="ctr" pos="2970000"/>
                          <a:tab algn="r" pos="594036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Раб. сила,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чел.-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Оборудование, станко-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Прибыль на ед. прод., у.д.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</a:tbl>
          </a:graphicData>
        </a:graphic>
      </p:graphicFrame>
      <p:sp>
        <p:nvSpPr>
          <p:cNvPr id="103" name="PlaceHolder 3"/>
          <p:cNvSpPr>
            <a:spLocks noGrp="1"/>
          </p:cNvSpPr>
          <p:nvPr>
            <p:ph type="ftr" idx="10"/>
          </p:nvPr>
        </p:nvSpPr>
        <p:spPr>
          <a:xfrm>
            <a:off x="2286000" y="6357960"/>
            <a:ext cx="4530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Оптимальное распределение ресурсов  предприя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357120" y="5527080"/>
            <a:ext cx="8229240" cy="12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Определить, сколько продукции каждого вида надо выпускать, чтобы прибыль была максима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8D3A-5D4D-4CC5-B39A-5A39C82696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Математическая модель задач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1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Переменные модели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1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2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3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4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Цель – максимизация прибыли, у.д.е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Z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=3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2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56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4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max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сырья, кг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60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рабочей силы, чел.-ч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22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3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400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оборудования, станко-ч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6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128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Условие неотрицательности переменных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gt;=0,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=1,4)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11"/>
          </p:nvPr>
        </p:nvSpPr>
        <p:spPr>
          <a:xfrm>
            <a:off x="2286000" y="6357960"/>
            <a:ext cx="4530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Оптимальное распределение ресурсов  предприя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B289-2C63-4DB0-83BC-FB28A3FFF2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908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Задача о назначениях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Содержательная постан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ftr" idx="1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5640" y="1700640"/>
            <a:ext cx="82292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имеются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ников, которых необходимо обеспечить работой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имеются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 (рабочих мест), которые должны быть выполнены (заняты)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вестно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‒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оэффициент эффективности, то есть как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ник выполняет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ю () работу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3304-A801-4735-9A57-47E024BCBC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1f497d"/>
                </a:solidFill>
                <a:latin typeface="Times New Roman"/>
              </a:rPr>
              <a:t>Формальная постановка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1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ведем переменную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 не назначе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аботу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 не назначе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аботу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A7F3-EF70-4957-B1AD-7D999A78E5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1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22560" indent="-32256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 математическая модель задачи имеет вид: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11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20B2-F72E-49A9-8220-113C691CDB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uk-UA" sz="3200" spc="-1" strike="noStrike">
                <a:solidFill>
                  <a:srgbClr val="1f497d"/>
                </a:solidFill>
                <a:latin typeface="Bookman Old Style"/>
              </a:rPr>
              <a:t>Межотраслевая балансовая модель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1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Экономическая система состоит из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взаи­мосвязанных отраслей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‒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аловой продукт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обозначим через (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‒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валовой продукт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)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‒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конечный продукт 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отрасл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– затраты продукции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на производство продукции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отрасли. Условно чистую продукцию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обозна­чим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V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C6AD-3AEF-460E-A4A5-8A7013C9C6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Анализ общей структуры межотраслевого баланс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1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rcRect l="27373" t="25866" r="24105" b="13228"/>
          <a:stretch/>
        </p:blipFill>
        <p:spPr>
          <a:xfrm>
            <a:off x="1115640" y="1155960"/>
            <a:ext cx="7200360" cy="510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A135-CF45-4AAD-8C9D-F28CD2E1D0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5000"/>
          </a:bodyPr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еличина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может быть представлена следующим образом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  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еличина 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‒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коэффициент прямых материальных затрат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 Она показывает, затраты  i-й отрасли  на производство единицы продукции j-й отрасли. Коэффициенты 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считаются в межотраслевой модели постоянным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Тогда валовую продукцию можем записать в другом виде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Это соотношение можно записать в матричном виде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где X = (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- вектор валовых выпусков;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Y = (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 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- вектор конечного продукта;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A  - матрица коэффициентов прямых материальных затрат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DD8C-CE50-4847-A092-1FCE73FF2D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Начальна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Начальна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  <Words>379</Words>
  <Paragraphs>9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06:31:47Z</dcterms:created>
  <dc:creator>Лежнина М.В.</dc:creator>
  <dc:description/>
  <dc:language>en-US</dc:language>
  <cp:lastModifiedBy>АННА</cp:lastModifiedBy>
  <dcterms:modified xsi:type="dcterms:W3CDTF">2019-02-04T19:51:27Z</dcterms:modified>
  <cp:revision>22</cp:revision>
  <dc:subject/>
  <dc:title>Задача оптимального распределения ресурсов предприят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9</vt:r8>
  </property>
</Properties>
</file>