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83779E-1931-4E73-A156-CF01F3D53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F8645F-E4D9-4BCB-8DBB-2EF994CDA55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5560D9-87E1-4CD3-857B-C547AD716B1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66CFFC-DAF1-4E74-9624-01E581F2E02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4FAF-B383-412C-B5A8-8745A23F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6E85-81DF-42D2-B2BC-E6510788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0C4-7CAF-4407-8A4D-23DBCB5E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EA9B-973E-4E8B-A95B-303D4149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FCF7-846F-4738-80B6-4E2B6872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CFC4-5C95-4362-8328-1921F613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3BC8-A952-4F7C-897E-1C6184E2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4D36-4852-4119-B862-A444FBD4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1DD3-774F-4EFB-B3D5-E5E7AAE8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F50C-0705-4FC7-9783-5747140D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0AD2-2DF1-4ABD-A52A-7568CF7B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D797-E4A6-4900-A5F3-BF9A5B78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DCA0-D015-4F0C-B8E0-611735AE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C5D4-961C-4372-9967-DB045B80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DEE8-A0C1-408E-AB15-C8990A18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85F7-BC15-407E-A8B0-4841A55D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806E-5B0F-4209-A7CC-4D3D34D7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6E6D-37C6-4796-8FB7-2EF08064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EF86-8803-4C80-BD09-C9FBF537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DB9-1170-4821-96EA-D481E051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2A0A-7B01-4416-A934-27FC8E50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CCB3-3CAA-472D-8491-CFA1B7F8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E5EC-6C56-4C40-90FD-AF3A58F6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523D-A3F5-4269-A4C5-8DBD1060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167D6FC-A93E-42A7-BE25-49D3617488CC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4f81b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c0504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FE64458-D721-40C9-8034-698336354C03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1f497d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a94643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640" y="3565440"/>
            <a:ext cx="688932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Линейные балансовые модели. Модель межотраслевого баланса (модель Леонтьева)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1f497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распределении ресурсов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Постановка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15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едприятие располагает ресурсами сырья, рабочей силы, оборудования, необходимыми для производства любого их 4-х видов продукции. Затраты ресурсов на изготовление единицы продукции каждого вида, прибыль, получаемая предприятием, а также запасы ресурсов указаны в таблице: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02" name="Таблица 3"/>
          <p:cNvGraphicFramePr/>
          <p:nvPr/>
        </p:nvGraphicFramePr>
        <p:xfrm>
          <a:off x="1643040" y="2714760"/>
          <a:ext cx="6240960" cy="3053160"/>
        </p:xfrm>
        <a:graphic>
          <a:graphicData uri="http://schemas.openxmlformats.org/drawingml/2006/table">
            <a:tbl>
              <a:tblPr/>
              <a:tblGrid>
                <a:gridCol w="1793160"/>
                <a:gridCol w="848160"/>
                <a:gridCol w="848160"/>
                <a:gridCol w="848160"/>
                <a:gridCol w="848160"/>
                <a:gridCol w="1054800"/>
              </a:tblGrid>
              <a:tr h="86616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Вид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Нормы расхода ресурсов на единицу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Запас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Сырье,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Раб. сила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чел.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Оборудование, станко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Прибыль на ед. прод., у.д.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3"/>
          <p:cNvSpPr>
            <a:spLocks noGrp="1"/>
          </p:cNvSpPr>
          <p:nvPr>
            <p:ph type="ftr" idx="10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357120" y="5527080"/>
            <a:ext cx="822924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Определить, сколько продукции каждого вида надо выпускать, чтобы прибыль была максима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671D-3D78-43B7-BA77-2A24A71204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Математическая модель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еременные модели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1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2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3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4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Цель – максимизация прибыли, у.д.е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ax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сырья, кг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6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рабочей силы, чел.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22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40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оборудования, станко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128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Условие неотрицательности переменных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gt;=0,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1,4)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11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60E1-49E1-4214-92E3-8B51D9BDB9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908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назначениях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Содержательная постан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ftr" idx="1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640" y="1700640"/>
            <a:ext cx="82292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ников, которых необходимо обеспечить работой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 (рабочих мест), которые должны быть выполнены (заняты)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вестно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эффициент эффективности, то есть как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 выполняет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ю () работу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F212-DF0B-4923-BE15-F9281FF2F9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</a:rPr>
              <a:t>Формальная постановк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1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дем переменную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1780-F41F-45AB-AEA7-A1E4E4F3D7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22560" indent="-32256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 математическая модель задачи имеет вид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1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06C0-8669-465D-A41F-BAC49A34F5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uk-UA" sz="3200" spc="-1" strike="noStrike">
                <a:solidFill>
                  <a:srgbClr val="1f497d"/>
                </a:solidFill>
                <a:latin typeface="Bookman Old Style"/>
              </a:rPr>
              <a:t>Межотраслевая балансовая модель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кономическая система состоит из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взаи­мосвязанных отраслей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чим через (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)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онечный продукт 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– затраты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на производство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Условно чистую продукцию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­чим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EA38-5E00-45F1-B6E1-C83F431CBE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Анализ общей структуры межотраслевого баланс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rcRect l="27373" t="25866" r="24105" b="13228"/>
          <a:stretch/>
        </p:blipFill>
        <p:spPr>
          <a:xfrm>
            <a:off x="1115640" y="1155960"/>
            <a:ext cx="7200360" cy="510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C607-AA21-4B80-9FBC-B8CCFBA280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может быть представлена следующим образом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  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коэффициент прямых материальных затрат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Она показывает, затраты  i-й отрасли  на производство единицы продукции j-й отрасли. Коэффициенты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считаются в межотраслевой модели постоянным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Тогда валовую продукцию можем записать в друг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то соотношение можно записать в матричн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где X = (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валовых выпусков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Y = (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конечного продукта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A  - матрица коэффициентов прямых материальных затрат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8131-5AA5-4691-95C6-43A936E5FF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  <Words>379</Words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6:31:47Z</dcterms:created>
  <dc:creator>Лежнина М.В.</dc:creator>
  <dc:description/>
  <dc:language>en-US</dc:language>
  <cp:lastModifiedBy>АННА</cp:lastModifiedBy>
  <dcterms:modified xsi:type="dcterms:W3CDTF">2019-02-04T19:51:27Z</dcterms:modified>
  <cp:revision>22</cp:revision>
  <dc:subject/>
  <dc:title>Задача оптимального распределения ресурсов предпри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