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3E7925-1E7D-4760-BD4C-30A828E4C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015EA0-1620-4F38-8E41-D40DF47520F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3DB044-69EA-49A4-96B8-0D13587203A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54AD7E-CE4C-4775-9FEF-A7F21235676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333-9EBA-4372-A034-2761F6AE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770-1DCD-4109-A39C-539F8DFD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8B7E-EBC2-4314-BB86-520FA30D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6D9-73E5-47DE-82F8-667DDCCF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B57E-4521-4D8D-95BC-2074E0B1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F05E-83CD-4243-8F2B-25C470D8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3942-9986-48C9-96D6-37BFDC7B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166A-812C-4969-A850-7369B5ED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F132-63A3-467F-959C-9A8312A7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B060-DA77-4672-9037-0532FE3F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8ABC-FB10-4767-93CE-9FC3F4B2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C61-5DF9-4AF6-8BAE-45FA81AB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8F9A-E3AC-43C0-8695-6200FCD3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E7DF-6470-40FB-9501-82410680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CFE0-712F-49A6-8349-DE4116B9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5B3E-A0A1-4475-9958-505921A1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7642-7FAD-40DD-83CD-B8B26E4B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E10-8EF5-44E6-91EC-5146622B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17EE-DD94-48F5-AE97-683DD38E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4E0B-E400-419E-BF22-43B9D67C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718-A03D-4625-BD4B-67494EB9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1C36-9309-4290-955B-8DD730F3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C59-1F88-4AD1-A85A-A603753D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AA8A-C668-41CC-8DD1-B71D8175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E8820B1-E0D4-4CC6-88B7-16D52D5203CE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4f81b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c0504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59408CD-1242-478C-93B5-0ACA59F58CB4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1f497d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a94643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640" y="3565440"/>
            <a:ext cx="68893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Линейные балансовые модели. Модель межотраслевого баланса (модель Леонтьева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распределении ресурсов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Постановка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15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дприятие располагает ресурсами сырья, рабочей силы, оборудования, необходимыми для производства любого их 4-х видов продукции. Затраты ресурсов на изготовление единицы продукции каждого вида, прибыль, получаемая предприятием, а также запасы ресурсов указаны в таблице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2" name="Таблица 3"/>
          <p:cNvGraphicFramePr/>
          <p:nvPr/>
        </p:nvGraphicFramePr>
        <p:xfrm>
          <a:off x="1643040" y="2714760"/>
          <a:ext cx="6240960" cy="3053160"/>
        </p:xfrm>
        <a:graphic>
          <a:graphicData uri="http://schemas.openxmlformats.org/drawingml/2006/table">
            <a:tbl>
              <a:tblPr/>
              <a:tblGrid>
                <a:gridCol w="1793160"/>
                <a:gridCol w="848160"/>
                <a:gridCol w="848160"/>
                <a:gridCol w="848160"/>
                <a:gridCol w="848160"/>
                <a:gridCol w="1054800"/>
              </a:tblGrid>
              <a:tr h="8661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Вид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Нормы расхода ресурсов на единицу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Запас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Сырье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Раб. сил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чел.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Оборудование, станко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Прибыль на ед. прод., у.д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3"/>
          <p:cNvSpPr>
            <a:spLocks noGrp="1"/>
          </p:cNvSpPr>
          <p:nvPr>
            <p:ph type="ftr" idx="10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57120" y="5527080"/>
            <a:ext cx="822924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Определить, сколько продукции каждого вида надо выпускать, чтобы прибыль была максим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8356-5EE6-43E8-B681-7349C013B9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Математическая модель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еменные модели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1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2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3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4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Цель – максимизация прибыли, у.д.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сырья, кг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6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рабочей силы, чел.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2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40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оборудования, станко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128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Условие неотрицательности переменных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gt;=0,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1,4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1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1AC8-7E87-4777-9F4C-F7E3EC756B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0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назначениях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Содержательная постан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ftr" idx="1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ников, которых необходимо обеспечить работо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 (рабочих мест), которые должны быть выполнены (заняты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эффициент эффективности, то есть как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 выполняет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ю () работу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796B-26CF-4057-887E-222412D61E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</a:rPr>
              <a:t>Формальная постанов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1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м переменну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602B-2B03-4FAB-B601-DCC1E9F2A2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22560" indent="-32256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 математическая модель задачи имеет вид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55F4-9A46-477D-ACE3-FC27074242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>
                <a:solidFill>
                  <a:srgbClr val="1f497d"/>
                </a:solidFill>
                <a:latin typeface="Bookman Old Style"/>
              </a:rPr>
              <a:t>Межотраслевая балансовая модель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ономическая система состоит из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взаи­мосвязанных отраслей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чим через (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онечный продукт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– затраты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на производство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Условно чистую продукцию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­чим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211B-F191-4CFF-8D9A-05185CD8B1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Анализ общей структуры межотраслевого баланс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27373" t="25866" r="24105" b="13228"/>
          <a:stretch/>
        </p:blipFill>
        <p:spPr>
          <a:xfrm>
            <a:off x="1115640" y="1155960"/>
            <a:ext cx="7200360" cy="510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9006-0245-4058-B5BC-30E5C6D2B0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может быть представлена следующим образом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  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коэффициент прямых материальных затрат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Она показывает, затраты  i-й отрасли  на производство единицы продукции j-й отрасли. Коэффициенты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читаются в межотраслевой модели постоянным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огда валовую продукцию можем записать в друг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то соотношение можно записать в матричн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де X = (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валовых выпусков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Y = (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конечного продукта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A  - матрица коэффициентов прямых материальных затр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2516-3ECB-4EDB-88FA-5B9329A448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  <Words>379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31:47Z</dcterms:created>
  <dc:creator>Лежнина М.В.</dc:creator>
  <dc:description/>
  <dc:language>en-US</dc:language>
  <cp:lastModifiedBy>АННА</cp:lastModifiedBy>
  <dcterms:modified xsi:type="dcterms:W3CDTF">2019-02-04T19:51:27Z</dcterms:modified>
  <cp:revision>22</cp:revision>
  <dc:subject/>
  <dc:title>Задача оптимального распределения ресурсов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