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5EAD43-51EC-4A97-9FD4-BC73E1762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E3C11E-D1D7-426A-849A-1B7AD5094BF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D46F2C-56B7-4777-BF70-8B39C64692A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234708-D8C0-4F76-9B06-359901D8946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AF52-C2D0-4BEB-BECF-E9193C97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2ED-D7B2-4B43-91DD-EEF5A312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CB0E-9C84-44FE-B617-5697F0B0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3310-C945-4BDC-A89D-E5D2E125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8594-AAC1-45BD-980F-C4E9BDB6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22B0-5EDA-43EC-AE1D-6D3CA6B4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4C63-2564-4972-95F4-EBA8C102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91FB-FA57-4149-BD5A-83B33A29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88FA-5256-4602-BC6A-D8F18DC5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E003-475F-48A2-971E-66396710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E915-7F9A-4D99-90C8-61C2436A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A8B0-E8E0-4FC0-A8D6-845E5F67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48D0-0664-4DB4-AE38-18B928FE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F34A-6C87-490E-B8C4-BF714122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3BA2-D2CE-42FC-9FB4-C371CDDA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EDC5-8367-4D5D-9894-93CE014C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B124-12D2-4AB2-B313-D41A24F4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45B6-240E-427B-8FD6-F8052791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7DFF-F2E3-49D0-83FD-041B666A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4260-9256-4282-8229-96387E1A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D432-4DD8-4938-9A46-8D4E9425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53F7-C580-4045-B413-6DD92749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899E-C40A-48D5-9435-E8ECFE9E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CFEC-5719-4669-A8C0-38A2E230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799330F-6C71-42C2-851E-37805F6F9032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4f81b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Прямоугольник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c0504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Прямоугольник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Прямоугольник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52BE3D4-8883-4A84-9422-8AF8E58C9678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1f497d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a94643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640" y="3565440"/>
            <a:ext cx="6889320" cy="12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Линейные балансовые модели. Модель межотраслевого баланса (модель Леонтьева)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1f497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распределении ресурсов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Постановка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15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едприятие располагает ресурсами сырья, рабочей силы, оборудования, необходимыми для производства любого их 4-х видов продукции. Затраты ресурсов на изготовление единицы продукции каждого вида, прибыль, получаемая предприятием, а также запасы ресурсов указаны в таблице: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02" name="Таблица 3"/>
          <p:cNvGraphicFramePr/>
          <p:nvPr/>
        </p:nvGraphicFramePr>
        <p:xfrm>
          <a:off x="1643040" y="2714760"/>
          <a:ext cx="6240960" cy="3053160"/>
        </p:xfrm>
        <a:graphic>
          <a:graphicData uri="http://schemas.openxmlformats.org/drawingml/2006/table">
            <a:tbl>
              <a:tblPr/>
              <a:tblGrid>
                <a:gridCol w="1793160"/>
                <a:gridCol w="848160"/>
                <a:gridCol w="848160"/>
                <a:gridCol w="848160"/>
                <a:gridCol w="848160"/>
                <a:gridCol w="1054800"/>
              </a:tblGrid>
              <a:tr h="86616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Вид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Нормы расхода ресурсов на единицу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Запас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Сырье, 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Раб. сила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чел.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Оборудование, станко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Прибыль на ед. прод., у.д.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3"/>
          <p:cNvSpPr>
            <a:spLocks noGrp="1"/>
          </p:cNvSpPr>
          <p:nvPr>
            <p:ph type="ftr" idx="10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357120" y="5527080"/>
            <a:ext cx="822924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Определить, сколько продукции каждого вида надо выпускать, чтобы прибыль была максима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49C2-6837-4B93-84FA-12415B1DE3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Математическая модель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Переменные модели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1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2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3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4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Цель – максимизация прибыли, у.д.е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ax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сырья, кг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6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рабочей силы, чел.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22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40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оборудования, станко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128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Условие неотрицательности переменных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gt;=0,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1,4)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11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0CF8-1BB9-4FE0-9143-8A558D931C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908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назначениях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Содержательная постан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ftr" idx="1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5640" y="1700640"/>
            <a:ext cx="82292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ников, которых необходимо обеспечить работой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 (рабочих мест), которые должны быть выполнены (заняты)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вестно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эффициент эффективности, то есть как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 выполняет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ю () работу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150A-2457-4280-9667-CBB142F28F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</a:rPr>
              <a:t>Формальная постановка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1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едем переменную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FF51-2920-4C45-8247-3B73116007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22560" indent="-32256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 математическая модель задачи имеет вид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1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0E33-61B2-4631-A28E-6A9ABDDBCF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uk-UA" sz="3200" spc="-1" strike="noStrike">
                <a:solidFill>
                  <a:srgbClr val="1f497d"/>
                </a:solidFill>
                <a:latin typeface="Bookman Old Style"/>
              </a:rPr>
              <a:t>Межотраслевая балансовая модель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кономическая система состоит из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взаи­мосвязанных отраслей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чим через (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)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онечный продукт 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– затраты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на производство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Условно чистую продукцию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­чим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V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1F07-FC60-4185-91A2-06541F06D6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Анализ общей структуры межотраслевого баланс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rcRect l="27373" t="25866" r="24105" b="13228"/>
          <a:stretch/>
        </p:blipFill>
        <p:spPr>
          <a:xfrm>
            <a:off x="1115640" y="1155960"/>
            <a:ext cx="7200360" cy="510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6BD2-1111-438A-8B93-EA34E2CAF0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может быть представлена следующим образом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  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коэффициент прямых материальных затрат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Она показывает, затраты  i-й отрасли  на производство единицы продукции j-й отрасли. Коэффициенты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считаются в межотраслевой модели постоянным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Тогда валовую продукцию можем записать в друг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то соотношение можно записать в матричн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где X = (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валовых выпусков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Y = (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конечного продукта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A  - матрица коэффициентов прямых материальных затрат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1BDA-E99D-413F-A393-43213E7468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  <Words>379</Words>
  <Paragraphs>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06:31:47Z</dcterms:created>
  <dc:creator>Лежнина М.В.</dc:creator>
  <dc:description/>
  <dc:language>en-US</dc:language>
  <cp:lastModifiedBy>АННА</cp:lastModifiedBy>
  <dcterms:modified xsi:type="dcterms:W3CDTF">2019-02-04T19:51:27Z</dcterms:modified>
  <cp:revision>22</cp:revision>
  <dc:subject/>
  <dc:title>Задача оптимального распределения ресурсов предприя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9</vt:r8>
  </property>
</Properties>
</file>