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FCD062-EB38-41C0-A80B-50A677B1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97667-DB2D-4076-9593-96DB6F6B368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628324-F45A-4DDF-81FC-01F71E53D47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32EF25-A6D4-4A1C-8A23-A64FDEEE41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FC6-513A-4280-9B1C-C446975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822-DFFB-4176-BF9B-D1D51B01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C59-3D18-49C2-9E22-F36B9809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85A-BFED-4B34-8487-8B8CC2A5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FD08-E2D9-4A96-B557-4D742BCA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1288-D91F-4BEA-8A59-466293CE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380F-073B-48DC-B2A0-D9F4B7B7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8ED8-CF73-42E5-9B24-5BD95F3F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AAB-1D16-43AF-B906-F0D152C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A492-6CE6-4728-B5BC-34411080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B0B5-22CC-4F54-853B-A877ED0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AAF-424E-41E7-B751-78E26860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A74-CA3F-45DB-8660-E9EAF5E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2B0-BD49-40D4-96D5-47ECA12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3CB3-7BA2-4E21-8404-339364CA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18E3-717F-474E-9F58-358C6983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692-653B-44DD-B7EB-80563DEC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481-FB9D-43C7-AD11-F827D249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8A0-D573-4198-A4F7-A119ED9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F36-703E-4B53-AFBF-C30B045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6A6-EF8A-4C1C-BEC3-AC126597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C58-B086-40A8-B9F5-37ED91E0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06E-BDF3-4F81-9455-1C6E8C1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743-F6F0-456A-A332-514D397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C53BA54-7249-49B6-A282-8868D8FC0B40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4f81b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c0504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6F3C424-BDC9-40F1-8A83-2D71346DE7BF}" type="slidenum">
              <a:rPr b="0" lang="ru-RU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1f497d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a94643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640" y="3565440"/>
            <a:ext cx="68893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инейные балансовые модели. Модель межотраслевого баланса (модель Леонтьева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1f497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распределении ресурсов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остановка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дприятие располагает ресурсами сырья, рабочей силы, оборудования, необходимыми для производства любого их 4-х видов продукции. Затраты ресурсов на изготовление единицы продукции каждого вида, прибыль, получаемая предприятием, а также запасы ресурсов указаны в таблице: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2" name="Таблица 3"/>
          <p:cNvGraphicFramePr/>
          <p:nvPr/>
        </p:nvGraphicFramePr>
        <p:xfrm>
          <a:off x="1643040" y="2714760"/>
          <a:ext cx="6240960" cy="3053160"/>
        </p:xfrm>
        <a:graphic>
          <a:graphicData uri="http://schemas.openxmlformats.org/drawingml/2006/table">
            <a:tbl>
              <a:tblPr/>
              <a:tblGrid>
                <a:gridCol w="1793160"/>
                <a:gridCol w="848160"/>
                <a:gridCol w="848160"/>
                <a:gridCol w="848160"/>
                <a:gridCol w="848160"/>
                <a:gridCol w="1054800"/>
              </a:tblGrid>
              <a:tr h="8661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Вид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Нормы расхода ресурсов на единицу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Запасы ресур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Прод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Сырье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449640"/>
                          <a:tab algn="ctr" pos="2970000"/>
                          <a:tab algn="r" pos="594036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Раб. сила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чел.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Оборудование, станко-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  <a:tr h="48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Прибыль на ед. прод., у.д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Gill Sans MT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9360">
                      <a:solidFill>
                        <a:srgbClr val="4f81bd"/>
                      </a:solidFill>
                    </a:lnL>
                    <a:lnR w="9360">
                      <a:solidFill>
                        <a:srgbClr val="4f81bd"/>
                      </a:solidFill>
                    </a:lnR>
                    <a:lnT w="9360">
                      <a:solidFill>
                        <a:srgbClr val="4f81bd"/>
                      </a:solidFill>
                    </a:lnT>
                    <a:lnB w="9360">
                      <a:solidFill>
                        <a:srgbClr val="4f81bd"/>
                      </a:solidFill>
                    </a:lnB>
                    <a:solidFill>
                      <a:srgbClr val="9cbaee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3"/>
          <p:cNvSpPr>
            <a:spLocks noGrp="1"/>
          </p:cNvSpPr>
          <p:nvPr>
            <p:ph type="ftr" idx="10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357120" y="5527080"/>
            <a:ext cx="82292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Определить, сколько продукции каждого вида надо выпускать, чтобы прибыль была максим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72C8-1A03-4592-BA81-3B21FE3AE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Математическая модель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еменные модел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1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2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3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– количество единиц продукции 4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Цель – максимизация прибыли, у.д.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сырья, кг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6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рабочей силы, чел.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2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3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400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Ограничение по использованию оборудования, станко-ч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+16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lt;=128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Условие неотрицательности переменных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&gt;=0,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=1,4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11"/>
          </p:nvPr>
        </p:nvSpPr>
        <p:spPr>
          <a:xfrm>
            <a:off x="2286000" y="6357960"/>
            <a:ext cx="4530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1f497d"/>
                </a:solidFill>
                <a:latin typeface="Gill Sans MT"/>
              </a:rPr>
              <a:t>Оптимальное распределение ресурсов 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1A1-5ACC-4064-A0D1-CEF3504F7A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0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Задача о назначениях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Содержательная постан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ftr" idx="1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ников, которых необходимо обеспечить работо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меются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бот (рабочих мест), которые должны быть выполнены (заняты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эффициент эффективности, то есть как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ник выполняет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ю () работу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D5E-7DE1-4632-B5A5-41406A13D0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</a:rPr>
              <a:t>Формальная постанов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1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м переменную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96280" indent="-2962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ник не назначе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аботу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1920-8A99-4428-9C48-D10CC2421C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22560" indent="-32256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 математическая модель задачи имеет вид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404B-9D1E-4C0A-9616-110A5ADB09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>
                <a:solidFill>
                  <a:srgbClr val="1f497d"/>
                </a:solidFill>
                <a:latin typeface="Bookman Old Style"/>
              </a:rPr>
              <a:t>Межотраслевая балансовая модель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ономическая система состоит из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взаи­мосвязанных отраслей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чим через (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валовой продукт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‒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онечный продукт 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– затраты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на производство продукции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Р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отрасли. Условно чистую продукцию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й отрасли обозна­чим </a:t>
            </a: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4A19-4ED7-4201-88B1-7B15D40D8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Анализ общей структуры межотраслевого баланс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27373" t="25866" r="24105" b="13228"/>
          <a:stretch/>
        </p:blipFill>
        <p:spPr>
          <a:xfrm>
            <a:off x="1115640" y="1155960"/>
            <a:ext cx="7200360" cy="510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F2E-D354-4A66-9CD0-265F1C4A9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4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может быть представлена следующим образом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   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еличина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‒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коэффициент прямых материальных затрат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Она показывает, затраты  i-й отрасли  на производство единицы продукции j-й отрасли. Коэффициенты 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ij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читаются в межотраслевой модели постоянным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огда валовую продукцию можем записать в друг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то соотношение можно записать в матричном виде: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де X = (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валовых выпусков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Y = (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..., y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- вектор конечного продукта;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A  - матрица коэффициентов прямых материальных затр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CAB-2F60-4F79-8773-E580A2D7C3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  <Words>379</Words>
  <Paragraphs>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6:31:47Z</dcterms:created>
  <dc:creator>Лежнина М.В.</dc:creator>
  <dc:description/>
  <dc:language>en-US</dc:language>
  <cp:lastModifiedBy>АННА</cp:lastModifiedBy>
  <dcterms:modified xsi:type="dcterms:W3CDTF">2019-02-04T19:51:27Z</dcterms:modified>
  <cp:revision>22</cp:revision>
  <dc:subject/>
  <dc:title>Задача оптимального распределения ресурсов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