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24D596-739E-48B8-8AFC-389874A41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8F3500-B2A0-4902-A937-0B1B05ADD0B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880919-574E-4CC0-82A4-370EC64AF29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CC2513-B810-4CEF-B7E8-C85BC63DA3C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3605-10FC-4DE2-875F-8051FFA3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DE7D-C64E-4AF0-B0D1-D6CE1122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80F2-6E5F-4D0C-807B-85A96EB1D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2EF4-6BD9-4847-936E-632F37211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C39A-C68C-4BF6-A71E-FCE4F0B9A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33D1-DAE3-4AF1-8514-BB9CAC14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5B10-D984-4105-A121-F01006A7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617D-3C84-42CD-B40A-7FB6AD5B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D7CD-1F07-40A3-A088-278E487B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1F92-E2CD-42FD-B884-7E23DDC1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DC6D-4C40-49EA-8C1B-D082E7BB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2FB4-C026-41BB-BB7C-2CE315A6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1726-D511-487C-86B8-0AA49317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D5C6-DE2C-48D2-A9D7-56C87D2C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3086-465F-4301-A28A-0871A5F8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F4C0-E727-4C87-81FB-0A3402D9B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5877-DDA2-453B-B5C3-AD8777396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3647-ACE2-4B20-8634-D1C0AEB1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4979-2C06-4B0B-B3EF-F8E2E1A8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2413-4A2D-4C98-B06A-168964D7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1A71-194E-4A21-87BA-8574E695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B7B6-1CB5-4BFD-81A3-AD8CD4A0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30F2-70CD-4FF8-9336-846E4459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8D93-8AEA-41FF-81E4-D6CBE224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Равнобедренный треугольник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E5BF980-6502-46BE-A613-AA40CE0973A9}" type="slidenum"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4f81b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Прямоугольник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c0504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Прямоугольник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Прямоугольник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Равнобедренный треугольник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4A5DE4B-AB2B-4FCD-93FE-0EBE54AD2631}" type="slidenum"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1f497d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a94643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640" y="3565440"/>
            <a:ext cx="6889320" cy="12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8000"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Линейные балансовые модели. Модель межотраслевого баланса (модель Леонтьева)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1f497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Задача о распределении ресурсов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Постановка задач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156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редприятие располагает ресурсами сырья, рабочей силы, оборудования, необходимыми для производства любого их 4-х видов продукции. Затраты ресурсов на изготовление единицы продукции каждого вида, прибыль, получаемая предприятием, а также запасы ресурсов указаны в таблице: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02" name="Таблица 3"/>
          <p:cNvGraphicFramePr/>
          <p:nvPr/>
        </p:nvGraphicFramePr>
        <p:xfrm>
          <a:off x="1643040" y="2714760"/>
          <a:ext cx="6240960" cy="3053160"/>
        </p:xfrm>
        <a:graphic>
          <a:graphicData uri="http://schemas.openxmlformats.org/drawingml/2006/table">
            <a:tbl>
              <a:tblPr/>
              <a:tblGrid>
                <a:gridCol w="1793160"/>
                <a:gridCol w="848160"/>
                <a:gridCol w="848160"/>
                <a:gridCol w="848160"/>
                <a:gridCol w="848160"/>
                <a:gridCol w="1054800"/>
              </a:tblGrid>
              <a:tr h="866160"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Виды ресур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Нормы расхода ресурсов на единицу прод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Запасы ресур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449640"/>
                          <a:tab algn="ctr" pos="2970000"/>
                          <a:tab algn="r" pos="5940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Сырье, 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449640"/>
                          <a:tab algn="ctr" pos="2970000"/>
                          <a:tab algn="r" pos="594036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Раб. сила,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чел.-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Оборудование, станко-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Прибыль на ед. прод., у.д.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</a:tbl>
          </a:graphicData>
        </a:graphic>
      </p:graphicFrame>
      <p:sp>
        <p:nvSpPr>
          <p:cNvPr id="103" name="PlaceHolder 3"/>
          <p:cNvSpPr>
            <a:spLocks noGrp="1"/>
          </p:cNvSpPr>
          <p:nvPr>
            <p:ph type="ftr" idx="10"/>
          </p:nvPr>
        </p:nvSpPr>
        <p:spPr>
          <a:xfrm>
            <a:off x="2286000" y="6357960"/>
            <a:ext cx="4530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Оптимальное распределение ресурсов  предприят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Содержимое 2"/>
          <p:cNvSpPr/>
          <p:nvPr/>
        </p:nvSpPr>
        <p:spPr>
          <a:xfrm>
            <a:off x="357120" y="5527080"/>
            <a:ext cx="8229240" cy="12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Определить, сколько продукции каждого вида надо выпускать, чтобы прибыль была максималь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012D-1EAC-419A-8D02-27850CACD6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Математическая модель задач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1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7000"/>
          </a:bodyPr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Переменные модели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1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2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3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4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Цель – максимизация прибыли, у.д.е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Z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=3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25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56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4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max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сырья, кг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5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60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рабочей силы, чел.-ч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22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3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400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оборудования, станко-ч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6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128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Условие неотрицательности переменных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gt;=0,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=1,4)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11"/>
          </p:nvPr>
        </p:nvSpPr>
        <p:spPr>
          <a:xfrm>
            <a:off x="2286000" y="6357960"/>
            <a:ext cx="4530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Оптимальное распределение ресурсов  предприят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424C-B3D4-44B3-AE87-A1FBFD09C8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908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Задача о назначениях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Содержательная постан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ftr" idx="1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5640" y="1700640"/>
            <a:ext cx="82292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имеются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тников, которых необходимо обеспечить работой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имеются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т (рабочих мест), которые должны быть выполнены (заняты)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вестно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‒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оэффициент эффективности, то есть как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ник выполняет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ю () работу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6EC0-6F1F-4DD5-8A0D-6185931EF0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rgbClr val="1f497d"/>
                </a:solidFill>
                <a:latin typeface="Times New Roman"/>
              </a:rPr>
              <a:t>Формальная постановка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1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ведем переменную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96280" indent="-2962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 не назначен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аботу;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96280" indent="-2962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 не назначен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аботу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CF58-86AA-4DF8-AA70-63791B6B1B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1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22560" indent="-32256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им образом математическая модель задачи имеет вид: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11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47EA-F3C0-4719-81BB-AC6387DB5C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uk-UA" sz="3200" spc="-1" strike="noStrike">
                <a:solidFill>
                  <a:srgbClr val="1f497d"/>
                </a:solidFill>
                <a:latin typeface="Bookman Old Style"/>
              </a:rPr>
              <a:t>Межотраслевая балансовая модель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1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Экономическая система состоит из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взаи­мосвязанных отраслей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‒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аловой продукт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обозначим через (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‒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валовой продукт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)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‒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конечный продукт 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отрасли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– затраты продукции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на производство продукции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отрасли. Условно чистую продукцию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обозна­чим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V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4DBB-280C-4DD4-AB8C-44610BCB1E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Анализ общей структуры межотраслевого баланс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1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rcRect l="27373" t="25866" r="24105" b="13228"/>
          <a:stretch/>
        </p:blipFill>
        <p:spPr>
          <a:xfrm>
            <a:off x="1115640" y="1155960"/>
            <a:ext cx="7200360" cy="510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B747-3E66-4FDA-BF7B-C277547BC5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7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5000"/>
          </a:bodyPr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еличина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может быть представлена следующим образом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  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еличина a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‒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коэффициент прямых материальных затрат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 Она показывает, затраты  i-й отрасли  на производство единицы продукции j-й отрасли. Коэффициенты a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считаются в межотраслевой модели постоянными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Тогда валовую продукцию можем записать в другом виде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Это соотношение можно записать в матричном виде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где X = (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) - вектор валовых выпусков;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Y = (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 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) - вектор конечного продукта;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A  - матрица коэффициентов прямых материальных затрат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1D53-A204-4E4A-932F-9F48809117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Начальна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Начальна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  <Words>379</Words>
  <Paragraphs>9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3T06:31:47Z</dcterms:created>
  <dc:creator>Лежнина М.В.</dc:creator>
  <dc:description/>
  <dc:language>en-US</dc:language>
  <cp:lastModifiedBy>АННА</cp:lastModifiedBy>
  <dcterms:modified xsi:type="dcterms:W3CDTF">2019-02-04T19:51:27Z</dcterms:modified>
  <cp:revision>22</cp:revision>
  <dc:subject/>
  <dc:title>Задача оптимального распределения ресурсов предприят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9</vt:r8>
  </property>
</Properties>
</file>