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C4AF-D068-472F-9277-CCA80A219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826B-EE3F-48C4-81C2-F63D5D67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D6F5-92C2-45EB-ABB2-277D92735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CEAF-6952-409B-88EE-BAE9A8A45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EAB0-A89E-4077-8209-87ACDF24E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4104-E312-4BAE-A1B2-D6BD65E2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B58E-8CC4-4822-B52C-546C515E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EC36-24E1-492C-ACD7-CB2AB19B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EB7C-358F-4B4F-8CD5-D30EC1E7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9EA1-EAB5-4AAD-98F0-626D33E2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6B04-ED00-49D1-89C2-E86410BE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7278-3B6B-45CB-A31D-CC2DED38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AC15-7E63-4B6F-A90E-E4AD5D5E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73BF-3B30-43FB-A61C-0ED16CC6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29110-40F9-468C-A9C6-2684D798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6AD0-196E-44B4-865A-9300879CE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BEF2-0EB9-4E25-8498-CEC911AE1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AF5D-2FDD-4F16-A0E7-9B96E8AF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28D7-B2D5-4F8F-B228-BAC810DB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5974-5A7D-4C73-BBFA-673C2E13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83F3-BED0-4362-82A8-F981DB9D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1E74-DF58-4B16-B0C5-9933F14D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2B35-5546-46EA-BD6D-6864BA2C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4586-CC01-4FF0-8CA6-213938F2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8A49-60AD-44D0-8829-5C5B37F362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ED66-015A-4E04-AF8A-308DC86C3F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Предмет риторики</a:t>
            </a: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858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Что такое риторик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стория изучения ритор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Основные труды по риторике в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Разделы рито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27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первых этапах активно использовались переводные риторики, которые не всегда коррелировали с российскими реалиями и русской ментальност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ой популярностью пользовались в начале 90-х годов произвед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йла Корнег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имеющие «житейский» риторический характер, отражающие суть американского мировоззрения - в основе которого лежи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иторика воздействия и борьб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ременные работы по теории и практике ритори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.И. Аннушкина, А.А. Волкова, А.К. Михальской, И.А. Стерни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ападе риторика стала востребована гораздо раньше, чем в России (середина 20 века), что связано с развитием теории информации, создавшей потребность в единой платформе гуманитарного зн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ес к живому общению также способствовал возрождению риторики, точнее, неоритор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начение риторики указывае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лан Бар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французский  литературовед, структуралис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Риторика – это впечатляющая попытка целой культуры проанализировать и упорядочить формы речи, сделать мир языка понятным для ум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Для чего нужна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ый человек проводит в устном общении более 65% своего рабочего времени. По данным американских ученых, расход чистого времени на беседы у среднего жителя Земли составляет 2,5 года. Это значит, что человек наговаривает за свою жизнь  около 400 томов, объемом по одной тысяче стран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 eloguen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человек говорящ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мет современной риторики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общие закономерности речевого поведения, действующие в различных ситуациях общения, сферах деятельности и практической возможности использования их для того, чтобы сделать речь эффектив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4. Разделы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учебный предмет риторика состоит из четырех частей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рия, теория, практика и тех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наука классическая риторика содержит пять раздел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вен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ахождение материала для последующего выступления; изобретение ре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спози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расположение материала в наилучшем для конкретной речи порядке, соблюдение логичности и последовательности в изложении тези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оку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илистическое оформление речи, подбор средств выра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омин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ремление заучить текст выступления наизу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изнес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чи и установление контакта с аудитор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4. Разделы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 как риторика интересуется речью устн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ответственно, основной раздел - это общепринят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ория и практика публичной речи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обходимым разделом являетс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этнориторик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торая  изучает  национально-культурную специфик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едения люд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астные ритори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учают законы эффективной реч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йствующие в одной из тех сфер профессиональн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ятель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.Что такое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ш век одна из главных проблем – это проблем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заимопоним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жду людьми и как следствие  - необходимость риторики, так как она изучает теорию, мастерство и искусство краснореч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античности выразил свое преклонение перед словом в изрече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men est ome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 - «Имя есть судьб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вопро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Что такое риторика?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временные энциклопедические словари отвечают примерно так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Риторика – теория ораторского искусства, теория красноречия, наука об умении говорить красиво, хорошо, так, как нужно в данном случае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.Что такое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ъединяет в себе все признаки науки, поскольку в ней есть точно выписанные правила, которые должен соблюдать всякий, кто хотел бы освоить ее азы. Но в ней сосредоточены и основы подлинного искусства, поскольку никакие правила не могут гарантировать успешный результат для начинающего орато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как учебный предме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личается от многих других предметов тем, что владение большинством из них связано со знаниями, а риторика – еще и с умениями. Овладение практикой русского красноречия построено на знаниях, умениях, навыках, в частности на длительной практике выступлений в различных аудитори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– филологическая дисципли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объектом которой являются теория красноречия, ораторское искусство, способы построения выразительной речи во всех областях речевой деятельности (то есть в разных жанрах письменной и устной речи). Риторика близко соприкасается с культурой реч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а реч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представляет собой такой выбор и организацию языковых средств, которые в определенной ситуации общения при соблюдении современных языковых норм и этики общения позволяют обеспечить наибольший эффект в достижении поставленных коммуникативных зада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схождение слов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риторик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вязано с греческим глаголом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heo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говорю, лью, те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дное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heto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ритор, ора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ия красноречия возникает во второй полови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до н.э. Первые попытки придать ораторскому искусству научную основу связаны с деятельностью софис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Искусство речи убеждает людей много выше всех искусств, так как оно делает всех своими рабами по доброй воле, а не по принуждению»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орги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окра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работал основные принципы композиции ораторского произвед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введение (цель – привлечь внимание слушателей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изложение предмета выступл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опровержение доводов противника и аргументация собственны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заключение, подведение итог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шиной ораторской практики в Греции стала деятельнос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мосфен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«совершенного оратор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итическое красноречие ярче всего проявилось в его продолжительной и упорной борьбе против царя Македонии Филипп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авторитетный античный риторический трактат, сохранивший свое значение до сих пор  и в большей степени определивший характер риторической культуры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Риторика»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истоте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до н.э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тор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это наука и мастерство доказательной речи, а точнее, наука об общих способах доказательства вероятного, возможного, правдоподобн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анных на четкой системе логических знаков, мастерство и умение находить эти способы и пользоваться логикой доказа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шина римского красноречия – теоретические изыскания и ораторская практик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церо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церон определяет обязанности орат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, что сказа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инвен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енное расположить по порядк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диспози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дать ему словесную форм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элоку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вердит все это в памя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мемориа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нес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акцио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й риторикой считается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Риторика Макария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620 г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яющая собой перевод латинской рито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липпа Меланхт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ую роль в становление риторики России сыграл Ломоносов М.В.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Краткое руководство к красноречию» (1748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иторика – это искусство убеждения. Убеждение возможно там, где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ния». Понимание М.В. Ломоносова соответствует античной трад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е влияние на развитие риторической мысли в Ро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азал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Ф. Кошан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Его труд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бщая риторика» (1829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не утратил своей актуальности и сегодня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иторика, имея предметом мысль, показыва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откуда они почерпаются (изобрет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как приводятся в порядок (располож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как излагаются (выражение мыслей)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27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ытки возродить риторику относятся к 20-м годам ХХ столет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лософо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Г. Шпетом (1879-1937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были высказаны блестящие идеи, касающиеся методов и риторических исследований, предмета и объекта ритор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трудов советского  периода стоит назвать исследова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.В. Виноградова (1929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 художественной прозе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асть  «Поэтика и риторик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гие годы риторика как наука и учебный предмет были выведены из научного оборота и учебного процесса, поскольку в тоталитарном государстве  развитие риторики невозмож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ес к риторике возник в период перестройки (80-е годы 20 век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08-26T09:35:5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