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E7E-1252-4076-801F-2062A565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749D-4962-4D2A-9939-B5E292D1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86E6-16E6-4636-9C7E-462FA706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D646-9F40-4FAB-B97B-8C128D72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6B82-9E24-4F5C-8F2D-72F369BC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D5B5-54F7-4267-B7CE-CC48729C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995E-A63B-4601-ABDA-1AC9C97B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DF14-901A-469A-BBBB-04433D37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E759-14D5-42EE-810C-E3DBB004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85B0-D37C-45B5-B101-093E5A94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C745-93AF-4F19-B56E-00665637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EE75-7423-4599-A96F-07AF7D14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A3EB-4024-4ACC-9A12-03BE4E2A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1D19-AF0C-47D8-8DA4-41E6EE6E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053D-55DC-47C2-AF90-086385D5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16FC-24F8-40BA-95A5-6603725B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11F6-8DB1-49FA-8609-6457CE32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1E1B-A781-47B3-8B88-F56D5FDE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7F04-F98C-48C2-93DF-C6715073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6D36-7D1A-409D-8DB3-2D880D79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FB81-F8ED-4E1D-B79B-11315E70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E6D9-C787-4816-882D-BDA7EAD0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7960-6601-4BEB-8A69-4F7DFDE9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401B-6E90-4100-8F42-8D3BB0FA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7726-F450-4126-87F2-2C0D580D34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6252-E724-4C74-96C6-AFBF1102B5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Предмет риторики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Что такое ритор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стория изучения рито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сновные труды по риторике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делы ри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вых этапах активно использовались переводные риторики, которые не всегда коррелировали с российскими реалиями и русской мента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й популярностью пользовались в начале 90-х годов произ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ла Корне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меющие «житейский» риторический характер, отражающие суть американского мировоззрения - в основе которого леж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торика воздействия и борь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работы по теории и практике ритор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И. Аннушкина, А.А. Волкова, А.К. Михальской, И.А. Стерн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е риторика стала востребована гораздо раньше, чем в России (середина 20 века), что связано с развитием теории информации, создавшей потребность в единой платформе гуманитарного 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 к живому общению также способствовал возрождению риторики, точнее, неорито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начение риторики указыва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ан Бар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французский  литературовед, структуралис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Риторика – это впечатляющая попытка целой культуры проанализировать и упорядочить формы речи, сделать мир языка понятным для ум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Для чего нужна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й человек проводит в устном общении более 65% своего рабочего времени. По данным американских ученых, расход чистого времени на беседы у среднего жителя Земли составляет 2,5 года. Это значит, что человек наговаривает за свою жизнь  около 400 томов, объемом по одной тысяче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 elogue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человек говор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современной риторик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бщие закономерности речевого поведения, действующие в различных ситуациях общения, сферах деятельности и практической возможности использования их для того, чтобы сделать речь эффе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учебный предмет риторика состоит из четырех частей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, теория, практика и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ука классическая риторика содержит пять разде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е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хождение материала для последующего выступления; изобретен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ози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оложение материала в наилучшем для конкретной речи порядке, соблюдение логичности и последовательности в изложении тези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оку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илистическое оформление речи, подбор средств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ремление заучить текст выступления наизу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чи и установление контакта с ауди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риторика интересуется речью уст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енно, основной раздел - это общепринят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ия и практика публичной реч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ым разделом явля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норитори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 изучает  национально-культурную специфи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едения люд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ые ритор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учают законы эффективной реч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ующие в одной из тех сфер профессиона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 век одна из главных проблем – это пробле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поним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жду людьми и как следствие  - необходимость риторики, так как она изучает теорию, мастерство и искусство краснореч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античности выразил свое преклонение перед словом в изре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en est ome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- «Имя есть судьб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то такое риторика?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ые энциклопедические словари отвечают примерно т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иторика – теория ораторского искусства, теория красноречия, наука об умении говорить красиво, хорошо, так, как нужно в данном случа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ъединяет в себе все признаки науки, поскольку в ней есть точно выписанные правила, которые должен соблюдать всякий, кто хотел бы освоить ее азы. Но в ней сосредоточены и основы подлинного искусства, поскольку никакие правила не могут гарантировать успешный результат для начинающего орат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как учебный предм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ается от многих других предметов тем, что владение большинством из них связано со знаниями, а риторика – еще и с умениями. Овладение практикой русского красноречия построено на знаниях, умениях, навыках, в частности на длительной практике выступлений в различных аудитор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– филологическая дисципл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бъектом которой являются теория красноречия, ораторское искусство, способы построения выразительной речи во всех областях речевой деятельности (то есть в разных жанрах письменной и устной речи). Риторика близко соприкасается с культур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ре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едставляет собой такой выбор и организацию языковых средств, которые в определенной ситуации общения при соблюдении современных языковых норм и этики общения позволяют обеспечить наибольший эффект в достижении поставленных коммуникатив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ждение сло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итори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язано с греческим глаголом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оворю, лью, т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о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итор, ор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красноречия возникает во второй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 Первые попытки придать ораторскому искусству научную основу связаны с деятельностью соф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Искусство речи убеждает людей много выше всех искусств, так как оно делает всех своими рабами по доброй воле, а не по принуждению»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г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окр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ботал основные принципы композиции ораторского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ведение (цель – привлечь внимание слушателей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изложение предмета выступ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ровержение доводов противника и аргументация собствен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заключение, подведение ит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ой ораторской практики в Греции стала деятельно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сф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совершенного орато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ое красноречие ярче всего проявилось в его продолжительной и упорной борьбе против царя Македонии Филип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авторитетный античный риторический трактат, сохранивший свое значение до сих пор  и в большей степени определивший характер риторической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иторика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сто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наука и мастерство доказательной речи, а точнее, наука об общих способах доказательства вероятного, возможного, правдоподоб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ных на четкой системе логических знаков, мастерство и умение находить эти способы и пользоваться логикой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 римского красноречия – теоретические изыскания и ораторская практ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цер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церон определяет обязанности ор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, что сказ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вен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ое расположить по поря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испози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ать ему словесную фор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элоку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т все это в памя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мемори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н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кци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риторикой считаетс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иторика Макар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620 г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ющая собой перевод латинской ри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ппа Меланх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ую роль в становление риторики России сыграл Ломоносов М.В.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раткое руководство к красноречию» (174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 – это искусство убеждения. Убеждение возможно там, гд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я». Понимание М.В. Ломоносова соответствует античной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на развитие риторической мысли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Ф. Коша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го тру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ая риторика» (182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е утратил своей актуальности и сегодн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, имея предметом мысль, показыв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ткуда они почерпаются (изобрет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ак приводятся в порядок (располож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к излагаются (выражение мыслей)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ытки возродить риторику относятся к 20-м годам ХХ столе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ософ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Г. Шпетом (1879-1937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были высказаны блестящие идеи, касающиеся методов и риторических исследований, предмета и объекта рито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рудов советского  периода стоит назвать исслед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Виноградова (1929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художественной прозе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ь  «Поэтика и ритори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ие годы риторика как наука и учебный предмет были выведены из научного оборота и учебного процесса, поскольку в тоталитарном государстве  развитие риторики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к риторике возник в период перестройки (80-е годы 20 ве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08-26T09:35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