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A95-CFEF-4F1C-A7AC-1FF0916D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82B-0E62-4C14-904B-6C8C81E5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CD6-2799-4211-AABD-A04BFC74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85F-2CDC-423A-A23B-6A80FF8C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E5E2-8201-43AE-850E-9FE1E729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0C40-085F-4005-9554-8FA27E61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D09F-C65E-44A7-8AFE-350616C9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9116-7FA0-413A-9E2C-BAE8AAC8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C410-8DD3-487F-91C9-ADBCC310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BBD8-E792-4515-99E4-BB4E0FD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33B0-4670-475A-BBAA-069C02B2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129-814D-449E-9C8A-FE50CDDB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AAFA-ECA8-4E9E-8139-7EA529FE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3713-FD09-4676-9010-FD41329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6D37-EA82-4824-A69B-A0D03801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8544-4CC2-4E70-AA71-0D30C77E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7E75-0E57-4EC9-8E5D-4CDC9731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896-C73B-47B3-B714-82A58D0C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5A0-40B0-4DCE-BF8E-6A1EC726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D1C-BDC4-4274-9905-8C86B40F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90D-D0DD-49C3-B039-6240D79D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478-2E7B-432F-9CD7-3229587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BCF-D2DB-445D-AD97-84C04C7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153-662C-4C9F-8266-710118D9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E367-C5BF-4994-A66C-BFC6424E23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26B2-BD9D-475F-986D-C3D9024007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Предмет риторики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Что такое ритори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стория изучения ритор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сновные труды по риторике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Разделы рито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вых этапах активно использовались переводные риторики, которые не всегда коррелировали с российскими реалиями и русской ментально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й популярностью пользовались в начале 90-х годов произ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йла Корне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имеющие «житейский» риторический характер, отражающие суть американского мировоззрения - в основе которого леж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торика воздействия и борьб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ые работы по теории и практике ритор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.И. Аннушкина, А.А. Волкова, А.К. Михальской, И.А. Стерн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ападе риторика стала востребована гораздо раньше, чем в России (середина 20 века), что связано с развитием теории информации, создавшей потребность в единой платформе гуманитарного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 к живому общению также способствовал возрождению риторики, точнее, неоритор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начение риторики указывае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ан Бар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нцузский  литературовед, структуралис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Риторика – это впечатляющая попытка целой культуры проанализировать и упорядочить формы речи, сделать мир языка понятным для ум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Для чего нужна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й человек проводит в устном общении более 65% своего рабочего времени. По данным американских ученых, расход чистого времени на беседы у среднего жителя Земли составляет 2,5 года. Это значит, что человек наговаривает за свою жизнь  около 400 томов, объемом по одной тысяче стран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 eloguen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человек говорящ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современной риторики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бщие закономерности речевого поведения, действующие в различных ситуациях общения, сферах деятельности и практической возможности использования их для того, чтобы сделать речь эффектив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чебный предмет риторика состоит из четырех частей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, теория, практика и тех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ука классическая риторика содержит пять разде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ен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хождение материала для последующего выступления; изобретен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пози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оложение материала в наилучшем для конкретной речи порядке, соблюдение логичности и последовательности в изложении тези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оку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илистическое оформление речи, подбор средств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ремление заучить текст выступления наизу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нес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чи и установление контакта с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4. Разделы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 как риторика интересуется речью устн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ответственно, основной раздел - это общепринят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ия и практика публичной речи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ым разделом явля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нориторик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орая  изучает  национально-культурную специфик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едения люд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ные ритори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учают законы эффективной реч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йствующие в одной из тех сфер профессиональн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 век одна из главных проблем – это пробле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поним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жду людьми и как следствие  - необходимость риторики, так как она изучает теорию, мастерство и искусство краснореч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античности выразил свое преклонение перед словом в изреч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men est ome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- «Имя есть судьб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то такое риторика?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ые энциклопедические словари отвечают примерно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Риторика – теория ораторского искусства, теория красноречия, наука об умении говорить красиво, хорошо, так, как нужно в данном случа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.Что такое ритори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ъединяет в себе все признаки науки, поскольку в ней есть точно выписанные правила, которые должен соблюдать всякий, кто хотел бы освоить ее азы. Но в ней сосредоточены и основы подлинного искусства, поскольку никакие правила не могут гарантировать успешный результат для начинающего орат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как учебный предм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ичается от многих других предметов тем, что владение большинством из них связано со знаниями, а риторика – еще и с умениями. Овладение практикой русского красноречия построено на знаниях, умениях, навыках, в частности на длительной практике выступлений в различных аудитор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иторика – филологическая дисципли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объектом которой являются теория красноречия, ораторское искусство, способы построения выразительной речи во всех областях речевой деятельности (то есть в разных жанрах письменной и устной речи). Риторика близко соприкасается с культурой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ре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едставляет собой такой выбор и организацию языковых средств, которые в определенной ситуации общения при соблюдении современных языковых норм и этики общения позволяют обеспечить наибольший эффект в достижении поставленных коммуникативных за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ждение слов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иторик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вязано с греческим глаголом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говорю, лью, те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ое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he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итор, ор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ория красноречия возникает во второй полови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 Первые попытки придать ораторскому искусству научную основу связаны с деятельностью софис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Искусство речи убеждает людей много выше всех искусств, так как оно делает всех своими рабами по доброй воле, а не по принуждению»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г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окр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ботал основные принципы композиции ораторского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ведение (цель – привлечь внимание слушателе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зложение предмета выступле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опровержение доводов противника и аргументация собстве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заключение, подведение ит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ой ораторской практики в Греции стала деятельнос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мосфе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совершенного орато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ое красноречие ярче всего проявилось в его продолжительной и упорной борьбе против царя Македонии Филип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авторитетный античный риторический трактат, сохранивший свое значение до сих пор  и в большей степени определивший характер риторической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иторика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т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тор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наука и мастерство доказательной речи, а точнее, наука об общих способах доказательства вероятного, возможного, правдоподобно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ных на четкой системе логических знаков, мастерство и умение находить эти способы и пользоваться логикой доказ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2. История изучения ритор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 римского красноречия – теоретические изыскания и ораторская практик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це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церон определяет обязанности ора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, что сказ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нвен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ое расположить по порядк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диспози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дать ему словесную фор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элокуц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вердит все это в памя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мемори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нес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кци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й риторикой считается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иторика Макар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620 г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ющая собой перевод латинской ритор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ппа Меланх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ую роль в становление риторики России сыграл Ломоносов М.В.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раткое руководство к красноречию» (1748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 – это искусство убеждения. Убеждение возможно там, гд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ния». Понимание М.В. Ломоносова соответствует античной 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влияние на развитие риторической мысли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Ф. Коша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го тру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щая риторика» (1829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е утратил своей актуальности и сегодня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иторика, имея предметом мысль, показыв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ткуда они почерпаются (изобрет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как приводятся в порядок (расположени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как излагаются (выражение мыслей)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7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труды по риторике в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ытки возродить риторику относятся к 20-м годам ХХ столе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ософ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Г. Шпетом (1879-1937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были высказаны блестящие идеи, касающиеся методов и риторических исследований, предмета и объекта рито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рудов советского  периода стоит назвать исследова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В. Виноградова (1929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художественной прозе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асть  «Поэтика и ритори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ие годы риторика как наука и учебный предмет были выведены из научного оборота и учебного процесса, поскольку в тоталитарном государстве  развитие риторики невозмож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 к риторике возник в период перестройки (80-е годы 20 век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r</cp:lastModifiedBy>
  <dcterms:modified xsi:type="dcterms:W3CDTF">2009-08-26T09:35:5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