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2826E-AE4D-4E7E-B101-C3586ED2E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D0E72-07E4-4AF0-AF6A-35BD272AF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0A70F-F51E-4F97-95FD-2BBB88C52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45395-9751-41AE-9E34-E58023A34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0A9C4-4529-4D19-AA68-83A741778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58233-AF40-46FF-B550-FE092E44F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1496D-84C1-4354-9A2A-BABC8A686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6AE91-A9D6-4998-8947-BB8B31358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04161-2249-4E67-9AB0-6BF634717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66B0A-5E30-4F14-B37E-6317EA2E0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C1406-C8C1-4BCB-BDDB-084F4E16E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4D949-5A0E-4D9B-A35E-46796D1B1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195D8-D0CE-4C1C-8C40-8FA23929B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F3675-1F6B-4A53-8CFA-B495287B8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0C6E9-7141-49E3-AD59-F6A806B45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49078-587A-4905-B399-8E9D822DD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222E7-857F-432C-ACA9-2521904B3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FA0A5-B280-484D-A86C-67FE4C6E1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71F63-210E-4FD6-A920-0474B3C6F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08A01-7036-4D3A-95AE-8FAF3EB28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94188-D305-4FBF-A912-01B4A38F9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A001C-F951-42E0-B2C1-5F65ED773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23BC1-FD72-4F21-82E5-39DB1FCDC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1565E-6A83-4155-984B-2EC914F15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63845-7F31-4C63-91BB-75B6D49C568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3586F-C033-47E4-8A1F-4CE9E117A81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33"/>
                </a:solidFill>
                <a:latin typeface="Times New Roman"/>
              </a:rPr>
              <a:t>Предмет риторики</a:t>
            </a: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09880"/>
            <a:ext cx="6858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Что такое риторика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История изучения риторик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Основные труды по риторике в Росс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Разделы ритори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3160" y="2775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Основные труды по риторике в России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8001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 первых этапах активно использовались переводные риторики, которые не всегда коррелировали с российскими реалиями и русской ментальность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собой популярностью пользовались в начале 90-х годов произведени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ейла Корнеги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имеющие «житейский» риторический характер, отражающие суть американского мировоззрения - в основе которого лежит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иторика воздействия и борьбы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овременные работы по теории и практике риторик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.И. Аннушкина, А.А. Волкова, А.К. Михальской, И.А. Стернина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и др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 Западе риторика стала востребована гораздо раньше, чем в России (середина 20 века), что связано с развитием теории информации, создавшей потребность в единой платформе гуманитарного знани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нтерес к живому общению также способствовал возрождению риторики, точнее, неориторик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 значение риторики указывает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олан Барт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– французский  литературовед, структуралист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«Риторика – это впечатляющая попытка целой культуры проанализировать и упорядочить формы речи, сделать мир языка понятным для ума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Для чего нужна риторика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временный человек проводит в устном общении более 65% своего рабочего времени. По данным американских ученых, расход чистого времени на беседы у среднего жителя Земли составляет 2,5 года. Это значит, что человек наговаривает за свою жизнь  около 400 томов, объемом по одной тысяче страниц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mo eloguens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– человек говорящ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едмет современной риторики -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то общие закономерности речевого поведения, действующие в различных ситуациях общения, сферах деятельности и практической возможности использования их для того, чтобы сделать речь эффективно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4. Разделы риторики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к учебный предмет риторика состоит из четырех частей: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стория, теория, практика и техни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к наука классическая риторика содержит пять разделов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нвенц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нахождение материала для последующего выступления; изобретение реч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испозиц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расположение материала в наилучшем для конкретной речи порядке, соблюдение логичности и последовательности в изложении тезис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элокуц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стилистическое оформление речи, подбор средств выраже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поминани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стремление заучить текст выступления наизусть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изнесени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речи и установление контакта с аудитори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4. Разделы риторики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773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Так как риторика интересуется речью устно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оответственно, основной раздел - это общепринята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теория и практика публичной речи.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еобходимым разделом является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этнориторика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оторая  изучает  национально-культурную специфику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ведения людей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Частные риторики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изучают законы эффективной речи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ействующие в одной из тех сфер профессиональной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еятельности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1</a:t>
            </a:r>
            <a:r>
              <a:rPr b="1" lang="ru-RU" sz="4200" spc="-1" strike="noStrike">
                <a:solidFill>
                  <a:srgbClr val="330033"/>
                </a:solidFill>
                <a:latin typeface="Times New Roman"/>
              </a:rPr>
              <a:t>.Что такое риторика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наш век одна из главных проблем – это проблема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заимопониман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между людьми и как следствие  - необходимость риторики, так как она изучает теорию, мастерство и искусство краснореч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еловек античности выразил свое преклонение перед словом в изречени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men est omen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» - «Имя есть судьба»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вопрос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Что такое риторика?»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современные энциклопедические словари отвечают примерно так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«Риторика – теория ораторского искусства, теория красноречия, наука об умении говорить красиво, хорошо, так, как нужно в данном случае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1</a:t>
            </a:r>
            <a:r>
              <a:rPr b="1" lang="ru-RU" sz="4200" spc="-1" strike="noStrike">
                <a:solidFill>
                  <a:srgbClr val="330033"/>
                </a:solidFill>
                <a:latin typeface="Times New Roman"/>
              </a:rPr>
              <a:t>.Что такое риторика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Риторика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объединяет в себе все признаки науки, поскольку в ней есть точно выписанные правила, которые должен соблюдать всякий, кто хотел бы освоить ее азы. Но в ней сосредоточены и основы подлинного искусства, поскольку никакие правила не могут гарантировать успешный результат для начинающего оратор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Риторика как учебный предмет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отличается от многих других предметов тем, что владение большинством из них связано со знаниями, а риторика – еще и с умениями. Овладение практикой русского красноречия построено на знаниях, умениях, навыках, в частности на длительной практике выступлений в различных аудиториях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Риторика – филологическая дисциплин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объектом которой являются теория красноречия, ораторское искусство, способы построения выразительной речи во всех областях речевой деятельности (то есть в разных жанрах письменной и устной речи). Риторика близко соприкасается с культурой реч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Культура реч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представляет собой такой выбор и организацию языковых средств, которые в определенной ситуации общения при соблюдении современных языковых норм и этики общения позволяют обеспечить наибольший эффект в достижении поставленных коммуникативных задач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2. История изучения риторики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80010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исхождение слова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риторика»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связано с греческим глаголом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heo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– говорю, лью, тек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изводное –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hetor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– ритор, орато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ория красноречия возникает во второй половин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. до н.э. Первые попытки придать ораторскому искусству научную основу связаны с деятельностью софист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«Искусство речи убеждает людей много выше всех искусств, так как оно делает всех своими рабами по доброй воле, а не по принуждению» (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Горгий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2. История изучения риторики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80773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сократ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ыработал основные принципы композиции ораторского произведения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) введение (цель – привлечь внимание слушателей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) изложение предмета выступления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) опровержение доводов противника и аргументация собственных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) заключение, подведение итог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ершиной ораторской практики в Греции стала деятельность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емосфен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«совершенного оратора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литическое красноречие ярче всего проявилось в его продолжительной и упорной борьбе против царя Македонии Филипп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2. История изучения риторики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иболее авторитетный античный риторический трактат, сохранивший свое значение до сих пор  и в большей степени определивший характер риторической культуры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Риторика»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ристотел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V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. до н.э.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иторик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это наука и мастерство доказательной речи, а точнее, наука об общих способах доказательства вероятного, возможного, правдоподобного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нованных на четкой системе логических знаков, мастерство и умение находить эти способы и пользоваться логикой доказатель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2. История изучения риторики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ершина римского красноречия – теоретические изыскания и ораторская практика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Цицерон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Цицерон определяет обязанности оратор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йти, что сказать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инвенция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йденное расположить по порядку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(диспозиция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дать ему словесную форму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элокуция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твердит все это в памяти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мемориа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изнести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акцио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Основные труды по риторике в России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81536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вой риторикой считается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Риторика Макария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1620 г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дставляющая собой перевод латинской ритор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илиппа Меланхто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ольшую роль в становление риторики России сыграл Ломоносов М.В. 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го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Краткое руководство к красноречию» (1748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Риторика – это искусство убеждения. Убеждение возможно там, где е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нения». Понимание М.В. Ломоносова соответствует античной тради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ольшое влияние на развитие риторической мысли в Росс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казал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.Ф. Кошански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Его труд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Общая риторика» (1829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не утратил своей актуальности и сегодня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Риторика, имея предметом мысль, показывает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) откуда они почерпаются (изобретение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) как приводятся в порядок (расположение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) как излагаются (выражение мыслей)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3160" y="2775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Основные труды по риторике в России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пытки возродить риторику относятся к 20-м годам ХХ столет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илософом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.Г. Шпетом (1879-1937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были высказаны блестящие идеи, касающиеся методов и риторических исследований, предмета и объекта ритори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 трудов советского  периода стоит назвать исследование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.В. Виноградова (1929)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О художественной прозе»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часть  «Поэтика и риторика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лгие годы риторика как наука и учебный предмет были выведены из научного оборота и учебного процесса, поскольку в тоталитарном государстве  развитие риторики невозможно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терес к риторике возник в период перестройки (80-е годы 20 века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r</cp:lastModifiedBy>
  <dcterms:modified xsi:type="dcterms:W3CDTF">2009-08-26T09:35:59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