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D40A-388E-49E0-B1C4-AAFEB6A56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050C-B5C4-4CC1-A9A5-EBBB2BDBF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D079-CA05-494B-810B-3FD3C983A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EEFE-F98A-4798-87BA-44CECFDAF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11AC5-432A-44DF-A783-FEF319D88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04B05-1677-4908-B1E6-CAD4C76D0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F11C3-64D6-4C6A-A555-83C4C6548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AB0C2-0CC3-450F-8CA7-548C26336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2B145-45EB-43A9-AEEE-CCBD5A3DA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4AB67-E3AD-4779-8D73-AD1475552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15F6D-088C-4B90-B811-DCFBAC0C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D649-D8DF-48D8-AC3C-9FDF72389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6C1C7-F71A-4506-8D53-CCEC49D4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D395F-A292-4165-9ED6-33366690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86E19-3257-4CDD-B113-39329904F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BCC5D-DCB6-447F-9030-1E48F1179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4EA99-EB7A-4AE0-9334-97B3415CF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E406-D32A-495C-AA33-D7B859D4B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BB4B-D958-47F5-ABBF-A2F28D8FA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ADDC-3AF0-401A-BF04-7567C3336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D793-3C3C-4B5C-B354-C13F58674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F8E4-05AA-4B46-9BCC-B8E7E6E9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4FB6-CEA9-40FA-A338-954BA7C3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AC6E-70EB-4EB8-8DB7-1DE5A485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DAA0E-DC8B-4619-880F-C160B812CC3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90270-F1C6-4FE1-8A1E-CBC3F278346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c9900"/>
                </a:solidFill>
                <a:latin typeface="Garamond"/>
              </a:rPr>
              <a:t>Риторическое построение.</a:t>
            </a:r>
            <a:br>
              <a:rPr sz="4300"/>
            </a:br>
            <a:r>
              <a:rPr b="1" lang="ru-RU" sz="4300" spc="-1" strike="noStrike">
                <a:solidFill>
                  <a:srgbClr val="cc9900"/>
                </a:solidFill>
                <a:latin typeface="Garamond"/>
              </a:rPr>
              <a:t>Элокуция</a:t>
            </a:r>
            <a:endParaRPr b="0" lang="en-US" sz="43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Качества стил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Выбор слов и построение фразы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Изобразительно-выразительные средств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238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ропы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основаны на переносе значения, в результате чего происходит совмещение (сдваивание) семантики в одной и той же словесной форм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новная функция тропов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образная характеристика. Объединение осуществляется по признаку сходства, противоположности, смежности, количеств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иды тропов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ловесные: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етафоры, олицетворение, метонимия, гипербола, перифраз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писательные: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аллегория, ирония, парадокс, оксюморон, паремия и д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ипербола -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чрезмерное преувеличение. Встречается в разных типах и стилях речи: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Умира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от голода. Я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мертельно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устал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то любит Вас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от очень глуп конечно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о кто не любит Вас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от во сто крат глупей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(Пушкин);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типод гиперболы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– литот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преуменьшение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Ваш шпиц,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прелестный шпиц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не более наперстка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 гладил все его; как шелковая шерстка (Грибоедов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тафора -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потребление слов и выражений в переносном значен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стина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цветок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, не растущий на поле бран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Шелковые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ресниц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новидностью метафоры является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лицетворение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наделение неодушевленных предметов признаками и свойствами одушевленности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цены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кусаютс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«Тефаль»  всегда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думает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о нас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ерифраз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гр. пересказ) - описательный оборот, употребляемый вместо какого-либо слова или словосочета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пония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рана восходящего солнц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анкт-Петербург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город на Неве;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аунти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райское наслажде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тонимия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еренос по смежности (содержимое вместо содержащего, часть вместо целого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 три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арелки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съел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Эй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орода!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А как проехать к Плюшкину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рония –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замечание, которое содержит в себе скрытое утверждение, противоположное его буквальному смысл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ткуда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умная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редешь ты голов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?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«Посмотрите,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каков Самсон!»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о слабом хилом человеке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«Все ароматы Франции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 одном флаконе»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о неприятном запахе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мер самоирони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Италия! Еще одна страна,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где я не нужен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Иртеньев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Часто ирония осуществляется посредством парадокса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радок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от греч. paradoxos – неожиданный, странный) - утверждение, изречение, противоречащее на первый взгляд здравому смыслу, но таящее в себе более глубокое значение,  которое взято за основ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Лучше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равительство то, которое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мень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сего правит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Джефферсон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 откладывай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а завтра то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то можно сделать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послезавтра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Оскар Уайльд);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Ти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едешь –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даль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удешь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посл.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екоторые парадоксы активно используются журналистами, ораторам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вои взгляды мне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енавистны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о всю жизнь я буду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бороться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за твое право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отстаивать их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Вольтер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Аллегори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– это распространенная метафора, иносказание. В нескольких словах, выражениях или целом рассказе рисуется картина намека на  какое-то событие или человека, например, А. Пушкин «Телега жизни»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Хоть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яжело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одча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рем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Телег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оду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легк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Ямщик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лихо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едо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рем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езет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лезет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блучка…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ксюморон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соединение слов с противоположным значением в словосочетание, которое в результате принимает новое значение, например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Жар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олодн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исел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А. Блок).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Чужби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один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моя!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М. Цветаева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Покорный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энтузиаз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олпы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П. Чаадаев).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Горизонты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вертикальны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В. Соловьев)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ремия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родовое обозначение пословиц и поговорок: народный речевой жанр малой формы, характеризующийся устойчивостью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словичное выражение, имеющее намек, например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казан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ловц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еребря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казан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золот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обрая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же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о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бережет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удая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укаво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астрясет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ын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мног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грамотн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мал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ыт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Классификации фигур речи многочисленны, а количество фигур – необозрим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Фигуры речи в риторике можно разделить на три большие группы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убавл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в основе пропуск какого-либо значимого компонента высказыва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Эллипсис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пропуск какого-либо члена предложения (чаще всего сказуемого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дин человек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ел хлеб с маслом,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другой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– с удовольстви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прибавл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-  в основе повтор отдельных компонентов или целого высказывания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Анафора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– повтор слов или выражений  в начале каждого отрезка реч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Клянусь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я первым днем творенья,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Клянусь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его последним днем…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М.Ю. Лермонтов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размещ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в основе расположение компонентов в необычной последовательност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Инверс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любое нарушение естественного прямого порядка слов.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Настало лето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холодное, дождливо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Быстро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н вернулс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лассификация А.А. Волков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осмыс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бразующие смысловое и стилистическое единство высказывания как завершенной мысл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выде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формляющие фразу или отдельное положение реч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диалогизм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посредством которых организуется композиционно значимый ход мысл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дельно рассматриваются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мплификации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ороты, в которых сочетаются черты тропа и фигуры. Классифицируют их обычно по типу отношений (сходство, смежность, контраст, тождество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Фигуры осмысления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ощным риторическим средством воздействия является 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повтор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торый помогает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лучше усвоить мысль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пособствует запоминанию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ивлекает и активизирует внимание слушател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Эпимо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риторическая фигура, которая состоит в полном или частичном повторе мысл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тоже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отправляюсь в море!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 отправляюсь в море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на шхун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с боцманом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играющим сигналы на дудк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с матросам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которые носят косички и поют песни!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 отправляюсь в море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к неведомому острову искать зарытые в землю сокровища!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Р. Стивенсон)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Фигура стык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последующая фраза начинается с повтора элемента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вершающего фразу предыдущую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валился он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 холодный снег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 холодный снег словно сосенк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ловно сосенка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во сыром бору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д смолистый под корень подрубленная (М. Ю. Лермонтов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Града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от лат. gradatio – постепенное изменение, нарастание или убывание) риторическая фигура, представляющая собой расположение слов (чаще всего синонимов), оборотов, предложений, которые расположены по нарастанию (убыванию)  какого-либо смыслового призна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«Талант лидера предполагает прежде всего,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целеустремленность, жесткость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переходящую при надобности в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жестокость, в отсутствие предрассудков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радация может организовывать целый текст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пример сказочный зачин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У старинушки – три сына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тарший умный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был детин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редний сын и так и сяк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Младший вовсе был дурак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радация позволяет наращивать и снижать эмоциональное воздействие, варьировать напряжением чувства за счет нагнетания признаков. Это хорошее средство предупреждения монотонност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Антитеза -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противопоставление слов с противоположным значением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возможно противопоставление словосочетаний и целых фраз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Эта фигура усиливает нужную мысль за счет сопоставления явлений, оценок, суждений; удивляет необычностью сочетаний слов, производит на людей ошеломляющее воздействи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У человека с коротким умом язык бывает слишком длинным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Антитеза хороша тем, что не утомляет слушателя, придает мысли силу и выразительность, так как обе части противопоставляют, выделяют, как бы «высвечивают» одна другую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Я – царь, я – раб, / Я червь, я – бог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Г.Р. Держав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Антитеза дает возможность создать серию контрастов: из одной мысли можно сделать дв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В основе пара (или несколько пар) антонимов, языковых или контекст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Когда все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покойно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шумиш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когда все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лнуются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покоен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в делах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безразличных – горячишься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в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трастных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опросах –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холоден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если когда надо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молчат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кричишь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когда следует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говорит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ты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 молчишь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если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здес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хоч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уйти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 если тебя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нет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мечта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звратиться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среди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мир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требу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йны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в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походе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здыха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 мире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в народных собраниях толку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 храбрости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 битве дрожи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т страх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при звуке труб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Цицеро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Разновидностью антитезы является прием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контраста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 В нем кроются два, на первый взгляд, несовместимых утверждения. Цель - создать драматический или юмористический эффект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Посол – это порядочный человек, которого посылают за границу врать в интересах отечеств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277560"/>
            <a:ext cx="76960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Различение –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следовательное противопоставление слов, которые получают синонимические и антонимические значения и образуют смысловые ряд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«Миф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гипотетическая, но фактическая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реальность, 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функция, но результат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вещь,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возможность, но действительность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и притом жизненно и конкретно ощущаемая, творимая и существующая» (А.Ф. Лосе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Перемещение –</a:t>
            </a: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зеркально-симметричный повтор определяющего и определяемого слова в параллельных конструкция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ы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едим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чтобы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жить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 не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живем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чтобы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е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Государство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уществует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для человека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 не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человек для государства</a:t>
            </a:r>
            <a:r>
              <a:rPr b="0" lang="en-US" sz="1800" spc="-1" strike="noStrike">
                <a:solidFill>
                  <a:srgbClr val="6666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«Верить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ожно только тогда, когда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знаешь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о что нужно верить,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знать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ожно только тогда, когда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веруешь,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что объект знания действительно существует»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А.Ф. Лосе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Элокуция 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locucio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– выражение) –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вершающий этап построения речи, на котором ритор создает текст высказывания. В этом разделе риторики рассматриваются средства словесного выражения замысл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ятие элокуции тесно связано с понятием стил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способ, характер, общая манера, образ существования и исполнения чего-либ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Широта данного понятия представлена в многочисленных сочетаниях: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тиль работы, стиль поведения, стиль игры, стиль в моде, литературе, архитектуре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реди стилей языка выделяют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литературные и окказиональны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Функциональный стиль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овременного русского литературного языка – это такая его подсистема, которая определяется условиями и целями общения в какой-то сфере общественной деятельности и обладает некоторой совокупностью стилистически значимых языковых средст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тили СРЛЯ: научный, официально-деловой, публицистический, художественный, разговорны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3152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Фигуры диалогиз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а группа риторических фигур используется для эффекта диалога в монологической реч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Предупреждение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меренное выдвижение оратором контраргумент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 ответ на него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Что ты говоришь?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От войны, начатой беглыми рабами, Сицилия была избавлена благодаря твоей доблести?...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 Сицилии войны с беглыми рабами не было. – Но в Италии такая война была…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 ты пытаешься хотя бы часть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успехов, достигнутых в этой войне приписать себе?»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Цицерон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Ответствование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тановка вопроса от лица аудитории и ответ от лица оратор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ы спросите в чем отличие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нтуитивизма от субъективизма? Интуитивизм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тверждает, что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нтуитивное знание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ает предмет целиком сразу, тогда как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рассудочный анализ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меет дело с частями предмета…»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В.М. Бехтерев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ллюзия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торическая фигура подобная цитате, содержит намек на определенное лицо или произведение употреблением характерного слова, выражения или факт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«И не в том главное, что Достоевский исповедует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«почвенничество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как идеологию… Его тревожит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еспочвенность на большой глубине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Перед ним стоит пугающий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призрак духовного отщепенца – роковой образ скитальца,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корее даже чем странника» (Г.В. Флоровский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ий вопрос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твердительное высказывание в форме вопрос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ое обращение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сказывание непосредственно адресованное конкретному лицу и представляющее собой повеле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ое восклицание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сказывание в восклицательной форме, обращенное автором как бы к самому себ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Амплифик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мплификац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обороты, в которых сочетаются черты тропа и фигуры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Сравнени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сходстве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Я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отряхну мои печали, / Как 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мальчик вечером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песок  / Вытряхивает из сандалий…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О. Мандельштам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Гипаллаг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смежности). Определение одного слова ставится при другом слове, которое обозначает  явление, связанное с первым словом по смежности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И жены кутались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в печальные платки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А. Блок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Коррек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контрасте) включает три компонента: утверждение, постановку под сомнение: усиленное утверждение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Тут в воспоминаниях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пробе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1).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ет, не пробе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2), -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а яма, прова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3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И. Грекова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Грамматическая амплификация –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тивопоставление грамматических форм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В администрации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как играли, так и играют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в разводки и разруливания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Дискретные фигур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основе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дискретных фигу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ежит звуковая сторона слов и выражен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ллитерац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повтор соглас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апо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ен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о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ко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п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З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ве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с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вн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че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д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ны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ых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к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е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ьтическа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ро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вн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М.Кузьм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ссонанс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повтор глас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ег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т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рамот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р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А. Пушк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Паронимическая аттракц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семантическом сближении слов, имеющих звуковое сходство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д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д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Негодна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погода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Тен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Рублева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Врубел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ридач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Л. Мартынов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тр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резжит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ожди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рызже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Б. Слуцкий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Каламбу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использование в одном контексте двух значений одного и того же слова или двух сходно звучащих слов (включая их трансформации) с целью создания комического эффект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бласт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иф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–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о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ихи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легк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иш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их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аздумь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отсроч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г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трок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от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рочк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аж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фински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калам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уры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бращаюс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каламбуром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Д. Минаев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Задание 1.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Анализ текст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Что касается этих заявлений / я просто могу сказать: жаль! / Мне просто жаль времени / Даже времени вот сейчас объяснять эту ситуацию – почему? / Это обычная мне кажется игра /непотребная по сему / по сегодняшним проблемам и времени / Чтобы мы могли выпустить сегодня такой мощный залп / как говорят из-за того / что кого-то / куда-то назначили /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ожно подумать / что у нас другого других забот нет / Я этого не понимаю / если это политическая игра / если это показуха / если она кому-то нужна / если она что-то решает и если она что-то делает / то только не то / что нужно сегодня для России и для страны /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не так и хочется сказать / Да люди! / Не обращайте вы на это внимания! / Не до этого нам сегодня и сейчас / чтобы думать и обсуждать / какого зама кому поставят / Поэтому я этого не понимаю и не приемлю / не приемлю / не до этого нам сейчас / чтобы обсуждать такие дела… /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Задание 2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оанализируйте пословицы и поговорк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пределите, какие качества речи осуждаются, каки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иветствуются. Дополните ряд изречен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Живое слово дороже мертвой букв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Не ножа боится, язы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лово не стрела, а рази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И хорошее слово хорошо один раз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Хорошую речь хорошо и слуш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Красно поле пшеном, а беседа ум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Не говори всего, что знаешь, но знай все, что говориш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Речь хороша, когда корот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еньше говори, да больше дела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Лучше не рассказать, чем пересказ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о многословии не без пустослов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ного говорено, да мало сказа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К окказиональным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тносятся стили аргументации и стили отдельных произведени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аргументац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представляет собой систему приемов выражения, складывающуюся в процессе обсуждения ограниченного круга проблем в конкретных общественно-исторических условиях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пример, стиль полемики в русских общественно-литературных журналах 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XIX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ве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литературного произведения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будет определяться условиями исторического стиля, принадлежностью произведения к литературному стилю, жанром, литературной школой, индивидуальным авторским стил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ятие стиля основополагающее в риторическом убеждени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«Выбрать уместный стиль общения – это значит, во-первых, предстать человеком определенного склада, во-вторых, найти индивидуальный образ речи применительно к данной аудитории» В.И. Аннушкин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риторике изучается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речи,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оплощенный ритором в речевых поступках. Если речь человека подразделить на то,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что?  где? и как?</a:t>
            </a: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н говорит, то первая часть относится к изобретению мыслей, вторая - к расположению, а третья - к стилю реч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ждый оратор старается сформировать свой индивидуальный стиль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мпоненты стиля речи (В.И. Аннушкин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бор слов ил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лексическая стилистик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слова должны быть ясными, точными, краткими, разнообразными, оптимальными с точки зрения целеполагания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интаксис речи ил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истический синтаксис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оптимальное и целесообразное расположение слов в фигурах речи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ь произношения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устной речи,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черк, шрифты, оформлени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письменной речи (произношение включает: темп, ритм, паузы, интонацию, логическое ударение, артикуляцию, тембр, громкость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ь пластики или телодвижен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устной речи (паралингвистические средства: поза, походка, жесты, мимика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1752480"/>
          <a:ext cx="8229600" cy="4647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лассичес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времен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с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авиль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исто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о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огат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огич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мест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разитель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ффек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елесообраз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армонизирован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муника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оздейств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петент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акти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ыбирая слова и словосочетания из лексических ресурсов языка, ритор обязан знат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языковой статус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избираемых им единиц (общелитературная, специальная или нелитературная лексика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характер употребл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лова в современном языке, его отношения к истории языка и литературной традици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мысловые отнош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лова в системе языка: значение слова и его семантические связи с другими слова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тиль риторического построения связан с характером движения мысли в реч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втор подает мысль таким образом, чтобы аудитория смогла воспроизвести высказывание, либо образовать мысль на основе сказанног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Равномерность слога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означает, что синтаксические конструкции примерно равны объемом и степенью слож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предоставляет читателю свободу восприятия речи, не выделяет ни одной фразы в противовес други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позволяет сосредоточиться на содержании мысли и связи суждений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едостаток -  монотонно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Неравномерный слог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помогает добиться читательского интереса за счет построения речи. Создается впечатление напряженности мысл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Игра объемами фраз утомляет и раздражает, если нет движения мысл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литность и прерывистость выражения мысл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ечь по степени ритмической организованности подразделяется на стихотворную, периодическую и прозаическую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ериод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автор стремится передать мысль в максимально слитой форме – как единый познавательный образ. Все компоненты зависят друг от друга. Чтение должно происходить с определенной интонаци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ерывистость слога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означает включение нескольких смысловых планов. Позволяет подавать информацию небольшими порциями. Прерывность – это свойство прозаической реч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вязност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речи может обеспечиваться специальными словами связками: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ледовательно, и затем, наконец, итак и т.д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бъемность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дразумевает представленность предмета речи во многих планах и перспективах. Объемность – наиболее эффективное средство построения образа. Смысловая многомерность изображения создает единый зрительный образ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Если во фразе один смысловой центр, то речь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оноцентрич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если несколько – то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лицентрич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. Моноцентричность облегчает оценку речи, при полицентричности каждая фраза нуждается в дополнительном анализ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381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Любой уровень языковой системы, а также любая единица текста может стать выразительной под влиянием  своего окружени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риторике традиционно выделяются специальные средства выразительности двух видов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троп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фигуры реч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Троп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– это слова и обороты, употребленные в переносном значен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Фигуры реч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- средства выразительности, основанные на соположении единиц в текст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r</cp:lastModifiedBy>
  <dcterms:modified xsi:type="dcterms:W3CDTF">2009-11-13T06:16:33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