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6D91-348D-4B7B-BB9A-8B1608804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357A-53CC-4633-B037-5754074DF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81FE-7329-438C-A23C-C1B2468C5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3104-8319-464F-9387-72C1E2BA8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9E5D0-DB82-45E4-B182-535DBD325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8BD0B-EDC3-4FA1-A530-A7F4D7A15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25D77-3D85-4F76-ADD4-86D6AAD7F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7B5B5-C1E0-4FA6-8C1B-63BEB3B96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A33A5-5E2E-4427-A73E-502E5A0F6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8D33A-5192-4305-A4F6-48FDC4E07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55D33-3910-4CFD-A15D-285AC4DC3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9E45-F2FF-43B5-9B46-E5927DF92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EC176-626E-4BD7-993C-18FE746BD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F1A28-3446-4A2C-B862-C6E3D7B0F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30C34-E663-452D-B49E-518F0F3B7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F0E77-5C03-482E-8619-C68658DEE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FC4DD-9947-4A9C-B7D5-38CE8B4F8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A664-20C6-48E8-BDEE-C84A82744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4498-E84E-4673-9FA9-DD031F59A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B9D3-EA7D-43DB-9E8D-F92F33ED7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739F-1B5C-4852-8A7F-0D947783E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61A2-74B8-4698-86C4-05A1DBC07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8A0C-A108-44A1-A0E7-A237DBEB7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94E7-0F20-4062-A9EA-DE1DCD0A6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3F2F2-D45A-4A6E-94C1-043E00C8C1C1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64432-6374-491A-9250-B1F66D2A81B5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914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cc9900"/>
                </a:solidFill>
                <a:latin typeface="Garamond"/>
              </a:rPr>
              <a:t>Риторическое построение.</a:t>
            </a:r>
            <a:br>
              <a:rPr sz="4300"/>
            </a:br>
            <a:r>
              <a:rPr b="1" lang="ru-RU" sz="4300" spc="-1" strike="noStrike">
                <a:solidFill>
                  <a:srgbClr val="cc9900"/>
                </a:solidFill>
                <a:latin typeface="Garamond"/>
              </a:rPr>
              <a:t>Элокуция</a:t>
            </a:r>
            <a:endParaRPr b="0" lang="en-US" sz="43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914040" y="3581280"/>
            <a:ext cx="8001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-533520">
              <a:lnSpc>
                <a:spcPct val="80000"/>
              </a:lnSpc>
              <a:spcBef>
                <a:spcPts val="64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00"/>
                </a:solidFill>
                <a:latin typeface="Verdana"/>
              </a:rPr>
              <a:t>Качества стиля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4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00"/>
                </a:solidFill>
                <a:latin typeface="Verdana"/>
              </a:rPr>
              <a:t>Выбор слов и построение фразы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4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00"/>
                </a:solidFill>
                <a:latin typeface="Verdana"/>
              </a:rPr>
              <a:t>Изобразительно-выразительные средства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7238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Тропы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основаны на переносе значения, в результате чего происходит совмещение (сдваивание) семантики в одной и той же словесной форм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Основная функция тропов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– образная характеристика. Объединение осуществляется по признаку сходства, противоположности, смежности, количества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иды тропов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ловесные: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метафоры, олицетворение, метонимия, гипербола, перифраза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писательные: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аллегория, ирония, парадокс, оксюморон, паремия и др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Гипербола -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чрезмерное преувеличение. Встречается в разных типах и стилях речи: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Умираю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от голода. Я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мертельно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устал;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Кто любит Вас,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тот очень глуп конечно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Но кто не любит Вас,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тот во сто крат глупей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(Пушкин);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Антипод гиперболы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 – литота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преуменьшение)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Ваш шпиц,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прелестный шпиц,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не более наперстка.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Я гладил все его; как шелковая шерстка (Грибоедов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Метафора -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употребление слов и выражений в переносном значени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стина –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цветок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, не растущий на поле брани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Шелковые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ресницы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зновидностью метафоры является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олицетворение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 наделение неодушевленных предметов признаками и свойствами одушевленности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цены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кусаются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«Тефаль»  всегда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думает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о нас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Перифраза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(гр. пересказ) - описательный оборот, употребляемый вместо какого-либо слова или словосочетания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Япония –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трана восходящего солнца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анкт-Петербург –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город на Неве;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Баунти –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райское наслаждение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Метонимия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еренос по смежности (содержимое вместо содержащего, часть вместо целого)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Я три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тарелки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съел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Эй,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борода!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А как проехать к Плюшкину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Ирония –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замечание, которое содержит в себе скрытое утверждение, противоположное его буквальному смыслу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Откуда,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умная,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бредешь ты голова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?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«Посмотрите,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каков Самсон!»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(о слабом хилом человеке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«Все ароматы Франции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в одном флаконе»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(о неприятном запахе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имер самоиронии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Италия! Еще одна страна,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где я не нужен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(Иртеньев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Часто ирония осуществляется посредством парадокса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арадокс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(от греч. paradoxos – неожиданный, странный) - утверждение, изречение, противоречащее на первый взгляд здравому смыслу, но таящее в себе более глубокое значение,  которое взято за основу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Лучшее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правительство то, которое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меньше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всего правит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Джефферсон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Не откладывай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на завтра то,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что можно сделать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послезавтра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Оскар Уайльд);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Тише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едешь –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дальше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будешь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посл.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Некоторые парадоксы активно используются журналистами, ораторами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Твои взгляды мне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ненавистны,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но всю жизнь я буду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бороться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за твое право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отстаивать их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Вольтер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Аллегория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– это распространенная метафора, иносказание. В нескольких словах, выражениях или целом рассказе рисуется картина намека на  какое-то событие или человека, например, А. Пушкин «Телега жизни»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Хоть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тяжело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подчас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в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ней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бремя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Телег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н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ходу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легк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Ямщик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лихой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седое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время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Везет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не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слезет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облучка…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Оксюморон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– соединение слов с противоположным значением в словосочетание, которое в результате принимает новое значение, например,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Жар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холодных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чисел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(А. Блок).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Чужбин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родина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моя!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(М. Цветаева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Покорный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энтузиазм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толпы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(П. Чаадаев).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Горизонты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вертикальные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(В. Соловьев)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аремия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– родовое обозначение пословиц и поговорок: народный речевой жанр малой формы, характеризующийся устойчивостью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ословичное выражение, имеющее намек, например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казанно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ловцо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 –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еребряно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н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казанно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 –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золото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Добрая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жен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дом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бережет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худая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 –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рукавом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растрясет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Нын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много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грамотных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д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мало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ытых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Классификации фигур речи многочисленны, а количество фигур – необозримо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Фигуры речи в риторике можно разделить на три большие группы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Фигуры убавления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– в основе пропуск какого-либо значимого компонента высказывания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666600"/>
                </a:solidFill>
                <a:latin typeface="Verdana"/>
              </a:rPr>
              <a:t>Эллипсис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– пропуск какого-либо члена предложения (чаще всего сказуемого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Один человек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 ел хлеб с маслом,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другой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 – с удовольствием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Фигуры прибавления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-  в основе повтор отдельных компонентов или целого высказывания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666600"/>
                </a:solidFill>
                <a:latin typeface="Verdana"/>
              </a:rPr>
              <a:t>Анафора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– повтор слов или выражений  в начале каждого отрезка реч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Клянусь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я первым днем творенья,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Клянусь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его последним днем…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(М.Ю. Лермонтов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Фигуры размещения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– в основе расположение компонентов в необычной последовательност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666600"/>
                </a:solidFill>
                <a:latin typeface="Verdana"/>
              </a:rPr>
              <a:t>Инверсия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– любое нарушение естественного прямого порядка слов.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Настало лето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 холодное, дождливое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Быстро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он вернулся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лассификация А.А. Волкова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Фигуры осмысления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, образующие смысловое и стилистическое единство высказывания как завершенной мысл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Фигуры выделения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, оформляющие фразу или отдельное положение реч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Фигуры диалогизма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, посредством которых организуется композиционно значимый ход мысл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тдельно рассматриваются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амплификации,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бороты, в которых сочетаются черты тропа и фигуры. Классифицируют их обычно по типу отношений (сходство, смежность, контраст, тождество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Фигуры осмысления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Мощным риторическим средством воздействия является 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повтор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который помогает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лучше усвоить мысль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пособствует запоминанию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ривлекает и активизирует внимание слушателе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Эпимон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– риторическая фигура, которая состоит в полном или частичном повторе мысл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Я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тоже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отправляюсь в море!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Я отправляюсь в море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на шхуне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с боцманом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играющим сигналы на дудке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с матросами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которые носят косички и поют песни!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Я отправляюсь в море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к неведомому острову искать зарытые в землю сокровища!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Р. Стивенсон)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Фигура стык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– последующая фраза начинается с повтора элемента,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завершающего фразу предыдущую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Повалился он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на холодный снег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На холодный снег словно сосенка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Словно сосенка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во сыром бору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Под смолистый под корень подрубленная (М. Ю. Лермонтов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Фигуры выделени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Градация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(от лат. gradatio – постепенное изменение, нарастание или убывание) риторическая фигура, представляющая собой расположение слов (чаще всего синонимов), оборотов, предложений, которые расположены по нарастанию (убыванию)  какого-либо смыслового признак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«Талант лидера предполагает прежде всего,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целеустремленность, жесткость,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переходящую при надобности в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жестокость, в отсутствие предрассудков»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Градация может организовывать целый текст,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например сказочный зачин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У старинушки – три сына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Старший умный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был детина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Средний сын и так и сяк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Младший вовсе был дурак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Градация позволяет наращивать и снижать эмоциональное воздействие, варьировать напряжением чувства за счет нагнетания признаков. Это хорошее средство предупреждения монотонност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Фигуры выделени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Антитеза -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противопоставление слов с противоположным значением,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возможно противопоставление словосочетаний и целых фраз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Эта фигура усиливает нужную мысль за счет сопоставления явлений, оценок, суждений; удивляет необычностью сочетаний слов, производит на людей ошеломляющее воздействие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У человека с коротким умом язык бывает слишком длинным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Антитеза хороша тем, что не утомляет слушателя, придает мысли силу и выразительность, так как обе части противопоставляют, выделяют, как бы «высвечивают» одна другую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Я – царь, я – раб, / Я червь, я – бог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Г.Р. Державин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Антитеза дает возможность создать серию контрастов: из одной мысли можно сделать две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В основе пара (или несколько пар) антонимов, языковых или контекстных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Когда все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спокойно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, ты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шумишь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; когда все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волнуются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, ты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спокоен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в делах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безразличных – горячишься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; в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страстных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вопросах –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холоден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если когда надо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молчать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– ты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кричишь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когда следует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говорить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– ты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 молчишь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если ты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здесь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– хоче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уйти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 если тебя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нет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– мечтае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возвратиться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среди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мира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требуе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войны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; в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походе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вздыхае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о мире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в народных собраниях толкуе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о храбрости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в битве дрожи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от страха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при звуке трубы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Цицерон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Разновидностью антитезы является прием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контраста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. В нем кроются два, на первый взгляд, несовместимых утверждения. Цель - создать драматический или юмористический эффект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Посол – это порядочный человек, которого посылают за границу врать в интересах отечеств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720" y="277560"/>
            <a:ext cx="769608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Фигуры выделени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00"/>
                </a:solidFill>
                <a:latin typeface="Verdana"/>
              </a:rPr>
              <a:t>Различение –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последовательное противопоставление слов, которые получают синонимические и антонимические значения и образуют смысловые ряды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«Миф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не гипотетическая, но фактическая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 реальность, 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не функция, но результат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, вещь,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не возможность, но действительность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, и притом жизненно и конкретно ощущаемая, творимая и существующая» (А.Ф. Лосев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00"/>
                </a:solidFill>
                <a:latin typeface="Verdana"/>
              </a:rPr>
              <a:t>Перемещение –</a:t>
            </a:r>
            <a:r>
              <a:rPr b="1" lang="en-US" sz="18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зеркально-симметричный повтор определяющего и определяемого слова в параллельных конструкциях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Мы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едим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чтобы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жить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а не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живем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чтобы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ест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Государство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существует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для человека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а не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человек для государства</a:t>
            </a:r>
            <a:r>
              <a:rPr b="0" lang="en-US" sz="1800" spc="-1" strike="noStrike">
                <a:solidFill>
                  <a:srgbClr val="6666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«Верить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можно только тогда, когда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знаешь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во что нужно верить,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и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знать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можно только тогда, когда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веруешь,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 что объект знания действительно существует»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А.Ф. Лосев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0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1. Качества стил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Элокуция  (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locucio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– выражение) –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завершающий этап построения речи, на котором ритор создает текст высказывания. В этом разделе риторики рассматриваются средства словесного выражения замысл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онятие элокуции тесно связано с понятием стиля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тиль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– это способ, характер, общая манера, образ существования и исполнения чего-либо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Широта данного понятия представлена в многочисленных сочетаниях: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стиль работы, стиль поведения, стиль игры, стиль в моде, литературе, архитектуре…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66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реди стилей языка выделяют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литературные и окказиональные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Функциональный стиль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овременного русского литературного языка – это такая его подсистема, которая определяется условиями и целями общения в какой-то сфере общественной деятельности и обладает некоторой совокупностью стилистически значимых языковых средств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тили СРЛЯ: научный, официально-деловой, публицистический, художественный, разговорны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600" y="277560"/>
            <a:ext cx="73152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9900"/>
                </a:solidFill>
                <a:latin typeface="Garamond"/>
              </a:rPr>
              <a:t>Фигуры диалогизации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315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Эта группа риторических фигур используется для эффекта диалога в монологической реч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Предупреждение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меренное выдвижение оратором контраргумента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 ответ на него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Что ты говоришь?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От войны, начатой беглыми рабами, Сицилия была избавлена благодаря твоей доблести?...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 Сицилии войны с беглыми рабами не было. – Но в Италии такая война была…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И ты пытаешься хотя бы часть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успехов, достигнутых в этой войне приписать себе?»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Цицерон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Ответствование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становка вопроса от лица аудитории и ответ от лица оратор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ы спросите в чем отличие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интуитивизма от субъективизма? Интуитивизм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утверждает, что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интуитивное знание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дает предмет целиком сразу, тогда как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рассудочный анализ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меет дело с частями предмета…»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В.М. Бехтерев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Аллюзия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иторическая фигура подобная цитате, содержит намек на определенное лицо или произведение употреблением характерного слова, выражения или факт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«И не в том главное, что Достоевский исповедует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«почвенничество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как идеологию… Его тревожит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беспочвенность на большой глубине.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Перед ним стоит пугающий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призрак духовного отщепенца – роковой образ скитальца,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корее даже чем странника» (Г.В. Флоровский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Риторический вопрос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утвердительное высказывание в форме вопрос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Риторическое обращение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ысказывание непосредственно адресованное конкретному лицу и представляющее собой повеление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Риторическое восклицание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ысказывание в восклицательной форме, обращенное автором как бы к самому себе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Амплификации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Амплификации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– это обороты, в которых сочетаются черты тропа и фигуры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Сравнение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(амплификация, основанная на сходстве)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Я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 отряхну мои печали, / Как 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мальчик вечером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 песок  / Вытряхивает из сандалий…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О. Мандельштам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Гипаллаг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(амплификация, основанная на смежности). Определение одного слова ставится при другом слове, которое обозначает  явление, связанное с первым словом по смежности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И жены кутались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 в печальные платки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А. Блок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Коррекция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(амплификация, основанная на контрасте) включает три компонента: утверждение, постановку под сомнение: усиленное утверждение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Тут в воспоминаниях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пробел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(1).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Нет, не пробел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(2), -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а яма, провал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(3)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И. Грекова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Грамматическая амплификация –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ротивопоставление грамматических форм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В администрации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как играли, так и играют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в разводки и разруливания…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Дискретные фигуры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 основе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дискретных фигур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лежит звуковая сторона слов и выражений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Аллитераци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– повтор согласных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Напо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нен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мо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оком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опа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За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ове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а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бесс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авно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ачет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да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ь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уны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ых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ка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Ке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ьтическа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Ярос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авна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М.Кузьмин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Ассонанс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– повтор гласных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м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его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т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ю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ю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т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грамот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др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г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ю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А. Пушкин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Паронимическая аттракци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– семантическом сближении слов, имеющих звуковое сходство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з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года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год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Негодная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погода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Тень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Рублева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 –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и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Врубель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ридачу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(Л. Мартынов)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Утро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брезжит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,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А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дождик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брызжет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(Б. Слуцкий)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Каламбур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– использование в одном контексте двух значений одного и того же слова или двух сходно звучащих слов (включая их трансформации) с целью создания комического эффекта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Область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рифм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 –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мо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тихия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легко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ишу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тихи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я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Без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раздумь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без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отсрочк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бегу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к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троке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от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трочки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Даже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к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финским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калам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бурым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Обращаюсь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каламбуром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Д. Минаев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1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Задание 1.</a:t>
            </a: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 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Анализ текста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Что касается этих заявлений / я просто могу сказать: жаль! / Мне просто жаль времени / Даже времени вот сейчас объяснять эту ситуацию – почему? / Это обычная мне кажется игра /непотребная по сему / по сегодняшним проблемам и времени / Чтобы мы могли выпустить сегодня такой мощный залп / как говорят из-за того / что кого-то / куда-то назначили //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Можно подумать / что у нас другого других забот нет / Я этого не понимаю / если это политическая игра / если это показуха / если она кому-то нужна / если она что-то решает и если она что-то делает / то только не то / что нужно сегодня для России и для страны //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Мне так и хочется сказать / Да люди! / Не обращайте вы на это внимания! / Не до этого нам сегодня и сейчас / чтобы думать и обсуждать / какого зама кому поставят / Поэтому я этого не понимаю и не приемлю / не приемлю / не до этого нам сейчас / чтобы обсуждать такие дела… /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ru-RU" sz="4400" spc="-1" strike="noStrike">
                <a:solidFill>
                  <a:srgbClr val="999900"/>
                </a:solidFill>
                <a:latin typeface="Garamond"/>
              </a:rPr>
              <a:t>Задание 2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Проанализируйте пословицы и поговорки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Определите, какие качества речи осуждаются, какие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приветствуются. Дополните ряд изречени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Живое слово дороже мертвой буквы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Не ножа боится, язык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Слово не стрела, а разит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И хорошее слово хорошо один раз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Хорошую речь хорошо и слушат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Красно поле пшеном, а беседа умом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Не говори всего, что знаешь, но знай все, что говориш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Речь хороша, когда коротк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Меньше говори, да больше делай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Лучше не рассказать, чем пересказат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Во многословии не без пустослови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Много говорено, да мало сказан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1. Качества стил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К окказиональным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относятся стили аргументации и стили отдельных произведени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тиль аргументации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представляет собой систему приемов выражения, складывающуюся в процессе обсуждения ограниченного круга проблем в конкретных общественно-исторических условиях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Например, стиль полемики в русских общественно-литературных журналах 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XIX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 век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тиль литературного произведения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будет определяться условиями исторического стиля, принадлежностью произведения к литературному стилю, жанром, литературной школой, индивидуальным авторским стилем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онятие стиля основополагающее в риторическом убеждени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«Выбрать уместный стиль общения – это значит, во-первых, предстать человеком определенного склада, во-вторых, найти индивидуальный образ речи применительно к данной аудитории» В.И. Аннушкин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66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 риторике изучается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тиль речи,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оплощенный ритором в речевых поступках. Если речь человека подразделить на то,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что?  где? и как?</a:t>
            </a:r>
            <a:r>
              <a:rPr b="0" lang="ru-RU" sz="16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он говорит, то первая часть относится к изобретению мыслей, вторая - к расположению, а третья - к стилю реч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1. Качества стил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аждый оратор старается сформировать свой индивидуальный стиль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Компоненты стиля речи (В.И. Аннушкин)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тбор слов или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лексическая стилистика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(слова должны быть ясными, точными, краткими, разнообразными, оптимальными с точки зрения целеполагания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интаксис речи или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тилистический синтаксис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(оптимальное и целесообразное расположение слов в фигурах речи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тиль произношения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в устной речи,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очерк, шрифты, оформление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в письменной речи (произношение включает: темп, ритм, паузы, интонацию, логическое ударение, артикуляцию, тембр, громкость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тиль пластики или телодвижения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устной речи (паралингвистические средства: поза, походка, жесты, мимика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1. Качества стил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457200" y="1752480"/>
          <a:ext cx="8229600" cy="46479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лассическ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овременн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яс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авильность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чисто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оч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богатств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логичность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уместность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ыразитель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эффектив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целесообраз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гармонизирован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ммуникатив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оздейств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мпетент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актич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Выбор слов и построение фразы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Выбирая слова и словосочетания из лексических ресурсов языка, ритор обязан знать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языковой статус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избираемых им единиц (общелитературная, специальная или нелитературная лексика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характер употреблени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слова в современном языке, его отношения к истории языка и литературной традиции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смысловые отношени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слова в системе языка: значение слова и его семантические связи с другими словам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1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Выбор слов и построение фразы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Стиль риторического построения связан с характером движения мысли в речи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Автор подает мысль таким образом, чтобы аудитория смогла воспроизвести высказывание, либо образовать мысль на основе сказанног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Равномерность слога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означает, что синтаксические конструкции примерно равны объемом и степенью сложност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 предоставляет читателю свободу восприятия речи, не выделяет ни одной фразы в противовес другим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 позволяет сосредоточиться на содержании мысли и связи суждений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Недостаток -  монотонност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Неравномерный слог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помогает добиться читательского интереса за счет построения речи. Создается впечатление напряженности мысли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Игра объемами фраз утомляет и раздражает, если нет движения мысл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1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Выбор слов и построение фразы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литность и прерывистость выражения мысл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Речь по степени ритмической организованности подразделяется на стихотворную, периодическую и прозаическую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ериоде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автор стремится передать мысль в максимально слитой форме – как единый познавательный образ. Все компоненты зависят друг от друга. Чтение должно происходить с определенной интонацие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рерывистость слога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означает включение нескольких смысловых планов. Позволяет подавать информацию небольшими порциями. Прерывность – это свойство прозаической реч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вязность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речи может обеспечиваться специальными словами связками: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следовательно, и затем, наконец, итак и т.д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Объемность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одразумевает представленность предмета речи во многих планах и перспективах. Объемность – наиболее эффективное средство построения образа. Смысловая многомерность изображения создает единый зрительный образ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Если во фразе один смысловой центр, то речь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моноцентричн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 если несколько – то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олицентричн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. Моноцентричность облегчает оценку речи, при полицентричности каждая фраза нуждается в дополнительном анализе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3818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Любой уровень языковой системы, а также любая единица текста может стать выразительной под влиянием  своего окружения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В риторике традиционно выделяются специальные средства выразительности двух видов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666600"/>
                </a:solidFill>
                <a:latin typeface="Verdana"/>
              </a:rPr>
              <a:t>тропы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666600"/>
                </a:solidFill>
                <a:latin typeface="Verdana"/>
              </a:rPr>
              <a:t>фигуры реч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Тропы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– это слова и обороты, употребленные в переносном значени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Фигуры речи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- средства выразительности, основанные на соположении единиц в текст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r</cp:lastModifiedBy>
  <dcterms:modified xsi:type="dcterms:W3CDTF">2009-11-13T06:16:33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