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76F-47E9-4B03-B2B7-86940C82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15A-BB45-4AFC-86AB-1B96FA25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986-2FFF-4CFC-8063-9F362E0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D36-7062-466F-B0FB-20FCB670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6F91-8ACD-4065-BF69-30C3C773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C89E-FB96-46B6-A141-95505019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EF42-44B6-49A8-96F2-202E000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3FBA-6BE0-4682-B7CC-F99465EB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5434-FF3F-4D3B-AC2D-66A658C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69B1-C0F6-4B6B-B302-31096D98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BD13-885F-4212-B46A-B8D84FEB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25F-C29F-4C64-9504-E0973F46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176D-581E-4C00-A1D3-0F8DAAF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708-1B87-43E7-83C7-2A664633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CBB2-4BF4-474F-A216-2ECFE32F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22BB-1BEA-457B-836F-4E241D89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402A-A413-40AB-8484-44E99416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6C1E-89F2-4401-A3DE-F7174645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1B7-8CEB-4B32-887A-82DE7204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8A7-04F7-4F03-B780-29DF35B4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BE5-2778-4BA2-BFFB-38F7E7A3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7D4-B21B-408E-B845-69CF47E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A86-257B-4C6F-874B-A204712B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582-6E79-41C7-A459-D232E60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1BEF-64CB-4BD7-9754-AF55E4C7E0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EE8B-052B-489B-A2BB-770E634BCC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Риторическое построение.</a:t>
            </a:r>
            <a:br>
              <a:rPr sz="4300"/>
            </a:br>
            <a:r>
              <a:rPr b="1" lang="ru-RU" sz="4300" spc="-1" strike="noStrike">
                <a:solidFill>
                  <a:srgbClr val="cc9900"/>
                </a:solidFill>
                <a:latin typeface="Garamond"/>
              </a:rPr>
              <a:t>Элокуция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Качества сти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Выбор слов и построение фраз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9900"/>
                </a:solidFill>
                <a:latin typeface="Verdana"/>
              </a:rPr>
              <a:t>Изобразительно-выразительные средств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снованы на переносе значения, в результате чего происходит совмещение (сдваивание) семантики в одной и той же словесной фор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ая функция троп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образная характеристика. Объединение осуществляется по признаку сходства, противоположности, смежности, коли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ды троп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есные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тафоры, олицетворение, метонимия, гипербола, перифраз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исательные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аллегория, ирония, парадокс, оксюморон, паремия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ипербола -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чрезмерное преувеличение. Встречается в разных типах и стилях речи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мира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т голода. Я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мертель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устал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то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очень глуп конечно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о кто не любит Вас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от во сто крат глупе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(Пушкин);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под гиперболы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– литот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еуменьшение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аш шпиц,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релестный шпиц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 более наперстка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гладил все его; как шелковая шерстка (Грибоедов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афора 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отребление слов и выражений в переносном значе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стина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цветок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, не растущий на поле бран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Шелковые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есниц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овидностью метафоры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лиц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наделение неодушевленных предметов признаками и свойствами одушевлен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ны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усаютс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Тефаль»  всегда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думает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о нас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ифра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гр. пересказ) - описательный оборот, употребляемый вместо какого-либо слова или словосоче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пония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ана восходящего солнц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анкт-Петербург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город на Неве;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унти 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айское наслажд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ним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нос по смежности (содержимое вместо содержащего, часть вместо целого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 три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тарелки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съе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Эй,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орода!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А как проехать к Плюшкин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рония –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мечание, которое содержит в себе скрытое утверждение, противоположное его буквальному смысл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ткуда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умная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дешь ты голо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?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«Посмотрите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каков Самсон!»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слабом хилом человек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«Все ароматы Франции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одном флаконе»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о неприятном запахе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р самоирони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талия! Еще одна страна,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где я не нужен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(Иртеньев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о ирония осуществляется посредством парадокс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адок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от греч. paradoxos – неожиданный, странный) - утверждение, изречение, противоречащее на первый взгляд здравому смыслу, но таящее в себе более глубокое значение,  которое взято за основ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учше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авительство то, которое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мен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сего правит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Джефферсон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 откладывай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 завтра то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то можно сделат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послезавтр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Оскар Уайльд);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и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дешь –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дальше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удешь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посл.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которые парадоксы активно используются журналистами, ораторам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вои взгляды мне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навистны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о всю жизнь я буду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 бороться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 твое право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отстаивать и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Вольтер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легори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это распространенная метафора, иносказание. В нескольких словах, выражениях или целом рассказе рисуется картина намека на  какое-то событие или человека, например, А. Пушкин «Телега жизни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Хоть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яжело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дча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б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Телег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ду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легк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Ямщик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хой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д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ремя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лезет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лучка…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сюморон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оединение слов с противоположным значением в словосочетание, которое в результате принимает новое значение, например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ар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олод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чисел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А. Блок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Чужби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один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моя!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М. Цветаева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Покорный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энтузиаз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олп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П. Чаадаев).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оризонты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вертикальны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В. Соловьев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рем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родовое обозначение пословиц и поговорок: народный речевой жанр малой формы, характеризующийся устойчивость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овичное выражение, имеющее намек, например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ловц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еребря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казанн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золото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бр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жен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береж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худая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укавом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растрясет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Ныне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ног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грамотн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,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да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мало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400" spc="-1" strike="noStrike">
                <a:solidFill>
                  <a:srgbClr val="666600"/>
                </a:solidFill>
                <a:latin typeface="Verdana"/>
              </a:rPr>
              <a:t>сытых</a:t>
            </a:r>
            <a:r>
              <a:rPr b="0" lang="ru-RU" sz="1400" spc="-1" strike="noStrike">
                <a:solidFill>
                  <a:srgbClr val="666600"/>
                </a:solidFill>
                <a:latin typeface="Verdana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лассификации фигур речи многочисленны, а количество фигур – необозрим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Фигуры речи в риторике можно разделить на три большие групп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у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пропуск какого-либо значимого компонента высказы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Эллипсис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пропуск какого-либо члена предложения (чаще всего сказуемого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дин человек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ел хлеб с маслом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другой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– с удовольстви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прибавл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 в основе повтор отдельных компонентов или целого высказы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Анафора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– повтор слов или выражений  в начале каждого отрезка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я первым днем творенья,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Клянусь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его последним днем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М.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Фигуры размещен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в основе расположение компонентов в необычной последова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666600"/>
                </a:solidFill>
                <a:latin typeface="Verdana"/>
              </a:rPr>
              <a:t>Инверсия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любое нарушение естественного прямого порядка слов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Настало лето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 холодное, дождливо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Быстр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он вернулс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ификация А.А. Волкова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осмыс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бразующие смысловое и стилистическое единство высказывания как завершенной мысл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выде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оформляющие фразу или отдельное положение реч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игуры диалогиз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посредством которых организуется композиционно значимый ход мыс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дельно рассматрив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мплификации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ороты, в которых сочетаются черты тропа и фигуры. Классифицируют их обычно по типу отношений (сходство, смежность, контраст, тождество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Фигуры осмысле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щным риторическим средством воздействия является 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повтор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торый помог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учше усвоить мысл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пособствует запоминанию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лекает и активизирует внимание слушате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Эпимо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риторическая фигура, которая состоит в полном или частичном повторе мысл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тоже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отправляюсь в море!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на шхун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боцманом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играющим сигналы на дудк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с матросам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оторые носят косички и поют песни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Я отправляюсь в море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к неведомому острову искать зарытые в землю сокровища!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Р. Стивенсон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Фигура стык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последующая фраза начинается с повтора элемента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его фразу предыдущу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валился он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 холодный снег словно сосен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овно сосенка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о сыром бор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д смолистый под корень подрубленная (М. Ю. Лермонтов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рада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от лат. gradatio – постепенное изменение, нарастание или убывание) риторическая фигура, представляющая собой расположение слов (чаще всего синонимов), оборотов, предложений, которые расположены по нарастанию (убыванию)  какого-либо смыслового призна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«Талант лидера предполагает прежде всег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целеустремленность, жесткость,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переходящую при надобности в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жестокость, в отсутствие предрассудков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может организовывать целый текст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 сказочный зачин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У старинушки – три сы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арший умный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был детин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редний сын и так и ся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Младший вовсе был дура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радация позволяет наращивать и снижать эмоциональное воздействие, варьировать напряжением чувства за счет нагнетания признаков. Это хорошее средство предупреждения монотонност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Антитеза -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противопоставление слов с противоположным значением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возможно противопоставление словосочетаний и целых фраз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Эта фигура усиливает нужную мысль за счет сопоставления явлений, оценок, суждений; удивляет необычностью сочетаний слов, производит на людей ошеломляющее воздейств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 человека с коротким умом язык бывает слишком длинны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хороша тем, что не утомляет слушателя, придает мысли силу и выразительность, так как обе части противопоставляют, выделяют, как бы «высвечивают» одна другу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Я – царь, я – раб, / Я червь, я – бог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Г.Р. Держав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Антитеза дает возможность создать серию контрастов: из одной мысли можно сделать дв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В основе пара (или несколько пар) антонимов, языковых или контекст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йно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шумиш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когда все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лнуют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поко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делах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безразличных – горячишься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страстных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опросах –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холоден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когда надо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олча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кри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когда следует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говорит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ты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молчишь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если ты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здесь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хоч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уй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если тебя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нет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– мечт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звратиться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среди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мир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треб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войны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; в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ходе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здыха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мире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в народных собраниях толкуе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 храбрости;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в битве дрожишь 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от страха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при звуке труб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Цицеро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Разновидностью антитезы является прием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онтраста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В нем кроются два, на первый взгляд, несовместимых утверждения. Цель - создать драматический или юмористический эффек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Посол – это порядочный человек, которого посылают за границу врать в интересах отече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77560"/>
            <a:ext cx="7696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Фигуры выдел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Различение –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следовательное противопоставление слов, которые получают синонимические и антонимические значения и образуют смысловые ря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«Миф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гипотетическая, но фактическая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реальность, 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функция, но результат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вещь,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не возможность, но действительность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, и притом жизненно и конкретно ощущаемая, творимая и существующая» 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Перемещение –</a:t>
            </a: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еркально-симметричный повтор определяющего и определяемого слова в параллельных конструкц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еди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жит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живем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чтобы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е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Государство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уществует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для человека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а не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человек для государства</a:t>
            </a:r>
            <a:r>
              <a:rPr b="0" lang="en-US" sz="1800" spc="-1" strike="noStrike">
                <a:solidFill>
                  <a:srgbClr val="66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«Вери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знаешь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что нужно верить,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знать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ожно только тогда, когда 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веруешь,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что объект знания действительно существует»</a:t>
            </a:r>
            <a:r>
              <a:rPr b="0" i="1" lang="en-US" sz="18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А.Ф. Лосев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локуция 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locucio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– выражение)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вершающий этап построения речи, на котором ритор создает текст высказывания. В этом разделе риторики рассматриваются средства словесного выражения замыс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элокуции тесно связано с понятием стил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способ, характер, общая манера, образ существования и исполнения чего-либ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ирота данного понятия представлена в многочисленных сочетаниях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тиль работы, стиль поведения, стиль игры, стиль в моде, литературе, архитектуре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реди стилей языка выделяю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итературные и окказиона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ункциональный стил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временного русского литературного языка – это такая его подсистема, которая определяется условиями и целями общения в какой-то сфере общественной деятельности и обладает некоторой совокупностью стилистически значимых языковых средст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ли СРЛЯ: научный, официально-деловой, публицистический, художественный, разговор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3152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игуры диалог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а группа риторических фигур используется для эффекта диалога в монологической реч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редупрежде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меренное выдвижение оратором контраргу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ответ на не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Что ты говоришь?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От войны, начатой беглыми рабами, Сицилия была избавлена благодаря твоей доблести?...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Сицилии войны с беглыми рабами не было. – Но в Италии такая война была…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 ты пытаешься хотя бы часть</a:t>
            </a:r>
            <a:r>
              <a:rPr b="0" i="1" lang="en-US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успехов, достигнутых в этой войне приписать себе?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Цицерон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Ответствование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ановка вопроса от лица аудитории и ответ от лица орато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ы спросите в чем отличие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изма от субъективизма? Интуитивизм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верждает, что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интуитивное знание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ет предмет целиком сразу, тогда как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рассудочный анализ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еет дело с частями предмета…»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.М. Бехтере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юзия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торическая фигура подобная цитате, содержит намек на определенное лицо или произведение употреблением характерного слова, выражения или фак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«И не в том главное, что Достоевский исповедуе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«почвенничество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как идеологию… Его тревожит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еспочвенность на большой глубине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Перед ним стоит пугающий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ризрак духовного отщепенца – роковой образ скитальца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орее даже чем странника» (Г.В. Флоровск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ий вопрос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твердительное высказывание в форме во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обраще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непосредственно адресованное конкретному лицу и представляющее собой повеле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Риторическое восклицание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сказывание в восклицательной форме, обращенное автором как бы к самому себ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мплифик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мплифик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это обороты, в которых сочетаются черты тропа и фигур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Сравне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ходстве)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отряхну мои печали, / Как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мальчик вечером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песок  / Вытряхивает из сандалий…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О. Мандельштам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ипаллаг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смежности). Определение одного слова ставится при другом слове, которое обозначает  явление, связанное с первым словом по смежност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 жены кутались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 печальные платк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А. Блок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Коррекц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(амплификация, основанная на контрасте) включает три компонента: утверждение, постановку под сомнение: усиленное утверждени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Тут в воспоминаниях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1).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ет, не пробе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2), -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а яма, провал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И. Греков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666600"/>
                </a:solidFill>
                <a:latin typeface="Verdana"/>
              </a:rPr>
              <a:t>Грамматическая амплификация –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тивопоставление грамматических форм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 администрации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как играли, так и игр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в разводки и разруливания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Дискретные фиг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снове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искретных фиг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ежит звуковая сторона слов и выра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ллитера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со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п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н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ко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с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ч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д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ны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ы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ка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е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ьтическа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ро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л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вн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М.Кузьм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Ассонанс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повтор гласны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ег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рамот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1" i="1" lang="ru-RU" sz="1200" spc="-1" strike="noStrike">
                <a:solidFill>
                  <a:srgbClr val="666600"/>
                </a:solidFill>
                <a:latin typeface="Verdana"/>
              </a:rPr>
              <a:t>ую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А. Пушкин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Паронимическая аттракци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семантическом сближении слов, имеющих звуковое сходство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од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Негодна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погод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Тен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Рублева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Врубел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дач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Л. Мартынов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Утр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езжи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ожди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рызжет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(Б. Слуцкий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666600"/>
                </a:solidFill>
                <a:latin typeface="Verdana"/>
              </a:rPr>
              <a:t>Каламбу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– использование в одном контексте двух значений одного и того же слова или двух сходно звучащих слов (включая их трансформации) с целью создания комического эфф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ласт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иф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–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легко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иш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их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раздумь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з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сроч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егу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трок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от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трочки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Даж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финским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калам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буры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бращаюсь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с</a:t>
            </a:r>
            <a:r>
              <a:rPr b="0" lang="ru-RU" sz="12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666600"/>
                </a:solidFill>
                <a:latin typeface="Verdana"/>
              </a:rPr>
              <a:t>каламбуром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Д. Минае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Задание 1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Анализ текст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то касается этих заявлений / я просто могу сказать: жаль! / Мне просто жаль времени / Даже времени вот сейчас объяснять эту ситуацию – почему? / Это обычная мне кажется игра /непотребная по сему / по сегодняшним проблемам и времени / Чтобы мы могли выпустить сегодня такой мощный залп / как говорят из-за того / что кого-то / куда-то назначили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жно подумать / что у нас другого других забот нет / Я этого не понимаю / если это политическая игра / если это показуха / если она кому-то нужна / если она что-то решает и если она что-то делает / то только не то / что нужно сегодня для России и для страны /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не так и хочется сказать / Да люди! / Не обращайте вы на это внимания! / Не до этого нам сегодня и сейчас / чтобы думать и обсуждать / какого зама кому поставят / Поэтому я этого не понимаю и не приемлю / не приемлю / не до этого нам сейчас / чтобы обсуждать такие дела… 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да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анализируйте пословицы и поговор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пределите, какие качества речи осуждаются, как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ветствуются. Дополните ряд изреч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Живое слово дороже мертвой букв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ножа боится,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Слово не стрела, а раз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И хорошее слово хорошо один р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Хорошую речь хорошо и слуш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Красно поле пшеном, а беседа ум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Не говори всего, что знаешь, но знай все, что говориш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Речь хороша, когда коро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еньше говори, да больше дела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Лучше не рассказать, чем пересказа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Во многословии не без пустосло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Много говорено, да мало сказа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 окказиональны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носятся стили аргументации и стили отдельных произвед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аргументаци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представляет собой систему приемов выражения, складывающуюся в процессе обсуждения ограниченного круга проблем в конкретных общественно-исторических условия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Например, стиль полемики в русских общественно-литературных журналах </a:t>
            </a:r>
            <a:r>
              <a:rPr b="0" i="1" lang="en-US" sz="1600" spc="-1" strike="noStrike">
                <a:solidFill>
                  <a:srgbClr val="666600"/>
                </a:solidFill>
                <a:latin typeface="Verdana"/>
              </a:rPr>
              <a:t>XIX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литературного произведени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будет определяться условиями исторического стиля, принадлежностью произведения к литературному стилю, жанром, литературной школой, индивидуальным авторским стил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нятие стиля основополагающее в риторическом убеждени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«Выбрать уместный стиль общения – это значит, во-первых, предстать человеком определенного склада, во-вторых, найти индивидуальный образ речи применительно к данной аудитории» В.И. Аннушк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риторике изучается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иль речи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площенный ритором в речевых поступках. Если речь человека подразделить на то,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что?  где? и как?</a:t>
            </a:r>
            <a:r>
              <a:rPr b="0" lang="ru-RU" sz="1600" spc="-1" strike="noStrike">
                <a:solidFill>
                  <a:srgbClr val="6666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говорит, то первая часть относится к изобретению мыслей, вторая - к расположению, а третья - к стилю реч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оратор старается сформировать свой индивидуальный стил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оненты стиля речи (В.И. Аннушкин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бор слов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ксическая стилисти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слова должны быть ясными, точными, краткими, разнообразными, оптимальными с точки зрения целеполага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нтаксис речи ил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истический 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птимальное и целесообразное расположение слов в фигурах реч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роизношени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устной реч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черк, шрифты, оформл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в письменной речи (произношение включает: темп, ритм, паузы, интонацию, логическое ударение, артикуляцию, тембр, громкость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иль пластики или телодвиж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устной речи (паралингвистические средства: поза, походка, жесты, мимик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1. Качества стил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752480"/>
          <a:ext cx="8229600" cy="464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ласс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врем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т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огат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огич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ст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ффек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сообраз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монизирован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муникатив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етент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актич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ыбирая слова и словосочетания из лексических ресурсов языка, ритор обязан зн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языковой стату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збираемых им единиц (общелитературная, специальная или нелитературная лексик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характер употребл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овременном языке, его отношения к истории языка и литературной традиц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мысловы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слова в системе языка: значение слова и его семантические связи с другими слов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тиль риторического построения связан с характером движения мысли в реч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втор подает мысль таким образом, чтобы аудитория смогла воспроизвести высказывание, либо образовать мысль на основе сказанно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авномерность слога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означает, что синтаксические конструкции примерно равны объемом и степенью слож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редоставляет читателю свободу восприятия речи, не выделяет ни одной фразы в противовес друг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позволяет сосредоточиться на содержании мысли и связи суждени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едостаток -  монотоннос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равномерный слог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помогает добиться читательского интереса за счет построения речи. Создается впечатление напряженности мыс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Игра объемами фраз утомляет и раздражает, если нет движения мыс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ыбор слов и построение фраз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итность и прерывистость выражения мыс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чь по степени ритмической организованности подразделяется на стихотворную, периодическую и прозаическу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автор стремится передать мысль в максимально слитой форме – как единый познавательный образ. Все компоненты зависят друг от друга. Чтение должно происходить с определенной интонаци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рывистость слог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значает включение нескольких смысловых планов. Позволяет подавать информацию небольшими порциями. Прерывность – это свойство прозаической ре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вяз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речи может обеспечиваться специальными словами связками: </a:t>
            </a:r>
            <a:r>
              <a:rPr b="0" i="1" lang="ru-RU" sz="1600" spc="-1" strike="noStrike">
                <a:solidFill>
                  <a:srgbClr val="666600"/>
                </a:solidFill>
                <a:latin typeface="Verdana"/>
              </a:rPr>
              <a:t>следовательно, и затем, наконец, итак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бъемность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дразумевает представленность предмета речи во многих планах и перспективах. Объемность – наиболее эффективное средство построения образа. Смысловая многомерность изображения создает единый зрительный образ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во фразе один смысловой центр, то речь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но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если несколько – то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лицентричн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Моноцентричность облегчает оценку речи, при полицентричности каждая фраза нуждается в дополнительном анализе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Изобразительно-выразительные средств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юбой уровень языковой системы, а также любая единица текста может стать выразительной под влиянием  своего окруж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иторике традиционно выделяются специальные средства выразительности двух вид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троп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666600"/>
                </a:solidFill>
                <a:latin typeface="Verdana"/>
              </a:rPr>
              <a:t>фигуры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Троп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это слова и обороты, употребленные в переносном знач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игуры реч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- средства выразительности, основанные на соположении единиц в текс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11-13T06:16:3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