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F22C-47A0-4DC2-A3B5-4CE05CC02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765C-D404-4C90-B9AD-15C819BC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707B-072B-4A43-9BCB-2D9E5CDCD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6265-1E28-41D3-AFC5-9FF6F63F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E6FA-3114-42D8-A27E-6768BA41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4D86-C7ED-4180-97B0-DB63E0EE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F377-0637-46BE-B309-C57D8AA4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8A2F-B993-4DEB-BA95-69DAFB42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9961-B921-47FA-83CF-765F6C13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D611-05AC-480E-B4DF-FD121130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FE93-4F48-46E8-9ACD-F837AE92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EA7F-7283-45C4-B200-7D76D1BB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561F-F16E-4A3C-B9E2-15912B24F5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http://poradumo.com.ua/wp-content/uploads/2015/12/304da11d850ca3b66624daad8decfdf0.jpg"/>
          <p:cNvPicPr/>
          <p:nvPr/>
        </p:nvPicPr>
        <p:blipFill>
          <a:blip r:embed="rId1"/>
          <a:stretch/>
        </p:blipFill>
        <p:spPr>
          <a:xfrm>
            <a:off x="2819520" y="1676520"/>
            <a:ext cx="3819240" cy="49910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5"/>
          <p:cNvSpPr/>
          <p:nvPr/>
        </p:nvSpPr>
        <p:spPr>
          <a:xfrm>
            <a:off x="685800" y="6858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ило та Мефод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 – засновники слов’янської азбу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2" descr="http://poradumo.com.ua/wp-content/uploads/2015/12/304da11d850ca3b66624daad8decfdf0.jpg"/>
          <p:cNvPicPr/>
          <p:nvPr/>
        </p:nvPicPr>
        <p:blipFill>
          <a:blip r:embed="rId2"/>
          <a:stretch/>
        </p:blipFill>
        <p:spPr>
          <a:xfrm>
            <a:off x="2971800" y="1828800"/>
            <a:ext cx="3819600" cy="499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685800" y="76212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ый язык славян, который дошел к нам, зафиксирован в рукописных памятниках двумя алфавитами – глаголицей и кириллиц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Содержимое 5" descr="&amp;Scy;&amp;lcy;&amp;ocy;&amp;vcy;&amp;yacy;&amp;ncy;&amp;scy;&amp;softcy;&amp;kcy;&amp;iukcy; &amp;acy;&amp;bcy;&amp;iecy;&amp;tcy;&amp;kcy;&amp;icy;"/>
          <p:cNvPicPr/>
          <p:nvPr/>
        </p:nvPicPr>
        <p:blipFill>
          <a:blip r:embed="rId1"/>
          <a:stretch/>
        </p:blipFill>
        <p:spPr>
          <a:xfrm>
            <a:off x="2438280" y="1981080"/>
            <a:ext cx="5738760" cy="38815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2209680" y="762120"/>
            <a:ext cx="5342040" cy="518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http://upload.wikimedia.org/wikipedia/commons/7/7b/Glagoljica_uglata.jpg"/>
          <p:cNvPicPr/>
          <p:nvPr/>
        </p:nvPicPr>
        <p:blipFill>
          <a:blip r:embed="rId1"/>
          <a:stretch/>
        </p:blipFill>
        <p:spPr>
          <a:xfrm>
            <a:off x="4876920" y="838080"/>
            <a:ext cx="3643200" cy="45007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762120" y="914400"/>
            <a:ext cx="403848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иц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гласно памятников того же времени, имела                      40 бук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 из них служили для передачи почти тех же звуков, буквы кириллицы, а одна – «Гервей», отсутствует в кириллице, предназначалась для мягкого 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743200" y="64224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ЪЛГАРСКА АБ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Болгарська мова"/>
          <p:cNvPicPr/>
          <p:nvPr/>
        </p:nvPicPr>
        <p:blipFill>
          <a:blip r:embed="rId1"/>
          <a:stretch/>
        </p:blipFill>
        <p:spPr>
          <a:xfrm>
            <a:off x="1523880" y="1371600"/>
            <a:ext cx="6782040" cy="426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2743200" y="64224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РАИНСКИЙ АЛФ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notebook\Desktop\6ccbd3ed2cbf7dced3953edbb11fedaad37cefb6.jpeg"/>
          <p:cNvPicPr/>
          <p:nvPr/>
        </p:nvPicPr>
        <p:blipFill>
          <a:blip r:embed="rId1"/>
          <a:stretch/>
        </p:blipFill>
        <p:spPr>
          <a:xfrm>
            <a:off x="762120" y="1295280"/>
            <a:ext cx="7696080" cy="4784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2819520" y="64224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АЛФ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Картинки по запросу русский алфавит"/>
          <p:cNvPicPr/>
          <p:nvPr/>
        </p:nvPicPr>
        <p:blipFill>
          <a:blip r:embed="rId1"/>
          <a:stretch/>
        </p:blipFill>
        <p:spPr>
          <a:xfrm>
            <a:off x="2133720" y="1219320"/>
            <a:ext cx="5238720" cy="481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polzovatel</cp:lastModifiedBy>
  <dcterms:modified xsi:type="dcterms:W3CDTF">2018-05-23T16:02:22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