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A17D-FBFE-4F89-A8E2-1895962CE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8248-B9AF-4084-AD50-D941A3893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DFE5-1BE4-4E6D-9070-FE502046D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92CC-D973-4541-9C57-DBD686306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4BA3-E5B2-45AC-AA25-1F700E706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E7EA-3C6D-48D1-9440-A2DAC2400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81C2-49C8-4A52-A30D-B07D1CD17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8909-F4F4-4F37-8F41-3E9282446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7ADB-6E84-4178-BD3C-72421AA3E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9BD9-F516-48D7-B4FA-0448C0B6D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F7C0-6B84-4740-9AA1-FD128093D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9573-C3A9-4873-80E0-4F88407CD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2BD47-9908-46E5-8084-ADCEB60830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2" descr="http://poradumo.com.ua/wp-content/uploads/2015/12/304da11d850ca3b66624daad8decfdf0.jpg"/>
          <p:cNvPicPr/>
          <p:nvPr/>
        </p:nvPicPr>
        <p:blipFill>
          <a:blip r:embed="rId1"/>
          <a:stretch/>
        </p:blipFill>
        <p:spPr>
          <a:xfrm>
            <a:off x="2819520" y="1676520"/>
            <a:ext cx="3819240" cy="499104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5"/>
          <p:cNvSpPr/>
          <p:nvPr/>
        </p:nvSpPr>
        <p:spPr>
          <a:xfrm>
            <a:off x="685800" y="6858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рило та Мефод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й – засновники слов’янської азбу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2" descr="http://poradumo.com.ua/wp-content/uploads/2015/12/304da11d850ca3b66624daad8decfdf0.jpg"/>
          <p:cNvPicPr/>
          <p:nvPr/>
        </p:nvPicPr>
        <p:blipFill>
          <a:blip r:embed="rId2"/>
          <a:stretch/>
        </p:blipFill>
        <p:spPr>
          <a:xfrm>
            <a:off x="2971800" y="1828800"/>
            <a:ext cx="3819600" cy="4991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685800" y="762120"/>
            <a:ext cx="784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ный язык славян, который дошел к нам, зафиксирован в рукописных памятниках двумя алфавитами – глаголицей и кириллиц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Содержимое 5" descr="&amp;Scy;&amp;lcy;&amp;ocy;&amp;vcy;&amp;yacy;&amp;ncy;&amp;scy;&amp;softcy;&amp;kcy;&amp;iukcy; &amp;acy;&amp;bcy;&amp;iecy;&amp;tcy;&amp;kcy;&amp;icy;"/>
          <p:cNvPicPr/>
          <p:nvPr/>
        </p:nvPicPr>
        <p:blipFill>
          <a:blip r:embed="rId1"/>
          <a:stretch/>
        </p:blipFill>
        <p:spPr>
          <a:xfrm>
            <a:off x="2438280" y="1981080"/>
            <a:ext cx="5738760" cy="388152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Похожее изображение"/>
          <p:cNvPicPr/>
          <p:nvPr/>
        </p:nvPicPr>
        <p:blipFill>
          <a:blip r:embed="rId1"/>
          <a:stretch/>
        </p:blipFill>
        <p:spPr>
          <a:xfrm>
            <a:off x="2209680" y="762120"/>
            <a:ext cx="5342040" cy="5189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http://upload.wikimedia.org/wikipedia/commons/7/7b/Glagoljica_uglata.jpg"/>
          <p:cNvPicPr/>
          <p:nvPr/>
        </p:nvPicPr>
        <p:blipFill>
          <a:blip r:embed="rId1"/>
          <a:stretch/>
        </p:blipFill>
        <p:spPr>
          <a:xfrm>
            <a:off x="4876920" y="838080"/>
            <a:ext cx="3643200" cy="450072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2"/>
          <p:cNvSpPr/>
          <p:nvPr/>
        </p:nvSpPr>
        <p:spPr>
          <a:xfrm>
            <a:off x="762120" y="914400"/>
            <a:ext cx="4038480" cy="38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лаголиц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огласно памятников того же времени, имела                      40 бук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 из них служили для передачи почти тех же звуков, буквы кириллицы, а одна – «Гервей», отсутствует в кириллице, предназначалась для мягкого 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2743200" y="64224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ЪЛГАРСКА АБЕ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2" descr="Болгарська мова"/>
          <p:cNvPicPr/>
          <p:nvPr/>
        </p:nvPicPr>
        <p:blipFill>
          <a:blip r:embed="rId1"/>
          <a:stretch/>
        </p:blipFill>
        <p:spPr>
          <a:xfrm>
            <a:off x="1523880" y="1371600"/>
            <a:ext cx="6782040" cy="4267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2743200" y="64224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КРАИНСКИЙ АЛФАВ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C:\Users\notebook\Desktop\6ccbd3ed2cbf7dced3953edbb11fedaad37cefb6.jpeg"/>
          <p:cNvPicPr/>
          <p:nvPr/>
        </p:nvPicPr>
        <p:blipFill>
          <a:blip r:embed="rId1"/>
          <a:stretch/>
        </p:blipFill>
        <p:spPr>
          <a:xfrm>
            <a:off x="762120" y="1295280"/>
            <a:ext cx="7696080" cy="4784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"/>
          <p:cNvSpPr/>
          <p:nvPr/>
        </p:nvSpPr>
        <p:spPr>
          <a:xfrm>
            <a:off x="2819520" y="642240"/>
            <a:ext cx="464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УССКИЙ АЛФАВ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Картинки по запросу русский алфавит"/>
          <p:cNvPicPr/>
          <p:nvPr/>
        </p:nvPicPr>
        <p:blipFill>
          <a:blip r:embed="rId1"/>
          <a:stretch/>
        </p:blipFill>
        <p:spPr>
          <a:xfrm>
            <a:off x="2133720" y="1219320"/>
            <a:ext cx="5238720" cy="4819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8:46:57Z</dcterms:created>
  <dc:creator>User</dc:creator>
  <dc:description/>
  <dc:language>en-US</dc:language>
  <cp:lastModifiedBy>polzovatel</cp:lastModifiedBy>
  <dcterms:modified xsi:type="dcterms:W3CDTF">2018-05-23T16:02:22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