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944-BF77-4179-A1AB-205348FD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3420-F8DE-44CA-B57B-382CCBBB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DBE-DC38-4BEA-A9EE-30E6FE46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5165-777E-4D2E-91A8-F78EC28E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FF0-4B20-4D45-834C-E53AFB22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468A-79F1-42D0-8410-19329DFA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B334-BAF7-43D6-9A83-EB146067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D74-37FE-4230-BBA5-90DEB903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B27E-1899-462B-8E42-C7B1AA88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DCA-F799-4A75-967F-51D7FF59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E4E5-A3DB-4FE7-A6EC-4C53A1C2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CA2E-8841-45D1-A159-354D04FC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BA21-BF59-4845-88A4-DD9514E9B1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http://poradumo.com.ua/wp-content/uploads/2015/12/304da11d850ca3b66624daad8decfdf0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19240" cy="4991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685800" y="685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о та Мефод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– засновники слов’янської азб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http://poradumo.com.ua/wp-content/uploads/2015/12/304da11d850ca3b66624daad8decfdf0.jpg"/>
          <p:cNvPicPr/>
          <p:nvPr/>
        </p:nvPicPr>
        <p:blipFill>
          <a:blip r:embed="rId2"/>
          <a:stretch/>
        </p:blipFill>
        <p:spPr>
          <a:xfrm>
            <a:off x="2971800" y="1828800"/>
            <a:ext cx="3819600" cy="49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5800" y="7621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язык славян, который дошел к нам, зафиксирован в рукописных памятниках двумя алфавитами – глаголицей и кириллиц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5" descr="&amp;Scy;&amp;lcy;&amp;ocy;&amp;vcy;&amp;yacy;&amp;ncy;&amp;scy;&amp;softcy;&amp;kcy;&amp;iukcy; &amp;acy;&amp;bcy;&amp;iecy;&amp;tcy;&amp;kcy;&amp;icy;"/>
          <p:cNvPicPr/>
          <p:nvPr/>
        </p:nvPicPr>
        <p:blipFill>
          <a:blip r:embed="rId1"/>
          <a:stretch/>
        </p:blipFill>
        <p:spPr>
          <a:xfrm>
            <a:off x="2438280" y="1981080"/>
            <a:ext cx="5738760" cy="3881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2209680" y="762120"/>
            <a:ext cx="5342040" cy="51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upload.wikimedia.org/wikipedia/commons/7/7b/Glagoljica_uglata.jpg"/>
          <p:cNvPicPr/>
          <p:nvPr/>
        </p:nvPicPr>
        <p:blipFill>
          <a:blip r:embed="rId1"/>
          <a:stretch/>
        </p:blipFill>
        <p:spPr>
          <a:xfrm>
            <a:off x="4876920" y="838080"/>
            <a:ext cx="3643200" cy="4500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762120" y="914400"/>
            <a:ext cx="40384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памятников того же времени, имела                      40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из них служили для передачи почти тех же звуков, буквы кириллицы, а одна – «Гервей», отсутствует в кириллице, предназначалась для мягкого 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ЪЛГАРСКА АБ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Болгарська мова"/>
          <p:cNvPicPr/>
          <p:nvPr/>
        </p:nvPicPr>
        <p:blipFill>
          <a:blip r:embed="rId1"/>
          <a:stretch/>
        </p:blipFill>
        <p:spPr>
          <a:xfrm>
            <a:off x="1523880" y="1371600"/>
            <a:ext cx="678204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ИН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notebook\Desktop\6ccbd3ed2cbf7dced3953edbb11fedaad37cefb6.jpeg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478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19520" y="64224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и по запросу русский алфавит"/>
          <p:cNvPicPr/>
          <p:nvPr/>
        </p:nvPicPr>
        <p:blipFill>
          <a:blip r:embed="rId1"/>
          <a:stretch/>
        </p:blipFill>
        <p:spPr>
          <a:xfrm>
            <a:off x="2133720" y="1219320"/>
            <a:ext cx="5238720" cy="48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polzovatel</cp:lastModifiedBy>
  <dcterms:modified xsi:type="dcterms:W3CDTF">2018-05-23T16:02:2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