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A033-3D3D-4BA7-9B35-263125E6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73B-E614-4095-B891-4924211D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5CCE-7481-4B05-816F-95AFD00F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33C8-EC2F-4DAD-A05D-8E17CA04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06CD-2142-40C4-BB62-20D91530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F1BF-11FA-4E08-B248-30F3A90C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CC3D-22D2-417D-ABCE-0E30DD46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F689-3F33-448C-B396-0DC550FB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8E58-6F20-4DBE-B8DF-92B069CF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D0B5-9E9C-48A8-9704-5857F030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47C4-F967-4B37-99C0-84A25ED9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905-E065-4CC1-8596-FEBA0D30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6BEC-2DD2-4F44-A4AA-7EA0135C57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http://poradumo.com.ua/wp-content/uploads/2015/12/304da11d850ca3b66624daad8decfdf0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19240" cy="49910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685800" y="685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ило та Мефод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– засновники слов’янської азб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http://poradumo.com.ua/wp-content/uploads/2015/12/304da11d850ca3b66624daad8decfdf0.jpg"/>
          <p:cNvPicPr/>
          <p:nvPr/>
        </p:nvPicPr>
        <p:blipFill>
          <a:blip r:embed="rId2"/>
          <a:stretch/>
        </p:blipFill>
        <p:spPr>
          <a:xfrm>
            <a:off x="2971800" y="1828800"/>
            <a:ext cx="3819600" cy="499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5800" y="7621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й язык славян, который дошел к нам, зафиксирован в рукописных памятниках двумя алфавитами – глаголицей и кириллиц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5" descr="&amp;Scy;&amp;lcy;&amp;ocy;&amp;vcy;&amp;yacy;&amp;ncy;&amp;scy;&amp;softcy;&amp;kcy;&amp;iukcy; &amp;acy;&amp;bcy;&amp;iecy;&amp;tcy;&amp;kcy;&amp;icy;"/>
          <p:cNvPicPr/>
          <p:nvPr/>
        </p:nvPicPr>
        <p:blipFill>
          <a:blip r:embed="rId1"/>
          <a:stretch/>
        </p:blipFill>
        <p:spPr>
          <a:xfrm>
            <a:off x="2438280" y="1981080"/>
            <a:ext cx="5738760" cy="3881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2209680" y="762120"/>
            <a:ext cx="5342040" cy="51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upload.wikimedia.org/wikipedia/commons/7/7b/Glagoljica_uglata.jpg"/>
          <p:cNvPicPr/>
          <p:nvPr/>
        </p:nvPicPr>
        <p:blipFill>
          <a:blip r:embed="rId1"/>
          <a:stretch/>
        </p:blipFill>
        <p:spPr>
          <a:xfrm>
            <a:off x="4876920" y="838080"/>
            <a:ext cx="3643200" cy="4500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762120" y="914400"/>
            <a:ext cx="40384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и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гласно памятников того же времени, имела                      40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из них служили для передачи почти тех же звуков, буквы кириллицы, а одна – «Гервей», отсутствует в кириллице, предназначалась для мягкого 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ЪЛГАРСКА АБ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Болгарська мова"/>
          <p:cNvPicPr/>
          <p:nvPr/>
        </p:nvPicPr>
        <p:blipFill>
          <a:blip r:embed="rId1"/>
          <a:stretch/>
        </p:blipFill>
        <p:spPr>
          <a:xfrm>
            <a:off x="1523880" y="1371600"/>
            <a:ext cx="678204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РАИН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notebook\Desktop\6ccbd3ed2cbf7dced3953edbb11fedaad37cefb6.jpeg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478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819520" y="64224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и по запросу русский алфавит"/>
          <p:cNvPicPr/>
          <p:nvPr/>
        </p:nvPicPr>
        <p:blipFill>
          <a:blip r:embed="rId1"/>
          <a:stretch/>
        </p:blipFill>
        <p:spPr>
          <a:xfrm>
            <a:off x="2133720" y="1219320"/>
            <a:ext cx="5238720" cy="48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polzovatel</cp:lastModifiedBy>
  <dcterms:modified xsi:type="dcterms:W3CDTF">2018-05-23T16:02:2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