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F5CE-1204-44FD-AB8C-E175A70FE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20EA-64F4-416A-9BB2-8F00262B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4027-142E-4AD6-B160-C2AF9BAE7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D3A5-E10D-4D43-9CCD-BB16CF37A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B9A9-30FC-4410-8041-9AC4E0D7B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F72A-239D-4264-B612-B3B8B1350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DAC6-7068-4013-ABFA-B83B1C043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12A2-1AFF-4EB5-B372-9A22D0E9A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3F6A-B725-43D3-8464-E9C606482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59DE-7BA5-483C-83BA-EFDA8C1E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1009-25AF-40E6-A87F-B6E803D7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0720-177E-4F67-ACB2-6E7EB712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6F3B9-5117-421F-913D-6D81440DE8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http://poradumo.com.ua/wp-content/uploads/2015/12/304da11d850ca3b66624daad8decfdf0.jpg"/>
          <p:cNvPicPr/>
          <p:nvPr/>
        </p:nvPicPr>
        <p:blipFill>
          <a:blip r:embed="rId1"/>
          <a:stretch/>
        </p:blipFill>
        <p:spPr>
          <a:xfrm>
            <a:off x="2819520" y="1676520"/>
            <a:ext cx="3819240" cy="499104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5"/>
          <p:cNvSpPr/>
          <p:nvPr/>
        </p:nvSpPr>
        <p:spPr>
          <a:xfrm>
            <a:off x="685800" y="6858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рило та Мефод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й – засновники слов’янської азбу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2" descr="http://poradumo.com.ua/wp-content/uploads/2015/12/304da11d850ca3b66624daad8decfdf0.jpg"/>
          <p:cNvPicPr/>
          <p:nvPr/>
        </p:nvPicPr>
        <p:blipFill>
          <a:blip r:embed="rId2"/>
          <a:stretch/>
        </p:blipFill>
        <p:spPr>
          <a:xfrm>
            <a:off x="2971800" y="1828800"/>
            <a:ext cx="3819600" cy="4991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685800" y="762120"/>
            <a:ext cx="784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ный язык славян, который дошел к нам, зафиксирован в рукописных памятниках двумя алфавитами – глаголицей и кириллиц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Содержимое 5" descr="&amp;Scy;&amp;lcy;&amp;ocy;&amp;vcy;&amp;yacy;&amp;ncy;&amp;scy;&amp;softcy;&amp;kcy;&amp;iukcy; &amp;acy;&amp;bcy;&amp;iecy;&amp;tcy;&amp;kcy;&amp;icy;"/>
          <p:cNvPicPr/>
          <p:nvPr/>
        </p:nvPicPr>
        <p:blipFill>
          <a:blip r:embed="rId1"/>
          <a:stretch/>
        </p:blipFill>
        <p:spPr>
          <a:xfrm>
            <a:off x="2438280" y="1981080"/>
            <a:ext cx="5738760" cy="38815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Похожее изображение"/>
          <p:cNvPicPr/>
          <p:nvPr/>
        </p:nvPicPr>
        <p:blipFill>
          <a:blip r:embed="rId1"/>
          <a:stretch/>
        </p:blipFill>
        <p:spPr>
          <a:xfrm>
            <a:off x="2209680" y="762120"/>
            <a:ext cx="5342040" cy="5189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http://upload.wikimedia.org/wikipedia/commons/7/7b/Glagoljica_uglata.jpg"/>
          <p:cNvPicPr/>
          <p:nvPr/>
        </p:nvPicPr>
        <p:blipFill>
          <a:blip r:embed="rId1"/>
          <a:stretch/>
        </p:blipFill>
        <p:spPr>
          <a:xfrm>
            <a:off x="4876920" y="838080"/>
            <a:ext cx="3643200" cy="450072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2"/>
          <p:cNvSpPr/>
          <p:nvPr/>
        </p:nvSpPr>
        <p:spPr>
          <a:xfrm>
            <a:off x="762120" y="914400"/>
            <a:ext cx="403848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аголиц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огласно памятников того же времени, имела                      40 бук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 из них служили для передачи почти тех же звуков, буквы кириллицы, а одна – «Гервей», отсутствует в кириллице, предназначалась для мягкого 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2743200" y="64224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ЪЛГАРСКА АБЕ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2" descr="Болгарська мова"/>
          <p:cNvPicPr/>
          <p:nvPr/>
        </p:nvPicPr>
        <p:blipFill>
          <a:blip r:embed="rId1"/>
          <a:stretch/>
        </p:blipFill>
        <p:spPr>
          <a:xfrm>
            <a:off x="1523880" y="1371600"/>
            <a:ext cx="6782040" cy="4267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2743200" y="64224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КРАИНСКИЙ АЛФАВ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C:\Users\notebook\Desktop\6ccbd3ed2cbf7dced3953edbb11fedaad37cefb6.jpeg"/>
          <p:cNvPicPr/>
          <p:nvPr/>
        </p:nvPicPr>
        <p:blipFill>
          <a:blip r:embed="rId1"/>
          <a:stretch/>
        </p:blipFill>
        <p:spPr>
          <a:xfrm>
            <a:off x="762120" y="1295280"/>
            <a:ext cx="7696080" cy="4784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2819520" y="64224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ИЙ АЛФАВ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Картинки по запросу русский алфавит"/>
          <p:cNvPicPr/>
          <p:nvPr/>
        </p:nvPicPr>
        <p:blipFill>
          <a:blip r:embed="rId1"/>
          <a:stretch/>
        </p:blipFill>
        <p:spPr>
          <a:xfrm>
            <a:off x="2133720" y="1219320"/>
            <a:ext cx="5238720" cy="4819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8:46:57Z</dcterms:created>
  <dc:creator>User</dc:creator>
  <dc:description/>
  <dc:language>en-US</dc:language>
  <cp:lastModifiedBy>polzovatel</cp:lastModifiedBy>
  <dcterms:modified xsi:type="dcterms:W3CDTF">2018-05-23T16:02:22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