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37D-5D3B-4EB9-9D8D-482D9B5713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F4F-D750-430E-852E-B028A742C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6C0-5439-4612-9270-A66BB84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776-F112-4D44-A172-43A79DFF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093-010C-45B6-A244-13D2836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041-8CDA-4F0D-AA39-E3D52CFF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73F-9F30-44BA-B8D3-05BECC8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B69-AD33-4E83-A2C2-A9D76F6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585-443B-4FC6-99CE-1476CBC5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0DD-6B79-49F2-BD86-3417231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63D-AF61-431A-A8DF-F64B911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9C-9322-4EA7-A9B5-1BA109D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44D-FB2B-4CA8-979B-99BBB17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04A-E875-49EE-98E4-88A8113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B087-4457-4D78-9B20-BC89636DCB2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ssuu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ewspapers.com/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s://www.rbc.ua/ukr/lnews/sozdana-pervaya-mire-tsvetnaya-elektronnaya-1464266791.html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fnfkyXGYAo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руковані ЗМІ на сучасному етапі в Україні та сві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4080" y="160020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лек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41148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е з найперших онлайнових видань «The Electronic Trib» засноване в грудні 1990 р. звичайною американською газе-тою «The Albuquerque Tribune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electronic_trib"/>
          <p:cNvPicPr/>
          <p:nvPr/>
        </p:nvPicPr>
        <p:blipFill>
          <a:blip r:embed="rId1"/>
          <a:stretch/>
        </p:blipFill>
        <p:spPr>
          <a:xfrm>
            <a:off x="4788000" y="2492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1143000" y="836640"/>
            <a:ext cx="7389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Рання діяльність преси в інтернеті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Сторінка газети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cago Tribune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” на сайті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рталу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erica Online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” у 90-х р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hicago_online"/>
          <p:cNvPicPr/>
          <p:nvPr/>
        </p:nvPicPr>
        <p:blipFill>
          <a:blip r:embed="rId1"/>
          <a:stretch/>
        </p:blipFill>
        <p:spPr>
          <a:xfrm>
            <a:off x="2050920" y="220500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00cc"/>
                </a:solidFill>
                <a:latin typeface="Arial"/>
              </a:rPr>
              <a:t>Для порівня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айт газети «Chicago Tribune» сьогод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hTr"/>
          <p:cNvPicPr/>
          <p:nvPr/>
        </p:nvPicPr>
        <p:blipFill>
          <a:blip r:embed="rId1"/>
          <a:stretch/>
        </p:blipFill>
        <p:spPr>
          <a:xfrm>
            <a:off x="1763640" y="2492280"/>
            <a:ext cx="5695920" cy="355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Сучасний вигляд сайту газети “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USA To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юса"/>
          <p:cNvPicPr/>
          <p:nvPr/>
        </p:nvPicPr>
        <p:blipFill>
          <a:blip r:embed="rId1"/>
          <a:stretch/>
        </p:blipFill>
        <p:spPr>
          <a:xfrm>
            <a:off x="1143000" y="1752480"/>
            <a:ext cx="6973920" cy="454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Сучасний вигляд сайту видання </a:t>
            </a:r>
            <a:br>
              <a:rPr sz="2800"/>
            </a:br>
            <a:r>
              <a:rPr b="1" lang="uk-UA" sz="2800" spc="-1" strike="noStrike">
                <a:solidFill>
                  <a:srgbClr val="00b0f0"/>
                </a:solidFill>
                <a:latin typeface="Arial"/>
              </a:rPr>
              <a:t>«The Guardian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гардіан сучасн"/>
          <p:cNvPicPr/>
          <p:nvPr/>
        </p:nvPicPr>
        <p:blipFill>
          <a:blip r:embed="rId1"/>
          <a:stretch/>
        </p:blipFill>
        <p:spPr>
          <a:xfrm>
            <a:off x="1752480" y="1600200"/>
            <a:ext cx="5661000" cy="49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айт газети “День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день сього"/>
          <p:cNvPicPr/>
          <p:nvPr/>
        </p:nvPicPr>
        <p:blipFill>
          <a:blip r:embed="rId1"/>
          <a:stretch/>
        </p:blipFill>
        <p:spPr>
          <a:xfrm>
            <a:off x="971640" y="1413000"/>
            <a:ext cx="72612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Сайт газети “Дзеркало тиж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дзер-тижні-рекл"/>
          <p:cNvPicPr/>
          <p:nvPr/>
        </p:nvPicPr>
        <p:blipFill>
          <a:blip r:embed="rId1"/>
          <a:stretch/>
        </p:blipFill>
        <p:spPr>
          <a:xfrm>
            <a:off x="1143000" y="1828800"/>
            <a:ext cx="6859440" cy="409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архів"/>
          <p:cNvPicPr/>
          <p:nvPr/>
        </p:nvPicPr>
        <p:blipFill>
          <a:blip r:embed="rId1"/>
          <a:stretch/>
        </p:blipFill>
        <p:spPr>
          <a:xfrm>
            <a:off x="1752480" y="1676520"/>
            <a:ext cx="6164280" cy="467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рхіви – одна з додаткових можливостей преси в інтернет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інтернеті друковані видання можуть використовувати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рім текстів і фото,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і завгодно формати: аудіо, відео, анімацію, слайди тощ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(це так звана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мультимедійніст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уть публікувати нові повідомлення частіше, ніж виходить газета/журн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игф"/>
          <p:cNvPicPr/>
          <p:nvPr/>
        </p:nvPicPr>
        <p:blipFill>
          <a:blip r:embed="rId1"/>
          <a:stretch/>
        </p:blipFill>
        <p:spPr>
          <a:xfrm>
            <a:off x="1981080" y="1752480"/>
            <a:ext cx="5948640" cy="46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Інша можливість – інтерактивне спілк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be0e3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оманіття друкованих видань на сучасному медіари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ори, які впливають на сучасний стан пре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актори, які обумовлюють імовірні напрями розвитку преси в майбутнь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Розмови про «смерть преси» вочевидь перебільшен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смпр"/>
          <p:cNvPicPr/>
          <p:nvPr/>
        </p:nvPicPr>
        <p:blipFill>
          <a:blip r:embed="rId1"/>
          <a:stretch/>
        </p:blipFill>
        <p:spPr>
          <a:xfrm>
            <a:off x="1447920" y="2209680"/>
            <a:ext cx="6254640" cy="3918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0769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Критики констатують: преса </a:t>
            </a:r>
            <a:br>
              <a:rPr sz="3600"/>
            </a:b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в наші дні “підживлюється” </a:t>
            </a:r>
            <a:br>
              <a:rPr sz="3600"/>
            </a:br>
            <a:r>
              <a:rPr b="1" lang="uk-UA" sz="3600" spc="-1" strike="noStrike">
                <a:solidFill>
                  <a:srgbClr val="cc00cc"/>
                </a:solidFill>
                <a:latin typeface="Arial"/>
              </a:rPr>
              <a:t>з інтерне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9"/>
          <p:cNvPicPr/>
          <p:nvPr/>
        </p:nvPicPr>
        <p:blipFill>
          <a:blip r:embed="rId1"/>
          <a:stretch/>
        </p:blipFill>
        <p:spPr>
          <a:xfrm>
            <a:off x="1763640" y="2349360"/>
            <a:ext cx="5715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руковані видання в електронному вигляді 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suu.com/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світ публ"/>
          <p:cNvPicPr/>
          <p:nvPr/>
        </p:nvPicPr>
        <p:blipFill>
          <a:blip r:embed="rId2"/>
          <a:stretch/>
        </p:blipFill>
        <p:spPr>
          <a:xfrm>
            <a:off x="1905120" y="1600200"/>
            <a:ext cx="5630760" cy="470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597a0"/>
                </a:solidFill>
                <a:latin typeface="Arial"/>
              </a:rPr>
              <a:t>Електронний “Кобзар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кобз"/>
          <p:cNvPicPr/>
          <p:nvPr/>
        </p:nvPicPr>
        <p:blipFill>
          <a:blip r:embed="rId1"/>
          <a:stretch/>
        </p:blipFill>
        <p:spPr>
          <a:xfrm>
            <a:off x="1258920" y="1700280"/>
            <a:ext cx="69120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Так розміщують також і газети,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днл"/>
          <p:cNvPicPr/>
          <p:nvPr/>
        </p:nvPicPr>
        <p:blipFill>
          <a:blip r:embed="rId1"/>
          <a:stretch/>
        </p:blipFill>
        <p:spPr>
          <a:xfrm>
            <a:off x="1187280" y="1628640"/>
            <a:ext cx="6820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які можна горта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днл2"/>
          <p:cNvPicPr/>
          <p:nvPr/>
        </p:nvPicPr>
        <p:blipFill>
          <a:blip r:embed="rId1"/>
          <a:stretch/>
        </p:blipFill>
        <p:spPr>
          <a:xfrm>
            <a:off x="1042920" y="1773360"/>
            <a:ext cx="74138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ша подібна веб-платформа: olivesoftwa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оліве"/>
          <p:cNvPicPr/>
          <p:nvPr/>
        </p:nvPicPr>
        <p:blipFill>
          <a:blip r:embed="rId1"/>
          <a:stretch/>
        </p:blipFill>
        <p:spPr>
          <a:xfrm>
            <a:off x="1600200" y="1752480"/>
            <a:ext cx="6180120" cy="4702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Відкривається електронне видання газети “</a:t>
            </a:r>
            <a:r>
              <a:rPr b="1" lang="uk-UA" sz="4000" spc="-1" strike="noStrike">
                <a:solidFill>
                  <a:srgbClr val="cc00cc"/>
                </a:solidFill>
                <a:latin typeface="Arial"/>
              </a:rPr>
              <a:t>Financial Times”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електр вид"/>
          <p:cNvPicPr/>
          <p:nvPr/>
        </p:nvPicPr>
        <p:blipFill>
          <a:blip r:embed="rId1"/>
          <a:stretch/>
        </p:blipFill>
        <p:spPr>
          <a:xfrm>
            <a:off x="2286000" y="1981080"/>
            <a:ext cx="4653000" cy="403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Електронне видання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газети “Financial Times” в Інтерне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фт"/>
          <p:cNvPicPr/>
          <p:nvPr/>
        </p:nvPicPr>
        <p:blipFill>
          <a:blip r:embed="rId1"/>
          <a:stretch/>
        </p:blipFill>
        <p:spPr>
          <a:xfrm>
            <a:off x="1752480" y="1828800"/>
            <a:ext cx="6042240" cy="44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А це веб-сайт “Financial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фтсайи"/>
          <p:cNvPicPr/>
          <p:nvPr/>
        </p:nvPicPr>
        <p:blipFill>
          <a:blip r:embed="rId1"/>
          <a:stretch/>
        </p:blipFill>
        <p:spPr>
          <a:xfrm>
            <a:off x="1752480" y="1676520"/>
            <a:ext cx="6027840" cy="474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62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Газети/журнали розрізняються, насамперед, за такими критері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9944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астота вих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ість виконання, форм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матика, жанрове наповн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бся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льова аудиторія (вік, стать, професія тощ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посіб поширення, при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радиційна преса чи інтегрована з новими меді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деологічне забарвлення (незалежна преса, партійна, приховано-заангажов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новники (державні, комунальні, відомчі, партійні, комерційні, громадські тощ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сі електронні додатки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“Financial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фтдодатки"/>
          <p:cNvPicPr/>
          <p:nvPr/>
        </p:nvPicPr>
        <p:blipFill>
          <a:blip r:embed="rId1"/>
          <a:stretch/>
        </p:blipFill>
        <p:spPr>
          <a:xfrm>
            <a:off x="2133720" y="1676520"/>
            <a:ext cx="5021280" cy="467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Варто знати: 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проект “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Newspapers</a:t>
            </a:r>
            <a:r>
              <a:rPr b="1" lang="uk-UA" sz="3200" spc="-1" strike="noStrike">
                <a:solidFill>
                  <a:srgbClr val="cc00cc"/>
                </a:solidFill>
                <a:latin typeface="Arial"/>
              </a:rPr>
              <a:t>” </a:t>
            </a:r>
            <a:r>
              <a:rPr b="1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wspapers.com/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gazety"/>
          <p:cNvPicPr/>
          <p:nvPr/>
        </p:nvPicPr>
        <p:blipFill>
          <a:blip r:embed="rId2"/>
          <a:stretch/>
        </p:blipFill>
        <p:spPr>
          <a:xfrm>
            <a:off x="1600200" y="1676520"/>
            <a:ext cx="6143760" cy="486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Мобільні версії видання “Кореспондент”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коресп моб"/>
          <p:cNvPicPr/>
          <p:nvPr/>
        </p:nvPicPr>
        <p:blipFill>
          <a:blip r:embed="rId1"/>
          <a:stretch/>
        </p:blipFill>
        <p:spPr>
          <a:xfrm>
            <a:off x="2514600" y="1371600"/>
            <a:ext cx="4487760" cy="496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Канал журналу “Новое время”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в месенджері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le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Безымянный"/>
          <p:cNvPicPr/>
          <p:nvPr/>
        </p:nvPicPr>
        <p:blipFill>
          <a:blip r:embed="rId1"/>
          <a:stretch/>
        </p:blipFill>
        <p:spPr>
          <a:xfrm>
            <a:off x="990720" y="1905120"/>
            <a:ext cx="7180200" cy="4659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А що в майбутньо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лід звернути увагу на новини про розвиток нових технологій, як-от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електронний папі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Почитайте: 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ворений перший в світі повнокольоровий електронний папір»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rbc.ua/ukr/lnews/sozdana-pervaya-mire-tsvetnaya-elektronnaya-1464266791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Arial"/>
              </a:rPr>
              <a:t>Для натхнення </a:t>
            </a:r>
            <a:r>
              <a:rPr b="0" lang="uk-UA" sz="4400" spc="-1" strike="noStrike">
                <a:solidFill>
                  <a:srgbClr val="ffc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904760"/>
            <a:ext cx="3809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 «Гарри Поттере»: живые фото в газете «Красный проспект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NfnfkyXGY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111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Деякі найбільш відомі українські </a:t>
            </a:r>
            <a:br>
              <a:rPr sz="3200"/>
            </a:b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друковані ЗМІ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704360" cy="37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Газе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зеркало тижня”, “День”, “Голос України”, “Урядовий кур’єр”, “Сегодня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Молодь України”, “Сільські вісті”, “Газета по-українськи”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yiv Post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Журн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”, “Фокус”, “Тиждень”, “Комментарии”, “Новое время” та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У друкованих видань сьогодні два типи пробл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безпечення демократичної, чесної, незалежної роботи, правдивого, об’єктивного, всестороннього висвітлення подій, важливих для суспі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живання паперової преси (проблема, пов’язана з науково-технічним прогрес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"/>
              </a:rPr>
              <a:t>При цьому поблема достовірності матеріалів стосується всіх видів ЗМ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домі перекручування як наслідок редакційної полі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адкові неправдиві матері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ання недостатньо перевірених даних, публікація “сирих” матеріа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09480" y="3886200"/>
            <a:ext cx="33847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9999"/>
                </a:solidFill>
                <a:latin typeface="Arial"/>
              </a:rPr>
              <a:t>Варто подивитись:</a:t>
            </a:r>
            <a:r>
              <a:rPr b="1" lang="uk-UA" sz="3200" spc="-1" strike="noStrike" u="sng">
                <a:solidFill>
                  <a:srgbClr val="009999"/>
                </a:solidFill>
                <a:uFillTx/>
                <a:latin typeface="Arial"/>
              </a:rPr>
              <a:t> stopfak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op"/>
          <p:cNvPicPr/>
          <p:nvPr/>
        </p:nvPicPr>
        <p:blipFill>
          <a:blip r:embed="rId1"/>
          <a:stretch/>
        </p:blipFill>
        <p:spPr>
          <a:xfrm>
            <a:off x="4800600" y="3794040"/>
            <a:ext cx="3363840" cy="241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Посібник із верифікації </a:t>
            </a:r>
            <a:br>
              <a:rPr sz="3200"/>
            </a:br>
            <a:r>
              <a:rPr b="0" lang="uk-UA" sz="3200" spc="-1" strike="noStrike">
                <a:solidFill>
                  <a:srgbClr val="cc00cc"/>
                </a:solidFill>
                <a:latin typeface="Arial"/>
              </a:rPr>
              <a:t>на сайті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texty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63640" y="2565360"/>
            <a:ext cx="532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ваторський ресурс для журналістів та співробітників гуманітарних організаці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викладено послідовні інструкції з вжитку користувацького контенту (UGC) під час надзвичайних ситуац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thumbnail"/>
          <p:cNvPicPr/>
          <p:nvPr/>
        </p:nvPicPr>
        <p:blipFill>
          <a:blip r:embed="rId1"/>
          <a:stretch/>
        </p:blipFill>
        <p:spPr>
          <a:xfrm>
            <a:off x="324000" y="1628640"/>
            <a:ext cx="3267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Вплив наступу інтернет-технологій </a:t>
            </a:r>
            <a:br>
              <a:rPr sz="3600"/>
            </a:b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(з кінця ХХ ст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еншується кількість традиційних (паперових) вид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зети та журнали інтегруються з Інтернетом (виникають подвійні медіа, що використовують принцип комплементарності). Нові видання тепер засновують одночасно з сайтами. Зрідка успішні сайти відкривають свої газ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7636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Наприкінці минулого століття почались процеси, в результаті яких електронні тексти стали витісняти друкова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2"/>
          <p:cNvPicPr/>
          <p:nvPr/>
        </p:nvPicPr>
        <p:blipFill>
          <a:blip r:embed="rId1"/>
          <a:stretch/>
        </p:blipFill>
        <p:spPr>
          <a:xfrm>
            <a:off x="5292720" y="2637000"/>
            <a:ext cx="2959200" cy="35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3"/>
          <p:cNvPicPr/>
          <p:nvPr/>
        </p:nvPicPr>
        <p:blipFill>
          <a:blip r:embed="rId2"/>
          <a:stretch/>
        </p:blipFill>
        <p:spPr>
          <a:xfrm>
            <a:off x="1042920" y="2924280"/>
            <a:ext cx="36068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16:09:30Z</dcterms:created>
  <dc:creator>Миро</dc:creator>
  <dc:description/>
  <dc:language>en-US</dc:language>
  <cp:lastModifiedBy>Мирося</cp:lastModifiedBy>
  <dcterms:modified xsi:type="dcterms:W3CDTF">2019-11-24T18:00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