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51C1-E05A-4ED2-A242-7C3B67808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E6A-2FC4-433B-B935-83CFDF0722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145-C985-4213-A8FB-FC5BE6EB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4A4-291A-4574-9ADD-4C57760E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FC7-8740-4595-96EE-A7BF999E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BF3-E8D6-4F9D-94D0-5255DFD6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653-4316-4F1F-89FA-68D64ED4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B8E-F76D-4FD8-BB81-C0AB5B9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9B7-2749-4E1D-A423-153E7430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B9D-A465-4C1C-91B9-00A2094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A26-F074-4CE2-858A-B7AD204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DEA-062D-44FC-83E4-C143BDB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C77-E78B-4653-BA6C-D555AD8C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914-DF3C-4381-955B-070B2AC2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9AE1-6F96-47AD-9D6C-2BE019FF88E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ssuu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ewspapers.com/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www.rbc.ua/ukr/lnews/sozdana-pervaya-mire-tsvetnaya-elektronnaya-1464266791.ht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fnfkyXGYAo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руковані ЗМІ на сучасному етапі в Україні та сві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4080" y="160020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ле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41148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не з найперших онлайнових видань «The Electronic Trib» засноване в грудні 1990 р. звичайною американською газе-тою «The Albuquerque Tribune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electronic_trib"/>
          <p:cNvPicPr/>
          <p:nvPr/>
        </p:nvPicPr>
        <p:blipFill>
          <a:blip r:embed="rId1"/>
          <a:stretch/>
        </p:blipFill>
        <p:spPr>
          <a:xfrm>
            <a:off x="4788000" y="2492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143000" y="836640"/>
            <a:ext cx="738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Рання діяльність преси в інтернеті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орінка газети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hicago Tribune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” на сайті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рталу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erica Online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” у 90-х р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hicago_online"/>
          <p:cNvPicPr/>
          <p:nvPr/>
        </p:nvPicPr>
        <p:blipFill>
          <a:blip r:embed="rId1"/>
          <a:stretch/>
        </p:blipFill>
        <p:spPr>
          <a:xfrm>
            <a:off x="205092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00cc"/>
                </a:solidFill>
                <a:latin typeface="Arial"/>
              </a:rPr>
              <a:t>Для порівня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айт газети «Chicago Tribune» сьогод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hTr"/>
          <p:cNvPicPr/>
          <p:nvPr/>
        </p:nvPicPr>
        <p:blipFill>
          <a:blip r:embed="rId1"/>
          <a:stretch/>
        </p:blipFill>
        <p:spPr>
          <a:xfrm>
            <a:off x="1763640" y="2492280"/>
            <a:ext cx="569592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</a:rPr>
              <a:t>Сучасний вигляд сайту газети “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USA To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юса"/>
          <p:cNvPicPr/>
          <p:nvPr/>
        </p:nvPicPr>
        <p:blipFill>
          <a:blip r:embed="rId1"/>
          <a:stretch/>
        </p:blipFill>
        <p:spPr>
          <a:xfrm>
            <a:off x="1143000" y="1752480"/>
            <a:ext cx="6973920" cy="454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</a:rPr>
              <a:t>Сучасний вигляд сайту видання </a:t>
            </a:r>
            <a:br>
              <a:rPr sz="2800"/>
            </a:br>
            <a:r>
              <a:rPr b="1" lang="uk-UA" sz="2800" spc="-1" strike="noStrike">
                <a:solidFill>
                  <a:srgbClr val="00b0f0"/>
                </a:solidFill>
                <a:latin typeface="Arial"/>
              </a:rPr>
              <a:t>«The Guardian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гардіан сучасн"/>
          <p:cNvPicPr/>
          <p:nvPr/>
        </p:nvPicPr>
        <p:blipFill>
          <a:blip r:embed="rId1"/>
          <a:stretch/>
        </p:blipFill>
        <p:spPr>
          <a:xfrm>
            <a:off x="1752480" y="1600200"/>
            <a:ext cx="5661000" cy="49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айт газети “Ден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день сього"/>
          <p:cNvPicPr/>
          <p:nvPr/>
        </p:nvPicPr>
        <p:blipFill>
          <a:blip r:embed="rId1"/>
          <a:stretch/>
        </p:blipFill>
        <p:spPr>
          <a:xfrm>
            <a:off x="971640" y="1413000"/>
            <a:ext cx="72612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айт газети “Дзеркало тижн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дзер-тижні-рекл"/>
          <p:cNvPicPr/>
          <p:nvPr/>
        </p:nvPicPr>
        <p:blipFill>
          <a:blip r:embed="rId1"/>
          <a:stretch/>
        </p:blipFill>
        <p:spPr>
          <a:xfrm>
            <a:off x="1143000" y="1828800"/>
            <a:ext cx="6859440" cy="409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архів"/>
          <p:cNvPicPr/>
          <p:nvPr/>
        </p:nvPicPr>
        <p:blipFill>
          <a:blip r:embed="rId1"/>
          <a:stretch/>
        </p:blipFill>
        <p:spPr>
          <a:xfrm>
            <a:off x="1752480" y="1676520"/>
            <a:ext cx="6164280" cy="467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Rectangle 3"/>
          <p:cNvSpPr/>
          <p:nvPr/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рхіви – одна з додаткових можливостей преси в інтернет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інтернеті друковані видання можуть використовувати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рім текстів і фото,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і завгодно формати: аудіо, відео, анімацію, слайди тощ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це так звана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мультимедійність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уть публікувати нові повідомлення частіше, ніж виходить газета/журн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игф"/>
          <p:cNvPicPr/>
          <p:nvPr/>
        </p:nvPicPr>
        <p:blipFill>
          <a:blip r:embed="rId1"/>
          <a:stretch/>
        </p:blipFill>
        <p:spPr>
          <a:xfrm>
            <a:off x="1981080" y="1752480"/>
            <a:ext cx="5948640" cy="46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Інша можливість – інтерактивне спілк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be0e3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оманіття друкованих видань на сучасному медіари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актори, які впливають на сучасний стан пре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актори, які обумовлюють імовірні напрями розвитку преси в майбутнь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Розмови про «смерть преси» вочевидь перебільшен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смпр"/>
          <p:cNvPicPr/>
          <p:nvPr/>
        </p:nvPicPr>
        <p:blipFill>
          <a:blip r:embed="rId1"/>
          <a:stretch/>
        </p:blipFill>
        <p:spPr>
          <a:xfrm>
            <a:off x="1447920" y="2209680"/>
            <a:ext cx="6254640" cy="391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0769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cc"/>
                </a:solidFill>
                <a:latin typeface="Arial"/>
              </a:rPr>
              <a:t>Критики констатують: преса </a:t>
            </a:r>
            <a:br>
              <a:rPr sz="3600"/>
            </a:br>
            <a:r>
              <a:rPr b="1" lang="uk-UA" sz="3600" spc="-1" strike="noStrike">
                <a:solidFill>
                  <a:srgbClr val="cc00cc"/>
                </a:solidFill>
                <a:latin typeface="Arial"/>
              </a:rPr>
              <a:t>в наші дні “підживлюється” </a:t>
            </a:r>
            <a:br>
              <a:rPr sz="3600"/>
            </a:br>
            <a:r>
              <a:rPr b="1" lang="uk-UA" sz="3600" spc="-1" strike="noStrike">
                <a:solidFill>
                  <a:srgbClr val="cc00cc"/>
                </a:solidFill>
                <a:latin typeface="Arial"/>
              </a:rPr>
              <a:t>з інтерн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9"/>
          <p:cNvPicPr/>
          <p:nvPr/>
        </p:nvPicPr>
        <p:blipFill>
          <a:blip r:embed="rId1"/>
          <a:stretch/>
        </p:blipFill>
        <p:spPr>
          <a:xfrm>
            <a:off x="1763640" y="2349360"/>
            <a:ext cx="5715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руковані видання в електронному вигляді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suu.com/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світ публ"/>
          <p:cNvPicPr/>
          <p:nvPr/>
        </p:nvPicPr>
        <p:blipFill>
          <a:blip r:embed="rId2"/>
          <a:stretch/>
        </p:blipFill>
        <p:spPr>
          <a:xfrm>
            <a:off x="1905120" y="1600200"/>
            <a:ext cx="5630760" cy="470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597a0"/>
                </a:solidFill>
                <a:latin typeface="Arial"/>
              </a:rPr>
              <a:t>Електронний “Кобзар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кобз"/>
          <p:cNvPicPr/>
          <p:nvPr/>
        </p:nvPicPr>
        <p:blipFill>
          <a:blip r:embed="rId1"/>
          <a:stretch/>
        </p:blipFill>
        <p:spPr>
          <a:xfrm>
            <a:off x="1258920" y="1700280"/>
            <a:ext cx="69120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Так розміщують також і газети,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днл"/>
          <p:cNvPicPr/>
          <p:nvPr/>
        </p:nvPicPr>
        <p:blipFill>
          <a:blip r:embed="rId1"/>
          <a:stretch/>
        </p:blipFill>
        <p:spPr>
          <a:xfrm>
            <a:off x="1187280" y="1628640"/>
            <a:ext cx="68202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які можна горт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днл2"/>
          <p:cNvPicPr/>
          <p:nvPr/>
        </p:nvPicPr>
        <p:blipFill>
          <a:blip r:embed="rId1"/>
          <a:stretch/>
        </p:blipFill>
        <p:spPr>
          <a:xfrm>
            <a:off x="1042920" y="1773360"/>
            <a:ext cx="74138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ша подібна веб-платформа: olivesoftwa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оліве"/>
          <p:cNvPicPr/>
          <p:nvPr/>
        </p:nvPicPr>
        <p:blipFill>
          <a:blip r:embed="rId1"/>
          <a:stretch/>
        </p:blipFill>
        <p:spPr>
          <a:xfrm>
            <a:off x="1600200" y="1752480"/>
            <a:ext cx="6180120" cy="470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Відкривається електронне видання газети “</a:t>
            </a:r>
            <a:r>
              <a:rPr b="1" lang="uk-UA" sz="4000" spc="-1" strike="noStrike">
                <a:solidFill>
                  <a:srgbClr val="cc00cc"/>
                </a:solidFill>
                <a:latin typeface="Arial"/>
              </a:rPr>
              <a:t>Financial Times”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електр вид"/>
          <p:cNvPicPr/>
          <p:nvPr/>
        </p:nvPicPr>
        <p:blipFill>
          <a:blip r:embed="rId1"/>
          <a:stretch/>
        </p:blipFill>
        <p:spPr>
          <a:xfrm>
            <a:off x="2286000" y="1981080"/>
            <a:ext cx="4653000" cy="403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Електронне видання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газети “Financial Times” в Інтерне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фт"/>
          <p:cNvPicPr/>
          <p:nvPr/>
        </p:nvPicPr>
        <p:blipFill>
          <a:blip r:embed="rId1"/>
          <a:stretch/>
        </p:blipFill>
        <p:spPr>
          <a:xfrm>
            <a:off x="1752480" y="1828800"/>
            <a:ext cx="6042240" cy="44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А це веб-сайт “Financial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фтсайи"/>
          <p:cNvPicPr/>
          <p:nvPr/>
        </p:nvPicPr>
        <p:blipFill>
          <a:blip r:embed="rId1"/>
          <a:stretch/>
        </p:blipFill>
        <p:spPr>
          <a:xfrm>
            <a:off x="1752480" y="1676520"/>
            <a:ext cx="6027840" cy="474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62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Газети/журнали розрізняються, насамперед, за такими критері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9944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астота вих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сть виконання, форм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матика, жанрове наповн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ся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льова аудиторія (вік, стать, професія тощ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осіб поширення, при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адиційна преса чи інтегрована з новими меді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деологічне забарвлення (незалежна преса, партійна, приховано-заангажова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новники (державні, комунальні, відомчі, партійні, комерційні, громадські тощ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сі електронні додатки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“Financial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фтдодатки"/>
          <p:cNvPicPr/>
          <p:nvPr/>
        </p:nvPicPr>
        <p:blipFill>
          <a:blip r:embed="rId1"/>
          <a:stretch/>
        </p:blipFill>
        <p:spPr>
          <a:xfrm>
            <a:off x="2133720" y="1676520"/>
            <a:ext cx="5021280" cy="467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cc"/>
                </a:solidFill>
                <a:latin typeface="Arial"/>
              </a:rPr>
              <a:t>Варто знати: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проект “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Newspapers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” </a:t>
            </a:r>
            <a:r>
              <a:rPr b="1" lang="uk-U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wspapers.com/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gazety"/>
          <p:cNvPicPr/>
          <p:nvPr/>
        </p:nvPicPr>
        <p:blipFill>
          <a:blip r:embed="rId2"/>
          <a:stretch/>
        </p:blipFill>
        <p:spPr>
          <a:xfrm>
            <a:off x="1600200" y="1676520"/>
            <a:ext cx="6143760" cy="486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більні версії видання “Кореспондент”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коресп моб"/>
          <p:cNvPicPr/>
          <p:nvPr/>
        </p:nvPicPr>
        <p:blipFill>
          <a:blip r:embed="rId1"/>
          <a:stretch/>
        </p:blipFill>
        <p:spPr>
          <a:xfrm>
            <a:off x="2514600" y="1371600"/>
            <a:ext cx="4487760" cy="4960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Канал журналу “Новое время”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в месенджері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Безымянный"/>
          <p:cNvPicPr/>
          <p:nvPr/>
        </p:nvPicPr>
        <p:blipFill>
          <a:blip r:embed="rId1"/>
          <a:stretch/>
        </p:blipFill>
        <p:spPr>
          <a:xfrm>
            <a:off x="990720" y="1905120"/>
            <a:ext cx="7180200" cy="4659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А що в майбутньо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лід звернути увагу на новини про розвиток нових технологій, як-от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електронний папі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Почитайте: 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ворений перший в світі повнокольоровий електронний папір»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rbc.ua/ukr/lnews/sozdana-pervaya-mire-tsvetnaya-elektronnaya-1464266791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Arial"/>
              </a:rPr>
              <a:t>Для натхнення </a:t>
            </a:r>
            <a:r>
              <a:rPr b="0" lang="uk-UA" sz="4400" spc="-1" strike="noStrike">
                <a:solidFill>
                  <a:srgbClr val="ffc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904760"/>
            <a:ext cx="3809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 «Гарри Поттере»: живые фото в газете «Красный проспект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NfnfkyXGY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111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Деякі найбільш відомі українські </a:t>
            </a:r>
            <a:br>
              <a:rPr sz="3200"/>
            </a:b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друковані ЗМІ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704360" cy="37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Газе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зеркало тижня”, “День”, “Голос України”, “Урядовий кур’єр”, “Сегодня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Молодь України”, “Сільські вісті”, “Газета по-українськи”,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yiv Post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Журн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”, “Фокус”, “Тиждень”, “Комментарии”, “Новое время” та 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У друкованих видань сьогодні два типи пробл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безпечення демократичної, чесної, незалежної роботи, правдивого, об’єктивного, всестороннього висвітлення подій, важливих для суспі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живання паперової преси (проблема, пов’язана з науково-технічним прогрес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При цьому поблема достовірності матеріалів стосується всіх видів ЗМ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домі перекручування як наслідок редакційної полі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адкові неправдиві матері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ання недостатньо перевірених даних, публікація “сирих” матеріа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9480" y="3886200"/>
            <a:ext cx="33847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99"/>
                </a:solidFill>
                <a:latin typeface="Arial"/>
              </a:rPr>
              <a:t>Варто подивитись:</a:t>
            </a:r>
            <a:r>
              <a:rPr b="1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 stopfak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op"/>
          <p:cNvPicPr/>
          <p:nvPr/>
        </p:nvPicPr>
        <p:blipFill>
          <a:blip r:embed="rId1"/>
          <a:stretch/>
        </p:blipFill>
        <p:spPr>
          <a:xfrm>
            <a:off x="4800600" y="3794040"/>
            <a:ext cx="3363840" cy="241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cc"/>
                </a:solidFill>
                <a:latin typeface="Arial"/>
              </a:rPr>
              <a:t>Посібник із верифікації </a:t>
            </a:r>
            <a:br>
              <a:rPr sz="3200"/>
            </a:br>
            <a:r>
              <a:rPr b="0" lang="uk-UA" sz="3200" spc="-1" strike="noStrike">
                <a:solidFill>
                  <a:srgbClr val="cc00cc"/>
                </a:solidFill>
                <a:latin typeface="Arial"/>
              </a:rPr>
              <a:t>на сайті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texty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63640" y="2565360"/>
            <a:ext cx="532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ваторський ресурс для журналістів та співробітників гуманітарних організаці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викладено послідовні інструкції з вжитку користувацького контенту (UGC) під час надзвичайних ситуац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thumbnail"/>
          <p:cNvPicPr/>
          <p:nvPr/>
        </p:nvPicPr>
        <p:blipFill>
          <a:blip r:embed="rId1"/>
          <a:stretch/>
        </p:blipFill>
        <p:spPr>
          <a:xfrm>
            <a:off x="324000" y="1628640"/>
            <a:ext cx="3267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плив наступу інтернет-технологій </a:t>
            </a:r>
            <a:br>
              <a:rPr sz="3600"/>
            </a:b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(з кінця ХХ с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еншується кількість традиційних (паперових) вид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зети та журнали інтегруються з Інтернетом (виникають подвійні медіа, що використовують принцип комплементарності). Нові видання тепер засновують одночасно з сайтами. Зрідка успішні сайти відкривають свої газ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7636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Наприкінці минулого століття почались процеси, в результаті яких електронні тексти стали витісняти друкова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2"/>
          <p:cNvPicPr/>
          <p:nvPr/>
        </p:nvPicPr>
        <p:blipFill>
          <a:blip r:embed="rId1"/>
          <a:stretch/>
        </p:blipFill>
        <p:spPr>
          <a:xfrm>
            <a:off x="5292720" y="2637000"/>
            <a:ext cx="2959200" cy="357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3"/>
          <p:cNvPicPr/>
          <p:nvPr/>
        </p:nvPicPr>
        <p:blipFill>
          <a:blip r:embed="rId2"/>
          <a:stretch/>
        </p:blipFill>
        <p:spPr>
          <a:xfrm>
            <a:off x="1042920" y="2924280"/>
            <a:ext cx="36068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2T16:09:30Z</dcterms:created>
  <dc:creator>Миро</dc:creator>
  <dc:description/>
  <dc:language>en-US</dc:language>
  <cp:lastModifiedBy>Мирося</cp:lastModifiedBy>
  <dcterms:modified xsi:type="dcterms:W3CDTF">2019-11-24T18:00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