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D4B6-41E0-4067-B73C-71F98F2A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6DFF-418F-4286-942A-E09847BE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4246-6571-4BF1-9E53-D26301410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04AD-2903-4160-A1A3-808837052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4DA9-4829-414C-A494-32301FEE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DC06-6064-4310-A08D-211C3A2C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0ABD-B74D-46D5-B318-A62ABE47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421E-FDA9-4EEB-B61C-17A28403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5138-751B-487C-A7CA-4409A02C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B5EA-1C00-46CC-971A-153A9441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9B7E-FE8A-49D1-B391-11130ABA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4937-C49F-4B0E-930D-D2711480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5673-3A21-49D6-8FF9-4C5FC6815CA4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Створення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 контенту для друкованих ЗМ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71280" y="1341360"/>
            <a:ext cx="403380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ма лекції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549360"/>
            <a:ext cx="86421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Шеф-редактор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– керівник періодичного видання, який займається організаційними та фінансовими питаннями його випуску, формуванням стратегії його інформаційної політики, виступає в ньому як публіцист. (Можуть назначати з журналістів, аби зміцнити якусь лінію в редакційній політиці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Літературний редактор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– перечитує всі матеріали і “підганяє” їх під один стиль, крім того, придумує вдалі заголов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3185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3600" spc="-1" strike="noStrike">
                <a:solidFill>
                  <a:srgbClr val="333399"/>
                </a:solidFill>
                <a:latin typeface="Arial"/>
              </a:rPr>
              <a:t>За лінією творчої діяльності редакції існують журналістські відділи.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правило, редакція має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ілька відділів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за темами висвітлення суспільного життя. Наприклад: відділ політики, відділ гуманітарних питань (освіти та медицини), відділ соціальних питань, відділ спорту тощо. Часто існує окремий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ідділ новин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, що працює над усіма темами в інформаційних жанр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Arial"/>
              </a:rPr>
              <a:t>Склад типового редакційного відділ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6560" y="2924280"/>
            <a:ext cx="78598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ерівник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(начальник відділу, редактор відділу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леглі -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ядові журналіст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цього відділу (від одного до трьох) - </a:t>
            </a:r>
            <a:r>
              <a:rPr b="1" lang="uk-UA" sz="3200" spc="-1" strike="noStrike">
                <a:solidFill>
                  <a:srgbClr val="990099"/>
                </a:solidFill>
                <a:latin typeface="Arial"/>
              </a:rPr>
              <a:t>репортери, кореспонденти, оглядачі</a:t>
            </a:r>
            <a:r>
              <a:rPr b="0" lang="uk-UA" sz="3200" spc="-1" strike="noStrike">
                <a:solidFill>
                  <a:srgbClr val="9900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734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33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990099"/>
                </a:solidFill>
                <a:latin typeface="Arial"/>
              </a:rPr>
              <a:t>Репортер</a:t>
            </a:r>
            <a:r>
              <a:rPr b="0" lang="uk-UA" sz="40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3300" spc="-1" strike="noStrike">
                <a:solidFill>
                  <a:srgbClr val="990099"/>
                </a:solidFill>
                <a:latin typeface="Arial"/>
              </a:rPr>
              <a:t>(франц. </a:t>
            </a:r>
            <a:r>
              <a:rPr b="0" lang="en-US" sz="3300" spc="-1" strike="noStrike">
                <a:solidFill>
                  <a:srgbClr val="990099"/>
                </a:solidFill>
                <a:latin typeface="Arial"/>
              </a:rPr>
              <a:t>reporter</a:t>
            </a:r>
            <a:r>
              <a:rPr b="0" lang="uk-UA" sz="3300" spc="-1" strike="noStrike">
                <a:solidFill>
                  <a:srgbClr val="990099"/>
                </a:solidFill>
                <a:latin typeface="Arial"/>
              </a:rPr>
              <a:t> – повідомлювач, інформатор) – </a:t>
            </a:r>
            <a:r>
              <a:rPr b="0" lang="uk-UA" sz="3300" spc="-1" strike="noStrike">
                <a:solidFill>
                  <a:srgbClr val="000000"/>
                </a:solidFill>
                <a:latin typeface="Arial"/>
              </a:rPr>
              <a:t>рольова спеціалізація в журналістиці; працівник ЗМІ, який збирає інформацію на місці події та оперативно передає відповідне повідомлення до редакції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8rcegm7pPngF7Elp6obJdTZ1blbOUz2KP7HptDS0AdZja3Fw2CtpTGFebrs7VAHf9Q7"/>
          <p:cNvPicPr/>
          <p:nvPr/>
        </p:nvPicPr>
        <p:blipFill>
          <a:blip r:embed="rId1"/>
          <a:stretch/>
        </p:blipFill>
        <p:spPr>
          <a:xfrm>
            <a:off x="5940360" y="4221000"/>
            <a:ext cx="28814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99"/>
                </a:solidFill>
                <a:latin typeface="Arial"/>
              </a:rPr>
              <a:t>Кореспонде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3120" y="1699920"/>
            <a:ext cx="78692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99"/>
                </a:solidFill>
                <a:latin typeface="Arial"/>
              </a:rPr>
              <a:t>(лат.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correspondents </a:t>
            </a:r>
            <a:r>
              <a:rPr b="1" lang="uk-UA" sz="2800" spc="-1" strike="noStrike">
                <a:solidFill>
                  <a:srgbClr val="990099"/>
                </a:solidFill>
                <a:latin typeface="Arial"/>
              </a:rPr>
              <a:t>– той, хто повідомляє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льова спеціалізація в журналістиці. Позначає творчого співробітника ЗМІ, який надсилає матеріали до редакції з певного міста або виїздить кудись за дорученням редакції для висвітлення певної події чи розслідування певної ситуаці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зрізняють кілька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типологічних спеціалізацій кореспонд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99"/>
                </a:solidFill>
                <a:latin typeface="Arial"/>
              </a:rPr>
              <a:t>Власний кореспондент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– штатний працівник редакції, який здійснює свою професійну діяльність в певному регіоні, де постійно мешкає, та надсилає свої матеріали пошт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99"/>
                </a:solidFill>
                <a:latin typeface="Arial"/>
              </a:rPr>
              <a:t>Позаштатний кореспондент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– особа, яка співпрацює з редакцією за гонорари, допомагає висвітлювати якусь тему або новини певної місцевості, часто не будучи професійним журналі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99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990099"/>
                </a:solidFill>
                <a:latin typeface="Arial"/>
              </a:rPr>
              <a:t>Оглядач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– жанрова і рольова спеціалізація в журналістиці. Творчий співробітник редакції, який пише огляди на основі того, що стежить за розвитком ситуації і висвітлює її повністю. (Як правило, працює в одній темі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ihtiyac-kredisi-cekmeden-once-yapilamasi-gereken-hesaplamalar"/>
          <p:cNvPicPr/>
          <p:nvPr/>
        </p:nvPicPr>
        <p:blipFill>
          <a:blip r:embed="rId1"/>
          <a:stretch/>
        </p:blipFill>
        <p:spPr>
          <a:xfrm>
            <a:off x="2700360" y="3429000"/>
            <a:ext cx="4032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915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Діяльність деяких творчих працівників редакції друкованого видання здійснюється на межі творчого і технічного напрям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удож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отокореспонд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ерівна ланка секретаріа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 також група співробітників, які безпосередньо займаються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інтернет-версією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газети/журналу (крім усього, можуть шукати в інтернеті додаткові матеріал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78920" y="404640"/>
            <a:ext cx="87138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Живих” малюнків у газетах раніше було значно більш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prodam-stare-gazet-i-zhurnal--f5d5-1334312122278898-1-big"/>
          <p:cNvPicPr/>
          <p:nvPr/>
        </p:nvPicPr>
        <p:blipFill>
          <a:blip r:embed="rId1"/>
          <a:stretch/>
        </p:blipFill>
        <p:spPr>
          <a:xfrm>
            <a:off x="826920" y="907920"/>
            <a:ext cx="761544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23232"/>
          <p:cNvPicPr/>
          <p:nvPr/>
        </p:nvPicPr>
        <p:blipFill>
          <a:blip r:embed="rId1"/>
          <a:stretch/>
        </p:blipFill>
        <p:spPr>
          <a:xfrm>
            <a:off x="324000" y="1052640"/>
            <a:ext cx="8458200" cy="5376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979640" y="404640"/>
            <a:ext cx="489744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мериканська газета за 1884 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92000" y="76464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c9cdf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560" y="2492280"/>
            <a:ext cx="78598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ипова структура редакції газ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бота творчих працівників над контентом видання. Додаткові завда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Жанрова палітра, характерна для традиційних друкованих ЗМ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99"/>
                </a:solidFill>
                <a:latin typeface="Arial"/>
              </a:rPr>
              <a:t>Фотокор</a:t>
            </a:r>
            <a:r>
              <a:rPr b="0" lang="uk-UA" sz="36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співпрацює:</a:t>
            </a:r>
            <a:br>
              <a:rPr sz="3600"/>
            </a:b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1) з журналістами, які пишуть тексти,</a:t>
            </a:r>
            <a:br>
              <a:rPr sz="3600"/>
            </a:b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2) з фахівцями секретаріат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22"/>
          <p:cNvPicPr/>
          <p:nvPr/>
        </p:nvPicPr>
        <p:blipFill>
          <a:blip r:embed="rId1"/>
          <a:stretch/>
        </p:blipFill>
        <p:spPr>
          <a:xfrm>
            <a:off x="1908000" y="2852640"/>
            <a:ext cx="54849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Смольенко"/>
          <p:cNvPicPr/>
          <p:nvPr/>
        </p:nvPicPr>
        <p:blipFill>
          <a:blip r:embed="rId1"/>
          <a:stretch/>
        </p:blipFill>
        <p:spPr>
          <a:xfrm>
            <a:off x="1403280" y="333360"/>
            <a:ext cx="661824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99"/>
                </a:solidFill>
                <a:latin typeface="Arial"/>
              </a:rPr>
              <a:t>В редакції виділяють </a:t>
            </a:r>
            <a:r>
              <a:rPr b="1" lang="uk-UA" sz="3200" spc="-1" strike="noStrike">
                <a:solidFill>
                  <a:srgbClr val="333399"/>
                </a:solidFill>
                <a:latin typeface="Arial"/>
              </a:rPr>
              <a:t>редколегію</a:t>
            </a:r>
            <a:r>
              <a:rPr b="1" lang="uk-UA" sz="3200" spc="-1" strike="noStrike">
                <a:solidFill>
                  <a:srgbClr val="009999"/>
                </a:solidFill>
                <a:latin typeface="Arial"/>
              </a:rPr>
              <a:t>, </a:t>
            </a:r>
            <a:br>
              <a:rPr sz="3200"/>
            </a:br>
            <a:r>
              <a:rPr b="1" lang="uk-UA" sz="3200" spc="-1" strike="noStrike">
                <a:solidFill>
                  <a:srgbClr val="009999"/>
                </a:solidFill>
                <a:latin typeface="Arial"/>
              </a:rPr>
              <a:t>до якої зазвичай входя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2060640"/>
            <a:ext cx="84358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оловний редактор та всі його заступ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Шеф-редакт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чальники (редактори) всіх відділів, де працюють творчі праців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повідальний секретар (за його відсутності – заступник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99"/>
                </a:solidFill>
                <a:latin typeface="Arial"/>
              </a:rPr>
              <a:t>На планірку збирається вся редколегія + провідні журналісти</a:t>
            </a:r>
            <a:r>
              <a:rPr b="1" lang="uk-UA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11"/>
          <p:cNvPicPr/>
          <p:nvPr/>
        </p:nvPicPr>
        <p:blipFill>
          <a:blip r:embed="rId1"/>
          <a:stretch/>
        </p:blipFill>
        <p:spPr>
          <a:xfrm>
            <a:off x="324000" y="1773360"/>
            <a:ext cx="856116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uk-UA" sz="3200" spc="-1" strike="noStrike">
                <a:solidFill>
                  <a:srgbClr val="333399"/>
                </a:solidFill>
                <a:latin typeface="Arial"/>
              </a:rPr>
              <a:t>планірк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можуть запрошувати також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отокор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чальника відділу рекл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чальника відділу маркетин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оловного бухгалт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uk-UA" sz="3200" spc="-1" strike="noStrike">
                <a:solidFill>
                  <a:srgbClr val="808080"/>
                </a:solidFill>
                <a:latin typeface="Arial"/>
              </a:rPr>
              <a:t>Якщо є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літературного редакто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удож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8080"/>
                </a:solidFill>
                <a:latin typeface="Arial"/>
              </a:rPr>
              <a:t>Інші співробітники редакції, про яких </a:t>
            </a:r>
            <a:br>
              <a:rPr sz="3200"/>
            </a:br>
            <a:r>
              <a:rPr b="1" lang="uk-UA" sz="3200" spc="-1" strike="noStrike">
                <a:solidFill>
                  <a:srgbClr val="808080"/>
                </a:solidFill>
                <a:latin typeface="Arial"/>
              </a:rPr>
              <a:t>ще не було зга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истемний адміністратор (обслуговує комп’ютерну мережу редакції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од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екретарка в приймальній (вона ж часто - завідувач канцелярією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биральниц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9999"/>
                </a:solidFill>
                <a:latin typeface="Arial"/>
              </a:rPr>
              <a:t>Шлях, який проходить журналістський матеріал </a:t>
            </a:r>
            <a:br>
              <a:rPr sz="4000"/>
            </a:br>
            <a:r>
              <a:rPr b="0" lang="uk-UA" sz="4000" spc="-1" strike="noStrike">
                <a:solidFill>
                  <a:srgbClr val="009999"/>
                </a:solidFill>
                <a:latin typeface="Arial"/>
              </a:rPr>
              <a:t>із моменту його створе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4572000" y="2133720"/>
            <a:ext cx="42480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крок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шук і збір інформації, власне створення матеріалу і його набір. Набирати може сам журналіст або ж набір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notebook_nach"/>
          <p:cNvPicPr/>
          <p:nvPr/>
        </p:nvPicPr>
        <p:blipFill>
          <a:blip r:embed="rId1"/>
          <a:stretch/>
        </p:blipFill>
        <p:spPr>
          <a:xfrm>
            <a:off x="468360" y="2765520"/>
            <a:ext cx="381456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35164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браний матеріал, так званий “оригінал” – це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едакційний документ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uk-UA" sz="2800" spc="-1" strike="noStrike">
                <a:solidFill>
                  <a:srgbClr val="333399"/>
                </a:solidFill>
                <a:latin typeface="Arial"/>
              </a:rPr>
              <a:t>Інформація, що обов’язково його супроводжує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539640" y="213372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99"/>
                </a:solidFill>
                <a:latin typeface="Arial"/>
              </a:rPr>
              <a:t>Дата і час набору, набір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99"/>
                </a:solidFill>
                <a:latin typeface="Arial"/>
              </a:rPr>
              <a:t>На якому комп’ютері набрано тек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99"/>
                </a:solidFill>
                <a:latin typeface="Arial"/>
              </a:rPr>
              <a:t>Обсяг матеріалу (в друкованих знаках і/або рядка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468360" y="4292640"/>
            <a:ext cx="8351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браний матеріал зберігається у спільній папці, до якої мають доступ відповідальний секретар і верстальники (всі редакційні комп’ютери об’єднані в єдину мереж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Кожен журналіст точно знає, скільки і яких матеріалів йому необхідно здати в кожен номер. Існує </a:t>
            </a:r>
            <a:r>
              <a:rPr b="1" lang="uk-UA" sz="3000" spc="-1" strike="noStrike">
                <a:solidFill>
                  <a:srgbClr val="ff0000"/>
                </a:solidFill>
                <a:latin typeface="Arial"/>
              </a:rPr>
              <a:t>індивідуальне навантаження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, яке залежить від обсягу та структури видання, кількості творчих працівників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3000"/>
            </a:br>
            <a:r>
              <a:rPr b="0" lang="uk-UA" sz="3000" spc="-1" strike="noStrike" u="sng">
                <a:solidFill>
                  <a:srgbClr val="000000"/>
                </a:solidFill>
                <a:uFillTx/>
                <a:latin typeface="Arial"/>
              </a:rPr>
              <a:t>Наприклад: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 одному працівникові треба за тиждень підготувати одну велику аналітичну статтю, три огляди, три інтерв’ю, одну кореспонденцію, фейлетон, добірку тематичних новин тощ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Arial"/>
              </a:rPr>
              <a:t>2 крок – вичитка автором. </a:t>
            </a:r>
            <a:br>
              <a:rPr sz="3200"/>
            </a:b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Слід ретельно перевіри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11280" y="1915920"/>
            <a:ext cx="460872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Циф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ізвища, і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з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убри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о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79280" y="4221000"/>
            <a:ext cx="8640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8080"/>
                </a:solidFill>
                <a:latin typeface="Arial"/>
              </a:rPr>
              <a:t>Ще раз подумати над заголов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684360" y="508464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алі журналіст ставить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вій підпис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і віддає матеріал начальнику відді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9200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У діяльності редакції будь-якого друкованого видання можна виділити три основні напрями:</a:t>
            </a:r>
            <a:br>
              <a:rPr sz="3600"/>
            </a:br>
            <a:r>
              <a:rPr b="0" lang="uk-UA" sz="36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1) творчий,</a:t>
            </a:r>
            <a:br>
              <a:rPr sz="3600"/>
            </a:b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     2) технічний,</a:t>
            </a:r>
            <a:br>
              <a:rPr sz="3600"/>
            </a:b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     3) комерційно-фінансовий.</a:t>
            </a:r>
            <a:br>
              <a:rPr sz="3600"/>
            </a:b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Структура редакції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обумовлена ними: за кожним напрямом є відповідні відді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чальник відділу переглядає матеріал. Він </a:t>
            </a:r>
            <a:r>
              <a:rPr b="1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має право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вернути його на доопрацюва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ереробити, навіть без згоди автора, зокрема: дати іншу назву, скоротити - викинути якісь речення або цілі абзаци, дописати щось, переставити місц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539640" y="465300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99"/>
                </a:solidFill>
                <a:latin typeface="Arial"/>
              </a:rPr>
              <a:t>Начальник відділу теж ставить свій підпис і віддає матеріал головному редактору або його першому заступни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99"/>
                </a:solidFill>
                <a:latin typeface="Arial"/>
              </a:rPr>
              <a:t>Головний редактор (або заступн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оже теж внести свою прав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оже призначити, коли і на якій сторінці опублікувати матері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8080"/>
                </a:solidFill>
                <a:latin typeface="Arial"/>
              </a:rPr>
              <a:t>Теж ставить свій підпис і віддає відповідальному секретарев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24000" y="4437000"/>
            <a:ext cx="84452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Із цього моменту з матеріалом працюють у секретаріаті. Поки газетна (журнальна) сторінка не готова остаточно, автор </a:t>
            </a:r>
            <a:r>
              <a:rPr b="0" lang="uk-UA" sz="3200" spc="-1" strike="noStrike" u="sng">
                <a:solidFill>
                  <a:srgbClr val="333399"/>
                </a:solidFill>
                <a:uFillTx/>
                <a:latin typeface="Arial"/>
              </a:rPr>
              <a:t>має право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 втручатись в його опрацюван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Додаткові завдання штатного журналіста-газетяр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99"/>
                </a:solidFill>
                <a:latin typeface="Arial"/>
              </a:rPr>
              <a:t>Забезпечувати видання додатковими матеріалами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розважального характеру (гороскопи, кросворди, різні рецепти, поради тощ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99"/>
                </a:solidFill>
                <a:latin typeface="Arial"/>
              </a:rPr>
              <a:t>Брати участь у передплатних кампаніях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здійснювати промоушн вида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рати участь у підготовці платних матеріалів </a:t>
            </a:r>
            <a:r>
              <a:rPr b="0" lang="uk-UA" sz="2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рекламна діяльність</a:t>
            </a:r>
            <a:r>
              <a:rPr b="0" lang="uk-UA" sz="2800" spc="-1" strike="noStrike">
                <a:solidFill>
                  <a:srgbClr val="ff33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Arial"/>
              </a:rPr>
              <a:t>Правильно підготовлений журналістом  проплачений матеріал обов’язково супроводжується позначкою </a:t>
            </a:r>
            <a:r>
              <a:rPr b="1" lang="uk-UA" sz="3400" spc="-1" strike="noStrike">
                <a:solidFill>
                  <a:srgbClr val="009999"/>
                </a:solidFill>
                <a:latin typeface="Arial"/>
              </a:rPr>
              <a:t>“на правах реклами”</a:t>
            </a:r>
            <a:r>
              <a:rPr b="0" lang="uk-UA" sz="3400" spc="-1" strike="noStrike">
                <a:solidFill>
                  <a:srgbClr val="000000"/>
                </a:solidFill>
                <a:latin typeface="Arial"/>
              </a:rPr>
              <a:t> або </a:t>
            </a:r>
            <a:r>
              <a:rPr b="1" lang="uk-UA" sz="3400" spc="-1" strike="noStrike">
                <a:solidFill>
                  <a:srgbClr val="009999"/>
                </a:solidFill>
                <a:latin typeface="Arial"/>
              </a:rPr>
              <a:t>“спонсорський контент”</a:t>
            </a:r>
            <a:r>
              <a:rPr b="0" lang="uk-UA" sz="3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Arial"/>
              </a:rPr>
              <a:t>Термін</a:t>
            </a:r>
            <a:r>
              <a:rPr b="1" lang="uk-UA" sz="3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uk-UA" sz="3400" spc="-1" strike="noStrike">
                <a:solidFill>
                  <a:srgbClr val="7030a0"/>
                </a:solidFill>
                <a:latin typeface="Arial"/>
              </a:rPr>
              <a:t>“нативна реклама”</a:t>
            </a:r>
            <a:r>
              <a:rPr b="1" lang="uk-UA" sz="3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uk-UA" sz="3400" spc="-1" strike="noStrike">
                <a:solidFill>
                  <a:srgbClr val="000000"/>
                </a:solidFill>
                <a:latin typeface="Arial"/>
              </a:rPr>
              <a:t>позначає платні матеріали, подібні до звичайних журналістських. Від англ. слова </a:t>
            </a: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native </a:t>
            </a:r>
            <a:r>
              <a:rPr b="0" lang="uk-UA" sz="3400" spc="-1" strike="noStrike">
                <a:solidFill>
                  <a:srgbClr val="990099"/>
                </a:solidFill>
                <a:latin typeface="Arial"/>
              </a:rPr>
              <a:t>– рідний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57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Arial"/>
              </a:rPr>
              <a:t>Приховану рекламу, за яку журналіст одержує плату неофіційно, обманюючи колег і суспільство, прийнято називати </a:t>
            </a:r>
            <a:r>
              <a:rPr b="1" lang="uk-UA" sz="3400" spc="-1" strike="noStrike">
                <a:solidFill>
                  <a:srgbClr val="000000"/>
                </a:solidFill>
                <a:latin typeface="Arial"/>
              </a:rPr>
              <a:t>“джинсою”.</a:t>
            </a:r>
            <a:r>
              <a:rPr b="0" lang="uk-UA" sz="3400" spc="-1" strike="noStrike">
                <a:solidFill>
                  <a:srgbClr val="000000"/>
                </a:solidFill>
                <a:latin typeface="Arial"/>
              </a:rPr>
              <a:t> Це явище негативне, позорить журналістику і підлягає викоріненню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0099"/>
                </a:solidFill>
                <a:latin typeface="Arial"/>
              </a:rPr>
              <a:t>Тепер про жанр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Жанри, якими користуються газетярі, вважаються традиційними і, так би мовити, базовими. Тому всі журналісти повинні їх зна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сі класичні журналістські жанри у нас прийнято ділити на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три груп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: інформаційні, аналітичні та художньо-публіцистич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0099"/>
                </a:solidFill>
                <a:latin typeface="Arial"/>
              </a:rPr>
              <a:t>Як навчитися розрізнят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48000" y="1483920"/>
            <a:ext cx="3754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Дах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(піднесена частина, торкається неб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тін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(основна і найбільш помітна части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Фундамент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(спирається на земл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tiema-uroka-risunok-dom_7"/>
          <p:cNvPicPr/>
          <p:nvPr/>
        </p:nvPicPr>
        <p:blipFill>
          <a:blip r:embed="rId1"/>
          <a:stretch/>
        </p:blipFill>
        <p:spPr>
          <a:xfrm>
            <a:off x="539640" y="2205000"/>
            <a:ext cx="449748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990099"/>
                </a:solidFill>
                <a:latin typeface="Arial"/>
              </a:rPr>
              <a:t>Це була метаф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640" y="1658520"/>
            <a:ext cx="80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що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весь будиночок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– це журналістика, 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Фундамент</a:t>
            </a: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имволізує новини. Інформація, яку беруть безпосередньо з реальності, тому це найбільш приземлені, тобто прозаїчні матеріали, але при цьому вони становлять основу, на якій власне тримається вся журналістика. \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24000" y="520200"/>
            <a:ext cx="8496000" cy="586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Основна частина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(стіни, вікна, двері тощо) – аналітика. Завжди базується на “фундаменті”, тобто новинах – на тій інформації, яку вже публіка знає, оскільки новини йдуть рані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Дах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(із димарем, крівлею тощо) – художня публіцистика. Найбільш відірвана від реальності журналістика, часто пов’язана з випадковими темами, авторським абстрагуванням, індивідуальними поглядами і почутт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90099"/>
                </a:solidFill>
                <a:latin typeface="Arial"/>
              </a:rPr>
              <a:t>Це був також психологічний тест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00000" y="2492280"/>
            <a:ext cx="77868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Земля на малюнку – повсякденна реальні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Небо – фантазії, вигад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Все, що стосується будиночка, – ваша журналістська творчі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806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Незважаючи на складність організації роботи в редакції, весь її колектив працює 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як один злагоджений механізм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, у якому кожен співробітник добре знає свою роль та усвідомлює значення своєї ділянки робот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Журналістський матеріал може мати одну з трьох ціле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– поінформув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– запропонувати можливі шляхи осмислення вже відомої інформації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– запропонувати цілісне враження, емоції та почуття, що виникають з приводу того чи іншого суспільного явищ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68360" y="5440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99"/>
                </a:solidFill>
                <a:latin typeface="Arial"/>
              </a:rPr>
              <a:t>Відповідно до мети журналіст і обирає жанр, коли працює над матеріа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сновні газетні </a:t>
            </a:r>
            <a:r>
              <a:rPr b="0" lang="uk-UA" sz="4000" spc="-1" strike="noStrike">
                <a:solidFill>
                  <a:srgbClr val="ff3300"/>
                </a:solidFill>
                <a:latin typeface="Arial"/>
              </a:rPr>
              <a:t>інформаційні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жанр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Замітка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(буває, як мінімум, коротка й розширена). Один із різновидів – “блискавка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Звіт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(дуже подібна, але пишеться сухо і здебільшого із дотриманням хронології події). Обирають цей жанр, коли висвітлюють регламентовані заходи (конференції, з’їзди, засідання тощо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11280" y="620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Інформаційне інтерв’ю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(має й інші різновиди; саме інформаційне інтерв’ю коротке і побудоване згідно з правилом перевернутої піраміди, тобто починається з Що? Де? Коли?). Елементи інтерв’ю можуть міститися в матеріалах інших жанрів (тоді це метод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Інформаційний репортаж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(найосновніша ознака – ефект присутності; класичний репортаж пишуть із застосуванням прийому репортажного опису дійсності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Інформаційна кореспонденція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Дуже подібна до розширеної замітки, але ще більша за обсягом. В матерілах цього жанру використовують кілька джерел. Обирають його тоді, коли інформаційний привід потребує ретельного роз’ясн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Бліц-опитування.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Відрізняється від соціологічного опитування! Як правило, не більше 10 респондент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І щ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Інформаційний огляд.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Цілісний матеріал, в якому в узагальненому вигляді переповідається зміст найголовніших под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99"/>
                </a:solidFill>
                <a:latin typeface="Arial"/>
              </a:rPr>
              <a:t>Дайджест новин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– різновид інформаційних матеріалів: збірка новинних повідомлень, сформульованих максимально лаконічно (заміток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сновні газетні </a:t>
            </a:r>
            <a:r>
              <a:rPr b="0" lang="uk-UA" sz="4000" spc="-1" strike="noStrike">
                <a:solidFill>
                  <a:srgbClr val="0000ff"/>
                </a:solidFill>
                <a:latin typeface="Arial"/>
              </a:rPr>
              <a:t>аналітичні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жанр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Стаття.</a:t>
            </a:r>
            <a:r>
              <a:rPr b="0" lang="uk-UA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Це завжди великий за обсягом матеріал, в якому розглядаються складні соціально значущі питання; містить розплутування фактів, їх порівняння, звернення до багатьох джерел, роздуми, міркування як журналіста, так і фахівц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Есе (есей)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Подібний жанр, однак роздуми у ньому переважають і більше уваги приділяється образній мові (тому дехто схильний вважати не аналітикою, а художньою публіцистикою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0099"/>
                </a:solidFill>
                <a:latin typeface="Arial"/>
              </a:rPr>
              <a:t>Як розрізнити статтю і ес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се можна написати, не виходячи з кабінету за годину-дві, якщо журналіст, як кажуть, в тем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ля роботи над справжньою статтею йде набагато більше часу, іноді кілька днів, і її складно написати, не виходячи за межі редакції, оскільки треба здобувати додаткові факти, коментарі, свідчення, враження тощ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о аналітики належать також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Аналітичне інтерв’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Аналітичний репорта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Аналітична кореспонденці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Аналітичний огля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468360" y="3645000"/>
            <a:ext cx="82296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990099"/>
                </a:solidFill>
                <a:latin typeface="Arial"/>
              </a:rPr>
              <a:t>Вони більші за обсягом, ніж інформаційні матеріали, а також побудовані дещо по-іншому…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равильна побудова будь-якого аналітичного матеріалу – </a:t>
            </a:r>
            <a:br>
              <a:rPr sz="4000"/>
            </a:b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три частин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ормулювання проблеми, постановка пита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гляд, власне аналіз цього питання або проблеми (основна частина публікації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сновки або хоч якийсь підсумок, узагальн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990099"/>
                </a:solidFill>
                <a:latin typeface="Arial"/>
              </a:rPr>
              <a:t>Синтетичні жанри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– ті, що мають ознаки різних жанрових груп. Це, наприклад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76360" y="3284280"/>
            <a:ext cx="568800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еякі репортаж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99"/>
                </a:solidFill>
                <a:latin typeface="Arial"/>
              </a:rPr>
              <a:t>Рецензії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99"/>
                </a:solidFill>
                <a:latin typeface="Arial"/>
              </a:rPr>
              <a:t>Нотатки подорожнь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99"/>
                </a:solidFill>
                <a:latin typeface="Arial"/>
              </a:rPr>
              <a:t>Блогові допис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42472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Секретаріат газети, який здійснює дотипографську підготовку видання, – </a:t>
            </a:r>
            <a:br>
              <a:rPr sz="3600"/>
            </a:b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це </a:t>
            </a: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технічний напрям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діяльності редакції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vlcsnap-2015-11-08-20h59m21s11-e1447009378248"/>
          <p:cNvPicPr/>
          <p:nvPr/>
        </p:nvPicPr>
        <p:blipFill>
          <a:blip r:embed="rId1"/>
          <a:stretch/>
        </p:blipFill>
        <p:spPr>
          <a:xfrm>
            <a:off x="1692360" y="3068640"/>
            <a:ext cx="581004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уто </a:t>
            </a:r>
            <a:r>
              <a:rPr b="1" lang="uk-UA" sz="4000" spc="-1" strike="noStrike">
                <a:solidFill>
                  <a:srgbClr val="009900"/>
                </a:solidFill>
                <a:latin typeface="Arial"/>
              </a:rPr>
              <a:t>художньо-публіцистичні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жанр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Художньо-публіцистичне інтерв’ю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(наприклад, інтерв’ю-портре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Замальов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Нарис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Оповідання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Гумореска, фейлетон, памфлет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68360" y="5445000"/>
            <a:ext cx="828036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ідхід до написання – як аналітика, тільки з гумором, або за канонами художньої літерату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Газетно-журнальні </a:t>
            </a:r>
            <a:r>
              <a:rPr b="1" lang="uk-UA" sz="4400" spc="-1" strike="noStrike">
                <a:solidFill>
                  <a:srgbClr val="990099"/>
                </a:solidFill>
                <a:latin typeface="Arial"/>
              </a:rPr>
              <a:t>заголовки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у порівнянні з інтернетним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ільш розлогі, красив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енш інформативні, не настільки чітк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стосування дотепної мови та різних художніх мовних засобів тільки вітається (іноді навіть у новинах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539640" y="5084640"/>
            <a:ext cx="8064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08080"/>
                </a:solidFill>
                <a:latin typeface="Arial"/>
              </a:rPr>
              <a:t>Проте в кожного видання свій стиль стосовно заголовків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о речі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Заголовок 1"/>
          <p:cNvSpPr/>
          <p:nvPr/>
        </p:nvSpPr>
        <p:spPr>
          <a:xfrm>
            <a:off x="461880" y="1628640"/>
            <a:ext cx="822960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1 листопада в Києві відбулася Всеукраїнська нарада редакторів національних та регіональних газ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говорювали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облеми поштової доставки газет, тарифна політика «Укрпошт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итання захисту національного інформаційного просто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провадження державної політики підтримки українських друкованих ЗМ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ізатор наради – Національна спілки журналістів Украї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нараді взяли участь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едактори понад 100 видан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</a:rPr>
              <a:t>Творчий напрям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діяльності газети – це власне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робота журналістів.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Image result for журналист"/>
          <p:cNvPicPr/>
          <p:nvPr/>
        </p:nvPicPr>
        <p:blipFill>
          <a:blip r:embed="rId1"/>
          <a:stretch/>
        </p:blipFill>
        <p:spPr>
          <a:xfrm>
            <a:off x="1547640" y="2421000"/>
            <a:ext cx="61912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Комерційно-фінансовий напря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6920" y="1599840"/>
            <a:ext cx="381636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ухгалтері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діл рекл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діл маркетин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euro-870757_1280-800x445"/>
          <p:cNvPicPr/>
          <p:nvPr/>
        </p:nvPicPr>
        <p:blipFill>
          <a:blip r:embed="rId1"/>
          <a:stretch/>
        </p:blipFill>
        <p:spPr>
          <a:xfrm>
            <a:off x="4140360" y="3844800"/>
            <a:ext cx="445104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3600" spc="-1" strike="noStrike">
                <a:solidFill>
                  <a:srgbClr val="333399"/>
                </a:solidFill>
                <a:latin typeface="Arial"/>
              </a:rPr>
              <a:t>Головний редактор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– “керівник періодичного видання, який визначає його стратегічні і тактичні завдання, зміст і характер подання інформації, спрямовує творчий колектив на здійснення певної мети, приймає остаточне рішення про затвердження матеріалів до друку чи виходу в ефір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(І. Л. Михайлин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49068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До керівного складу також належать 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заступники головного редактора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(1-3). </a:t>
            </a:r>
            <a:br>
              <a:rPr sz="3600"/>
            </a:b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Одного з них називають 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першим заступником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0301"/>
          <p:cNvPicPr/>
          <p:nvPr/>
        </p:nvPicPr>
        <p:blipFill>
          <a:blip r:embed="rId1"/>
          <a:stretch/>
        </p:blipFill>
        <p:spPr>
          <a:xfrm>
            <a:off x="6227640" y="2637000"/>
            <a:ext cx="19051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7T12:29:36Z</dcterms:created>
  <dc:creator>Миро</dc:creator>
  <dc:description/>
  <dc:language>en-US</dc:language>
  <cp:lastModifiedBy>Мирося</cp:lastModifiedBy>
  <dcterms:modified xsi:type="dcterms:W3CDTF">2019-11-24T19:46:12Z</dcterms:modified>
  <cp:revision>13</cp:revision>
  <dc:subject/>
  <dc:title>Створення контенту для друкованих ЗМІ</dc:title>
</cp:coreProperties>
</file>