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43C-FF08-41AD-BD9A-E582DD54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5CC1-FBAE-4456-982F-FEDE6907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EE7-A723-4491-BFDC-39B6E035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120-B02D-42AB-83D3-666AD7DB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77A5-13D0-48A4-A058-3465A6C0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0F5E-A3DA-43EF-8F57-904C0618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113-DD4A-4A63-ABD1-21A7FA2B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0FA-6CD5-4E6C-9EF0-EB03C31B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2C5-F827-4DD8-AC27-AE774863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FC8-2912-45D0-9AC8-C5F21A41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EC0-65DB-4B76-9C5E-5E2DD6F7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F1F-9ACE-4771-8047-630E310B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D8E0-1F99-4E02-A766-386F5CCC508B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Створення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 контенту для друкованих ЗМ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71280" y="1341360"/>
            <a:ext cx="4033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ма лекці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Шеф-редактор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керівник періодичного видання, який займається організаційними та фінансовими питаннями його випуску, формуванням стратегії його інформаційної політики, виступає в ньому як публіцист. (Можуть назначати з журналістів, аби зміцнити якусь лінію в редакційній політиці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Літературний редактор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перечитує всі матеріали і “підганяє” їх під один стиль, крім того, придумує вдалі заголо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3185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За лінією творчої діяльності редакції існують журналістські відділи.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правило, редакція має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ілька відділі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за темами висвітлення суспільного життя. Наприклад: відділ політики, відділ гуманітарних питань (освіти та медицини), відділ соціальних питань, відділ спорту тощо. Часто існує окремий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ідділ нови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, що працює над усіма темами в інформаційних жанр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99"/>
                </a:solidFill>
                <a:latin typeface="Arial"/>
              </a:rPr>
              <a:t>Склад типового редакційного відді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560" y="2924280"/>
            <a:ext cx="78598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ерівник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начальник відділу, редактор відділ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леглі -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ядові журналіст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цього відділу (від одного до трьох) - </a:t>
            </a: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репортери, кореспонденти, оглядачі</a:t>
            </a:r>
            <a:r>
              <a:rPr b="0" lang="uk-UA" sz="3200" spc="-1" strike="noStrike">
                <a:solidFill>
                  <a:srgbClr val="99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734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33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990099"/>
                </a:solidFill>
                <a:latin typeface="Arial"/>
              </a:rPr>
              <a:t>Репортер</a:t>
            </a:r>
            <a:r>
              <a:rPr b="0" lang="uk-UA" sz="40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300" spc="-1" strike="noStrike">
                <a:solidFill>
                  <a:srgbClr val="990099"/>
                </a:solidFill>
                <a:latin typeface="Arial"/>
              </a:rPr>
              <a:t>(франц. </a:t>
            </a:r>
            <a:r>
              <a:rPr b="0" lang="en-US" sz="3300" spc="-1" strike="noStrike">
                <a:solidFill>
                  <a:srgbClr val="990099"/>
                </a:solidFill>
                <a:latin typeface="Arial"/>
              </a:rPr>
              <a:t>reporter</a:t>
            </a:r>
            <a:r>
              <a:rPr b="0" lang="uk-UA" sz="3300" spc="-1" strike="noStrike">
                <a:solidFill>
                  <a:srgbClr val="990099"/>
                </a:solidFill>
                <a:latin typeface="Arial"/>
              </a:rPr>
              <a:t> – повідомлювач, інформатор) – </a:t>
            </a:r>
            <a:r>
              <a:rPr b="0" lang="uk-UA" sz="3300" spc="-1" strike="noStrike">
                <a:solidFill>
                  <a:srgbClr val="000000"/>
                </a:solidFill>
                <a:latin typeface="Arial"/>
              </a:rPr>
              <a:t>рольова спеціалізація в журналістиці; працівник ЗМІ, який збирає інформацію на місці події та оперативно передає відповідне повідомлення до редакції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8rcegm7pPngF7Elp6obJdTZ1blbOUz2KP7HptDS0AdZja3Fw2CtpTGFebrs7VAHf9Q7"/>
          <p:cNvPicPr/>
          <p:nvPr/>
        </p:nvPicPr>
        <p:blipFill>
          <a:blip r:embed="rId1"/>
          <a:stretch/>
        </p:blipFill>
        <p:spPr>
          <a:xfrm>
            <a:off x="5940360" y="4221000"/>
            <a:ext cx="2881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99"/>
                </a:solidFill>
                <a:latin typeface="Arial"/>
              </a:rPr>
              <a:t>Кореспонд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63120" y="1699920"/>
            <a:ext cx="78692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Arial"/>
              </a:rPr>
              <a:t>(лат. </a:t>
            </a: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correspondents </a:t>
            </a:r>
            <a:r>
              <a:rPr b="1" lang="uk-UA" sz="2800" spc="-1" strike="noStrike">
                <a:solidFill>
                  <a:srgbClr val="990099"/>
                </a:solidFill>
                <a:latin typeface="Arial"/>
              </a:rPr>
              <a:t>– той, хто повідомляє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льова спеціалізація в журналістиці. Позначає творчого співробітника ЗМІ, який надсилає матеріали до редакції з певного міста або виїздить кудись за дорученням редакції для висвітлення певної події чи розслідування певної ситуа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різняють кільк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ипологічних спеціалізацій кореспонд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Власний кореспондент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штатний працівник редакції, який здійснює свою професійну діяльність в певному регіоні, де постійно мешкає, та надсилає свої матеріали пошт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Позаштатний кореспондент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особа, яка співпрацює з редакцією за гонорари, допомагає висвітлювати якусь тему або новини певної місцевості, часто не будучи професійним журналі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Оглядач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жанрова і рольова спеціалізація в журналістиці. Творчий співробітник редакції, який пише огляди на основі того, що стежить за розвитком ситуації і висвітлює її повністю. (Як правило, працює в одній темі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ihtiyac-kredisi-cekmeden-once-yapilamasi-gereken-hesaplamalar"/>
          <p:cNvPicPr/>
          <p:nvPr/>
        </p:nvPicPr>
        <p:blipFill>
          <a:blip r:embed="rId1"/>
          <a:stretch/>
        </p:blipFill>
        <p:spPr>
          <a:xfrm>
            <a:off x="2700360" y="342900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Діяльність деяких творчих працівників редакції друкованого видання здійснюється на межі творчого і технічного напрям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удож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токореспонд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ерівна ланка секретаріа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 також група співробітників, які безпосередньо займаються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нтернет-версією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газети/журналу (крім усього, можуть шукати в інтернеті додаткові матеріал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7138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Живих” малюнків у газетах раніше було значно більш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prodam-stare-gazet-i-zhurnal--f5d5-1334312122278898-1-big"/>
          <p:cNvPicPr/>
          <p:nvPr/>
        </p:nvPicPr>
        <p:blipFill>
          <a:blip r:embed="rId1"/>
          <a:stretch/>
        </p:blipFill>
        <p:spPr>
          <a:xfrm>
            <a:off x="826920" y="907920"/>
            <a:ext cx="761544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3232"/>
          <p:cNvPicPr/>
          <p:nvPr/>
        </p:nvPicPr>
        <p:blipFill>
          <a:blip r:embed="rId1"/>
          <a:stretch/>
        </p:blipFill>
        <p:spPr>
          <a:xfrm>
            <a:off x="324000" y="1052640"/>
            <a:ext cx="8458200" cy="5376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979640" y="404640"/>
            <a:ext cx="48974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мериканська газета за 1884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76464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c9cdf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560" y="2492280"/>
            <a:ext cx="78598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ипова структура редакції газ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бота творчих працівників над контентом видання. Додаткові завд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Жанрова палітра, характерна для традиційних друкованих ЗМ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99"/>
                </a:solidFill>
                <a:latin typeface="Arial"/>
              </a:rPr>
              <a:t>Фотокор</a:t>
            </a:r>
            <a:r>
              <a:rPr b="0" lang="uk-UA" sz="36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півпрацює: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1) з журналістами, які пишуть тексти,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2) з фахівцями секретаріат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22"/>
          <p:cNvPicPr/>
          <p:nvPr/>
        </p:nvPicPr>
        <p:blipFill>
          <a:blip r:embed="rId1"/>
          <a:stretch/>
        </p:blipFill>
        <p:spPr>
          <a:xfrm>
            <a:off x="1908000" y="2852640"/>
            <a:ext cx="54849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Смольенко"/>
          <p:cNvPicPr/>
          <p:nvPr/>
        </p:nvPicPr>
        <p:blipFill>
          <a:blip r:embed="rId1"/>
          <a:stretch/>
        </p:blipFill>
        <p:spPr>
          <a:xfrm>
            <a:off x="1403280" y="333360"/>
            <a:ext cx="661824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Arial"/>
              </a:rPr>
              <a:t>В редакції виділяють </a:t>
            </a: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редколегію</a:t>
            </a:r>
            <a:r>
              <a:rPr b="1" lang="uk-UA" sz="3200" spc="-1" strike="noStrike">
                <a:solidFill>
                  <a:srgbClr val="009999"/>
                </a:solidFill>
                <a:latin typeface="Arial"/>
              </a:rPr>
              <a:t>, </a:t>
            </a:r>
            <a:br>
              <a:rPr sz="3200"/>
            </a:br>
            <a:r>
              <a:rPr b="1" lang="uk-UA" sz="3200" spc="-1" strike="noStrike">
                <a:solidFill>
                  <a:srgbClr val="009999"/>
                </a:solidFill>
                <a:latin typeface="Arial"/>
              </a:rPr>
              <a:t>до якої зазвичай входя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060640"/>
            <a:ext cx="8435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ловний редактор та всі його заступ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еф-редак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чальники (редактори) всіх відділів, де працюють творчі праців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повідальний секретар (за його відсутності – заступни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99"/>
                </a:solidFill>
                <a:latin typeface="Arial"/>
              </a:rPr>
              <a:t>На планірку збирається вся редколегія + провідні журналісти</a:t>
            </a:r>
            <a:r>
              <a:rPr b="1" lang="uk-UA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11"/>
          <p:cNvPicPr/>
          <p:nvPr/>
        </p:nvPicPr>
        <p:blipFill>
          <a:blip r:embed="rId1"/>
          <a:stretch/>
        </p:blipFill>
        <p:spPr>
          <a:xfrm>
            <a:off x="324000" y="1773360"/>
            <a:ext cx="856116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планірк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можуть запрошувати також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токор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чальника відділу рекл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чальника відділу маркетин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ловного бухгал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uk-UA" sz="3200" spc="-1" strike="noStrike">
                <a:solidFill>
                  <a:srgbClr val="808080"/>
                </a:solidFill>
                <a:latin typeface="Arial"/>
              </a:rPr>
              <a:t>Якщо є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ітературного редакт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удож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8080"/>
                </a:solidFill>
                <a:latin typeface="Arial"/>
              </a:rPr>
              <a:t>Інші співробітники редакції, про яких </a:t>
            </a:r>
            <a:br>
              <a:rPr sz="3200"/>
            </a:br>
            <a:r>
              <a:rPr b="1" lang="uk-UA" sz="3200" spc="-1" strike="noStrike">
                <a:solidFill>
                  <a:srgbClr val="808080"/>
                </a:solidFill>
                <a:latin typeface="Arial"/>
              </a:rPr>
              <a:t>ще не було зга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истемний адміністратор (обслуговує комп’ютерну мережу редакції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од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екретарка в приймальній (вона ж часто - завідувач канцелярією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биральни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9999"/>
                </a:solidFill>
                <a:latin typeface="Arial"/>
              </a:rPr>
              <a:t>Шлях, який проходить журналістський матеріал </a:t>
            </a:r>
            <a:br>
              <a:rPr sz="4000"/>
            </a:br>
            <a:r>
              <a:rPr b="0" lang="uk-UA" sz="4000" spc="-1" strike="noStrike">
                <a:solidFill>
                  <a:srgbClr val="009999"/>
                </a:solidFill>
                <a:latin typeface="Arial"/>
              </a:rPr>
              <a:t>із моменту його створ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572000" y="2133720"/>
            <a:ext cx="4248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крок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шук і збір інформації, власне створення матеріалу і його набір. Набирати може сам журналіст або ж набір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notebook_nach"/>
          <p:cNvPicPr/>
          <p:nvPr/>
        </p:nvPicPr>
        <p:blipFill>
          <a:blip r:embed="rId1"/>
          <a:stretch/>
        </p:blipFill>
        <p:spPr>
          <a:xfrm>
            <a:off x="468360" y="2765520"/>
            <a:ext cx="38145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3516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браний матеріал, так званий “оригінал” – це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дакційний документ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Інформація, що обов’язково його супроводжує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39640" y="213372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Arial"/>
              </a:rPr>
              <a:t>Дата і час набору, набір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Arial"/>
              </a:rPr>
              <a:t>На якому комп’ютері набрано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Arial"/>
              </a:rPr>
              <a:t>Обсяг матеріалу (в друкованих знаках і/або рядка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68360" y="4292640"/>
            <a:ext cx="8351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браний матеріал зберігається у спільній папці, до якої мають доступ відповідальний секретар і верстальники (всі редакційні комп’ютери об’єднані в єдину мереж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ожен журналіст точно знає, скільки і яких матеріалів йому необхідно здати в кожен номер. Існує </a:t>
            </a:r>
            <a:r>
              <a:rPr b="1" lang="uk-UA" sz="3000" spc="-1" strike="noStrike">
                <a:solidFill>
                  <a:srgbClr val="ff0000"/>
                </a:solidFill>
                <a:latin typeface="Arial"/>
              </a:rPr>
              <a:t>індивідуальне навантаження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, яке залежить від обсягу та структури видання, кількості творчих працівників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000"/>
            </a:br>
            <a:r>
              <a:rPr b="0" lang="uk-UA" sz="3000" spc="-1" strike="noStrike" u="sng">
                <a:solidFill>
                  <a:srgbClr val="000000"/>
                </a:solidFill>
                <a:uFillTx/>
                <a:latin typeface="Arial"/>
              </a:rPr>
              <a:t>Наприклад: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одному працівникові треба за тиждень підготувати одну велику аналітичну статтю, три огляди, три інтерв’ю, одну кореспонденцію, фейлетон, добірку тематичних новин тощ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2 крок – вичитка автором. </a:t>
            </a:r>
            <a:br>
              <a:rPr sz="3200"/>
            </a:b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Слід ретельно перевір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11280" y="1915920"/>
            <a:ext cx="4608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иф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ізвища, і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з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убр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79280" y="4221000"/>
            <a:ext cx="864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8080"/>
                </a:solidFill>
                <a:latin typeface="Arial"/>
              </a:rPr>
              <a:t>Ще раз подумати над заголов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84360" y="508464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алі журналіст ставить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вій підпис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і віддає матеріал начальнику відді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9200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У діяльності редакції будь-якого друкованого видання можна виділити три основні напрями:</a:t>
            </a:r>
            <a:br>
              <a:rPr sz="3600"/>
            </a:br>
            <a:r>
              <a:rPr b="0" lang="uk-UA" sz="3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1) творчий,</a:t>
            </a:r>
            <a:br>
              <a:rPr sz="3600"/>
            </a:b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     2) технічний,</a:t>
            </a:r>
            <a:br>
              <a:rPr sz="3600"/>
            </a:b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     3) комерційно-фінансовий.</a:t>
            </a:r>
            <a:br>
              <a:rPr sz="3600"/>
            </a:b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Структура редакції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обумовлена ними: за кожним напрямом є відповідні відді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чальник відділу переглядає матеріал. Він 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має прав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вернути його на доопрацю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робити, навіть без згоди автора, зокрема: дати іншу назву, скоротити - викинути якісь речення або цілі абзаци, дописати щось, переставити місц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39640" y="4653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Arial"/>
              </a:rPr>
              <a:t>Начальник відділу теж ставить свій підпис і віддає матеріал головному редактору або його першому заступн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Головний редактор (або заступн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же теж внести свою прав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же призначити, коли і на якій сторінці опублікувати матері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8080"/>
                </a:solidFill>
                <a:latin typeface="Arial"/>
              </a:rPr>
              <a:t>Теж ставить свій підпис і віддає відповідальному секретаре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24000" y="4437000"/>
            <a:ext cx="84452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Із цього моменту з матеріалом працюють у секретаріаті. Поки газетна (журнальна) сторінка не готова остаточно, автор </a:t>
            </a:r>
            <a:r>
              <a:rPr b="0" lang="uk-UA" sz="3200" spc="-1" strike="noStrike" u="sng">
                <a:solidFill>
                  <a:srgbClr val="333399"/>
                </a:solidFill>
                <a:uFillTx/>
                <a:latin typeface="Arial"/>
              </a:rPr>
              <a:t>має право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втручатись в його опрацюван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одаткові завдання штатного журналіста-газетя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Забезпечувати видання додатковими матеріалам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розважального характеру (гороскопи, кросворди, різні рецепти, поради тощ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Брати участь у передплатних кампаніях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здійснювати промоушн вид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рати участь у підготовці платних матеріалів </a:t>
            </a:r>
            <a:r>
              <a:rPr b="0" lang="uk-UA" sz="2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рекламна діяльність</a:t>
            </a:r>
            <a:r>
              <a:rPr b="0" lang="uk-UA" sz="2800" spc="-1" strike="noStrike">
                <a:solidFill>
                  <a:srgbClr val="ff33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Правильно підготовлений журналістом  проплачений матеріал обов’язково супроводжується позначкою </a:t>
            </a:r>
            <a:r>
              <a:rPr b="1" lang="uk-UA" sz="3400" spc="-1" strike="noStrike">
                <a:solidFill>
                  <a:srgbClr val="009999"/>
                </a:solidFill>
                <a:latin typeface="Arial"/>
              </a:rPr>
              <a:t>“на правах реклами”</a:t>
            </a: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 або </a:t>
            </a:r>
            <a:r>
              <a:rPr b="1" lang="uk-UA" sz="3400" spc="-1" strike="noStrike">
                <a:solidFill>
                  <a:srgbClr val="009999"/>
                </a:solidFill>
                <a:latin typeface="Arial"/>
              </a:rPr>
              <a:t>“спонсорський контент”</a:t>
            </a: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Термін</a:t>
            </a:r>
            <a:r>
              <a:rPr b="1" lang="uk-UA" sz="3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uk-UA" sz="3400" spc="-1" strike="noStrike">
                <a:solidFill>
                  <a:srgbClr val="7030a0"/>
                </a:solidFill>
                <a:latin typeface="Arial"/>
              </a:rPr>
              <a:t>“нативна реклама”</a:t>
            </a:r>
            <a:r>
              <a:rPr b="1" lang="uk-UA" sz="3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позначає платні матеріали, подібні до звичайних журналістських. Від англ. слова </a:t>
            </a:r>
            <a:r>
              <a:rPr b="0" lang="en-US" sz="3400" spc="-1" strike="noStrike">
                <a:solidFill>
                  <a:srgbClr val="990099"/>
                </a:solidFill>
                <a:latin typeface="Arial"/>
              </a:rPr>
              <a:t>native </a:t>
            </a:r>
            <a:r>
              <a:rPr b="0" lang="uk-UA" sz="3400" spc="-1" strike="noStrike">
                <a:solidFill>
                  <a:srgbClr val="990099"/>
                </a:solidFill>
                <a:latin typeface="Arial"/>
              </a:rPr>
              <a:t>– рідни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Приховану рекламу, за яку журналіст одержує плату неофіційно, обманюючи колег і суспільство, прийнято називати </a:t>
            </a: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“джинсою”.</a:t>
            </a: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 Це явище негативне, позорить журналістику і підлягає викоріненню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0099"/>
                </a:solidFill>
                <a:latin typeface="Arial"/>
              </a:rPr>
              <a:t>Тепер про жанр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Жанри, якими користуються газетярі, вважаються традиційними і, так би мовити, базовими. Тому всі журналісти повинні їх зн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сі класичні журналістські жанри у нас прийнято ділити на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три груп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: інформаційні, аналітичні та художньо-публіцистич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0099"/>
                </a:solidFill>
                <a:latin typeface="Arial"/>
              </a:rPr>
              <a:t>Як навчитися розрізнят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8000" y="1483920"/>
            <a:ext cx="3754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ах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піднесена частина, торкається неб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тін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основна і найбільш помітна част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ундамент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спирається на земл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tiema-uroka-risunok-dom_7"/>
          <p:cNvPicPr/>
          <p:nvPr/>
        </p:nvPicPr>
        <p:blipFill>
          <a:blip r:embed="rId1"/>
          <a:stretch/>
        </p:blipFill>
        <p:spPr>
          <a:xfrm>
            <a:off x="539640" y="2205000"/>
            <a:ext cx="44974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0099"/>
                </a:solidFill>
                <a:latin typeface="Arial"/>
              </a:rPr>
              <a:t>Це була метаф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658520"/>
            <a:ext cx="80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весь будиночок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це журналістика, 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Фундамент</a:t>
            </a: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имволізує новини. Інформація, яку беруть безпосередньо з реальності, тому це найбільш приземлені, тобто прозаїчні матеріали, але при цьому вони становлять основу, на якій власне тримається вся журналістика. 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4000" y="520200"/>
            <a:ext cx="8496000" cy="58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Основна частин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стіни, вікна, двері тощо) – аналітика. Завжди базується на “фундаменті”, тобто новинах – на тій інформації, яку вже публіка знає, оскільки новини йдуть рані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Дах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із димарем, крівлею тощо) – художня публіцистика. Найбільш відірвана від реальності журналістика, часто пов’язана з випадковими темами, авторським абстрагуванням, індивідуальними поглядами і почутт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0099"/>
                </a:solidFill>
                <a:latin typeface="Arial"/>
              </a:rPr>
              <a:t>Це був також психологічний тес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2492280"/>
            <a:ext cx="7786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емля на малюнку – повсякденна реальні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ебо – фантазії, вигад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Все, що стосується будиночка, – ваша журналістська творчі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06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езважаючи на складність організації роботи в редакції, весь її колектив працює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як один злагоджений механізм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, у якому кожен співробітник добре знає свою роль та усвідомлює значення своєї ділянки робо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Журналістський матеріал може мати одну з трьох ціл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поінформув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запропонувати можливі шляхи осмислення вже відомої інформаці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запропонувати цілісне враження, емоції та почуття, що виникають з приводу того чи іншого суспільного яв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68360" y="5440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Arial"/>
              </a:rPr>
              <a:t>Відповідно до мети журналіст і обирає жанр, коли працює над матеріа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сновні газетні </a:t>
            </a:r>
            <a:r>
              <a:rPr b="0" lang="uk-UA" sz="4000" spc="-1" strike="noStrike">
                <a:solidFill>
                  <a:srgbClr val="ff3300"/>
                </a:solidFill>
                <a:latin typeface="Arial"/>
              </a:rPr>
              <a:t>інформаційні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жанр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Замітк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буває, як мінімум, коротка й розширена). Один із різновидів – “блискавка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Звіт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дуже подібна, але пишеться сухо і здебільшого із дотриманням хронології події). Обирають цей жанр, коли висвітлюють регламентовані заходи (конференції, з’їзди, засідання тощ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Інформаційне інтерв’ю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має й інші різновиди; саме інформаційне інтерв’ю коротке і побудоване згідно з правилом перевернутої піраміди, тобто починається з Що? Де? Коли?). Елементи інтерв’ю можуть міститися в матеріалах інших жанрів (тоді це метод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Інформаційний репортаж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найосновніша ознака – ефект присутності; класичний репортаж пишуть із застосуванням прийому репортажного опису дійсності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Інформаційна кореспонденці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Дуже подібна до розширеної замітки, але ще більша за обсягом. В матерілах цього жанру використовують кілька джерел. Обирають його тоді, коли інформаційний привід потребує ретельного роз’ясн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Бліц-опитування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ідрізняється від соціологічного опитування! Як правило, не більше 10 респондент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 щ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Arial"/>
              </a:rPr>
              <a:t>Інформаційний огляд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Цілісний матеріал, в якому в узагальненому вигляді переповідається зміст найголовніших под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Дайджест нови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різновид інформаційних матеріалів: збірка новинних повідомлень, сформульованих максимально лаконічно (заміто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сновні газетні </a:t>
            </a:r>
            <a:r>
              <a:rPr b="0" lang="uk-UA" sz="4000" spc="-1" strike="noStrike">
                <a:solidFill>
                  <a:srgbClr val="0000ff"/>
                </a:solidFill>
                <a:latin typeface="Arial"/>
              </a:rPr>
              <a:t>аналітичні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жанр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Стаття.</a:t>
            </a:r>
            <a:r>
              <a:rPr b="0" lang="uk-UA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е завжди великий за обсягом матеріал, в якому розглядаються складні соціально значущі питання; містить розплутування фактів, їх порівняння, звернення до багатьох джерел, роздуми, міркування як журналіста, так і фахівц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Есе (есей)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Подібний жанр, однак роздуми у ньому переважають і більше уваги приділяється образній мові (тому дехто схильний вважати не аналітикою, а художньою публіцистикою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0099"/>
                </a:solidFill>
                <a:latin typeface="Arial"/>
              </a:rPr>
              <a:t>Як розрізнити статтю і ес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се можна написати, не виходячи з кабінету за годину-дві, якщо журналіст, як кажуть, в тем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ля роботи над справжньою статтею йде набагато більше часу, іноді кілька днів, і її складно написати, не виходячи за межі редакції, оскільки треба здобувати додаткові факти, коментарі, свідчення, враження тощ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 аналітики належать також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Аналітичне інтерв’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Аналітичний репорт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Аналітична кореспонденц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Аналітичний огля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68360" y="3645000"/>
            <a:ext cx="82296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0099"/>
                </a:solidFill>
                <a:latin typeface="Arial"/>
              </a:rPr>
              <a:t>Вони більші за обсягом, ніж інформаційні матеріали, а також побудовані дещо по-іншому…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авильна побудова будь-якого аналітичного матеріалу – </a:t>
            </a:r>
            <a:br>
              <a:rPr sz="4000"/>
            </a:b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три частин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рмулювання проблеми, постановка пит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гляд, власне аналіз цього питання або проблеми (основна частина публікації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сновки або хоч якийсь підсумок, узагальн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0099"/>
                </a:solidFill>
                <a:latin typeface="Arial"/>
              </a:rPr>
              <a:t>Синтетичні жанри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– ті, що мають ознаки різних жанрових груп. Це, наприкла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6360" y="3284280"/>
            <a:ext cx="56880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які репортаж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Рецензії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Нотатки подорожн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Блогові допис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2472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екретаріат газети, який здійснює дотипографську підготовку видання, –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це </a:t>
            </a: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технічний напрям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іяльності редакції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vlcsnap-2015-11-08-20h59m21s11-e1447009378248"/>
          <p:cNvPicPr/>
          <p:nvPr/>
        </p:nvPicPr>
        <p:blipFill>
          <a:blip r:embed="rId1"/>
          <a:stretch/>
        </p:blipFill>
        <p:spPr>
          <a:xfrm>
            <a:off x="1692360" y="3068640"/>
            <a:ext cx="58100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то </a:t>
            </a:r>
            <a:r>
              <a:rPr b="1" lang="uk-UA" sz="4000" spc="-1" strike="noStrike">
                <a:solidFill>
                  <a:srgbClr val="009900"/>
                </a:solidFill>
                <a:latin typeface="Arial"/>
              </a:rPr>
              <a:t>художньо-публіцистичні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жанр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Художньо-публіцистичне інтерв’ю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наприклад, інтерв’ю-портр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Замальов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Нарис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Оповіданн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Гумореска, фейлетон, памфлет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68360" y="5445000"/>
            <a:ext cx="828036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дхід до написання – як аналітика, тільки з гумором, або за канонами художньої літерату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Газетно-журнальні </a:t>
            </a:r>
            <a:r>
              <a:rPr b="1" lang="uk-UA" sz="4400" spc="-1" strike="noStrike">
                <a:solidFill>
                  <a:srgbClr val="990099"/>
                </a:solidFill>
                <a:latin typeface="Arial"/>
              </a:rPr>
              <a:t>заголовки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у порівнянні з інтернетни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ільш розлогі, краси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нш інформативні, не настільки чітк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стосування дотепної мови та різних художніх мовних засобів тільки вітається (іноді навіть у новина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39640" y="5084640"/>
            <a:ext cx="806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08080"/>
                </a:solidFill>
                <a:latin typeface="Arial"/>
              </a:rPr>
              <a:t>Проте в кожного видання свій стиль стосовно заголовкі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 речі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461880" y="1628640"/>
            <a:ext cx="82296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1 листопада в Києві відбулася Всеукраїнська нарада редакторів національних та регіональних газ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говорювали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блеми поштової доставки газет, тарифна політика «Укрпош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итання захисту національного інформаційного просто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провадження державної політики підтримки українських друкованих ЗМ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ізатор наради – Національна спілки журналістів Украї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нараді взяли участь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дактори понад 100 видан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Творчий напрям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діяльності газети – це власне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обота журналістів.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Image result for журналист"/>
          <p:cNvPicPr/>
          <p:nvPr/>
        </p:nvPicPr>
        <p:blipFill>
          <a:blip r:embed="rId1"/>
          <a:stretch/>
        </p:blipFill>
        <p:spPr>
          <a:xfrm>
            <a:off x="1547640" y="2421000"/>
            <a:ext cx="6191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00"/>
                </a:solidFill>
                <a:latin typeface="Arial"/>
              </a:rPr>
              <a:t>Комерційно-фінансовий напря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6920" y="1599840"/>
            <a:ext cx="381636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ухгалтер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діл рек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діл маркетин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euro-870757_1280-800x445"/>
          <p:cNvPicPr/>
          <p:nvPr/>
        </p:nvPicPr>
        <p:blipFill>
          <a:blip r:embed="rId1"/>
          <a:stretch/>
        </p:blipFill>
        <p:spPr>
          <a:xfrm>
            <a:off x="4140360" y="3844800"/>
            <a:ext cx="445104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Головний редактор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“керівник періодичного видання, який визначає його стратегічні і тактичні завдання, зміст і характер подання інформації, спрямовує творчий колектив на здійснення певної мети, приймає остаточне рішення про затвердження матеріалів до друку чи виходу в ефір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(І. Л. Михайлин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49068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о керівного складу також належать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аступники головного редактора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(1-3).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Одного з них називають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ершим заступником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0301"/>
          <p:cNvPicPr/>
          <p:nvPr/>
        </p:nvPicPr>
        <p:blipFill>
          <a:blip r:embed="rId1"/>
          <a:stretch/>
        </p:blipFill>
        <p:spPr>
          <a:xfrm>
            <a:off x="6227640" y="2637000"/>
            <a:ext cx="19051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7T12:29:36Z</dcterms:created>
  <dc:creator>Миро</dc:creator>
  <dc:description/>
  <dc:language>en-US</dc:language>
  <cp:lastModifiedBy>Мирося</cp:lastModifiedBy>
  <dcterms:modified xsi:type="dcterms:W3CDTF">2019-11-24T19:46:12Z</dcterms:modified>
  <cp:revision>13</cp:revision>
  <dc:subject/>
  <dc:title>Створення контенту для друкованих ЗМІ</dc:title>
</cp:coreProperties>
</file>