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9D0-D730-4B41-88CA-D090EA8F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BA1-9FD2-46DA-9D87-4AFD91B4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830-AC9F-44E9-9811-F1F9F9F6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0DF7-11B8-4855-AA05-0E2CB0C4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B3E1-2602-48AD-B44D-EE2614AA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659E-E7F5-4D2E-B32F-C4FE9F8A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EDF2-2A15-43AA-9E80-7234C49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182D-B2A7-4510-901D-34C32125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2C14-2943-41AC-85F2-90AD6BC5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D119-297C-4EDD-82C9-84FECF92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71EA-00F4-4495-82FB-02CD547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55D-6A74-4E9F-A9FA-900D9506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4511-688A-4A56-8139-12A2307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DB56-D933-4876-AB6D-6946038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282D-9320-4745-A86E-FBD6ADAB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C704-67E1-4F23-A420-DCC5206C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E611-DC12-4630-A28E-D33F1731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2DC60-33D1-46DB-9B04-99FCAAF3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C3A8-B7B8-4B4B-AF2A-73399A56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0A79-0069-4C69-BA52-CEFAB28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608E-D832-411B-80CE-39BAFD3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8429-0B2B-43A1-9C80-D30B7F7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832-84DC-4EF3-90A0-E263C46B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2AAE-8DA4-42AB-A5AE-2D20BFEE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9762-8C14-464B-A6B8-44D1FDA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86BA-5930-4F4E-827F-ABEA94EF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9D0D-57BB-4C07-B209-22CC67D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4E4B-F740-4293-8FEC-172FD4CF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BCB1-88D4-41B1-975E-6008A556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BF1D-9FC2-42A7-A65C-3E05411F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F5DE-DD26-48E8-B22A-0DC1CD0F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D11-5B90-4476-BDCA-3C9E6006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AEC-A7DD-4600-9E42-1C54E33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099-10B6-4C9F-A54E-031E9FA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A02-04F1-42D2-8177-41B5C84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0F3-F3EA-45E4-8CD5-35A6352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4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0AB5-2A85-4F28-B36A-F7522DA05AAE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AD0-E4BA-4D96-A9D6-E8FF5225CD5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659-64F3-4178-8817-4E426D55526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6697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e67c8"/>
                </a:solidFill>
                <a:latin typeface="Times New Roman"/>
                <a:ea typeface="Times New Roman"/>
              </a:rPr>
              <a:t>Маркетингове забезпечення ЗЕД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64008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1. Поняття, об’єкт, та суб’єкти міжнародного маркетингу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2. Цілі міжнародного маркетингу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3. Фактори макросередовища міжнародного маркетинг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4. Фактори мікросередовища міжнародного маркетингу.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5. Сутність та особливості міжнародних маркетингових досліджень.</a:t>
            </a:r>
            <a:r>
              <a:rPr b="0" lang="ru-RU" sz="20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6. Поняття та процедура проведення міжнародної сегментації рин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7. Ознаки міжнародної сегментації ринку. Маркетингові стратегії охоплення зарубіжних ринкових сегменті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Політико-правові фактор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літична стабільність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аконодавча система країни та правові засади ведення бізнес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осконалість судової систе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рівень корумпованості державного апарату, бюрократиз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економічна політика держав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ержавне регулювання зовнішньоекономічної діяльн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99640" y="731520"/>
            <a:ext cx="74883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Економічні фактори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темпи економічного розвитку зарубіжної країни (ВВП на душу населення, темпи інфляції, рівень безробіття, інвестиційний клімат, стабільність національної валюти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показники галузевої привабливості зарубіжних ринків (місткість, доступність та зростання товарного ринку, купівельна спроможність споживачів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тип економіки зарубіжних країн (країни з ринковою економікою, країни з перехідною економікою; країни, що розвиваються).</a:t>
            </a:r>
            <a:r>
              <a:rPr b="0" lang="ru-RU" sz="28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640" y="731520"/>
            <a:ext cx="7129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Соціально-культурні фактори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омунікаційні заход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елігія та освіт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народні традиції та звичаї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умови проживання та стиль життя насе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звичаї та норми поведінки зарубіжного населе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00000" y="731880"/>
            <a:ext cx="7344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Технологічні (науково-технічні) фактори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розвитку науково-технічного прогресу в країн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державних асигнувань на розвиток науки та техні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забезпечення суспільства новітніми досягненнями науки і технік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інтенсивність експорту-імпорту технологій та високотехнологічних продуктів.</a:t>
            </a:r>
            <a:r>
              <a:rPr b="0" lang="ru-RU" sz="28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731880"/>
            <a:ext cx="7488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Природно-географічні фактори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місце розташування країни (рельєф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ліматичні особливост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наявність корисних копалин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озвиток інфраструктур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стан навколишнього середовищ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7245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Демографічні фактори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чисельність та структура населення (статева, вікова, регіональн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середня тривалість життя в країн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озмір сім'ї, кількість діте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динаміка народжуваності і смертност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рівень освіти та рід занять населе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770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кросередовище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сукупність значною мірою керованих зовнішніх факторів, які формують партнерське та конкурентне середовище підприємства і мають значний вплив на її маркетингову та управлінську діяльність на зовнішньому рин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До мікросередовища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належа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стачальни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середни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клієнти (споживачі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конкурен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Здійснення 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оцінки діяльності конкурентів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доцільно проводити в таких напрямах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значення основних конкурентів підприємства за асортиментом та продуктовою групою, сегментом ринку, географічним розташуванням, ціновою політикою, каналами збут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ослідження ринкової частки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явлення стратегії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визначення методів конкурентної боротьби на ринк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оцінка конкурентоспроможності продукц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вчення ефективності маркетингових заход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становлення фінансового стану підприєм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15640" y="907560"/>
            <a:ext cx="7148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Дослідження закордонних покупців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передбачає аналіз споживчого ринку та дослідження поведінки клієнтів цільового сегмента. Вивчення споживчого ринку може здійснюватися за критеріям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цілі та фінансові можливості кліє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подобання цільових споживач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плив моди та інших новітніх тенденцій на споживчий попит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мотиви здійснення покупок покупц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сихологічні, культурні та соціально-демографічні характеристики попиту зарубіжних споживач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9640" y="731520"/>
            <a:ext cx="81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Міжнародні маркетингові дослідження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 – це процес збору, узагальнення, аналізу та інтерпретації даних щодо різних аспектів міжнародної маркетингової діяльності підприємств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Основними завданнями міжнародних маркетингових досліджень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є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1. Забезпечення керівництва необхідною та достовірною маркетинговою інформацією відповідно до визначеної мети дослідже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2. Забезпечення оцінки витрат, ризиків та вигод від здійснення певної маркетингової діяльності на зарубіжному рин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3. Сприяння пошуку об’єктивних рішень при здійсненні управлінської та маркетингової діяльності на рин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58920" y="731520"/>
            <a:ext cx="7058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Міжнародний маркетинг визначається як сукупність дій, необхідних для дослідження споживчого попиту, пропозиції та основних тенденцій розвитку закордонних ринків з метою впливу та пристосування до ни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жнародний маркетинг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комплекс маркетингових заходів, необхідних для успішного входження та діяльності підприємця на зовнішньому ринку, який розробляється на основі вивчення попиту, пропозицій та тенденцій розвитку цільових ринків з метою розробки конкурентоспроможних товарів та послу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75326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жнародні маркетингові дослідження проводять здебільшого при прийнятті рішень із таких питан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дійснення сегментації світового чи зарубіжного ринк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значення привабливого закордонного ринку для розвитку міжнародної діяль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вибір оптимального організаційно-правового способу виходу на зарубіжний ринок (експорт, спільне підприємство, пряме інвестування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дослідження зовнішнього конкурентного середовища іноземного ринку з метою обґрунтування елементів комплексу маркетинг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розробка міжнародної маркетингової стратегії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26920" y="731520"/>
            <a:ext cx="7777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жнародна маркетингова сегментація ринк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процес виділення сегментів потенційних споживачів у формі групи зарубіжних країн або групи клієнтів зі спільними характеристиками, які мають схожі потреби та погляди на товар/послугу, завдяки чому можна застосувати єдиний комплекс маркетингових заход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акросегментація в міжнародній маркетинговій діяльності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процес виділення як сегмента певної сукупності країн з однаковими характеристиками згідно з обраними ознаками сегментац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ікросегментація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– це процес визначення групи покупців на цільовому зарубіжному ринку, які демонструють схожу споживчу поведінку (вимоги, мотиви тощо) щодо продукції фір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280" y="731880"/>
            <a:ext cx="7777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В міжнародній практиці структурувати ринок можна за допомогою  </a:t>
            </a:r>
            <a:r>
              <a:rPr b="1" lang="uk-UA" sz="2000" spc="-1" strike="noStrike">
                <a:solidFill>
                  <a:srgbClr val="4e67c8"/>
                </a:solidFill>
                <a:latin typeface="Times New Roman"/>
              </a:rPr>
              <a:t>чотирьох основних груп ознак: 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географічних, соціально-психографічних, демографічних, поведінков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Географічн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дозволяють групувати споживачів за місцем проживання: країнами, регіонами, містами, кліматичними зонами, чисельністю та щільністю насел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Демографічн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сегментації дають змогу структурувати споживачів за віком, статтю, чисельністю та складом сім’ї, рівнем освіти, релігіє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Соціально-психографічн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допомагають сегментувати споживачів за рівнем доходів, соціальним статусом, стилем життя, типом особистості тощ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000" spc="-1" strike="noStrike">
                <a:solidFill>
                  <a:srgbClr val="4e67c8"/>
                </a:solidFill>
                <a:latin typeface="Times New Roman"/>
              </a:rPr>
              <a:t>Поведінкові ознаки</a:t>
            </a:r>
            <a:r>
              <a:rPr b="0" lang="uk-UA" sz="2000" spc="-1" strike="noStrike">
                <a:solidFill>
                  <a:srgbClr val="4e67c8"/>
                </a:solidFill>
                <a:latin typeface="Times New Roman"/>
              </a:rPr>
              <a:t> сегментації передбачають структурування зовнішнього ринку на підставі поведінкових особливостей клієнтів, таких як статус покупця та його лояльність до продукції фірми, обсяги споживання, способи та цілі використання товару; привід для придбання товару, критерій бажаних переваг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4360" y="731880"/>
            <a:ext cx="792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На міжнародних ринках використовують три маркетингові стратегії охоплення цільових зарубіжних ринкових сегментів: масовий, диференційований, цільовий маркетинг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1. Масовий маркетинг або (недиференційований/стандартизований маркетинг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ґрунтується на масовому виробництві стандартизованих товарів та послуг і передбачає використання єдиного комплексу маркетингових заходів для усього зарубіжного ринк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55640" y="1125000"/>
            <a:ext cx="7848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uk-UA" sz="2600" spc="-1" strike="noStrike">
                <a:solidFill>
                  <a:srgbClr val="4e67c8"/>
                </a:solidFill>
                <a:latin typeface="Times New Roman"/>
              </a:rPr>
              <a:t>Диференційований маркетинг</a:t>
            </a:r>
            <a:r>
              <a:rPr b="0" lang="uk-UA" sz="2600" spc="-1" strike="noStrike">
                <a:solidFill>
                  <a:srgbClr val="4e67c8"/>
                </a:solidFill>
                <a:latin typeface="Times New Roman"/>
              </a:rPr>
              <a:t> – це напрям діяльності на зарубіжному ринку, при якому підприємство вирішує діяти на декількох цільових сегментах зі спеціально розробленим для них комплексом маркетингових заходів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6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i="1" lang="uk-UA" sz="2600" spc="-1" strike="noStrike">
                <a:solidFill>
                  <a:srgbClr val="4e67c8"/>
                </a:solidFill>
                <a:latin typeface="Times New Roman"/>
              </a:rPr>
              <a:t>Концентрований (цільовий) маркетинг (стратегія ринкових ніш)</a:t>
            </a:r>
            <a:r>
              <a:rPr b="0" lang="uk-UA" sz="2600" spc="-1" strike="noStrike">
                <a:solidFill>
                  <a:srgbClr val="4e67c8"/>
                </a:solidFill>
                <a:latin typeface="Times New Roman"/>
              </a:rPr>
              <a:t> – це спеціалізація фірми на привабливому сегменті зарубіжного ринку – ринковій ніші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885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Об’єктом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є зарубіжні ринки, а в підсумку – глобальний ринок</a:t>
            </a:r>
            <a:r>
              <a:rPr b="0" lang="uk-UA" sz="2200" spc="-1" strike="noStrike">
                <a:solidFill>
                  <a:srgbClr val="4e67c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До 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суб’єктів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належа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- експортери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фірми, що виробляють продукцію в певній країні та продають її за межі цієї країн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- імпортери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– фірми, що перебувають на території однієї країни, але мають постачальників або партнерів за кордоно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- міжнародні корпорації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– великі фірми, що складаються з багатьох підрозділів і здійснюють прямі інвестиції у різні країни світ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Основною метою міжнародної маркетингової діяльності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 є якісне задоволення потреб зарубіжних споживачів шляхом створення більш конкурентоспроможних товарів та послуг на цільових закордонних ринк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Цілі міжнародного маркетингу поділяються на </a:t>
            </a:r>
            <a:r>
              <a:rPr b="0" i="1" lang="uk-UA" sz="2800" spc="-1" strike="noStrike">
                <a:solidFill>
                  <a:srgbClr val="4e67c8"/>
                </a:solidFill>
                <a:latin typeface="Times New Roman"/>
              </a:rPr>
              <a:t>якісні та кількісні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4360" y="731880"/>
            <a:ext cx="770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Серед 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якісних цілей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підприємства найважливішими є ті, які сприяють зростанню його престижу та укріпленню конкурентних позицій на зовнішньому ринку, а сам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ідвищення</a:t>
            </a:r>
            <a:r>
              <a:rPr b="0" i="1" lang="uk-UA" sz="2400" spc="-1" strike="noStrike">
                <a:solidFill>
                  <a:srgbClr val="4e67c8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рівня поінформованості зарубіжних споживачів про товари та послуги підприємств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створення на зарубіжному ринку позитивного іміджу та доброї репутації фірми як серед клієнтів, так і серед партнер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активний вплив на формування попиту на цільових зарубіжних ринкових сегментах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ідвищення рівня обслуговування кліє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створення добре відомого бренду фірми та ін.</a:t>
            </a:r>
            <a:r>
              <a:rPr b="0" lang="ru-RU" sz="24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274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Кількісні цілі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міжнародного маркетингу передбачають досягнення стійких ринкових позицій та отримання максимального прибутку в умовах жорсткої ринкової конкуренції. Вони виражаються у відсотках та цифра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До кількісних цілей міжнародного маркетингу належать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більшення ринкової частки, що займає фірм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більшення рівня прибутк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нарощування обсягів продаж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зниження витрат на виробництво та і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389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Цілі міжнародного маркетингу повинні бути </a:t>
            </a:r>
            <a:br>
              <a:rPr sz="2800"/>
            </a:b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4e67c8"/>
                </a:solidFill>
                <a:latin typeface="Times New Roman"/>
              </a:rPr>
              <a:t>SMART</a:t>
            </a:r>
            <a:r>
              <a:rPr b="0" lang="ru-RU" sz="2800" spc="-1" strike="noStrike">
                <a:solidFill>
                  <a:srgbClr val="4e67c8"/>
                </a:solidFill>
                <a:latin typeface="Times New Roman"/>
              </a:rPr>
              <a:t>-</a:t>
            </a:r>
            <a:r>
              <a:rPr b="1" lang="uk-UA" sz="2800" spc="-1" strike="noStrike">
                <a:solidFill>
                  <a:srgbClr val="4e67c8"/>
                </a:solidFill>
                <a:latin typeface="Times New Roman"/>
              </a:rPr>
              <a:t>принцип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онкретними, чітко визначеними (specific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кількісно вимірюваними (measurable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погодженими з місією компанії та між собою (agreeable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досяжними, реальними (realistic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мати часові межі (time-bounded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143000" y="731880"/>
            <a:ext cx="73166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Макросередовище міжнародного маркетингу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– це сукупність зовнішніх факторів певних зарубіжних країн, якими фірма не може безпосередньо керувати, але які мають визначальний вплив на її маркетингову та управлінську діяльність на зовнішньому ринку.</a:t>
            </a:r>
            <a:r>
              <a:rPr b="0" lang="ru-RU" sz="2400" spc="-1" strike="noStrike">
                <a:solidFill>
                  <a:srgbClr val="4e67c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e67c8"/>
                </a:solidFill>
                <a:latin typeface="Times New Roman"/>
              </a:rPr>
              <a:t>До основних факторів міжнародного макросередовища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 належать </a:t>
            </a:r>
            <a:r>
              <a:rPr b="1" lang="uk-UA" sz="2400" spc="-1" strike="noStrike">
                <a:solidFill>
                  <a:srgbClr val="4e67c8"/>
                </a:solidFill>
                <a:latin typeface="Times New Roman"/>
              </a:rPr>
              <a:t>PEST фактори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політико-правов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political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економічн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economic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соціально-культурн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social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- технологічні (</a:t>
            </a:r>
            <a:r>
              <a:rPr b="0" lang="en-US" sz="2400" spc="-1" strike="noStrike">
                <a:solidFill>
                  <a:srgbClr val="4e67c8"/>
                </a:solidFill>
                <a:latin typeface="Times New Roman"/>
              </a:rPr>
              <a:t>technological</a:t>
            </a:r>
            <a:r>
              <a:rPr b="0" lang="uk-UA" sz="2400" spc="-1" strike="noStrike">
                <a:solidFill>
                  <a:srgbClr val="4e67c8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Times New Roman"/>
              </a:rPr>
              <a:t>До додаткових факторів міжнародного макросередовища</a:t>
            </a: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 належать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природно-географічні особливості закордонного ринку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демографічне середовище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67c8"/>
                </a:solidFill>
                <a:latin typeface="Times New Roman"/>
              </a:rPr>
              <a:t>- фактори, які особливо важливі для конкретної сфери діяльності підприємства (історико-культурні тощо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11-27T17:43:06Z</dcterms:modified>
  <cp:revision>71</cp:revision>
  <dc:subject/>
  <dc:title>Тема 1. Поняття і сутність бренду</dc:title>
</cp:coreProperties>
</file>