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9F7-2E01-4E98-B2AC-431C6B0F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08A-82CA-4AAD-BCE0-8E0BE8C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5C2-7207-4F66-AE11-44D8B833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C89-FA9A-4E6A-83A1-664D992F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6332-23D7-4268-BD5C-7F606E79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6AF3-9121-46EA-A6C4-7148EC6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096-1638-4A48-9CCD-814B6C8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479A-5B06-4393-9256-B0D9537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B4F3-2463-4933-9074-DF612CB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B9E7-CEA8-4F13-81D1-260F9598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1661-D91E-433B-A065-1CF5B2B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EFF-29F8-42CF-BB3C-EBA4BB9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099-668A-432A-8231-AFADD12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251-04FD-4D80-8D1F-98AA3BA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BF1-2012-4B31-A071-4B156BB8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7A9D-633F-4DE8-A569-774DD1BC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261-CC78-4650-99AD-37C48CEC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F299-D275-4FB5-83D5-70D5D33A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6AB1-92D7-44AF-9142-B612C96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934B-0968-4909-868B-727F1DB5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6B19-9109-4FC5-AFEF-A280DFA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2BDD-9826-48FA-AC13-40D72BA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C3A-C96E-4E14-A857-7A2187BA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C1A4-71FD-45FF-9FDA-AAB0B4BE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13D4-9092-43A2-8819-5450055D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4105-54B7-45ED-98DA-8777E26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BA97-3938-4E9B-A873-C287970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0058-2CC8-4F7E-AC1A-93798E82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389D-3F5C-4135-B193-86F5A501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7563-3181-48A4-AA45-D87C01A4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63D-8D37-40D8-9F98-05D0DB98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9C2-FE2B-4B6A-A819-2E3948DD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9E1-7842-4868-84EB-1DBC3D81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EC3-6DB8-4940-80B4-86047B98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220-7CEC-4F5A-93FA-08295E1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7C8-27D7-4314-941D-E6CD798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911C-A5B1-4377-892C-9F48C0FAACE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AF02-FE0F-44A7-814F-E6E29E96E42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430-6216-4679-91E7-1C9DB259D97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697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Маркетингове забезпечення ЗЕД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400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1. Поняття, об’єкт, та суб’єкти міжнародного маркетингу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2. Цілі міжнародного маркетингу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3. Фактори макросередовища міжнародного маркетинг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4. Фактори мікросередовища міжнародного маркетингу.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5. Сутність та особливості міжнародних маркетингових досліджень.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6. Поняття та процедура проведення міжнародної сегментації рин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7. Ознаки міжнародної сегментації ринку. Маркетингові стратегії охоплення зарубіжних ринкових сегменті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Політико-правові фактор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літична стабільність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аконодавча система країни та правові засади ведення бізнес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коналість судової систе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рівень корумпованості державного апарату, бюрократиз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економічна політика держав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ержавне регулювання зовнішньоекономічної діяльн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99640" y="731520"/>
            <a:ext cx="7488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Економічні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темпи економічного розвитку зарубіжної країни (ВВП на душу населення, темпи інфляції, рівень безробіття, інвестиційний клімат, стабільність національної валюти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оказники галузевої привабливості зарубіжних ринків (місткість, доступність та зростання товарного ринку, купівельна спроможність споживачів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тип економіки зарубіжних країн (країни з ринковою економікою, країни з перехідною економікою; країни, що розвиваються).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640" y="731520"/>
            <a:ext cx="7129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Соціально-культурні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омунікаційні заход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елігія та освіт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народні традиції та звичаї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умови проживання та стиль життя насе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звичаї та норми поведінки зарубіжного населе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731880"/>
            <a:ext cx="7344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Технологічні (науково-технічні)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розвитку науково-технічного прогресу в країн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державних асигнувань на розвиток науки та техні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забезпечення суспільства новітніми досягненнями науки і техні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інтенсивність експорту-імпорту технологій та високотехнологічних продуктів.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488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Природно-географічні фактори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місце розташування країни (рельєф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ліматичні особливост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наявність корисних копалин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озвиток інфраструктур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стан навколишнього середовищ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245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Демографічні фактори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чисельність та структура населення (статева, вікова, регіональн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середня тривалість життя в країн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озмір сім'ї, кількість діте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инаміка народжуваності і смертност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освіти та рід занять населе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770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кросередовище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сукупність значною мірою керованих зовнішніх факторів, які формують партнерське та конкурентне середовище підприємства і мають значний вплив на її маркетингову та управлінську діяльність на зовнішньому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 мікросередовища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стачальни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середни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клієнти (споживачі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конкурен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Здійснення 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оцінки діяльності конкурентів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доцільно проводити в таких напряма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значення основних конкурентів підприємства за асортиментом та продуктовою групою, сегментом ринку, географічним розташуванням, ціновою політикою, каналами збут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лідження ринкової частки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явлення стратегії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визначення методів конкурентної боротьби на рин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оцінка конкурентоспроможності продукц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вчення ефективності маркетингових заход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становлення фінансового стану підприєм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5640" y="907560"/>
            <a:ext cx="714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слідження закордонних покупців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передбачає аналіз споживчого ринку та дослідження поведінки клієнтів цільового сегмента. Вивчення споживчого ринку може здійснюватися за критеріям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цілі та фінансові можливості кліє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подобання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плив моди та інших новітніх тенденцій на споживчий попит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мотиви здійснення покупок покупц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сихологічні, культурні та соціально-демографічні характеристики попиту зарубіжних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1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Міжнародні маркетингові дослідження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– це процес збору, узагальнення, аналізу та інтерпретації даних щодо різних аспектів міжнародної маркетингової діяльності підприємст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Основними завданнями міжнародних маркетингових досліджень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є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1. Забезпечення керівництва необхідною та достовірною маркетинговою інформацією відповідно до визначеної мети дослідже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2. Забезпечення оцінки витрат, ризиків та вигод від здійснення певної маркетингової діяльності на зарубіжному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3. Сприяння пошуку об’єктивних рішень при здійсненні управлінської та маркетингової діяльності на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920" y="731520"/>
            <a:ext cx="7058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Міжнародний маркетинг визначається як сукупність дій, необхідних для дослідження споживчого попиту, пропозиції та основних тенденцій розвитку закордонних ринків з метою впливу та пристосування до ни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ий маркетинг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комплекс маркетингових заходів, необхідних для успішного входження та діяльності підприємця на зовнішньому ринку, який розробляється на основі вивчення попиту, пропозицій та тенденцій розвитку цільових ринків з метою розробки конкурентоспроможних товарів та послу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5326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і маркетингові дослідження проводять здебільшого при прийнятті рішень із таких питан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дійснення сегментації світового чи зарубіжного рин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значення привабливого закордонного ринку для розвитку міжнародної діяль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бір оптимального організаційно-правового способу виходу на зарубіжний ринок (експорт, спільне підприємство, пряме інвестування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лідження зовнішнього конкурентного середовища іноземного ринку з метою обґрунтування елементів комплексу маркетинг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розробка міжнародної маркетингової стратегії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6920" y="731520"/>
            <a:ext cx="7777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а маркетингова сегментація ринк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процес виділення сегментів потенційних споживачів у формі групи зарубіжних країн або групи клієнтів зі спільними характеристиками, які мають схожі потреби та погляди на товар/послугу, завдяки чому можна застосувати єдиний комплекс маркетингових заход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акросегментація в міжнародній маркетинговій діяльності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процес виділення як сегмента певної сукупності країн з однаковими характеристиками згідно з обраними ознаками сегментац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кросегментація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це процес визначення групи покупців на цільовому зарубіжному ринку, які демонструють схожу споживчу поведінку (вимоги, мотиви тощо) щодо продукції фір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280" y="731880"/>
            <a:ext cx="7777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В міжнародній практиці структурувати ринок можна за допомогою  </a:t>
            </a:r>
            <a:r>
              <a:rPr b="1" lang="uk-UA" sz="2000" spc="-1" strike="noStrike">
                <a:solidFill>
                  <a:srgbClr val="4e67c8"/>
                </a:solidFill>
                <a:latin typeface="Times New Roman"/>
              </a:rPr>
              <a:t>чотирьох основних груп ознак: 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географічних, соціально-психографічних, демографічних, поведінков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Ге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дозволяють групувати споживачів за місцем проживання: країнами, регіонами, містами, кліматичними зонами, чисельністю та щільністю насел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Дем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сегментації дають змогу структурувати споживачів за віком, статтю, чисельністю та складом сім’ї, рівнем освіти, релігіє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Соціально-псих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допомагають сегментувати споживачів за рівнем доходів, соціальним статусом, стилем життя, типом особистості тощ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Поведінков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сегментації передбачають структурування зовнішнього ринку на підставі поведінкових особливостей клієнтів, таких як статус покупця та його лояльність до продукції фірми, обсяги споживання, способи та цілі використання товару; привід для придбання товару, критерій бажаних перева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92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На міжнародних ринках використовують три маркетингові стратегії охоплення цільових зарубіжних ринкових сегментів: масовий, диференційований, цільовий маркетин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1. Масовий маркетинг або (недиференційований/стандартизований маркетинг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ґрунтується на масовому виробництві стандартизованих товарів та послуг і передбачає використання єдиного комплексу маркетингових заходів для усього зарубіжного ринк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25000"/>
            <a:ext cx="784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uk-UA" sz="2600" spc="-1" strike="noStrike">
                <a:solidFill>
                  <a:srgbClr val="4e67c8"/>
                </a:solidFill>
                <a:latin typeface="Times New Roman"/>
              </a:rPr>
              <a:t>Диференційований маркетинг</a:t>
            </a:r>
            <a:r>
              <a:rPr b="0" lang="uk-UA" sz="2600" spc="-1" strike="noStrike">
                <a:solidFill>
                  <a:srgbClr val="4e67c8"/>
                </a:solidFill>
                <a:latin typeface="Times New Roman"/>
              </a:rPr>
              <a:t> – це напрям діяльності на зарубіжному ринку, при якому підприємство вирішує діяти на декількох цільових сегментах зі спеціально розробленим для них комплексом маркетингових заходів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6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uk-UA" sz="2600" spc="-1" strike="noStrike">
                <a:solidFill>
                  <a:srgbClr val="4e67c8"/>
                </a:solidFill>
                <a:latin typeface="Times New Roman"/>
              </a:rPr>
              <a:t>Концентрований (цільовий) маркетинг (стратегія ринкових ніш)</a:t>
            </a:r>
            <a:r>
              <a:rPr b="0" lang="uk-UA" sz="2600" spc="-1" strike="noStrike">
                <a:solidFill>
                  <a:srgbClr val="4e67c8"/>
                </a:solidFill>
                <a:latin typeface="Times New Roman"/>
              </a:rPr>
              <a:t> – це спеціалізація фірми на привабливому сегменті зарубіжного ринку – ринковій ніші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885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Об’єктом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є зарубіжні ринки, а в підсумку – глобальний ринок</a:t>
            </a:r>
            <a:r>
              <a:rPr b="0" lang="uk-UA" sz="22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До 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суб’єктів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експортери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фірми, що виробляють продукцію в певній країні та продають її за межі цієї країн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імпортери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фірми, що перебувають на території однієї країни, але мають постачальників або партнерів за кордоно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міжнародні корпорації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великі фірми, що складаються з багатьох підрозділів і здійснюють прямі інвестиції у різні країни світ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Основною метою міжнародної маркетингової діяльності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є якісне задоволення потреб зарубіжних споживачів шляхом створення більш конкурентоспроможних товарів та послуг на цільових закордон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Цілі міжнародного маркетингу поділяються на </a:t>
            </a:r>
            <a:r>
              <a:rPr b="0" i="1" lang="uk-UA" sz="2800" spc="-1" strike="noStrike">
                <a:solidFill>
                  <a:srgbClr val="4e67c8"/>
                </a:solidFill>
                <a:latin typeface="Times New Roman"/>
              </a:rPr>
              <a:t>якісні та кількісні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70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Серед 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якісних цілей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підприємства найважливішими є ті, які сприяють зростанню його престижу та укріпленню конкурентних позицій на зовнішньому ринку, а сам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ідвищення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рівня поінформованості зарубіжних споживачів про товари та послуги підприємств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творення на зарубіжному ринку позитивного іміджу та доброї репутації фірми як серед клієнтів, так і серед партнер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активний вплив на формування попиту на цільових зарубіжних ринкових сег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ідвищення рівня обслуговування кліє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творення добре відомого бренду фірми та ін.</a:t>
            </a:r>
            <a:r>
              <a:rPr b="0" lang="ru-RU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274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Кількісні цілі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міжнародного маркетингу передбачають досягнення стійких ринкових позицій та отримання максимального прибутку в умовах жорсткої ринкової конкуренції. Вони виражаються у відсотках та цифра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До кількісних цілей міжнародного маркетингу належа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більшення ринкової частки, що займає фірм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більшення рівня прибут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нарощування обсягів продаж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ниження витрат на виробництво та і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389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Цілі міжнародного маркетингу повинні бути </a:t>
            </a:r>
            <a:br>
              <a:rPr sz="2800"/>
            </a:b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4e67c8"/>
                </a:solidFill>
                <a:latin typeface="Times New Roman"/>
              </a:rPr>
              <a:t>SMART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-</a:t>
            </a:r>
            <a:r>
              <a:rPr b="1" lang="uk-UA" sz="2800" spc="-1" strike="noStrike">
                <a:solidFill>
                  <a:srgbClr val="4e67c8"/>
                </a:solidFill>
                <a:latin typeface="Times New Roman"/>
              </a:rPr>
              <a:t>принцип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онкретними, чітко визначеними (specific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ількісно вимірюваними (measurable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огодженими з місією компанії та між собою (agreeable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осяжними, реальними (realistic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мати часові межі (time-bounded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3166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акросередовище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сукупність зовнішніх факторів певних зарубіжних країн, якими фірма не може безпосередньо керувати, але які мають визначальний вплив на її маркетингову та управлінську діяльність на зовнішньому ринку.</a:t>
            </a:r>
            <a:r>
              <a:rPr b="0" lang="ru-RU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 основних факторів міжнародного макросередовища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 </a:t>
            </a:r>
            <a:r>
              <a:rPr b="1" lang="uk-UA" sz="2400" spc="-1" strike="noStrike">
                <a:solidFill>
                  <a:srgbClr val="4e67c8"/>
                </a:solidFill>
                <a:latin typeface="Times New Roman"/>
              </a:rPr>
              <a:t>PEST фактори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літико-правов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politic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економіч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economic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оціально-культур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soci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технологіч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technologic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До додаткових факторів міжнародного макросередовища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належать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риродно-географічні особливості закордонного ринку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емографічне середовищ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фактори, які особливо важливі для конкретної сфери діяльності підприємства (історико-культурні тощо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11-27T17:43:06Z</dcterms:modified>
  <cp:revision>71</cp:revision>
  <dc:subject/>
  <dc:title>Тема 1. Поняття і сутність бренду</dc:title>
</cp:coreProperties>
</file>