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2F6-DC9B-462D-BA51-DDB55166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D2E2-9E92-4F49-81AD-5AE54241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8BD-439C-416F-8B2F-6A534959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34B1-44B1-4658-B61F-3F26C849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E0E-B86B-40DB-A85B-C337EA13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277-6939-4F8F-A253-D5E8C2C0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7C2-C19C-4C5D-A6B8-595E23DC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9748-AB24-4516-93D0-18026D97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66B6-0380-4485-BD8F-2A89A64F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899C-E13F-41FB-9724-27474EBF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5184-B81D-4E95-B516-E27C6328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97CC-0B84-46D8-827D-B8439C70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A759-C81C-4BF2-BDF6-90F5CA735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35120" y="236160"/>
            <a:ext cx="914400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ія №: 1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пція організаційної поведінк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387080"/>
            <a:ext cx="1122516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і об'єкт організаційної поведі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Моделі організаційної поведін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ї організаційної поведі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04480" y="331560"/>
            <a:ext cx="11698200" cy="63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ізаційна поведін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поведінка працівників, втягнутих у певні управлінські процеси, які мають свої цикли, ритми, темпи, структуру відносин, організаційні рамки та вимоги до працівникі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'єкти вивчення організаційної поведін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едінка індивідів в організації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блеми міжособистісних відносин при взаємодії двох індивідів (колег або пари «начальник - підлеглий»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наміка відносин всередині малих груп (як формальних, так і неформальних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никають міжгрупові відноси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ізації як цілісні системи, основу яких утворюють внутрішньоорганізаційні відноси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52000" y="173160"/>
            <a:ext cx="11650680" cy="65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лями організаційної поведінки є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истематизований опис поведінки людей в різних виникають у процесі праці ситуаці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яснення причин вчинків індивідів у певних умов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редбачення поведінки працівника в майбутньо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володіння навичками управління поведінкою людей у процесі праці та їх удосконале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йна поведінка вивчає поведінку людей в організації та оцінює вплив на результати її діяльності, тому основними завданнями даної дисципліни є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иявлення поведінкових відносин між керівником і його підлеглими і в тому числі між колег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безпечення формування сприятливого психологічного клімату в колективі, виключення конфліктних ситуацій, створення атмосфери творчого потенціалу працівник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истематичний опис поведінки людей в різних виникають у процесі праці ситуаці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яснення вчинків людей у певних умов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міння передбачати ситуаці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володіння навичками управління поведінкою людей в процесі роботи та пошук шляхів підвищення ефективності їх діяльност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36160" y="157320"/>
            <a:ext cx="11775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у організаційної поведінки покладено використання соціально-психологічних методів управлінн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о-психологічні мето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це методи управління, що базуються на використанні соціально-психологічних факторів і спрямовані на управління соціально-психологічними процесами, що протікають в колективі, для здійснення впливу на них в інтересах досягнення поставлених перед організацією цілей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іляють три рівні проблем поведінк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ні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характеристика особистості, індивідуальна мотивація, індивідуальні винагород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в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формальні структури групи, групова динаміка, керівництво та лідерство, ділове спілкування, конфлік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оорганізаційн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рганізаційна культур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4480" y="252000"/>
            <a:ext cx="11729880" cy="62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ивченні організаційної поведінки необхідно враховувати такі момент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Чітке уявлення рівня аналізу – окремий працівник, група або організація в цілому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икористання теорій, принципів, моделей та методів різних навчальних дисциплін (психології, соціології, культурної антропології тощо) для пояснення взаємозв’язку поведінки працівників організації з результативністю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Гуманістична орієнтація організаційної поведінки – найбільш важливими для організації є люди та їх відносини, сприйняття, здатності до навчання, почуття, цілі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езультатна орієнтація організаційної поведінки – покращення результатів діяльності організації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Значний вплив оточуючого середовища на поведінку людей в організації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’єктивною основою практичного використання організаційної поведінки є знання об’єктивних законів – законів (переважних тенденцій) психічних процесів, що реалізуються в управлінні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36160"/>
            <a:ext cx="10515600" cy="4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оделі організаційної поведінки.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5600" y="680760"/>
            <a:ext cx="11477880" cy="59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від франц.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èle)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це зразок. Вибір моделі поведінки не передбачає жодної байдужої стандартизації людських дій, тобто відсутність в них живого темпераменту, своєрідності мислення, самобутності, звич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ір моделі поведінк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 відтворення таких варіантів, які при повсякденному спілкуванні допомагають особистості стати комунікабельною, а тому і привабливо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типології моделей поведінки можна виділити моделі поведінки в офіційному спілкуванні і неофіційному (сімейному, товариському, побутовому). Моделі поведінки можуть бути активного (агресивного) і пасивного (оборонного) характе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36160" y="345600"/>
            <a:ext cx="11729880" cy="637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і аналізу організаційної поведінки, базуючись на сформованих квадрограмах за критерія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«відчуженість - залученість працівників до організацій"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"взаємодія - протидія працівників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«узгодженість - неузгодженість дій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«вузькофункціональне або панорамне бачення подій».(конфронтація та співпраця) і (взаємоузгоджене та неузгоджене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отирий моделей аналізу організаційної поведінки: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даний учасник організації (той, хто приймає цінності та виконує норми поведінки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стосованець (той, хто відкидає цінності, але зовнішньо приймає і виконує форми та норми поведінки в організації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игінал (той, хто приймає цінності та цілі, але не виконує норми поведінки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унтар (той, хто відкидає і цілі, і цінності, і форми, і норми поведінки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83680" y="268200"/>
            <a:ext cx="11619000" cy="630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итарна модель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новується на домінуванні влади. Менеджери в такій організації орієнтовані на формальні повноваження, які вони делегують шляхом наказів. Підлеглі знаходяться в психологічній залежності від керівника, оскільки повинні підпорядковуватись керівникові. Працівники прагнуть задовольнити власні потреби, внаслідок чого ефективність їх роботи не можна вважати ефективною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піклуванн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ямована на забезпечення необхідних засобів для виплати заробітної плати та надання певних пільг працівникам. Піклування призводе до підвищення залежності працівників від організації. Однак задоволення від отриманих матеріальних благ не є достатньо сильним стимулом та викликає лише пасивне співробітництв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тримуюча модель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ається не на гроші та владу, а на лідерство – менеджери створюють клімат, який допомагає індивідуаль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у зростанню працівників та використанню їх здібностей в інтересах організації. За таких умов у працівників з’являється відчуття співучасті та приналежності до рішення завдань організації, зростає мотивація до праці. Роль менеджера полягає в наданні допомоги співробітникам у рішенні проблем та виконанні робочих завдань. Таку модель можна застосувати лише в тому випадку, коли первинні потреби (фізіологічні та у безпеці) співробітників задоволені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гіальна модел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ляє формувати у працівників почуття партнерства, відчуття своєї необхідності та корисності. Управління такою організацією орієнтоване на командну роботу, внаслідок чого у працівників з’являється почуття відповідальності за свою роботу та необхідності самодисципліни й самовдосконалення. Зазначена модель є найбільш прогресивною та успішною в умовах сьогоде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87360"/>
            <a:ext cx="105156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ії організаційної поведінки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61440" y="709560"/>
            <a:ext cx="11493720" cy="58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теорії організації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рганізаційні відносини, тобто зв'язки і взаємодії між різного роду цілісними утвореннями та їх структурними складовими, а також процеси і дії організуючої та дезорганізуючої спрямованост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оманіття видів організаційних відносин достатньо наочно розкривається через запропоновані А. Богдановим регулюючі механізм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'югації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'єднання елементів і комплексів між собою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гресії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"входження", утворення сполучної проміжної ланки між різнорідними ланками при формуванні нової цілісності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інгресії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"входження", утворення нейтралізуючої, руйнуючої ланки в процесі дезорганізації якоїсь цілісності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цюгового зв'язку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б'єднання за допомогою загальних ланок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99880" y="284040"/>
            <a:ext cx="11760480" cy="630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бору і підбору,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ходів стихійної регуляції; бірегуляції (зворотного зв'язку), егресії та дигресії (способів централізованого та кістякового формування комплексів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аким чином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еорія організації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це теорія організаційних відноси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горії теорії організації можна розділити на три відносно самостійні груп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загальні категорії для більшості соціальних наук (суспільство, держава, власність, ринок, соціальна діяльність, людина, особа, ресурси, соціальні інститути, влада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атегорії, що відображають організаційні явища і процеси, відбуваються в соціальних і соціально-економічних системах (організаційна система, організація, структура організації, місія, мета організації, лідер організації, формальна і неформальна організації, закони організації, організаційна культура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категорії, що розкривають технологію організаційної діяльності та управління (правила, процедури, цикли, комунікації, вирішення протиріч, конфліктів, композиція, типізація, класифікація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4040" y="252000"/>
            <a:ext cx="11698560" cy="62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цесі дослідження організаційних проблем та в практиці організаційної діяльності ці категорії застосовуються комплексно, у взаємодії одна за одно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струментом теоретичного дослідження предмета є науковий метод. Під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м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 грец. methodos — "шлях до чого-небудь") розуміється впорядкована діяльність щодо досягнення певної ме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аким чино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уковий метод є одночасно і результатом наукової діяльності людини, і засобом її подальшої робо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теорії організаці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набір теоретико-пізнавальних і логічних принципів та категорій, а також наукового (формально-логічного, математичного, статистичного, власне організаційного) інструментарію для дослідження системи організаційних відносин. Метод організаційної науки не описує безпосередньо об'єкт і предмет дослідження (організаційний досвід і систему організаційних відносин), але вказує дослідникові, які є засоби дослідження і як їх потрібно застосовувати, щоб отримати дійсні знання про предм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402840"/>
            <a:ext cx="10515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ЛІК ПОСИЛАНЬ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31920" y="725400"/>
            <a:ext cx="11539440" cy="58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нісімов О.С. Прийняття управлінських рішень: методологія і технологія / О.С. Анісімов. - М.: ФГТУ Рос. АКО АПК, 2010. - 153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усигін А.В. Ефективний менеджмент / О.В. Бусигін. - Москва: Финпресс, 2011. - 256 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ерхоглазенко О.М. Вплив типу самовизначення управлінця на рівень його професіоналізму: Дис. канд. психол. Наук / О.М. Верхоглазенко. - М.: РАГС, 2008. - 76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ончаров В.В. У пошуках досконалості управління: Керівництво для вищого управлінського персоналу / В.В. Гончаров. - М.: МП "Сувенір", 2009. - 211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орофєєв В.Д. Організаційна поведінка: навч. посібник / В.Д. Дорофєєв, О.М. Шмельова, Ю.Ю. Частухін. - Львів: Вид-во ун-ту, 2010. - 224 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арякін, А.М. Організаційна поведінка: навч. посібник / А.М. Карякін. - Іваново: РІО ГОУ ВПО ІГЕУ, 2001. - 41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узнєцов Ю.В. Основи менеджменту / Ю.В. Кузнєцов, В.І. Підлісний. - Санкт-Петербург: ОЛБІС, 2007. -192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83680" y="299880"/>
            <a:ext cx="1158732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основних методів теорії організації належать: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дуктивний, статистичний, абстрактно-аналітичний, порівняльн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дуктивний мето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рухом думки від одиничного до загального, від знання меншого ступеня до знання більшого ступеня узагальненн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атистичний мето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ягає в кількісному обліку чинників та частоті їх повторюваності. Дослідження масових явищ навколишнього світу з використанням методів теорії ймовірності, групувань, середніх величин, індексів, графічних зображень дає змогу встановлювати характер та стійкість організаційних зв'язків структурних елементів у різних комплексах, оцінювати їх рівень організованості та дезорганізації.  Цей метод допомагає виявити стійкі зв'язки та закономірності між організаційними відносина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бстрактно-аналітичний мето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є змогу визначати закономірності явищ, що відображають зв'язки і постійні тенденції. Як засіб використовують "абстрагування", тобто уявне виділення істотних властивостей і зв'язків предмета, відмова від часткового, що дозволяє виявити в чистому вигляді основу явищ, які вивчаютьс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івняльний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ягає в підборі схожих організацій як об'єктів дослідження. Виключно важливого значення цей метод набуває у процесі з'ясування зміни, розвитку, динаміки досліджуваного явища, розкриття тенденцій і закономірностей функціонування розвитку організаційних систе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36160" y="220680"/>
            <a:ext cx="11698200" cy="64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пи розвитку теорії організації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озвитку теорії організації виділяється чотири етапи. Кожен етап визначається єдиною комбінацією установлених ознак (закрита — відкрита система, раціональне — соціальне мислення) на двовимірній сітці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ший етап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еорії організації охоплює період з 1900 по 1930 р. Його можна визначити як еру "закритих систем і раціонального індивіда". Головними представниками теорії організації цього часу були Макс Вебер, Анрі Файоль і Фредерік Тейлор. Розроблений ними підхід орієнтований на організаційні і технічні удосконалення системи шляхом підвищення ефективності внутрішніх функцій організації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й етап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30—1960) є ерою "закритих систем і соціального індивіда". Група теоретиків — Елтон Мейо, Дуглас Макгрегор, Честер Барнард — розробляла питання управління закритими системами, спираючись на внутрішні відносини і неекономічну мотивацію працівників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ій етап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60—1975) — це період "відкритих систем і раціонального індивіда". Теорія організації робить крок вперед, розглядаючи організацію як складову частину системи вищого рівня, і одночасно — крок назад, оскільки повертається до механістичних уявлень про людину. Основний внесок у розвиток теорії організації до цього періоду зробили Альфред Чандлер, Поль Лоуренс, Джей Лорш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ий етап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що почався близько 1975 р., можна визначити як період "відкритих систем і соціального індивіда". На цьому етапі відбувається повернення до "соціального мислення", але вже в межах відкритих систем. Лідером сучасної теорії організації є Джеймс Марч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52000" y="267840"/>
            <a:ext cx="11619000" cy="62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озвитку теорії організації є проблема кількісного вимірювання організаційних параметрів. Теорія організації формує систему наукових знань у сфері аналізу та синтезу соціальних організацій і соціальних відносин. Розвиток теорії організації включає сім етапів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збирання фактів, явищ, прогнозів, тенденцій, історичних і фольклорних відомостей, легенд і міфів про існування або функціонування організацій, про особливості організації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истематизація інформації та складання типології (за часом, ефективністю, характером організаційних відносин, сферою діяльності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творення понятійного апарату (категорії, терміни, їх взаємозв'язок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ошук залежностей між параметрами та категоріями, формулювання законів і закономірностей (норми керованості персоналом залежно від характеру діяльності, закон розвитку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залучення наукового доробку інших наук для повнішого розуміння своїх власних пробле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практична апробація розроблених теорій і методик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узагальнення теоретичних розробок та практичних результатів, застосування окремих положень теорії організації, накопичення статистичних дани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31920"/>
            <a:ext cx="10515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едмет і об'єкт організаційної поведінк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4040" y="1030320"/>
            <a:ext cx="1169856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тя "організація"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нгл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одить від давньогрецького слова "органон", яке позначає знаряддя або інструмент. Від нього ж пішло поняття "орган", а потім, як похідні, "організм" і "організація". Виросла організація із людських потреб у кооперації зусиль для досягнення своїх особистих цілей у зв’язку з наявністю цілого ряду фізичних, біологічних, психологічних і соціальних обмеж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тя "організація"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 вживається в багатьох науках і в практичній діяльності. Найчастіше воно означає: внутрішню упорядкованість, узгодженість взаємозалежних елементів цілого (системи); сукупність процесів або дій, що забезпечують досягнення цілей системи; об’єднання людей, спільна діяльність яких спрямована на реалізацію встановлених програм на основі певних правил і процедур.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це соціальне утворення з визначеними межами, яке свідомо координується і функціонує на відносно простій основі для досягнення мети. Під словами "яке свідомо координується" розуміють управління, під "соціальним утворенням" - те, що організація складається з людей чи груп осіб, які взаємодіють між собо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83680" y="299880"/>
            <a:ext cx="116348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я - це група людей, діяльність яких свідомо координується для досягнення загальної цілі чи цілей. Щоб бути справді організацією, ця група повинна відповідати таким вимогам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явність принаймні двох людей, які вважають себе частиною цієї групи; - наявність хоча б однієї спільної мет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явність членів групи, які свідомо працюють разом, щоб досягти значимої для всіх ме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-яка організація складається з елементів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ідділів, служб, груп, окремих виконавців),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їхніх ролей і відносин, визначених ієрархією, поліархією, писаними і неписаними правилами (кодексами) поведін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 ролі, відносини й кодекси можуть мати офіційні та неофіційні аспекти або офіційну і неофіційну структур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68200" y="252360"/>
            <a:ext cx="11714400" cy="64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тя "організація" відноситься до числа найбільш часто вживаних. Воно вживається щонайменше у трьох значеннях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ізація як систем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ізація як стан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ізація як проце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ї як системі притаманні такі озна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лісність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ільні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я як процес є проявом суспільної діяльності, що виникла на основі суспільного поділу праці. Організація процесу управління припускає розподіл і закріплення робіт по етапах, регламентування і нормування їхньої послідовності і термінів, установлення міри дисциплінарних стягнень, введення обов’язкових вимог здійснення процесу управлі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04480" y="299880"/>
            <a:ext cx="11634840" cy="625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я процесу управління припускає встановленн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ідної послідовності виконання різних його циклів, етапів, стадій і операцій, а також можливої і необхідної у певних умовах паралельності виконання різних робіт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часових меж виконання робіт визначеного виду і їхнє групування за факторами інтенсифікації управлінн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іткого порядку надходження необхідної і достатньої інформації для нормального і своєчасного здійснення кожного з етапів процесу управління і всіх його операці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у участі різних ланок системи управління в етапах процесу управлінн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 процесу управління як обов’язкових операцій для визначеного виду робіт (операцій узгодження, обговорення, візування, затвердження, інформування й ін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6960" y="299880"/>
            <a:ext cx="1180908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ін "організаційна поведінка" виник на початку 60-х рокі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, коли об'єдналися декілька напрямів наукових дисциплін, що займаються поясненням процесів, які відбуваються в організації, між організаціями, а також між внутрішнім і зовнішнім середовищем організації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ед Лютенс один з перших опублікував вичерпне дослідження поняття "організаційна поведінка", де, зокрема, організаційну поведінку формально визначено як розуміння, передбачення і управління людською поведінкою в рамках організаці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інка – сукупність дій, які є соціально значущими, усвідомленими, мають характерну для їх автора особливість, що повторюється у різних дія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6080" y="268200"/>
            <a:ext cx="1165032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 характеризується як одинична, неповторима, вона може бут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раз одною, другий раз – іншо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ї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контакт з оточуючим середовищем, вихід суб’єкта у зовнішній світ. Вони можуть бути різноманітними, але їх об’єднує щось особливе, специфічне. Ця особливість помічається зовнішнім світом, виділяється та стає характеристикою поведінки суб’єкта і його сам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же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стика дій стає характеристикою поведінки, яка розповсюджується на внутрішній світ суб’єк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аким чином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ін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укупність усвідомлених, соціально значущих дій. Вона обумовлена розумінням власних функцій та підлягає впливу зовнішніх факторів, які забезпечуються процесом мотивації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ями поведінки є її відповідність встановленим соціально-культурним нормам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ійним, моральним, правовим тощ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2000" y="393480"/>
            <a:ext cx="11775960" cy="61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уктурі поведінки важливими елементами є засоби, методи здійснення дій, їх відповідність техніці думки, комунікації, рефлексії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інка оцінюється результативністю, ефективністю здійснених дій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же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дінка відрізняється від дії особливістю та цілісністю, що постійно повторюються та передбачають єдність духовного, соціального, біологічного, людського, особистісного та індивідуального в кожному суб’єкті (одиничному або колективному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ізаційна поведінк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міждисциплінарна область, яка вивчає взаємозв’язок людської поведінки та результатів роботи людей в умовах організації з урахуванням взаємодії оточуючого середовищ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ізаційна поведін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систематичний науковий аналіз індивідів, груп і організацій з метою розуміння, передбачення та вдосконалення індивідуального виконання та функціонування організації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5T19:07:18Z</dcterms:created>
  <dc:creator>Karim</dc:creator>
  <dc:description/>
  <dc:language>en-US</dc:language>
  <cp:lastModifiedBy>Karim</cp:lastModifiedBy>
  <dcterms:modified xsi:type="dcterms:W3CDTF">2020-01-25T22:27:11Z</dcterms:modified>
  <cp:revision>15</cp:revision>
  <dc:subject/>
  <dc:title>Лекція №: 1 Тема: Концепція організаційної поведінки</dc:title>
</cp:coreProperties>
</file>