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F74-446F-4016-8FF3-3279D4C1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0ED-F91D-4A76-838B-3CDDEC5B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D88-8780-4620-A6FA-BECF0D9B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3DB-A0D6-4F12-8607-95DCE6CD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D95-4EAD-4377-8086-E20D29A4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40B-8448-490B-A9EC-3F32995E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B33-BC45-4EE0-B6B2-569350D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D39-1185-45FD-AA1E-8F47933F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85A-D07E-4340-A7FA-7AFC7B9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3CB-6EB4-443E-962A-90849F7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F92-2DF2-47B2-8A53-2965464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3EF-C566-4D31-9F36-6917001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F61F-C76D-4A4F-BEDA-F5A1996BE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5120" y="236160"/>
            <a:ext cx="9144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: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пція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87080"/>
            <a:ext cx="1122516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і об'єкт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Моделі організаційної поведі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ї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04480" y="331560"/>
            <a:ext cx="11698200" cy="63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а поведі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поведінка працівників, втягнутих у певні управлінські процеси, які мають свої цикли, ритми, темпи, структуру відносин, організаційні рамки та вимоги до праців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 вивчення організаційної поведін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дінка індивідів в організаці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блеми міжособистісних відносин при взаємодії двох індивідів (колег або пари «начальник - підлеглий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наміка відносин всередині малих груп (як формальних, так і неформальних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ають міжгрупові відноси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ї як цілісні системи, основу яких утворюють внутрішньоорганізаційні віднос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2000" y="173160"/>
            <a:ext cx="11650680" cy="65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ями організаційної поведінки 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атизований опис поведінки людей в різних виникають у процесі праці ситуаці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яснення причин вчинків індивідів у певних умов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дбачення поведінки працівника в майбутнь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володіння навичками управління поведінкою людей у процесі праці та їх удосконал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поведінка вивчає поведінку людей в організації та оцінює вплив на результати її діяльності, тому основними завданнями даної дисципліни 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явлення поведінкових відносин між керівником і його підлеглими і в тому числі між коле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безпечення формування сприятливого психологічного клімату в колективі, виключення конфліктних ситуацій, створення атмосфери творчого потенціалу праців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истематичний опис поведінки людей в різних виникають у процесі праці ситуаці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яснення вчинків людей у певних умов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іння передбачати ситуаці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володіння навичками управління поведінкою людей в процесі роботи та пошук шляхів підвищення ефективності їх діяль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36160" y="157320"/>
            <a:ext cx="11775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організаційної поведінки покладено використання соціально-психологічних методів управлі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сихологічні мето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методи управління, що базуються на використанні соціально-психологічних факторів і спрямовані на управління соціально-психологічними процесами, що протікають в колективі, для здійснення впливу на них в інтересах досягнення поставлених перед організацією цілей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 три рівні проблем поведін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н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истика особистості, індивідуальна мотивація, індивідуальні винагоро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формальні структури групи, групова динаміка, керівництво та лідерство, ділове спілкування, конфлік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організаційн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ізаційна культу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4480" y="252000"/>
            <a:ext cx="1172988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ивченні організаційної поведінки необхідно враховувати такі момент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ітке уявлення рівня аналізу – окремий працівник, група або організація в цілом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икористання теорій, принципів, моделей та методів різних навчальних дисциплін (психології, соціології, культурної антропології тощо) для пояснення взаємозв’язку поведінки працівників організації з результативніст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уманістична орієнтація організаційної поведінки – найбільш важливими для організації є люди та їх відносини, сприйняття, здатності до навчання, почуття, ціл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езультатна орієнтація організаційної поведінки – покращення результатів діяльності організації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Значний вплив оточуючого середовища на поведінку людей в організації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ивною основою практичного використання організаційної поведінки є знання об’єктивних законів – законів (переважних тенденцій) психічних процесів, що реалізуються в управлінн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36160"/>
            <a:ext cx="10515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делі організаційної поведінки.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5600" y="680760"/>
            <a:ext cx="1147788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від франц.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èle)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це зразок. Вибір моделі поведінки не передбачає жодної байдужої стандартизації людських дій, тобто відсутність в них живого темпераменту, своєрідності мислення, самобутності, звич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моделі поведін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відтворення таких варіантів, які при повсякденному спілкуванні допомагають особистості стати комунікабельною, а тому і приваблив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ипології моделей поведінки можна виділити моделі поведінки в офіційному спілкуванні і неофіційному (сімейному, товариському, побутовому). Моделі поведінки можуть бути активного (агресивного) і пасивного (оборонного) характе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36160" y="345600"/>
            <a:ext cx="11729880" cy="637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і аналізу організаційної поведінки, базуючись на сформованих квадрограмах за критері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«відчуженість - залученість працівників до організацій"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"взаємодія - протидія працівників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узгодженість - неузгодженість ді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«вузькофункціональне або панорамне бачення подій».(конфронтація та співпраця) і (взаємоузгоджене та неузгоджен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тирий моделей аналізу організаційної поведінки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ний учасник організації (той, хто приймає цінності та виконує норми поведінки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стосованець (той, хто відкидає цінності, але зовнішньо приймає і виконує форми та норми поведінки в організації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гінал (той, хто приймає цінності та цілі, але не виконує норми поведінки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нтар (той, хто відкидає і цілі, і цінності, і форми, і норми поведінки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3680" y="268200"/>
            <a:ext cx="1161900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тарна модел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овується на домінуванні влади. Менеджери в такій організації орієнтовані на формальні повноваження, які вони делегують шляхом наказів. Підлеглі знаходяться в психологічній залежності від керівника, оскільки повинні підпорядковуватись керівникові. Працівники прагнуть задовольнити власні потреби, внаслідок чого ефективність їх роботи не можна вважати ефективно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піклуванн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ана на забезпечення необхідних засобів для виплати заробітної плати та надання певних пільг працівникам. Піклування призводе до підвищення залежності працівників від організації. Однак задоволення від отриманих матеріальних благ не є достатньо сильним стимулом та викликає лише пасивне співробітниц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уюча модел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ється не на гроші та владу, а на лідерство – менеджери створюють клімат, який допомагає індивідуаль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у зростанню працівників та використанню їх здібностей в інтересах організації. За таких умов у працівників з’являється відчуття співучасті та приналежності до рішення завдань організації, зростає мотивація до праці. Роль менеджера полягає в наданні допомоги співробітникам у рішенні проблем та виконанні робочих завдань. Таку модель можна застосувати лише в тому випадку, коли первинні потреби (фізіологічні та у безпеці) співробітників задоволені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гіальна модел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яє формувати у працівників почуття партнерства, відчуття своєї необхідності та корисності. Управління такою організацією орієнтоване на командну роботу, внаслідок чого у працівників з’являється почуття відповідальності за свою роботу та необхідності самодисципліни й самовдосконалення. Зазначена модель є найбільш прогресивною та успішною в умовах сьогод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7360"/>
            <a:ext cx="105156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ї організаційної поведінки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1440" y="709560"/>
            <a:ext cx="1149372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теорії організа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рганізаційні відносини, тобто зв'язки і взаємодії між різного роду цілісними утвореннями та їх структурними складовими, а також процеси і дії організуючої та дезорганізуючої спрямован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маніття видів організаційних відносин достатньо наочно розкривається через запропоновані А. Богдановим регулюючі механіз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'юга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'єднання елементів і комплексів між собою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грес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"входження", утворення сполучної проміжної ланки між різнорідними ланками при формуванні нової цілісності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інгрес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"входження", утворення нейтралізуючої, руйнуючої ланки в процесі дезорганізації якоїсь цілісності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югового зв'язк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'єднання за допомогою загальних ланок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99880" y="284040"/>
            <a:ext cx="1176048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бору і підбору,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ходів стихійної регуляції; бірегуляції (зворотного зв'язку), егресії та дигресії (способів централізованого та кістякового формування комплексів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чином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орія організаці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це теорія організаційних відноси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ії теорії організації можна розділити на три відносно самостійні груп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гальні категорії для більшості соціальних наук (суспільство, держава, власність, ринок, соціальна діяльність, людина, особа, ресурси, соціальні інститути, влад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тегорії, що відображають організаційні явища і процеси, відбуваються в соціальних і соціально-економічних системах (організаційна система, організація, структура організації, місія, мета організації, лідер організації, формальна і неформальна організації, закони організації, організаційна культур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атегорії, що розкривають технологію організаційної діяльності та управління (правила, процедури, цикли, комунікації, вирішення протиріч, конфліктів, композиція, типізація, класифікація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4040" y="252000"/>
            <a:ext cx="1169856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і дослідження організаційних проблем та в практиці організаційної діяльності ці категорії застосовуються комплексно, у взаємодії одна за одн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ментом теоретичного дослідження предмета є науковий метод. Під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 грец. methodos — "шлях до чого-небудь") розуміється впорядкована діяльність щодо досягнення певної м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чин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уковий метод є одночасно і результатом наукової діяльності людини, і засобом її подальшої робо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еорії організаці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набір теоретико-пізнавальних і логічних принципів та категорій, а також наукового (формально-логічного, математичного, статистичного, власне організаційного) інструментарію для дослідження системи організаційних відносин. Метод організаційної науки не описує безпосередньо об'єкт і предмет дослідження (організаційний досвід і систему організаційних відносин), але вказує дослідникові, які є засоби дослідження і як їх потрібно застосовувати, щоб отримати дійсні знання про предм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02840"/>
            <a:ext cx="10515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ОСИЛАНЬ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1920" y="725400"/>
            <a:ext cx="1153944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ісімов О.С. Прийняття управлінських рішень: методологія і технологія / О.С. Анісімов. - М.: ФГТУ Рос. АКО АПК, 2010. - 153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усигін А.В. Ефективний менеджмент / О.В. Бусигін. - Москва: Финпресс, 2011. - 256 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рхоглазенко О.М. Вплив типу самовизначення управлінця на рівень його професіоналізму: Дис. канд. психол. Наук / О.М. Верхоглазенко. - М.: РАГС, 2008. - 76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нчаров В.В. У пошуках досконалості управління: Керівництво для вищого управлінського персоналу / В.В. Гончаров. - М.: МП "Сувенір", 2009. - 211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орофєєв В.Д. Організаційна поведінка: навч. посібник / В.Д. Дорофєєв, О.М. Шмельова, Ю.Ю. Частухін. - Львів: Вид-во ун-ту, 2010. - 224 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рякін, А.М. Організаційна поведінка: навч. посібник / А.М. Карякін. - Іваново: РІО ГОУ ВПО ІГЕУ, 2001. - 41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узнєцов Ю.В. Основи менеджменту / Ю.В. Кузнєцов, В.І. Підлісний. - Санкт-Петербург: ОЛБІС, 2007. -192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3680" y="299880"/>
            <a:ext cx="1158732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сновних методів теорії організації належать: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уктивний, статистичний, абстрактно-аналітичний, порівняль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уктивний 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рухом думки від одиничного до загального, від знання меншого ступеня до знання більшого ступеня узагальнен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тистичний 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ягає в кількісному обліку чинників та частоті їх повторюваності. Дослідження масових явищ навколишнього світу з використанням методів теорії ймовірності, групувань, середніх величин, індексів, графічних зображень дає змогу встановлювати характер та стійкість організаційних зв'язків структурних елементів у різних комплексах, оцінювати їх рівень організованості та дезорганізації.  Цей метод допомагає виявити стійкі зв'язки та закономірності між організаційними відносин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бстрактно-аналітичний 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є змогу визначати закономірності явищ, що відображають зв'язки і постійні тенденції. Як засіб використовують "абстрагування", тобто уявне виділення істотних властивостей і зв'язків предмета, відмова від часткового, що дозволяє виявити в чистому вигляді основу явищ, які вивчаютьс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ий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ягає в підборі схожих організацій як об'єктів дослідження. Виключно важливого значення цей метод набуває у процесі з'ясування зміни, розвитку, динаміки досліджуваного явища, розкриття тенденцій і закономірностей функціонування розвитку організаційних сист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6160" y="220680"/>
            <a:ext cx="1169820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и розвитку теорії організації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витку теорії організації виділяється чотири етапи. Кожен етап визначається єдиною комбінацією установлених ознак (закрита — відкрита система, раціональне — соціальне мислення) на двовимірній сітці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и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орії організації охоплює період з 1900 по 1930 р. Його можна визначити як еру "закритих систем і раціонального індивіда". Головними представниками теорії організації цього часу були Макс Вебер, Анрі Файоль і Фредерік Тейлор. Розроблений ними підхід орієнтований на організаційні і технічні удосконалення системи шляхом підвищення ефективності внутрішніх функцій організації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30—1960) є ерою "закритих систем і соціального індивіда". Група теоретиків — Елтон Мейо, Дуглас Макгрегор, Честер Барнард — розробляла питання управління закритими системами, спираючись на внутрішні відносини і неекономічну мотивацію працівникі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і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60—1975) — це період "відкритих систем і раціонального індивіда". Теорія організації робить крок вперед, розглядаючи організацію як складову частину системи вищого рівня, і одночасно — крок назад, оскільки повертається до механістичних уявлень про людину. Основний внесок у розвиток теорії організації до цього періоду зробили Альфред Чандлер, Поль Лоуренс, Джей Лорш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и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почався близько 1975 р., можна визначити як період "відкритих систем і соціального індивіда". На цьому етапі відбувається повернення до "соціального мислення", але вже в межах відкритих систем. Лідером сучасної теорії організації є Джеймс Марч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2000" y="267840"/>
            <a:ext cx="116190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витку теорії організації є проблема кількісного вимірювання організаційних параметрів. Теорія організації формує систему наукових знань у сфері аналізу та синтезу соціальних організацій і соціальних відносин. Розвиток теорії організації включає сім етапів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бирання фактів, явищ, прогнозів, тенденцій, історичних і фольклорних відомостей, легенд і міфів про існування або функціонування організацій, про особливості організації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истематизація інформації та складання типології (за часом, ефективністю, характером організаційних відносин, сферою діяльності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ворення понятійного апарату (категорії, терміни, їх взаємозв'язок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шук залежностей між параметрами та категоріями, формулювання законів і закономірностей (норми керованості персоналом залежно від характеру діяльності, закон розвитку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залучення наукового доробку інших наук для повнішого розуміння своїх власних пробл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рактична апробація розроблених теорій і методик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узагальнення теоретичних розробок та практичних результатів, застосування окремих положень теорії організації, накопичення статистичних дан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31920"/>
            <a:ext cx="10515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мет і об'єкт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040" y="1030320"/>
            <a:ext cx="116985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"організація"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ить від давньогрецького слова "органон", яке позначає знаряддя або інструмент. Від нього ж пішло поняття "орган", а потім, як похідні, "організм" і "організація". Виросла організація із людських потреб у кооперації зусиль для досягнення своїх особистих цілей у зв’язку з наявністю цілого ряду фізичних, біологічних, психологічних і соціальних обмеж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"організація"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вживається в багатьох науках і в практичній діяльності. Найчастіше воно означає: внутрішню упорядкованість, узгодженість взаємозалежних елементів цілого (системи); сукупність процесів або дій, що забезпечують досягнення цілей системи; об’єднання людей, спільна діяльність яких спрямована на реалізацію встановлених програм на основі певних правил і процедур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соціальне утворення з визначеними межами, яке свідомо координується і функціонує на відносно простій основі для досягнення мети. Під словами "яке свідомо координується" розуміють управління, під "соціальним утворенням" - те, що організація складається з людей чи груп осіб, які взаємодіють між собо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3680" y="299880"/>
            <a:ext cx="11634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- це група людей, діяльність яких свідомо координується для досягнення загальної цілі чи цілей. Щоб бути справді організацією, ця група повинна відповідати таким вимога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явність принаймні двох людей, які вважають себе частиною цієї групи; - наявність хоча б однієї спільної ме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явність членів групи, які свідомо працюють разом, щоб досягти значимої для всіх ме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-яка організація складається з елементів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ділів, служб, груп, окремих виконавців)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їхніх ролей і відносин, визначених ієрархією, поліархією, писаними і неписаними правилами (кодексами) поведі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ролі, відносини й кодекси можуть мати офіційні та неофіційні аспекти або офіційну і неофіційну структу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68200" y="252360"/>
            <a:ext cx="117144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"організація" відноситься до числа найбільш часто вживаних. Воно вживається щонайменше у трьох значення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як систем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як ста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як проц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ї як системі притаманні такі озна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сні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ьні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як процес є проявом суспільної діяльності, що виникла на основі суспільного поділу праці. Організація процесу управління припускає розподіл і закріплення робіт по етапах, регламентування і нормування їхньої послідовності і термінів, установлення міри дисциплінарних стягнень, введення обов’язкових вимог здійснення процесу управлі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4480" y="299880"/>
            <a:ext cx="11634840" cy="625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процесу управління припускає встановленн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ї послідовності виконання різних його циклів, етапів, стадій і операцій, а також можливої і необхідної у певних умовах паралельності виконання різних робі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часових меж виконання робіт визначеного виду і їхнє групування за факторами інтенсифікації управлі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іткого порядку надходження необхідної і достатньої інформації для нормального і своєчасного здійснення кожного з етапів процесу управління і всіх його опера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у участі різних ланок системи управління в етапах процесу управлі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 процесу управління як обов’язкових операцій для визначеного виду робіт (операцій узгодження, обговорення, візування, затвердження, інформування й ін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6960" y="299880"/>
            <a:ext cx="1180908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н "організаційна поведінка" виник на початку 60-х рокі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, коли об'єдналися декілька напрямів наукових дисциплін, що займаються поясненням процесів, які відбуваються в організації, між організаціями, а також між внутрішнім і зовнішнім середовищем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д Лютенс один з перших опублікував вичерпне дослідження поняття "організаційна поведінка", де, зокрема, організаційну поведінку формально визначено як розуміння, передбачення і управління людською поведінкою в рамках організа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 – сукупність дій, які є соціально значущими, усвідомленими, мають характерну для їх автора особливість, що повторюється у різних ді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6080" y="268200"/>
            <a:ext cx="1165032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характеризується як одинична, неповторима, вона може бу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одною, другий раз – іншо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контакт з оточуючим середовищем, вихід суб’єкта у зовнішній світ. Вони можуть бути різноманітними, але їх об’єднує щось особливе, специфічне. Ця особливість помічається зовнішнім світом, виділяється та стає характеристикою поведінки суб’єкта і його сам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же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а дій стає характеристикою поведінки, яка розповсюджується на внутрішній світ суб’є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чином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укупність усвідомлених, соціально значущих дій. Вона обумовлена розумінням власних функцій та підлягає впливу зовнішніх факторів, які забезпечуються процесом мотив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ями поведінки є її відповідність встановленим соціально-культурним нормам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ійним, моральним, правовим тощ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2000" y="393480"/>
            <a:ext cx="11775960" cy="61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уктурі поведінки важливими елементами є засоби, методи здійснення дій, їх відповідність техніці думки, комунікації, рефлекс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 оцінюється результативністю, ефективністю здійснених дій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же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інка відрізняється від дії особливістю та цілісністю, що постійно повторюються та передбачають єдність духовного, соціального, біологічного, людського, особистісного та індивідуального в кожному суб’єкті (одиничному або колективному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поведі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міждисциплінарна область, яка вивчає взаємозв’язок людської поведінки та результатів роботи людей в умовах організації з урахуванням взаємодії оточуючого середовищ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а поведі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систематичний науковий аналіз індивідів, груп і організацій з метою розуміння, передбачення та вдосконалення індивідуального виконання та функціонування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5T19:07:18Z</dcterms:created>
  <dc:creator>Karim</dc:creator>
  <dc:description/>
  <dc:language>en-US</dc:language>
  <cp:lastModifiedBy>Karim</cp:lastModifiedBy>
  <dcterms:modified xsi:type="dcterms:W3CDTF">2020-01-25T22:27:11Z</dcterms:modified>
  <cp:revision>15</cp:revision>
  <dc:subject/>
  <dc:title>Лекція №: 1 Тема: Концепція організаційної поведінки</dc:title>
</cp:coreProperties>
</file>