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EB929-AE51-4BFC-B049-753B945E6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F228B-92AE-4B5A-90D7-1D4C676A4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96737-70E8-454E-8021-960D26B16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0348F-893D-4B13-A918-AE8825FC6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C5D6A-CCCF-4E91-B5FF-D894A9E8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F3A80-C93C-4876-AEE3-D13A3771A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E26D6-6E73-4D99-A81A-C67C3B859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70315-2861-4EC8-8852-D2C1066C3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7F7FE-DDD8-42DA-AF9C-6E40F6DC2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50A1D-10AB-4D1D-87A9-F9A69A3D9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881DC-7A5E-4686-A3E5-1C6B0B4CA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C982-5569-41F5-944E-5C1F24943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51F8-4643-4DE4-82A1-9416E31AB5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60400" y="1071720"/>
            <a:ext cx="9144000" cy="78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Лекція №: 5</a:t>
            </a:r>
            <a:br>
              <a:rPr sz="3200"/>
            </a:br>
            <a:r>
              <a:rPr b="1" lang="ru-RU" sz="3200" spc="-1" strike="noStrike">
                <a:solidFill>
                  <a:srgbClr val="000000"/>
                </a:solidFill>
                <a:latin typeface="Times New Roman"/>
                <a:ea typeface="Times New Roman"/>
              </a:rPr>
              <a:t>Тема. Формування групової поведінки</a:t>
            </a:r>
            <a:br>
              <a:rPr sz="4900"/>
            </a:br>
            <a:endParaRPr b="0" lang="en-US" sz="3200" spc="-1" strike="noStrike">
              <a:solidFill>
                <a:srgbClr val="000000"/>
              </a:solidFill>
              <a:latin typeface="Calibri Light"/>
            </a:endParaRPr>
          </a:p>
        </p:txBody>
      </p:sp>
      <p:sp>
        <p:nvSpPr>
          <p:cNvPr id="42" name="PlaceHolder 2"/>
          <p:cNvSpPr>
            <a:spLocks noGrp="1"/>
          </p:cNvSpPr>
          <p:nvPr>
            <p:ph type="subTitle"/>
          </p:nvPr>
        </p:nvSpPr>
        <p:spPr>
          <a:xfrm>
            <a:off x="441360" y="1292400"/>
            <a:ext cx="11366640" cy="5249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лан лекції </a:t>
            </a:r>
            <a:endParaRPr b="0" lang="en-US" sz="32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 </a:t>
            </a:r>
            <a:r>
              <a:rPr b="0" lang="en-US" sz="3200" spc="-1" strike="noStrike">
                <a:solidFill>
                  <a:srgbClr val="000000"/>
                </a:solidFill>
                <a:latin typeface="Times New Roman"/>
                <a:ea typeface="Times New Roman"/>
              </a:rPr>
              <a:t>Формальні і неформальні групи, їхня характеристика і роль в управлінні</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 Стадії розвитку групи. </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3. Специфіка роботи у командах. </a:t>
            </a:r>
            <a:endParaRPr b="0" lang="en-US" sz="3200" spc="-1" strike="noStrike">
              <a:solidFill>
                <a:srgbClr val="000000"/>
              </a:solidFill>
              <a:latin typeface="Calibri"/>
            </a:endParaRPr>
          </a:p>
          <a:p>
            <a:pPr indent="0" algn="just">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4. </a:t>
            </a:r>
            <a:r>
              <a:rPr b="0" lang="en-US" sz="3200" spc="-1" strike="noStrike">
                <a:solidFill>
                  <a:srgbClr val="000000"/>
                </a:solidFill>
                <a:latin typeface="Times New Roman"/>
                <a:ea typeface="Calibri"/>
              </a:rPr>
              <a:t>Феноменологія прийняття групових рішень</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0320" y="268200"/>
            <a:ext cx="11714040" cy="635328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Тренінги особистісного зростання у своєму розпорядженні мають психотерапевтичні чинники впливу на членів групи, до яких можна зарахувати такі:</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Відверта сповідь учасника, розкриття себе перед групою.</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Зворотний зв'язок, наявність інформації про те, як сприймають учасника, його вчинки інші члени групи.</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Переживання сильних емоцій.</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Переживання належності до спільноти.</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допомагати іншим, альтруїзм.</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спостерігати досвід чужих переживань, взаємодій. Немає повного розуміння того, як впливає цей чинник, проте ефект особистісних змін учасників групи, що не беруть активної участі в груповому процесі, а займають позицію пасивного спостерігача, не викликає сумнівів.</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Виявлення схожості. У процесі тренінгу учасник виявляє схожість своїх проблем, які раніше здавалися йому унікальними, з проблемами інших учасників.</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експериментувати, випробовувати себе в нових формах взаємодії.</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Народження нових надій. Участь в групі породжує сподівання на можливість змінити себе і своє життя.</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Когнітивні чинники. У процесі проходження тренінгу на свідомому і підсвідомому рівні змінюється уявлення про себе і навколишній світ.</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450360"/>
            <a:ext cx="10515600" cy="46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3. Специфіка роботи у командах. </a:t>
            </a:r>
            <a:br>
              <a:rPr sz="3600"/>
            </a:br>
            <a:endParaRPr b="0" lang="en-US" sz="2200" spc="-1" strike="noStrike">
              <a:solidFill>
                <a:srgbClr val="000000"/>
              </a:solidFill>
              <a:latin typeface="Calibri Light"/>
            </a:endParaRPr>
          </a:p>
        </p:txBody>
      </p:sp>
      <p:sp>
        <p:nvSpPr>
          <p:cNvPr id="56" name=""/>
          <p:cNvSpPr txBox="1"/>
          <p:nvPr/>
        </p:nvSpPr>
        <p:spPr>
          <a:xfrm>
            <a:off x="283680" y="741240"/>
            <a:ext cx="11571480" cy="583272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Команда - </a:t>
            </a:r>
            <a:r>
              <a:rPr b="0" i="1" lang="en-US" sz="2600" spc="-1" strike="noStrike">
                <a:solidFill>
                  <a:srgbClr val="000000"/>
                </a:solidFill>
                <a:latin typeface="Times New Roman"/>
                <a:ea typeface="Times New Roman"/>
              </a:rPr>
              <a:t>це спеціально підібрана група людей для об'єднання їхніх зусиль, спрямованих на розв'язання проблемної ситуації чи спільне виконання важливого завдання.</a:t>
            </a:r>
            <a:r>
              <a:rPr b="0" lang="en-U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Характерні ознаки команд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аявність спільної мет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інтенсивне співробітництво;</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изначені статусно-рольові відносин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лідерство (формальне чи неформальне);</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згуртованість колективу;</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ідпрацьовані комунікативні зв'язк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групові норми поведінки, усталені традиції;</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хожість основних життєвих цінностей, установок;</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пецифічні методи вироблення колективних рішень;</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приятлива соціально-психологічна атмосфера.</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88640" y="299880"/>
            <a:ext cx="11777400" cy="63216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радиційна концепція </a:t>
            </a:r>
            <a:r>
              <a:rPr b="0" lang="en-US" sz="2800" spc="-1" strike="noStrike">
                <a:solidFill>
                  <a:srgbClr val="000000"/>
                </a:solidFill>
                <a:latin typeface="Times New Roman"/>
                <a:ea typeface="Times New Roman"/>
              </a:rPr>
              <a:t>керівництва спирається на індивідуальні форми організації роботи. Відповідно до цієї концепції участь членів колективу у прийнятті рішень майже відсутня. Крім того, не створені організаційні умови для командної робот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Друга концепція </a:t>
            </a:r>
            <a:r>
              <a:rPr b="0" lang="en-US" sz="2800" spc="-1" strike="noStrike">
                <a:solidFill>
                  <a:srgbClr val="000000"/>
                </a:solidFill>
                <a:latin typeface="Times New Roman"/>
                <a:ea typeface="Times New Roman"/>
              </a:rPr>
              <a:t>- врахування переваг соціальної взаємодії, яка передбачає поєднання індивідуальних і колективних форм організації праці. Однак ця концепція не враховує відпрацьовані методи командної роботи. Концепцією обмежені організаційні умови для командної робот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ретя концепція </a:t>
            </a:r>
            <a:r>
              <a:rPr b="0" lang="en-US" sz="2800" spc="-1" strike="noStrike">
                <a:solidFill>
                  <a:srgbClr val="000000"/>
                </a:solidFill>
                <a:latin typeface="Times New Roman"/>
                <a:ea typeface="Times New Roman"/>
              </a:rPr>
              <a:t>- комунікаційного керівництва, яка орієнтується на повноцінний розвиток колективних форм організації роботи. Створюються необхідні умови для колективного прийняття рішень і спільного виконання важливих завдань. Керівник володіє навичками створення та організації ефективної роботи кома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6080" y="361800"/>
            <a:ext cx="11523600" cy="62121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Етапи створення команди та організації її робот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Перший етап.</a:t>
            </a:r>
            <a:r>
              <a:rPr b="0" lang="en-US" sz="2800" spc="-1" strike="noStrike">
                <a:solidFill>
                  <a:srgbClr val="000000"/>
                </a:solidFill>
                <a:latin typeface="Times New Roman"/>
                <a:ea typeface="Times New Roman"/>
              </a:rPr>
              <a:t> Зародження команди. Здійснюється відокремлення нової сфери діяльності, отримання важливого складного завдання, виникнення проблемної ситуації (надзвичайна подія, безвихідність, несподівана поява додаткових можливостей). Приймається офіційне рішення (при створенні формальної команди) або спонтанне об' єднання людей (у разі формування неформального колективу).</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Другий етап.</a:t>
            </a:r>
            <a:r>
              <a:rPr b="0" lang="en-US" sz="2800" spc="-1" strike="noStrike">
                <a:solidFill>
                  <a:srgbClr val="000000"/>
                </a:solidFill>
                <a:latin typeface="Times New Roman"/>
                <a:ea typeface="Times New Roman"/>
              </a:rPr>
              <a:t> Формування команди, визначається кількісний та якісний її склад. Здійснюється добір учасників команди, які повинні відповідати встановленим вимогам. Вирішується комплекс питань, пов'язаних з організацією або самоорганізацією командної робот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Третій етап.</a:t>
            </a:r>
            <a:r>
              <a:rPr b="0" lang="en-US" sz="2800" spc="-1" strike="noStrike">
                <a:solidFill>
                  <a:srgbClr val="000000"/>
                </a:solidFill>
                <a:latin typeface="Times New Roman"/>
                <a:ea typeface="Times New Roman"/>
              </a:rPr>
              <a:t> Адаптація колективу команди. Знайомство (у разі добору нових людей), зближення, спостереження, демонстрація можливостей членів команди. Подолання індивідуалізму. Визначення необхідності залучення додаткових членів. Доукомплектування команди за вибором її учасників.</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45600" y="377640"/>
            <a:ext cx="11525400" cy="618012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Четвертий етап</a:t>
            </a:r>
            <a:r>
              <a:rPr b="0" lang="en-US" sz="2400" spc="-1" strike="noStrike">
                <a:solidFill>
                  <a:srgbClr val="000000"/>
                </a:solidFill>
                <a:latin typeface="Times New Roman"/>
                <a:ea typeface="Times New Roman"/>
              </a:rPr>
              <a:t> передбачає стабілізацію колективу команди. Приходить усвідомлення спільної мети та визначення статусно-рольових стосунків між членами команди. Здійснюється вибір методу командної роботи і виробляються загальні норми поведінки.</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ятий етап</a:t>
            </a:r>
            <a:r>
              <a:rPr b="0" lang="en-US" sz="2400" spc="-1" strike="noStrike">
                <a:solidFill>
                  <a:srgbClr val="000000"/>
                </a:solidFill>
                <a:latin typeface="Times New Roman"/>
                <a:ea typeface="Times New Roman"/>
              </a:rPr>
              <a:t> передбачає функціонування команди. На даному етапі відпрацьовуються комунікативні зв'язки та проходить згуртування колективу. Створюється сприятлива соціально-психологічна атмосфера. Досягається синергічний ефект від командної роботи.</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Розглянемо методи організації командної роботи.</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Перший метод</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метод експертних оцінок. </a:t>
            </a:r>
            <a:r>
              <a:rPr b="0" lang="en-US" sz="2400" spc="-1" strike="noStrike">
                <a:solidFill>
                  <a:srgbClr val="000000"/>
                </a:solidFill>
                <a:latin typeface="Times New Roman"/>
                <a:ea typeface="Times New Roman"/>
              </a:rPr>
              <a:t>Учасники команди незалежно й анонімно формулюють свою думку щодо вирішення проблеми, узагальнення та прийняття рішення здійснює керівник.</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ішення приймається за усередненою оцінкою експертів - учасників команди. Зведені дані усіх оцінок подаються на розгляд кожному учаснику команди для з' ясування причин відхилення з повторенням цієї процедури до досягнення консенсусу.</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Другий метод</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метод "мозкового штурму". </a:t>
            </a:r>
            <a:r>
              <a:rPr b="0" lang="en-US" sz="2400" spc="-1" strike="noStrike">
                <a:solidFill>
                  <a:srgbClr val="000000"/>
                </a:solidFill>
                <a:latin typeface="Times New Roman"/>
                <a:ea typeface="Times New Roman"/>
              </a:rPr>
              <a:t>Здійснюється критична оцінка заздалегідь запропонованого варіанту рішення. Отримуються негайні відповіді на запитання, що ставляться тим, хто веде дискусію. Здійснюються генерація ідей щодо розв' язання проблемної ситуації, їх публічне обговорення до взаємоузгодження позицій.</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93840" y="124920"/>
            <a:ext cx="11572560" cy="64645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РОЛІ УЧАСНИКІВ КОМАД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Рисунок 3" descr=""/>
          <p:cNvPicPr/>
          <p:nvPr/>
        </p:nvPicPr>
        <p:blipFill>
          <a:blip r:embed="rId1"/>
          <a:stretch/>
        </p:blipFill>
        <p:spPr>
          <a:xfrm>
            <a:off x="614520" y="1003320"/>
            <a:ext cx="11183760" cy="55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45600" y="331560"/>
            <a:ext cx="11557080" cy="6257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едоліки роботи в команді:</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трати часу на створення та організацію роботи команди;</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оширення доступу до конфіденційної інформації;</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бмеження спілкування учасників команди з іншими членами колектив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тримка прийняття рішення за досягненням консенсус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еревантаження членів команди;</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ниження мотивації індивідуального успіх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вищення відповідальності;</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мінування позицій визнаних авторитетів;</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уперництво між членами команд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04480" y="236520"/>
            <a:ext cx="11761560" cy="6448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а створення команди:</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и створенні команди необхідно орієнтуватися на її кількісний склад (від 5 до 12 учасників) залежно від конкретного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еобхідно залучати до командної роботи учасників, що відрізняються за профілем знань, віком, стажем роботи, статтю тощо. Формуйте різнорідні групи;</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еревіряйте, чи всі члени команди правильно зрозуміли суть проблеми чи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здалегідь визначайте метод роботи в команді;</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адавайте учасникам команди всю інформацію та документацію;</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воєчасно повідомляйте про нові аспекти, обставини та умови щодо проблемної ситуації чи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значайте пріоритети та ретельно готуйтесь до обговорення в команді;</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лануйте послідовність обговорення, визначайте пріоритети та відокремлюйте етапи робот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1440" y="345960"/>
            <a:ext cx="11462040" cy="6166080"/>
          </a:xfrm>
          <a:prstGeom prst="rect">
            <a:avLst/>
          </a:prstGeom>
          <a:noFill/>
          <a:ln w="0">
            <a:noFill/>
          </a:ln>
        </p:spPr>
        <p:txBody>
          <a:bodyPr anchor="t">
            <a:normAutofit/>
          </a:bodyPr>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розподіляйте завдання учасників під час обговорення в команді;</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изначайте ліміт часу на кожний етап та стежте за дотриманням встановлених термінів;</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ідслідковуйте зміну ролей членів команди та забезпечуйте максимальне використання потенціалу учасників обговорення;</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тренуйте своє вміння слухати партнерів по команді та виявляти найбільш цінні ідеї й пропозиції;</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мійте подолати надмірну емоційність учасників команди та створюйте атмосферу ефективної кооперації, взаємодопомоги і довіри;</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оволодівайте навичками розв'язання дисфункціональних конфліктів;</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домагайтеся прийняття рішень не за точкою зору більшості, а шляхом досягнення консенсусу;</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стежте, щоб критика висловлених думок не переходила в їх осуд;</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мійте подолати пасивну поведінку окремих учасників команди, не сприймайте мовчання за згоду;</a:t>
            </a:r>
            <a:endParaRPr b="0" lang="en-US" sz="26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67840" y="315720"/>
            <a:ext cx="11587320" cy="6289560"/>
          </a:xfrm>
          <a:prstGeom prst="rect">
            <a:avLst/>
          </a:prstGeom>
          <a:noFill/>
          <a:ln w="0">
            <a:noFill/>
          </a:ln>
        </p:spPr>
        <p:txBody>
          <a:bodyPr anchor="t">
            <a:normAutofit/>
          </a:bodyPr>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тримуйтеся правил і норм, вироблених командою, але поводьтеся обачно;</a:t>
            </a:r>
            <a:endParaRPr b="0" lang="en-US" sz="2800" spc="-1" strike="noStrike">
              <a:solidFill>
                <a:srgbClr val="000000"/>
              </a:solidFill>
              <a:latin typeface="Calibri"/>
            </a:endParaRPr>
          </a:p>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е задовольняйтесь досягнутим, майте терпіння дочекатися вироблення командою дійсно ефективного рішення;</a:t>
            </a:r>
            <a:endParaRPr b="0" lang="en-US" sz="2800" spc="-1" strike="noStrike">
              <a:solidFill>
                <a:srgbClr val="000000"/>
              </a:solidFill>
              <a:latin typeface="Calibri"/>
            </a:endParaRPr>
          </a:p>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пускайте прояви суперництва лише у вигляді змагальності щодо подання найкращих пропозицій.</a:t>
            </a:r>
            <a:endParaRPr b="0" lang="en-US" sz="2800" spc="-1" strike="noStrike">
              <a:solidFill>
                <a:srgbClr val="000000"/>
              </a:solidFill>
              <a:latin typeface="Calibri"/>
            </a:endParaRPr>
          </a:p>
          <a:p>
            <a:pPr marL="343080" indent="-343080">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Чотири типи команд:</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робочі команди, які виготовляють речі;</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оектні команди і команди розвитку, які працюють над довгостроковими проектами;</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аралельні команди, які є тимчасовими і концентруються на рекомендації вирішення певних проблем;</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манди управління, які координують і забезпечують напрям до підодиниць під їх юрисдикцією.</a:t>
            </a:r>
            <a:endParaRPr b="0" lang="en-US" sz="28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011240" y="236160"/>
            <a:ext cx="10515600" cy="5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ПЕРЕЛІК ПОСИЛАНЬ</a:t>
            </a:r>
            <a:endParaRPr b="0" lang="en-US" sz="2900" spc="-1" strike="noStrike">
              <a:solidFill>
                <a:srgbClr val="000000"/>
              </a:solidFill>
              <a:latin typeface="Calibri Light"/>
            </a:endParaRPr>
          </a:p>
        </p:txBody>
      </p:sp>
      <p:sp>
        <p:nvSpPr>
          <p:cNvPr id="44" name=""/>
          <p:cNvSpPr txBox="1"/>
          <p:nvPr/>
        </p:nvSpPr>
        <p:spPr>
          <a:xfrm>
            <a:off x="316080" y="744480"/>
            <a:ext cx="11571120" cy="574848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Анісімов О.С. Прийняття управлінських рішень: методологія і технологія / О.С. Анісімов. - М.: ФГТУ Рос. АКО АПК, 2010. - 153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Бусигін А.В. Ефективний менеджмент / О.В. Бусигін. - Москва: Финпресс, 2011. - 256 c.</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Верхоглазенко О.М. Вплив типу самовизначення управлінця на рівень його професіоналізму: Дис. канд. психол. Наук / О.М. Верхоглазенко. - М.: РАГС, 2008. - 76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Гончаров В.В. У пошуках досконалості управління: Керівництво для вищого управлінського персоналу / В.В. Гончаров. - М.: МП "Сувенір", 2009. - 211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Дорофєєв В.Д. Організаційна поведінка: навч. посібник / В.Д. Дорофєєв, О.М. Шмельова, Ю.Ю. Частухін. - Львів: Вид-во ун-ту, 2010. - 224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Карякін, А.М. Організаційна поведінка: навч. посібник / А.М. Карякін. - Іваново: РІО ГОУ ВПО ІГЕУ, 2001. - 41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Кузнєцов Ю.В. Основи менеджменту / Ю.В. Кузнєцов, В.І. Підлісний. - Санкт-Петербург: ОЛБІС, 2007. -192 С.</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6960" y="315720"/>
            <a:ext cx="11777400" cy="630540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манди характеризуються автономією, яку вони мають.</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учасні тенденції спрямовані на самокеровані команди, які складаються з працівників, що навчені робити все або більшість роботи поодиниці; вони не мають безпосереднього спостерігача і приймають першолінійні контрольні ріше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радиційні робочі групи не мають жодних адміністративних обов'язків.</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уртки якості </a:t>
            </a:r>
            <a:r>
              <a:rPr b="0" lang="en-US" sz="2800" spc="-1" strike="noStrike">
                <a:solidFill>
                  <a:srgbClr val="000000"/>
                </a:solidFill>
                <a:latin typeface="Times New Roman"/>
                <a:ea typeface="Times New Roman"/>
              </a:rPr>
              <a:t>- добровільні групи людей з різних команд виробництва, які опрацьовують пропозиції щодо поліпшення якості, але не мають влади (повноважень), щоб прийняти рішення або виконувати план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апівавтономні групи роботи </a:t>
            </a:r>
            <a:r>
              <a:rPr b="0" lang="en-US" sz="2800" spc="-1" strike="noStrike">
                <a:solidFill>
                  <a:srgbClr val="000000"/>
                </a:solidFill>
                <a:latin typeface="Times New Roman"/>
                <a:ea typeface="Times New Roman"/>
              </a:rPr>
              <a:t>приймають рішення про управління й виконання головної діяльності виробництва, але все-таки отримують сторонню підтримку в перевірці та підтриманні якості.</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амокеровані команди, </a:t>
            </a:r>
            <a:r>
              <a:rPr b="0" lang="en-US" sz="2800" spc="-1" strike="noStrike">
                <a:solidFill>
                  <a:srgbClr val="000000"/>
                </a:solidFill>
                <a:latin typeface="Times New Roman"/>
                <a:ea typeface="Times New Roman"/>
              </a:rPr>
              <a:t>або автономні робочі групи, управляють рішеннями з приводу певного діапазону завдань і виконанням цих завдань. Вони повністю відповідальні за певний виріб, роботу, функцію або за певну частину процесу виробництв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36160" y="268200"/>
            <a:ext cx="11650680" cy="63216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аморозробляючі команди </a:t>
            </a:r>
            <a:r>
              <a:rPr b="0" lang="en-US" sz="2800" spc="-1" strike="noStrike">
                <a:solidFill>
                  <a:srgbClr val="000000"/>
                </a:solidFill>
                <a:latin typeface="Times New Roman"/>
                <a:ea typeface="Times New Roman"/>
              </a:rPr>
              <a:t>- роблять те, що й самокеровані, а також управляють створенням команд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Ключовий елемент ефективної взаємодії </a:t>
            </a:r>
            <a:r>
              <a:rPr b="0" lang="en-US" sz="2800" spc="-1" strike="noStrike">
                <a:solidFill>
                  <a:srgbClr val="000000"/>
                </a:solidFill>
                <a:latin typeface="Times New Roman"/>
                <a:ea typeface="Times New Roman"/>
              </a:rPr>
              <a:t>- зобов' язання перед загальною метою.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Мета має бути переведена у певні, вимірювані виконанням цілі. Кращі команди досягають загального розуміння про те, як вони досягнуть своєї мети, включаючи розподіл завдань і ролей, розробку норм і процесів рішення. Згуртовані команди ефективніші при дотриманні норм (стандартів), ніж незгуртован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16080" y="345960"/>
            <a:ext cx="11650320" cy="62121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творення згуртованої команди з високими нормами працездатності вимагає:</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ербування членів зі схожими цінностями, відносинами і кваліфікаціями, щоб вони змогли співіснуват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тримання високих стандартів комунікабельності, аби нові члени визнали за честь стати частиною груп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тримка маленької команди щоб її члени відчували себе важливим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помогти команді досягти успіху. Успіх згуртовує команду;</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бути колегіальним лідером, щоб інші члени залучалися до прийняття рішення;</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значення проблем ззовні команди, вирішення яких має її згуртуват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в'язка винагород з успіхом команди, щоб мотивувати її членів для виконання завдань на високому рівн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49320" y="316080"/>
            <a:ext cx="10515600" cy="730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Феноменологія прийняття групових рішень</a:t>
            </a:r>
            <a:br>
              <a:rPr sz="4000"/>
            </a:br>
            <a:endParaRPr b="0" lang="en-US" sz="2800" spc="-1" strike="noStrike">
              <a:solidFill>
                <a:srgbClr val="000000"/>
              </a:solidFill>
              <a:latin typeface="Calibri Light"/>
            </a:endParaRPr>
          </a:p>
        </p:txBody>
      </p:sp>
      <p:sp>
        <p:nvSpPr>
          <p:cNvPr id="70" name=""/>
          <p:cNvSpPr txBox="1"/>
          <p:nvPr/>
        </p:nvSpPr>
        <p:spPr>
          <a:xfrm>
            <a:off x="204480" y="789120"/>
            <a:ext cx="11634840" cy="575280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и вирішенні групових завдань має місце низка своєрідних групових феноменів.</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Соціальна фасилітація (досліджена Норманом Триплеттом у 1897 р.). Це зміни поведінки індивіда в присутності інших, перш за все активізація і прискорення психічної діяльності, підвищення якості виконання порівняно простих, відомих індивіду завдань і, навпаки, зниження якості виконання складних завдань.</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Стрибок ризику (дослідження Джеймса Стоунера, аспіранта Масса чусетського технологічного інституту (1961)). Суть цього явища полягає в тому, що прийняте групою рішення більш ризиковане, ніж початкові пропозиції членів групи. Об'єднуючись, люди чомусь ризикують. Стрибок ризику пояснюють такі гіпотез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2000" y="393480"/>
            <a:ext cx="11714040" cy="62276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бговорення проблеми в групі створює у членів групи почуття спільної відповідальності (а отже, особистої безвідповідальності), що сприяє прийняттю ризикованіших рішень;</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сновним винуватцем ризикованих рішень є лідер; якщо він схильний до ризику, то переконує інших у своїй слушності;</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ризик як цінність: готовність ризикувати підвищує статус людини в групі, тож у процесі групового обговорення члени групи намагаються продемонструвати таку готовність.</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Групова поляризація (встановлена Сержем Московічі, І%9. Під час дослідження французькі студенти обговорювали свого прем'єра та ставлення до американців). Характерна особливість групових рішень полягає в тому, що вони не зводяться до якоїсь найбільш поширеної або зваженої середньої позиції, що видається логічною, а поляризуютьс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67840" y="267840"/>
            <a:ext cx="11619000" cy="627372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4. Групове мислення (відкрите Ірвіном Дженісом у 197 І р.). Це зумовлений досвідом спільної діяльності стиль мислення людей, що повністю включені до однієї групи, де прагнення до єдності думок важливіше, ніж реалістична оцінка можливих варіантів дій ("Ми хороша, мудра група. Хороша група приймає хороші рішення"). Цей феномен уперше описав американський дослідник І. Дженіс на матеріалі вивчення помилкових політичних рішень американського уряду, що мали значні негативні наслідки в XX ст.</a:t>
            </a:r>
            <a:endParaRPr b="0" lang="en-US" sz="22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При виникненні групового мислення стиль мислення членів групи набуває специфічних рис:</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ілюзія бездоганності (серед членів групи помітне прагнення до ризикованих групових дій і необдуманої оптимістичної оцінки наслідків цих дій);</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рагнення дати раціональне пояснення своєму рішенню як єдино правильному;</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стереотипний погляд на суперників;</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ілюзія одностайності;</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відкритий тиск на меншість;</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оява самозваних охоронців групового духу тощо.</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Формальні і неформальні групи, їхня характеристика і роль в управлінні</a:t>
            </a:r>
            <a:br>
              <a:rPr sz="3600"/>
            </a:br>
            <a:endParaRPr b="0" lang="en-US" sz="2800" spc="-1" strike="noStrike">
              <a:solidFill>
                <a:srgbClr val="000000"/>
              </a:solidFill>
              <a:latin typeface="Calibri Light"/>
            </a:endParaRPr>
          </a:p>
        </p:txBody>
      </p:sp>
      <p:sp>
        <p:nvSpPr>
          <p:cNvPr id="46" name=""/>
          <p:cNvSpPr txBox="1"/>
          <p:nvPr/>
        </p:nvSpPr>
        <p:spPr>
          <a:xfrm>
            <a:off x="504720" y="1166760"/>
            <a:ext cx="11445840" cy="550224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жна людина одночасно належить до багатьох груп. До одних ми належимо досить короткий термін (екскурсійна група, армія, технікум). Досягаючи цілі такі групи розпадаються. Інші, навпаки, супроводжують нас усе життя (сім'я, родина, друзі) і мають неабиякий вплив на нього.</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В теорії управління розподіляють групи, які є основою будь-якого колективу, </a:t>
            </a:r>
            <a:r>
              <a:rPr b="0" i="1" lang="en-US" sz="2800" spc="-1" strike="noStrike">
                <a:solidFill>
                  <a:srgbClr val="000000"/>
                </a:solidFill>
                <a:latin typeface="Times New Roman"/>
                <a:ea typeface="Times New Roman"/>
              </a:rPr>
              <a:t>на формальні і неформальні.</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Формальні групи </a:t>
            </a:r>
            <a:r>
              <a:rPr b="0" lang="en-US" sz="2800" spc="-1" strike="noStrike">
                <a:solidFill>
                  <a:srgbClr val="000000"/>
                </a:solidFill>
                <a:latin typeface="Times New Roman"/>
                <a:ea typeface="Times New Roman"/>
              </a:rPr>
              <a:t>- це групи, що виникають за ініціативою адміністрації і входять певним підрозділом до організаційної структури і штатного розкладу підприємства. Існують різні типи формальних груп:</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Група керівників (команда)</a:t>
            </a:r>
            <a:r>
              <a:rPr b="0" lang="en-US" sz="2800" spc="-1" strike="noStrike">
                <a:solidFill>
                  <a:srgbClr val="000000"/>
                </a:solidFill>
                <a:latin typeface="Times New Roman"/>
                <a:ea typeface="Times New Roman"/>
              </a:rPr>
              <a:t> - складається з керівника підприємства (його підрозділу) і безпосередніх заступників і помічників керівн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52000" y="425160"/>
            <a:ext cx="11714040" cy="61801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Функціональна група</a:t>
            </a:r>
            <a:r>
              <a:rPr b="0" lang="en-US" sz="2800" spc="-1" strike="noStrike">
                <a:solidFill>
                  <a:srgbClr val="000000"/>
                </a:solidFill>
                <a:latin typeface="Times New Roman"/>
                <a:ea typeface="Times New Roman"/>
              </a:rPr>
              <a:t> - поєднує в собі керівника і спеціалістів функціонального підрозділу (відділу, бюро, служби), які реалізують загальну функцію управління і мають близькі професійні цілі та інтерес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Виробнича група</a:t>
            </a:r>
            <a:r>
              <a:rPr b="0" lang="en-US" sz="2800" spc="-1" strike="noStrike">
                <a:solidFill>
                  <a:srgbClr val="000000"/>
                </a:solidFill>
                <a:latin typeface="Times New Roman"/>
                <a:ea typeface="Times New Roman"/>
              </a:rPr>
              <a:t> - має у своєму складі керівника і працівників, зайнятих виконанням певного виду робіт на низовому рівні управління (ланка, бригада, ділянка). Члени групи разом працюють над одним завданням, стимул - кінцевий результат, а відмінності між ними пов'язані з розподілом видів робіт між членами групи залежно від кваліфікації робітників.</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 Комітет </a:t>
            </a:r>
            <a:r>
              <a:rPr b="0" lang="en-US" sz="2800" spc="-1" strike="noStrike">
                <a:solidFill>
                  <a:srgbClr val="000000"/>
                </a:solidFill>
                <a:latin typeface="Times New Roman"/>
                <a:ea typeface="Times New Roman"/>
              </a:rPr>
              <a:t>- це група всередині підприємства, якій делегуються повноваження вищою ланкою керівництва для виконання будь-якого проекту чи завдання. Головна відмінність комітету від інших формальних структур полягає у груповому прийнятті рішення, що іноді є найефективнішим засобом вирішення складних проблем і досягнення цілей.</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52000" y="284040"/>
            <a:ext cx="11698200" cy="632160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Неформальні групи </a:t>
            </a:r>
            <a:r>
              <a:rPr b="0" lang="en-US" sz="2600" spc="-1" strike="noStrike">
                <a:solidFill>
                  <a:srgbClr val="000000"/>
                </a:solidFill>
                <a:latin typeface="Times New Roman"/>
                <a:ea typeface="Times New Roman"/>
              </a:rPr>
              <a:t>- це вільно утворені малі соціальні групи людей, які вступають в постійну взаємодію для досягнення особистих цілей.</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еформальні групи створюються не керівництвом шляхом розпоряджень і формальних постанов, а членами організації залежно від їхніх взаємних симпатій, спільних інтересів, однакових прихильностей і таке інше. Ці групи існують в усіх організаціях, хоча вони не відображені в структурних схемах. Неформальні групи мають свої неписані правила і норми поведінки, люди добре знають, хто входить в їх неформальну групу, а хто ні. </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 неформальних групах складається певний розподіл ролей і позицій, ці групи мають явно чи неявно визначеного лідера. В багатьох випадках неформальна група може мати на свого члена вплив, однаковий або більший, за формальну структуру.</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Неформальні групи зазвичай утворюються спонтанно в межах формальних груп, з якими вони мають багато спільного, а саме:</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у організацію - ієрархію, лідера і завдання;</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і неписані правила - норми;</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ий процес утворення - етапи;</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і різновиди - види неформальних груп за ступенем зрілості.</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36160" y="284040"/>
            <a:ext cx="11791800" cy="63532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Процес утворення неформальних груп спеціалісти поділяють на п'ять етапів в результаті яких виникають п'ять різних видів неформальних груп, які відрізняються один від одного ступенем зрілості взаємостосунків:</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 </a:t>
            </a:r>
            <a:r>
              <a:rPr b="1" i="1" lang="en-US" sz="2800" spc="-1" strike="noStrike">
                <a:solidFill>
                  <a:srgbClr val="000000"/>
                </a:solidFill>
                <a:latin typeface="Times New Roman"/>
                <a:ea typeface="Times New Roman"/>
              </a:rPr>
              <a:t>етап</a:t>
            </a:r>
            <a:r>
              <a:rPr b="0" lang="en-US" sz="2800" spc="-1" strike="noStrike">
                <a:solidFill>
                  <a:srgbClr val="000000"/>
                </a:solidFill>
                <a:latin typeface="Times New Roman"/>
                <a:ea typeface="Times New Roman"/>
              </a:rPr>
              <a:t> - стихійне поєднання людей, які несвідомо реагують на будь-які події;</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I етап</a:t>
            </a:r>
            <a:r>
              <a:rPr b="0" lang="en-US" sz="2800" spc="-1" strike="noStrike">
                <a:solidFill>
                  <a:srgbClr val="000000"/>
                </a:solidFill>
                <a:latin typeface="Times New Roman"/>
                <a:ea typeface="Times New Roman"/>
              </a:rPr>
              <a:t> - поява більш свідомих емоцій у випадку успішних попередніх дій;</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II етап</a:t>
            </a:r>
            <a:r>
              <a:rPr b="0" lang="en-US" sz="2800" spc="-1" strike="noStrike">
                <a:solidFill>
                  <a:srgbClr val="000000"/>
                </a:solidFill>
                <a:latin typeface="Times New Roman"/>
                <a:ea typeface="Times New Roman"/>
              </a:rPr>
              <a:t> - організоване об'єднання для спільної боротьби із зовнішньою загрозою, поява лідера;</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V</a:t>
            </a:r>
            <a:r>
              <a:rPr b="0"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етап </a:t>
            </a:r>
            <a:r>
              <a:rPr b="0" lang="en-US" sz="2800" spc="-1" strike="noStrike">
                <a:solidFill>
                  <a:srgbClr val="000000"/>
                </a:solidFill>
                <a:latin typeface="Times New Roman"/>
                <a:ea typeface="Times New Roman"/>
              </a:rPr>
              <a:t>- при наявності позитивних факторів - поява бажання ствердитись в боротьбі і продовжувати спільну діяльність, поява ієрархій;</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V</a:t>
            </a:r>
            <a:r>
              <a:rPr b="0"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етап </a:t>
            </a:r>
            <a:r>
              <a:rPr b="0" lang="en-US" sz="2800" spc="-1" strike="noStrike">
                <a:solidFill>
                  <a:srgbClr val="000000"/>
                </a:solidFill>
                <a:latin typeface="Times New Roman"/>
                <a:ea typeface="Times New Roman"/>
              </a:rPr>
              <a:t>- об'єднання для вирішення довготривалих цілей, поява нор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16080" y="268200"/>
            <a:ext cx="11037600" cy="6400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Сьогоднішні теоретики вважають, що неформальні групи можуть допомогти формальній організації в досягненні її цілей. Для цього бажано:</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Визнати існування неформальних груп і працювати з ними.</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Вислуховувати думки членів і лідерів неформальних груп.</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Перед тим як починати будь-які дії, прораховувати їх можливу негативну дію на неформальну організацію.</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Дозволити неформальній групі брати участь у прийнятті рішень.</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Швидко видавати точну інформацію, тим самим перешкоджати розповсюдженню чуток.</a:t>
            </a: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тже, однією з найважливіших задач керівника є зближення формальних і неформальних структур, позитивні орієнтації неформальних груп і боротьба з негативними проявами в колективі.</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4680"/>
            <a:ext cx="10515600" cy="438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2. Стадії розвитку групи. </a:t>
            </a:r>
            <a:br>
              <a:rPr sz="3600"/>
            </a:br>
            <a:endParaRPr b="0" lang="en-US" sz="2500" spc="-1" strike="noStrike">
              <a:solidFill>
                <a:srgbClr val="000000"/>
              </a:solidFill>
              <a:latin typeface="Calibri Light"/>
            </a:endParaRPr>
          </a:p>
        </p:txBody>
      </p:sp>
      <p:sp>
        <p:nvSpPr>
          <p:cNvPr id="52" name=""/>
          <p:cNvSpPr txBox="1"/>
          <p:nvPr/>
        </p:nvSpPr>
        <p:spPr>
          <a:xfrm>
            <a:off x="457200" y="646200"/>
            <a:ext cx="11445840" cy="6006960"/>
          </a:xfrm>
          <a:prstGeom prst="rect">
            <a:avLst/>
          </a:prstGeom>
          <a:noFill/>
          <a:ln w="0">
            <a:noFill/>
          </a:ln>
        </p:spPr>
        <p:txBody>
          <a:bodyPr anchor="t">
            <a:normAutofit fontScale="99000"/>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 тренінговій практиці існують різні підходи до виокремлення етапів розвитку групи. Якщо їх проаналізувати, то зазвичай виділяють від трьох до шести етапів розвитку групи:</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Знайомство /перший контакт/, народження групи (включає організацію групи і знайомство з групою; завершується знайомством з групою).</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Емоційне притирання (стадія індивідуальних цілей), стадія приєднання (на цій стадії метою у кожного учасника є справити враження).</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а стадії першого контакту спрацьовують інстинкти самозбереження і сексуальний. Це проявляється в груповому процесі через:</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творення комфортного стану, що зумовлює формування підгруп;</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цінку групи для своєї участі - перевірку "на міцність" тренера і учасників груп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67840" y="268200"/>
            <a:ext cx="11744280" cy="63849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ідмінність між статями - прагнення сподобатися - флірт, кокетування тощо.</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Стадія агресії /регресії, конфронтації/, усвідомлення групової цілі /хаосу/. Цей етап не завжди несе в собі тільки негатив.</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Конструктивна робота /цілісність/, гармонія. Мета для учасників: усвідомлення, що вони є єдиним цілим. На цьому етапі починається конструктивна діяльність, формується єдина групова мета.</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Завершення /вмирання, прощання/, завдання на новий етап. На цьому етапі може з'явитися нова мета, і це може бути нова група, незважаючи на те, що можуть бути ті ж люд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Рефлексія /спогад/, накопичення інформації.</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1T17:02:49Z</dcterms:created>
  <dc:creator>Karim</dc:creator>
  <dc:description/>
  <dc:language>en-US</dc:language>
  <cp:lastModifiedBy>Karim</cp:lastModifiedBy>
  <dcterms:modified xsi:type="dcterms:W3CDTF">2020-02-21T21:15:18Z</dcterms:modified>
  <cp:revision>12</cp:revision>
  <dc:subject/>
  <dc:title>Лекція №: 5 Тема. Формування групової поведінки </dc:title>
</cp:coreProperties>
</file>