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D86B0-1776-480B-8A7B-49F5A143E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58EB-6C6F-4419-B9B6-CE21FDB9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D0756-D74D-47F6-8C87-679D5B51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FED29-B2E6-44D5-B238-E194F1D3B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AB0F6-382F-483E-9F76-9916A329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7694-17E8-4407-8389-641FA109F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87E3-8990-4FAF-89FA-190244654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DDE6-E907-4614-80D1-859B30416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D3D7-D8FA-4CDE-B989-5FC95B02A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2D11-3CA6-47F4-A838-4B34E791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84802-65A7-48C1-A2E5-08ABABA6F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08B0-4D12-45B3-BE3B-EE54620D0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FDBA-B92E-42CE-9F3D-B7B6EC8A4D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66920" y="409680"/>
            <a:ext cx="9144000" cy="861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екція №: 7</a:t>
            </a:r>
            <a:br>
              <a:rPr sz="2800"/>
            </a:br>
            <a:r>
              <a:rPr b="0" lang="ru-RU" sz="2800" spc="-1" strike="noStrike">
                <a:solidFill>
                  <a:srgbClr val="000000"/>
                </a:solidFill>
                <a:latin typeface="Times New Roman"/>
                <a:ea typeface="Times New Roman"/>
              </a:rPr>
              <a:t>Тема: </a:t>
            </a:r>
            <a:r>
              <a:rPr b="1" lang="uk-UA" sz="2800" spc="-1" strike="noStrike">
                <a:solidFill>
                  <a:srgbClr val="000000"/>
                </a:solidFill>
                <a:latin typeface="Times New Roman"/>
                <a:ea typeface="Calibri"/>
              </a:rPr>
              <a:t>Керівництво і лідерство</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773280" y="1466640"/>
            <a:ext cx="11066400" cy="4981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a:t>
            </a:r>
            <a:endParaRPr b="0" lang="en-US" sz="28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тність понять </a:t>
            </a:r>
            <a:r>
              <a:rPr b="0" lang="en-US" sz="3200" spc="-1" strike="noStrike">
                <a:solidFill>
                  <a:srgbClr val="000000"/>
                </a:solidFill>
                <a:latin typeface="Times New Roman"/>
                <a:ea typeface="Times New Roman"/>
              </a:rPr>
              <a:t>« </a:t>
            </a:r>
            <a:r>
              <a:rPr b="0" lang="uk-UA" sz="2800" spc="-1" strike="noStrike">
                <a:solidFill>
                  <a:srgbClr val="000000"/>
                </a:solidFill>
                <a:latin typeface="Times New Roman"/>
                <a:ea typeface="Calibri"/>
              </a:rPr>
              <a:t>Керівництво</a:t>
            </a:r>
            <a:r>
              <a:rPr b="0" lang="en-US" sz="3200" spc="-1" strike="noStrike">
                <a:solidFill>
                  <a:srgbClr val="000000"/>
                </a:solidFill>
                <a:latin typeface="Times New Roman"/>
                <a:ea typeface="Times New Roman"/>
              </a:rPr>
              <a:t>» та</a:t>
            </a:r>
            <a:r>
              <a:rPr b="1" lang="uk-UA" sz="2800" spc="-1" strike="noStrike">
                <a:solidFill>
                  <a:srgbClr val="000000"/>
                </a:solidFill>
                <a:latin typeface="Times New Roman"/>
                <a:ea typeface="Calibri"/>
              </a:rPr>
              <a:t> </a:t>
            </a:r>
            <a:r>
              <a:rPr b="0" lang="en-US" sz="3200" spc="-1" strike="noStrike">
                <a:solidFill>
                  <a:srgbClr val="000000"/>
                </a:solidFill>
                <a:latin typeface="Times New Roman"/>
                <a:ea typeface="Times New Roman"/>
              </a:rPr>
              <a:t>«лідерство».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илі управління. Типологія керівників.</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Підходи до вивчення лідерства.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Концепції лідерства.</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88640" y="284040"/>
            <a:ext cx="11777400" cy="632160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Два зображених приклади - це дві крайності, а істина завжди знаходиться десь посередині. Ідеальний керівник повинен одночасно бути і професіоналом і адміністратором, але на практиці, на жаль, це вдається ліченим одиницям. Для того, щоб точно оцінювати ситуацію, керівник повинен добре уявляти можливості своїх підлеглих та свої власні, природу завдань, потреби, повноваження.</a:t>
            </a:r>
            <a:endParaRPr b="0" lang="en-US" sz="26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Керівник, що прагне працювати якомога ефективніше, отримувати максимум корисного ефекту від діяльності підлеглих, не може дозволити собі таку розкіш, як застосування лише якогось одного стилю керівництва протягом усієї кар'єри. Керівник повинен навчитися володіти усіма стилями, методами та типами влади і впливу, і вміти обирати серед них той, що найбільш пасує даній ситуації. Якщо вже визначати кращий стиль, то цей стиль - адаптивний, тобто орієнтований на реальність. Керівництво, лідерство та управління - це свого роду мистецтво.</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41120"/>
            <a:ext cx="10515600" cy="54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Підходи до вивчення лідерства</a:t>
            </a:r>
            <a:endParaRPr b="0" lang="en-US" sz="2800" spc="-1" strike="noStrike">
              <a:solidFill>
                <a:srgbClr val="000000"/>
              </a:solidFill>
              <a:latin typeface="Calibri Light"/>
            </a:endParaRPr>
          </a:p>
        </p:txBody>
      </p:sp>
      <p:sp>
        <p:nvSpPr>
          <p:cNvPr id="56" name=""/>
          <p:cNvSpPr txBox="1"/>
          <p:nvPr/>
        </p:nvSpPr>
        <p:spPr>
          <a:xfrm>
            <a:off x="204840" y="818640"/>
            <a:ext cx="11855520" cy="5707080"/>
          </a:xfrm>
          <a:prstGeom prst="rect">
            <a:avLst/>
          </a:prstGeom>
          <a:noFill/>
          <a:ln w="0">
            <a:noFill/>
          </a:ln>
        </p:spPr>
        <p:txBody>
          <a:bodyPr anchor="t">
            <a:normAutofit/>
          </a:bodyPr>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Лідерство </a:t>
            </a:r>
            <a:r>
              <a:rPr b="0" lang="en-US" sz="2800" spc="-1" strike="noStrike">
                <a:solidFill>
                  <a:srgbClr val="000000"/>
                </a:solidFill>
                <a:latin typeface="Times New Roman"/>
                <a:ea typeface="Calibri"/>
              </a:rPr>
              <a:t>– це вплив на організаційні правила або ситуацію, ефект якого є значущим і полегшує досягнення актуальних організаційних цілей </a:t>
            </a:r>
            <a:endParaRPr b="0" lang="en-US" sz="2800" spc="-1" strike="noStrike">
              <a:solidFill>
                <a:srgbClr val="000000"/>
              </a:solidFill>
              <a:latin typeface="Calibri"/>
            </a:endParaRPr>
          </a:p>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гідно з роботою необхідно визначити основні відмінності між лідерством і керівництвом: </a:t>
            </a:r>
            <a:endParaRPr b="0" lang="en-US" sz="2800" spc="-1" strike="noStrike">
              <a:solidFill>
                <a:srgbClr val="000000"/>
              </a:solidFill>
              <a:latin typeface="Calibri"/>
            </a:endParaRPr>
          </a:p>
          <a:p>
            <a:pPr marL="343080" indent="-343080" algn="just">
              <a:lnSpc>
                <a:spcPct val="106000"/>
              </a:lnSpc>
              <a:spcBef>
                <a:spcPts val="1001"/>
              </a:spcBef>
              <a:spcAft>
                <a:spcPts val="799"/>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дер здійснює регуляцію міжособистісних відносин у групі, у той час як керівник здійснює регуляцію офіційних відносин групи;</a:t>
            </a:r>
            <a:endParaRPr b="0" lang="en-US" sz="2800" spc="-1" strike="noStrike">
              <a:solidFill>
                <a:srgbClr val="000000"/>
              </a:solidFill>
              <a:latin typeface="Calibri"/>
            </a:endParaRPr>
          </a:p>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дерство існує в умовах мікросередовища (самої групи), керівництво – елемент макросередовища, тобто воно пов’язано зі всією системою суспільних відносин; </a:t>
            </a:r>
            <a:endParaRPr b="0" lang="en-US" sz="2800" spc="-1" strike="noStrike">
              <a:solidFill>
                <a:srgbClr val="000000"/>
              </a:solidFill>
              <a:latin typeface="Calibri"/>
            </a:endParaRPr>
          </a:p>
          <a:p>
            <a:pPr marL="343080" indent="-343080">
              <a:lnSpc>
                <a:spcPct val="107000"/>
              </a:lnSpc>
              <a:spcBef>
                <a:spcPts val="1001"/>
              </a:spcBef>
              <a:spcAft>
                <a:spcPts val="799"/>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6960" y="-360"/>
            <a:ext cx="11729880" cy="6746760"/>
          </a:xfrm>
          <a:prstGeom prst="rect">
            <a:avLst/>
          </a:prstGeom>
          <a:noFill/>
          <a:ln w="0">
            <a:noFill/>
          </a:ln>
        </p:spPr>
        <p:txBody>
          <a:bodyPr anchor="t">
            <a:normAutofit/>
          </a:bodyPr>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лідерство виникає стихійно, а керівництво – це процес цілеспрямований; </a:t>
            </a:r>
            <a:endParaRPr b="0" lang="en-US" sz="2800" spc="-1" strike="noStrike">
              <a:solidFill>
                <a:srgbClr val="000000"/>
              </a:solidFill>
              <a:latin typeface="Calibri"/>
            </a:endParaRPr>
          </a:p>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лідерство менш стабільне, оскільки висунення лідера залежить від настрою групи, у той час як керівництво – явище стабільне; </a:t>
            </a:r>
            <a:endParaRPr b="0" lang="en-US" sz="2800" spc="-1" strike="noStrike">
              <a:solidFill>
                <a:srgbClr val="000000"/>
              </a:solidFill>
              <a:latin typeface="Calibri"/>
            </a:endParaRPr>
          </a:p>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керівництво підлеглими, на відміну від лідерства, володіє визначеною системою різних санкцій, яких у руках лідера немає; </a:t>
            </a:r>
            <a:endParaRPr b="0" lang="en-US" sz="2800" spc="-1" strike="noStrike">
              <a:solidFill>
                <a:srgbClr val="000000"/>
              </a:solidFill>
              <a:latin typeface="Calibri"/>
            </a:endParaRPr>
          </a:p>
          <a:p>
            <a:pPr marL="228600" indent="-228600" algn="just">
              <a:lnSpc>
                <a:spcPct val="106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рийняття рішень керівником обумовлюється багатьма обставинами та міркуваннями, у той час як лідер приймає більш безпосередні рішення;</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Сфера діяльності лідера </a:t>
            </a:r>
            <a:r>
              <a:rPr b="0" lang="en-US" sz="2800" spc="-1" strike="noStrike">
                <a:solidFill>
                  <a:srgbClr val="000000"/>
                </a:solidFill>
                <a:latin typeface="Times New Roman"/>
                <a:ea typeface="Calibri"/>
              </a:rPr>
              <a:t>– мала група, де він є лідером, а сфера діяльності керівника ширше, оскільки він представляє групу в більш широкій соціальній системі.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У доповнення до зазначених відмінностей можна виокремити основні поняття, які характеризують особливості лідерства та керівництва (табл. 1).</a:t>
            </a:r>
            <a:r>
              <a:rPr b="0" lang="ru-RU" sz="2000" spc="-1" strike="noStrike">
                <a:solidFill>
                  <a:srgbClr val="000000"/>
                </a:solidFill>
                <a:latin typeface="Calibri"/>
                <a:ea typeface="Calibri"/>
              </a:rPr>
              <a:t> </a:t>
            </a:r>
            <a:r>
              <a:rPr b="0" lang="ru-RU" sz="2800" spc="-1" strike="noStrike">
                <a:solidFill>
                  <a:srgbClr val="000000"/>
                </a:solidFill>
                <a:latin typeface="Times New Roman"/>
                <a:ea typeface="Calibri"/>
              </a:rPr>
              <a:t>Основні відмінності понять «лідерство» та «керівництво»</a:t>
            </a:r>
            <a:endParaRPr b="0" lang="en-US" sz="2800" spc="-1" strike="noStrike">
              <a:solidFill>
                <a:srgbClr val="000000"/>
              </a:solidFill>
              <a:latin typeface="Calibri"/>
            </a:endParaRPr>
          </a:p>
          <a:p>
            <a:pPr marL="228600" indent="-228600" algn="just">
              <a:lnSpc>
                <a:spcPct val="106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1560600" y="773280"/>
          <a:ext cx="9837720" cy="4343400"/>
        </p:xfrm>
        <a:graphic>
          <a:graphicData uri="http://schemas.openxmlformats.org/drawingml/2006/table">
            <a:tbl>
              <a:tblPr/>
              <a:tblGrid>
                <a:gridCol w="4919400"/>
                <a:gridCol w="4918320"/>
              </a:tblGrid>
              <a:tr h="58248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Arial"/>
                        </a:rPr>
                        <a:t>Лідерств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160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Arial"/>
                        </a:rPr>
                        <a:t>Керівництв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0" rIns="0" tIns="0" bIns="0" anchor="t">
                      <a:noAutofit/>
                    </a:bodyPr>
                    <a:p>
                      <a:pPr marL="2030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Неформальна організ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1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Формальна організ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Неформальний лідер</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Формальний лідер</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Той, хто веде</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Той, хто організує</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0" rIns="0" tIns="0" bIns="0" anchor="t">
                      <a:noAutofit/>
                    </a:bodyPr>
                    <a:p>
                      <a:pPr marL="2030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Координ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Управлінн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0" rIns="0" tIns="0" bIns="0" anchor="t">
                      <a:noAutofit/>
                    </a:bodyPr>
                    <a:p>
                      <a:pPr marL="20160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Вплив (через авторитет)</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Влад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Авторитет</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Статус</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99520" y="693720"/>
            <a:ext cx="11634840" cy="58960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 науковій літературі виокремлюють три основні підходи до визначення факторів ефективного лідерства: </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1. Особистісний підхід</a:t>
            </a:r>
            <a:r>
              <a:rPr b="0" lang="en-US" sz="2600" spc="-1" strike="noStrike">
                <a:solidFill>
                  <a:srgbClr val="000000"/>
                </a:solidFill>
                <a:latin typeface="Times New Roman"/>
                <a:ea typeface="Calibri"/>
              </a:rPr>
              <a:t>, який базується на існуванні інтелектуальних, емоційних, фізичних та інших особистісних якостей лідерів. Цей підхід базується на двох теоріях пояснення здатності чи нездатності людини бути лідером.</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2. Поведінковий підхід</a:t>
            </a:r>
            <a:r>
              <a:rPr b="0" lang="uk-UA" sz="2600" spc="-1" strike="noStrike">
                <a:solidFill>
                  <a:srgbClr val="000000"/>
                </a:solidFill>
                <a:latin typeface="Times New Roman"/>
                <a:ea typeface="Calibri"/>
              </a:rPr>
              <a:t>, згідно з яким лідерство визначається не особистісними якостями керівника, а його манерою поведінки</a:t>
            </a:r>
            <a:r>
              <a:rPr b="0" lang="ru-RU" sz="2600" spc="-1" strike="noStrike">
                <a:solidFill>
                  <a:srgbClr val="000000"/>
                </a:solidFill>
                <a:latin typeface="Times New Roman"/>
                <a:ea typeface="Calibri"/>
              </a:rPr>
              <a:t>.</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3. Ситуаційний підхід</a:t>
            </a:r>
            <a:r>
              <a:rPr b="0" lang="uk-UA" sz="2600" spc="-1" strike="noStrike">
                <a:solidFill>
                  <a:srgbClr val="000000"/>
                </a:solidFill>
                <a:latin typeface="Times New Roman"/>
                <a:ea typeface="Calibri"/>
              </a:rPr>
              <a:t>, згідно з яким ефективність стиля лідерства залежить від поєднання різних ситуаційних змінних, таких, як особистість керівника, завдання, що вирішуються, обсяг влади тощо. Ситуаційний лідер повинен бути достатньо гнучким для того, щоб адаптуватись до різних підлеглих і різних ситуацій.</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0880" y="220680"/>
            <a:ext cx="11901240" cy="636912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ряд із підходами до визначення лідерства у літературі можна зустріти класифікацію типів лідерів</a:t>
            </a:r>
            <a:r>
              <a:rPr b="0" lang="en-US" sz="2800" spc="-1" strike="noStrike">
                <a:solidFill>
                  <a:srgbClr val="000000"/>
                </a:solidFill>
                <a:latin typeface="Times New Roman"/>
                <a:ea typeface="Calibri"/>
              </a:rPr>
              <a:t>: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1. «Соверен» </a:t>
            </a:r>
            <a:r>
              <a:rPr b="0" lang="en-US" sz="2800" spc="-1" strike="noStrike">
                <a:solidFill>
                  <a:srgbClr val="000000"/>
                </a:solidFill>
                <a:latin typeface="Times New Roman"/>
                <a:ea typeface="Calibri"/>
              </a:rPr>
              <a:t>(патріарх) – виступає в образі суворого, але любимого батька. Його люблять і поважають.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2. «Вожак»</a:t>
            </a:r>
            <a:r>
              <a:rPr b="0" lang="en-US" sz="2800" spc="-1" strike="noStrike">
                <a:solidFill>
                  <a:srgbClr val="000000"/>
                </a:solidFill>
                <a:latin typeface="Times New Roman"/>
                <a:ea typeface="Calibri"/>
              </a:rPr>
              <a:t>. Йому намагаються наслідувати, особливо в плані зовнішньої поведінки.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3. «Тиран» </a:t>
            </a:r>
            <a:r>
              <a:rPr b="0" lang="en-US" sz="2800" spc="-1" strike="noStrike">
                <a:solidFill>
                  <a:srgbClr val="000000"/>
                </a:solidFill>
                <a:latin typeface="Times New Roman"/>
                <a:ea typeface="Calibri"/>
              </a:rPr>
              <a:t>– домінуюча, авторитарна особистість, його зазвичай бояться, підпорядковуються йому. Він стає лідером, оскільки вселяє почуття покори та несвідомого страху.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4. «Організатор»</a:t>
            </a:r>
            <a:r>
              <a:rPr b="0" lang="en-US" sz="2800" spc="-1" strike="noStrike">
                <a:solidFill>
                  <a:srgbClr val="000000"/>
                </a:solidFill>
                <a:latin typeface="Times New Roman"/>
                <a:ea typeface="Calibri"/>
              </a:rPr>
              <a:t>. Такий лідер об’єднує людей і його поважають.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5. «Спокусник»</a:t>
            </a:r>
            <a:r>
              <a:rPr b="0" lang="en-US" sz="2800" spc="-1" strike="noStrike">
                <a:solidFill>
                  <a:srgbClr val="000000"/>
                </a:solidFill>
                <a:latin typeface="Times New Roman"/>
                <a:ea typeface="Calibri"/>
              </a:rPr>
              <a:t>. Він становиться лідером, граючи на слабостях інших членів групи. Такого лідера часто обожнюють, але не помічають його недоліків.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0320" y="284040"/>
            <a:ext cx="11698200" cy="6400800"/>
          </a:xfrm>
          <a:prstGeom prst="rect">
            <a:avLst/>
          </a:prstGeom>
          <a:noFill/>
          <a:ln w="0">
            <a:noFill/>
          </a:ln>
        </p:spPr>
        <p:txBody>
          <a:bodyPr anchor="t">
            <a:normAutofit/>
          </a:bodyPr>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6. «Герой»</a:t>
            </a:r>
            <a:r>
              <a:rPr b="0" lang="en-US" sz="2800" spc="-1" strike="noStrike">
                <a:solidFill>
                  <a:srgbClr val="000000"/>
                </a:solidFill>
                <a:latin typeface="Times New Roman"/>
                <a:ea typeface="Calibri"/>
              </a:rPr>
              <a:t>. Він жертвує собою заради інших. У ньому бачать стандарт справедливості.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7. «Дурний приклад» </a:t>
            </a:r>
            <a:r>
              <a:rPr b="0" lang="en-US" sz="2800" spc="-1" strike="noStrike">
                <a:solidFill>
                  <a:srgbClr val="000000"/>
                </a:solidFill>
                <a:latin typeface="Times New Roman"/>
                <a:ea typeface="Calibri"/>
              </a:rPr>
              <a:t>– джерело заразливості для безконфліктної особистості, емоційно заражує інших, часто непозитивними ідеями.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8. «Кумир»</a:t>
            </a:r>
            <a:r>
              <a:rPr b="0" lang="en-US" sz="2800" spc="-1" strike="noStrike">
                <a:solidFill>
                  <a:srgbClr val="000000"/>
                </a:solidFill>
                <a:latin typeface="Times New Roman"/>
                <a:ea typeface="Calibri"/>
              </a:rPr>
              <a:t>. Він притягує до себе оточуючих позитивними емоціями; його люблять, боготворять та ідеалізують.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9. «Ізгой» </a:t>
            </a:r>
            <a:r>
              <a:rPr b="0" lang="en-US" sz="2800" spc="-1" strike="noStrike">
                <a:solidFill>
                  <a:srgbClr val="000000"/>
                </a:solidFill>
                <a:latin typeface="Times New Roman"/>
                <a:ea typeface="Calibri"/>
              </a:rPr>
              <a:t>– антилідер.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10. «Козел – віддувайло» </a:t>
            </a:r>
            <a:r>
              <a:rPr b="0" lang="en-US" sz="2800" spc="-1" strike="noStrike">
                <a:solidFill>
                  <a:srgbClr val="000000"/>
                </a:solidFill>
                <a:latin typeface="Times New Roman"/>
                <a:ea typeface="Calibri"/>
              </a:rPr>
              <a:t>– антилідер.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89000" y="361800"/>
            <a:ext cx="11809440" cy="63388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ряд із цим лідерство можна розглядати як сукупність таких компонентів: </a:t>
            </a:r>
            <a:endParaRPr b="0" lang="en-US" sz="2800" spc="-1" strike="noStrike">
              <a:solidFill>
                <a:srgbClr val="000000"/>
              </a:solidFill>
              <a:latin typeface="Calibri"/>
            </a:endParaRPr>
          </a:p>
          <a:p>
            <a:pPr marL="228600" indent="-228600"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a:t>
            </a:r>
            <a:r>
              <a:rPr b="0" i="1" lang="en-US" sz="2800" spc="-1" strike="noStrike">
                <a:solidFill>
                  <a:srgbClr val="000000"/>
                </a:solidFill>
                <a:latin typeface="Times New Roman"/>
                <a:ea typeface="Calibri"/>
              </a:rPr>
              <a:t>«Емоційний» лідер </a:t>
            </a:r>
            <a:r>
              <a:rPr b="0" lang="en-US" sz="2800" spc="-1" strike="noStrike">
                <a:solidFill>
                  <a:srgbClr val="000000"/>
                </a:solidFill>
                <a:latin typeface="Times New Roman"/>
                <a:ea typeface="Calibri"/>
              </a:rPr>
              <a:t>(«серце» групи) – це людина, до якої співробітник може звернутись з особистими проблемами, за порадою, співчуттям. </a:t>
            </a:r>
            <a:endParaRPr b="0" lang="en-US" sz="2800" spc="-1" strike="noStrike">
              <a:solidFill>
                <a:srgbClr val="000000"/>
              </a:solidFill>
              <a:latin typeface="Calibri"/>
            </a:endParaRPr>
          </a:p>
          <a:p>
            <a:pPr marL="228600" indent="-228600"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a:t>
            </a:r>
            <a:r>
              <a:rPr b="0" i="1" lang="en-US" sz="2800" spc="-1" strike="noStrike">
                <a:solidFill>
                  <a:srgbClr val="000000"/>
                </a:solidFill>
                <a:latin typeface="Times New Roman"/>
                <a:ea typeface="Calibri"/>
              </a:rPr>
              <a:t>«Діловий» лідер </a:t>
            </a:r>
            <a:r>
              <a:rPr b="0" lang="en-US" sz="2800" spc="-1" strike="noStrike">
                <a:solidFill>
                  <a:srgbClr val="000000"/>
                </a:solidFill>
                <a:latin typeface="Times New Roman"/>
                <a:ea typeface="Calibri"/>
              </a:rPr>
              <a:t>(«руки» групи) – це людина, яка може організувати справу, налагодити потрібні ділові взаємозв’язки, забезпечити успіх справи.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0" i="1" lang="en-US" sz="2800" spc="-1" strike="noStrike">
                <a:solidFill>
                  <a:srgbClr val="000000"/>
                </a:solidFill>
                <a:latin typeface="Times New Roman"/>
                <a:ea typeface="Calibri"/>
              </a:rPr>
              <a:t>«Інформаційний» лідер </a:t>
            </a:r>
            <a:r>
              <a:rPr b="0" lang="en-US" sz="2800" spc="-1" strike="noStrike">
                <a:solidFill>
                  <a:srgbClr val="000000"/>
                </a:solidFill>
                <a:latin typeface="Times New Roman"/>
                <a:ea typeface="Calibri"/>
              </a:rPr>
              <a:t>(«мозок» групи) – це людина, до якої всі звертаються з питаннями, тому що він ерудит, може пояснити та допомогти знайти потрібну інформацію.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йкращим вважається такий лідер, який поєднує в собі всі три компонен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9560" y="536040"/>
            <a:ext cx="10515600" cy="28908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4. Концепції лідерства</a:t>
            </a:r>
            <a:br>
              <a:rPr sz="3200"/>
            </a:br>
            <a:endParaRPr b="0" lang="en-US" sz="2800" spc="-1" strike="noStrike">
              <a:solidFill>
                <a:srgbClr val="000000"/>
              </a:solidFill>
              <a:latin typeface="Calibri Light"/>
            </a:endParaRPr>
          </a:p>
        </p:txBody>
      </p:sp>
      <p:sp>
        <p:nvSpPr>
          <p:cNvPr id="64" name=""/>
          <p:cNvSpPr txBox="1"/>
          <p:nvPr/>
        </p:nvSpPr>
        <p:spPr>
          <a:xfrm>
            <a:off x="393840" y="825480"/>
            <a:ext cx="11493360" cy="5780160"/>
          </a:xfrm>
          <a:prstGeom prst="rect">
            <a:avLst/>
          </a:prstGeom>
          <a:noFill/>
          <a:ln w="0">
            <a:noFill/>
          </a:ln>
        </p:spPr>
        <p:txBody>
          <a:bodyPr anchor="t">
            <a:normAutofit/>
          </a:bodyPr>
          <a:p>
            <a:pPr marL="228600" indent="-228600">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лід розглянути концепції лідерства згідно з поведінковим підхо-дом: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1. Стилі управління за Д. Мак Грегором</a:t>
            </a:r>
            <a:r>
              <a:rPr b="0" lang="en-US" sz="2800" spc="-1" strike="noStrike">
                <a:solidFill>
                  <a:srgbClr val="000000"/>
                </a:solidFill>
                <a:latin typeface="Times New Roman"/>
                <a:ea typeface="Calibri"/>
              </a:rPr>
              <a:t>. Виділяються авторитарний, демократичний та ліберальний стилі управління. Не можна чітко зазначити, який з наведених стилів краще. Який стиль керівництва застосовувати, повинен вирішувати сам керівник залежно від власних уподобань, виду діяльності та типу організації.</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2. Автократично-ліберальний континуум стилів керівництва за К. Левіним. </a:t>
            </a:r>
            <a:r>
              <a:rPr b="0" lang="uk-UA" sz="2800" spc="-1" strike="noStrike">
                <a:solidFill>
                  <a:srgbClr val="000000"/>
                </a:solidFill>
                <a:latin typeface="Times New Roman"/>
                <a:ea typeface="Calibri"/>
              </a:rPr>
              <a:t>У своєму дослідженні К. Левін виявив, що авторитарне керівництво домагалося виконання більшого обсягу робіт, ніж демократичне. Однак, з іншого боку, цьому стилю керівництва притаманні: низька мотивація, менша оригінальність, менша дружелюбність у групах, відсутність групового мислення, агресивність.</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88640" y="315720"/>
            <a:ext cx="11682360" cy="628956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3. Системи стилів керівництва за Р. Лайкертом. </a:t>
            </a:r>
            <a:r>
              <a:rPr b="0" lang="en-US" sz="2800" spc="-1" strike="noStrike">
                <a:solidFill>
                  <a:srgbClr val="000000"/>
                </a:solidFill>
                <a:latin typeface="Times New Roman"/>
                <a:ea typeface="Calibri"/>
              </a:rPr>
              <a:t>За результатами досліджень було виділено два стилі лідерства: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орієнтований на роботу – лідер керує підлеглими таким чином, щоб вони досягали своїх цілей, використовуючи для впливу на поведінку та результативність такі специфічні процедури: примушення, винагорода, законна влад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4. Двовимірна трактовка стилів лідерства</a:t>
            </a:r>
            <a:r>
              <a:rPr b="0" lang="uk-UA" sz="2800" spc="-1" strike="noStrike">
                <a:solidFill>
                  <a:srgbClr val="000000"/>
                </a:solidFill>
                <a:latin typeface="Times New Roman"/>
                <a:ea typeface="Calibri"/>
              </a:rPr>
              <a:t>. Група вчених університету Огайо розробила систему, згідно з якою поведінка керівника класифікується за двома параметрами: </a:t>
            </a:r>
            <a:r>
              <a:rPr b="1" i="1" lang="en-US" sz="2800" spc="-1" strike="noStrike">
                <a:solidFill>
                  <a:srgbClr val="000000"/>
                </a:solidFill>
                <a:latin typeface="Times New Roman"/>
                <a:ea typeface="Calibri"/>
              </a:rPr>
              <a:t>структура</a:t>
            </a:r>
            <a:r>
              <a:rPr b="0" i="1"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 така поведінка, коли керівник планує й організовує діяльність групи та свої взаємовідносини з не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50560"/>
            <a:ext cx="10515600" cy="430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Рекомендована література</a:t>
            </a:r>
            <a:endParaRPr b="0" lang="en-US" sz="2400" spc="-1" strike="noStrike">
              <a:solidFill>
                <a:srgbClr val="000000"/>
              </a:solidFill>
              <a:latin typeface="Calibri Light"/>
            </a:endParaRPr>
          </a:p>
        </p:txBody>
      </p:sp>
      <p:sp>
        <p:nvSpPr>
          <p:cNvPr id="44" name=""/>
          <p:cNvSpPr txBox="1"/>
          <p:nvPr/>
        </p:nvSpPr>
        <p:spPr>
          <a:xfrm>
            <a:off x="220320" y="680760"/>
            <a:ext cx="11807640" cy="59259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Бралатан, В. П.  Професійна етика : навчальний посібник рекомендовано МОН України для студ. вищих навч.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 Центр учбової літератури, 2011. 252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а : навчальний посібник рекомендовано МОН України</a:t>
            </a:r>
            <a:r>
              <a:rPr b="0" lang="ru-RU"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 Центр учбової літератури, 2013. 300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а. Vozniuk N.M. Ethics : навчальний посібник для студентів вищих навчальних закладів рекоменд. МОНУ.  Київ: Центр учбової літератури, 2008.  212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о-педагогічні основи формування особистості : Навч. посіб. для студ. Вузів</a:t>
            </a:r>
            <a:r>
              <a:rPr b="0" lang="en-US"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Центр навчальної літератури, 2005. 196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Гусарєв, С. Д.  Юридична деонтологія (основи юридичної діяльності). навч. посіб. рек. МОНУ.  3-тє вид., перероб. і доп.  Київ: Знання, 2008.  496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Ліщинська-Милян, О. І.  Прикладна етика : навч. посіб. для студ. вищ. навч. закл. рек. МОНУ. Львів: ЛНУ ім. І.Франка, 2010. 236 с.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16080" y="315720"/>
            <a:ext cx="11555280" cy="627372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иділяють такі елементи поведінки керівника: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поділяє виробничі ролі між підлеглими;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писує завдання і пояснює вимоги до їх виконання;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ланує і складає графіки робіт;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робляє підходи до виконання робіт;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ередає свою турботу щодо виконання завдання;</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увага до підлеглих</a:t>
            </a:r>
            <a:r>
              <a:rPr b="0" i="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 така поведінка, яка впливає на людей, апелюючи до потреб більш високого рівня, будуючи взаємовідносини на основі довіри, поваги і контакту між керівником та підлеглим.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иділяють такі елементи поведінки керівника: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бере участь у двосторонньому </a:t>
            </a:r>
            <a:r>
              <a:rPr b="0" lang="ru-RU" sz="2600" spc="-1" strike="noStrike">
                <a:solidFill>
                  <a:srgbClr val="000000"/>
                </a:solidFill>
                <a:latin typeface="Times New Roman"/>
                <a:ea typeface="Calibri"/>
              </a:rPr>
              <a:t>с</a:t>
            </a:r>
            <a:r>
              <a:rPr b="0" lang="en-US" sz="2600" spc="-1" strike="noStrike">
                <a:solidFill>
                  <a:srgbClr val="000000"/>
                </a:solidFill>
                <a:latin typeface="Times New Roman"/>
                <a:ea typeface="Calibri"/>
              </a:rPr>
              <a:t>піклуванні;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опускає участь підлеглих у прийнятті рішень;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пілкується у схвальній і доброзичливій манер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89000" y="189000"/>
            <a:ext cx="11809440" cy="63230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uk-UA" sz="2400" spc="-1" strike="noStrike">
                <a:solidFill>
                  <a:srgbClr val="000000"/>
                </a:solidFill>
                <a:latin typeface="Times New Roman"/>
                <a:ea typeface="Calibri"/>
              </a:rPr>
              <a:t>Континуум лідерської поведінки Танненбаума – Шмідта</a:t>
            </a:r>
            <a:r>
              <a:rPr b="0" lang="uk-UA" sz="2400" spc="-1" strike="noStrike">
                <a:solidFill>
                  <a:srgbClr val="000000"/>
                </a:solidFill>
                <a:latin typeface="Times New Roman"/>
                <a:ea typeface="Calibri"/>
              </a:rPr>
              <a:t>, згідно з яким лідер обирає один із семи можливих зразків поведінки залежно від виду впливу на відношення лідерства трьох факторів: самого лідера, його послідовників та ситуації, що склалася. </a:t>
            </a:r>
            <a:endParaRPr b="0" lang="en-US" sz="24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3. </a:t>
            </a:r>
            <a:r>
              <a:rPr b="1" lang="uk-UA" sz="2400" spc="-1" strike="noStrike">
                <a:solidFill>
                  <a:srgbClr val="000000"/>
                </a:solidFill>
                <a:latin typeface="Times New Roman"/>
                <a:ea typeface="Calibri"/>
              </a:rPr>
              <a:t>Теорія життєвого циклу Херсі та Бланшара</a:t>
            </a:r>
            <a:r>
              <a:rPr b="0" lang="uk-UA" sz="2400" spc="-1" strike="noStrike">
                <a:solidFill>
                  <a:srgbClr val="000000"/>
                </a:solidFill>
                <a:latin typeface="Times New Roman"/>
                <a:ea typeface="Calibri"/>
              </a:rPr>
              <a:t>. Поль Херсі та Кен Бланшар розробили ситуаційну теорії лідерства та назвали її теорією життєвого циклу, згідно з якою найбільш ефективні стилі лідерства залежать від «зрілості» виконавців.</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4.Модель лідерства «шлях – мета» Хауза та Мітчелла</a:t>
            </a:r>
            <a:r>
              <a:rPr b="0" lang="uk-UA" sz="2400" spc="-1" strike="noStrike">
                <a:solidFill>
                  <a:srgbClr val="000000"/>
                </a:solidFill>
                <a:latin typeface="Times New Roman"/>
                <a:ea typeface="Calibri"/>
              </a:rPr>
              <a:t>, згідно з якою працівники задоволені та продуктивні тоді, коли є жорсткий зв’язок між їх зусиллями й результатами роботи, а також між результатами роботи та винагородженням. Модель констатує, що ефективний лідер – це той, хто допомагає підлеглим іти шляхом, який веде до бажаної мети.</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5.</a:t>
            </a:r>
            <a:r>
              <a:rPr b="1" lang="uk-UA" sz="2400" spc="-1" strike="noStrike">
                <a:solidFill>
                  <a:srgbClr val="000000"/>
                </a:solidFill>
                <a:latin typeface="Times New Roman"/>
                <a:ea typeface="Calibri"/>
              </a:rPr>
              <a:t>Ситуаційна модель прийняття рішень Врума – Йеттона – Яго</a:t>
            </a:r>
            <a:r>
              <a:rPr b="0" lang="uk-UA" sz="2400" spc="-1" strike="noStrike">
                <a:solidFill>
                  <a:srgbClr val="000000"/>
                </a:solidFill>
                <a:latin typeface="Times New Roman"/>
                <a:ea typeface="Calibri"/>
              </a:rPr>
              <a:t>. Головною ідеєю моделі є те, що ступінь чи рівень залучення підлеглих  до участі у прийнятті рішень залежить від характеристики ситуацій. Згідно з моделлю не існує жодного єдиного способу прийняття рішень, який придатний для всіх ситуа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88640" y="268200"/>
            <a:ext cx="11761560" cy="6384960"/>
          </a:xfrm>
          <a:prstGeom prst="rect">
            <a:avLst/>
          </a:prstGeom>
          <a:noFill/>
          <a:ln w="0">
            <a:noFill/>
          </a:ln>
        </p:spPr>
        <p:txBody>
          <a:bodyPr anchor="t">
            <a:normAutofit/>
          </a:bodyPr>
          <a:p>
            <a:pPr marL="196920" indent="45720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Arial"/>
              </a:rPr>
              <a:t>На сьогодні існує безліч так званих «нових» концепцій лідерства, які поєднують в собі різні підходи до лідерства. Необхідно зупинитись більш детально на деяких із них:</a:t>
            </a:r>
            <a:endParaRPr b="0" lang="en-US" sz="2400" spc="-1" strike="noStrike">
              <a:solidFill>
                <a:srgbClr val="000000"/>
              </a:solidFill>
              <a:latin typeface="Calibri"/>
            </a:endParaRPr>
          </a:p>
          <a:p>
            <a:pPr marL="19692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Arial"/>
              </a:rPr>
              <a:t>1. Концепція атрибутивного лідерства</a:t>
            </a:r>
            <a:r>
              <a:rPr b="0" lang="uk-UA" sz="2400" spc="-1" strike="noStrike">
                <a:solidFill>
                  <a:srgbClr val="000000"/>
                </a:solidFill>
                <a:latin typeface="Times New Roman"/>
                <a:ea typeface="Arial"/>
              </a:rPr>
              <a:t>. Ідея цієї концепції полягає в тому, що атрибутивні «перешкоди» (приписування суб'єктивних причин поганої роботи підлеглого й недостовірна інформація про нього, наприклад: лінь, низька відповідальність, слабкі здібності) часто спотворюють сприйняття керівника і змушують його бути непослідовним у своїх діях щодо підлеглого. </a:t>
            </a:r>
            <a:endParaRPr b="0" lang="en-US" sz="2400" spc="-1" strike="noStrike">
              <a:solidFill>
                <a:srgbClr val="000000"/>
              </a:solidFill>
              <a:latin typeface="Calibri"/>
            </a:endParaRPr>
          </a:p>
          <a:p>
            <a:pPr marL="19692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a:rPr>
              <a:t>2</a:t>
            </a:r>
            <a:r>
              <a:rPr b="0" lang="uk-UA" sz="2400" spc="-1" strike="noStrike">
                <a:solidFill>
                  <a:srgbClr val="000000"/>
                </a:solidFill>
                <a:latin typeface="Times New Roman"/>
                <a:ea typeface="Arial"/>
              </a:rPr>
              <a:t>. </a:t>
            </a:r>
            <a:r>
              <a:rPr b="1" lang="uk-UA" sz="2400" spc="-1" strike="noStrike">
                <a:solidFill>
                  <a:srgbClr val="000000"/>
                </a:solidFill>
                <a:latin typeface="Times New Roman"/>
                <a:ea typeface="Arial"/>
              </a:rPr>
              <a:t>Концепція харизматичного лідерства</a:t>
            </a:r>
            <a:r>
              <a:rPr b="0" lang="uk-UA" sz="2400" spc="-1" strike="noStrike">
                <a:solidFill>
                  <a:srgbClr val="000000"/>
                </a:solidFill>
                <a:latin typeface="Times New Roman"/>
                <a:ea typeface="Arial"/>
              </a:rPr>
              <a:t>. Харизматичний лідер – лідер, який у силу своїх лідерських якостей здатний здійснювати глибокий вплив на послідовників. Харизматичний вплив – це вплив, заснований не на логіці в діях, а на особистих якостях лідера: зовнішній й внутрішній привабливості, іміджі, манері й стилі поведінки (мова, жести, пози) і т. д. Харизма забезпечує можливість лідерові вести за собою людей, є джерелом особистої влади над підлеглими. </a:t>
            </a:r>
            <a:endParaRPr b="0" lang="en-US" sz="2400" spc="-1" strike="noStrike">
              <a:solidFill>
                <a:srgbClr val="000000"/>
              </a:solidFill>
              <a:latin typeface="Calibri"/>
            </a:endParaRPr>
          </a:p>
          <a:p>
            <a:pPr marL="196920" indent="4572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82760"/>
            <a:ext cx="10515600" cy="3967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1. Сутність понять « </a:t>
            </a:r>
            <a:r>
              <a:rPr b="1" lang="uk-UA" sz="2500" spc="-1" strike="noStrike">
                <a:solidFill>
                  <a:srgbClr val="000000"/>
                </a:solidFill>
                <a:latin typeface="Times New Roman"/>
                <a:ea typeface="Calibri"/>
              </a:rPr>
              <a:t>Керівництво</a:t>
            </a:r>
            <a:r>
              <a:rPr b="1" lang="en-US" sz="2900" spc="-1" strike="noStrike">
                <a:solidFill>
                  <a:srgbClr val="000000"/>
                </a:solidFill>
                <a:latin typeface="Times New Roman"/>
                <a:ea typeface="Times New Roman"/>
              </a:rPr>
              <a:t>» та</a:t>
            </a:r>
            <a:r>
              <a:rPr b="1" lang="uk-UA" sz="2500" spc="-1" strike="noStrike">
                <a:solidFill>
                  <a:srgbClr val="000000"/>
                </a:solidFill>
                <a:latin typeface="Times New Roman"/>
                <a:ea typeface="Calibri"/>
              </a:rPr>
              <a:t> </a:t>
            </a:r>
            <a:r>
              <a:rPr b="1" lang="en-US" sz="2900" spc="-1" strike="noStrike">
                <a:solidFill>
                  <a:srgbClr val="000000"/>
                </a:solidFill>
                <a:latin typeface="Times New Roman"/>
                <a:ea typeface="Times New Roman"/>
              </a:rPr>
              <a:t>«лідерство». </a:t>
            </a:r>
            <a:br>
              <a:rPr sz="2900"/>
            </a:br>
            <a:endParaRPr b="0" lang="en-US" sz="2900" spc="-1" strike="noStrike">
              <a:solidFill>
                <a:srgbClr val="000000"/>
              </a:solidFill>
              <a:latin typeface="Calibri Light"/>
            </a:endParaRPr>
          </a:p>
        </p:txBody>
      </p:sp>
      <p:sp>
        <p:nvSpPr>
          <p:cNvPr id="46" name=""/>
          <p:cNvSpPr txBox="1"/>
          <p:nvPr/>
        </p:nvSpPr>
        <p:spPr>
          <a:xfrm>
            <a:off x="220680" y="630360"/>
            <a:ext cx="11839680" cy="59752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уже важливими поняттями в менеджменті є «керівництво», «лідерство». Оскільки організаційна поведінка тісно пов’язана з менеджментом організації, то необхідно більш детально зупинитись на цих поняттях.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Керівництво </a:t>
            </a:r>
            <a:r>
              <a:rPr b="0" lang="en-US" sz="2600" spc="-1" strike="noStrike">
                <a:solidFill>
                  <a:srgbClr val="000000"/>
                </a:solidFill>
                <a:latin typeface="Times New Roman"/>
                <a:ea typeface="Calibri"/>
              </a:rPr>
              <a:t>– це цілеспрямований вплив осіб, наділених функціями й компетенцією керівників, на колективи, тобто взаємодія керівників і виконавців</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роцес керівництва колективом можна поділити на три стадії:</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визначення цілей, які мають бути досягнуті за певний відрізок часу;</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інформування колективу про завдання, методи їх виконання, ресурси тощо;</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роведення аналітичної роботи з метою вивчення резервів підвищення ефективності трудової діяльності колективу.</a:t>
            </a:r>
            <a:r>
              <a:rPr b="1" lang="en-US" sz="2600" spc="-1" strike="noStrike" u="sng">
                <a:solidFill>
                  <a:srgbClr val="000000"/>
                </a:solidFill>
                <a:uFillTx/>
                <a:latin typeface="Times New Roman"/>
                <a:ea typeface="Calibri"/>
              </a:rPr>
              <a:t>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Calibri"/>
              </a:rPr>
              <a:t>Таким чином,</a:t>
            </a:r>
            <a:r>
              <a:rPr b="0" lang="en-US" sz="2600" spc="-1" strike="noStrike">
                <a:solidFill>
                  <a:srgbClr val="000000"/>
                </a:solidFill>
                <a:latin typeface="Times New Roman"/>
                <a:ea typeface="Calibri"/>
              </a:rPr>
              <a:t> враховуючи зміст основних стадій керівництва, можна дійти висновку, що керівництво – це процес неперервного обміну інформацією між його суб'єктом та об'єктом з метою впливу один на одного.</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6160" y="361800"/>
            <a:ext cx="11775960" cy="6323040"/>
          </a:xfrm>
          <a:prstGeom prst="rect">
            <a:avLst/>
          </a:prstGeom>
          <a:noFill/>
          <a:ln w="0">
            <a:noFill/>
          </a:ln>
        </p:spPr>
        <p:txBody>
          <a:bodyPr anchor="t">
            <a:normAutofit/>
          </a:bodyPr>
          <a:p>
            <a:pPr algn="ctr">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До основних функцій керівництва відносяться:</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1. Адміністративно-організаційні функції </a:t>
            </a:r>
            <a:r>
              <a:rPr b="0" lang="en-US" sz="2400" spc="-1" strike="noStrike">
                <a:solidFill>
                  <a:srgbClr val="000000"/>
                </a:solidFill>
                <a:latin typeface="Times New Roman"/>
                <a:ea typeface="Calibri"/>
              </a:rPr>
              <a:t>– координація індивідуальних дій членів колективу в єдину загальну силу; розподіл обов’язків між співробітниками; контроль за виконанням завдань і несення відповідальності за діяльність усіх співробітників.</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2. Стратегічні функції </a:t>
            </a:r>
            <a:r>
              <a:rPr b="0" lang="en-US" sz="2400" spc="-1" strike="noStrike">
                <a:solidFill>
                  <a:srgbClr val="000000"/>
                </a:solidFill>
                <a:latin typeface="Times New Roman"/>
                <a:ea typeface="Calibri"/>
              </a:rPr>
              <a:t>– постановка цілей, вибір методів їх досягнення, планування, прогнозування діяльності організації. </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3. Експертно-консультативні функції</a:t>
            </a:r>
            <a:r>
              <a:rPr b="0" lang="en-US" sz="2400" spc="-1" strike="noStrike">
                <a:solidFill>
                  <a:srgbClr val="000000"/>
                </a:solidFill>
                <a:latin typeface="Times New Roman"/>
                <a:ea typeface="Calibri"/>
              </a:rPr>
              <a:t>. Керівник повинен бути компетентною особою, джерелом достовірної інформації та найбільш кваліфікованим спеціалістом. </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4. Комунікативні функції</a:t>
            </a:r>
            <a:r>
              <a:rPr b="0" lang="en-US" sz="2400" spc="-1" strike="noStrike">
                <a:solidFill>
                  <a:srgbClr val="000000"/>
                </a:solidFill>
                <a:latin typeface="Times New Roman"/>
                <a:ea typeface="Calibri"/>
              </a:rPr>
              <a:t>. Керівник повинен бути основним джерелом важливої інформації та мати такі властивості, як комунікативність, вміння спілкуватись з людьми, доступність спілкування. </a:t>
            </a:r>
            <a:endParaRPr b="0" lang="en-US" sz="2400" spc="-1" strike="noStrike">
              <a:solidFill>
                <a:srgbClr val="000000"/>
              </a:solidFill>
              <a:latin typeface="Calibri"/>
            </a:endParaRPr>
          </a:p>
          <a:p>
            <a:pPr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5. Виховні функції</a:t>
            </a:r>
            <a:r>
              <a:rPr b="0" lang="en-US" sz="2400" spc="-1" strike="noStrike">
                <a:solidFill>
                  <a:srgbClr val="000000"/>
                </a:solidFill>
                <a:latin typeface="Times New Roman"/>
                <a:ea typeface="Calibri"/>
              </a:rPr>
              <a:t>. Керівник повинен виховувати своїх підлеглих власним прикладом свого ставлення до справи, професіональною компетентністю та навчанням. </a:t>
            </a:r>
            <a:endParaRPr b="0" lang="en-US" sz="2400" spc="-1" strike="noStrike">
              <a:solidFill>
                <a:srgbClr val="000000"/>
              </a:solidFill>
              <a:latin typeface="Calibri"/>
            </a:endParaRPr>
          </a:p>
          <a:p>
            <a:pPr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6. Представницькі функції </a:t>
            </a:r>
            <a:r>
              <a:rPr b="0" lang="en-US" sz="2400" spc="-1" strike="noStrike">
                <a:solidFill>
                  <a:srgbClr val="000000"/>
                </a:solidFill>
                <a:latin typeface="Times New Roman"/>
                <a:ea typeface="Calibri"/>
              </a:rPr>
              <a:t>– представлення організації у зовнішньому соціальному середовищі. Керівник повинен постійно пам’ятати, що він виражає честь, розум та волю всієї організації. </a:t>
            </a:r>
            <a:endParaRPr b="0" lang="en-US" sz="2400" spc="-1" strike="noStrike">
              <a:solidFill>
                <a:srgbClr val="000000"/>
              </a:solidFill>
              <a:latin typeface="Calibri"/>
            </a:endParaRPr>
          </a:p>
          <a:p>
            <a:pPr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36160"/>
            <a:ext cx="10515600" cy="55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2. Стилі управління. Типологія керівників</a:t>
            </a:r>
            <a:endParaRPr b="0" lang="en-US" sz="3200" spc="-1" strike="noStrike">
              <a:solidFill>
                <a:srgbClr val="000000"/>
              </a:solidFill>
              <a:latin typeface="Calibri Light"/>
            </a:endParaRPr>
          </a:p>
        </p:txBody>
      </p:sp>
      <p:sp>
        <p:nvSpPr>
          <p:cNvPr id="49" name=""/>
          <p:cNvSpPr txBox="1"/>
          <p:nvPr/>
        </p:nvSpPr>
        <p:spPr>
          <a:xfrm>
            <a:off x="156960" y="791640"/>
            <a:ext cx="11682360" cy="58294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ипологія керівництва.</a:t>
            </a:r>
            <a:r>
              <a:rPr b="0" lang="en-US" sz="2800" spc="-1" strike="noStrike">
                <a:solidFill>
                  <a:srgbClr val="000000"/>
                </a:solidFill>
                <a:latin typeface="Times New Roman"/>
                <a:ea typeface="Times New Roman"/>
              </a:rPr>
              <a:t> Кожен керівник відрізняється своєю індивідуальністю, тобто наявними у нього діловими, моральними, соціальними та психологічними якостями.</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днак всю різноманітність індивідуальних особливостей керівника можна звести до певних типів, користуючись такою класифікаційною ознакою, як відносини керівника з підлеглими. З цих позицій розрізняють </a:t>
            </a:r>
            <a:r>
              <a:rPr b="1" lang="en-US" sz="2800" spc="-1" strike="noStrike">
                <a:solidFill>
                  <a:srgbClr val="000000"/>
                </a:solidFill>
                <a:latin typeface="Times New Roman"/>
                <a:ea typeface="Times New Roman"/>
              </a:rPr>
              <a:t>три види керівників: автократичний, демократичний та ліберальний.</a:t>
            </a:r>
            <a:endParaRPr b="0" lang="en-US" sz="28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Автократичний тип</a:t>
            </a:r>
            <a:r>
              <a:rPr b="0" lang="en-US" sz="2800" spc="-1" strike="noStrike">
                <a:solidFill>
                  <a:srgbClr val="000000"/>
                </a:solidFill>
                <a:latin typeface="Times New Roman"/>
                <a:ea typeface="Times New Roman"/>
              </a:rPr>
              <a:t> керівника відрізняється схильністю до одноособового керівництва в гіпертрофованих формах, надмірною централізацією влади, особистим вирішенням абсолютної більшості питань, свідомим обмеженням контактів з підлегли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04480" y="236520"/>
            <a:ext cx="11714040" cy="635328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ерівник автократичного типу догматичний, прагне підпорядкувати весь колектив своїй волі, не виносить заперечень і не прислуховується до думки інших, часто втручається в роботу підлеглих і жорстко контролює їх дії, вимагає пунктуального виконання своїх вказівок. Наради проводить лише для дотримання формальності, оскільки рішення у нього підготовлені заздалегідь.</a:t>
            </a:r>
            <a:endParaRPr b="0" lang="en-US" sz="28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емократичний тип керівника</a:t>
            </a:r>
            <a:r>
              <a:rPr b="0" lang="en-US" sz="2800" spc="-1" strike="noStrike">
                <a:solidFill>
                  <a:srgbClr val="000000"/>
                </a:solidFill>
                <a:latin typeface="Times New Roman"/>
                <a:ea typeface="Times New Roman"/>
              </a:rPr>
              <a:t>, на відміну від автократа, прагне надання підлеглим самостійності відповідно до їх кваліфікації і функцій, які вони виконують, залучає їх до таких видів діяльності, як визначення цілей, оцінка роботи, підготовка та прийняття рішень, створює необхідні для виконання роботи передумови і справедливо оцінює зусилля, з повагою ставиться до людей і турбується про ни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7320" y="110880"/>
            <a:ext cx="11696760" cy="630540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ерівник демократичного типу вважає своїм обов'язком постійно і ґрунтовно, з повною відвертістю інформувати підлеглих про стан справ і перспективи розвитку колективу. При такій системі спілкування набагато легше мобілізувати підлеглих на реалізацію поставлених перед ними завдань, виховувати в них почуття справжніх господарів.</a:t>
            </a:r>
            <a:endParaRPr b="0" lang="en-US" sz="24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іберальний тип керівника</a:t>
            </a:r>
            <a:r>
              <a:rPr b="0" lang="en-US" sz="2400" spc="-1" strike="noStrike">
                <a:solidFill>
                  <a:srgbClr val="000000"/>
                </a:solidFill>
                <a:latin typeface="Times New Roman"/>
                <a:ea typeface="Times New Roman"/>
              </a:rPr>
              <a:t> відрізняється відсутністю розмаху в діяльності, безініціативністю і постійним очікуванням вказівок зверху, небажанням приймати на себе відповідальність за рішення і їх наслідки. Керівник-ліберал мало втручається у справи підлеглих і не виявляє достатньої активності, виступає в основному в ролі посередника у взаємовідносинах з іншими колективами. Як правило, він дуже обмежений, можливо, через свою невпевненість у власній компетентності, а отже, і в становищі, яке він займає в службовій ієрархії. Такий керівник несподіваний у діях, легко зазнає впливу оточуючих, схильний пасувати перед обставинами і миритися з ними, може без серйозних підстав скасувати раніш прийняте рішення.</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0320" y="236520"/>
            <a:ext cx="11698200" cy="6384960"/>
          </a:xfrm>
          <a:prstGeom prst="rect">
            <a:avLst/>
          </a:prstGeom>
          <a:noFill/>
          <a:ln w="0">
            <a:noFill/>
          </a:ln>
        </p:spPr>
        <p:txBody>
          <a:bodyPr anchor="t">
            <a:normAutofit/>
          </a:bodyPr>
          <a:p>
            <a:pPr marL="228600" algn="just">
              <a:lnSpc>
                <a:spcPct val="100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сі керівники різного гатунку, рангу та рівня, загалом, тяжіють до двох полярних способів поведінки чи впливу на підлеглих. Це знаходить відображення у відокремленні двох категорій керівників:</a:t>
            </a:r>
            <a:endParaRPr b="0" lang="en-US" sz="2600" spc="-1" strike="noStrike">
              <a:solidFill>
                <a:srgbClr val="000000"/>
              </a:solidFill>
              <a:latin typeface="Calibri"/>
            </a:endParaRPr>
          </a:p>
          <a:p>
            <a:pPr marL="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Кращі серед кращих за професійною ознакою.</a:t>
            </a:r>
            <a:r>
              <a:rPr b="0" lang="en-US" sz="2600" spc="-1" strike="noStrike">
                <a:solidFill>
                  <a:srgbClr val="000000"/>
                </a:solidFill>
                <a:latin typeface="Times New Roman"/>
                <a:ea typeface="Times New Roman"/>
              </a:rPr>
              <a:t> Як правило, їх шлях до успіху був тернистим, але вони знайшли у собі сили здолати всі перешкоди. Їм притаманні такі риси:</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навидять некомпетентність, миттєво звільняють працівників з посередніми та незадовільними професійними якостями, якщо таке стає очевидним;</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випадку необхідності, вважають за краще виконати складне завдання власними зусиллями, аніж довірити його особі, що може з ним не впоратися;</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мало уваги звертають на своє реноме дипломата, завжди називаючи речі своїми іменами;</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цінують у виконавців професіоналізм, ініціативу, власну думку (якщо вона краща за загальновизнану).</a:t>
            </a:r>
            <a:endParaRPr b="0" lang="en-US" sz="26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36160" y="268200"/>
            <a:ext cx="11666520" cy="641664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Типові політикани</a:t>
            </a:r>
            <a:r>
              <a:rPr b="0" lang="en-US" sz="2800" spc="-1" strike="noStrike">
                <a:solidFill>
                  <a:srgbClr val="000000"/>
                </a:solidFill>
                <a:latin typeface="Times New Roman"/>
                <a:ea typeface="Times New Roman"/>
              </a:rPr>
              <a:t> - імпозантні, представницькі, гонорові та сповнені власної гідності функціонери, що володіють посередніми професійними якостями та незначним практичним досвідом, але достатнім шармом і талантом налагодження міжособових стосунків, щоб зійти по службовій драбині до своєї теперішньої посади чи статусу. </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Цей тип керівників діє по-іншому:</a:t>
            </a:r>
            <a:endParaRPr b="0" lang="en-US" sz="2800" spc="-1" strike="noStrike">
              <a:solidFill>
                <a:srgbClr val="000000"/>
              </a:solidFill>
              <a:latin typeface="Calibri"/>
            </a:endParaRPr>
          </a:p>
          <a:p>
            <a:pPr marL="228600" indent="-228600" algn="just">
              <a:lnSpc>
                <a:spcPct val="107000"/>
              </a:lnSpc>
              <a:spcBef>
                <a:spcPts val="150"/>
              </a:spcBef>
              <a:spcAft>
                <a:spcPts val="751"/>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йголовніше завдання - не втратити власну репутацію, а тому, аби уникнути скандалу, можна використати недолугого працівника в іншій якості, де він, можливо, зможе себе виявити;</a:t>
            </a:r>
            <a:endParaRPr b="0" lang="en-US" sz="2800" spc="-1" strike="noStrike">
              <a:solidFill>
                <a:srgbClr val="000000"/>
              </a:solidFill>
              <a:latin typeface="Calibri"/>
            </a:endParaRPr>
          </a:p>
          <a:p>
            <a:pPr marL="228600" indent="-228600" algn="just">
              <a:lnSpc>
                <a:spcPct val="107000"/>
              </a:lnSpc>
              <a:spcBef>
                <a:spcPts val="150"/>
              </a:spcBef>
              <a:spcAft>
                <a:spcPts val="751"/>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сіма зусиллями підтримувати добрий мікроклімат в колективі, а відповідальність за недоліки в роботі перекладати на підлеглих та на "об'єктивні причини", які завжди знайдутьс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07T12:11:35Z</dcterms:created>
  <dc:creator>Karim</dc:creator>
  <dc:description/>
  <dc:language>en-US</dc:language>
  <cp:lastModifiedBy>Karim</cp:lastModifiedBy>
  <dcterms:modified xsi:type="dcterms:W3CDTF">2020-03-08T12:22:47Z</dcterms:modified>
  <cp:revision>9</cp:revision>
  <dc:subject/>
  <dc:title>Лекція №: 7 Тема: Керівництво і лідерство</dc:title>
</cp:coreProperties>
</file>