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808AC-0EE1-4F89-B7C2-616C42BC5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FF827-7D01-45A1-9F0B-06074DAC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2934E-6C3A-4B4C-B517-EDB2AF636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2AE3A-C367-421D-8817-7FF8A7F70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6F91-C4C0-4068-A749-90A101B4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7C6C-5A59-4DDD-B396-1E2F9799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8569-D843-4EBF-A192-CA77600F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C32BC-B041-4D48-9FD2-C04F91988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64FD7-A625-4284-A7E1-74770454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4E53A-D14C-4AB8-B2C1-08340758E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04CE-536F-469F-9ADD-AF2A3897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07CA-B730-4A34-BE0E-49A4C26A3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6D63-41F6-4A1C-A822-02E2C91333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65360" y="423720"/>
            <a:ext cx="9144000" cy="1176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Лекція №: 8</a:t>
            </a:r>
            <a:br>
              <a:rPr sz="2500"/>
            </a:br>
            <a:r>
              <a:rPr b="1" lang="ru-RU" sz="2500" spc="-1" strike="noStrike">
                <a:solidFill>
                  <a:srgbClr val="000000"/>
                </a:solidFill>
                <a:latin typeface="Times New Roman"/>
                <a:ea typeface="Times New Roman"/>
              </a:rPr>
              <a:t>Тема. Управління конфліктами і стресами</a:t>
            </a:r>
            <a:br>
              <a:rPr sz="4900"/>
            </a:br>
            <a:endParaRPr b="0" lang="en-US" sz="2500" spc="-1" strike="noStrike">
              <a:solidFill>
                <a:srgbClr val="000000"/>
              </a:solidFill>
              <a:latin typeface="Calibri Light"/>
            </a:endParaRPr>
          </a:p>
        </p:txBody>
      </p:sp>
      <p:sp>
        <p:nvSpPr>
          <p:cNvPr id="42" name="PlaceHolder 2"/>
          <p:cNvSpPr>
            <a:spLocks noGrp="1"/>
          </p:cNvSpPr>
          <p:nvPr>
            <p:ph type="subTitle"/>
          </p:nvPr>
        </p:nvSpPr>
        <p:spPr>
          <a:xfrm>
            <a:off x="582120" y="1055160"/>
            <a:ext cx="11415960" cy="5597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н лекції:</a:t>
            </a:r>
            <a:endParaRPr b="0" lang="en-US" sz="24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Сутність конфлікту, його моделі.</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Шляхи управління конфліктною ситуацією в орагнізації</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3. Сутність і управління стресами. </a:t>
            </a:r>
            <a:endParaRPr b="0" lang="en-US" sz="28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4. Діяльність керівника для управління конфліктами.</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Шляхи управління конфліктною ситуацією в орагнізації</a:t>
            </a:r>
            <a:br>
              <a:rPr sz="2900"/>
            </a:br>
            <a:endParaRPr b="0" lang="en-US" sz="2800" spc="-1" strike="noStrike">
              <a:solidFill>
                <a:srgbClr val="000000"/>
              </a:solidFill>
              <a:latin typeface="Calibri Light"/>
            </a:endParaRPr>
          </a:p>
        </p:txBody>
      </p:sp>
      <p:sp>
        <p:nvSpPr>
          <p:cNvPr id="55" name=""/>
          <p:cNvSpPr txBox="1"/>
          <p:nvPr/>
        </p:nvSpPr>
        <p:spPr>
          <a:xfrm>
            <a:off x="188640" y="725400"/>
            <a:ext cx="11698200" cy="586440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Розглянемо </a:t>
            </a:r>
            <a:r>
              <a:rPr b="0" lang="ru-RU" sz="2600" spc="-1" strike="noStrike">
                <a:solidFill>
                  <a:srgbClr val="000000"/>
                </a:solidFill>
                <a:latin typeface="Times New Roman"/>
                <a:ea typeface="Times New Roman"/>
              </a:rPr>
              <a:t>стратегію ефективного втручання, здійснюваного менеджером на підприємстві. Втручання визначається декількома постулатами, тобто  основними умовами врегулювання конфлікту. Ці постулати будемо розглядати як своєрідні пункти, де повинні визначатися і прийматися істотні рішення - про доцільність втручань, їхніх видах.</a:t>
            </a:r>
            <a:endParaRPr b="0" lang="en-US" sz="26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1.  </a:t>
            </a:r>
            <a:r>
              <a:rPr b="1" i="1" lang="ru-RU" sz="2600" spc="-1" strike="noStrike">
                <a:solidFill>
                  <a:srgbClr val="000000"/>
                </a:solidFill>
                <a:latin typeface="Times New Roman"/>
                <a:ea typeface="Times New Roman"/>
              </a:rPr>
              <a:t>Завоювання авторитету в сторін</a:t>
            </a:r>
            <a:r>
              <a:rPr b="0" lang="ru-RU" sz="2600" spc="-1" strike="noStrike">
                <a:solidFill>
                  <a:srgbClr val="000000"/>
                </a:solidFill>
                <a:latin typeface="Times New Roman"/>
                <a:ea typeface="Times New Roman"/>
              </a:rPr>
              <a:t>. Сторони повинні прагнути до позитивного вирішення конфлікту. Тому для менеджера дуже важливо установити гарні взаємини з обома сторонами, не віддаючи переваги ні одній з них оскільки в такому випадку його діяльність не буде ефективною. Якщо одна зі сторін не бачить ніякого змісту у врегулюванні конфлікту, то доцільність подальшої діяльності менеджеравикликає сумнів.</a:t>
            </a:r>
            <a:endParaRPr b="0" lang="en-US" sz="26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2. </a:t>
            </a:r>
            <a:r>
              <a:rPr b="1" i="1" lang="ru-RU" sz="2600" spc="-1" strike="noStrike">
                <a:solidFill>
                  <a:srgbClr val="000000"/>
                </a:solidFill>
                <a:latin typeface="Times New Roman"/>
                <a:ea typeface="Times New Roman"/>
              </a:rPr>
              <a:t>Визначення взаємин сторін</a:t>
            </a:r>
            <a:r>
              <a:rPr b="0" lang="ru-RU" sz="2600" spc="-1" strike="noStrike">
                <a:solidFill>
                  <a:srgbClr val="000000"/>
                </a:solidFill>
                <a:latin typeface="Times New Roman"/>
                <a:ea typeface="Times New Roman"/>
              </a:rPr>
              <a:t>. Менеджер повиннен ясно уявляти собі структуру сторін - учасників конфлікту. Неясне лідерство, внутрішня силова боротьба, гостре суперництво й інші фактори можуть стати значною перешкодою до вирішення конфлікту. </a:t>
            </a:r>
            <a:endParaRPr b="0" lang="en-US" sz="26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41120" y="268200"/>
            <a:ext cx="11714400" cy="635328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a:t>
            </a:r>
            <a:r>
              <a:rPr b="1" i="1" lang="ru-RU" sz="2800" spc="-1" strike="noStrike">
                <a:solidFill>
                  <a:srgbClr val="000000"/>
                </a:solidFill>
                <a:latin typeface="Times New Roman"/>
                <a:ea typeface="Times New Roman"/>
              </a:rPr>
              <a:t>Підтримка рівноваги сторін</a:t>
            </a:r>
            <a:r>
              <a:rPr b="1" lang="ru-RU"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Без визначеної симетрії у відносинах між сторонами менеджер не зможе виконувати свої обов'язки. Власне запрошення третьої сторони може з'явитися свідченням наявності між сторонами визначеної рівноваги і бажання сторін вирішити протиріччя. Менеджер повиннен виявляти активність, насамперед, при наявності безвихідних ситуацій, у яких сторони більш-менш відповідають один одному. Найважливішою особливістю взаємодії сторін у цих умовах є прагнення до збереження силового балансу.</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 </a:t>
            </a:r>
            <a:r>
              <a:rPr b="1" i="1" lang="ru-RU" sz="2800" spc="-1" strike="noStrike">
                <a:solidFill>
                  <a:srgbClr val="000000"/>
                </a:solidFill>
                <a:latin typeface="Times New Roman"/>
                <a:ea typeface="Times New Roman"/>
              </a:rPr>
              <a:t>Підтримка "оптимального" рівня інтенсивного конфлікту</a:t>
            </a:r>
            <a:r>
              <a:rPr b="0" lang="ru-RU" sz="2800" spc="-1" strike="noStrike">
                <a:solidFill>
                  <a:srgbClr val="000000"/>
                </a:solidFill>
                <a:latin typeface="Times New Roman"/>
                <a:ea typeface="Times New Roman"/>
              </a:rPr>
              <a:t>. Висока інтенсивність конфлікту сильно ускладнює управління ним і навіть у ряді випадків робить його неможливим. Таке положення обумовлюється тим, що жодна зі сторін  не виявить готовності спілкування з іншою стороною. Часті випадки, коли обоє учасника конфлікту не бачать великого змісту в діяльності третьої сторони.</a:t>
            </a:r>
            <a:endParaRPr b="0" lang="en-US" sz="2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84040"/>
            <a:ext cx="11823480" cy="627408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5. </a:t>
            </a:r>
            <a:r>
              <a:rPr b="1" i="1" lang="ru-RU" sz="2200" spc="-1" strike="noStrike">
                <a:solidFill>
                  <a:srgbClr val="000000"/>
                </a:solidFill>
                <a:latin typeface="Times New Roman"/>
                <a:ea typeface="Times New Roman"/>
              </a:rPr>
              <a:t>Диференціація втручання по 4 видам конфлікту</a:t>
            </a:r>
            <a:r>
              <a:rPr b="1" lang="ru-RU"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 Якщо на попередніх етапах розглядалися питання управління динамікою конфлікту, то тут визначальним питанням є якісна сторона розбіжностей, природа їхнього виникнення. Конфліктні ситуації звичайно пов'язані з одним з наступних видів відносин, що виникають у процесі спільної діяльності груп: діловими ("інструментальними") відносинами; соціоемоційними відносинами; відносинами при веденні переговорів про розподіл ресурсів; силовими відносинами. Іноді виникнення конфлікту пов'язане з усіма зазначеними типами відносин, у такому випадку вони повинні розглядатися як різні аспекти одного конфлікту</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6. </a:t>
            </a:r>
            <a:r>
              <a:rPr b="1" i="1" lang="ru-RU" sz="2200" spc="-1" strike="noStrike">
                <a:solidFill>
                  <a:srgbClr val="000000"/>
                </a:solidFill>
                <a:latin typeface="Times New Roman"/>
                <a:ea typeface="Times New Roman"/>
              </a:rPr>
              <a:t>Деталізація конфлікту, конфронтація, синтез</a:t>
            </a:r>
            <a:r>
              <a:rPr b="0" lang="ru-RU" sz="2200" spc="-1" strike="noStrike">
                <a:solidFill>
                  <a:srgbClr val="000000"/>
                </a:solidFill>
                <a:latin typeface="Times New Roman"/>
                <a:ea typeface="Times New Roman"/>
              </a:rPr>
              <a:t>. Практика показує, що ефективною діяльність менеджера буває лише у випадках, коли розгляд предметів суперечки і конфронтації сторін відбуваються поетапно. Такий підхід приводить до синтезу думок, тобто  до вироблення визначеного рішення, розуміння, і досягненню компромісу. </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7. </a:t>
            </a:r>
            <a:r>
              <a:rPr b="1" i="1" lang="ru-RU" sz="2200" spc="-1" strike="noStrike">
                <a:solidFill>
                  <a:srgbClr val="000000"/>
                </a:solidFill>
                <a:latin typeface="Times New Roman"/>
                <a:ea typeface="Times New Roman"/>
              </a:rPr>
              <a:t>Визначення процедур досягнення компромісу для кожної сторони, сприяння постійному прогресу</a:t>
            </a:r>
            <a:r>
              <a:rPr b="1" lang="ru-RU"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 Важлива задача менеджера - чітке і рішуче визначення і напрацювання процедур, які сторони повинні виконувати, їхнє роз'яснення й обґрунтування. Чіткість у визначенні ролей і алгоритмів роботи сторін створює спокійну обстановку, необхідну для продовження роботи, у той час як невизначеність, нерішучість і двозначність викликають сум'яття недовіри.</a:t>
            </a:r>
            <a:endParaRPr b="0" lang="en-US" sz="22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98080"/>
            <a:ext cx="10515600" cy="382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Міжособистісні стилі вирішення конфліктів</a:t>
            </a:r>
            <a:endParaRPr b="0" lang="en-US" sz="2200" spc="-1" strike="noStrike">
              <a:solidFill>
                <a:srgbClr val="000000"/>
              </a:solidFill>
              <a:latin typeface="Calibri Light"/>
            </a:endParaRPr>
          </a:p>
        </p:txBody>
      </p:sp>
      <p:sp>
        <p:nvSpPr>
          <p:cNvPr id="59" name=""/>
          <p:cNvSpPr txBox="1"/>
          <p:nvPr/>
        </p:nvSpPr>
        <p:spPr>
          <a:xfrm>
            <a:off x="220320" y="681120"/>
            <a:ext cx="11745720" cy="605160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домі п'ять основних міжособистісних стилів вирішення конфліктів:</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1.</a:t>
            </a:r>
            <a:r>
              <a:rPr b="1" i="1" lang="ru-RU" sz="2000" spc="-1" strike="noStrike" u="sng">
                <a:solidFill>
                  <a:srgbClr val="000000"/>
                </a:solidFill>
                <a:uFillTx/>
                <a:latin typeface="Times New Roman"/>
                <a:ea typeface="Times New Roman"/>
              </a:rPr>
              <a:t>Відхилення</a:t>
            </a:r>
            <a:r>
              <a:rPr b="0" lang="ru-RU" sz="2000" spc="-1" strike="noStrike">
                <a:solidFill>
                  <a:srgbClr val="000000"/>
                </a:solidFill>
                <a:latin typeface="Times New Roman"/>
                <a:ea typeface="Times New Roman"/>
              </a:rPr>
              <a:t>. Цей стиль характеризується тим, що людина намагається піти від конфлікту. Один зі способів вирішення конфлікту - це не попадати в ситуації, що провокують виникнення протиріч, не вступати в обговорення питань, чреватих розбіжностями.</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иль уникання</a:t>
            </a:r>
            <a:r>
              <a:rPr b="0" lang="ru-RU" sz="2000" spc="-1" strike="noStrike">
                <a:solidFill>
                  <a:srgbClr val="000000"/>
                </a:solidFill>
                <a:latin typeface="Times New Roman"/>
                <a:ea typeface="Times New Roman"/>
              </a:rPr>
              <a:t> реалізується звичайно, якщо ви не співробітничаєте ні з ким для вироблення рішення і не хочете витрачати час і сили на його вирішення.  Цей стиль рекомендується також у тих випадках, коли одна зі сторін має більшу владу або почуває, що неправа, або вважає, що немає серйозних підстав для продовження контактів.</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иль уникання можна запропонувати до застосування в наступних ситуаціях:</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жерело розбіжностей тривіальне і несуттєве для вас у порівнянні з іншими більш важливими задачами, а тому ви вважаєте, що не варто витрачати на нього сили;</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наєте, що не можете або навіть не хочете вирішити питання на свою користь;</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вас мало влади для вирішення проблеми бажаним для вас способом;</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хочете виграти час, щоб вивчити ситуацію й одержати додаткову інформацію,  перш ніж прийняти рішення;</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магатися вирішити проблему негайно небезпечно, тому що розкриття і відкрите обговорення конфлікту можуть тільки погіршити ситуацію;</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ідлеглі можуть самі успішно врегулювати конфлікт.</a:t>
            </a:r>
            <a:endParaRPr b="0" lang="en-US" sz="20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67840" y="268200"/>
            <a:ext cx="11619000" cy="633744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Times New Roman"/>
                <a:ea typeface="Times New Roman"/>
              </a:rPr>
              <a:t>2. </a:t>
            </a:r>
            <a:r>
              <a:rPr b="1" i="1" lang="ru-RU" sz="2200" spc="-1" strike="noStrike" u="sng">
                <a:solidFill>
                  <a:srgbClr val="000000"/>
                </a:solidFill>
                <a:uFillTx/>
                <a:latin typeface="Times New Roman"/>
                <a:ea typeface="Times New Roman"/>
              </a:rPr>
              <a:t>Згладжування</a:t>
            </a:r>
            <a:r>
              <a:rPr b="1" lang="ru-RU" sz="2200" spc="-1" strike="noStrike" u="sng">
                <a:solidFill>
                  <a:srgbClr val="000000"/>
                </a:solidFill>
                <a:uFillTx/>
                <a:latin typeface="Times New Roman"/>
                <a:ea typeface="Times New Roman"/>
              </a:rPr>
              <a:t>.</a:t>
            </a:r>
            <a:r>
              <a:rPr b="0" lang="ru-RU" sz="2200" spc="-1" strike="noStrike">
                <a:solidFill>
                  <a:srgbClr val="000000"/>
                </a:solidFill>
                <a:latin typeface="Times New Roman"/>
                <a:ea typeface="Times New Roman"/>
              </a:rPr>
              <a:t> Цей стиль характеризується поведінкою, яка диктується переконанням, що не варто сердитися, тому що "ми усі - одна щаслива команда, і не слід розгойдувати човен". "Згладжуватель" намагається не випустити назовні ознаки конфлікту, апелюючи до потреби в солідарності. На жаль, у цьому випадку, зовсім забувають про проблему, що лежить в основі конфлікту. Можна погасити прагнення до конфлікту в іншої людини повторюючи: "Це не має великого значення". У результаті може наступити мир і гармонія але проблема залишиться. Більше не існує можливості для прояву емоцій, але вони живуть усередині і накопичуються. Стає очевидним загальне занепокоєння, росте імовірність того, що в кінцевому рахунку відбудеться вибух.</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000000"/>
                </a:solidFill>
                <a:uFillTx/>
                <a:latin typeface="Times New Roman"/>
                <a:ea typeface="Times New Roman"/>
              </a:rPr>
              <a:t>3. Примус.</a:t>
            </a:r>
            <a:r>
              <a:rPr b="0" lang="ru-RU" sz="2200" spc="-1" strike="noStrike">
                <a:solidFill>
                  <a:srgbClr val="000000"/>
                </a:solidFill>
                <a:latin typeface="Times New Roman"/>
                <a:ea typeface="Times New Roman"/>
              </a:rPr>
              <a:t> У рамках цього стилю превалюють спроби змусити прийняти свою точку зору за будь-яку ціну. Той, хто намагається це зробити, не цікавиться думкою інших. Особа, що використовує такий стиль, звичайно поводиться  агресивно, і для впливу на інших звичайно використовує владу шляхом примусу. Конфлікт можна взяти під контроль, показавши, що володієш владою, придушуючи свого супротивника. Цей стиль примуса може бути ефективним у ситуаціях, де керівник має значну владу над підлеглими. Недолік цього стилю полягає в тому що  він придушує ініціативу підлеглих, створює велику імовірність того, що будуть враховані не усі важливі фактори, оскільки представлена лише одна точка зору. Він може викликати збурювання, особливо в більш молодого і більш освіченого персоналу.</a:t>
            </a:r>
            <a:endParaRPr b="0" lang="en-US" sz="22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10880" y="236160"/>
            <a:ext cx="11807640" cy="64803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4. </a:t>
            </a:r>
            <a:r>
              <a:rPr b="1" i="1" lang="ru-RU" sz="2800" spc="-1" strike="noStrike" u="sng">
                <a:solidFill>
                  <a:srgbClr val="000000"/>
                </a:solidFill>
                <a:uFillTx/>
                <a:latin typeface="Times New Roman"/>
                <a:ea typeface="Times New Roman"/>
              </a:rPr>
              <a:t>Компроміс</a:t>
            </a:r>
            <a:r>
              <a:rPr b="0" lang="ru-RU" sz="2800" spc="-1" strike="noStrike" u="sng">
                <a:solidFill>
                  <a:srgbClr val="000000"/>
                </a:solidFill>
                <a:uFillTx/>
                <a:latin typeface="Times New Roman"/>
                <a:ea typeface="Times New Roman"/>
              </a:rPr>
              <a:t>.</a:t>
            </a:r>
            <a:r>
              <a:rPr b="0" lang="ru-RU" sz="2800" spc="-1" strike="noStrike">
                <a:solidFill>
                  <a:srgbClr val="000000"/>
                </a:solidFill>
                <a:latin typeface="Times New Roman"/>
                <a:ea typeface="Times New Roman"/>
              </a:rPr>
              <a:t> Цей стиль характеризується прийняттям точки зору іншої сторони, але лише до деякої міри. Здатність до компромісу високо цінується в управлінських ситуаціях, тому що це зводить до мінімуму недоброзичливість і часто дає можливість швидко розв'язати конфлікт до задоволення обох сторін. </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5. </a:t>
            </a:r>
            <a:r>
              <a:rPr b="1" i="1" lang="ru-RU" sz="2800" spc="-1" strike="noStrike" u="sng">
                <a:solidFill>
                  <a:srgbClr val="000000"/>
                </a:solidFill>
                <a:uFillTx/>
                <a:latin typeface="Times New Roman"/>
                <a:ea typeface="Times New Roman"/>
              </a:rPr>
              <a:t>Вирішення проблеми</a:t>
            </a:r>
            <a:r>
              <a:rPr b="1" lang="ru-RU"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Цей стиль - визнання  розходження в думках і готовність ознайомитися з іншими точками зору, щоб зрозуміти причини конфлікту і знайти курс дій, прийнятний для всіх сторін. Той, хто використовує такий стиль не намагається домогтися своєї мети за рахунок інших, а скоріше шукає найкращий варіант вирішення конфліктної ситуації.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36160" y="361800"/>
            <a:ext cx="11775960" cy="630720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Окрім зазначених виділяють також такі стилі поведінки в конфліктних ситуаціях</a:t>
            </a:r>
            <a:endParaRPr b="0" lang="en-US" sz="26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тиль конкуренції</a:t>
            </a:r>
            <a:r>
              <a:rPr b="0" lang="ru-RU" sz="2600" spc="-1" strike="noStrike">
                <a:solidFill>
                  <a:srgbClr val="000000"/>
                </a:solidFill>
                <a:latin typeface="Times New Roman"/>
                <a:ea typeface="Times New Roman"/>
              </a:rPr>
              <a:t>, </a:t>
            </a:r>
            <a:r>
              <a:rPr b="1" lang="ru-RU" sz="2600" spc="-1" strike="noStrike">
                <a:solidFill>
                  <a:srgbClr val="000000"/>
                </a:solidFill>
                <a:latin typeface="Times New Roman"/>
                <a:ea typeface="Times New Roman"/>
              </a:rPr>
              <a:t>суперництва</a:t>
            </a:r>
            <a:r>
              <a:rPr b="0" lang="ru-RU" sz="2600" spc="-1" strike="noStrike">
                <a:solidFill>
                  <a:srgbClr val="000000"/>
                </a:solidFill>
                <a:latin typeface="Times New Roman"/>
                <a:ea typeface="Times New Roman"/>
              </a:rPr>
              <a:t> може використовувати людина, що володіє сильною волею, достатнім авторитетом, владою, не дуже зацікавлена у співробітництві з іншою стороною і прагне в першу чергу задовольнити власні інтереси.  Його можна використовувати, якщо:</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результат конфлікту дуже важливий для вас і ви робите велику ставку на своє рішення виниклої проблеми;</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маєте достатню владу й авторитет,  і вважаєте, що запропоноване вами рішення – найкраще;</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почуваєте, що у вас немає іншого вибору і вам нічого втрачати;</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повинні прийняти непопулярне рішення й у вас досить повноважень для вибору цього кроку;</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взаємодієте з підлеглими, що більш поважають авторитетний стиль.</a:t>
            </a:r>
            <a:endParaRPr b="0" lang="en-US" sz="26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458280"/>
            <a:ext cx="10515600" cy="44460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 </a:t>
            </a:r>
            <a:r>
              <a:rPr b="1" lang="en-US" sz="2500" spc="-1" strike="noStrike">
                <a:solidFill>
                  <a:srgbClr val="000000"/>
                </a:solidFill>
                <a:latin typeface="Times New Roman"/>
                <a:ea typeface="Calibri"/>
              </a:rPr>
              <a:t>3. Сутність і управління стресами. </a:t>
            </a:r>
            <a:br>
              <a:rPr sz="2500"/>
            </a:br>
            <a:endParaRPr b="0" lang="en-US" sz="2500" spc="-1" strike="noStrike">
              <a:solidFill>
                <a:srgbClr val="000000"/>
              </a:solidFill>
              <a:latin typeface="Calibri Light"/>
            </a:endParaRPr>
          </a:p>
        </p:txBody>
      </p:sp>
      <p:sp>
        <p:nvSpPr>
          <p:cNvPr id="64" name=""/>
          <p:cNvSpPr txBox="1"/>
          <p:nvPr/>
        </p:nvSpPr>
        <p:spPr>
          <a:xfrm>
            <a:off x="157320" y="772920"/>
            <a:ext cx="11841120" cy="58165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трес у вузькому розумінні – це робочі ситуації, що негативно впливають на працівників. Інакше стрес – це явище, викликане великими або малими обсягами робіт, необхідністю зживатися один з одним, конфліктом ролей, їх невизначеністю, сумом, безцільністю існування, відсутністю важливої справи, фізичними, психологічними та іншими причинами.</a:t>
            </a:r>
            <a:endParaRPr b="0" lang="en-US" sz="28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тресостійкість менеджера – це його здатність свідомо протистояти тривалому стресу. </a:t>
            </a:r>
            <a:endParaRPr b="0" lang="en-US" sz="28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Наслідки стресу: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фізіологічні – виразка, головний біль, гіпертонія, біль у спині та серці, астма.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психологічні – дратівливість, депресія, безсоння, зниження апетиту, зниження інтересу до міжособистих і сексуальних стосунків.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04840" y="268200"/>
            <a:ext cx="11777760" cy="6369120"/>
          </a:xfrm>
          <a:prstGeom prst="rect">
            <a:avLst/>
          </a:prstGeom>
          <a:noFill/>
          <a:ln w="0">
            <a:noFill/>
          </a:ln>
        </p:spPr>
        <p:txBody>
          <a:bodyPr anchor="t">
            <a:normAutofit fontScale="99000"/>
          </a:bodyPr>
          <a:p>
            <a:pPr marL="226080" indent="-2260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ричини стресу: </a:t>
            </a:r>
            <a:endParaRPr b="0" lang="en-US" sz="2800" spc="-1" strike="noStrike">
              <a:solidFill>
                <a:srgbClr val="000000"/>
              </a:solidFill>
              <a:latin typeface="Calibri"/>
            </a:endParaRPr>
          </a:p>
          <a:p>
            <a:pPr marL="226080" indent="-22608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Організаційні – перевантаження в роботі; занадто мала робота; нецікава робота; суперечливі вказівки; від керівників; погані гігієнічні умови роботи.</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Особисті – сім'я, колектив, внутрішні суперечності. </a:t>
            </a:r>
            <a:endParaRPr b="0" lang="en-US" sz="2800" spc="-1" strike="noStrike">
              <a:solidFill>
                <a:srgbClr val="000000"/>
              </a:solidFill>
              <a:latin typeface="Calibri"/>
            </a:endParaRPr>
          </a:p>
          <a:p>
            <a:pPr marL="226080" indent="-2260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Рекомендації по боротьбі зі стресами: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система пріоритетів у роботі;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не починати нову роботу, якщо не завершена попередня;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у випадку перевантаження в роботі, говорити «ні»; </a:t>
            </a:r>
            <a:endParaRPr b="0" lang="en-US" sz="2800" spc="-1" strike="noStrike">
              <a:solidFill>
                <a:srgbClr val="000000"/>
              </a:solidFill>
              <a:latin typeface="Calibri"/>
            </a:endParaRPr>
          </a:p>
          <a:p>
            <a:pPr marL="226080" indent="-22608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не погоджуватись із суперечливими вимогами керівників;</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вимагати поваги до себе;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організувати свій відпочинок, фізичні вправи. </a:t>
            </a:r>
            <a:endParaRPr b="0" lang="en-US" sz="28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2800" y="284040"/>
            <a:ext cx="11777400" cy="640080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Для того, щоб навчитись управляти стресом, керівники можуть використати деякі з наведених способів: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розробити систему пріоритетів у роботі (важливою умовою успішного керівництва є правильне визначення терміновості та якості роботи, яку слід виконати);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ідмовляти, коли досягнута межа напруги, після якої неможливе додаткове навантаження;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користовувати </a:t>
            </a:r>
            <a:r>
              <a:rPr b="1" lang="uk-UA" sz="2800" spc="-1" strike="noStrike">
                <a:solidFill>
                  <a:srgbClr val="000000"/>
                </a:solidFill>
                <a:latin typeface="Times New Roman"/>
                <a:ea typeface="Calibri"/>
              </a:rPr>
              <a:t>коучинг</a:t>
            </a:r>
            <a:r>
              <a:rPr b="0" lang="uk-UA" sz="2800" spc="-1" strike="noStrike">
                <a:solidFill>
                  <a:srgbClr val="000000"/>
                </a:solidFill>
                <a:latin typeface="Times New Roman"/>
                <a:ea typeface="Calibri"/>
              </a:rPr>
              <a:t>, як новий метод управління персоналом. </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Дуже часто стреси на підприємстві виникають через впровадження організаційних змін. </a:t>
            </a:r>
            <a:r>
              <a:rPr b="1" lang="uk-UA" sz="2800" spc="-1" strike="noStrike">
                <a:solidFill>
                  <a:srgbClr val="000000"/>
                </a:solidFill>
                <a:latin typeface="Times New Roman"/>
                <a:ea typeface="Calibri"/>
              </a:rPr>
              <a:t>Коучинг є</a:t>
            </a:r>
            <a:r>
              <a:rPr b="0" lang="uk-UA" sz="2800" spc="-1" strike="noStrike">
                <a:solidFill>
                  <a:srgbClr val="000000"/>
                </a:solidFill>
                <a:latin typeface="Times New Roman"/>
                <a:ea typeface="Calibri"/>
              </a:rPr>
              <a:t> одним із засобів, який дає змогу роз’яснити сутність впроваджуваних змін, їх доцільність, не викликаючи стресу у працівника, а навпаки, заохочуючи йог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63720" y="514440"/>
            <a:ext cx="10515600" cy="33336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br>
              <a:rPr sz="3600"/>
            </a:br>
            <a:endParaRPr b="0" lang="en-US" sz="2800" spc="-1" strike="noStrike">
              <a:solidFill>
                <a:srgbClr val="000000"/>
              </a:solidFill>
              <a:latin typeface="Calibri Light"/>
            </a:endParaRPr>
          </a:p>
        </p:txBody>
      </p:sp>
      <p:sp>
        <p:nvSpPr>
          <p:cNvPr id="44" name=""/>
          <p:cNvSpPr txBox="1"/>
          <p:nvPr/>
        </p:nvSpPr>
        <p:spPr>
          <a:xfrm>
            <a:off x="378000" y="847440"/>
            <a:ext cx="11461680" cy="569412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26600"/>
            <a:ext cx="10515600" cy="50796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4. Діяльність керівника для управління конфліктами </a:t>
            </a:r>
            <a:br>
              <a:rPr sz="3200"/>
            </a:br>
            <a:endParaRPr b="0" lang="en-US" sz="2800" spc="-1" strike="noStrike">
              <a:solidFill>
                <a:srgbClr val="000000"/>
              </a:solidFill>
              <a:latin typeface="Calibri Light"/>
            </a:endParaRPr>
          </a:p>
        </p:txBody>
      </p:sp>
      <p:sp>
        <p:nvSpPr>
          <p:cNvPr id="68" name=""/>
          <p:cNvSpPr txBox="1"/>
          <p:nvPr/>
        </p:nvSpPr>
        <p:spPr>
          <a:xfrm>
            <a:off x="236160" y="677880"/>
            <a:ext cx="11729880" cy="594360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роаналізувавши ситуацію з управління конфліктами в фірмі можна зробити висновки, що є основними причинами конфліктів у ланці «керівник – підлеглий»: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Субординаційний характер відносин. </a:t>
            </a:r>
            <a:r>
              <a:rPr b="0" lang="en-US" sz="2600" spc="-1" strike="noStrike">
                <a:solidFill>
                  <a:srgbClr val="000000"/>
                </a:solidFill>
                <a:latin typeface="Times New Roman"/>
                <a:ea typeface="Calibri"/>
              </a:rPr>
              <a:t>Протиріччя в ланці «керівник – підлеглий» закладене в тім, що від керівника залежить досить широкий діапазон життєдіяльності підлеглого. Останній зобов'язаний виконувати вказівки і розпорядження начальника, тобто зобов'язаний підкорятися. Практично ніколи не забезпечується повна відповідність вимог ролей можливостям і способам дій їхніх виконавців. </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2. Діяльність у системі «людина – людина»</a:t>
            </a:r>
            <a:r>
              <a:rPr b="0" lang="en-US" sz="2600" spc="-1" strike="noStrike">
                <a:solidFill>
                  <a:srgbClr val="000000"/>
                </a:solidFill>
                <a:latin typeface="Times New Roman"/>
                <a:ea typeface="Calibri"/>
              </a:rPr>
              <a:t> конфліктогенна по своїй природі. З чотирьох типів діяльності («людина – людина», «людина – природа», «людина – машина», «людина – знак») найбільше конфліктні професії типу «людина – людин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2800" y="173160"/>
            <a:ext cx="11839320" cy="64641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Calibri"/>
              </a:rPr>
              <a:t>3. Велика частина конфліктів</a:t>
            </a:r>
            <a:r>
              <a:rPr b="0" lang="uk-UA" sz="2600" spc="-1" strike="noStrike">
                <a:solidFill>
                  <a:srgbClr val="000000"/>
                </a:solidFill>
                <a:latin typeface="Times New Roman"/>
                <a:ea typeface="Calibri"/>
              </a:rPr>
              <a:t> по вертикалі детермінована предметнодіяльнісним змістом між особистісних відносин.</a:t>
            </a:r>
            <a:r>
              <a:rPr b="0" lang="ru-RU" sz="1900" spc="-1" strike="noStrike">
                <a:solidFill>
                  <a:srgbClr val="000000"/>
                </a:solidFill>
                <a:latin typeface="Calibri"/>
                <a:ea typeface="Calibri"/>
              </a:rPr>
              <a:t> </a:t>
            </a:r>
            <a:r>
              <a:rPr b="0" lang="en-US" sz="2600" spc="-1" strike="noStrike">
                <a:solidFill>
                  <a:srgbClr val="000000"/>
                </a:solidFill>
                <a:latin typeface="Times New Roman"/>
                <a:ea typeface="Calibri"/>
              </a:rPr>
              <a:t>Близько 96% конфліктів між керівниками і підлеглими зумовлені їхньою спільною діяльністю. На професійну сферу взаємин приходиться 88%, побутову – 9% і суспільну – 3% конфліктних ситуацій. Конфлікти в професійній сфері зв'язані з забезпеченням якості діяльності (39%), оцінкою результатів роботи (8%) і ін. причин (6%). </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4. Найбільш конфліктна ланка</a:t>
            </a:r>
            <a:r>
              <a:rPr b="0" lang="en-US" sz="2600" spc="-1" strike="noStrike">
                <a:solidFill>
                  <a:srgbClr val="000000"/>
                </a:solidFill>
                <a:latin typeface="Times New Roman"/>
                <a:ea typeface="Calibri"/>
              </a:rPr>
              <a:t> «безпосередній керівник – підлеглий» – на неї приходиться більш 73% конфліктів і 27% – на інші відносини підпорядкованості.</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5. Розбалансованість робочого місця</a:t>
            </a:r>
            <a:r>
              <a:rPr b="0" lang="en-US" sz="2600" spc="-1" strike="noStrike">
                <a:solidFill>
                  <a:srgbClr val="000000"/>
                </a:solidFill>
                <a:latin typeface="Times New Roman"/>
                <a:ea typeface="Calibri"/>
              </a:rPr>
              <a:t>. Робочим місцем називають сукупність функцій і засобів, достатніх для їхнього виконання. Функції відображаються в обов'язках і відповідальності за їхнє виконання, а засоби — у праві і владі. Робоче місце має структуру, елементи якої повинні бути збалансован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0320" y="252360"/>
            <a:ext cx="11729880" cy="64166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основному при врегулюванні конфліктів використовуються адміністративні методи, недостатність застосування психологічних технологій управління конфліктами пояснюється нестачею знань у керівництва основних методів їхнього використання.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ористовуються інформаційні, комунікативні, соціально – психологічні та організаційні технології управління конфліктами. Перевага надається організаційним, оскільки вирішальне слово за директором, який має для цього всі необхідні важелі.</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520200"/>
            <a:ext cx="10515600" cy="31932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 Сутність конфлікту, його моделі</a:t>
            </a:r>
            <a:br>
              <a:rPr sz="2900"/>
            </a:br>
            <a:endParaRPr b="0" lang="en-US" sz="2800" spc="-1" strike="noStrike">
              <a:solidFill>
                <a:srgbClr val="000000"/>
              </a:solidFill>
              <a:latin typeface="Calibri Light"/>
            </a:endParaRPr>
          </a:p>
        </p:txBody>
      </p:sp>
      <p:sp>
        <p:nvSpPr>
          <p:cNvPr id="46" name=""/>
          <p:cNvSpPr txBox="1"/>
          <p:nvPr/>
        </p:nvSpPr>
        <p:spPr>
          <a:xfrm>
            <a:off x="252000" y="662040"/>
            <a:ext cx="11698200" cy="603864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флікт</a:t>
            </a:r>
            <a:r>
              <a:rPr b="0" lang="ru-RU" sz="2000" spc="-1" strike="noStrike">
                <a:solidFill>
                  <a:srgbClr val="000000"/>
                </a:solidFill>
                <a:latin typeface="Times New Roman"/>
                <a:ea typeface="Times New Roman"/>
              </a:rPr>
              <a:t> - психологічне зіткнення, викликане протилежними оцінками, інтересами і цілями праці, способами взаємодії і поведінки в колективі.</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слідження конфлікту як своєрідного соціально-психологічного феномену вимагає висунення своєрідної аксіоми про конфліктність людського існування.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ирішення цієї проблеми існує щонайменше </a:t>
            </a:r>
            <a:r>
              <a:rPr b="1" lang="ru-RU" sz="2000" spc="-1" strike="noStrike">
                <a:solidFill>
                  <a:srgbClr val="000000"/>
                </a:solidFill>
                <a:latin typeface="Times New Roman"/>
                <a:ea typeface="Times New Roman"/>
              </a:rPr>
              <a:t>два погляди</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дин з них</a:t>
            </a:r>
            <a:r>
              <a:rPr b="0" lang="ru-RU" sz="2000" spc="-1" strike="noStrike">
                <a:solidFill>
                  <a:srgbClr val="000000"/>
                </a:solidFill>
                <a:latin typeface="Times New Roman"/>
                <a:ea typeface="Times New Roman"/>
              </a:rPr>
              <a:t> бере початок ще від </a:t>
            </a:r>
            <a:r>
              <a:rPr b="1" lang="ru-RU" sz="2000" spc="-1" strike="noStrike">
                <a:solidFill>
                  <a:srgbClr val="000000"/>
                </a:solidFill>
                <a:latin typeface="Times New Roman"/>
                <a:ea typeface="Times New Roman"/>
              </a:rPr>
              <a:t>Арістотеля</a:t>
            </a:r>
            <a:r>
              <a:rPr b="0" lang="ru-RU" sz="2000" spc="-1" strike="noStrike">
                <a:solidFill>
                  <a:srgbClr val="000000"/>
                </a:solidFill>
                <a:latin typeface="Times New Roman"/>
                <a:ea typeface="Times New Roman"/>
              </a:rPr>
              <a:t> й підкреслює суспільне начало людини, її здатність до співпраці з іншими – здатність, закладену в природній людській сутності. Протилежною є тенденція, яку пропонує </a:t>
            </a:r>
            <a:r>
              <a:rPr b="1" lang="ru-RU" sz="2000" spc="-1" strike="noStrike">
                <a:solidFill>
                  <a:srgbClr val="000000"/>
                </a:solidFill>
                <a:latin typeface="Times New Roman"/>
                <a:ea typeface="Times New Roman"/>
              </a:rPr>
              <a:t>Томас Го</a:t>
            </a:r>
            <a:r>
              <a:rPr b="1" lang="uk-UA" sz="2000" spc="-1" strike="noStrike">
                <a:solidFill>
                  <a:srgbClr val="000000"/>
                </a:solidFill>
                <a:latin typeface="Times New Roman"/>
                <a:ea typeface="Times New Roman"/>
              </a:rPr>
              <a:t>б</a:t>
            </a:r>
            <a:r>
              <a:rPr b="1" lang="ru-RU" sz="2000" spc="-1" strike="noStrike">
                <a:solidFill>
                  <a:srgbClr val="000000"/>
                </a:solidFill>
                <a:latin typeface="Times New Roman"/>
                <a:ea typeface="Times New Roman"/>
              </a:rPr>
              <a:t>бс</a:t>
            </a:r>
            <a:r>
              <a:rPr b="0" lang="ru-RU" sz="2000" spc="-1" strike="noStrike">
                <a:solidFill>
                  <a:srgbClr val="000000"/>
                </a:solidFill>
                <a:latin typeface="Times New Roman"/>
                <a:ea typeface="Times New Roman"/>
              </a:rPr>
              <a:t>: людину трактують як певну самість, індивіда, для якого інші люди є лише середовищем існування, перебування і який діє за принципом "війни всіх проти всіх".</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учасних теоріях конфлікту збережено дихотомію в поглядах на проблему конфліктності людської взаємодії. </a:t>
            </a:r>
            <a:r>
              <a:rPr b="1" lang="ru-RU" sz="2000" spc="-1" strike="noStrike">
                <a:solidFill>
                  <a:srgbClr val="000000"/>
                </a:solidFill>
                <a:latin typeface="Times New Roman"/>
                <a:ea typeface="Times New Roman"/>
              </a:rPr>
              <a:t>Т. Парсонс</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Е. Дюркгейм, Е. Мейо</a:t>
            </a:r>
            <a:r>
              <a:rPr b="0" lang="ru-RU" sz="2000" spc="-1" strike="noStrike">
                <a:solidFill>
                  <a:srgbClr val="000000"/>
                </a:solidFill>
                <a:latin typeface="Times New Roman"/>
                <a:ea typeface="Times New Roman"/>
              </a:rPr>
              <a:t> наголошують на стійкості й стабільності суспільства, вважаючи конфлікт тільки певним відхиленням, "</a:t>
            </a:r>
            <a:r>
              <a:rPr b="1" lang="ru-RU" sz="2000" spc="-1" strike="noStrike">
                <a:solidFill>
                  <a:srgbClr val="000000"/>
                </a:solidFill>
                <a:latin typeface="Times New Roman"/>
                <a:ea typeface="Times New Roman"/>
              </a:rPr>
              <a:t>хворобою</a:t>
            </a:r>
            <a:r>
              <a:rPr b="0" lang="ru-RU" sz="2000" spc="-1" strike="noStrike">
                <a:solidFill>
                  <a:srgbClr val="000000"/>
                </a:solidFill>
                <a:latin typeface="Times New Roman"/>
                <a:ea typeface="Times New Roman"/>
              </a:rPr>
              <a:t>" людських стосунків.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томість </a:t>
            </a:r>
            <a:r>
              <a:rPr b="1" lang="ru-RU" sz="2000" spc="-1" strike="noStrike">
                <a:solidFill>
                  <a:srgbClr val="000000"/>
                </a:solidFill>
                <a:latin typeface="Times New Roman"/>
                <a:ea typeface="Times New Roman"/>
              </a:rPr>
              <a:t>К. Маркс, М. Вебер, В. Парето, Р. Дарендорф</a:t>
            </a:r>
            <a:r>
              <a:rPr b="0" lang="ru-RU" sz="2000" spc="-1" strike="noStrike">
                <a:solidFill>
                  <a:srgbClr val="000000"/>
                </a:solidFill>
                <a:latin typeface="Times New Roman"/>
                <a:ea typeface="Times New Roman"/>
              </a:rPr>
              <a:t> розглядають конфлікт як необхідний чинник у поясненні соціальних процесів і змін.</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Існує різні визначення конфлікту, але всі вони підкреслюють наявність протиріччя, яке виникає в процесі соціальної взаємодії, що заключається в протидії суб’єктів конфлікту та зазвичай супроводжується негативними емоціями.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31560" y="204840"/>
            <a:ext cx="11728440" cy="643248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ідно відмітити </a:t>
            </a:r>
            <a:r>
              <a:rPr b="1" i="1" lang="ru-RU" sz="2800" spc="-1" strike="noStrike">
                <a:solidFill>
                  <a:srgbClr val="000000"/>
                </a:solidFill>
                <a:latin typeface="Times New Roman"/>
                <a:ea typeface="Times New Roman"/>
              </a:rPr>
              <a:t>найважливіші положення визначення конфлікту</a:t>
            </a:r>
            <a:r>
              <a:rPr b="1"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 конфлікті </a:t>
            </a:r>
            <a:r>
              <a:rPr b="1" i="1" lang="ru-RU" sz="2800" spc="-1" strike="noStrike">
                <a:solidFill>
                  <a:srgbClr val="000000"/>
                </a:solidFill>
                <a:latin typeface="Times New Roman"/>
                <a:ea typeface="Times New Roman"/>
              </a:rPr>
              <a:t>завжди існує протиріччя</a:t>
            </a:r>
            <a:r>
              <a:rPr b="0" lang="ru-RU" sz="2800" spc="-1" strike="noStrike">
                <a:solidFill>
                  <a:srgbClr val="000000"/>
                </a:solidFill>
                <a:latin typeface="Times New Roman"/>
                <a:ea typeface="Times New Roman"/>
              </a:rPr>
              <a:t>, зіткнення несполучних поглядів, інтересів, потреб, цінностей, мотивів. Однак сутність конфлікту полягає не стільки у виникненні і існуванні протиріччя, скільки в способі його вирішення. Адже з соціальними протиріччями ми зустрічаємося кожен день, вони виникають завжди і скрізь, але тільки деякі вирішуються шляхом конфлікту.</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 конфлікту призводить таке зіткнення інтересів</a:t>
            </a:r>
            <a:r>
              <a:rPr b="0" lang="ru-RU" sz="2800" spc="-1" strike="noStrike">
                <a:solidFill>
                  <a:srgbClr val="000000"/>
                </a:solidFill>
                <a:latin typeface="Times New Roman"/>
                <a:ea typeface="Times New Roman"/>
              </a:rPr>
              <a:t>, потреб, поглядів, цілей, мотивів, при якому з’являється </a:t>
            </a:r>
            <a:r>
              <a:rPr b="0" i="1" lang="ru-RU" sz="2800" spc="-1" strike="noStrike">
                <a:solidFill>
                  <a:srgbClr val="000000"/>
                </a:solidFill>
                <a:latin typeface="Times New Roman"/>
                <a:ea typeface="Times New Roman"/>
              </a:rPr>
              <a:t>протидія сторін</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оціальна протидія </a:t>
            </a:r>
            <a:r>
              <a:rPr b="0" lang="ru-RU" sz="2800" spc="-1" strike="noStrike">
                <a:solidFill>
                  <a:srgbClr val="000000"/>
                </a:solidFill>
                <a:latin typeface="Times New Roman"/>
                <a:ea typeface="Times New Roman"/>
              </a:rPr>
              <a:t>– це таке спілкування, поведінка і діяльність, однією з основних цілей якого являється нанесення моральної або матеріальної шкоди опоненту або супротивнику. Саме протидія є ядром соціального конфлікту.</a:t>
            </a:r>
            <a:endParaRPr b="0" lang="en-US" sz="2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41120" y="252000"/>
            <a:ext cx="11809440" cy="64803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 психологічному плані </a:t>
            </a:r>
            <a:r>
              <a:rPr b="0" lang="ru-RU" sz="2800" spc="-1" strike="noStrike">
                <a:solidFill>
                  <a:srgbClr val="000000"/>
                </a:solidFill>
                <a:latin typeface="Times New Roman"/>
                <a:ea typeface="Times New Roman"/>
              </a:rPr>
              <a:t>конфлікт для його учасників завжди супроводжується </a:t>
            </a:r>
            <a:r>
              <a:rPr b="0" i="1" lang="ru-RU" sz="2800" spc="-1" strike="noStrike">
                <a:solidFill>
                  <a:srgbClr val="000000"/>
                </a:solidFill>
                <a:latin typeface="Times New Roman"/>
                <a:ea typeface="Times New Roman"/>
              </a:rPr>
              <a:t>негативним емоціональним станом</a:t>
            </a:r>
            <a:r>
              <a:rPr b="0" lang="ru-RU" sz="2800" spc="-1" strike="noStrike">
                <a:solidFill>
                  <a:srgbClr val="000000"/>
                </a:solidFill>
                <a:latin typeface="Times New Roman"/>
                <a:ea typeface="Times New Roman"/>
              </a:rPr>
              <a:t>, негативним відношенням один до одного. Якщо суб’єкти конфлікту протидіють, але не відчувають неприємних емоцій або, навпаки, відчувають, але не проявляють це зовнішньо, такі ситуації можна охарактеризувати як передконфліктну.</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минучість виникнення суперечностей </a:t>
            </a:r>
            <a:r>
              <a:rPr b="1" lang="ru-RU" sz="2800" spc="-1" strike="noStrike">
                <a:solidFill>
                  <a:srgbClr val="000000"/>
                </a:solidFill>
                <a:latin typeface="Times New Roman"/>
                <a:ea typeface="Times New Roman"/>
              </a:rPr>
              <a:t>є виявом закону єдності та боротьби протилежностей</a:t>
            </a:r>
            <a:r>
              <a:rPr b="0" lang="ru-RU" sz="2800" spc="-1" strike="noStrike">
                <a:solidFill>
                  <a:srgbClr val="000000"/>
                </a:solidFill>
                <a:latin typeface="Times New Roman"/>
                <a:ea typeface="Times New Roman"/>
              </a:rPr>
              <a:t>, одного з класичних законів розвитку. За цим законом будь-яке явище чи ситуація розглядається як єдність протилежних сторін, що взаємовиключають одна одну, долають опір свого антиподу, проте, водночас, не можуть існувати окремо, обопільне взаємозумовлюються (</a:t>
            </a:r>
            <a:r>
              <a:rPr b="1" lang="ru-RU" sz="2800" spc="-1" strike="noStrike">
                <a:solidFill>
                  <a:srgbClr val="000000"/>
                </a:solidFill>
                <a:latin typeface="Times New Roman"/>
                <a:ea typeface="Times New Roman"/>
              </a:rPr>
              <a:t>одна існує лише тому, що наявна друга</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Єдність протилежностей завжди умовна, а їх боротьба абсолютна.</a:t>
            </a:r>
            <a:endParaRPr b="0" lang="en-US" sz="2800" spc="-1" strike="noStrike">
              <a:solidFill>
                <a:srgbClr val="000000"/>
              </a:solidFill>
              <a:latin typeface="Calibri"/>
            </a:endParaRPr>
          </a:p>
          <a:p>
            <a:pPr marL="228600" indent="4492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360" y="283680"/>
            <a:ext cx="11792160" cy="643284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онфліктах беруть участь як окремі особи, так і групи людей. Учасників конфлікту називають опонентами, суперниками тощо.</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нфлікт -</a:t>
            </a:r>
            <a:r>
              <a:rPr b="0" lang="ru-RU" sz="2400" spc="-1" strike="noStrike">
                <a:solidFill>
                  <a:srgbClr val="000000"/>
                </a:solidFill>
                <a:latin typeface="Times New Roman"/>
                <a:ea typeface="Times New Roman"/>
              </a:rPr>
              <a:t> це ситуація, набір обставин, при якій виникає:</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зіткнення протилежних сторін, сил чи поглядів; або має місце</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відсутність згоди між двома чи більше суб'єктами;</a:t>
            </a:r>
            <a:r>
              <a:rPr b="0" lang="ru-RU" sz="1500" spc="-1" strike="noStrike">
                <a:solidFill>
                  <a:srgbClr val="000000"/>
                </a:solidFill>
                <a:latin typeface="Calibri"/>
                <a:ea typeface="Times New Roman"/>
              </a:rPr>
              <a:t>  </a:t>
            </a:r>
            <a:r>
              <a:rPr b="0" lang="ru-RU" sz="2400" spc="-1" strike="noStrike">
                <a:solidFill>
                  <a:srgbClr val="000000"/>
                </a:solidFill>
                <a:latin typeface="Times New Roman"/>
                <a:ea typeface="Times New Roman"/>
              </a:rPr>
              <a:t>або спостерігається</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внутрішній дискомфорт однієї особи.</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онфліктній ситуації кожна зацікавлена сторона прагне відстоювати та досягати реалізації власних цілей, думок, завдань, точки зору, при цьому вона наводить аргументи на свою користь, перешкоджає опоненту чинити так само, використовує всі прийнятні у цій ситуації заходи та форми впливу і намагається здолати опір іншої сторони.</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недавна, домінуючою вважалася точка зору, згідно з якою конфлікти в організації - річ небажана (</a:t>
            </a:r>
            <a:r>
              <a:rPr b="1" lang="ru-RU" sz="2400" spc="-1" strike="noStrike">
                <a:solidFill>
                  <a:srgbClr val="000000"/>
                </a:solidFill>
                <a:latin typeface="Times New Roman"/>
                <a:ea typeface="Times New Roman"/>
              </a:rPr>
              <a:t>доктрина школи Вебера</a:t>
            </a:r>
            <a:r>
              <a:rPr b="0" lang="ru-RU" sz="2400" spc="-1" strike="noStrike">
                <a:solidFill>
                  <a:srgbClr val="000000"/>
                </a:solidFill>
                <a:latin typeface="Times New Roman"/>
                <a:ea typeface="Times New Roman"/>
              </a:rPr>
              <a:t>), їх необхідно уникати, а якщо вони все ж таки з'являються, то гасити на ранній стадії, не даючи змоги розвиватися. Конфлікти асоціюються з усілякими негараздами, суперечками, ворожістю, боротьбою і не мають позитивних ознак.</a:t>
            </a:r>
            <a:endParaRPr b="0" lang="en-US" sz="24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72800" y="173160"/>
            <a:ext cx="11793240" cy="64641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нфлікт не виявляється доти, поки існуюча ситуація або влаштовує усі задіяні чи зацікавлені сторони, або ж ці сторони ще не в змозі вплинути на розвиток ситуації, не володіють достатнім потенціалом (тобто конфлікт прихований).</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нфліктна ситуація, що вимагає вирішення, передбачає існування кількох обов'язкових елементів:</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учасників конфлікту</a:t>
            </a:r>
            <a:r>
              <a:rPr b="0" lang="ru-RU" sz="2800" spc="-1" strike="noStrike">
                <a:solidFill>
                  <a:srgbClr val="000000"/>
                </a:solidFill>
                <a:latin typeface="Times New Roman"/>
                <a:ea typeface="Times New Roman"/>
              </a:rPr>
              <a:t> (дві або більше сторони, що переслідують несхожі чи прямо протилежні цілі);</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об'єкт конфлікту</a:t>
            </a:r>
            <a:r>
              <a:rPr b="0" lang="ru-RU" sz="2800" spc="-1" strike="noStrike">
                <a:solidFill>
                  <a:srgbClr val="000000"/>
                </a:solidFill>
                <a:latin typeface="Times New Roman"/>
                <a:ea typeface="Times New Roman"/>
              </a:rPr>
              <a:t> (конкретне явище, причина, стан справ, навколо якого розгортається суперечка);</a:t>
            </a:r>
            <a:endParaRPr b="0" lang="en-US" sz="2800" spc="-1" strike="noStrike">
              <a:solidFill>
                <a:srgbClr val="000000"/>
              </a:solidFill>
              <a:latin typeface="Calibri"/>
            </a:endParaRPr>
          </a:p>
          <a:p>
            <a:pPr marL="228600" indent="4492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Рисунок 3" descr=""/>
          <p:cNvPicPr/>
          <p:nvPr/>
        </p:nvPicPr>
        <p:blipFill>
          <a:blip r:embed="rId1"/>
          <a:stretch/>
        </p:blipFill>
        <p:spPr>
          <a:xfrm>
            <a:off x="930240" y="5326200"/>
            <a:ext cx="10279080" cy="131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88640" y="315720"/>
            <a:ext cx="11698200" cy="638460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ипову схему конфлікту можна узагальнити так:</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сі конфліктні ситуації розподіляються за ознакою результатів:</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1" lang="ru-RU" sz="2400" spc="-1" strike="noStrike">
                <a:solidFill>
                  <a:srgbClr val="000000"/>
                </a:solidFill>
                <a:latin typeface="Times New Roman"/>
                <a:ea typeface="Times New Roman"/>
              </a:rPr>
              <a:t> функціональні -</a:t>
            </a:r>
            <a:r>
              <a:rPr b="0" lang="ru-RU" sz="2400" spc="-1" strike="noStrike">
                <a:solidFill>
                  <a:srgbClr val="000000"/>
                </a:solidFill>
                <a:latin typeface="Times New Roman"/>
                <a:ea typeface="Times New Roman"/>
              </a:rPr>
              <a:t> такі, що сприяють ефективній діяльності організацій, є позитивними за змістом, містять раціональне зерно та мають еволюційну спрямованість;</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a:t>
            </a:r>
            <a:r>
              <a:rPr b="1" lang="ru-RU" sz="2400" spc="-1" strike="noStrike">
                <a:solidFill>
                  <a:srgbClr val="000000"/>
                </a:solidFill>
                <a:latin typeface="Times New Roman"/>
                <a:ea typeface="Times New Roman"/>
              </a:rPr>
              <a:t> дисфункціональні -</a:t>
            </a:r>
            <a:r>
              <a:rPr b="0" lang="ru-RU" sz="2400" spc="-1" strike="noStrike">
                <a:solidFill>
                  <a:srgbClr val="000000"/>
                </a:solidFill>
                <a:latin typeface="Times New Roman"/>
                <a:ea typeface="Times New Roman"/>
              </a:rPr>
              <a:t> паралізують нормальне функціонування організацій, обмежують перспективи розвитку, не сприяють максимально ефективному використанню власних і залучених ресурсів.</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Існує чотири основних </a:t>
            </a:r>
            <a:r>
              <a:rPr b="1" i="1" lang="ru-RU" sz="2400" spc="-1" strike="noStrike">
                <a:solidFill>
                  <a:srgbClr val="000000"/>
                </a:solidFill>
                <a:latin typeface="Times New Roman"/>
                <a:ea typeface="Times New Roman"/>
              </a:rPr>
              <a:t>типи конфлікту</a:t>
            </a:r>
            <a:r>
              <a:rPr b="0" lang="ru-RU" sz="2400" spc="-1" strike="noStrike">
                <a:solidFill>
                  <a:srgbClr val="000000"/>
                </a:solidFill>
                <a:latin typeface="Times New Roman"/>
                <a:ea typeface="Times New Roman"/>
              </a:rPr>
              <a:t> за змістом:</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1" lang="ru-RU" sz="2400" spc="-1" strike="noStrike">
                <a:solidFill>
                  <a:srgbClr val="000000"/>
                </a:solidFill>
                <a:latin typeface="Times New Roman"/>
                <a:ea typeface="Times New Roman"/>
              </a:rPr>
              <a:t> внутрішньоособовий</a:t>
            </a:r>
            <a:r>
              <a:rPr b="0" lang="ru-RU" sz="2400" spc="-1" strike="noStrike">
                <a:solidFill>
                  <a:srgbClr val="000000"/>
                </a:solidFill>
                <a:latin typeface="Times New Roman"/>
                <a:ea typeface="Times New Roman"/>
              </a:rPr>
              <a:t> (конфлікт вимог). Його виявом є суперечність чи протилежність вимог, що ставляться до одного й того ж виконавця різними функціональними керівниками, яким він одночасно підпорядковується. </a:t>
            </a:r>
            <a:r>
              <a:rPr b="0" lang="ru-RU" sz="2400" spc="-1" strike="noStrike" u="sng">
                <a:solidFill>
                  <a:srgbClr val="000000"/>
                </a:solidFill>
                <a:uFillTx/>
                <a:latin typeface="Times New Roman"/>
                <a:ea typeface="Times New Roman"/>
              </a:rPr>
              <a:t>Причини такого конфлікту</a:t>
            </a:r>
            <a:r>
              <a:rPr b="0" lang="ru-RU" sz="2400" spc="-1" strike="noStrike">
                <a:solidFill>
                  <a:srgbClr val="000000"/>
                </a:solidFill>
                <a:latin typeface="Times New Roman"/>
                <a:ea typeface="Times New Roman"/>
              </a:rPr>
              <a:t> - недоліки у: системі делегування повноважень, організаційній структурі, структурі апарату управління, несхожість стилів керівництва, конфлікт інтересів (ситуація, за якої працівник має приватний чи особистий інтерес, достатній для впливу, або цей інтерес чинить вплив на об'єктивне виконання працівником своїх службових обов'язків).</a:t>
            </a:r>
            <a:endParaRPr b="0" lang="en-US" sz="24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2360" y="377640"/>
            <a:ext cx="11730240" cy="6291000"/>
          </a:xfrm>
          <a:prstGeom prst="rect">
            <a:avLst/>
          </a:prstGeom>
          <a:noFill/>
          <a:ln w="0">
            <a:noFill/>
          </a:ln>
        </p:spPr>
        <p:txBody>
          <a:bodyPr anchor="t">
            <a:normAutofit/>
          </a:bodyPr>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б)</a:t>
            </a:r>
            <a:r>
              <a:rPr b="1" lang="ru-RU" sz="2600" spc="-1" strike="noStrike">
                <a:solidFill>
                  <a:srgbClr val="000000"/>
                </a:solidFill>
                <a:latin typeface="Times New Roman"/>
                <a:ea typeface="Times New Roman"/>
              </a:rPr>
              <a:t> міжособовий.</a:t>
            </a:r>
            <a:r>
              <a:rPr b="0" lang="ru-RU" sz="2600" spc="-1" strike="noStrike">
                <a:solidFill>
                  <a:srgbClr val="000000"/>
                </a:solidFill>
                <a:latin typeface="Times New Roman"/>
                <a:ea typeface="Times New Roman"/>
              </a:rPr>
              <a:t> Виникає при будь-якому розподілі: повноважень, ресурсів, робіт, обов'язків, завдань, активів, пільг, винагород; а також через несхожість характерів, знань, запитів, кваліфікації, можливостей, кругозору, кола інтересів, ставлення до праці та психологічної сумісності людей, що працюють разом;</a:t>
            </a:r>
            <a:endParaRPr b="0" lang="en-US" sz="2600" spc="-1" strike="noStrike">
              <a:solidFill>
                <a:srgbClr val="000000"/>
              </a:solidFill>
              <a:latin typeface="Calibri"/>
            </a:endParaRPr>
          </a:p>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a:t>
            </a:r>
            <a:r>
              <a:rPr b="1" lang="ru-RU" sz="2600" spc="-1" strike="noStrike">
                <a:solidFill>
                  <a:srgbClr val="000000"/>
                </a:solidFill>
                <a:latin typeface="Times New Roman"/>
                <a:ea typeface="Times New Roman"/>
              </a:rPr>
              <a:t> між особою та групою.</a:t>
            </a:r>
            <a:r>
              <a:rPr b="0" lang="ru-RU" sz="2600" spc="-1" strike="noStrike">
                <a:solidFill>
                  <a:srgbClr val="000000"/>
                </a:solidFill>
                <a:latin typeface="Times New Roman"/>
                <a:ea typeface="Times New Roman"/>
              </a:rPr>
              <a:t> Причини - дисбаланс, що існує між нормами групової поведінки та індивідуальними діями, поглядами чи звичками окремої особи; невиконання або перевиконання обов'язків, недотримання неписаного внутрішнього розпорядку, що має силу закону у певному колективі, етики взаємин тощо;</a:t>
            </a:r>
            <a:endParaRPr b="0" lang="en-US" sz="2600" spc="-1" strike="noStrike">
              <a:solidFill>
                <a:srgbClr val="000000"/>
              </a:solidFill>
              <a:latin typeface="Calibri"/>
            </a:endParaRPr>
          </a:p>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г)</a:t>
            </a:r>
            <a:r>
              <a:rPr b="1" lang="ru-RU" sz="2600" spc="-1" strike="noStrike">
                <a:solidFill>
                  <a:srgbClr val="000000"/>
                </a:solidFill>
                <a:latin typeface="Times New Roman"/>
                <a:ea typeface="Times New Roman"/>
              </a:rPr>
              <a:t> міжгруповий.</a:t>
            </a:r>
            <a:r>
              <a:rPr b="0" lang="ru-RU" sz="2600" spc="-1" strike="noStrike">
                <a:solidFill>
                  <a:srgbClr val="000000"/>
                </a:solidFill>
                <a:latin typeface="Times New Roman"/>
                <a:ea typeface="Times New Roman"/>
              </a:rPr>
              <a:t> Організації складаються з безлічі формальних і неформальних груп, які просто не в змозі мирно співіснувати, оскільки всередині будь-якої групи постійно відбувається динамічний розвиток, змінюються цілі, завдання, що поступово входять у суперечки з аналогічними показниками інших груп.</a:t>
            </a:r>
            <a:endParaRPr b="0" lang="en-US" sz="26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5T08:01:35Z</dcterms:created>
  <dc:creator>Karim</dc:creator>
  <dc:description/>
  <dc:language>en-US</dc:language>
  <cp:lastModifiedBy>Karim</cp:lastModifiedBy>
  <dcterms:modified xsi:type="dcterms:W3CDTF">2020-03-15T08:52:34Z</dcterms:modified>
  <cp:revision>10</cp:revision>
  <dc:subject/>
  <dc:title>Лекція №: 8 Тема. Управління конфліктами і стресами</dc:title>
</cp:coreProperties>
</file>