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2C6-5104-445C-86DE-FFBFE205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C9C-6B40-4AAF-BAC5-A3E1567A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ADC-9DD5-46E8-A3C4-0D7E8A6F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356-2CF5-4C6E-80B5-EC77FE25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940-63D3-4690-A595-52C51E17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022-E269-4F6C-B5CA-26C2DEC9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C45-9CF7-4600-BD14-254B496C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8CD-8F55-4E0F-A003-7ABAF644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0D9-BAB0-4653-9FC1-5329A716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427-D297-4D8A-AD48-2F7B3461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2D8-4EBD-4A60-9D26-EC6158B0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2EB-2BD4-4584-9599-34830A40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5DCB-2829-452B-A196-D8DF9886B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930240"/>
            <a:ext cx="914400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ія №: 2</a:t>
            </a:r>
            <a:br>
              <a:rPr sz="25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равління поведінкою індивіда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0680" y="2096640"/>
            <a:ext cx="106902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лек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ль людського фактора в управлінні організаціє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труктура особистост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собистість у груп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67840" y="409320"/>
            <a:ext cx="1163484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гідно з Платоновим К. К. у структурі особистості виділяють три головні підструктур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дструктур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ямованості особистості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о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біркове ставлення людини до дійсності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. Складові якості цієї підструктури особистості не є природженими і відображають індивідуальне суспільне мислення. Формується спрямованість особистості в процесі вихованн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дструктура досвіду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лючає знання, вміння, навички й звички, які засвоєні у власному досвіді шляхом навчання. Іноді цю підструктуру розглядають як підготовленість індивіда. На формування компонентів даної підструктури помітно впливають біологічні й генетичні якості люди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іологічна підструктур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лючає властивості темпераменту, статеві й вікові властивості. До неї ж відносять і патологічні (органічні) зміни особистості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4480" y="204840"/>
            <a:ext cx="1171404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гідно з підходом Ковальова О. Г. у структурі особистості можна виокремити чотири блоки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ічні процеси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чуття, сприйняття, представлення, уява, пам'ять, мова, мислення, уваг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ічні властивості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мент, характер, здібності, емоційно-вольова сфера особистості (почуття, емоції, воля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ічні стани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ес, настрій, афект, страх, гнів, сором, фрустрація, радість, агресія та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ічні утворення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ня, вміння, навички, компетентності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ічна структура особистості (індивідуальності) формується, починаючи від природних властивостей та закінчуючи властивостями, набутими в результаті соціальної діяльності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сихофізіологічні властивості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сихологічні властивості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Соціально-психологічні властивості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56960" y="268200"/>
            <a:ext cx="11698200" cy="63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мент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поєднання індивідуальних властивостей, які визначають динамічну сторону поведін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мент визначає динаміку психічної діяльності людини (швидкість виникнення та стійкість психічних процесів, психічний темп і ритм, інтенсивність психічних процесів, спрямованість психічної діяльності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мент закладений в особистості генетично та надзвичайно мало знижується в процесі її життєдіяльност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Існує такі основні типи темпераменту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лери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одіє сильною нервовою системою, легко переключається з однієї роботи на іншу, однак його нервова система є неврівноваженою, тому заважає сумісності з іншими людь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нгвіні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одіє сильною нервовою системою, володіє гарною працездатністю, легко переходить до іншого виду діяльності та легко переживає невдачі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легмати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одіє сильною працездатною нервовою системою, але важко включається в іншу роботу та пристосовується до нової обстановки, у нього переважає спокійний рівний настрій, почуття відрізняються сталіст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31920" y="236520"/>
            <a:ext cx="11476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ланхолі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різняється низьким рівнем психічної активності, повільними рухами, швидкою втомлюваністю, високою чутливіст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властивостей темпераменту відносятьс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нситивні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чуттєвість до впливу зовнішнього середовищ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ктивні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особливість мимовільних реакці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ивні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довільні дії та їх баланс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стичність поведін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яка має два полюси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аптивні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гнучкість поведінки, висока пристосовуваність, легкість зміни поведінки під час змін у зовнішньому середовищі) т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гідні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егнучкість поведінки, низька пристосовуваність, складність зміни поведінки під час змін у зовнішньому середовищі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2800" y="393480"/>
            <a:ext cx="11793240" cy="62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ієнтація на оточуюче середовище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ває двох типів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Екстраверсія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орієнтація на зовнішній світ, на об’єкти та людей, потреба у зовнішній стимуляції, передбачає роботу, пов’язану з новизною, різноманіттям, непередбачуваністю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троверсія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спрямованість на внутрішні подразники, орієнтація на власні почуття, внутрішнє життя, припускає передбачуваність, порядок і стабільність у роботі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йротизм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емоційна нестабільність. Високий рівень нейротизму обумовлює низьку стійкість до невизначеності, потребу в підтримці з боку інших, нестабільність самооцінки, чуттєвість до успіхів та невдач, до погроз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сукупність стійких індивідуальних особливостей особистості, які складаються та проявляються в діяльності та спілкуванні, обумовлюючи при цьому типові для людини способи поведінк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 і темперамент, характер залежить від фізіологічних особливостей особистості, від типу вищої нервової діяльності. Однак, на відміну від темпераменту характер формується на протязі всього життя люди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6960" y="299880"/>
            <a:ext cx="11793240" cy="63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а характеру розглядається перш за все виходячи з типу ставлення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влення до людей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(довірливість – недовірливість, співчуття – байдужість, щедрість – скупість)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влення до самого себе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амооцінка, самокритичність, скромність, гідність)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влення до діяльності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(працелюбність – лінь, відповідальність - безвідповідальність)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влення до колективу, суспільства в цілому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(товариськість – замкнутість, принциповість – безпринципність, цілеспрямованість, переконаність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 людини має 3 групи рис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телектуальні риси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ичність, спостережливість, мрійливість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Емоційні риси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чуттєвість, марнославство, чесність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ьові риси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цілеспрямованість, принциповість, наполегливі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0320" y="220680"/>
            <a:ext cx="11745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рямованість особистості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прояв ділових життєвих спрямувань людини та її мотиваці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а спрямованості складається з таких компонентів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реб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(природні та соціальні)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терес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форма пізнавальної спрямованості, яка впливає на вибір професії, займання певної посади в колективі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Ідеал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орієнтація на певні еталони поведінки, професійної діяльності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ібності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властивості особистості, які визначають її придатність для успішного вирішення навчальних, виробничих і творчих завдань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іляють різні види здібностей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Відносно діяльності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гальні здібності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основа успішності виконання різних видів діяльності (працездатність, наполегливість, активність тощо)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іальні (професійні) здібності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основа успішності виконання певних видів діяльності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04480" y="361800"/>
            <a:ext cx="11807640" cy="62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За елементами новизни у діяльності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онавчі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За рівнем сформованості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т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природна основа здібносте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даровані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сприятливий збіг задатків для будь-якої діяльності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ібності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якості особистості, що обумовлюють успішність оволодіння та виконання певної професійної діяльності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лан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комплекс високорозвинених здібностей, який визначає можливості видатних досягнень в обраній діяльності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ніальні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вищий рівень розвитку таланту, який проявляється в розробці нових галузей науки, мистецтва, практичної діяльност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0680" y="204840"/>
            <a:ext cx="117777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ічних процесів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носять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чутт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ображення окремих властивостей предметів і явищ оточуючого середовища та внутрішнього стану людини. Виокремлюють такі відчуття: зорові, слухові, смакові, температурні, нюхові, вібраційні, больові, рівноваги, прискорення тощо. Для організаційної поведінки важливим є понятт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ог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якщо подразник не має достатньої сили, то відчуття не виникає)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рийнятт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ображення в свідомості людини цілісних предметів і явищ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пперцепці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лежність сприйняття від загального змісту психічного життя людини, її досвіду, інтересів, спрямованості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флексі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відомлення людиною того, як вона сприймається партнером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тракці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абливість однієї людини для іншої, яка виникає в процесі сприйнятт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6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сленн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осередковане та узагальнене відображення істотних закономірних зв’язків та відносин. Особливостями мислення є критичність, широта, самостійність, логічність, гнучкість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ваг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рямованість психіки на певний об’єкт, яка має стійке або ситуативне значення. Існують такі види уваги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мовільна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значається особливостями подразників, відповідністю зовнішнього подразника внутрішньому стану та потребам людини, почуттям, досвіду, загальній спрямованості особистості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віль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значається цілями та завданнями діяльності, зусиллями вол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8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м'ять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цеси організації та збереження попереднього досвіду, які дають можливість використовувати його повторно. До процесів пам’яті відносяться: запам’ятовування, зберігання, відтворення та забуванн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67840" y="378000"/>
            <a:ext cx="11619000" cy="61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психічних властивостей емоційно-вольової сфери можна віднест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утт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специфічні людські, узагальнені переживання, ставлення до людських потреб, задоволення або незадоволення яких викликає позитивні або негативні емоції — радість, любов, гордість або сум, гнів, сором тощ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оля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улювання людиною своєї поведінки, яке виражається в умінні долати зовнішні та внутрішні складнощі під час здійснення цілеспрямованих дій. Для організації важливими є такі вольові якості: рішучість, цілеспрямованість, наполегливість, самостійність та ініціатив-ність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моції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ображення суб’єктивного значення для людини предметів та явищ у певних умовах. Виділяють такі емоційні реакції: емоційний відгук, емоційний спалах, афект (понадемоційна реакці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важливих в умовах організаційної поведінк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ічних (емоційних) стані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носять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е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купність захисних реакцій організму, стан напруги, який виникає в складних життєвих ситуаціях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трі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йбільш загальний емоційний стан, що охоплює людину протягом певного періоду часу і здійснює істотний вплив на її психіку, поведінку та діяльність. Настрій може виникати повільно, поступово, а може охоплювати людину швидко та раптово. Він буває позитивним чи негативним, стійким або тимчасови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я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уття боргу, патріотизму тощ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84040"/>
            <a:ext cx="10515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а література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3680" y="824040"/>
            <a:ext cx="1152396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рмстронг М. Практика управления человеческими ресурсами : учебник для слушателей, обучающихся по программам «Мастер делового администрирования» / М. Армстронг ; пер. с англ. под ред. С. К. Мордовина. – 8-е изд. – СПб. : Питер, 2004. – 831 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єва О. В. Основи менеджменту: практикум : навч. посібн. / О. В. Баєва, Н. І. Новальська, Л. О. Згалат-Лозинська. – К. : Центр учбової літератури, 2007. – 524 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андурка А. М. Психология управления / А. М. Бандурка, С. П. Бочарова, Е. В. Землянская. – Х. : ООО «Фортуна-пресс», 1998. – 464 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елянин А. Дэниел Канеман и Вернон Смит: экономический анализ человеческого поведения (Нобелевская премия за чувство реальности) / А. Белянин // Вопросы экономики. – 2003. – № 1. – С. 4–2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Беляцкий Н.П. Интеллектуальная техника менеджмента : учебн. пособие / Н. П. Беляцкий. – Мн. : Новое знание, 2001. – 320 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Бєсєдін М. О. Основи менеджменту: оцінно-ситуаційний підхід (модульний варіант) : підручник / М. О. Бєсєдін, В. М. Нагаєв. – К. : Центр навчальної літератури, 2005. – 496 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426600"/>
            <a:ext cx="10515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собистість у групі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4480" y="662040"/>
            <a:ext cx="117615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загальному вигляді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п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сукупність людей, які мають щось спільне. Згідно з роботою виділяють декілька різновидів груп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но до предмета організаційної поведінки більш детально слід зупинитись на малих група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а група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носно відокремлене об’єднання невеликої кількості людей (зазвичай не більше 10 осіб), які знаходяться у доволі стійкій взаємодії і здійснюють спільні дії протягом достатньо тривалого проміжку часу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ними особливостями групи є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Члени групи ідентифікують себе та свої дії з групою в цілому та тим самим у зовнішніх взаємодіях виступають від імені груп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заємодія між членами групи носить характер безпосередніх контактів, особистої розмови, спостереження за поведінкою один одного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У групі поряд із формальним розподілом ролей обов’язково складається неформальний розподіл ролей, який зазвичай визнається групою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04480" y="268200"/>
            <a:ext cx="11823480" cy="63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Існують два типи груп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альні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ні підрозділи організації, які мають формально призначеного керівника, формально визначену структуру ролей, посад і позицій всередині групи, а також формально закріплені за ними функції та завдання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формальні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нтанно утворені групи людей, які об’єднані відповідно до їх симпатій, спільних інтересів, однакових захоплень, звичо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формальні групи мають свою структуру, яка складається з таких елементі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льова структур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ль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деякий стійкий зразок поведінки людин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іляють три види роле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оціальні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носно жорстко регламентована позиція з приписаними суспільством функціями, правами та обов’язками, юридично та економічно оформленими та соціально прийнятими. Серед них виокремлюють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ідер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, яка володіє в групі високим особистим чи професійним авторитетом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нератор іде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, яка видає нові ідеї, що сприяють розвитку груп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руди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сій довідково-енциклопедичної інформації з широкого кола проблем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ик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, яка піддає критичному аналізу хід і результати роботи груп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нтузіас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, яка особистим прикладом, чарівністю заряджає групу вірою в успіх спільної справ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онавець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, яка бере на себе виконання рутинних робі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8640" y="173160"/>
            <a:ext cx="11777400" cy="64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Групові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відносно стійкий зразок поведінки індивіда по відносно групи, її цілей та її членів, обумовлений його особистісними характеристиками та закріплений в очікуваннях інших членів груп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групових соціальних ролей відносять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іде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людина, яка володіє в групі високим особистим або професійним авторитет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нератор ід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людина, яка видає нові ідеї, що сприяють розвитку груп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руди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носій довідково-енциклопедичної інформації широкого кола питан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людина, яка піддає критичному аналізу хід і результати роботи груп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нтузіас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людина, яка особистим прикладом, чарівністю заряджає групу вірою в успіх спільної справ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онавец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людина, яка бере на себе виконання рутинних робі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собистісні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відносно стійкий зразок форм поведінки індивіда в повсякденному житті. Виділяють такі особистісні ролі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ігіліст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є на все свою точку зору, яка відрізняється від загальноприйнятої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мат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завзято наполягає на своєму, неможливо перекона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ентато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коментує події, які відбуваються на роботі, в побуті, сприяє розповсюдженню чуток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ркоту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ображений на весь світ, усім незадоволени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занська сиро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шукає співчуття в оточуючих, жаліється на своє тяжке становищ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61440" y="409680"/>
            <a:ext cx="10991880" cy="60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заємодія людини з групою може носити такий характер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операція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між членами групи встановлюються довірливі та доброзичливі відносин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лиття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встановлення таких відносин між особистістю й іншою частиною групи, коли кожна зі сторін розглядає іншу як органічно єдину з нею складову цілого, яким є група. Людина будує свої цілі, виходячи з цілей групи підпорядковує свої інтереси інтересам групи та ідентифікує себе з групо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флік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протиставлення інтересів людини та групи та боротьба між ними за вирішення цього протиріччя на свою корис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лежно від комбінації поєднання головних складових поведінки людей виділяють такі моделі організаційної поведінки людини в груп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даний і дисциплінований член організації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а людина повністю приймає всі організаційні цінності та норми поведінки. У цьому випадку людина намагається вести себе таким чином, щоб своїми діями не входити у протиріччя з інтересами організації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99520" y="236520"/>
            <a:ext cx="11571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тосуванець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 не сприймає цінностей організації, однак намагається повністю слідувати нормам та формам поведінки, прийнятим в організації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игінал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 сприймає цілі діяльності організації, але не сприймає існуючі в ній традиції та норми поведінки. До цього типу відносяться багато талановитих людей креативного складу характеру, які здатні генерувати нові ідеї та оригінальні рішен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нтівник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дивід не сприймає ані норм поведінки, ані цінностей організації. Часто такі люди своєю поведінкою породжують багато проблем, які істотно ускладнюють життя організації і навіть завдають збиткі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7944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ль людського фактора в управлінні організаціє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78000" y="835200"/>
            <a:ext cx="115092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равлінн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це не просто управління організацією, а мистецтво управління бізнесом через роботу з люд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із успіху економіки протягом тривалого періоду часу у високорозвинених країнах – Німеччині, Японії, США, Південній Кореї тощо – дозволив виявити, що в центрі концепції управління в цих країнах знаходиться людина, яка розглядається як найвища цінність будь-якої організації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я концепція спрямована на спонукання людини відчувати необхідність успішності тієї організації, де вона працює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0320" y="284040"/>
            <a:ext cx="11714040" cy="63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чином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учасна модель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равління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ґрунтується на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оцентристському погляді на управління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 якому працівники розглядаються як головна мета управління та суб’єкт діяльності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тність людиноцентристського погляду виражається в таких позиціях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 – головна цінність організації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 – це не деталь, яку можна замінити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 – це особистість зі своїм характером, мотивацією, прихильностями та поведінкою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жний співробітник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джерело загального інтелекту організації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, якість і прибуток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від людини, від вміння допомогти їй розкрити себе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Таким чин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людський фактор відіграє найважливішу роль у діяльності організації. Люди найменшою мірою піддаються управлінню, тому в рамках організаційної поведінки виникає необхідність у розробці таких методів, які б дозволили враховувати поведінкові особливості працівників організаці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45600" y="299880"/>
            <a:ext cx="11572920" cy="625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ід зазначи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що однією з основних проблем організаційної поведінки є проблема виконання робіт. Для того щоб виконання робіт здійснювалось з максимальною ефективністю, необхідно брати до уваги формулу виконання завдан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онанн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Індивідуалі властивостьні * Зусилля * Організаційна підтрим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дивідуальні властивост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здатність працівника виконувати отримані завд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усилл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бажання виконувати завд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йна підтримк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можливість виконання завдань, які повинна забезпечити організаці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ходячи з цієї формули, спеціалістам з організаційної поведінки необхід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-перш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аймати таких людей на роботу, які б мали необхідні індивідуальні властивості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-друг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сприяти підвищенню приналежності працівників організації 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-трет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створювати сприятливі умови для прац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0320" y="361800"/>
            <a:ext cx="11745720" cy="62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яд із цим необхідно мати на увазі, що кожний працівник має свої особистісні особливості. Для цього потрібно, перш за все, розглянути сутність поняття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особистість»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никає запитання, а чи кожна людина є особистістю.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З позиції психології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ні. Необхідно зупинитися на визначенні цього поняття детальніше. Спочатку слід розглянуто поняття «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дивід»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дивід (індивідуум)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одинична природна істота як представник виду Homo sapiens, яка має цілісність психофізіологічної організації та наявність індивідуальних властивостей, що відрізняють її від інших представників цього виду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рмін «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истіст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» вперше запропонований Карамзіним М. 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колай Михайлович Карамзін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— (1766 – 1826), російський історик, письменник, поет, реформатор російської мови, почесний член Петербурзької Академії наук, автор багатьох слів російської мов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99520" y="236520"/>
            <a:ext cx="1171260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истість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індивід, здатний до спілкування, інтелектуального та морального вдосконаленн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Існує ще одне поняття, яке є дуже важливим під час розуміння особливостей поведінки людини в трудовій діяльності – її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дивідуальні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дивідуальність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одна зі сторін особистості, яка проявляється у властивостях темпераменту, особливостях емоційно-вольової сфери, в здібностях та індивідуальному стилі діяльності, в якості та інтенсивності пізнавальних процесі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 Платоно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танти́н Константи́нови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1906-1984) - радянський психолог, доктор психологічних наук і доктор медичних наук, професор. Автор понад 300 публікацій, перекладених на 21 мову («Людина в польоті», «Психологія льотного праці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36160" y="315720"/>
            <a:ext cx="1171404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формулював такі принципи вивчення особистості, якими слід керуватися кожному, хто намагається управляти поведінкою люде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ринцип спрямованості на виявлення позитивного в роботі, що призводе до професійного вдосконалення. Доведено, що заохочення як регулятор поведінки дає кращий результат, ніж покаранн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ринцип вивчення єдності особистості, свідомості та діяльності – не можна розривати при оцінці або прогнозуванні поведінки фактори особистісних властивостей, самооцінки та ситуаційні фактори, оскільки їх вплив взаємопов’яз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инцип системності вивчення особистості, всебічності, з урахуванням дії внутрішніх та зовнішніх факторі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инцип об’єктивності, обов’язкової перевірки та взаємопере-вірки даних, отриманих різними шлях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Принцип динамічності – вивчення особистості повинно бути постійним, щоб відобразити всі її сторони та динаміку розвит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Принцип вивчення структури особистості – необхідно вивчати елементи особистості, їх взаємозв’язки та особливості взаємоді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466200"/>
            <a:ext cx="10515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труктура особистості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5600" y="772920"/>
            <a:ext cx="1155708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тність поняття «особистість» дозволяє зробити висновок про складне цілісне утворення. Виходячи з цього, особистість складається з сукупності певних елементів, які в цілому складають структуру особистост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ш за все, особистість можна поділити на три основні підсистем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нітив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 якій містяться функції пізнання та яка включає в себе пізнавальні процес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улятив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яка включає емоційно-вольові процеси й забезпечує здатність до саморегуляції діяльності та управління діяльністю інших люде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унікатив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яка реалізується в спілкуванні та взаємодії з іншими людь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8T17:25:51Z</dcterms:created>
  <dc:creator>Karim</dc:creator>
  <dc:description/>
  <dc:language>en-US</dc:language>
  <cp:lastModifiedBy>Karim</cp:lastModifiedBy>
  <dcterms:modified xsi:type="dcterms:W3CDTF">2020-03-15T20:52:35Z</dcterms:modified>
  <cp:revision>13</cp:revision>
  <dc:subject/>
  <dc:title>Лекція №: 3 Тема: Управління поведінкою індивіда</dc:title>
</cp:coreProperties>
</file>