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56FD-D701-4C7D-AE56-E9D28B104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5F96-647F-4664-90DD-2EBE9B76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D033-A2D5-4102-80C3-2D55FE185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A9EE-7B4D-48F8-968A-5516B05C1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1D78-4B9B-4963-80B0-E781D16F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FDF9-536D-446E-AD37-97247681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2D38-CCF6-48CA-B10B-06BABFB3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23B3-3550-4D01-A88A-B518BBF2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D40C-DB9C-4CF6-8317-BBA781A1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C532-2BEB-4826-B9F8-2C2FCF54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8727-2DF4-44BC-AB63-0F8CCA15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6DB7-E3F4-40A1-A40B-D9E70AFA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9BB4-75B2-444B-9D74-E031A2ED7E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930240"/>
            <a:ext cx="9144000" cy="96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ція №: 2</a:t>
            </a:r>
            <a:br>
              <a:rPr sz="25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Управління поведінкою індивіда</a:t>
            </a: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50680" y="2096640"/>
            <a:ext cx="106902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лекці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Роль людського фактора в управлінні організаціє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Структура особистост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Особистість у груп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67840" y="409320"/>
            <a:ext cx="11634840" cy="62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гідно з Платоновим К. К. у структурі особистості виділяють три головні підструктур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1.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ідструктура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с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ямованості особистості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або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біркове ставлення людини до дійсності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. Складові якості цієї підструктури особистості не є природженими і відображають індивідуальне суспільне мислення. Формується спрямованість особистості в процесі вихованн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2.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ідструктура досвіду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ключає знання, вміння, навички й звички, які засвоєні у власному досвіді шляхом навчання. Іноді цю підструктуру розглядають як підготовленість індивіда. На формування компонентів даної підструктури помітно впливають біологічні й генетичні якості людин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Біологічна підструктура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ключає властивості темпераменту, статеві й вікові властивості. До неї ж відносять і патологічні (органічні) зміни особистості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04480" y="204840"/>
            <a:ext cx="11714040" cy="63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гідно з підходом Ковальова О. Г. у структурі особистості можна виокремити чотири блоки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1.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сихічні процеси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чуття, сприйняття, представлення, уява, пам'ять, мова, мислення, уваг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2.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сихологічні властивості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мперамент, характер, здібності, емоційно-вольова сфера особистості (почуття, емоції, воля)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3.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сихічні стани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рес, настрій, афект, страх, гнів, сором, фрустрація, радість, агресія та і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4.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сихологічні утворення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ння, вміння, навички, компетентності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сихологічна структура особистості (індивідуальності) формується, починаючи від природних властивостей та закінчуючи властивостями, набутими в результаті соціальної діяльності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Психофізіологічні властивості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Психологічні властивості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Соціально-психологічні властивості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56960" y="268200"/>
            <a:ext cx="11698200" cy="63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мперамент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 поєднання індивідуальних властивостей, які визначають динамічну сторону поведінк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мперамент визначає динаміку психічної діяльності людини (швидкість виникнення та стійкість психічних процесів, психічний темп і ритм, інтенсивність психічних процесів, спрямованість психічної діяльності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мперамент закладений в особистості генетично та надзвичайно мало знижується в процесі її життєдіяльност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Існує такі основні типи темпераменту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Холери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лодіє сильною нервовою системою, легко переключається з однієї роботи на іншу, однак його нервова система є неврівноваженою, тому заважає сумісності з іншими людь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нгвіні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лодіє сильною нервовою системою, володіє гарною працездатністю, легко переходить до іншого виду діяльності та легко переживає невдачі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легмати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лодіє сильною працездатною нервовою системою, але важко включається в іншу роботу та пристосовується до нової обстановки, у нього переважає спокійний рівний настрій, почуття відрізняються сталістю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31920" y="236520"/>
            <a:ext cx="114760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ланхолі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різняється низьким рівнем психічної активності, повільними рухами, швидкою втомлюваністю, високою чутливіст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 властивостей темпераменту відносятьс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нситивність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чуттєвість до впливу зовнішнього середовища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активність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особливість мимовільних реакцій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ктивність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довільні дії та їх баланс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астичність поведінк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, яка має два полюси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аптивність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(гнучкість поведінки, висока пристосовуваність, легкість зміни поведінки під час змін у зовнішньому середовищі) т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игідність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(негнучкість поведінки, низька пристосовуваність, складність зміни поведінки під час змін у зовнішньому середовищі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72800" y="393480"/>
            <a:ext cx="11793240" cy="62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ієнтація на оточуюче середовище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буває двох типів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Екстраверсія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орієнтація на зовнішній світ, на об’єкти та людей, потреба у зовнішній стимуляції, передбачає роботу, пов’язану з новизною, різноманіттям, непередбачуваністю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Інтроверсія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спрямованість на внутрішні подразники, орієнтація на власні почуття, внутрішнє життя, припускає передбачуваність, порядок і стабільність у роботі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йротизм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емоційна нестабільність. Високий рівень нейротизму обумовлює низьку стійкість до невизначеності, потребу в підтримці з боку інших, нестабільність самооцінки, чуттєвість до успіхів та невдач, до погроз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Характер –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 сукупність стійких індивідуальних особливостей особистості, які складаються та проявляються в діяльності та спілкуванні, обумовлюючи при цьому типові для людини способи поведінк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Як і темперамент, характер залежить від фізіологічних особливостей особистості, від типу вищої нервової діяльності. Однак, на відміну від темпераменту характер формується на протязі всього життя людин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56960" y="299880"/>
            <a:ext cx="11793240" cy="632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руктура характеру розглядається перш за все виходячи з типу ставлення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влення до людей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(довірливість – недовірливість, співчуття – байдужість, щедрість – скупість)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влення до самого себе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(самооцінка, самокритичність, скромність, гідність)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влення до діяльності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(працелюбність – лінь, відповідальність - безвідповідальність)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влення до колективу, суспільства в цілому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(товариськість – замкнутість, принциповість – безпринципність, цілеспрямованість, переконаність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Характер людини має 3 групи рис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Інтелектуальні риси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итичність, спостережливість, мрійливість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Емоційні риси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чуттєвість, марнославство, чесність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льові риси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цілеспрямованість, принциповість, наполегливіст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20320" y="220680"/>
            <a:ext cx="11745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рямованість особистості –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 прояв ділових життєвих спрямувань людини та її мотивація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руктура спрямованості складається з таких компонентів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треби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(природні та соціальні)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Інтереси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форма пізнавальної спрямованості, яка впливає на вибір професії, займання певної посади в колективі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Ідеали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орієнтація на певні еталони поведінки, професійної діяльності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дібності –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 властивості особистості, які визначають її придатність для успішного вирішення навчальних, виробничих і творчих завдань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діляють різні види здібностей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Відносно діяльності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гальні здібності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основа успішності виконання різних видів діяльності (працездатність, наполегливість, активність тощо)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еціальні (професійні) здібності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основа успішності виконання певних видів діяльності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04480" y="361800"/>
            <a:ext cx="11807640" cy="62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За елементами новизни у діяльності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конавчі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ворчі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За рівнем сформованості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тк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природна основа здібностей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дарованість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сприятливий збіг задатків для будь-якої діяльності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дібності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якості особистості, що обумовлюють успішність оволодіння та виконання певної професійної діяльності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лант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комплекс високорозвинених здібностей, який визначає можливості видатних досягнень в обраній діяльності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еніальність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вищий рівень розвитку таланту, який проявляється в розробці нових галузей науки, мистецтва, практичної діяльності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20680" y="204840"/>
            <a:ext cx="117777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сихічних процесів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носятьс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чутт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ображення окремих властивостей предметів і явищ оточуючого середовища та внутрішнього стану людини. Виокремлюють такі відчуття: зорові, слухові, смакові, температурні, нюхові, вібраційні, больові, рівноваги, прискорення тощо. Для організаційної поведінки важливим є поняття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рогу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якщо подразник не має достатньої сили, то відчуття не виникає)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рийнятт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ображення в свідомості людини цілісних предметів і явищ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пперцепці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лежність сприйняття від загального змісту психічного життя людини, її досвіду, інтересів, спрямованості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4.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флексі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відомлення людиною того, як вона сприймається партнером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.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тракці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вабливість однієї людини для іншої, яка виникає в процесі сприйнятт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6.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исленн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осередковане та узагальнене відображення істотних закономірних зв’язків та відносин. Особливостями мислення є критичність, широта, самостійність, логічність, гнучкість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7.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ваг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рямованість психіки на певний об’єкт, яка має стійке або ситуативне значення. Існують такі види уваги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имовільна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значається особливостями подразників, відповідністю зовнішнього подразника внутрішньому стану та потребам людини, почуттям, досвіду, загальній спрямованості особистості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вільн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значається цілями та завданнями діяльності, зусиллями волі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8.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м'ять 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цеси організації та збереження попереднього досвіду, які дають можливість використовувати його повторно. До процесів пам’яті відносяться: запам’ятовування, зберігання, відтворення та забуванн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67840" y="378000"/>
            <a:ext cx="11619000" cy="61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 психічних властивостей емоційно-вольової сфери можна віднести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уття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 специфічні людські, узагальнені переживання, ставлення до людських потреб, задоволення або незадоволення яких викликає позитивні або негативні емоції — радість, любов, гордість або сум, гнів, сором тощ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Воля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улювання людиною своєї поведінки, яке виражається в умінні долати зовнішні та внутрішні складнощі під час здійснення цілеспрямованих дій. Для організації важливими є такі вольові якості: рішучість, цілеспрямованість, наполегливість, самостійність та ініціатив-ність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Емоції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ображення суб’єктивного значення для людини предметів та явищ у певних умовах. Виділяють такі емоційні реакції: емоційний відгук, емоційний спалах, афект (понадемоційна реакція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 важливих в умовах організаційної поведінки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сихічних (емоційних) станів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носяться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рес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укупність захисних реакцій організму, стан напруги, який виникає в складних життєвих ситуаціях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стрій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йбільш загальний емоційний стан, що охоплює людину протягом певного періоду часу і здійснює істотний вплив на її психіку, поведінку та діяльність. Настрій може виникати повільно, поступово, а може охоплювати людину швидко та раптово. Він буває позитивним чи негативним, стійким або тимчасови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яв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уття боргу, патріотизму тощ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284040"/>
            <a:ext cx="105156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ристана література 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3680" y="824040"/>
            <a:ext cx="1152396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рмстронг М. Практика управления человеческими ресурсами : учебник для слушателей, обучающихся по программам «Мастер делового администрирования» / М. Армстронг ; пер. с англ. под ред. С. К. Мордовина. – 8-е изд. – СПб. : Питер, 2004. – 831 с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аєва О. В. Основи менеджменту: практикум : навч. посібн. / О. В. Баєва, Н. І. Новальська, Л. О. Згалат-Лозинська. – К. : Центр учбової літератури, 2007. – 524 с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Бандурка А. М. Психология управления / А. М. Бандурка, С. П. Бочарова, Е. В. Землянская. – Х. : ООО «Фортуна-пресс», 1998. – 464 с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Белянин А. Дэниел Канеман и Вернон Смит: экономический анализ человеческого поведения (Нобелевская премия за чувство реальности) / А. Белянин // Вопросы экономики. – 2003. – № 1. – С. 4–23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Беляцкий Н.П. Интеллектуальная техника менеджмента : учебн. пособие / Н. П. Беляцкий. – Мн. : Новое знание, 2001. – 320 с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Бєсєдін М. О. Основи менеджменту: оцінно-ситуаційний підхід (модульний варіант) : підручник / М. О. Бєсєдін, В. М. Нагаєв. – К. : Центр навчальної літератури, 2005. – 496 с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426600"/>
            <a:ext cx="10515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Особистість у групі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04480" y="662040"/>
            <a:ext cx="117615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загальному вигляді,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груп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це сукупність людей, які мають щось спільне. Згідно з роботою виділяють декілька різновидів груп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повідно до предмета організаційної поведінки більш детально слід зупинитись на малих групах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ла група –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носно відокремлене об’єднання невеликої кількості людей (зазвичай не більше 10 осіб), які знаходяться у доволі стійкій взаємодії і здійснюють спільні дії протягом достатньо тривалого проміжку часу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Характерними особливостями групи є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Члени групи ідентифікують себе та свої дії з групою в цілому та тим самим у зовнішніх взаємодіях виступають від імені груп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Взаємодія між членами групи носить характер безпосередніх контактів, особистої розмови, спостереження за поведінкою один одного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У групі поряд із формальним розподілом ролей обов’язково складається неформальний розподіл ролей, який зазвичай визнається групою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04480" y="268200"/>
            <a:ext cx="11823480" cy="632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Існують два типи груп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альні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руктурні підрозділи організації, які мають формально призначеного керівника, формально визначену структуру ролей, посад і позицій всередині групи, а також формально закріплені за ними функції та завдання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формальні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онтанно утворені групи людей, які об’єднані відповідно до їх симпатій, спільних інтересів, однакових захоплень, звичок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формальні групи мають свою структуру, яка складається з таких елементів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льова структур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ль 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 деякий стійкий зразок поведінки людин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діляють три види ролей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Соціальні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носно жорстко регламентована позиція з приписаними суспільством функціями, правами та обов’язками, юридично та економічно оформленими та соціально прийнятими. Серед них виокремлюють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лідер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людина, яка володіє в групі високим особистим чи професійним авторитетом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енератор ідей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людина, яка видає нові ідеї, що сприяють розвитку групи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ерудит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сій довідково-енциклопедичної інформації з широкого кола проблем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итик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людина, яка піддає критичному аналізу хід і результати роботи груп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ентузіаст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людина, яка особистим прикладом, чарівністю заряджає групу вірою в успіх спільної справ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конавець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людина, яка бере на себе виконання рутинних робі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8640" y="173160"/>
            <a:ext cx="11777400" cy="64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Групові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 відносно стійкий зразок поведінки індивіда по відносно групи, її цілей та її членів, обумовлений його особистісними характеристиками та закріплений в очікуваннях інших членів груп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 групових соціальних ролей відносяться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ліде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людина, яка володіє в групі високим особистим або професійним авторитетом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енератор іде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людина, яка видає нові ідеї, що сприяють розвитку груп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еруди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носій довідково-енциклопедичної інформації широкого кола питань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итик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людина, яка піддає критичному аналізу хід і результати роботи груп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ентузіас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людина, яка особистим прикладом, чарівністю заряджає групу вірою в успіх спільної справ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конавец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людина, яка бере на себе виконання рутинних робі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Особистісні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відносно стійкий зразок форм поведінки індивіда в повсякденному житті. Виділяють такі особистісні ролі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ігіліст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є на все свою точку зору, яка відрізняється від загальноприйнятої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матик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завзято наполягає на своєму, неможливо переконат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ентато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коментує події, які відбуваються на роботі, в побуті, сприяє розповсюдженню чуток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буркоту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ображений на весь світ, усім незадоволени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занська сирот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шукає співчуття в оточуючих, жаліється на своє тяжке становищ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61440" y="409680"/>
            <a:ext cx="10991880" cy="60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заємодія людини з групою може носити такий характер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1.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операція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між членами групи встановлюються довірливі та доброзичливі відносин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2.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лиття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встановлення таких відносин між особистістю й іншою частиною групи, коли кожна зі сторін розглядає іншу як органічно єдину з нею складову цілого, яким є група. Людина будує свої цілі, виходячи з цілей групи підпорядковує свої інтереси інтересам групи та ідентифікує себе з групою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3.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флікт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протиставлення інтересів людини та групи та боротьба між ними за вирішення цього протиріччя на свою користь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лежно від комбінації поєднання головних складових поведінки людей виділяють такі моделі організаційної поведінки людини в групі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1.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ідданий і дисциплінований член організації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а людина повністю приймає всі організаційні цінності та норми поведінки. У цьому випадку людина намагається вести себе таким чином, щоб своїми діями не входити у протиріччя з інтересами організації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99520" y="236520"/>
            <a:ext cx="11571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стосуванець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Людина не сприймає цінностей організації, однак намагається повністю слідувати нормам та формам поведінки, прийнятим в організації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3.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игінал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Людина сприймає цілі діяльності організації, але не сприймає існуючі в ній традиції та норми поведінки. До цього типу відносяться багато талановитих людей креативного складу характеру, які здатні генерувати нові ідеї та оригінальні рішенн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4.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Бунтівник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Індивід не сприймає ані норм поведінки, ані цінностей організації. Часто такі люди своєю поведінкою породжують багато проблем, які істотно ускладнюють життя організації і навіть завдають збиткі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79440"/>
            <a:ext cx="1051560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Роль людського фактора в управлінні організацією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78000" y="835200"/>
            <a:ext cx="115092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правлінн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це не просто управління організацією, а мистецтво управління бізнесом через роботу з людь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ліз успіху економіки протягом тривалого періоду часу у високорозвинених країнах – Німеччині, Японії, США, Південній Кореї тощо – дозволив виявити, що в центрі концепції управління в цих країнах знаходиться людина, яка розглядається як найвища цінність будь-якої організації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Ця концепція спрямована на спонукання людини відчувати необхідність успішності тієї організації, де вона працює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20320" y="284040"/>
            <a:ext cx="11714040" cy="632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им чином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сучасна модель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управління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ґрунтується на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людиноцентристському погляді на управління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, в якому працівники розглядаються як головна мета управління та суб’єкт діяльності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утність людиноцентристського погляду виражається в таких позиціях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Людина – головна цінність організації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Людина – це не деталь, яку можна замінити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Людина – це особистість зі своїм характером, мотивацією, прихильностями та поведінкою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жний співробітник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джерело загального інтелекту організації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зультат, якість і прибуток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від людини, від вміння допомогти їй розкрити себе.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Таким чино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, людський фактор відіграє найважливішу роль у діяльності організації. Люди найменшою мірою піддаються управлінню, тому в рамках організаційної поведінки виникає необхідність у розробці таких методів, які б дозволили враховувати поведінкові особливості працівників організацій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45600" y="299880"/>
            <a:ext cx="11572920" cy="625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лід зазначи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що однією з основних проблем організаційної поведінки є проблема виконання робіт. Для того щоб виконання робіт здійснювалось з максимальною ефективністю, необхідно брати до уваги формулу виконання завдан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конанн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= Індивідуалі властивостьні * Зусилля * Організаційна підтрим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Індивідуальні властивост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здатність працівника виконувати отримані завданн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усилля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бажання виконувати завданн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ізаційна підтримк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можливість виконання завдань, які повинна забезпечити організаці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ходячи з цієї формули, спеціалістам з організаційної поведінки необхід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-перш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наймати таких людей на роботу, які б мали необхідні індивідуальні властивості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-друг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сприяти підвищенню приналежності працівників організації 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-трет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створювати сприятливі умови для прац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20320" y="361800"/>
            <a:ext cx="11745720" cy="62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ряд із цим необхідно мати на увазі, що кожний працівник має свої особистісні особливості. Для цього потрібно, перш за все, розглянути сутність поняття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«особистість»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никає запитання, а чи кожна людина є особистістю.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З позиції психології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ні. Необхідно зупинитися на визначенні цього поняття детальніше. Спочатку слід розглянуто поняття «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індивід»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Індивід (індивідуум) –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 одинична природна істота як представник виду Homo sapiens, яка має цілісність психофізіологічної організації та наявність індивідуальних властивостей, що відрізняють її від інших представників цього виду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рмін «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обистість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» вперше запропонований Карамзіним М. 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Миколай Михайлович Карамзін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— (1766 – 1826), російський історик, письменник, поет, реформатор російської мови, почесний член Петербурзької Академії наук, автор багатьох слів російської мов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99520" y="236520"/>
            <a:ext cx="11712600" cy="63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обистість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 індивід, здатний до спілкування, інтелектуального та морального вдосконаленн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Існує ще одне поняття, яке є дуже важливим під час розуміння особливостей поведінки людини в трудовій діяльності – її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індивідуальні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Індивідуальність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 одна зі сторін особистості, яка проявляється у властивостях темпераменту, особливостях емоційно-вольової сфери, в здібностях та індивідуальному стилі діяльності, в якості та інтенсивності пізнавальних процесі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сихолог Платонов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танти́н Константи́нови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(1906-1984) - радянський психолог, доктор психологічних наук і доктор медичних наук, професор. Автор понад 300 публікацій, перекладених на 21 мову («Людина в польоті», «Психологія льотного праці»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36160" y="315720"/>
            <a:ext cx="11714040" cy="62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9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формулював такі принципи вивчення особистості, якими слід керуватися кожному, хто намагається управляти поведінкою людей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9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Принцип спрямованості на виявлення позитивного в роботі, що призводе до професійного вдосконалення. Доведено, що заохочення як регулятор поведінки дає кращий результат, ніж покаранн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9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Принцип вивчення єдності особистості, свідомості та діяльності – не можна розривати при оцінці або прогнозуванні поведінки фактори особистісних властивостей, самооцінки та ситуаційні фактори, оскільки їх вплив взаємопов’язан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9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Принцип системності вивчення особистості, всебічності, з урахуванням дії внутрішніх та зовнішніх факторі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9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Принцип об’єктивності, обов’язкової перевірки та взаємопере-вірки даних, отриманих різними шляха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9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Принцип динамічності – вивчення особистості повинно бути постійним, щоб відобразити всі її сторони та динаміку розвитк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9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. Принцип вивчення структури особистості – необхідно вивчати елементи особистості, їх взаємозв’язки та особливості взаємодії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9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466200"/>
            <a:ext cx="10515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Структура особистості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45600" y="772920"/>
            <a:ext cx="11557080" cy="58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утність поняття «особистість» дозволяє зробити висновок про складне цілісне утворення. Виходячи з цього, особистість складається з сукупності певних елементів, які в цілому складають структуру особистості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ш за все, особистість можна поділити на три основні підсистем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гнітив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, в якій містяться функції пізнання та яка включає в себе пізнавальні процес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улятив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, яка включає емоційно-вольові процеси й забезпечує здатність до саморегуляції діяльності та управління діяльністю інших людей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3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унікатив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, яка реалізується в спілкуванні та взаємодії з іншими людь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08T17:25:51Z</dcterms:created>
  <dc:creator>Karim</dc:creator>
  <dc:description/>
  <dc:language>en-US</dc:language>
  <cp:lastModifiedBy>Karim</cp:lastModifiedBy>
  <dcterms:modified xsi:type="dcterms:W3CDTF">2020-03-15T20:52:35Z</dcterms:modified>
  <cp:revision>13</cp:revision>
  <dc:subject/>
  <dc:title>Лекція №: 3 Тема: Управління поведінкою індивіда</dc:title>
</cp:coreProperties>
</file>