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2E2-563C-4104-98C7-C46BF305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6BE-3A2D-4DF8-8513-7710DC13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5FF-CDCE-4C7A-A5E5-843ABD43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FEE-6704-49AF-B02B-E74430F8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F37-05F1-4B6D-AC20-6037C075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D16-E0C6-46F7-80D3-E1E7688B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F0F-E8AE-4F83-AE7E-7D37FB26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6BA-B83F-4DD2-921D-BFF61784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536-06F9-4D2E-B4EA-167163FA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113-DEED-4129-AD19-7F187178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A91-E93F-4FB3-ADAA-A81F4AC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6E9-5A26-4C81-A73C-B46CBE3E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7399-5AA5-452A-BFC5-793B91FFD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7112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я №: 9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. Організаційний клімат. Неформальна система взаємодій</a:t>
            </a:r>
            <a:br>
              <a:rPr sz="43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" y="1765080"/>
            <a:ext cx="113680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анізаційний клімат як механізм пристосування організації до незворотних змін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ідж організації і його формуван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 різних типів організаційних культ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25280" y="299880"/>
            <a:ext cx="11761920" cy="63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таких первинних механізмів, на думку Б. Шнайдера, зокрема, відносять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фактори, на які звертають увагу лідери, оцінюючи і контролюючи ї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оведінка лідерів в критичних випадках і при організаційних криза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об'єктивні критерії розподілу дефіцитних ресурс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свідоме рольове моделювання, навчання і наставництв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об'єктивні критерії визначення рівня винагороди і статусу працівни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об'єктивні критерії при наймі, відборі, просуванні, переведення і звільнення працівників органі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36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Імідж організації і його формуванн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160" y="834840"/>
            <a:ext cx="1166652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мідж (від лат. Imago - образ, відображення, подоба, зображення) організації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це її образ, що складається у клієнтів, партнерів, громадськості; свого роду особа організації в «дзеркалі громадської думки», тобто сформульоване уявлення аудиторії про діяльність і успіхи компанії, що зміцнює взаємини з клієнтами, конкурентоспроможність, що сприяє успішному подальшому розвитку. Основу іміджу складають існуючий стиль внутрішніх і зовнішніх ділових і міжособистісних відносин персоналу і офіційна атрибутика - назва, емблема, товарний зна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широкому сенсі імідж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це поширене уявлення, що створюється думкою соціальної або робочої групи, демографічного шару, персоналом організації про характер і особливості певного об'єкта, наприклад організації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вузькому сенсі імідж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це цілеспрямовано сформульований образ, який за допомогою асоціацій наділяє об'єкт (товар, особистість, підприємство) додатковими цінностями, завдяки чому сприяє більш позитивному та емоційному його сприйнятт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4480" y="252360"/>
            <a:ext cx="1168236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у формування іміджу складають результати діяльності організації, засоби реклами, масової інформації (ЗМІ) і комунікації, розвиток громадських зв'язків - public relations і т.п. Дуже важливий при формуванні іміджу соціально-перспективний і соціально відповідальний шлях отримання результатів діяльності. Саме такий шлях формує довіру клієнтів до фірми, сприяє зростанню продажів, доброї репутації та імені підприєм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Імід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явище досить крихке, тому що являє собою результат сприйняття. Нова інформація, вплив нових обставин, емоційний стан змінюють сприйняття людини, - а якщо на ці обставини накладаються негативні факти, що стосуються якості товару або поведінки персоналу фірми (шлюб, грубість торгових агентів, неетичну поведінку керівника або його секретарки), то сприятливий імідж миттєво руйнуєть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67840" y="361800"/>
            <a:ext cx="11698200" cy="621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стики імідж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ередбачає сильний емоційний відгук, що випливає з самого його визначен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є ідеальним об'єктом, що виникають у свідомості люд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не підлягає прямому вимірюванню - оцінити його можна лише по відносинам, що виявляється в спілкуванні, діяльності, вибор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цілісний і несуперечливий, відповідає однозначним узагальненим уявленн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нестійкий - його постійно треба «підкріплювати» рекламою або різноманітними цільовими акці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містить обмежене число компонентів: складність кін струкции заважає його сприйняттю, а отже, робить ставлення до нього неоднозначни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в якійсь мірі реалістичний, хоча і є ілюзорним чин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прагматичний, тобто орієнтований на обмежене коло завдань, що відповідають меті організації або особливостям реальної ситуації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) має властивість варіабельності, тобто абсолютно жорстка і незмінна конструкція неприйнятна, імідж завжди динамічний і передбачає можливість внесення коректи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2000" y="173160"/>
            <a:ext cx="11634840" cy="64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ловною функцією іміджу 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ормування позитивного ставлення до кого-небудь або чого-небудь. Як результат сформованого позитивного ставлення настає довіру до компанії і, в свою чергу, з'являються високі оцінки її товару і впевнений їх вибір. Така психологічна ланцюжок, породжувана позитивним ставленням. До того ж позитивний імідж сприяє підвищенню престижу, а отже, авторитету і впливу компанії. Позитивний імідж є також важливим фактором високого рейтингу, що дуже важливо в насиченій різноманітною інформацією публічної діяльност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36160"/>
            <a:ext cx="105156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И ИМИДЖА ЗАЛЕЖНО ВІД ЙОГО ХАРАКТЕРИСТИК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598320" y="803160"/>
            <a:ext cx="1124136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99520"/>
            <a:ext cx="10515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ілі різних типів організаційних культу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2800" y="819000"/>
            <a:ext cx="11745720" cy="58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ілей діяльності організації - процес досить відповідальний і в значній мірі індивідуальний, оскільки крім загальних положень, пов'язаних зі специфікою галузі, особливістю природних і людських ресурсів країни, особливостями оподаткування та соціально-економічної політики держави, цей процес безпосередньо залежить від ступеня соціальної зрілості, відповідальності і економічних можливостей конкретної організації, її засновників і керівників, від постулатів і норм тієї орг. культури, яка проповіду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 є суб'єктивним відображенням у психіці людини об'єктивно існуючих можливостей результату діяльності або вчин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єрархія цілей обумовлена?ієрархією потреб людини, що складають основу його життєдіяльності, Цілі головні і проміжні, більш і менш нагальні в сукупності утворюють систему супідрядних цілей, звану «деревом ціл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6960" y="268200"/>
            <a:ext cx="1177740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ький соціолог Б. Гурней, аналізуючи мотивацію державних службовців в рамках формальної структури управлінської організації, виділяє чотири типи особистих цілей: прагнення до безпеки, прагнення до підвищення життєвого рівня, прагнення до влади і прагнення підвищити і зміцнити престиж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ий відомий соціолог Г. Саймон вважає, що одним з глибинних прагнень кожного члена організації є мета викликати до себе симпатію своїх колег і бути з ними в злагоді. Крім того, в системі особистих цілей працівника можуть з'являтися негативні по відношенню до організації ціл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иклад, дослідження прагнень керівників низових і функціональних підрозділів виявили, що вони віддають пріоритет не збільшення винагороди, а зменшення навантаження за рахунок збільшення чисельності персоналу. Іншим прикладом негативних цілей є прихильність бюрократичних методів керівництва, відсутність інтересу до виконуваної роботи і т. 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52000" y="189000"/>
            <a:ext cx="11650680" cy="64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є ряд загальних вимог, що пред'являються до формулювання ціл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цілі повинні відповідати розвитку місії, вищого призначення підприємства, тоді вони набувають суспільно значимий і мобілізуючий характер; мети не повинні суперечити місії або ставити її під сумн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ряд чи фірми., Метою яких є діяльність, пов'язана з порушенням екології або виробництвом товарів, шкідливих або небезпечних для здоров'я людини, можуть заявляти про свою гуманної, спрямованої на служіння людству місії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цілі не повинні бути взаємовиключними, суперечливими, що викликають стану стресів і фрустрацій у працівників компан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овірність появи таких цілей досить велика, оскільки завжди спокуса цілей прибутковості, придушення конкурентів, заняття нових ніш на ринку веде до забуття цілей гуманізму, благодійності, співпраці і взаєморозумі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2000" y="268200"/>
            <a:ext cx="11682360" cy="630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цілі повинні бути зрозумілими і досяжними, оскільки неясна або нереальна мета викликає у працівника сумнів у своїх здібностях, розчарування в своїй діяльності, неудошгстторенносг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трого продуманої повинна бути ієрархічна підпорядкованість цілей; побудовано так зване «дерево цілей», в якому перспективні довгострокові цілі конкретизуються і розкриваються в середньострокових і вирішуються шляхом виконання конкретних короткострокових ці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цьому ієрархічна вертикальна підпорядкованість цілей повинна бути ув'язана з горизонтальною соподчиненностью цілей відділів та структурних підрозділів організації. Таким чином, система цілепокладання набуває матричну форм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дним з встановлених ефектів цілеспрямованого поведінки є вплив труднощі мети на її викон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) цілі повинні бути специфічними, що відображають ступінь чіткості, визначеності поставленого завд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8640"/>
            <a:ext cx="105156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А ЛІТЕРАТУР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8640" y="680760"/>
            <a:ext cx="1161900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симчук А.А., Тимошенко О.І., Шашкевич Я. «Етика й етикет сучасного бізнесу – запорука економічної безпеки підприємств»: Навч. посібник / За заг. ред.. З.І. Тимошенко. – К. Вид-во Європ. ун-ту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– 285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лове спілкування. за ред. О.З. Лебедева-Гулей, навч. пос., К: «Академвидав»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інова Н.П., Радченко С.Г. Етика бізнесу: Навч. посіб. - К.: КНТЕУ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280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ошенко Н.Л. «Корпоративна культура: діловий етикет»: Навч. посіб. – К.: Знання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– 391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іль Ф.І. «Ділове спілкування»: Навч. посіб.- К.: «Академвидав», 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– 278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6400"/>
            <a:ext cx="10515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анізаційний клімат як механізм пристосування організації до незворотних змін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1920" y="1119240"/>
            <a:ext cx="11680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унікативне єдність організації проявляється насамперед у присутності організаційного клімату як загального відчуття єдності і взаєморозуміння, що створюється такими елементами, як фізична організація простору, що сприяє виникненню безперешкодних комунікативних потоків; сприйняття інформації, що впливає на подальшу поведінку працівника; форми передачі інформації, що залежать в тому числі і від стилю керівництва організації. Несприятливий організаційний клімат часто є наслідком соціальної або комунікативної некомпетентності керівника або існування в групі неформального лідера, дезорієнтуючі працівників і руйнує єдні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е комунікативна складова культури в першу чергу є науковою основою для розвитку мотиваційних теорій «поля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енс цих теорій полягає в тому, що 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іка людини, і соціальна груп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це напружені системи, поля, де має місце нестійка рівновага між спонукають і стримуючими силами, і навіть малий фактор зовнішнього середовища або ситуація може викликати лавину реакцію. При цьому стан всіх частин поля взаємозалеж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67840" y="331560"/>
            <a:ext cx="11587320" cy="62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отримання ефективного прогнозу слід аналізувати і стимулюючі, і стримуючі фактори. На порозі змін система тим більше знаходиться в нестійкій рівновазі. Великі маніпуляції можуть бути неефективними, а малі, засновані на факторі напруженості, що використовують канальні зміни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валення - несхвалення, відсутність - наявність стимул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) інформації можуть виявитися ефективн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априклад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дійшла по каналах комунікації інформація про винагороду інноваційних ідей, наявності спонсорів, готових підтримувати ці ідеї, і підтримка керівництвом інновацій створять організаційно-психологічне поле для плекання творчих новаторських ідей і успішного формування адхократической культури - культури інновацій і творчост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4480" y="189000"/>
            <a:ext cx="11761560" cy="64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одальшого розвитку організаційного клімату можна запропонувати наступні заход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ідтримка керуючими нових продуктивних ідей. При цьому невдачі не розглядаються як провал, що характерно для компаній, орієнтованих на негайний прибуток. Навпаки, створюються умови для безперервного генерування ід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остійне апробування запропонованих ідей, експериментування. Воно необхідне, оскільки створення нових видів продуктів і послуг відбувається не одномоментно, а є результатом серії проб і помилок. Тому в організації необхідно створити атмосферу терпимості до помилок і невдач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рганізаційні гарантії можливості вільного творчого вирішення проблем, не стиснутого відомчими бар'єрами, тобто ініціатори інновацій повинні бути впевнені в можливості творити, чи не огладиваясь на так звані сфери інтересів тих чи інших підрозділів організації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67840" y="268200"/>
            <a:ext cx="1169820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Наявність у фірми достатніх людських і фінансових ресурсів для підтримки нововведень і, що не менш важливо, вільного доступу до цих ресурс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Безперервне формування малих міждисциплінарних робочих груп (або команд), «ламали» своїми ініціативами традиційні, часто закосневшіе корпоративні структури. У таких групах панує неформальна атмосфера, невимушена обстанов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Усвідомлення того, що новаторство, творчість не можна насадити силою, в наказовому порядку. Воно можливе лише на добровільній основі; всі бажаючі можуть спробувати себе в підприємництві, пропонуючи і здійснюючи власні оригінальні проекти, які, природно, повинні відповідати ключовим організаційним ціл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Справедлива винагорода новаторських зуси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Наявність людей (прихильників, спонсорів), не тільки підтримують новаторів, але й заохочують висунення нових цілей і орієнтир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9. Повний прийняття і підтримка вищим керівництвом організації інноваційної активнос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0760" y="268200"/>
            <a:ext cx="1185732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опису організаційного клімату використовуються наступні параметри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труктура (ступінь формальної структурованості); ступінь ризику при прийнятті рішень; тактика винагород; можливості просування по службі; ставлення керівництва до службовців; ставлення службовців до керівництва; емоційна атмосф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йний кліма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це поділюване членами організації сприйняття організаційної політики, практик і процедур, а також те, що люди відчувають з цього привод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чином, організаційний клімат має відношення до загального сприйняття того, як «йдуть справи в цілому», що розділяється членами організації, до сприйняття її політики, практик і процедур. Крім того, цей термін відображає і деякі нюанси емоційного клімату, тобто того, як люди зазвичай відчувають себе в нормальній, повсякденному діловій обстановц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56960" y="220680"/>
            <a:ext cx="11793240" cy="64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йний клімат включає в себе природу роботи, ступінь залучення індивідуума в процес її виконання і проектування, тип зворотного зв'язку в компанії (включаючи систему оцінки і атестації), систему винагор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довіднику «Персонал» дано таке визначення морально-психологічного клімату: «Це стійке морально-етичний стан групи (команди), в якому відображаються настрої людей, їх групова думка, ставлення один до одного і найважливішим матеріальним і духовним цінностям, до цілей розвитку групи . Це відносно стійка характеристика міжособистісних відносин в групі, від яких багато в чому залежать ефективність діяльності групи в цілому і окремих її учасників, задоволеність членством і згуртованість, перспективність розвитку групи і колективу 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36160" y="236520"/>
            <a:ext cx="11791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наведених визначеннях організаційного клімату наводяться найчастіше компоненти - це відношення, сприйняття, атмосфера, ступінь ризику, рольове моделювання і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йний клімат передує появі організаційної культури. На стадіях створення і первинного зростання організації клімат спочатку є як би стрижнем стійкості, оскільки ще не сформувалася організаційна культура. Первинні механізми впровадження культурних засад створюють клімат організації, який з часом переходить в організаційну культуру, стає її частино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9T13:13:31Z</dcterms:created>
  <dc:creator>Karim</dc:creator>
  <dc:description/>
  <dc:language>en-US</dc:language>
  <cp:lastModifiedBy>Karim</cp:lastModifiedBy>
  <dcterms:modified xsi:type="dcterms:W3CDTF">2020-04-19T14:16:05Z</dcterms:modified>
  <cp:revision>4</cp:revision>
  <dc:subject/>
  <dc:title>Лекція №: 9 Тема. Організаційний клімат. Неформальна система взаємодій </dc:title>
</cp:coreProperties>
</file>