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9FE12-362C-4FDC-B899-C3F3A56C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680" y="366948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D7691-3A77-4634-BD7B-BC03D464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696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4F1E2-F185-4A3F-A075-1955387B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00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896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068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00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896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B3652-FC5F-42E5-A9A2-13B2C20B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31852-2385-4B73-8A8C-6E001068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92632-EB1E-448A-B50A-005FC519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61E34-0808-4F4C-9E4B-A4A9B5C0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13C9C-0BEB-46E3-8448-B86F5937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4624F-000D-4FBC-96ED-5A4E61E2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5A255-2964-4E6A-8D10-9AD9DC87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37466-F0F6-49E8-A829-94E10C74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A1994-E0D6-4A04-AD3C-278DABC9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696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71609-AFDC-41C7-B76E-02E815E6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71AB1-E645-4225-A5E3-8C726D5B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680" y="366948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4F3FE-A417-4398-9B46-BC4DA5B1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696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E668A-BC5A-4FD1-B459-3283C522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000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8960" y="112536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068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000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88960" y="3669480"/>
            <a:ext cx="261792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FB89C-6AC0-481E-A75A-40710275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21223-426E-4FA0-B294-70BB44A0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FF6AC-DFE3-47AC-BEB7-6F45FFC6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06C9E-E28D-4180-ACF8-E5E24789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76BFA-426D-4BC4-AF77-1BA39ED7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2BEB-A1A4-44E3-8CBD-49A32CA1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6960" y="366948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A8B0F-7B6D-4291-AD47-B866DF24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6960" y="1125360"/>
            <a:ext cx="39675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680" y="3669480"/>
            <a:ext cx="8130960" cy="23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F7B85-C664-44EE-A962-B9E8106B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spcAft>
                <a:spcPts val="349"/>
              </a:spcAft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46083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D0D5B-9D56-41FB-8BE3-8FA242029B0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2547C-35BA-45CA-9191-410A95390E1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4608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0760" cy="5680080"/>
          </a:xfrm>
          <a:prstGeom prst="rect">
            <a:avLst/>
          </a:prstGeom>
          <a:solidFill>
            <a:srgbClr val="76566a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808080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spcAft>
                <a:spcPts val="349"/>
              </a:spcAft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B0476-AC65-4086-A8FB-88D49AB78AA7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B2541-C3BD-4000-96D3-2F06F54E043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slideshare.net/supra_uny/english-academic-writing-for-students-and-researchers-by-yakhontova-t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60400" y="1409760"/>
            <a:ext cx="8283600" cy="24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ourse Assignments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0"/>
            <a:ext cx="9144000" cy="10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11124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6566a"/>
                </a:solidFill>
                <a:latin typeface="Verdana"/>
              </a:rPr>
              <a:t>Professional Language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Vadim Ermolayev"/>
          <p:cNvPicPr/>
          <p:nvPr/>
        </p:nvPicPr>
        <p:blipFill>
          <a:blip r:embed="rId1"/>
          <a:stretch/>
        </p:blipFill>
        <p:spPr>
          <a:xfrm>
            <a:off x="870120" y="4248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2017800" y="4172040"/>
            <a:ext cx="66960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dim Ermolayev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porizhzhya National Uni., Ukrain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98280" y="5769000"/>
            <a:ext cx="674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76566a"/>
                </a:solidFill>
                <a:latin typeface="Verdana"/>
              </a:rPr>
              <a:t>Zaporizhzhya National Uni., Spring 2018 </a:t>
            </a:r>
            <a:br>
              <a:rPr sz="2000"/>
            </a:br>
            <a:r>
              <a:rPr b="1" lang="en-US" sz="2000" spc="-1" strike="noStrike">
                <a:solidFill>
                  <a:srgbClr val="76566a"/>
                </a:solidFill>
                <a:latin typeface="Verdana"/>
              </a:rPr>
              <a:t>MSci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Zaporizhzhya National University, Ukraine"/>
          <p:cNvPicPr/>
          <p:nvPr/>
        </p:nvPicPr>
        <p:blipFill>
          <a:blip r:embed="rId2"/>
          <a:stretch/>
        </p:blipFill>
        <p:spPr>
          <a:xfrm>
            <a:off x="8292960" y="5797440"/>
            <a:ext cx="74628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468360" y="6526080"/>
            <a:ext cx="4608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B35A9-20D3-483A-9AA1-E885B3765B3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B551B-F32A-4C4D-BC28-AD5BF02FDF9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List of Assignments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(1) Translation servic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krainian text to be translated to English and backwards by a different person. Results to be compared to original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(2) Curriculum Vita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your CV. Publish your CV as: (i) LinkedIn profile; (ii) Facebook Profile; (iii) ResearchGete profile. Present your CV – 5 min oral presentation (PPT slid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(3) Write a lett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a professor / company representative. Topics for your choic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ant to be hi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ould like to be admitted for an internsh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ant to be admitted as a PhD stu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represent a company and want to have cooperation with him on research mat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List of Assignments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4) Write a short paper for a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ic: your master thesis. To be structured and written as a research pap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5) Prepare the presentation of your pap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your p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lustrating the results of your research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as a research paper pre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 15 minute talk presenting your p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Дата 3"/>
          <p:cNvSpPr/>
          <p:nvPr/>
        </p:nvSpPr>
        <p:spPr>
          <a:xfrm>
            <a:off x="468360" y="6526080"/>
            <a:ext cx="4608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BFE60-7DF7-46A3-B6BF-BB63BE479F4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4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1EE23-F98D-4FFA-96AA-01075E51F05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83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792000" rIns="0" tIns="7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o Read Before Doing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0680" y="1125360"/>
            <a:ext cx="8130960" cy="48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Яхонтова Т. В. Основи англомовного наукового письма: Навч. посібник для студентів, аспірантів і науковців. - Вид. 2-ге. - Львів: ПАІС, 2003. - 220 с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5f5f5f"/>
                </a:solidFill>
                <a:uFillTx/>
                <a:latin typeface="Tahoma"/>
                <a:hlinkClick r:id="rId1"/>
              </a:rPr>
              <a:t>https://www.slideshare.net/supra_uny/english-academic-writing-for-students-and-researchers-by-yakhontova-tv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ara Dixon, Martin O’Hara: Communication Skil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ww.practicebasedlearning.org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ttp://cw.routledge.com/textbooks/9780415537902/data/learning/11_Communication%20Skills.pdf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mon Sweeny: English for Business Communication. Cambridge University Pres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ttp://www.academia.edu/29927820/English_For_Business_Communication_by_Simon_Sweeney.pdf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Дата 3"/>
          <p:cNvSpPr/>
          <p:nvPr/>
        </p:nvSpPr>
        <p:spPr>
          <a:xfrm>
            <a:off x="468360" y="6526080"/>
            <a:ext cx="4608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D3FE2-238A-4636-95D8-A469B307CB5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4"/>
          <p:cNvSpPr/>
          <p:nvPr/>
        </p:nvSpPr>
        <p:spPr>
          <a:xfrm>
            <a:off x="8677440" y="6526080"/>
            <a:ext cx="304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7BF64-3E37-401B-AD5A-F3BC2E1E703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1T17:15:06Z</dcterms:created>
  <dc:creator>Пользователь Windows</dc:creator>
  <dc:description/>
  <dc:language>en-US</dc:language>
  <cp:lastModifiedBy>Vadim A. Ermolayev</cp:lastModifiedBy>
  <dcterms:modified xsi:type="dcterms:W3CDTF">2018-03-26T07:33:23Z</dcterms:modified>
  <cp:revision>41</cp:revision>
  <dc:subject/>
  <dc:title>Online translation services and dictionaries</dc:title>
</cp:coreProperties>
</file>