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1B73-392E-4BED-A600-C74A952C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60A4-B548-46EB-B6DA-7BB9C7B0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D317-26BB-4C21-AE8C-5C510B8A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5B89-B967-4FC0-BA83-7E4577B2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6E41E-0B37-4B69-AF40-9DC46CA7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C0D71-93B2-4729-9220-5AED9426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6AF28-6E34-4EA2-A713-BC16C79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F8EF6-359B-47C9-9752-8220C087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59DFE-7D7D-4E6D-AC3C-883AD356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D2DC2-C252-4E2E-B42A-ADB3648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76DFD-E2F0-46E7-BA25-9FADE94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CBA3-C2B0-4D1A-B228-45776F18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A31E1-E415-45D0-AB6E-C7E5453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2DD36-B212-4BC8-8D45-FE0063FF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10F3B-0F65-4F4F-9C33-2A8E6C3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693FE-878A-4CF6-8435-3C30A133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803F1-0F2F-42B9-9C65-D21277A5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CCAD-3CF0-4872-9896-097A94C6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795E-E7C6-495D-876C-EE71744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8BCA-2CC5-459C-83F1-425F0267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4545-BA4A-462D-92E0-31565B8D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5F3A-9598-4576-8C3E-9CFA9F4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DCEC-DDFB-4165-B518-F0C283A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6E95-A10C-4E72-9FD6-29ACEF9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A557B-D1AC-4A65-8911-F4D332291EF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F0395-C29F-44C7-9A8F-276CA2E95F4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4608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0760" cy="5680080"/>
          </a:xfrm>
          <a:prstGeom prst="rect">
            <a:avLst/>
          </a:prstGeom>
          <a:solidFill>
            <a:srgbClr val="76566a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95E2A-514B-4F80-B061-40D64C16FC7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4B828-2925-48C9-87F4-A7B3729C5C1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lideshare.net/supra_uny/english-academic-writing-for-students-and-researchers-by-yakhontova-t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0400" y="1409760"/>
            <a:ext cx="828360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ourse Assignments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1112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6566a"/>
                </a:solidFill>
                <a:latin typeface="Verdana"/>
              </a:rPr>
              <a:t>Professional Language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Vadim Ermolayev"/>
          <p:cNvPicPr/>
          <p:nvPr/>
        </p:nvPicPr>
        <p:blipFill>
          <a:blip r:embed="rId1"/>
          <a:stretch/>
        </p:blipFill>
        <p:spPr>
          <a:xfrm>
            <a:off x="870120" y="4248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017800" y="4172040"/>
            <a:ext cx="6696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dim Ermolayev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porizhzhya National Uni., Ukrain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8280" y="576900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Zaporizhzhya National Uni., Spring 2018 </a:t>
            </a:r>
            <a:br>
              <a:rPr sz="2000"/>
            </a:b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MSci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Zaporizhzhya National University, Ukraine"/>
          <p:cNvPicPr/>
          <p:nvPr/>
        </p:nvPicPr>
        <p:blipFill>
          <a:blip r:embed="rId2"/>
          <a:stretch/>
        </p:blipFill>
        <p:spPr>
          <a:xfrm>
            <a:off x="8292960" y="5797440"/>
            <a:ext cx="746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6836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B0D16-D1DB-47EB-970F-AAB2D9FF43E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C8FFA-E464-4A91-9D91-4E313811612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ist of Assignment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1) Translation servi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krainian text to be translated to English and backwards by a different person. Results to be compared to origina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2) Curriculum Vita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your CV. Publish your CV as: (i) LinkedIn profile; (ii) Facebook Profile; (iii) ResearchGete profile. Present your CV – 5 min oral presentation (PPT slid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3) Write a lett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 professor / company representative. Topics for your choic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to be hi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ould like to be admitted for an intern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to be admitted as a PhD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represent a company and want to have cooperation with him on research mat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ist of Assignment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Write a short paper for a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ic: your master thesis. To be structured and written as a research pap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5) Prepare the presentation of your pap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your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strating the results of your research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as a research paper 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 15 minute talk presenting your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6836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5C50C-D1E8-40AB-AFEF-3C8AF7E679E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27C54-418E-42C4-BA1E-27D78E84E3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 Read Before Doing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Яхонтова Т. В. Основи англомовного наукового письма: Навч. посібник для студентів, аспірантів і науковців. - Вид. 2-ге. - Львів: ПАІС, 2003. - 220 с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://www.slideshare.net/supra_uny/english-academic-writing-for-students-and-researchers-by-yakhontova-tv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ra Dixon, Martin O’Hara: Communication Skil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ww.practicebasedlearning.org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cw.routledge.com/textbooks/9780415537902/data/learning/11_Communication%20Skills.pdf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mon Sweeny: English for Business Communication. Cambridge University Pres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academia.edu/29927820/English_For_Business_Communication_by_Simon_Sweeney.pdf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46836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878B8-191A-490B-BCC2-DCA679E27B0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BDDAD-0568-4938-89A2-FB62424162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7:15:06Z</dcterms:created>
  <dc:creator>Пользователь Windows</dc:creator>
  <dc:description/>
  <dc:language>en-US</dc:language>
  <cp:lastModifiedBy>Vadim A. Ermolayev</cp:lastModifiedBy>
  <dcterms:modified xsi:type="dcterms:W3CDTF">2018-03-26T07:33:23Z</dcterms:modified>
  <cp:revision>41</cp:revision>
  <dc:subject/>
  <dc:title>Online translation services and dictionaries</dc:title>
</cp:coreProperties>
</file>