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050F3-3DA8-46A0-9B9F-E244420DAC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5D7A3-E737-498F-B986-FC4D7A01B2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8CE1-C34A-4795-8159-E3D855E851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4A3-0B54-49E1-9F7B-3A2D84C8D2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846E-C29A-4EA0-A397-22C53265C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EA39-5451-46F8-B429-D7F31DCF1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21F2E-3453-4560-8547-BD6A5B14D0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D1EC-8C85-466A-8036-6A54A26AE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28F-52BA-4F51-9C7F-BCA63CA97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75376-7B85-45FC-BCF1-CBB7D9C4E0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1D98-8227-4390-9A6E-9431433E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AB6D-DE2E-4A8C-BF31-C30EE172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B5BC-A2DD-4DE4-AFF8-C535E752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F7C4-A331-4574-8A95-B8C21475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F49BF-A029-47D8-B91B-67F44741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CF020-B71A-4D40-8185-161B7933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59C80-8AAC-4034-944D-38459B3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644D8-E246-4604-89EA-9EA24F87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2233B-C4B4-4BB3-B554-F57B36A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0D03-0F3A-46BD-B526-209EFC5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9DD9A-E24D-45F7-B19F-585A095B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39E6-E0BC-405F-84C7-2B4C4D75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B59C-49E9-4DE7-82D2-1ACA16B1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928AE-CDCC-4915-A8BE-786CAB9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9CD05-4104-405E-8E3E-473E8793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DF0BF-F24D-428C-9DD6-DA4640F6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67A18-0751-472D-8E44-349EBB93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34E58-A08A-4A94-8009-C4CC2593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8CFA-FC8E-4BDC-AC84-43FFCED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04F2-4B39-4CDA-A380-1764EED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5424-0892-4D27-892A-79C53D7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6D07-7D14-4F71-B917-81D2161F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9BC1-D593-4E29-A554-5DD4ABC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4583-6F7C-424E-8C78-4178560B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90DE1-C75D-4CF6-88E4-5553DC0B5D2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A1E46-1FFB-4877-BBEF-AF946F46B42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4608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0760" cy="5680080"/>
          </a:xfrm>
          <a:prstGeom prst="rect">
            <a:avLst/>
          </a:prstGeom>
          <a:solidFill>
            <a:srgbClr val="76566a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5192F-1D32-4095-853F-C390F1C73184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B66F5-4419-49A6-8E8A-4BA9AB782DC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thebalance.com/cv-samples-and-writing-tips-2060349" TargetMode="External"/><Relationship Id="rId4" Type="http://schemas.openxmlformats.org/officeDocument/2006/relationships/hyperlink" Target="http://www.wikihow.com/Write-a-CV-(Curriculum-Vitae)" TargetMode="External"/><Relationship Id="rId5" Type="http://schemas.openxmlformats.org/officeDocument/2006/relationships/hyperlink" Target="http://www.wikihow.com/Write-a-CV-(Curriculum-Vitae)" TargetMode="External"/><Relationship Id="rId6" Type="http://schemas.openxmlformats.org/officeDocument/2006/relationships/hyperlink" Target="http://www.wikihow.com/Write-a-CV-(Curriculum-Vitae)" TargetMode="External"/><Relationship Id="rId7" Type="http://schemas.openxmlformats.org/officeDocument/2006/relationships/hyperlink" Target="http://www.wikihow.com/Write-a-CV-(Curriculum-Vitae)" TargetMode="External"/><Relationship Id="rId8" Type="http://schemas.openxmlformats.org/officeDocument/2006/relationships/hyperlink" Target="http://www.wikihow.com/Write-a-CV-(Curriculum-Vitae)" TargetMode="External"/><Relationship Id="rId9" Type="http://schemas.openxmlformats.org/officeDocument/2006/relationships/hyperlink" Target="http://www.wikihow.com/Write-a-CV-(Curriculum-Vitae)" TargetMode="External"/><Relationship Id="rId10" Type="http://schemas.openxmlformats.org/officeDocument/2006/relationships/hyperlink" Target="http://www.wikihow.com/Write-a-CV-(Curriculum-Vitae)" TargetMode="External"/><Relationship Id="rId11" Type="http://schemas.openxmlformats.org/officeDocument/2006/relationships/hyperlink" Target="http://www.wikihow.com/Write-a-CV-(Curriculum-Vitae)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linkedin.com/in/vadim-ermolayev-a95ab910/" TargetMode="External"/><Relationship Id="rId2" Type="http://schemas.openxmlformats.org/officeDocument/2006/relationships/hyperlink" Target="https://www.researchgate.net/profile/Vadim_Ermolayev/info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thebalance.com/free-resume-examples-and-writing-tips-2063596" TargetMode="External"/><Relationship Id="rId2" Type="http://schemas.openxmlformats.org/officeDocument/2006/relationships/hyperlink" Target="https://www.thebalance.com/free-resume-examples-and-writing-tips-2063596" TargetMode="External"/><Relationship Id="rId3" Type="http://schemas.openxmlformats.org/officeDocument/2006/relationships/hyperlink" Target="http://www.wikihow.com/Make-a-Resume" TargetMode="External"/><Relationship Id="rId4" Type="http://schemas.openxmlformats.org/officeDocument/2006/relationships/hyperlink" Target="http://www.wikihow.com/Make-a-Resume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thebalance.com/chronological-resume-example-for-a-retail-position-2063201" TargetMode="External"/><Relationship Id="rId2" Type="http://schemas.openxmlformats.org/officeDocument/2006/relationships/hyperlink" Target="https://www.thebalance.com/chronological-resume-example-for-a-retail-position-2063201" TargetMode="External"/><Relationship Id="rId3" Type="http://schemas.openxmlformats.org/officeDocument/2006/relationships/hyperlink" Target="https://www.thebalance.com/chronological-resume-example-for-a-retail-position-2063201" TargetMode="External"/><Relationship Id="rId4" Type="http://schemas.openxmlformats.org/officeDocument/2006/relationships/hyperlink" Target="https://www.thebalance.com/chronological-resume-example-for-a-retail-position-2063201" TargetMode="External"/><Relationship Id="rId5" Type="http://schemas.openxmlformats.org/officeDocument/2006/relationships/hyperlink" Target="http://www.wikihow.com/Sample/Chronological-Resume" TargetMode="External"/><Relationship Id="rId6" Type="http://schemas.openxmlformats.org/officeDocument/2006/relationships/hyperlink" Target="http://www.wikihow.com/Sample/Chronological-Resum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thebalance.com/chronological-resume-example-for-a-retail-position-2063201" TargetMode="External"/><Relationship Id="rId3" Type="http://schemas.openxmlformats.org/officeDocument/2006/relationships/hyperlink" Target="https://www.thebalance.com/chronological-resume-example-for-a-retail-position-2063201" TargetMode="External"/><Relationship Id="rId4" Type="http://schemas.openxmlformats.org/officeDocument/2006/relationships/hyperlink" Target="https://www.thebalance.com/chronological-resume-example-for-a-retail-position-2063201" TargetMode="External"/><Relationship Id="rId5" Type="http://schemas.openxmlformats.org/officeDocument/2006/relationships/hyperlink" Target="https://www.thebalance.com/chronological-resume-example-for-a-retail-position-2063201" TargetMode="External"/><Relationship Id="rId6" Type="http://schemas.openxmlformats.org/officeDocument/2006/relationships/hyperlink" Target="http://www.wikihow.com/Sample/Chronological-Resume" TargetMode="External"/><Relationship Id="rId7" Type="http://schemas.openxmlformats.org/officeDocument/2006/relationships/hyperlink" Target="http://www.wikihow.com/Sample/Chronological-Resume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thebalance.com/functional-resume-example-2063203" TargetMode="External"/><Relationship Id="rId2" Type="http://schemas.openxmlformats.org/officeDocument/2006/relationships/hyperlink" Target="https://www.thebalance.com/functional-resume-example-2063203" TargetMode="External"/><Relationship Id="rId3" Type="http://schemas.openxmlformats.org/officeDocument/2006/relationships/hyperlink" Target="https://www.thebalance.com/functional-resume-example-2063203" TargetMode="External"/><Relationship Id="rId4" Type="http://schemas.openxmlformats.org/officeDocument/2006/relationships/hyperlink" Target="https://www.thebalance.com/functional-resume-example-2063203" TargetMode="External"/><Relationship Id="rId5" Type="http://schemas.openxmlformats.org/officeDocument/2006/relationships/hyperlink" Target="http://www.wikihow.com/Sample/Functional-Resume" TargetMode="External"/><Relationship Id="rId6" Type="http://schemas.openxmlformats.org/officeDocument/2006/relationships/hyperlink" Target="http://www.wikihow.com/Sample/Functional-Resume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s://www.thebalance.com/functional-resume-example-2063203" TargetMode="External"/><Relationship Id="rId4" Type="http://schemas.openxmlformats.org/officeDocument/2006/relationships/hyperlink" Target="https://www.thebalance.com/functional-resume-example-2063203" TargetMode="External"/><Relationship Id="rId5" Type="http://schemas.openxmlformats.org/officeDocument/2006/relationships/hyperlink" Target="https://www.thebalance.com/functional-resume-example-2063203" TargetMode="External"/><Relationship Id="rId6" Type="http://schemas.openxmlformats.org/officeDocument/2006/relationships/hyperlink" Target="https://www.thebalance.com/functional-resume-example-2063203" TargetMode="External"/><Relationship Id="rId7" Type="http://schemas.openxmlformats.org/officeDocument/2006/relationships/hyperlink" Target="http://www.wikihow.com/Sample/Functional-Resume" TargetMode="External"/><Relationship Id="rId8" Type="http://schemas.openxmlformats.org/officeDocument/2006/relationships/hyperlink" Target="http://www.wikihow.com/Sample/Functional-Resume" TargetMode="External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thebalance.com/combination-resume-example-and-writing-tips-2061951" TargetMode="External"/><Relationship Id="rId2" Type="http://schemas.openxmlformats.org/officeDocument/2006/relationships/hyperlink" Target="https://www.thebalance.com/combination-resume-example-and-writing-tips-2061951" TargetMode="External"/><Relationship Id="rId3" Type="http://schemas.openxmlformats.org/officeDocument/2006/relationships/hyperlink" Target="https://www.thebalance.com/combination-resume-example-and-writing-tips-2061951" TargetMode="External"/><Relationship Id="rId4" Type="http://schemas.openxmlformats.org/officeDocument/2006/relationships/hyperlink" Target="https://www.thebalance.com/combination-resume-example-and-writing-tips-2061951" TargetMode="External"/><Relationship Id="rId5" Type="http://schemas.openxmlformats.org/officeDocument/2006/relationships/hyperlink" Target="http://www.wikihow.com/Sample/Combination-Resume" TargetMode="External"/><Relationship Id="rId6" Type="http://schemas.openxmlformats.org/officeDocument/2006/relationships/hyperlink" Target="http://www.wikihow.com/Sample/Combination-Resum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www.thebalance.com/combination-resume-example-and-writing-tips-2061951" TargetMode="External"/><Relationship Id="rId3" Type="http://schemas.openxmlformats.org/officeDocument/2006/relationships/hyperlink" Target="https://www.thebalance.com/combination-resume-example-and-writing-tips-2061951" TargetMode="External"/><Relationship Id="rId4" Type="http://schemas.openxmlformats.org/officeDocument/2006/relationships/hyperlink" Target="https://www.thebalance.com/combination-resume-example-and-writing-tips-2061951" TargetMode="External"/><Relationship Id="rId5" Type="http://schemas.openxmlformats.org/officeDocument/2006/relationships/hyperlink" Target="https://www.thebalance.com/combination-resume-example-and-writing-tips-2061951" TargetMode="External"/><Relationship Id="rId6" Type="http://schemas.openxmlformats.org/officeDocument/2006/relationships/hyperlink" Target="http://www.wikihow.com/Sample/Combination-Resume" TargetMode="External"/><Relationship Id="rId7" Type="http://schemas.openxmlformats.org/officeDocument/2006/relationships/hyperlink" Target="http://www.wikihow.com/Sample/Combination-Resume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0400" y="1409760"/>
            <a:ext cx="828360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ic II:</a:t>
            </a:r>
            <a:r>
              <a:rPr b="1" lang="en-US" sz="3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5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urriculum Vitae and Resume Writing</a:t>
            </a:r>
            <a:r>
              <a:rPr b="1" lang="ru-RU" sz="3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12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6566a"/>
                </a:solidFill>
                <a:latin typeface="Verdana"/>
              </a:rPr>
              <a:t>Professional Language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Vadim Ermolayev"/>
          <p:cNvPicPr/>
          <p:nvPr/>
        </p:nvPicPr>
        <p:blipFill>
          <a:blip r:embed="rId1"/>
          <a:stretch/>
        </p:blipFill>
        <p:spPr>
          <a:xfrm>
            <a:off x="870120" y="4248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17800" y="4172040"/>
            <a:ext cx="6696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dim Ermolayev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porizhzhya National Uni., Ukrain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8280" y="576900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Zaporizhzhya National Uni., Spring 2017 </a:t>
            </a:r>
            <a:br>
              <a:rPr sz="2000"/>
            </a:b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MSci Program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Zaporizhzhya National University, Ukraine"/>
          <p:cNvPicPr/>
          <p:nvPr/>
        </p:nvPicPr>
        <p:blipFill>
          <a:blip r:embed="rId2"/>
          <a:stretch/>
        </p:blipFill>
        <p:spPr>
          <a:xfrm>
            <a:off x="8292960" y="5797440"/>
            <a:ext cx="746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at makes a good CV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targeted on the specific jo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or career area for which you are applying and brings out the relevant skills you have to o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arefully and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clearly laid 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gically ordered, easy to read and not cram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informative but con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It is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accurate in content, spelling and 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f you mentio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ention to detai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skill, make sure your spelling and grammar are perfec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82B4-3588-4685-B166-BD43EDE92B2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4DD2-D868-47DB-BF84-09864DBAF7E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D9A67-CC78-4411-8955-EDE70F81661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ow long should a CV be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bsolute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a new graduate's CV should cover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no more than two sides of A4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survey of American employers 35% preferred a one page CV and 19% a two page CV with the others saying it depends upon the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Vs in the US tend to be shorter than in the U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as the 2 page CV length still dominates for gradu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nd towards one page CVs (graduates, junior posi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ers are getting more and more CVs, so they tend not to have the time to read long document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485-108D-4EBD-BA45-F6E791F41EF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1E44-0AC7-4EDA-BA3E-5FD76A4B145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9556F-3323-4185-9C38-15430548C68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ips on CV Presentatio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3320" y="1144080"/>
            <a:ext cx="7337520" cy="46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r CV should be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carefully and clearly laid ou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not too cramped but not with large empty spaces either. Use bold and italic typefaces for headings and important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ver back a CV -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each page should be on a separate sheet of pap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It's a good idea to put your name in the footer area so that it appears on each she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concis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est CVs tend to be fairly economical with words, selecting the most important information and leaving a little something for the intervie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positiv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ut yourself over confidently and highlight your strong points. For example, when listing your A-levels, put your highest grade fir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Be hone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you should never give inaccurate or misleading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sweet spo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of a CV is the area selectors tend to pay most attention to: this is typically around the upper middle of the first page, so make sure that this area contains essential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you are posting your CV, </a:t>
            </a:r>
            <a:r>
              <a:rPr b="1" lang="en-US" sz="1800" spc="-1" strike="noStrike">
                <a:solidFill>
                  <a:srgbClr val="404040"/>
                </a:solidFill>
                <a:latin typeface="Tahoma"/>
              </a:rPr>
              <a:t>don't fold i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ut it in a full-size A4 envelope so that it doesn't arrive crea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25F9-041F-47BA-9554-67FB946DDF3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56B30-BEB2-4F2C-8F0B-E6A06F61967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FDEAE-FD83-4B3C-9E42-94625EF7EE7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ifferent Types of CV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ahoma"/>
              </a:rPr>
              <a:t>Chronolog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utlining your career history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in date 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normally beginning with the most recent items (reverse chronological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"conventional" approach and the easiest to prep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ailed, comprehensive and biographical and usually works well for "traditional" students with a good all-round mixture of education and work experie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5000"/>
              </a:lnSpc>
              <a:buClr>
                <a:srgbClr val="40404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Tahoma"/>
              </a:rPr>
              <a:t>Skills-bas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highly-focused, relate your skills and abilities to a specific job or career area by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 highlighting these skills and your major achiev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actual, chronological details of your education and work history are subordin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well fo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mature gradua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 and for anybody whose degree subject and work experience is not directly relevant to thei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closely targeted to a specific job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96E-6FBA-4FCA-87E5-BD1543C48B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A191-6329-4E50-9EEC-43CF8A6E4F5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B88A3-BE16-4440-A0B1-F5C1AE6F254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ome Example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360360" y="843120"/>
            <a:ext cx="3801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2"/>
          <a:stretch/>
        </p:blipFill>
        <p:spPr>
          <a:xfrm>
            <a:off x="4843440" y="844560"/>
            <a:ext cx="3438720" cy="503064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0" y="5897520"/>
            <a:ext cx="561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</a:rPr>
              <a:t>https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3"/>
              </a:rPr>
              <a:t>www.thebalance.com/cv-samples-and-writing-tips-206034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4467240" y="58975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6"/>
              </a:rPr>
              <a:t>www.wikihow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8"/>
              </a:rPr>
              <a:t>Write-a-CV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9"/>
              </a:rPr>
              <a:t>-(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10"/>
              </a:rPr>
              <a:t>Curriculum-Vitae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Arial Narrow"/>
                <a:hlinkClick r:id="rId11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AB0E-39B9-4522-B71D-97CB779FE9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27D94-CF56-4255-B43E-CE333D9649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V on Social Media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nked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for Industrial and Academic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f5f5f"/>
                </a:solidFill>
                <a:uFillTx/>
                <a:latin typeface="Arial Narrow"/>
                <a:hlinkClick r:id="rId1"/>
              </a:rPr>
              <a:t>https://www.linkedin.com/in/vadim-ermolayev-a95ab910/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earchG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mainly for Academics, though Industrialists (R&amp;D) als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: </a:t>
            </a:r>
            <a:r>
              <a:rPr b="0" lang="ru-RU" sz="2400" spc="-1" strike="noStrike" u="sng">
                <a:solidFill>
                  <a:srgbClr val="5f5f5f"/>
                </a:solidFill>
                <a:uFillTx/>
                <a:latin typeface="Arial Narrow"/>
                <a:hlinkClick r:id="rId2"/>
              </a:rPr>
              <a:t>https://www.researchgate.net/profile/Vadim_Ermolayev/inf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FC98-5992-454B-AE76-F4580B8B96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76332-EC5C-4311-B315-9958608BC92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91960" y="1809720"/>
            <a:ext cx="85600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Resume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4F999-2211-4C94-83C7-AE9BD6BA7C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Type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 depends on your career level and work experi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sume formats may work better than others at emphasizing your particular abilities and work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basic types of resumes used to apply for job open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Chronolog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Fun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Combin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Targe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360360" y="5759280"/>
            <a:ext cx="8367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thebalance.com/free-resume-examples-and-writing-tips-2063596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360360" y="545148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Make-a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3FE-9D63-4694-8439-424E41FF806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894C-E741-443A-823E-3E6C74F9A12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FB359-C44F-4E1B-813C-0E61F8A2EB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hronologic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s by listing your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work 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the most recent position listed firs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 jobs are listed in reverse chronological ord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your current, or most recent job, fir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s typically prefer this type of resume because it's easy to se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jobs you have held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you have worked a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for job seekers with a strong, solid work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147600" y="5524560"/>
            <a:ext cx="8342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chronological-resume-example-for-a-retail-position-20632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5"/>
          <p:cNvSpPr/>
          <p:nvPr/>
        </p:nvSpPr>
        <p:spPr>
          <a:xfrm>
            <a:off x="147600" y="5214960"/>
            <a:ext cx="709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hronologic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D316-56A8-4EC5-BFD5-D1AE6E01CAD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6771-3921-4BBA-866B-7F77C6E3DFF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AA7B2-0F04-4348-8EBD-1A27848EF0E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, Chronologic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rcRect l="0" t="4566" r="0" b="2460"/>
          <a:stretch/>
        </p:blipFill>
        <p:spPr>
          <a:xfrm>
            <a:off x="4344840" y="941400"/>
            <a:ext cx="4359600" cy="51102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581040" y="2965320"/>
            <a:ext cx="3668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/chronological-resume-example-for-a-retail-position-20632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600120" y="190800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hronologic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F952-D6A5-4A04-9963-476A3EAA583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BAF9-FF04-4665-B624-E2A4A7B5569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AD214-42FF-4846-942C-03681EB913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good command of English a core professiona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C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fficul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(professional) trans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proofreading companies often f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to aid trans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translation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diction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these fail?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08AC-5A13-48F6-8C79-3E63D9F157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C42AB-A149-418E-937D-1658248F30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Function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 your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kills and exper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ther than on your chronological work histo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most often by people who: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e changing careers, 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gaps in their employment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488880" y="4479840"/>
            <a:ext cx="7336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functional-resume-example-20632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488880" y="4157640"/>
            <a:ext cx="6532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Function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0DC4-A8DB-4961-AE5A-00F3E621FE6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0286-FB81-4C90-8CF6-A9BFB683B75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AFE38-6256-4682-930E-8787F54E460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 Functional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rcRect l="0" t="3230" r="0" b="2773"/>
          <a:stretch/>
        </p:blipFill>
        <p:spPr>
          <a:xfrm>
            <a:off x="446040" y="1009800"/>
            <a:ext cx="3922920" cy="49845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"/>
          <p:cNvPicPr/>
          <p:nvPr/>
        </p:nvPicPr>
        <p:blipFill>
          <a:blip r:embed="rId2"/>
          <a:srcRect l="0" t="4580" r="0" b="0"/>
          <a:stretch/>
        </p:blipFill>
        <p:spPr>
          <a:xfrm>
            <a:off x="4483080" y="992160"/>
            <a:ext cx="4086360" cy="491328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5"/>
          <p:cNvSpPr/>
          <p:nvPr/>
        </p:nvSpPr>
        <p:spPr>
          <a:xfrm>
            <a:off x="4708440" y="4894200"/>
            <a:ext cx="41515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/functional-resume-example-206320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4724280" y="4019400"/>
            <a:ext cx="2870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8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Functional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Номер слайда 8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976-277A-4C05-9594-E26451DDF8D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E0B9F-DADA-4CC9-A9DD-208A7AB170A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DEAB6-DD92-4589-B586-19E18B433C3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ombination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 your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kills and experience fir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r 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employment 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is listed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nex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is type of resume you ca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light the skills you have that are relevant to the job you are applying for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the chronological work history that employers pre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534960" y="4238640"/>
            <a:ext cx="768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/combination-resume-example-and-writing-tips-206195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534960" y="3973680"/>
            <a:ext cx="6319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ombination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2F54-8F0E-4B62-86CB-ABAD7B523E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AA27-C5CF-432C-B598-60AF9DF3256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FAE4E-E518-4A9E-A3A1-92926847E00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E.g. Combination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3" descr=""/>
          <p:cNvPicPr/>
          <p:nvPr/>
        </p:nvPicPr>
        <p:blipFill>
          <a:blip r:embed="rId1"/>
          <a:srcRect l="0" t="4939" r="0" b="2625"/>
          <a:stretch/>
        </p:blipFill>
        <p:spPr>
          <a:xfrm>
            <a:off x="4138560" y="947880"/>
            <a:ext cx="4351320" cy="51069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81080" y="3633840"/>
            <a:ext cx="40305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4"/>
              </a:rPr>
              <a:t>www.thebalance.com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5"/>
              </a:rPr>
              <a:t>/combination-resume-example-and-writing-tips-206195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181080" y="2368440"/>
            <a:ext cx="2970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6"/>
              </a:rPr>
              <a:t>http</a:t>
            </a:r>
            <a:r>
              <a:rPr b="0" lang="ru-RU" sz="1400" spc="-1" strike="noStrike" u="sng">
                <a:solidFill>
                  <a:srgbClr val="5f5f5f"/>
                </a:solidFill>
                <a:uFillTx/>
                <a:latin typeface="Tahoma"/>
                <a:hlinkClick r:id="rId7"/>
              </a:rPr>
              <a:t>://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www.wikihow.com/Sample/Combination-Resum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Номер слайда 7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4778-4AE4-4851-AE88-7C7A342DE9E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094A-B2B7-4EF8-B1B6-BA601B14439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B4222-5985-4660-961F-50E1DD4873A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argeted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ustomized so that it specifically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highlights the experience and skill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have </a:t>
            </a: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that are relevant to the jo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applying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efinitely takes more work to write a targeted resume than to just click to apply with your existing res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's well worth the effort, especially when applying for jobs that are a perfect match for your qualifications and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4"/>
          <p:cNvSpPr/>
          <p:nvPr/>
        </p:nvSpPr>
        <p:spPr>
          <a:xfrm>
            <a:off x="363600" y="4651200"/>
            <a:ext cx="53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www.wikihow.com/Sample/Personal-Trainer-Resu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D70-5E5A-407A-9040-AE944A68158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7E86-3E8B-4D22-AB7B-70528EB52CF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AE7CF-0815-4705-A044-0C8A60B139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argeted Resum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Рисунок 3" descr=""/>
          <p:cNvPicPr/>
          <p:nvPr/>
        </p:nvPicPr>
        <p:blipFill>
          <a:blip r:embed="rId1"/>
          <a:srcRect l="0" t="4138" r="0" b="10658"/>
          <a:stretch/>
        </p:blipFill>
        <p:spPr>
          <a:xfrm>
            <a:off x="4165560" y="915840"/>
            <a:ext cx="4329000" cy="51548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825480" y="2655720"/>
            <a:ext cx="289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http://www.wikihow.com/Sample/Personal-Trainer-Resu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Номер слайда 6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99F4-018B-4D14-BE6B-9622721EB0A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EED7-C604-4AD4-B4F3-BF176270B82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1BB8C-857E-4B33-9334-23AA6195023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Writing Tip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. Choose the Right Resume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ing on your personal circumstances, choose a chronological, a functional, combination, or a targeted resu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. Choose  Basic Fo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writing a resume it's important to use a basic font that is easy to read, both for hiring managers and for applicant management syst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3. Use a Resume Templ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 resume template as a starting point for creating your own resu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your information to the resume template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eak and edit it to personalize your resume, so it highlights your skills and abil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B37-7976-4C33-9A55-BBB292F410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7CB2-0BD0-42B7-8660-1E82793A241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AFAF4-2114-4942-B74F-102104B137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Resume Writing Tip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4040" y="1109520"/>
            <a:ext cx="75153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Include All Your Contact In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name, street address, city, state, and zip, home phone number, cell phone number, and email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. Add a Profile or Objec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include an objective on your resume, it's important to tailor it to match the job you are applying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specific you are, the better chance you have of being considered for the job you are interested 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. Include Resume Key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 resume should include the same keywords that appear in job descriptio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. Prioritize Your Resume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's important to prioritize the content of your resume so that your most important and relevant experience is listed first, with key accomplishments listed at the top of each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DB8-E4F7-41D6-A45C-8905CC00439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6CFB-950F-4720-AA16-15CD50D3B0A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DB418-2B5C-43FD-BD3F-E33F0C5A25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960" y="541080"/>
            <a:ext cx="856008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CV, Resume,</a:t>
            </a:r>
            <a:br>
              <a:rPr sz="7100"/>
            </a:b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and </a:t>
            </a:r>
            <a:br>
              <a:rPr sz="7100"/>
            </a:br>
            <a:r>
              <a:rPr b="1" lang="en-US" sz="7100" spc="-1" strike="noStrike">
                <a:solidFill>
                  <a:srgbClr val="ffffff"/>
                </a:solidFill>
                <a:latin typeface="Verdana"/>
              </a:rPr>
              <a:t>CV vs Resume</a:t>
            </a:r>
            <a:endParaRPr b="1" lang="en-US" sz="7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D77F4-2726-4CAE-8673-A8B28E24B9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at is a Resume?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ise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your education, work history, credentials, and other accomplishments and ski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cus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THIS particular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ost comm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cument requested of applicants in job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contai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onal s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ding a resume objective and career summary state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, one page l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it can be as long as two p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based on bulleted lists to keep information con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in a f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ronological, functional, and combination forma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format that best fits the type of job you are applying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933-ADFC-4AFD-BA14-FC9567660B3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F014-35A5-43D1-A884-FDBFEC6C822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19835-3091-4976-A994-80D04F9872A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What is a Curriculum Vitae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Curriculum Vita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n Lat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 to a resume, 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en-US" sz="2400" spc="-1" strike="noStrike">
                <a:solidFill>
                  <a:srgbClr val="404040"/>
                </a:solidFill>
                <a:latin typeface="Tahoma"/>
              </a:rPr>
              <a:t>curriculum vitae (CV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summary of one’s experience and skil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ifference to a resume, CVs describe all your professional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than res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used in Acade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formation on one’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background, including teaching experience, degrees, research, awards, publications, presentations, and other achiev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96F-7B54-4FC6-B9CE-D2A2F1647D7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3769-20F6-45FD-AE13-F76F78986CD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4222B-1538-4F33-855E-E0C1AF47451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66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fference between a resume and a CV?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4360" y="1302840"/>
            <a:ext cx="813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cus and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hat is included and for what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how detailed it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le both are used in job applications, a resume and a CV are not always interchange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821-C5E9-4966-802D-56016FA1E6A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1D55-8F02-4B5F-89CE-E54F990C89D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A2E31-CCB8-4F02-B0A2-B076F2D758C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1960" y="1809720"/>
            <a:ext cx="85600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erdana"/>
              </a:rPr>
              <a:t>Curriculum Vitae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38767-E59C-4199-9EA3-EB8E8BC392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en to Use a CV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0680" y="1125000"/>
            <a:ext cx="813096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lmost exclusively in countries outside the United St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urope, the Middle East, Africa, or Asia, employers may expect to receive a C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nited States, people in academia and medicine tend to use CVs rather than resu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Vs are thus used primarily when applying for the positions in: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 organization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u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(resear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cal or Healthc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when applying for fellowships or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43D-8535-47FA-84E7-110F5869DB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852B-B665-4B2F-907C-0AF2260C0A0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B4F48-4CCD-4F42-95C7-1390046877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ost Important Aspects in a CV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58440" y="1128240"/>
            <a:ext cx="715356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vious related work exper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ualifications &amp;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asy to 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6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complish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4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lling &amp; gramm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ducatio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hese were not just graduate recruiters or this score would be much higher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angible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viduality/desire to succ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ear obj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eywords ad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experi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%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uter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FEB-042C-4B74-BB03-2F28F3C2C97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7F96-02CC-46E8-983B-BD8A80A2F47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927E3-D80B-4449-B8D8-06D5C94DC86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7:15:06Z</dcterms:created>
  <dc:creator>Пользователь Windows</dc:creator>
  <dc:description/>
  <dc:language>en-US</dc:language>
  <cp:lastModifiedBy>eva</cp:lastModifiedBy>
  <dcterms:modified xsi:type="dcterms:W3CDTF">2017-03-15T11:10:13Z</dcterms:modified>
  <cp:revision>37</cp:revision>
  <dc:subject/>
  <dc:title>Online translation services and dictionaries</dc:title>
</cp:coreProperties>
</file>