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4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CF219-6D89-4326-A1B3-A7082E946D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FC992-8C7B-44B7-9A93-13D9843DE3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DAF3-3CE3-45A4-BCA1-4FBA1BE624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DF40-0F9D-453A-90BF-3CA2BF157C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4B3E-787B-49C2-97F0-796E2833B3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5B0C-BBB9-4039-A68E-000550295E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D5F60-DF33-410A-B89B-4069B4C65B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C2A6-A187-4E33-B99B-2F8963DD37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D744-40FD-4671-A651-9B9A277AE3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51058-DD35-48AE-9FFF-A8EB317A76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9FB5-EC10-4BC6-8663-5CEA27CC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7F60-5F32-4FA4-9CE3-F8C0EC95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6186-31F5-49C4-8C57-B4510B60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00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896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068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00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896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77A6-AE8C-4D43-BEA7-6A1DD24A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839B1-E5EE-4A16-8CEF-793118CA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2F6F4-EFB1-487C-8375-C2F1DA05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E5789-7676-4387-AEE9-261E998F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B6549-9B2A-457E-97F4-E8808272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1F1F7-41D5-4A57-9957-0974D579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74149-6496-42C8-B960-D019EA1A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6A408-9498-46B6-AE85-3E433B5F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0080-BFC3-4A60-8642-BD786D70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342F7-6275-4DAE-981F-BAF89070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32CA5-7D5E-4A4E-8142-F61043C2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A9D2F-51B3-43FA-B586-E56B98EF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798FD-B039-4928-A342-55CFB28D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00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896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068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00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8896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687D5-9E30-4BB8-8A4F-41E9C1B0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EBFB-C22E-49C7-BDE2-78716D3F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F8A3-E58C-4EB2-867E-1E180B2E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5F697-6636-42B8-8C24-890E1501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4D5F-5C86-496C-B58C-4023EACF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B7C29-15ED-4819-AD66-AAB5C6C5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AFA1-8048-47B0-94D2-92641DD0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85E1-82B4-4A38-8AE4-14649798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spcAft>
                <a:spcPts val="349"/>
              </a:spcAft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46083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5AB8C-1549-402F-9810-C5EF3A1488A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94B3F-1E77-42BF-8F78-4B236A92EEF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4608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0760" cy="5680080"/>
          </a:xfrm>
          <a:prstGeom prst="rect">
            <a:avLst/>
          </a:prstGeom>
          <a:solidFill>
            <a:srgbClr val="76566a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9D2E5-BCC1-41CA-BC61-2A72DC4D084B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1A6E1-8DD9-4F6D-8CA1-761660F998A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thebalance.com/cv-samples-and-writing-tips-2060349" TargetMode="External"/><Relationship Id="rId4" Type="http://schemas.openxmlformats.org/officeDocument/2006/relationships/hyperlink" Target="http://www.wikihow.com/Write-a-CV-(Curriculum-Vitae)" TargetMode="External"/><Relationship Id="rId5" Type="http://schemas.openxmlformats.org/officeDocument/2006/relationships/hyperlink" Target="http://www.wikihow.com/Write-a-CV-(Curriculum-Vitae)" TargetMode="External"/><Relationship Id="rId6" Type="http://schemas.openxmlformats.org/officeDocument/2006/relationships/hyperlink" Target="http://www.wikihow.com/Write-a-CV-(Curriculum-Vitae)" TargetMode="External"/><Relationship Id="rId7" Type="http://schemas.openxmlformats.org/officeDocument/2006/relationships/hyperlink" Target="http://www.wikihow.com/Write-a-CV-(Curriculum-Vitae)" TargetMode="External"/><Relationship Id="rId8" Type="http://schemas.openxmlformats.org/officeDocument/2006/relationships/hyperlink" Target="http://www.wikihow.com/Write-a-CV-(Curriculum-Vitae)" TargetMode="External"/><Relationship Id="rId9" Type="http://schemas.openxmlformats.org/officeDocument/2006/relationships/hyperlink" Target="http://www.wikihow.com/Write-a-CV-(Curriculum-Vitae)" TargetMode="External"/><Relationship Id="rId10" Type="http://schemas.openxmlformats.org/officeDocument/2006/relationships/hyperlink" Target="http://www.wikihow.com/Write-a-CV-(Curriculum-Vitae)" TargetMode="External"/><Relationship Id="rId11" Type="http://schemas.openxmlformats.org/officeDocument/2006/relationships/hyperlink" Target="http://www.wikihow.com/Write-a-CV-(Curriculum-Vitae)" TargetMode="External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linkedin.com/in/vadim-ermolayev-a95ab910/" TargetMode="External"/><Relationship Id="rId2" Type="http://schemas.openxmlformats.org/officeDocument/2006/relationships/hyperlink" Target="https://www.researchgate.net/profile/Vadim_Ermolayev/info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thebalance.com/free-resume-examples-and-writing-tips-2063596" TargetMode="External"/><Relationship Id="rId2" Type="http://schemas.openxmlformats.org/officeDocument/2006/relationships/hyperlink" Target="https://www.thebalance.com/free-resume-examples-and-writing-tips-2063596" TargetMode="External"/><Relationship Id="rId3" Type="http://schemas.openxmlformats.org/officeDocument/2006/relationships/hyperlink" Target="http://www.wikihow.com/Make-a-Resume" TargetMode="External"/><Relationship Id="rId4" Type="http://schemas.openxmlformats.org/officeDocument/2006/relationships/hyperlink" Target="http://www.wikihow.com/Make-a-Resume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thebalance.com/chronological-resume-example-for-a-retail-position-2063201" TargetMode="External"/><Relationship Id="rId2" Type="http://schemas.openxmlformats.org/officeDocument/2006/relationships/hyperlink" Target="https://www.thebalance.com/chronological-resume-example-for-a-retail-position-2063201" TargetMode="External"/><Relationship Id="rId3" Type="http://schemas.openxmlformats.org/officeDocument/2006/relationships/hyperlink" Target="https://www.thebalance.com/chronological-resume-example-for-a-retail-position-2063201" TargetMode="External"/><Relationship Id="rId4" Type="http://schemas.openxmlformats.org/officeDocument/2006/relationships/hyperlink" Target="https://www.thebalance.com/chronological-resume-example-for-a-retail-position-2063201" TargetMode="External"/><Relationship Id="rId5" Type="http://schemas.openxmlformats.org/officeDocument/2006/relationships/hyperlink" Target="http://www.wikihow.com/Sample/Chronological-Resume" TargetMode="External"/><Relationship Id="rId6" Type="http://schemas.openxmlformats.org/officeDocument/2006/relationships/hyperlink" Target="http://www.wikihow.com/Sample/Chronological-Resum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thebalance.com/chronological-resume-example-for-a-retail-position-2063201" TargetMode="External"/><Relationship Id="rId3" Type="http://schemas.openxmlformats.org/officeDocument/2006/relationships/hyperlink" Target="https://www.thebalance.com/chronological-resume-example-for-a-retail-position-2063201" TargetMode="External"/><Relationship Id="rId4" Type="http://schemas.openxmlformats.org/officeDocument/2006/relationships/hyperlink" Target="https://www.thebalance.com/chronological-resume-example-for-a-retail-position-2063201" TargetMode="External"/><Relationship Id="rId5" Type="http://schemas.openxmlformats.org/officeDocument/2006/relationships/hyperlink" Target="https://www.thebalance.com/chronological-resume-example-for-a-retail-position-2063201" TargetMode="External"/><Relationship Id="rId6" Type="http://schemas.openxmlformats.org/officeDocument/2006/relationships/hyperlink" Target="http://www.wikihow.com/Sample/Chronological-Resume" TargetMode="External"/><Relationship Id="rId7" Type="http://schemas.openxmlformats.org/officeDocument/2006/relationships/hyperlink" Target="http://www.wikihow.com/Sample/Chronological-Resume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thebalance.com/functional-resume-example-2063203" TargetMode="External"/><Relationship Id="rId2" Type="http://schemas.openxmlformats.org/officeDocument/2006/relationships/hyperlink" Target="https://www.thebalance.com/functional-resume-example-2063203" TargetMode="External"/><Relationship Id="rId3" Type="http://schemas.openxmlformats.org/officeDocument/2006/relationships/hyperlink" Target="https://www.thebalance.com/functional-resume-example-2063203" TargetMode="External"/><Relationship Id="rId4" Type="http://schemas.openxmlformats.org/officeDocument/2006/relationships/hyperlink" Target="https://www.thebalance.com/functional-resume-example-2063203" TargetMode="External"/><Relationship Id="rId5" Type="http://schemas.openxmlformats.org/officeDocument/2006/relationships/hyperlink" Target="http://www.wikihow.com/Sample/Functional-Resume" TargetMode="External"/><Relationship Id="rId6" Type="http://schemas.openxmlformats.org/officeDocument/2006/relationships/hyperlink" Target="http://www.wikihow.com/Sample/Functional-Resume" TargetMode="Externa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s://www.thebalance.com/functional-resume-example-2063203" TargetMode="External"/><Relationship Id="rId4" Type="http://schemas.openxmlformats.org/officeDocument/2006/relationships/hyperlink" Target="https://www.thebalance.com/functional-resume-example-2063203" TargetMode="External"/><Relationship Id="rId5" Type="http://schemas.openxmlformats.org/officeDocument/2006/relationships/hyperlink" Target="https://www.thebalance.com/functional-resume-example-2063203" TargetMode="External"/><Relationship Id="rId6" Type="http://schemas.openxmlformats.org/officeDocument/2006/relationships/hyperlink" Target="https://www.thebalance.com/functional-resume-example-2063203" TargetMode="External"/><Relationship Id="rId7" Type="http://schemas.openxmlformats.org/officeDocument/2006/relationships/hyperlink" Target="http://www.wikihow.com/Sample/Functional-Resume" TargetMode="External"/><Relationship Id="rId8" Type="http://schemas.openxmlformats.org/officeDocument/2006/relationships/hyperlink" Target="http://www.wikihow.com/Sample/Functional-Resume" TargetMode="External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thebalance.com/combination-resume-example-and-writing-tips-2061951" TargetMode="External"/><Relationship Id="rId2" Type="http://schemas.openxmlformats.org/officeDocument/2006/relationships/hyperlink" Target="https://www.thebalance.com/combination-resume-example-and-writing-tips-2061951" TargetMode="External"/><Relationship Id="rId3" Type="http://schemas.openxmlformats.org/officeDocument/2006/relationships/hyperlink" Target="https://www.thebalance.com/combination-resume-example-and-writing-tips-2061951" TargetMode="External"/><Relationship Id="rId4" Type="http://schemas.openxmlformats.org/officeDocument/2006/relationships/hyperlink" Target="https://www.thebalance.com/combination-resume-example-and-writing-tips-2061951" TargetMode="External"/><Relationship Id="rId5" Type="http://schemas.openxmlformats.org/officeDocument/2006/relationships/hyperlink" Target="http://www.wikihow.com/Sample/Combination-Resume" TargetMode="External"/><Relationship Id="rId6" Type="http://schemas.openxmlformats.org/officeDocument/2006/relationships/hyperlink" Target="http://www.wikihow.com/Sample/Combination-Resum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s://www.thebalance.com/combination-resume-example-and-writing-tips-2061951" TargetMode="External"/><Relationship Id="rId3" Type="http://schemas.openxmlformats.org/officeDocument/2006/relationships/hyperlink" Target="https://www.thebalance.com/combination-resume-example-and-writing-tips-2061951" TargetMode="External"/><Relationship Id="rId4" Type="http://schemas.openxmlformats.org/officeDocument/2006/relationships/hyperlink" Target="https://www.thebalance.com/combination-resume-example-and-writing-tips-2061951" TargetMode="External"/><Relationship Id="rId5" Type="http://schemas.openxmlformats.org/officeDocument/2006/relationships/hyperlink" Target="https://www.thebalance.com/combination-resume-example-and-writing-tips-2061951" TargetMode="External"/><Relationship Id="rId6" Type="http://schemas.openxmlformats.org/officeDocument/2006/relationships/hyperlink" Target="http://www.wikihow.com/Sample/Combination-Resume" TargetMode="External"/><Relationship Id="rId7" Type="http://schemas.openxmlformats.org/officeDocument/2006/relationships/hyperlink" Target="http://www.wikihow.com/Sample/Combination-Resume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60400" y="1409760"/>
            <a:ext cx="8283600" cy="24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pic II: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5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urriculum Vitae and Resume Writing</a:t>
            </a:r>
            <a:r>
              <a:rPr b="1" lang="ru-RU" sz="3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10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124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6566a"/>
                </a:solidFill>
                <a:latin typeface="Verdana"/>
              </a:rPr>
              <a:t>Professional Language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Vadim Ermolayev"/>
          <p:cNvPicPr/>
          <p:nvPr/>
        </p:nvPicPr>
        <p:blipFill>
          <a:blip r:embed="rId1"/>
          <a:stretch/>
        </p:blipFill>
        <p:spPr>
          <a:xfrm>
            <a:off x="870120" y="4248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17800" y="4172040"/>
            <a:ext cx="66960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dim Ermolayev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porizhzhya National Uni., Ukrain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8280" y="5769000"/>
            <a:ext cx="674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6566a"/>
                </a:solidFill>
                <a:latin typeface="Verdana"/>
              </a:rPr>
              <a:t>Zaporizhzhya National Uni., Spring 2017 </a:t>
            </a:r>
            <a:br>
              <a:rPr sz="2000"/>
            </a:br>
            <a:r>
              <a:rPr b="1" lang="en-US" sz="2000" spc="-1" strike="noStrike">
                <a:solidFill>
                  <a:srgbClr val="76566a"/>
                </a:solidFill>
                <a:latin typeface="Verdana"/>
              </a:rPr>
              <a:t>MSci Program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Zaporizhzhya National University, Ukraine"/>
          <p:cNvPicPr/>
          <p:nvPr/>
        </p:nvPicPr>
        <p:blipFill>
          <a:blip r:embed="rId2"/>
          <a:stretch/>
        </p:blipFill>
        <p:spPr>
          <a:xfrm>
            <a:off x="8292960" y="5797440"/>
            <a:ext cx="74628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hat makes a good CV?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 </a:t>
            </a:r>
            <a:r>
              <a:rPr b="1" lang="en-US" sz="2400" spc="-1" strike="noStrike">
                <a:solidFill>
                  <a:srgbClr val="404040"/>
                </a:solidFill>
                <a:latin typeface="Tahoma"/>
              </a:rPr>
              <a:t>targeted on the specific jo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or career area for which you are applying and brings out the relevant skills you have to o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arefully and </a:t>
            </a:r>
            <a:r>
              <a:rPr b="1" lang="en-US" sz="2400" spc="-1" strike="noStrike">
                <a:solidFill>
                  <a:srgbClr val="404040"/>
                </a:solidFill>
                <a:latin typeface="Tahoma"/>
              </a:rPr>
              <a:t>clearly laid 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gically ordered, easy to read and not cramp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 </a:t>
            </a:r>
            <a:r>
              <a:rPr b="1" lang="en-US" sz="2400" spc="-1" strike="noStrike">
                <a:solidFill>
                  <a:srgbClr val="404040"/>
                </a:solidFill>
                <a:latin typeface="Tahoma"/>
              </a:rPr>
              <a:t>informative but con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It is </a:t>
            </a:r>
            <a:r>
              <a:rPr b="1" lang="en-US" sz="2400" spc="-1" strike="noStrike">
                <a:solidFill>
                  <a:srgbClr val="404040"/>
                </a:solidFill>
                <a:latin typeface="Tahoma"/>
              </a:rPr>
              <a:t>accurate in content, spelling and 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f you mentio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tention to detai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skill, make sure your spelling and grammar are perfec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39EA-719A-4084-A935-1BEB89AC9D0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80E8-BEF0-46A8-979E-906F6EE5080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05DE2-84C8-47F7-8202-A3531FF9F9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ow long should a CV be?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bsolute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, a new graduate's CV should cover </a:t>
            </a:r>
            <a:r>
              <a:rPr b="1" lang="en-US" sz="2400" spc="-1" strike="noStrike">
                <a:solidFill>
                  <a:srgbClr val="404040"/>
                </a:solidFill>
                <a:latin typeface="Tahoma"/>
              </a:rPr>
              <a:t>no more than two sides of A4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 survey of American employers 35% preferred a one page CV and 19% a two page CV with the others saying it depends upon the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Vs in the US tend to be shorter than in the U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as the 2 page CV length still dominates for gradua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nd towards one page CVs (graduates, junior posi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loyers are getting more and more CVs, so they tend not to have the time to read long document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F6DC-EA62-4EF6-94A2-33F499F252B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9A06-1968-4BCF-9FC9-CBBDDD96D3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51EBC-DCE2-4CD1-A3D7-5DD4A53309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ips on CV Presentation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33320" y="1144080"/>
            <a:ext cx="733752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r CV should be 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carefully and clearly laid ou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not too cramped but not with large empty spaces either. Use bold and italic typefaces for headings and important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ver back a CV - 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each page should be on a separate sheet of pap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It's a good idea to put your name in the footer area so that it appears on each shee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Be concis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best CVs tend to be fairly economical with words, selecting the most important information and leaving a little something for the intervie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Be positiv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ut yourself over confidently and highlight your strong points. For example, when listing your A-levels, put your highest grade fir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Be hone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you should never give inaccurate or misleading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 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sweet spo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of a CV is the area selectors tend to pay most attention to: this is typically around the upper middle of the first page, so make sure that this area contains essential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you are posting your CV, 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don't fold i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ut it in a full-size A4 envelope so that it doesn't arrive creas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FBBC-17A3-45BB-9DCE-32FBDDF7B2B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10C6-ACB0-47B9-8496-8D7ABB0D432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39795-ECE6-4564-8D8C-AEB8EB1B6F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ifferent Types of CV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95000"/>
              </a:lnSpc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Tahoma"/>
              </a:rPr>
              <a:t>Chronolog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utlining your career history 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in date 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normally beginning with the most recent items (reverse chronological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5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"conventional" approach and the easiest to prep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5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ailed, comprehensive and biographical and usually works well for "traditional" students with a good all-round mixture of education and work experie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5000"/>
              </a:lnSpc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Tahoma"/>
              </a:rPr>
              <a:t>Skills-bas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highly-focused, relate your skills and abilities to a specific job or career area by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 highlighting these skills and your major achiev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5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ctual, chronological details of your education and work history are subordin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5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well fo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mature graduat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and for anybody whose degree subject and work experience is not directly relevant to their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5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closely targeted to a specific job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8371-E045-4517-8C10-9197EF6BC7F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BA07-A1CB-4DB0-9E46-4BE5A8CC5C7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617E2-F5E5-4CE2-B95F-A08132662A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ome Example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Рисунок 3" descr=""/>
          <p:cNvPicPr/>
          <p:nvPr/>
        </p:nvPicPr>
        <p:blipFill>
          <a:blip r:embed="rId1"/>
          <a:stretch/>
        </p:blipFill>
        <p:spPr>
          <a:xfrm>
            <a:off x="360360" y="843120"/>
            <a:ext cx="3801960" cy="5087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"/>
          <p:cNvPicPr/>
          <p:nvPr/>
        </p:nvPicPr>
        <p:blipFill>
          <a:blip r:embed="rId2"/>
          <a:stretch/>
        </p:blipFill>
        <p:spPr>
          <a:xfrm>
            <a:off x="4843440" y="844560"/>
            <a:ext cx="3438720" cy="50306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"/>
          <p:cNvSpPr/>
          <p:nvPr/>
        </p:nvSpPr>
        <p:spPr>
          <a:xfrm>
            <a:off x="0" y="5897520"/>
            <a:ext cx="561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</a:rPr>
              <a:t>https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3"/>
              </a:rPr>
              <a:t>www.thebalance.com/cv-samples-and-writing-tips-2060349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467240" y="589752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6"/>
              </a:rPr>
              <a:t>www.wikihow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8"/>
              </a:rPr>
              <a:t>Write-a-CV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9"/>
              </a:rPr>
              <a:t>-(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10"/>
              </a:rPr>
              <a:t>Curriculum-Vitae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11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1904-728D-4B45-954C-F9E9007750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D4781-C2EC-4F2C-92FB-E6EA96FDF0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V on Social Media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nked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for Industrial and Academic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f5f5f"/>
                </a:solidFill>
                <a:uFillTx/>
                <a:latin typeface="Arial Narrow"/>
                <a:hlinkClick r:id="rId1"/>
              </a:rPr>
              <a:t>https://www.linkedin.com/in/vadim-ermolayev-a95ab910/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earchG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mainly for Academics, though Industrialists (R&amp;D) als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: </a:t>
            </a:r>
            <a:r>
              <a:rPr b="0" lang="ru-RU" sz="2400" spc="-1" strike="noStrike" u="sng">
                <a:solidFill>
                  <a:srgbClr val="5f5f5f"/>
                </a:solidFill>
                <a:uFillTx/>
                <a:latin typeface="Arial Narrow"/>
                <a:hlinkClick r:id="rId2"/>
              </a:rPr>
              <a:t>https://www.researchgate.net/profile/Vadim_Ermolayev/inf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35A4-ECD7-45DA-B7E2-32DDA8F71F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293E3-8B1D-405C-B682-51BDB302FE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1960" y="1809720"/>
            <a:ext cx="85600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Verdana"/>
              </a:rPr>
              <a:t>Resume</a:t>
            </a:r>
            <a:endParaRPr b="1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B5FA5-7634-4447-8980-64EAF41D0CF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Resume Type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 depends on your career level and work experi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sume formats may work better than others at emphasizing your particular abilities and work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basic types of resumes used to apply for job opening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Chronologi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Combin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Targe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360360" y="5759280"/>
            <a:ext cx="8367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1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thebalance.com/free-resume-examples-and-writing-tips-2063596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360360" y="545148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Make-a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A51D-1F98-46DB-9241-49174C82193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7552-45CF-4171-A78E-C19964EB2CD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80997-127B-44AF-9F45-2916A7EBF9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hronological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s by listing your 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work his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the most recent position listed fir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jobs are listed in reverse chronological ord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your current, or most recent job, fir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ers typically prefer this type of resume because it's easy to se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jobs you have held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you have worked a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for job seekers with a strong, solid work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147600" y="5524560"/>
            <a:ext cx="8342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1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www.thebalance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/chronological-resume-example-for-a-retail-position-20632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147600" y="5214960"/>
            <a:ext cx="709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6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Sample/Chronological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Номер слайда 6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865F-EAE2-46E9-85C4-59D2506EB8A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C496-D5A3-4F85-8D50-FB5FD7100BB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31545-A743-402C-9D9D-26AFCF2CB4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E.g., Chronological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1"/>
          <a:srcRect l="0" t="4566" r="0" b="2460"/>
          <a:stretch/>
        </p:blipFill>
        <p:spPr>
          <a:xfrm>
            <a:off x="4344840" y="941400"/>
            <a:ext cx="4359600" cy="51102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4"/>
          <p:cNvSpPr/>
          <p:nvPr/>
        </p:nvSpPr>
        <p:spPr>
          <a:xfrm>
            <a:off x="581040" y="2965320"/>
            <a:ext cx="3668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2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www.thebalance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5"/>
              </a:rPr>
              <a:t>/chronological-resume-example-for-a-retail-position-20632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600120" y="1908000"/>
            <a:ext cx="2943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7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Sample/Chronological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Номер слайда 7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D0BD-78EA-4A34-902E-2424BCB6B70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AC82-02E8-4BE9-8F0E-A6BBDE424E1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83716-EBA5-4341-91DA-28A7B9C65F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good command of English a core professiona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quir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C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fficul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(professional) trans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proofreading companies often f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s to aid trans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translation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diction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these fail?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39B5-9B13-4E81-8D14-50C4B8793A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A3FFA-C319-4145-A431-1D06A80D36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unctional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s on your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skills and exper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her than on your chronological work histor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most often by people who: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changing careers, 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gaps in their employment 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488880" y="4479840"/>
            <a:ext cx="7336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1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www.thebalance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/functional-resume-example-206320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488880" y="4157640"/>
            <a:ext cx="6532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6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Sample/Functional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Номер слайда 7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1D80-77D3-4B0B-9AB2-9E7FCAFC15A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0373-E70C-4EB2-BF11-1136A5915CE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D7532-67BC-4157-9940-004FC34361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E.g. Functional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Рисунок 3" descr=""/>
          <p:cNvPicPr/>
          <p:nvPr/>
        </p:nvPicPr>
        <p:blipFill>
          <a:blip r:embed="rId1"/>
          <a:srcRect l="0" t="3230" r="0" b="2773"/>
          <a:stretch/>
        </p:blipFill>
        <p:spPr>
          <a:xfrm>
            <a:off x="446040" y="1009800"/>
            <a:ext cx="3922920" cy="49845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"/>
          <p:cNvPicPr/>
          <p:nvPr/>
        </p:nvPicPr>
        <p:blipFill>
          <a:blip r:embed="rId2"/>
          <a:srcRect l="0" t="4580" r="0" b="0"/>
          <a:stretch/>
        </p:blipFill>
        <p:spPr>
          <a:xfrm>
            <a:off x="4483080" y="992160"/>
            <a:ext cx="4086360" cy="49132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4708440" y="4894200"/>
            <a:ext cx="4151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5"/>
              </a:rPr>
              <a:t>www.thebalance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6"/>
              </a:rPr>
              <a:t>/functional-resume-example-206320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4724280" y="4019400"/>
            <a:ext cx="2870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7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8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Sample/Functional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Номер слайда 8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C694-18B5-4320-895C-BB7A98F368D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73C21-44B8-4D81-B3E3-151EABEB516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7AFB4-B0CE-48E4-935B-ECD2A41FCD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ombination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s your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skills and experience fir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 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employment his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is listed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nex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is type of resume you ca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light the skills you have that are relevant to the job you are applying for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the chronological work history that employers pre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534960" y="4238640"/>
            <a:ext cx="768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1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www.thebalance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/combination-resume-example-and-writing-tips-206195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534960" y="3973680"/>
            <a:ext cx="6319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6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Sample/Combination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Номер слайда 6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9C3E-6AA2-47FC-9E69-BDA0D46FB98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00DB-DF72-41DA-B888-D47014F9C18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BC0AF-BDC8-462F-92C8-908D4883CF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E.g. Combination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Рисунок 3" descr=""/>
          <p:cNvPicPr/>
          <p:nvPr/>
        </p:nvPicPr>
        <p:blipFill>
          <a:blip r:embed="rId1"/>
          <a:srcRect l="0" t="4939" r="0" b="2625"/>
          <a:stretch/>
        </p:blipFill>
        <p:spPr>
          <a:xfrm>
            <a:off x="4138560" y="947880"/>
            <a:ext cx="4351320" cy="51069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81080" y="3633840"/>
            <a:ext cx="40305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2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www.thebalance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5"/>
              </a:rPr>
              <a:t>/combination-resume-example-and-writing-tips-206195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181080" y="2368440"/>
            <a:ext cx="297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7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Sample/Combination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Номер слайда 7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C1F2-C01D-4533-AED3-D970F48C0C2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8B22-EFBF-4F24-B2A6-B1736E0E9809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C01EA-DAA0-4A71-A14B-CDAD6BE495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argeted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customized so that it specifically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highlights the experience and skill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have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that are relevant to the jo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applying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efinitely takes more work to write a targeted resume than to just click to apply with your existing res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's well worth the effort, especially when applying for jobs that are a perfect match for your qualifications and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Прямоугольник 4"/>
          <p:cNvSpPr/>
          <p:nvPr/>
        </p:nvSpPr>
        <p:spPr>
          <a:xfrm>
            <a:off x="363600" y="4651200"/>
            <a:ext cx="53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http://www.wikihow.com/Sample/Personal-Trainer-Resu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05E1-82C3-4900-A8B5-86C0CBC20D4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4AB4-5C44-4E5C-9BEF-E2FAA6609FE2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B4873-1BF4-4746-BE5F-7177F7FDF2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argeted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Рисунок 3" descr=""/>
          <p:cNvPicPr/>
          <p:nvPr/>
        </p:nvPicPr>
        <p:blipFill>
          <a:blip r:embed="rId1"/>
          <a:srcRect l="0" t="4138" r="0" b="10658"/>
          <a:stretch/>
        </p:blipFill>
        <p:spPr>
          <a:xfrm>
            <a:off x="4165560" y="915840"/>
            <a:ext cx="4329000" cy="515484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825480" y="2655720"/>
            <a:ext cx="289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http://www.wikihow.com/Sample/Personal-Trainer-Resu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Номер слайда 6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B8AA-264A-4DC1-BAA4-5602CB4CD66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00BC-CFD8-4B61-A285-1050357BD179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DCFEE-A7FE-4A6B-A921-034991FE98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Resume Writing Tip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 Choose the Right Resume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pending on your personal circumstances, choose a chronological, a functional, combination, or a targeted resu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. Choose  Basic Fo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writing a resume it's important to use a basic font that is easy to read, both for hiring managers and for applicant management syst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3. Use a Resume Templ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a resume template as a starting point for creating your own resu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your information to the resume template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weak and edit it to personalize your resume, so it highlights your skills and abil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0AD4-156E-4BB6-B87C-28978D98D13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6FBA-ECC7-4AEB-8D2D-5E78EC3C834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EC7E6-E4AA-4450-8D3B-92DA98EE8C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Resume Writing Tip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54040" y="1109520"/>
            <a:ext cx="751536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 Include All Your Contact Infor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ll name, street address, city, state, and zip, home phone number, cell phone number, and email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. Add a Profile or Object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you include an objective on your resume, it's important to tailor it to match the job you are applying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re specific you are, the better chance you have of being considered for the job you are interested 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. Include Resume Key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 resume should include the same keywords that appear in job descrip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. Prioritize Your Resume Cont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's important to prioritize the content of your resume so that your most important and relevant experience is listed first, with key accomplishments listed at the top of each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8B3E-34FD-4BF8-9F68-13E7AA3CEDF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FD852-4362-479B-B067-8707755594F1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43041-F3FC-4B74-81D0-A803155F27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1960" y="541080"/>
            <a:ext cx="85600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ffffff"/>
                </a:solidFill>
                <a:latin typeface="Verdana"/>
              </a:rPr>
              <a:t>CV, Resume,</a:t>
            </a:r>
            <a:br>
              <a:rPr sz="7100"/>
            </a:br>
            <a:r>
              <a:rPr b="1" lang="en-US" sz="7100" spc="-1" strike="noStrike">
                <a:solidFill>
                  <a:srgbClr val="ffffff"/>
                </a:solidFill>
                <a:latin typeface="Verdana"/>
              </a:rPr>
              <a:t>and </a:t>
            </a:r>
            <a:br>
              <a:rPr sz="7100"/>
            </a:br>
            <a:r>
              <a:rPr b="1" lang="en-US" sz="7100" spc="-1" strike="noStrike">
                <a:solidFill>
                  <a:srgbClr val="ffffff"/>
                </a:solidFill>
                <a:latin typeface="Verdana"/>
              </a:rPr>
              <a:t>CV vs Resume</a:t>
            </a:r>
            <a:endParaRPr b="1" lang="en-US" sz="7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5E93B-835D-4CC7-97CB-AE699971FBF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hat is a Resume?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ise summ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your education, work history, credentials, and other accomplishments and skil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cus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THIS particular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st comm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cument requested of applicants in job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contai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onal s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cluding a resume objective and career summary statem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cally, one page lo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times it can be as long as two p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based on bulleted lists to keep information con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e in a f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ronological, functional, and combination forma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a format that best fits the type of job you are applying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C5D6-32B7-4B3C-A8B1-3E975F67B20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6E16-613E-4ACA-AA51-36145A630B0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0B535-D828-4C51-B73F-9854BC6041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What is a Curriculum Vitae?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Curriculum Vita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n Lat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 to a resume, 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400" spc="-1" strike="noStrike">
                <a:solidFill>
                  <a:srgbClr val="404040"/>
                </a:solidFill>
                <a:latin typeface="Tahoma"/>
              </a:rPr>
              <a:t>curriculum vitae (CV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summary of one’s experience and skil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ifference to a resume, CVs describe all your professional carr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than resu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used in Acade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information on one’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ademic background, including teaching experience, degrees, research, awards, publications, presentations, and other achieve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99EF-A013-4439-B900-9CB009D5938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37DA8-2E2E-43D3-B28C-FD8C410BE0D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F82FE-1F5B-44AE-823D-DB37BBD165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66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fference between a resume and a CV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4360" y="1302840"/>
            <a:ext cx="8131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cus and Con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hat is included and for what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how detailed it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both are used in job applications, a resume and a CV are not always interchange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63D8-FAA8-4D2D-B6CA-CB196EAC8F3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0D67-2579-4CF1-8EE1-B80312E0AFD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476D1-947E-44D5-B924-DFB55FB64D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1960" y="1809720"/>
            <a:ext cx="85600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Verdana"/>
              </a:rPr>
              <a:t>Curriculum Vitae</a:t>
            </a:r>
            <a:endParaRPr b="1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87C33-2E5E-4B16-97DC-756493FF7B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hen to Use a CV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0680" y="1125000"/>
            <a:ext cx="813096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lmost exclusively in countries outside the United Sta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urope, the Middle East, Africa, or Asia, employers may expect to receive a C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United States, people in academia and medicine tend to use CVs rather than resu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Vs are thus used primarily when applying for the positions in: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tional organizations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adem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uc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(resear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cal or Healthc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when applying for fellowships or g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0AA1-1804-4063-8B61-74802D461C3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8BEA-5B63-4109-B04F-572743B3542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162EE-467C-4328-A3DD-E755980700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ost Important Aspects in a CV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58440" y="1128240"/>
            <a:ext cx="71535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5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vious related work exper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5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alifications &amp;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5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asy to 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6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complish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4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lling &amp; gramm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duc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hese were not just graduate recruiters or this score would be much higher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angible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viduality/desire to succ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ear obj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eywords ad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act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sonal experi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uter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15FA-BCAA-42A6-AF3A-7E4795C840A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36E9-0D02-4400-A5C8-2B9738C6E23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BC095-5C62-42C5-A03B-A9E343EAB9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1T17:15:06Z</dcterms:created>
  <dc:creator>Пользователь Windows</dc:creator>
  <dc:description/>
  <dc:language>en-US</dc:language>
  <cp:lastModifiedBy>eva</cp:lastModifiedBy>
  <dcterms:modified xsi:type="dcterms:W3CDTF">2017-03-15T11:10:13Z</dcterms:modified>
  <cp:revision>37</cp:revision>
  <dc:subject/>
  <dc:title>Online translation services and dictionaries</dc:title>
</cp:coreProperties>
</file>