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3E77-F301-4BAF-84D9-1FBF8B70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6FE1-8384-47C9-8F55-AF5C4CC1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5072-2C63-470B-AA7A-2900B548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0D42-D0BF-44EA-9DE9-5E4A86FF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68A0-C841-4096-9F9A-4AF0D5ED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888B-0497-457E-AEAF-292D71E0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2B93-60DE-40A9-897F-010A77C3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85C3-24CB-4FBC-BBFC-FD53927E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780C-5A0D-4296-AFAC-DB75A491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09F6-EBB6-40A5-9475-24C00301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1750-50D0-43BB-9D80-E27136EA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1907-442E-43E8-A7EE-02970715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0158-B35A-405D-8757-37FA94AA89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240" y="836280"/>
            <a:ext cx="600876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раїнська класифікація товарів зовнішньоекономічної діяльності (УКТ ЗЕД)</a:t>
            </a:r>
            <a:r>
              <a:rPr b="1" lang="uk-U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– це систематизований перелік товарів, який складається з кодів товарів та найменувань для цих коді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и в УКТ ЗЕД об’єднані у товарні позиції, позиції – в групи, а групи – в розділи. Всього в УКТ ЗЕД є 21 розділ та 97 груп. Розділи в УКТ ЗЕД позначаються римськими цифрами, а групи – арабськими цифра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ні позиції позначаються числом з чотирьох арабських цифр. Товарні позиції в свою чергу деталізовані на товарні підпозиції – шестицифрові коди. Товарні підпозиції в УКТ ЗЕД, у свою чергу, поділені на категорії (восьмицифрові коди), а товарні категорії – на товарні підкатегорії (десятицифрові коди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у десятизначного коду товару в УКТ ЗЕД можна показати у наступному вигляді (рис. 2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2 Структура коду товару в УКТ ЗЕ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963720" y="1989000"/>
            <a:ext cx="7561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55640" y="836280"/>
            <a:ext cx="763272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КТ ЗЕД деталізацією називається розділення товарів, що класифікуються за одним кодом, на декілька кодів. В УКТ ЗЕД назви товарних угрупувань (назви товарних позиції, підпозицій та категорій), що деталізуються, завжди закінчуються двокрапкою (:). Коди товарних позицій, які </a:t>
            </a:r>
            <a:r>
              <a:rPr b="0" i="1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еталізуються</a:t>
            </a:r>
            <a:r>
              <a:rPr b="1" i="1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аються з більшої кількості цифр, та закінчуються нулям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пка з комою (;) в назвах товарних позицій та назвах інших товарних угрупувань застосовується для розділення між собою різних угрупувань товарів, які класифікуються за різними кодами, наприклад у межах товарної позиції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КТ ЗЕД перед назвами товарів ставляться дефіси. Дефіси ставляться як перед назвами товарів з кодами, так і перед назвами товарів без кодів. Назвами товарів одного рівня деталізації вважаються назви, які мають однакову кількість дефісів (таблиця 7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26920" y="1682640"/>
          <a:ext cx="7632720" cy="3907080"/>
        </p:xfrm>
        <a:graphic>
          <a:graphicData uri="http://schemas.openxmlformats.org/drawingml/2006/table">
            <a:tbl>
              <a:tblPr/>
              <a:tblGrid>
                <a:gridCol w="2544840"/>
                <a:gridCol w="5087880"/>
              </a:tblGrid>
              <a:tr h="390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згідно з УКТ З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 товар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орожені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06 1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- лангусти (Palіnurus spp., Panulіrus spp., Jasus spp.)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06 11 05 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- - копчені, в панцирі або без панцира, гарячого або холодного копчення; не приготовлені іншим способо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- - інші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06 11 10 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- - - хвости лангусті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06 11 90 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- - - інші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Rectangle 1"/>
          <p:cNvSpPr/>
          <p:nvPr/>
        </p:nvSpPr>
        <p:spPr>
          <a:xfrm>
            <a:off x="826920" y="624960"/>
            <a:ext cx="7632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я 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алізовані товарні угрупуван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94920" y="692280"/>
            <a:ext cx="806436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585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Т ЗЕД в Україні використовують не лише для стягнення мита, але й, дл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3585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 збирання статистичних даних про зовнішню торгівлю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3585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митного оформлення товарів, щодо яких запроваджені обмеження на імпорт та експорт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3585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податкування підакцизних товарів, або товарів, для яких знижені ставки ПД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3585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изначення правил походження (в багатьох випадках вважається, що переробка визначає походження товару за умови, що вона призводить до зміни тарифної позиції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35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02T12:21:24Z</dcterms:created>
  <dc:creator>Dvyhun</dc:creator>
  <dc:description/>
  <dc:language>en-US</dc:language>
  <cp:lastModifiedBy>Dvyhun</cp:lastModifiedBy>
  <dcterms:modified xsi:type="dcterms:W3CDTF">2019-10-02T12:37:52Z</dcterms:modified>
  <cp:revision>6</cp:revision>
  <dc:subject/>
  <dc:title>Презентация PowerPoint</dc:title>
</cp:coreProperties>
</file>