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C73-725E-4B01-AFF2-7EE2AF22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70B-C600-49AA-ABC8-2211A2D2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4AC-3285-413D-95AD-8E6060B6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9A6-ECE1-4BA1-8C7B-ADE71149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C1F-81CD-4C36-840A-9C6A00E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5B2-8883-4333-8A75-E19360E9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315-5371-402D-B862-1DE0FF50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37B-922C-4006-8AE2-4019D75C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8B3-3FD6-468E-B3CF-903D8718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A92-081B-4E32-9B0A-B509EF8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CE8-DD06-48FE-9835-427AD38B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A64-675D-4C16-B8AB-B768EA3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6DAC-D3C8-4E5D-B5F9-BA312A5CC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836280"/>
            <a:ext cx="60087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їнська класифікація товарів зовнішньоекономічної діяльності (УКТ ЗЕД)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це систематизований перелік товарів, який складається з кодів товарів та найменувань для цих коді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и в УКТ ЗЕД об’єднані у товарні позиції, позиції – в групи, а групи – в розділи. Всього в УКТ ЗЕД є 21 розділ та 97 груп. Розділи в УКТ ЗЕД позначаються римськими цифрами, а групи – арабськими циф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і позиції позначаються числом з чотирьох арабських цифр. Товарні позиції в свою чергу деталізовані на товарні підпозиції – шестицифрові коди. Товарні підпозиції в УКТ ЗЕД, у свою чергу, поділені на категорії (восьмицифрові коди), а товарні категорії – на товарні підкатегорії (десятицифрові коди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десятизначного коду товару в УКТ ЗЕД можна показати у наступному вигляді (рис. 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 Структура коду товару в УКТ З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963720" y="1989000"/>
            <a:ext cx="756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836280"/>
            <a:ext cx="7632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Т ЗЕД деталізацією називається розділення товарів, що класифікуються за одним кодом, на декілька кодів. В УКТ ЗЕД назви товарних угрупувань (назви товарних позиції, підпозицій та категорій), що деталізуються, завжди закінчуються двокрапкою (:). Коди товарних позицій, які </a:t>
            </a:r>
            <a:r>
              <a:rPr b="0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талізуються</a:t>
            </a:r>
            <a:r>
              <a:rPr b="1" i="1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аються з більшої кількості цифр, та закінчуються ну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ка з комою (;) в назвах товарних позицій та назвах інших товарних угрупувань застосовується для розділення між собою різних угрупувань товарів, які класифікуються за різними кодами, наприклад у межах товарної позиції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КТ ЗЕД перед назвами товарів ставляться дефіси. Дефіси ставляться як перед назвами товарів з кодами, так і перед назвами товарів без кодів. Назвами товарів одного рівня деталізації вважаються назви, які мають однакову кількість дефісів (таблиця 7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1682640"/>
          <a:ext cx="7632720" cy="3907080"/>
        </p:xfrm>
        <a:graphic>
          <a:graphicData uri="http://schemas.openxmlformats.org/drawingml/2006/table">
            <a:tbl>
              <a:tblPr/>
              <a:tblGrid>
                <a:gridCol w="2544840"/>
                <a:gridCol w="508788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згідно з УКТ З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 товар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рожені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лангусти (Palіnurus spp., Panulіrus spp., Jasus spp.)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05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копчені, в панцирі або без панцира, гарячого або холодного копчення; не приготовлені іншим способ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інші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10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- хвости лангусті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06 11 90 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 - - інш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826920" y="624960"/>
            <a:ext cx="7632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я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ізовані товарні угруп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4920" y="692280"/>
            <a:ext cx="80643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Т ЗЕД в Україні використовують не лише для стягнення мита, але й, дл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 збирання статистичних даних про зовнішню торгівл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итного оформлення товарів, щодо яких запроваджені обмеження на імпорт та експорт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одаткування підакцизних товарів, або товарів, для яких знижені ставки ПД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значення правил походження (в багатьох випадках вважається, що переробка визначає походження товару за умови, що вона призводить до зміни тарифної позиції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35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2T12:21:24Z</dcterms:created>
  <dc:creator>Dvyhun</dc:creator>
  <dc:description/>
  <dc:language>en-US</dc:language>
  <cp:lastModifiedBy>Dvyhun</cp:lastModifiedBy>
  <dcterms:modified xsi:type="dcterms:W3CDTF">2019-10-02T12:37:52Z</dcterms:modified>
  <cp:revision>6</cp:revision>
  <dc:subject/>
  <dc:title>Презентация PowerPoint</dc:title>
</cp:coreProperties>
</file>