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4E9-9300-4A6C-B74F-B1547A66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E6A-EE30-4B03-AC20-82B7AA2D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6F0-536E-4BF4-ACCE-E41990B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D43-93E6-4AE6-B250-127118CD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2A3-87DE-4E50-86FB-10DC467E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87F-5E59-4778-9662-82D20F7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7F0-D83D-476F-894A-D8887E47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F068-716E-40C1-BFD7-DAE3FB3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82BB-4A93-479D-B194-4AC7E7B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500-E6E7-4DAA-BC84-EE62E928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507-BEED-490E-AE0C-1D835E0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1DC-DA79-489D-BF7D-95336AD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BA1-C77E-4C7B-A072-9F1FA2B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D1DE-531D-4A70-8C48-07926BB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D901-B009-415B-B218-72E45203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879-33C3-430A-AC4A-AB7DD9DB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02F9-7011-4A74-9755-99975CD7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F67B-03A1-4166-B9BE-5F9ABA0B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E21D-94CE-4F46-A88D-22D60D43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7E39-CBAB-41E7-B3BD-7F0607B7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F250-5FB7-4129-B2D1-2C1F674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B902-16F4-4EF0-A163-99382C36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259-E496-410A-87EA-81D274E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FAD7-A90E-4916-A8F5-1E3D3AD4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1C55-6101-4EBB-BEAC-14B7293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A8A2-166A-46B4-B64E-CF3A141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D263-16EE-41E9-8207-1A04A3D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C214-3B91-48BD-8749-7AF5BCE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8258-39E1-4136-95D2-70DCFEA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15AB-FA98-474A-9AC7-9365BC94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9C26-375E-48FA-B2A0-97FEFB0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73A0-345F-4E2A-9DFF-8350486C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6F0B-6DE9-4DEC-8469-25FE2BE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23F-8498-444C-B1A6-B502460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E5C2-C0D8-47A1-A285-2E79381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A6DB-AA23-4F95-A44F-08867FA8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B39C-F65F-4D01-A363-977A165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506C-B076-4895-AC4F-7523AB3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97FC-A001-4382-9688-E3F8EEE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8E1F-708F-4230-A7E0-03219E2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AA1C-E515-489F-8BCE-2DDB02F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15E4-CD37-4160-B3F3-97AB1908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316F-D49C-4FE1-97A4-4F18F60E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9A8B-23D3-4D1D-A635-E5B5306C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3D9-E928-4F04-A3E4-511FD5E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3967-13FB-4D68-AFDA-5631EE35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7480-555D-4634-BBBB-D074DC83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7BF8-CB71-4E25-B80D-2283E97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D3E7-420B-42AA-9F9C-70A8D79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569C-8BFB-414D-84FE-AD95CC4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7A70-D046-4362-BADA-D7C6BF1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FCE6-F439-4174-819F-245215B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0DDE-159A-4E88-9C8A-D781556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8DA5-9932-4079-9DB8-4FE3DB81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DD84F-7CDD-4179-9B0B-1E5D419D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765-BEA5-4D15-B3B1-99DAE8B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B32A-2FE5-4276-B294-E7175AA0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F1D9-FD60-4797-8599-BE47C565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0CB9-3082-4151-AB75-0DDE2FBA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5316-F000-4B69-83DA-C314F0E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D55E-4024-4907-9654-624C1505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42DE-BB14-495D-85E5-C7BBA43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67BB-3DF3-4570-B6C3-5DF52F5F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D6BF-832C-4390-9D51-5DEB98A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463D-C018-46F4-B55B-4C216FD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B370-08AD-4D20-9329-5666468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4C1-1346-4352-BC24-0D80073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881F-B7B4-4C89-BA30-BC7F767D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9804-47AA-451E-A912-A5298486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70C9-4266-4A0D-89EE-3B4378BC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2F61-3106-4841-9379-6C95F210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42F6-431B-4F56-9835-F714F46B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5B5D-1076-4FF5-883D-177EAD3A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D911-26E8-474F-8185-394D9D3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34BB-0331-4521-8901-DDE3B5E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CE737-9E8B-45B0-93AC-226A14C4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3254-123C-4027-93FB-8B12CEA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BA2-A959-42DB-90AD-EFC27F5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F57C-43B0-40A6-B212-A4185F3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1BC09-9D33-4C65-BD92-A2051DC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D9AA-E725-479A-B410-E083488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09C7-16FA-4922-AE11-27D62B3E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087C-A377-41DC-B8EA-917DBAC6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1AB-52F0-4D66-83F1-C8A8AADD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C3B6-86CC-47EA-983F-0BD47C516D6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43C-1486-4FC8-BF7C-44D8201B108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C19-D491-4760-8DC1-657291F4B40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DE4-52A6-4313-B86F-7859C5D7EFF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F860-F68B-409B-86AA-A93C0BF2AF5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E8E-3AFE-4C29-94CA-A788178BECD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111-7810-4DAB-B7CA-3F09EA9DFB2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2133360"/>
            <a:ext cx="6985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1. Роль транспорту в зовнішньоекономічній діяльності підприємства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2. Характеристика основних видів транспорту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3. Критерії вибору виду транспорту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4. Методика визначення оптимального перевізник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А ІНФРАСТРУКТУРА ЗОВНІШНЬОЕКОНОМІЧНОЇ ДІЯЛЬНОСТІ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l_fi" descr="93511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5259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но для перевезення худоб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99640" y="177300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ька, у порівнянні з іншими видами транспорту, собівартість перевезень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більність (у залежності від попиту та пропозиції на тоннаж судна можуть легко переключатися з одного маршруту на інший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лика вантажність морських суден, що дозволяє перевозити великі партії вантажу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обмежена пропускна здатність морських шляхів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користання морського транспорту обмежено географічним розміщенням продавця і покупц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ька швидкість перевезе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погодних ум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93116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морських перевезен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доставки вантажів від вантажовідправника до одержувача без перевантаж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езпечення високого рівня збереження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лика мобільність та швидкість перевез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кономічність при перевезенні товарно-штучних вантажів на невеликі відстані (до 200 км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рогий вид транспорту при перевезеннях на великі відстан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транспортної мережі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автомобіль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170028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швидкість достав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збереженість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перевезення у віддалені, важкодоступні район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іжконтинентальні перевез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вартість достав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ількісна обмеженість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годження маршрутів міжнародних перевезень авіакомпаніями різних краї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повітря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ефективність при перевезеннях на відстань більше 200 к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ідносна дешевизна та менше забруднення навколишнього середовища порівняно з автомобільним транспорто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доставки “до дверей” завдяки будівництву під’їзних шляхів до підприємст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роможність перевезення широкої номенклатури різних вантажі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залежність від кліматичних ум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залізнич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1557000"/>
            <a:ext cx="7408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еографічне положення країн-експортерів та імпортерів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ідстань між країнами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рактер товару, що перевозиться та його вартість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артість перевезення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езпека транспортува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швидкість перевезе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дійність (додержування щодо графіків доставки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ревізна спроможність, спроможність перевозити різні вантажі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погодних ум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ії вибору транспорту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</a:rPr>
              <a:t>1. В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бір показників оцін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Ранжирування кількісних та якісних показникі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Визначення вагових коефіцієнтів з урахуванням рангів показникі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Нормування значень кількісних показників відносно еталонного значенн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Нормування значень якісних показників на основі «шкали бажаності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 Розрахунок інтегральної оцін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вибору оптимального перевізник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826920" y="1628640"/>
          <a:ext cx="7409160" cy="4464360"/>
        </p:xfrm>
        <a:graphic>
          <a:graphicData uri="http://schemas.openxmlformats.org/drawingml/2006/table">
            <a:tbl>
              <a:tblPr/>
              <a:tblGrid>
                <a:gridCol w="2722680"/>
                <a:gridCol w="2722680"/>
                <a:gridCol w="1963800"/>
              </a:tblGrid>
              <a:tr h="538200">
                <a:tc rowSpan="2">
                  <a:txBody>
                    <a:bodyPr lIns="25560" rIns="25560" tIns="0" bIns="0" anchor="t">
                      <a:noAutofit/>
                    </a:bodyPr>
                    <a:p>
                      <a:pPr marL="100080" indent="-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як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шкалі бажа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па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є зн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льше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доб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75-0,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0-0,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ові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67-0,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6-0,3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пог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-0,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дові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0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ування якісних параметрів на основі шкали бажаност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02920" y="1988640"/>
            <a:ext cx="7056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1. Морськ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2. Автомобіль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3. Повітря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4. Залізнич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5. Трубопровід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І ВИДИ ТРАНСПОРТУ 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ховантажник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il_fi" descr="suh"/>
          <p:cNvPicPr/>
          <p:nvPr/>
        </p:nvPicPr>
        <p:blipFill>
          <a:blip r:embed="rId1"/>
          <a:stretch/>
        </p:blipFill>
        <p:spPr>
          <a:xfrm>
            <a:off x="1332000" y="141300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l_fi" descr="konteynerovoz_emma_maersk_samoe_bolshoe_1"/>
          <p:cNvPicPr/>
          <p:nvPr/>
        </p:nvPicPr>
        <p:blipFill>
          <a:blip r:embed="rId1"/>
          <a:stretch/>
        </p:blipFill>
        <p:spPr>
          <a:xfrm>
            <a:off x="1116000" y="170028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онтейнерово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l_fi" descr="carrier_12"/>
          <p:cNvPicPr/>
          <p:nvPr/>
        </p:nvPicPr>
        <p:blipFill>
          <a:blip r:embed="rId1"/>
          <a:stretch/>
        </p:blipFill>
        <p:spPr>
          <a:xfrm>
            <a:off x="1187280" y="155736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іхтерово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Roro_faehre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321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к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il_fi" descr="tanker"/>
          <p:cNvPicPr/>
          <p:nvPr/>
        </p:nvPicPr>
        <p:blipFill>
          <a:blip r:embed="rId1"/>
          <a:stretch/>
        </p:blipFill>
        <p:spPr>
          <a:xfrm>
            <a:off x="1332000" y="1125360"/>
            <a:ext cx="6192720" cy="4680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кер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33296653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09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к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il_fi" descr="049n2cu6ooa6"/>
          <p:cNvPicPr/>
          <p:nvPr/>
        </p:nvPicPr>
        <p:blipFill>
          <a:blip r:embed="rId1"/>
          <a:stretch/>
        </p:blipFill>
        <p:spPr>
          <a:xfrm>
            <a:off x="1258920" y="1916280"/>
            <a:ext cx="6548400" cy="39607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но для перевезення газ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9T19:21:24Z</dcterms:created>
  <dc:creator>Olya</dc:creator>
  <dc:description/>
  <dc:language>en-US</dc:language>
  <cp:lastModifiedBy>Dvyhun</cp:lastModifiedBy>
  <dcterms:modified xsi:type="dcterms:W3CDTF">2018-10-12T12:06:00Z</dcterms:modified>
  <cp:revision>39</cp:revision>
  <dc:subject/>
  <dc:title>Cуховантажник</dc:title>
</cp:coreProperties>
</file>