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405-F2E8-4E21-B15B-158C1301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66C-79B2-49A4-88A7-7D5FE062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838B-4251-40C9-AE96-B063928F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1C6-74EB-4E16-820A-D015ED52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AA61-881B-4D68-A740-39EE6C2D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BF13-A360-45A9-9AD4-88EEF329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A458-8E5A-416D-899B-AA69386A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3AFB-E2EE-44C0-9E9A-BDDA0C11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0743-4C99-42B0-BA40-74F89FC9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90C2-70A4-45E8-BA60-AF2681C6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05F5-934B-4888-9561-79BBF376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ACD-F241-4935-AD31-C9EB11B7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080F-0A09-45B1-9A6A-59F7CD55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5944-DE92-40A9-9A84-AD91C856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9084-A3EC-4FCE-91DB-41A1AA40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2288-99CF-40FF-B058-6DAEF632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E1C0-6AA0-466E-BBEF-BB27D970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08741-FC37-4521-83B0-2C5B2982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83946-A8A8-4B63-A984-4D3CC755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2C78B-8F8F-45E1-A7CE-693CA64E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0741B-42EA-4C13-A202-A52D256B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055D6-3576-4BF1-8353-4D037021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9A6-31E6-4D5F-9204-1FC09ADE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FF414-50BC-4549-8DD4-321321FE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AD6DF-CB5F-4CC3-BFB5-5D058C35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5A89D-79D1-4151-9441-3BF172E3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4D925-2CCA-48A0-AC8C-2E13029B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789DA-64E6-4FD4-9178-B30A6830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3F017-FB74-4A33-94DC-3AA34DA7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EF5A-BE58-4F26-97A5-9A0F5B9C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53A18-AF55-400F-82A9-EB96A2BE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53142-F18F-4A62-A5D1-3794191F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55F4D-CB15-48BF-B7A2-9A3DC94C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A9C-62CA-4CAD-A3CF-659ED3EB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C9ECB-F2A5-471B-A7C4-C2AD0167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FD10D-51E2-45D3-8FC7-21706EAC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029A6-4CBD-4418-A6F6-4074309D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7FD8F-03EA-4B28-820F-61EA2533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E7550-975F-4E95-8D5C-86C019E8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B8524-EEF3-46FF-86E6-9F0439BA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62F19-6441-44C9-A8F7-EF6B7A99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D0E94-0CCE-40A7-A079-0288086F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CB63A-5552-46C8-A561-BB213840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A25FB-9AAF-41E2-9672-E3FA7744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5FD-24AD-482D-A58D-CC28CD63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F84DA-D0EF-4F5E-94BC-4ABF50CB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CB401-24ED-4A25-96AB-5CB8818D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AEE82-B993-444F-9EE6-13B4F163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00848-5A1C-43F6-BC1F-672556F8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69DA-1147-4E59-A380-F67F8D40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0CB4C-D544-468C-B9EE-677B372E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093BE-1D3D-49EE-B809-3AE279EF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F5B26-FC0C-4DC9-B7F9-B1FE0127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B653A-DCB7-482F-926F-2A3A09B9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4A7B8-F6E7-4171-AD46-7122A30A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BB3-BDC0-4AC5-B1B8-348C2177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C1EA8-5CA2-4B1C-8C33-8038A0A2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B24E6-F746-4FC3-8722-B8A6AEEA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8016D-6399-432B-A04D-A20A4B5B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62F81-6FE5-40E3-A245-F177A022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932D4-A7FC-4F42-B1CA-C69A597A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94EFA-9909-4B9B-AF89-2053B056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70EDF-A7F3-451A-9364-257F8BD5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8B68D-75CC-43D1-8CA0-729B6E66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6F076-725A-429F-9BE9-0C575BB9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3522A-7B06-4748-9A87-155BFD42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DA5-5747-4B25-AB4E-9F1DFF07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3287B-FFA7-4573-B61E-86D9EF49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48155-21A7-4105-BBE0-B900284F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F9946-1914-41EB-B032-728440A6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4A722-F823-4F5D-9EEB-2DA44DAA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7F65F-A526-480D-80BB-AE043000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9283B-D611-422A-B43F-5B42F0C8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05103-79FE-470E-858E-E68384EB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34468-5BA2-4766-AE63-B03058A0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C5385-F3D9-47DE-B8EE-EA1FD839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36C90-7E06-46B3-9E3D-714530A7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FA9-ED01-46D8-911C-BBD63559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4FE6A-3927-46C3-8738-896CC621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5CE51-AF6A-470F-9253-89270253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ADE1F-5F27-4BE4-9C24-F3B60282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E5E43-060C-4305-9796-3539EDA8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100EA-FA27-4EA5-90F7-378ADB3D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AFE-C40B-489C-B5D3-D8E1298C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1EBA-C847-4F4F-A26E-6495B34BDFD1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A684-FC4E-478F-8BD1-474B918CFDAC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4372-7128-4360-B6C2-8320E1AE8656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DDE1-F018-4446-AF8F-14E89A2D808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01FA-255D-4F17-BE48-F6D33E5BD0E3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FDC1-905B-4555-82C4-93356B43330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4340-CCE6-451E-B711-BD2CBA67788E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58560" y="2133360"/>
            <a:ext cx="6985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2d83f4"/>
                </a:solidFill>
                <a:latin typeface="Times New Roman"/>
                <a:ea typeface="Calibri"/>
              </a:rPr>
              <a:t>1. Роль транспорту в зовнішньоекономічній діяльності підприємства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2d83f4"/>
                </a:solidFill>
                <a:latin typeface="Times New Roman"/>
                <a:ea typeface="Calibri"/>
              </a:rPr>
              <a:t>2. Характеристика основних видів транспорту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2d83f4"/>
                </a:solidFill>
                <a:latin typeface="Times New Roman"/>
                <a:ea typeface="Calibri"/>
              </a:rPr>
              <a:t>3. Критерії вибору виду транспорту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2d83f4"/>
                </a:solidFill>
                <a:latin typeface="Times New Roman"/>
                <a:ea typeface="Calibri"/>
              </a:rPr>
              <a:t>4. Методика визначення оптимального перевізника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136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ПОРТНА ІНФРАСТРУКТУРА ЗОВНІШНЬОЕКОНОМІЧНОЇ ДІЯЛЬНОСТІ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il_fi" descr="93511"/>
          <p:cNvPicPr/>
          <p:nvPr/>
        </p:nvPicPr>
        <p:blipFill>
          <a:blip r:embed="rId1"/>
          <a:stretch/>
        </p:blipFill>
        <p:spPr>
          <a:xfrm>
            <a:off x="1187280" y="1628640"/>
            <a:ext cx="6624720" cy="45259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дно для перевезення худоб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99640" y="177300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изька, у порівнянні з іншими видами транспорту, собівартість перевезень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обільність (у залежності від попиту та пропозиції на тоннаж судна можуть легко переключатися з одного маршруту на інший)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елика вантажність морських суден, що дозволяє перевозити великі партії вантажу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обмежена пропускна здатність морських шляхів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икористання морського транспорту обмежено географічним розміщенням продавця і покупця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изька швидкість перевезення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лежність від погодних умов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931160" cy="9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іка морських перевезен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ожливість доставки вантажів від вантажовідправника до одержувача без перевантаженн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безпечення високого рівня збереження вантажу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елика мобільність та швидкість перевезенн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економічність при перевезенні товарно-штучних вантажів на невеликі відстані (до 200 км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орогий вид транспорту при перевезеннях на великі відстані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лежність від транспортної мережі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іка автомобільних перевезень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871560" y="1700280"/>
            <a:ext cx="7408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исока швидкість доставк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исока збереженість вантажу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ожливість перевезення у віддалені, важкодоступні район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іжконтинентальні перевезенн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исока вартість доставк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ількісна обмеженість вантажу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згодження маршрутів міжнародних перевезень авіакомпаніями різних країн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іка повітряних перевезень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71560" y="1916280"/>
            <a:ext cx="7408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исока ефективність при перевезеннях на відстань більше 200 км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ідносна дешевизна та менше забруднення навколишнього середовища порівняно з автомобільним транспортом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ожливість доставки “до дверей” завдяки будівництву під’їзних шляхів до підприємст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проможність перевезення широкої номенклатури різних вантажі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залежність від кліматичних ум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іка залізничних перевезень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1557000"/>
            <a:ext cx="7408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географічне положення країн-експортерів та імпортерів;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ідстань між країнами;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арактер товару, що перевозиться та його вартість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артість перевезення;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езпека транспортування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швидкість перевезення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дійність (додержування щодо графіків доставки)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еревізна спроможність, спроможність перевозити різні вантажі)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лежність від погодних умов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0000">
              <a:lnSpc>
                <a:spcPct val="10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терії вибору транспорту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</a:rPr>
              <a:t>1. В</a:t>
            </a: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бір показників оцін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 Ранжирування кількісних та якісних показникі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 Визначення вагових коефіцієнтів з урахуванням рангів показникі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. Нормування значень кількісних показників відносно еталонного значенн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5. Нормування значень якісних показників на основі «шкали бажаності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6.  Розрахунок інтегральної оцін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41708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ка вибору оптимального перевізник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826920" y="1628640"/>
          <a:ext cx="7409160" cy="4464360"/>
        </p:xfrm>
        <a:graphic>
          <a:graphicData uri="http://schemas.openxmlformats.org/drawingml/2006/table">
            <a:tbl>
              <a:tblPr/>
              <a:tblGrid>
                <a:gridCol w="2722680"/>
                <a:gridCol w="2722680"/>
                <a:gridCol w="1963800"/>
              </a:tblGrid>
              <a:tr h="538200">
                <a:tc rowSpan="2">
                  <a:txBody>
                    <a:bodyPr lIns="25560" rIns="25560" tIns="0" bIns="0" anchor="t">
                      <a:noAutofit/>
                    </a:bodyPr>
                    <a:p>
                      <a:pPr marL="100080" indent="-11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якос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и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шкалі бажанос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паз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25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є значе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мін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ільше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25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же доб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75-0,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25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1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90-0,8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25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ові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67-0,6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25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а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6-0,3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25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же пога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7-0,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25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задові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ше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0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88920" indent="255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ування якісних параметрів на основі шкали бажаності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402920" y="1988640"/>
            <a:ext cx="70563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1. Морський транспор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2. Автомобільний транспор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3. Повітряний транспор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4. Залізничний транспор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5. Трубопровідний транспор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І ВИДИ ТРАНСПОРТУ 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ховантажник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il_fi" descr="suh"/>
          <p:cNvPicPr/>
          <p:nvPr/>
        </p:nvPicPr>
        <p:blipFill>
          <a:blip r:embed="rId1"/>
          <a:stretch/>
        </p:blipFill>
        <p:spPr>
          <a:xfrm>
            <a:off x="1332000" y="1413000"/>
            <a:ext cx="705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il_fi" descr="konteynerovoz_emma_maersk_samoe_bolshoe_1"/>
          <p:cNvPicPr/>
          <p:nvPr/>
        </p:nvPicPr>
        <p:blipFill>
          <a:blip r:embed="rId1"/>
          <a:stretch/>
        </p:blipFill>
        <p:spPr>
          <a:xfrm>
            <a:off x="1116000" y="1700280"/>
            <a:ext cx="7343640" cy="405756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Контейнерово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il_fi" descr="carrier_12"/>
          <p:cNvPicPr/>
          <p:nvPr/>
        </p:nvPicPr>
        <p:blipFill>
          <a:blip r:embed="rId1"/>
          <a:stretch/>
        </p:blipFill>
        <p:spPr>
          <a:xfrm>
            <a:off x="1187280" y="1557360"/>
            <a:ext cx="7129800" cy="45259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іхтеровоз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Roro_faehre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3210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кер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il_fi" descr="tanker"/>
          <p:cNvPicPr/>
          <p:nvPr/>
        </p:nvPicPr>
        <p:blipFill>
          <a:blip r:embed="rId1"/>
          <a:stretch/>
        </p:blipFill>
        <p:spPr>
          <a:xfrm>
            <a:off x="1332000" y="1125360"/>
            <a:ext cx="6192720" cy="46800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нкер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4" descr="33296653"/>
          <p:cNvPicPr/>
          <p:nvPr/>
        </p:nvPicPr>
        <p:blipFill>
          <a:blip r:embed="rId1"/>
          <a:stretch/>
        </p:blipFill>
        <p:spPr>
          <a:xfrm>
            <a:off x="1187280" y="1916280"/>
            <a:ext cx="6985080" cy="42098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лкер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il_fi" descr="049n2cu6ooa6"/>
          <p:cNvPicPr/>
          <p:nvPr/>
        </p:nvPicPr>
        <p:blipFill>
          <a:blip r:embed="rId1"/>
          <a:stretch/>
        </p:blipFill>
        <p:spPr>
          <a:xfrm>
            <a:off x="1258920" y="1916280"/>
            <a:ext cx="6548400" cy="39607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дно для перевезення газу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9T19:21:24Z</dcterms:created>
  <dc:creator>Olya</dc:creator>
  <dc:description/>
  <dc:language>en-US</dc:language>
  <cp:lastModifiedBy>Dvyhun</cp:lastModifiedBy>
  <dcterms:modified xsi:type="dcterms:W3CDTF">2018-10-12T12:06:00Z</dcterms:modified>
  <cp:revision>39</cp:revision>
  <dc:subject/>
  <dc:title>Cуховантажник</dc:title>
</cp:coreProperties>
</file>