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7A21-9946-40B4-9ACE-176F6608C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5AC9-CF43-43BD-B8A1-41B89127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A0F7-1CC7-48F1-BACC-CB107665E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6EFD-999D-4D70-B0F9-645A28AC5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D024-55A5-4E88-8E5E-8F067EB98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BC91-2B4E-4728-B362-0346456B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A991-F0A4-450B-B9C4-CF0201CF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24E1-1DCC-4CB4-9EEF-736005E6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0AFB-DE8E-4C61-9C24-2090C20B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F351-68FD-4098-B70E-7C727A05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864A-AEFC-4E69-A490-F9884D68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FB42-5B23-4B8B-8F1F-66DB9614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9648-6395-481F-9EA2-C22E7677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FB53-C3E4-4CF6-9C01-85DCC960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9818-AC4A-4CCE-8508-549D8919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EE0C-D4BF-48DC-B55D-C3C855DAE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0256-7773-4735-AFC8-3A534685B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650B-3449-4782-B6D5-B541BC52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A5F5-5819-48CB-A2EC-C4096C61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F825-3762-49EA-A7B7-65C38CBE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3424-1E29-4DC7-B2E8-3D4B63B4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3804-02FD-435E-981C-ACB239C5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3E81-ABC8-4EEF-8B5E-C12763F9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8B62-D84F-43EC-9B09-BEF4AC93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EA6D-E23C-46D8-B8DD-C0D18F4C378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0BD9-F415-4159-8F97-19B6AA17CAE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Риторическое построение.</a:t>
            </a:r>
            <a:br>
              <a:rPr sz="4300"/>
            </a:b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Элокуция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Качества сти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Выбор слов и построение фраз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Изобразительно-выразительные средст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снованы на переносе значения, в результате чего происходит совмещение (сдваивание) семантики в одной и той же словес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ая функция троп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образная характеристика. Объединение осуществляется по признаку сходства, противоположности, смежности, коли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троп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есные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афоры, олицетворение, метонимия, гипербола, перифраз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исательные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ллегория, ирония, парадокс, оксюморон, парем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ербола 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чрезмерное преувеличение. Встречается в разных типах и стилях речи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мира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т голода. Я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мер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устал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то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очень глуп конеч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о кто не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во сто крат глупе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(Пушкин);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под гиперболы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– литот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еуменьшение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аш шпиц,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релестный шпиц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 более наперстка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гладил все его; как шелковая шерстка (Грибоед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афора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отребление слов и выражений в переносном значе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стина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цветок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не растущий на поле бра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Шелковые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есниц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овидностью метафоры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лиц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наделение неодушевленных предметов признаками и свойствами одушевлен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ны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усаютс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Тефаль»  всегда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думает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 на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ифра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гр. пересказ) - описательный оборот, употребляемый вместо какого-либо слова или словосоче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пония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ана восходящего солнц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анкт-Петербург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город на Неве;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унти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айское наслажд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ним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нос по смежности (содержимое вместо содержащего, часть вместо целого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три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арелки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съе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Эй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орода!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А как проехать к Плюшкин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рония –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мечание, которое содержит в себе скрытое утверждение, противоположное его буквальному с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ткуда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умная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дешь ты голо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«Посмотрите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каков Самсон!»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слабом хилом человек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«Все ароматы Франции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дном флаконе»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неприятном запах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р самоирони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талия! Еще одна страна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где я не нужен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Иртенье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о ирония осуществляется посредством парадокс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адок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от греч. paradoxos – неожиданный, странный) - утверждение, изречение, противоречащее на первый взгляд здравому смыслу, но таящее в себе более глубокое значение,  которое взято за основ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учше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авительство то, которое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мен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сего правит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Джефферсон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 откладывай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 завтра то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можно сделат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послезавтр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Оскар Уайльд);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и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дешь –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дал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удеш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посл.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которые парадоксы активно используются журналистами, ораторам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вои взгляды мне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навистны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о всю жизнь я буду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бороться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за твое право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отстаивать и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ольте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легори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это распространенная метафора, иносказание. В нескольких словах, выражениях или целом рассказе рисуется картина намека на  какое-то событие или человека, например, А. Пушкин «Телега жизни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Хо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яжел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дча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елег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ду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егк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Ямщи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хо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д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л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лучка…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сюморон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оединение слов с противоположным значением в словосочетание, которое в результате принимает новое значение, например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ар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лод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исе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А. Блок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Чужби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один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оя!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М. Цветаев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Покорный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энтузиаз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олп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П. Чаадаев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оризонты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вертикальны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В. Соловьев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ем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родовое обозначение пословиц и поговорок: народный речевой жанр малой формы, характеризующийся устойчивость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овичное выражение, имеющее намек,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ловц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еребря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золот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бр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е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береж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уд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укав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астряс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ы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ног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рамот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ал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ыт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лассификации фигур речи многочисленны, а количество фигур – необозрим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игуры речи в риторике можно разделить на три большие групп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у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пропуск какого-либо значимого компонента высказы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Эллипсис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пропуск какого-либо члена предложения (чаще всего сказуемог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дин человек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ел хлеб с маслом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другой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– с удовольств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при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 в основе повтор отдельных компонентов или целого высказы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Анафора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повтор слов или выражений  в начале каждого отрезка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я первым днем творенья,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его последним днем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М.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размещ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расположение компонентов в необыч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Инверс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любое нарушение естественного прямого порядка слов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Настало лето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холодное, дождлив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Быстр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н вернул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фикация А.А. Вол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осмыс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е смысловое и стилистическое единство высказывания как завершенной мыс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выде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формляющие фразу или отдельное положение реч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диалогиз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осредством которых организуется композиционно значимый ход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дельно рассматрив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мплификации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роты, в которых сочетаются черты тропа и фигуры. Классифицируют их обычно по типу отношений (сходство, смежность, контраст, тождеств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Фигуры осмысл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щным риторическим средством воздействия является 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повто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й помогае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учше усвоить мысл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ствует запоминани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ет и активизирует внимание слуша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Эпимо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риторическая фигура, которая состоит в полном или частичном повторе мысл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тоже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отправляюсь в море!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на шхун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боцмано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играющим сигналы на дудк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матроса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оторые носят косички и поют песни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 неведомому острову искать зарытые в землю сокровища!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. Стивенсон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Фигура стык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последующая фраза начинается с повтора элемент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его фразу предыдущу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валился он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 словно сосен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овно сосенка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о сыром бор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д смолистый под корень подрубленная (М. 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д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от лат. gradatio – постепенное изменение, нарастание или убывание) риторическая фигура, представляющая собой расположение слов (чаще всего синонимов), оборотов, предложений, которые расположены по нарастанию (убыванию)  какого-либо смыслового призна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«Талант лидера предполагает прежде всег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целеустремленность, жесткость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переходящую при надобности в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жестокость, в отсутствие предрассудк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может организовывать целый текст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 сказочный зачи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 старинушки – три сы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арший умный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был дети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редний сын и так и ся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Младший вовсе был дура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позволяет наращивать и снижать эмоциональное воздействие, варьировать напряжением чувства за счет нагнетания признаков. Это хорошее средство предупреждения монотонност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Антитеза -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тивопоставление слов с противоположным значением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возможно противопоставление словосочетаний и целых фраз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Эта фигура усиливает нужную мысль за счет сопоставления явлений, оценок, суждений; удивляет необычностью сочетаний слов, производит на людей ошеломляющее воздейств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 человека с коротким умом язык бывает слишком длин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хороша тем, что не утомляет слушателя, придает мысли силу и выразительность, так как обе части противопоставляют, выделяют, как бы «высвечивают» одна другу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Я – царь, я – раб, / Я червь, я – бог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Г.Р. Держав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дает возможность создать серию контрастов: из одной мысли можно сделать дв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основе пара (или несколько пар) антонимов, языковых или контекст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йно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шумиш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лнуют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делах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безразличных – горячишь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трастных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опросах –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холод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когда надо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олча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кри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гда следует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говори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мол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здес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хоч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й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если тебя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нет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мечт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звратиться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реди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ир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треб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йны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ходе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здых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мире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народных собраниях толк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храброс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 битве дрожи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т страх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при звуке труб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Цицеро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новидностью антитезы является прием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онтрас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В нем кроются два, на первый взгляд, несовместимых утверждения. Цель - создать драматический или юмористический эффек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сол – это порядочный человек, которого посылают за границу врать в интересах отеч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696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Различение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ледовательное противопоставление слов, которые получают синонимические и антонимические значения и образуют смысловые ря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Миф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гипотетическая, но фактическая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реальность, 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функция, но результат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вещь,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возможность, но действите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и притом жизненно и конкретно ощущаемая, творимая и существующая» 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Перемещение –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еркально-симметричный повтор определяющего и определяемого слова в параллельных конструк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еди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жит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живе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е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Государство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уществует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для человек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человек для государства</a:t>
            </a: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«Вери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знаеш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что нужно верить,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зна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веруешь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что объект знания действительно существует»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окуция 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ocucio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– выражение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ий этап построения речи, на котором ритор создает текст высказывания. В этом разделе риторики рассматриваются средства словесного выражения замы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элокуции тесно связано с понятием стил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способ, характер, общая манера, образ существования и исполнения чего-либ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та данного понятия представлена в многочисленных сочетаниях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иль работы, стиль поведения, стиль игры, стиль в моде, литературе, архитектуре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и стилей языка выделяю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е и окказиона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ункциональный стил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временного русского литературного языка – это такая его подсистема, которая определяется условиями и целями общения в какой-то сфере общественной деятельности и обладает некоторой совокупностью стилистически значимых языковых средст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ли СРЛЯ: научный, официально-деловой, публицистический, художественный, разговор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3152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гуры диалог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а группа риторических фигур используется для эффекта диалога в монологической реч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редупрежде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меренное выдвижение оратором контраргу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ответ на н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Что ты говоришь?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От войны, начатой беглыми рабами, Сицилия была избавлена благодаря твоей доблести?..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Сицилии войны с беглыми рабами не было. – Но в Италии такая война была…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 ты пытаешься хотя бы часть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спехов, достигнутых в этой войне приписать себе?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Цицерон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Ответствова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ановка вопроса от лица аудитории и ответ от лица орато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 спросите в чем отличие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изма от субъективизма? Интуитивизм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верждает, что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ное знание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ет предмет целиком сразу, тогда как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рассудочный анализ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еет дело с частями предмета…»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.М. Бехтере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юз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торическая фигура подобная цитате, содержит намек на определенное лицо или произведение употреблением характерного слова, выражения или фа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И не в том главное, что Достоевский исповедуе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«почвенничество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как идеологию… Его тревожи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еспочвенность на большой глубине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еред ним стоит пугающий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ризрак духовного отщепенца – роковой образ скитальца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орее даже чем странника» (Г.В. Флоровск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ий вопрос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твердительное высказывание в форме во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обраще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непосредственно адресованное конкретному лицу и представляющее собой повел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восклица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в восклицательной форме, обращенное автором как бы к самому себ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мплифик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мплифик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обороты, в которых сочетаются черты тропа и фигу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Сравн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ходстве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отряхну мои печали, / Как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льчик вечером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песок  / Вытряхивает из сандалий…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. Мандельшт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ипаллаг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межности). Определение одного слова ставится при другом слове, которое обозначает  явление, связанное с первым словом по смеж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жены кутались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 печальные платк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А. Бло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Коррек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контрасте) включает три компонента: утверждение, постановку под сомнение: усиленное утвержд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Тут в воспоминаниях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1).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ет, не 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2), -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а яма, прова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. Греков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рамматическая амплификация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тивопоставление грамматических фор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администрации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как играли, так и игр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 разводки и разруливания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Дискретные фиг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снов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искретных фиг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жит звуковая сторона слов и выра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итера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со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п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н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к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с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ч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д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ны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ы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тическа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ро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М.Кузьм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ссонан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рамо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А. Пушк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аронимическая аттрак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семантическом сближении слов, имеющих звуковое сходство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годна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огод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ен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ублев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рубел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дач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Л. Мартынов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р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езжи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ожд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ызж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Б. Слуцкий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Каламб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использование в одном контексте двух значений одного и того же слова или двух сходно звучащих слов (включая их трансформации) с целью создания комического эфф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лас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иф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легк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иш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думь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сроч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г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рок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очк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ж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фински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калам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уры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ращаюс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аламбуро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. Минае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Задание 1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нализ тек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касается этих заявлений / я просто могу сказать: жаль! / Мне просто жаль времени / Даже времени вот сейчас объяснять эту ситуацию – почему? / Это обычная мне кажется игра /непотребная по сему / по сегодняшним проблемам и времени / Чтобы мы могли выпустить сегодня такой мощный залп / как говорят из-за того / что кого-то / куда-то назначили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жно подумать / что у нас другого других забот нет / Я этого не понимаю / если это политическая игра / если это показуха / если она кому-то нужна / если она что-то решает и если она что-то делает / то только не то / что нужно сегодня для России и для страны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не так и хочется сказать / Да люди! / Не обращайте вы на это внимания! / Не до этого нам сегодня и сейчас / чтобы думать и обсуждать / какого зама кому поставят / Поэтому я этого не понимаю и не приемлю / не приемлю / не до этого нам сейчас / чтобы обсуждать такие дела… 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да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анализируйте пословицы и поговор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ите, какие качества речи осуждаются, ка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ветствуются. Дополните ряд изреч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Живое слово дороже мертвой бу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ножа боится,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лово не стрела, а раз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хорошее слово хорошо один р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Хорошую речь хорошо и слу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Красно поле пшеном, а беседа ум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говори всего, что знаешь, но знай все, что говориш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Речь хороша, когда коро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еньше говори, да больше дела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Лучше не рассказать, чем пересказ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многословии не без пустосло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ного говорено, да мало сказа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окказиональны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носятся стили аргументации и стили отдельных произвед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аргумент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едставляет собой систему приемов выражения, складывающуюся в процессе обсуждения ограниченного круга проблем в конкретных общественно-исторических услов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пример, стиль полемики в русских общественно-литературных журналах 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XIX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литературного произвед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ет определяться условиями исторического стиля, принадлежностью произведения к литературному стилю, жанром, литературной школой, индивидуальным авторским стил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стиля основополагающее в риторическом убеждени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«Выбрать уместный стиль общения – это значит, во-первых, предстать человеком определенного склада, во-вторых, найти индивидуальный образ речи применительно к данной аудитории» В.И. Аннушк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риторике изучаетс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речи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площенный ритором в речевых поступках. Если речь человека подразделить на т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что?  где? и как?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говорит, то первая часть относится к изобретению мыслей, вторая - к расположению, а третья - к стилю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оратор старается сформировать свой индивидуальный стил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оненты стиля речи (В.И. Аннушкин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бор слов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ксическая стил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лова должны быть ясными, точными, краткими, разнообразными, оптимальными с точки зрения целеполага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таксис речи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истический 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птимальное и целесообразное расположение слов в фигурах реч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роизнош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устной реч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черк, шрифты, оформл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письменной речи (произношение включает: темп, ритм, паузы, интонацию, логическое ударение, артикуляцию, тембр, громкость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ластики или телодви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устной речи (паралингвистические средства: поза, походка, жесты, мимик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229600" cy="464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ре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га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ог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ст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ффе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сообраз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монизирова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ет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ирая слова и словосочетания из лексических ресурсов языка, ритор обязан зн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зыковой стату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збираемых им единиц (общелитературная, специальная или нелитературная лексик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арактер употребл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овременном языке, его отношения к истории языка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ыслов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истеме языка: значение слова и его семантические связи с другими слов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иль риторического построения связан с характером движения мысли в реч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втор подает мысль таким образом, чтобы аудитория смогла воспроизвести высказывание, либо образовать мысль на основе сказан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вномерность слог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значает, что синтаксические конструкции примерно равны объемом и степенью слож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редоставляет читателю свободу восприятия речи, не выделяет ни одной фразы в противовес друг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озволяет сосредоточиться на содержании мысли и связи сужде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достаток -  монотон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равномерный сло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омогает добиться читательского интереса за счет построения речи. Создается впечатление напряженности мыс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а объемами фраз утомляет и раздражает, если нет движения мыс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итность и прерывистость выражения мы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чь по степени ритмической организованности подразделяется на стихотворную, периодическую и прозаическу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автор стремится передать мысль в максимально слитой форме – как единый познавательный образ. Все компоненты зависят друг от друга. Чтение должно происходить с определенной интона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рывистость слог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значает включение нескольких смысловых планов. Позволяет подавать информацию небольшими порциями. Прерывность – это свойство прозаическ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яз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ечи может обеспечиваться специальными словами связками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едовательно, и затем, наконец, итак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мност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разумевает представленность предмета речи во многих планах и перспективах. Объемность – наиболее эффективное средство построения образа. Смысловая многомерность изображения создает единый зрительный образ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во фразе один смысловой центр, то реч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но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если несколько – то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и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Моноцентричность облегчает оценку речи, при полицентричности каждая фраза нуждается в дополнительном анализ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юбой уровень языковой системы, а также любая единица текста может стать выразительной под влиянием  своего окруж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иторике традиционно выделяются специальные средства выразительности двух вид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троп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фигуры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о слова и обороты, употребле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гуры реч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средства выразительности, основанные на соположении единиц в тек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11-13T06:16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