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FA36-C8E6-4A38-A978-31B309F3DC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6FB8-B851-4594-9DFD-FF5A5C017ED1}" type="slidenum"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82E-004F-4C7B-955D-CC1A18FA724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0F92E-BE01-4067-8050-423A59BE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3E18-7406-41E5-8588-158922A0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460EA-002A-4254-A7B4-22FE0159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3984-99E8-40B5-8D7C-E4E2F73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8AAD-1F89-4ACF-8DAB-FFE0737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346D7-4849-40D1-8EB4-7210454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3B49-7F6C-4FE4-9BAD-F2B07865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84726-FCD2-4099-A7BE-39547351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48B75-602A-42D6-8989-FA584C10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2338C-69AF-4519-BB00-38BEC24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1B69-0BF8-46EB-B326-E52862A0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5CB8B-D951-4358-9EC5-65DFB0A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F8CEF-0E52-4916-ABB0-2D85F436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080A1-20FC-436F-9E17-221CE74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31D20-5D55-472B-8276-A998BBE2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7B97-C74F-4990-9BD6-4B69147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DB9E2-034A-445C-AF56-9757264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75C3E-20D6-4FF0-A287-20643CB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1FD0-9B45-42F6-99B1-B8C91BD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570F6-1320-42C1-8F8A-6CBD6BFB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54085-35FD-43C0-8D75-1ECB2613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B6D7F-EF1F-494B-B771-D2634366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7690E-6F18-466C-B1A0-3692A21D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1E597-6CD1-4BD2-9DC4-776B5D66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BC7C5-1957-44C1-89D3-E4AF17BD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1AB2-D826-42B6-8A89-737BA1A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51183-26C0-4A55-A68C-593AB8A5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7F53-B449-4AA7-800F-8FEBC890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63AE6-BA1E-49AA-9A41-5BE071F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7EC08-4A52-4A32-B43C-280E2FE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C26-9B56-4E20-821E-9DEE4E29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B6B3-A38E-41D2-80B3-EF1B5CD2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72C40-7732-4C97-8E9E-B61E3B44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47048-EFCB-4FDC-B912-8A47ACD1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2D9A8-648F-4289-9C9A-14EB4583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B565-049F-4F9A-834C-2697B86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90031-5140-40EF-ADA9-C809B505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BBFE-875C-448F-8F4D-6EA04E7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9FD54-2794-4952-8A53-E9AC5AB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49B07-0C5C-4C4C-B602-C136EC21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F9C5E-1D05-4D72-BCB0-A4502C3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18A-5FCD-4006-93D8-025B7AC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EE1B1-B97C-434F-8897-DCC028F4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4F9DD-0898-4412-97EB-E31F8EC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D9D03-05B5-4020-8F16-7D2B6B5A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CF6DD-A461-4C33-AFD6-C1F00DC9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45823-9218-4987-9E61-14DA170D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857-ACA2-4B40-9D03-8E524690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359-9B86-41A5-9BCD-894C8ECE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E86-0ADA-4124-BA38-765605F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426-0CB8-410E-9CE1-AC356221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C8E-3FA0-46CC-9665-6880AF5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A1A-C495-4E53-A90E-10EFB96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1AF-DB9D-4743-A968-0B6F06BC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7DD-BC82-40BB-AEB8-94309E4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EA0-65F9-4A36-BBD7-F46FEC14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098-615D-4936-8539-311DC259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519B-8C4B-4BAC-9B3A-5ACA6EF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2C0A-34E0-4F94-AC80-72CE52B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B31-5E26-4725-A650-34F115A9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9A70-CB79-47AF-80E3-C7240A3E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2715-D12F-43CE-822B-6233506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0808-0FF9-4205-AA90-28195ED1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40CC-CB0B-44FD-B6D7-3408B1D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9328-2D67-4663-9BAD-0B28F5E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D03D-2D2F-4CE2-9231-25DA5A0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EC34-6145-4B17-9F15-A7EE27A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9750-C67E-4C7C-8EED-7C264B84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D18-D828-412D-9F3A-DEA2AB1D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C56D-B16E-4EC4-B609-34B8FC31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B433-BEFA-4D91-BF17-5AD001E0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67FB-9856-4604-A3B2-FC821B1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76C83-C3D5-4E13-A943-628C77C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2C46-F934-4B35-B672-7078CC7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E511-FFBE-4C58-8697-6BF6AF4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584C2-81E3-402F-93D7-B811898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62F9-C658-4690-AAB7-7B25D3E3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06CC-BFC0-43EB-94A8-D2A08AD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6A26-5DFF-42E0-AAE5-0366CDB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51AB-F2D9-4E82-BAD9-3020AB1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E89B-B5EB-4CD8-A33E-8A746735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49F3-BB74-4CBE-8569-98986B3E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1062-461D-4D7F-AFCB-16DB3320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E9E6-0D02-46CF-B3B6-ACAD2AF9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73E4E-B226-42AA-BDF6-02B616A5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8D8C-C0EE-4452-9DC7-530C80B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0D56-E284-48AF-80CC-083CFFF3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DB1F-1FE7-4C50-B2B1-D63A4E9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3420-A046-409E-A87D-E411EE9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6B97-9F56-4814-9963-D2B5160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2366-6B17-421B-B35A-208F0289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DD69-DACF-48F6-951A-935696D4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D784-24C1-49A3-9F33-A33CF45A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F4AB-E3E0-4E88-81A1-A147F0AB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71AF-BABA-4E40-8C0A-30051BA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C315-022E-4C6A-9CB7-5090F98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875A2-0F1B-44BD-A69F-F885DA33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B7E0-2FDE-4F74-A4CA-1959207F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DFB93-DF7C-43EA-9193-3DBC6AD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F3BA-BDBB-487C-BCB3-8F58411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4F98E-A267-42A2-81A3-33A22B0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8BE0-C921-4BEE-BB11-7D46A516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B1CC-7BD8-45E0-9934-C1418BF5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CCF6-0A56-4D37-9556-EBFEC43D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235F2-A8F3-4397-8F6F-9E44DA1C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0ED5-AC83-4AEE-9F10-CF12F868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6EB2-85AE-474B-BA2C-09E1BAE2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BD34-4CC7-4071-84A4-29BD3F8E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AF150-A88A-47E9-856D-3826F647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F7D30-CDAB-426D-871E-216CAC1F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5EFC-7905-4801-8A8C-8D5D1B2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8CCB-2E5A-4AAA-A309-97630E5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EB57-14D8-487F-9DCB-D3B8C68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4BAF8-5072-4282-831B-F259A5B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3314-DF07-466D-9729-E1FC41DD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8BC8E-9CD3-4C93-8F69-C9EE5B87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81BB-75D5-4E4C-A804-33E14DAD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13A5-DC7E-4EB7-A3EE-D98A0849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C729D-E29D-45F1-8D21-C64F6504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50052-9B05-48F3-B526-10F38FC9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CAED0-8648-4A73-A2AF-D1C1590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1CBF-A228-4F47-AD9B-134EC1E8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67B10-55B3-4529-BBD5-2764B90A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29C9D-738E-461F-B7A8-B588366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509F-6E9B-40F9-8774-D2BD5D7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0083C-6CA6-4AA1-855B-0F87A75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0A45B-5613-4C7D-83CD-D99C45FB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27B9F-27CD-486C-BAF3-19ADA982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5400A-6222-4949-88F9-9E4145C9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7902C-8EE7-440A-9156-DAC2AE0F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F29E9-B4DA-4DAB-B2EE-D2945774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E2FA8-8486-4570-91A0-BCCB321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D719-2696-478F-AD7F-E9967D80DF73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162-44F1-465B-889C-82F23D0BC9C7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D34-80B7-4B33-8713-8F387B374C9C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5775-343D-430E-8D1C-C3AB5004BF05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3E7E-AFD1-49A5-9638-A9D36950F714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E692-6096-43EF-A51D-1B1972924191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8260-FD00-4D63-BBBC-C2BDC060C790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75A3-0BF6-491E-AC6A-0F186400539C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AD46-94CE-4C8A-B9E1-6949CEDC7034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A8D-9D44-4379-9581-9522395416FE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C3F-5F2A-414D-BDC1-F4AC0816D1BC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4" descr=""/>
          <p:cNvPicPr/>
          <p:nvPr/>
        </p:nvPicPr>
        <p:blipFill>
          <a:blip r:embed="rId1"/>
          <a:stretch/>
        </p:blipFill>
        <p:spPr>
          <a:xfrm>
            <a:off x="2243160" y="1487520"/>
            <a:ext cx="7182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Объект 3" descr=""/>
          <p:cNvPicPr/>
          <p:nvPr/>
        </p:nvPicPr>
        <p:blipFill>
          <a:blip r:embed="rId1"/>
          <a:stretch/>
        </p:blipFill>
        <p:spPr>
          <a:xfrm>
            <a:off x="195120" y="401760"/>
            <a:ext cx="8888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Объект 3" descr=""/>
          <p:cNvPicPr/>
          <p:nvPr/>
        </p:nvPicPr>
        <p:blipFill>
          <a:blip r:embed="rId1"/>
          <a:stretch/>
        </p:blipFill>
        <p:spPr>
          <a:xfrm>
            <a:off x="122400" y="401760"/>
            <a:ext cx="885024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Объект 3" descr=""/>
          <p:cNvPicPr/>
          <p:nvPr/>
        </p:nvPicPr>
        <p:blipFill>
          <a:blip r:embed="rId1"/>
          <a:stretch/>
        </p:blipFill>
        <p:spPr>
          <a:xfrm>
            <a:off x="122400" y="476280"/>
            <a:ext cx="88455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403280" y="404280"/>
            <a:ext cx="73454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інтертекстуальність – досить складне і багатогранне явище. У сучасному літературознавстві не існує загальноприйнятої дефініції.                 Немає єдиної класифікації інтертекстуальних зв’язків, кожна з них не відображає повністю всі складові даного понятт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4"/>
          <p:cNvSpPr/>
          <p:nvPr/>
        </p:nvSpPr>
        <p:spPr>
          <a:xfrm>
            <a:off x="1527120" y="450720"/>
            <a:ext cx="73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текстуальність має свою ґенезу в літературній творчості й літературній критиці та тривалу історію розвитку, в процесі якої трансформувалось теоретичне поняття й уявлення про його зміст та обся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3" descr=""/>
          <p:cNvPicPr/>
          <p:nvPr/>
        </p:nvPicPr>
        <p:blipFill>
          <a:blip r:embed="rId1"/>
          <a:stretch/>
        </p:blipFill>
        <p:spPr>
          <a:xfrm>
            <a:off x="546120" y="3497400"/>
            <a:ext cx="83106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4681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Кузьміна зазначає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23640" y="2707920"/>
            <a:ext cx="521964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Інтертекстуальність – це глибина тексту, яка виявляється у процесі його взаємодії із суб’єктом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2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>
            <a:off x="5508720" y="333360"/>
            <a:ext cx="33829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0"/>
          <a:ext cx="9144000" cy="6988320"/>
        </p:xfrm>
        <a:graphic>
          <a:graphicData uri="http://schemas.openxmlformats.org/drawingml/2006/table">
            <a:tbl>
              <a:tblPr/>
              <a:tblGrid>
                <a:gridCol w="611280"/>
                <a:gridCol w="8532720"/>
              </a:tblGrid>
              <a:tr h="660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апи формування теорії інтертекстуальнос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очинається з введення термінів «інтертекстуальність», «інтертекст» і характеризується поступовим розширенням категоріального апарату у положеннях теорій структуралізму і постструктураліз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6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чений «прирощенням» проблематики інтертекстуальності комплексом нових, дотичних до неї поня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І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чений появою численних класифікацій інтертекстуальних елементів і міжтекстових зв’язкі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3a2c7"/>
                    </a:solidFill>
                  </a:tcPr>
                </a:tc>
              </a:tr>
              <a:tr h="16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en-US" sz="2400" spc="-1" strike="noStrike">
                          <a:solidFill>
                            <a:srgbClr val="1e0e01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ю четвертого етапу є дискусійний характер, зумовлений розширенням поняття інтертекстуальності до глобального й універсального значенн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Выноска-облако 2"/>
          <p:cNvSpPr/>
          <p:nvPr/>
        </p:nvSpPr>
        <p:spPr>
          <a:xfrm>
            <a:off x="2776680" y="372960"/>
            <a:ext cx="6043320" cy="3848040"/>
          </a:xfrm>
          <a:prstGeom prst="cloudCallout">
            <a:avLst>
              <a:gd name="adj1" fmla="val -52268"/>
              <a:gd name="adj2" fmla="val 68393"/>
            </a:avLst>
          </a:prstGeom>
          <a:solidFill>
            <a:srgbClr val="b7de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«Під чужим словом я розумію будь-яке слово будь-якої іншої людини, сказане чи написане своєю чи іншою мовою, тобто будь-яке не моє слово. У цьому розумінні всі слова (висловлювання, мовні і літературні твори), крім моїх власних, є чужим словом. Я живу у їх світі. І все моє життя є орієнтацією в цьому світі, реакцією на чужі слова (нескінченно різноманітною реакцією), починаючи від їх засвоєння і закінчуючи засвоєнням багатств людської культур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3814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Схема 3" descr=""/>
          <p:cNvPicPr/>
          <p:nvPr/>
        </p:nvPicPr>
        <p:blipFill>
          <a:blip r:embed="rId1"/>
          <a:stretch/>
        </p:blipFill>
        <p:spPr>
          <a:xfrm>
            <a:off x="0" y="-36360"/>
            <a:ext cx="8820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623880" y="692280"/>
            <a:ext cx="47466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ін «інтертекстуальність» уведений у науковий обі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7 році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Крістевою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а зазначала, що інтертекстуальність стала зоною перехрещення гетерогенної маси текстів і предметом семіотичних пошуків, які складають індивідуальність людин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5402160" y="422280"/>
            <a:ext cx="3456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Объект 3" descr=""/>
          <p:cNvPicPr/>
          <p:nvPr/>
        </p:nvPicPr>
        <p:blipFill>
          <a:blip r:embed="rId1"/>
          <a:stretch/>
        </p:blipFill>
        <p:spPr>
          <a:xfrm>
            <a:off x="378000" y="304920"/>
            <a:ext cx="846756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Схема 3" descr=""/>
          <p:cNvPicPr/>
          <p:nvPr/>
        </p:nvPicPr>
        <p:blipFill>
          <a:blip r:embed="rId1"/>
          <a:stretch/>
        </p:blipFill>
        <p:spPr>
          <a:xfrm>
            <a:off x="828720" y="334800"/>
            <a:ext cx="77724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Windows User</cp:lastModifiedBy>
  <dcterms:modified xsi:type="dcterms:W3CDTF">2018-11-24T22:24:04Z</dcterms:modified>
  <cp:revision>93</cp:revision>
  <dc:subject/>
  <dc:title>Универсальные</dc:title>
</cp:coreProperties>
</file>