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A17-7922-4748-AB5E-2E7883E62C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B4C-7177-41F9-9B66-C4B095CF2FC5}" type="slidenum"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B9C9-8272-4280-A139-4FB0E2632C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D89F-B81A-41C3-80F7-1D404AAC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4DC68-7DF0-4CEF-A0A9-86A26CC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8C2C-71E2-477B-B724-E7C21B6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EB203-DE8A-4D04-B1D8-845404E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C0D0B-29D8-4362-ABA2-89D711B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09CB-2CAF-49C0-9DF7-235F2E4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87CE6-31ED-4874-A853-BE70184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7F40-9517-4D99-BEA4-A2540A4E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E3035-A6DF-4612-A46B-CF9BF37B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4D3FD-3487-4BE7-9A39-969C7CE4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1463-89A2-4AB7-8B33-332315EA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D665D-6853-4ACE-B779-423BC078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5402-62E6-476E-8CC0-C32AB16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FEC54-06B0-4E5C-90A4-54D3B9D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44838-FAEB-41D9-A027-12570B8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B3325-1EB0-4413-8855-3434328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FFAF-8701-4A79-9106-4E297FB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5FBB5-AFF9-4B8F-A414-78A2A4A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02E7-E82B-4CA2-AE4F-6B80BEB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47DA4-F175-4209-A5E1-40570553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7F51A-C26D-41EF-957D-B4EE1578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4AD32-B0FB-4D40-BA8E-479980B1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5A6E-632A-4887-B7AD-C1951B30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0C2C4-8BFA-403F-B18E-F4AF4EEB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DB7B-F68E-4658-B04C-85A1D4F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6330-441B-47C3-AD35-97FA36BB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AE2B-E0A5-42D9-8B37-9C80AA7F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DF2E-332D-4D11-B1E6-C7C649E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481A-4AE5-4CEC-AAE0-C658176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FA5A-9B3B-486C-9D77-A4EF89C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238-9367-438D-B590-39AE5B24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A6978-C455-4AAC-BFF4-EA0B6489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8F9E1-7943-4D00-ACBA-4D206956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9ABBD-0328-48E7-9AE8-D38B56C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93C1-C56B-4D86-B1A2-57C134B9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FD58-9EA9-4EAE-987C-9099EBD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C61E4-48BC-4B00-9D01-6A1A206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01005-683D-440F-9F94-AEB551D0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CAA1-0497-4F9F-88DB-C841F60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0B050-7C02-498C-9E4E-FC0E839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8ADB3-22F2-4432-9238-695C800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644-0E4E-47E8-8223-9CD6F23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8F3D5-6ECD-4818-B33C-B5543BB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EF86-24FF-49A6-9353-A46F031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F9E7C-0AF0-4F5B-A41D-04C4D2B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08818-E18B-467C-B8B5-CE48711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D24B-AF8A-46F9-8CA1-2B1E2C2B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7EC-F121-4660-8EAF-A329156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443-73D8-4019-B9CB-93E93659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FAD-5EC0-4198-B8A4-B0621660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6B0-AC87-4B99-B31A-B6CD0AF0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6EB-2222-4F26-AA2E-B63E382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53D-E9E3-4F5A-A7B8-82E1AA8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6BA-783D-4118-A386-83C8027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4A0-6062-4060-B9A0-DEADC9A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DCD-AADD-4340-8985-E8C9D00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F94-4317-40A1-84D0-2C6DB736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40D5-6DE7-4ADD-A7E7-960BF474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32F-499D-439E-A68A-BF27466F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6C63-589D-434D-9DC4-412927CB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13E3-AF31-471A-8364-AB8A3E51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8E12-5741-4ADD-8DD3-24E3B07A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414-2D6D-4F09-8D8C-DD20520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127-A1C9-454B-B2A6-240FCD3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842F-D3DF-4678-9C7E-54AEEDB1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07B8-A124-4F4F-9A7C-33EA9F9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F25B-DFA0-427C-AEF3-8F85649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70C8-B5F1-46FE-A415-D2F233FC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82C-CB34-4F32-B62D-04C8064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0C0D-59A6-4F92-BECF-E4899802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3F79-751C-4846-8A4C-A1CB1AF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13C3-B343-4E47-AD83-F1EE59D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16A2-D2ED-4925-B98B-EF8A3D7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D18E-02A6-421F-A240-0FDADB6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BF56-81B4-4E4C-B220-AE5D04E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BD14-835E-4A3A-AC71-E844DA7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92C2-AF02-4FDE-BA29-ECE82CB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25D3-07D0-4092-944B-22A75E0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99A8-382C-43D9-9F47-C03687D8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6E75-938F-47F9-A73D-BE64DDB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498D-B795-4035-8015-E6B4628C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CBED-EDB8-4667-A360-35FCAD3A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64BC-928F-42CB-BA65-F33397FF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9E8B-3CEF-4D29-9FE1-F3E2C52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22E6-4150-4F2C-9FAF-572D7CD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8EDA-ECD4-4659-B0C7-F9ED3856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6323-A9C1-43A1-AC81-8EB748A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47DE-EBDA-4756-BF1D-DB0C5F9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6D23-9140-4363-A349-6608235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FF79-9CB4-4BBF-8340-8B31B88C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24F2-3A16-4675-8608-8D44B4B4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8CF1-7FBF-4D8D-A6F6-6367DAA4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7246-2CF7-48C2-8080-DA0B4A3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F479-3409-43FE-95F6-2A585267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E5E0-8D90-4916-8C80-F997529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50F84-6EDD-4AE5-9307-5CBB378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EEFB-156C-4DEB-A7C1-192DDA7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2EAF-6CC7-4A27-98ED-22872EE4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CEDE-3695-4E8F-BCC9-0B230A5C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129C-F117-480E-A0DF-679BF5C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B7C5-526B-4B2E-92A9-4FBA09D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8841-7B50-468C-95CA-9AFA7A7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31D2-52DF-435B-8011-51B7F20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67E97-E9EA-43B6-8FED-EED17435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331D-2DD1-4E1D-AF16-C3B89E54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F39F-7C7D-4A16-8D90-CADD9C42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395D-5ACD-44AD-AC12-2AAC41F3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7EA2-2DE1-4E11-AF5B-60A96782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C821-AAE5-4940-A743-5965478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2394-E09B-4550-8896-E896B60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7DDB-89C6-493F-B5CD-D63ACFD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A929-DCB2-43ED-9D2D-A0A4D90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AE69-E8DC-4831-9742-6AA169A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0D0A1-FF89-467C-987D-972B5D7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8736-0ED9-4BB0-8540-AF76E00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C2AD7-7423-4E24-9ABC-795A2614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34F0D-9856-4BC6-9C6B-32DBBB86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B994-38EC-4D80-8608-47A146E8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C4C9-19C8-4D2A-9F6F-EBD3609F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65268-7DD6-4720-A108-A71EE00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64EC-349C-4BDF-8868-FB8280C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3DE26-39B7-41B3-9492-3BDA653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1913-E49B-416A-8DD2-B087438F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1EAB-B69A-48BE-A86D-88918FC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BF55-40F5-4F7F-8CA1-95A1878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0739-0D97-464A-8AC0-B8E353C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8DB7-8078-4C6E-AF7B-B7C9973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186D-752D-455A-9107-B766B7FB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9951-DF46-4F3F-81B2-214B0C2E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78BE-6792-4423-98FD-95092BC3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5BF0A-BEE8-4E47-A97C-114CD9D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3E08-6279-4BEF-A44F-F46C317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878-A409-4E9C-A37C-0018001D0869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D95-0E08-40BD-A09B-7B58F2CBE4EA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8AE9-0BEC-471E-87A7-6C3828944B6E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E801-1FD7-414A-B5A7-78617D8DB2E8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4C2-B13A-45D5-9FDF-210A208DC178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AE1-AAF5-484B-8FFD-34629151C707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8F78-7B3B-4B76-9EF4-3D7205B056EB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774A-4490-4B27-AD13-A6D958E16B1D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23D-8289-4579-951C-532FDF9C8343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904-9756-4C43-BA23-0504A10A181A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026C-34FE-486B-B937-AA94FD290FF3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4" descr=""/>
          <p:cNvPicPr/>
          <p:nvPr/>
        </p:nvPicPr>
        <p:blipFill>
          <a:blip r:embed="rId1"/>
          <a:stretch/>
        </p:blipFill>
        <p:spPr>
          <a:xfrm>
            <a:off x="2243160" y="1487520"/>
            <a:ext cx="7182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Объект 3" descr=""/>
          <p:cNvPicPr/>
          <p:nvPr/>
        </p:nvPicPr>
        <p:blipFill>
          <a:blip r:embed="rId1"/>
          <a:stretch/>
        </p:blipFill>
        <p:spPr>
          <a:xfrm>
            <a:off x="195120" y="401760"/>
            <a:ext cx="8888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Объект 3" descr=""/>
          <p:cNvPicPr/>
          <p:nvPr/>
        </p:nvPicPr>
        <p:blipFill>
          <a:blip r:embed="rId1"/>
          <a:stretch/>
        </p:blipFill>
        <p:spPr>
          <a:xfrm>
            <a:off x="122400" y="401760"/>
            <a:ext cx="885024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Объект 3" descr=""/>
          <p:cNvPicPr/>
          <p:nvPr/>
        </p:nvPicPr>
        <p:blipFill>
          <a:blip r:embed="rId1"/>
          <a:stretch/>
        </p:blipFill>
        <p:spPr>
          <a:xfrm>
            <a:off x="122400" y="476280"/>
            <a:ext cx="88455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403280" y="404280"/>
            <a:ext cx="73454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інтертекстуальність – досить складне і багатогранне явище. У сучасному літературознавстві не існує загальноприйнятої дефініції.                 Немає єдиної класифікації інтертекстуальних зв’язків, кожна з них не відображає повністю всі складові даного понятт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4"/>
          <p:cNvSpPr/>
          <p:nvPr/>
        </p:nvSpPr>
        <p:spPr>
          <a:xfrm>
            <a:off x="1527120" y="450720"/>
            <a:ext cx="73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текстуальність має свою ґенезу в літературній творчості й літературній критиці та тривалу історію розвитку, в процесі якої трансформувалось теоретичне поняття й уявлення про його зміст та обся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546120" y="3497400"/>
            <a:ext cx="83106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4681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Кузьміна зазначає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2707920"/>
            <a:ext cx="52196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Інтертекстуальність – це глибина тексту, яка виявляється у процесі його взаємодії із суб’єктом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>
            <a:off x="5508720" y="333360"/>
            <a:ext cx="33829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0"/>
          <a:ext cx="9144000" cy="6988320"/>
        </p:xfrm>
        <a:graphic>
          <a:graphicData uri="http://schemas.openxmlformats.org/drawingml/2006/table">
            <a:tbl>
              <a:tblPr/>
              <a:tblGrid>
                <a:gridCol w="611280"/>
                <a:gridCol w="8532720"/>
              </a:tblGrid>
              <a:tr h="660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апи формування теорії інтертекстуальнос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очинається з введення термінів «інтертекстуальність», «інтертекст» і характеризується поступовим розширенням категоріального апарату у положеннях теорій структуралізму і постструктураліз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6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чений «прирощенням» проблематики інтертекстуальності комплексом нових, дотичних до неї поня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І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чений появою численних класифікацій інтертекстуальних елементів і міжтекстових зв’язкі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16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ю четвертого етапу є дискусійний характер, зумовлений розширенням поняття інтертекстуальності до глобального й універсального значенн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Выноска-облако 2"/>
          <p:cNvSpPr/>
          <p:nvPr/>
        </p:nvSpPr>
        <p:spPr>
          <a:xfrm>
            <a:off x="2776680" y="372960"/>
            <a:ext cx="6043320" cy="3848040"/>
          </a:xfrm>
          <a:prstGeom prst="cloudCallout">
            <a:avLst>
              <a:gd name="adj1" fmla="val -52268"/>
              <a:gd name="adj2" fmla="val 68393"/>
            </a:avLst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«Під чужим словом я розумію будь-яке слово будь-якої іншої людини, сказане чи написане своєю чи іншою мовою, тобто будь-яке не моє слово. У цьому розумінні всі слова (висловлювання, мовні і літературні твори), крім моїх власних, є чужим словом. Я живу у їх світі. І все моє життя є орієнтацією в цьому світі, реакцією на чужі слова (нескінченно різноманітною реакцією), починаючи від їх засвоєння і закінчуючи засвоєнням багатств людської культур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381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Схема 3" descr=""/>
          <p:cNvPicPr/>
          <p:nvPr/>
        </p:nvPicPr>
        <p:blipFill>
          <a:blip r:embed="rId1"/>
          <a:stretch/>
        </p:blipFill>
        <p:spPr>
          <a:xfrm>
            <a:off x="0" y="-36360"/>
            <a:ext cx="8820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623880" y="692280"/>
            <a:ext cx="47466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«інтертекстуальність» уведений у науковий обі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7 році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Крістевою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а зазначала, що інтертекстуальність стала зоною перехрещення гетерогенної маси текстів і предметом семіотичних пошуків, які складають індивідуальність люди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5402160" y="422280"/>
            <a:ext cx="3456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Объект 3" descr=""/>
          <p:cNvPicPr/>
          <p:nvPr/>
        </p:nvPicPr>
        <p:blipFill>
          <a:blip r:embed="rId1"/>
          <a:stretch/>
        </p:blipFill>
        <p:spPr>
          <a:xfrm>
            <a:off x="378000" y="304920"/>
            <a:ext cx="846756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Схема 3" descr=""/>
          <p:cNvPicPr/>
          <p:nvPr/>
        </p:nvPicPr>
        <p:blipFill>
          <a:blip r:embed="rId1"/>
          <a:stretch/>
        </p:blipFill>
        <p:spPr>
          <a:xfrm>
            <a:off x="828720" y="334800"/>
            <a:ext cx="7772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Windows User</cp:lastModifiedBy>
  <dcterms:modified xsi:type="dcterms:W3CDTF">2018-11-24T22:24:04Z</dcterms:modified>
  <cp:revision>93</cp:revision>
  <dc:subject/>
  <dc:title>Универсальные</dc:title>
</cp:coreProperties>
</file>