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ABE-8127-4AF2-AE5F-F895A0C4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FA50-2A9E-46D0-A1F2-70BBDB69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199D-EF46-44EF-AC42-A3A6058F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21C-41C7-42CB-A6EF-AAE98523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94C4-8A0E-4B58-B074-AF5FD402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E3D0-1D1F-4A89-91B0-3C8A4E9D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9C40-081D-4066-93AD-A8D1B1C9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E704-22B1-4419-9089-32CCAD57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D8C3-9643-466A-AC09-EF25EA1E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789A-CB17-4406-91B0-D58D28D7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6014-8408-48EB-B491-2D049FB7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AD6-EAAF-4E57-A54D-17DEB3E1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A9B7-87D4-49BF-B61C-2253BF7C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6065-F361-4845-A6D6-0C9BF014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0CFB-3124-4DF9-8AFB-F81F4279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B4BA-FCFA-467E-B316-A9E3DEC7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5F8F-F4A6-48C9-9197-B28A2628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9EDB4-D01E-4B5D-B6E3-9D718592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5AFD6-5D44-4A94-8C56-6878A694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9C654-BC4C-4E27-B3AC-CC223172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987FE-5EC2-4FE4-B7B4-808979A9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4113-818C-430B-859B-EF033DF5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F1A9-1D38-46A6-90E1-63A56EEE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FB09A-FDAD-4E66-813F-17955081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6EDFA-24F7-4ED4-B648-432E7AFF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4CEA2-EEE7-493C-A0C1-42A0B893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5A525-8B41-4279-B843-385DFD83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BACE2-58A6-4052-9E58-467F32DE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5CCDB-7840-4F35-8347-39B105AB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6FACE-B359-45A5-A0BF-D247E9C0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CC699-DA0C-4D31-81A8-E34A8921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B5478-0F27-4C7F-902E-8F670AE4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BBFCB-108E-4FC5-A314-C5F0E648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D89-896D-4AA2-9795-21A03D69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A7A8E-7C92-4A2E-B5B2-DB9A9388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0AD41-1069-4028-98E9-3FF6DA0D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FD29E-84D7-4AD0-9DA7-A03E55BF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4125C-6BE4-4964-8558-016AE909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76A94-CAAC-440A-842A-351F2E66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B5F62-EA7E-4B0C-BEF3-2A6D8411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53DCF-0F79-41D1-8E51-4D288638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0DFB9-4B97-4743-BC21-E1694B3D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C76D3-75BC-479A-BB92-D86B49B0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0D54-8FC2-4C75-9E56-64278396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AC14-0C6F-476A-8882-E5CE844E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929-AAF5-47FA-A136-B546D15C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5BEB-789A-42A8-ACD5-AAD9FFBB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433-A655-4468-AFFC-87C5E9E3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EDF5-41B5-49D0-8768-D7F5E0CA5B8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D547-E3D7-43A3-8066-4CB837D8BC0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6303-C67B-44B3-904B-CE380460C77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9232-E767-464C-BB81-1275271BC1A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95320" y="615960"/>
            <a:ext cx="7785000" cy="1309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192852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onstantia"/>
              </a:rPr>
              <a:t>АКТУАЛЬНІ ПРОБЛЕМИ ВЗАЄМОДІЇ ПРАВОВИХ  СИСТЕМ СУЧАСНОСТІ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хема 2" descr=""/>
          <p:cNvPicPr/>
          <p:nvPr/>
        </p:nvPicPr>
        <p:blipFill>
          <a:blip r:embed="rId1"/>
          <a:stretch/>
        </p:blipFill>
        <p:spPr>
          <a:xfrm>
            <a:off x="79200" y="324000"/>
            <a:ext cx="836316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це правової системи України серед правових систем світ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, акцент ставити на панівній правовій культурі та правосвідомості – необхідно погодитися з прибічниками концепції трьох шляхів, визнати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самобутність правової системи 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України і віднести її до слов'янської (євразійської) правов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 домінуючим вважати юридичну техніку (структуру джерел права та системи права, особливості способів тлумачення та процесу правозастосування), то більш виваженою є концепція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овернення до романо-германського права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ьогодні не існує суттєвих відмінностей національної  ПС України від романо-германського права ні за способами створення правових норм, ні за способами їх систематизації, ні за способами їх тлумачення, ні за способами їх використання у правозастосовній практиці.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евний рух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 зроблений і в напрямку зміни праворозуміння: офіційно визнано ідеї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ерховен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тва права, пріоритету прав людини, правової соціальної демократичної держави, поділу права на публічне та приватне, непорушності приватної власності, характерні для європейської правової традиції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тім, сьогодні не можна констатувати, що ПС України є повноправним членом романо-германської сім'ї. Повернення постсоціалістичних країн до романо-германського права відбувається різними темпами. Так, щодо  ПС деяких країн Східної Європи (зокрема, Польщі, Чехії) вже сьогодні можна зробити висновок про відсутність перешкод до їх «усиновлення» романо-германським правом. Вступ цих країн до ЄС символізує остаточне повернення їх правових систем до романо-германськ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Constantia"/>
              </a:rPr>
              <a:t>Дякую за увагу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ПРАВОВА СИСТЕМА </a:t>
            </a: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І 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СИСТЕМА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584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«правова система» відображає не стільки внутрішню структуру права, скільки автономність і своєрідність правової системи як самостійного соціального утворе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«система права» відображає порядок побудови і взаємозв'язків між нормами, інститутами та галузями права конкретної держав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Правова сім‘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це певна сукупність правових систем, об'єднаних спільністю історичного формування, структури права, його джерел, провідних галузей та інститутів, правозастосування, правосвідомості, понятійно-категоріального апарату юридичної нау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8 правових сімей згідно </a:t>
            </a:r>
            <a:br>
              <a:rPr sz="4900"/>
            </a:b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К. Цвайгерту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920960"/>
            <a:ext cx="4357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ро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гер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кандинав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оціалістич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далекосхід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слам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ндусь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Інші класифікації правових сист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Чисті правові систе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onstantia"/>
              </a:rPr>
              <a:t>Правові системи змішаного типу («гібридні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Західні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правові системи і </a:t>
            </a: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традиційні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авові системи, що існують у межах більшості азіатських та африканських правових систе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об'єднують правила та інститути,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що походять з різних правових систем і взаємодіють між собо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До змішаних належать, зокрема, правові системи Філіппін, Японії, Шрі Ланкі, Маврикії, Камерун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Така змішаність відображає, а іноді сприяє проявам справжнього </a:t>
            </a: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юридичного плюралізму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upload.wikimedia.org/wikipedia/commons/thumb/f/f5/Legal_systems_in_Europe.svg/290px-Legal_systems_in_Europe.svg.png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ый прямоугольник 4"/>
          <p:cNvSpPr/>
          <p:nvPr/>
        </p:nvSpPr>
        <p:spPr>
          <a:xfrm>
            <a:off x="619200" y="404640"/>
            <a:ext cx="784836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Групи романо-германського права в Європ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3005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озвинуті та нерозвинуті правові систе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Розвинуті правові системи —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 системи, в яких розкрилися, розгорнулись якості писан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 них право є утворенням високого інтелектуального порядку, що виступає в суспільному житті як самостійний і сильний соціальний феном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Constantia"/>
              </a:rPr>
              <a:t>Нерозвинут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— це ті системи, в яких не розкрились, не розгорнулись якості права як самостійного і сильного соціального феномена, що відіграє особливу роль у житті суспіль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и системами в сучасному світі є релігійно-традиційні правові системи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снови рішень життєвих ситуацій тут взагалі перебувають поза правом — вони вкорінені у традиції, у релігійні норми, у постулати ідеології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40:06Z</dcterms:created>
  <dc:creator>1</dc:creator>
  <dc:description/>
  <dc:language>en-US</dc:language>
  <cp:lastModifiedBy>User</cp:lastModifiedBy>
  <dcterms:modified xsi:type="dcterms:W3CDTF">2020-09-02T09:12:21Z</dcterms:modified>
  <cp:revision>85</cp:revision>
  <dc:subject/>
  <dc:title>ДЕРЖАВНО-ПРАВОВІ ВЧЕННЯ ЗАХІДНОЇ ЄВРОПИ ДОБИ СЕРЕДНЬОВІЧЧЯ</dc:title>
</cp:coreProperties>
</file>