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D651-884E-4788-8B07-B40401E3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2B5C-E7C8-4A1A-AC9D-2D164D91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77C3-C590-4B9D-90CF-8A4D599B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A53D-4001-4D5D-B99F-6980E778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44B3-5DAE-4525-91C2-F76EEDCA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AF47-A9E5-4702-AAE5-CC16632E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29EC-6E09-4B38-9BCA-90138F5B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A807-CE8B-4063-AB02-41837463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C27A-F58B-4DEA-9ECA-F4C9DDC0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FA99-FECC-42B8-AE1E-D1A3F93B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F84C-B219-42F6-A449-4115F669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3111-8F9E-42FA-B8E9-4BD7782D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E8FD-C2F3-4F90-9BDD-DBC79CF3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E633-88C2-41F1-8BDB-7E3A8669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5F0F-69EA-45BB-8E07-211E0FC0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2290-BD0A-4CB3-8E90-32895890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8B3F-3309-428B-BD6F-D0D51A5B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33A19-7DA0-4D61-9ABD-29D1FC21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96EEB-435B-4D61-9623-A9D4BECE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DEB1C-2C15-45A3-860F-A4D156D4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BAB9D-A654-4756-A2BA-5DB779E2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84225-BE14-4F32-AD3A-5E9519CD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2D51-69E7-484F-895E-1B945533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96FB2-8C2E-4836-B9FD-C7BB1CEE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B6E43-DE36-40FB-8FF9-B50E54A7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00F15-497C-416D-A0E4-91623765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F5CED-9ED1-4BAB-BD0C-09CA5C4C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A1363-D726-4F0D-81A2-BE4F6D4A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FEC29-33B4-458C-9277-32C4D5E8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41B6F-4FA4-48C5-9903-0782D4E6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6BFFF-8C34-4D83-8A3C-BCFF1C4C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59AD4-C403-4509-84EE-CB7A33B3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113C5-9F29-4C48-AA16-0496A7E4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25DB-853E-437F-B10C-A0A63F04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15B81-D921-4A69-828C-4439C0C8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35791-AE2A-4A54-B265-4E8594BF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B8E7A-03EB-4310-8047-3ED9A6D4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FA881-E9B0-45DE-AC31-23394E9E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A9053-E3C2-48D8-BECB-35C7B870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3287B-38D4-46FC-91DC-1A254996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1117B-4607-4AD1-A1CA-2B01DF02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1C35A-2A97-45F5-9E6C-2ABE1624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CDE42-9F28-4A36-AD08-8EFAC8F3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FAA2-D386-4480-B98A-055ABF32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6661-D704-4C1E-8478-BB12BE07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0EAB-36F9-4A9A-BA02-91C354EC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140-DD2A-4D26-B2E2-8BA18EE5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810E-CD65-40CF-9ACD-A1660A7F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C88D-7784-4322-80D0-0779A4A8B88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8CA3-6547-4C67-B1C8-1C815B97D27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2CF8-5CE5-4996-98BC-9DD660AF09E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5A62-B862-4EF0-BB41-59B6AC60A36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95320" y="615960"/>
            <a:ext cx="7785000" cy="1309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" y="192852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000"/>
                </a:solidFill>
                <a:latin typeface="Constantia"/>
              </a:rPr>
              <a:t>АКТУАЛЬНІ ПРОБЛЕМИ ВЗАЄМОДІЇ ПРАВОВИХ  СИСТЕМ СУЧАСНОСТІ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Схема 2" descr=""/>
          <p:cNvPicPr/>
          <p:nvPr/>
        </p:nvPicPr>
        <p:blipFill>
          <a:blip r:embed="rId1"/>
          <a:stretch/>
        </p:blipFill>
        <p:spPr>
          <a:xfrm>
            <a:off x="79200" y="324000"/>
            <a:ext cx="836316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Місце правової системи України серед правових систем світу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, акцент ставити на панівній правовій культурі та правосвідомості – необхідно погодитися з прибічниками концепції трьох шляхів, визнати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самобутність правової системи 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України і віднести її до слов'янської (євразійської) правов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 домінуючим вважати юридичну техніку (структуру джерел права та системи права, особливості способів тлумачення та процесу правозастосування), то більш виваженою є концепція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овернення до романо-германського права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ьогодні не існує суттєвих відмінностей національної  ПС України від романо-германського права ні за способами створення правових норм, ні за способами їх систематизації, ні за способами їх тлумачення, ні за способами їх використання у правозастосовній практиці.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евний рух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 зроблений і в напрямку зміни праворозуміння: офіційно визнано ідеї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ерховен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тва права, пріоритету прав людини, правової соціальної демократичної держави, поділу права на публічне та приватне, непорушності приватної власності, характерні для європейської правової традиції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тім, сьогодні не можна констатувати, що ПС України є повноправним членом романо-германської сім'ї. Повернення постсоціалістичних країн до романо-германського права відбувається різними темпами. Так, щодо  ПС деяких країн Східної Європи (зокрема, Польщі, Чехії) вже сьогодні можна зробити висновок про відсутність перешкод до їх «усиновлення» романо-германським правом. Вступ цих країн до ЄС символізує остаточне повернення їх правових систем до романо-германськ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Constantia"/>
              </a:rPr>
              <a:t>Дякую за увагу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ПРАВОВА СИСТЕМА </a:t>
            </a: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І 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СИСТЕМА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8584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«правова система» відображає не стільки внутрішню структуру права, скільки автономність і своєрідність правової системи як самостійного соціального утворенн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«система права» відображає порядок побудови і взаємозв'язків між нормами, інститутами та галузями права конкретної держав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Правова сім‘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це певна сукупність правових систем, об'єднаних спільністю історичного формування, структури права, його джерел, провідних галузей та інститутів, правозастосування, правосвідомості, понятійно-категоріального апарату юридичної нау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8 правових сімей згідно </a:t>
            </a:r>
            <a:br>
              <a:rPr sz="4900"/>
            </a:b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К. Цвайгерту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920960"/>
            <a:ext cx="4357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ро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гер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кандинав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галь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оціалістич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далекосхід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слам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ндусь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Інші класифікації правових систе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Чисті правові систе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4000"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onstantia"/>
              </a:rPr>
              <a:t>Правові системи змішаного типу («гібридні»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Західні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правові системи і </a:t>
            </a: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традиційні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авові системи, що існують у межах більшості азіатських та африканських правових систем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об'єднують правила та інститути,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що походять з різних правових систем і взаємодіють між собою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До змішаних належать, зокрема, правові системи Філіппін, Японії, Шрі Ланкі, Маврикії, Камерун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Така змішаність відображає, а іноді сприяє проявам справжнього </a:t>
            </a: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юридичного плюралізму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upload.wikimedia.org/wikipedia/commons/thumb/f/f5/Legal_systems_in_Europe.svg/290px-Legal_systems_in_Europe.svg.png"/>
          <p:cNvPicPr/>
          <p:nvPr/>
        </p:nvPicPr>
        <p:blipFill>
          <a:blip r:embed="rId1"/>
          <a:stretch/>
        </p:blipFill>
        <p:spPr>
          <a:xfrm>
            <a:off x="395280" y="1341360"/>
            <a:ext cx="4176720" cy="4032360"/>
          </a:xfrm>
          <a:prstGeom prst="rect">
            <a:avLst/>
          </a:prstGeom>
          <a:ln w="0">
            <a:noFill/>
          </a:ln>
        </p:spPr>
      </p:pic>
      <p:sp>
        <p:nvSpPr>
          <p:cNvPr id="212" name="Скругленный прямоугольник 4"/>
          <p:cNvSpPr/>
          <p:nvPr/>
        </p:nvSpPr>
        <p:spPr>
          <a:xfrm>
            <a:off x="619200" y="404640"/>
            <a:ext cx="784836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Групи романо-германського права в Європ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300560" cy="244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Розвинуті та нерозвинуті правові систем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Розвинуті правові системи —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 системи, в яких розкрилися, розгорнулись якості писан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 них право є утворенням високого інтелектуального порядку, що виступає в суспільному житті як самостійний і сильний соціальний феноме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70c0"/>
                </a:solidFill>
                <a:latin typeface="Constantia"/>
              </a:rPr>
              <a:t>Нерозвинут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— це ті системи, в яких не розкрились, не розгорнулись якості права як самостійного і сильного соціального феномена, що відіграє особливу роль у житті суспільст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и системами в сучасному світі є релігійно-традиційні правові системи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снови рішень життєвих ситуацій тут взагалі перебувають поза правом — вони вкорінені у традиції, у релігійні норми, у постулати ідеології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40:06Z</dcterms:created>
  <dc:creator>1</dc:creator>
  <dc:description/>
  <dc:language>en-US</dc:language>
  <cp:lastModifiedBy>User</cp:lastModifiedBy>
  <dcterms:modified xsi:type="dcterms:W3CDTF">2020-09-02T09:12:21Z</dcterms:modified>
  <cp:revision>85</cp:revision>
  <dc:subject/>
  <dc:title>ДЕРЖАВНО-ПРАВОВІ ВЧЕННЯ ЗАХІДНОЇ ЄВРОПИ ДОБИ СЕРЕДНЬОВІЧЧЯ</dc:title>
</cp:coreProperties>
</file>