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BB7-0C8A-4E37-8BB5-BCF87951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22D0-3054-4A8B-A7CA-02B56A5B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6702-4A86-4424-A7CE-FC1D3587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194-037A-48EF-82CB-A520BF65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50E7-81BE-46F9-9192-A1F6F6B8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F844-7DD4-4878-B9C0-576E5E8E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DC99-0A05-484E-AD24-84C050CB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586E-1751-4690-9F3A-A641828F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13BE-B784-4EE0-AD5F-545DD494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E49D-2C35-44BB-A7E6-D4E136BF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B317-B485-4B15-B9A5-E6C5DA31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83D8-A6CC-46E7-90C9-A0719A7F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21CB-4C2E-4AEA-8C27-CB0934BB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8BA4-700C-41CD-B5D9-9657FD5D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C592-997F-4114-8058-90606D2B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76BC-0BDB-45E4-AABA-2B0BA81B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41E7-269A-4021-9F03-B52644F5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D1EC2-E8CA-4F86-8F9F-7EB3E0ED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8A704-4ADD-401A-B877-2F54ACF4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72812-152F-4322-8A6D-EA44E69B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5C97A-B286-414D-9364-9ED6D414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24037-4107-4AAC-A8CD-74C9F7DB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91D-2BE3-49F0-BE5F-25BD6B67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64240-A690-43BD-A265-F816F6C4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A25A3-1CE3-463C-A38F-AED7FB31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5CB54-B560-47DD-B33B-9FF51E77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D068B-CA7B-41D5-A768-B76224EF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25C86-D43F-4ADB-91B5-C6D4F2B7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133D3-FEF4-4C02-941D-41B7E846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483F1-031B-42CC-9023-1706D054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9D4E8-B378-47F7-AD5E-46D4D586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6AA91-A105-4DC1-9A94-5D962569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CCFFE-64FA-4BB5-A74C-E380E9F3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A465-15BC-4EB5-A3A5-A9929170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8F918-6D74-4379-A2B7-F3D56C0D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EE685-957C-4BC4-A782-C432E4B3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4C135-2E5D-4F3E-A063-BECAB69C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3C434-4B3F-4CF5-8222-3B07BD09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7B70B-93F5-4675-AC2D-C82ADEDE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742C8-8F21-4D72-81E2-C423BBEF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EED6C-56B9-4359-A427-30EB8C57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A55EC-D439-4343-BEC7-6D235912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39F20-BB48-46BD-AA97-A639C4AF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E7D-77DA-4A71-AA38-93B99EC1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231-702B-43DC-8606-DC05882D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4BC-3449-4EBD-B94E-B5FF43DB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535-52C7-44D2-8715-E5DE53B6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50F5-14AF-4475-8B56-6608D4C6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F81D-3AE4-48D6-83AB-D60E52A4455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88A6-E7EB-4ED9-9E90-45FD2EFEA75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5910-299C-4351-9476-1A2CCCFE0BD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CF67-7DD0-4773-9B3C-EEA5BD7E9B7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95320" y="615960"/>
            <a:ext cx="7785000" cy="1309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192852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onstantia"/>
              </a:rPr>
              <a:t>АКТУАЛЬНІ ПРОБЛЕМИ ВЗАЄМОДІЇ ПРАВОВИХ  СИСТЕМ СУЧАСНОСТІ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хема 2" descr=""/>
          <p:cNvPicPr/>
          <p:nvPr/>
        </p:nvPicPr>
        <p:blipFill>
          <a:blip r:embed="rId1"/>
          <a:stretch/>
        </p:blipFill>
        <p:spPr>
          <a:xfrm>
            <a:off x="79200" y="324000"/>
            <a:ext cx="836316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це правової системи України серед правових систем світ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, акцент ставити на панівній правовій культурі та правосвідомості – необхідно погодитися з прибічниками концепції трьох шляхів, визнати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самобутність правової системи 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України і віднести її до слов'янської (євразійської) правов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 домінуючим вважати юридичну техніку (структуру джерел права та системи права, особливості способів тлумачення та процесу правозастосування), то більш виваженою є концепція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овернення до романо-германського права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ьогодні не існує суттєвих відмінностей національної  ПС України від романо-германського права ні за способами створення правових норм, ні за способами їх систематизації, ні за способами їх тлумачення, ні за способами їх використання у правозастосовній практиці.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евний рух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 зроблений і в напрямку зміни праворозуміння: офіційно визнано ідеї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ерховен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тва права, пріоритету прав людини, правової соціальної демократичної держави, поділу права на публічне та приватне, непорушності приватної власності, характерні для європейської правової традиції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тім, сьогодні не можна констатувати, що ПС України є повноправним членом романо-германської сім'ї. Повернення постсоціалістичних країн до романо-германського права відбувається різними темпами. Так, щодо  ПС деяких країн Східної Європи (зокрема, Польщі, Чехії) вже сьогодні можна зробити висновок про відсутність перешкод до їх «усиновлення» романо-германським правом. Вступ цих країн до ЄС символізує остаточне повернення їх правових систем до романо-германськ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Constantia"/>
              </a:rPr>
              <a:t>Дякую за увагу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ПРАВОВА СИСТЕМА </a:t>
            </a: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І 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СИСТЕМА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584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«правова система» відображає не стільки внутрішню структуру права, скільки автономність і своєрідність правової системи як самостійного соціального утворе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«система права» відображає порядок побудови і взаємозв'язків між нормами, інститутами та галузями права конкретної держав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Правова сім‘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це певна сукупність правових систем, об'єднаних спільністю історичного формування, структури права, його джерел, провідних галузей та інститутів, правозастосування, правосвідомості, понятійно-категоріального апарату юридичної нау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8 правових сімей згідно </a:t>
            </a:r>
            <a:br>
              <a:rPr sz="4900"/>
            </a:b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К. Цвайгерту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920960"/>
            <a:ext cx="4357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ро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гер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кандинав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оціалістич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далекосхід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слам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ндусь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Інші класифікації правових сист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Чисті правові систе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onstantia"/>
              </a:rPr>
              <a:t>Правові системи змішаного типу («гібридні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Західні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правові системи і </a:t>
            </a: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традиційні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авові системи, що існують у межах більшості азіатських та африканських правових систе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об'єднують правила та інститути,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що походять з різних правових систем і взаємодіють між собо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До змішаних належать, зокрема, правові системи Філіппін, Японії, Шрі Ланкі, Маврикії, Камерун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Така змішаність відображає, а іноді сприяє проявам справжнього </a:t>
            </a: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юридичного плюралізму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upload.wikimedia.org/wikipedia/commons/thumb/f/f5/Legal_systems_in_Europe.svg/290px-Legal_systems_in_Europe.svg.png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ый прямоугольник 4"/>
          <p:cNvSpPr/>
          <p:nvPr/>
        </p:nvSpPr>
        <p:spPr>
          <a:xfrm>
            <a:off x="619200" y="404640"/>
            <a:ext cx="784836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Групи романо-германського права в Європ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3005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озвинуті та нерозвинуті правові систе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Розвинуті правові системи —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 системи, в яких розкрилися, розгорнулись якості писан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 них право є утворенням високого інтелектуального порядку, що виступає в суспільному житті як самостійний і сильний соціальний феном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Constantia"/>
              </a:rPr>
              <a:t>Нерозвинут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— це ті системи, в яких не розкрились, не розгорнулись якості права як самостійного і сильного соціального феномена, що відіграє особливу роль у житті суспіль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и системами в сучасному світі є релігійно-традиційні правові системи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снови рішень життєвих ситуацій тут взагалі перебувають поза правом — вони вкорінені у традиції, у релігійні норми, у постулати ідеології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40:06Z</dcterms:created>
  <dc:creator>1</dc:creator>
  <dc:description/>
  <dc:language>en-US</dc:language>
  <cp:lastModifiedBy>User</cp:lastModifiedBy>
  <dcterms:modified xsi:type="dcterms:W3CDTF">2020-09-02T09:12:21Z</dcterms:modified>
  <cp:revision>85</cp:revision>
  <dc:subject/>
  <dc:title>ДЕРЖАВНО-ПРАВОВІ ВЧЕННЯ ЗАХІДНОЇ ЄВРОПИ ДОБИ СЕРЕДНЬОВІЧЧЯ</dc:title>
</cp:coreProperties>
</file>