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6083-0764-4B4F-9DA3-1AB6A5D4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AAA9-1DF3-4DE9-B1D2-04A9DBC3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31F8-1ED5-4B10-98DE-A3D53BE1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6851-1F28-4C90-B39A-BBF20768F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9707-6BB8-431F-A8D4-C599142C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62E1-84BC-40AC-9BED-6B3B0EBD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D889-5CA8-47BC-A294-39BC1495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B133-9790-475D-9FCA-BF63151A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6CB3-F3EC-4B0D-9FFE-2D5FDD9C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4581-486D-467F-9348-A0D78856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1C85-55B9-4B4F-BFDD-D5E7733D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3B09-7DCF-4201-8C68-1DEE65D5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85C1-C63C-42EC-A414-A04E89DA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5AD6-80AF-4FD0-A590-6F56C18F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148D-9EAE-410F-892D-B7978D5F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9FB2-152B-4A1A-A79E-72F6BA1D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8C46-B0E0-4422-AF02-3E4277D7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757AA-553B-48E1-BE8F-191B2D84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7AEC1-349A-406B-873E-78B06413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851C4-1CD4-468D-86B1-96235D95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F91E6-65FA-4C5C-977D-D9474DDE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3AD25-637E-4866-A1D2-391765FC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22D0-F394-4063-B4A9-541C37A3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52626-451E-4A4C-86E2-5C55D039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A02F8-C4FF-46B0-9443-6F7E1F0D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BF218-56A8-4EF5-849A-6F1D2E69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B8DDA-B908-4223-A7BF-659B8DC9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0F115-EC03-4A8E-8DEC-EA5C397E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DACFC-36BD-494D-92FC-119E0B74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86BA2-C609-4E9F-B3B0-EE4A65AA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34C08-F2FF-4D8B-AEB9-DD5A74A7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4B2B7-87C1-4886-8550-6871C5FF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BF9D2-B564-4EFB-A33B-C0BF29CF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C7FA-6AFA-4DFE-906A-E60262B9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50773-E84D-4413-84CD-815C5692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EE2B0-2933-4B32-A974-2A34FE35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DA18C-9129-4F32-B6B1-BF3AD4AD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87823-4E9B-4948-9390-F487B129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D5A0F-3597-4D72-B804-B732A5BC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CFD36-632C-4A03-B1D1-31D5774B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365EE-04FB-44C0-A9F9-5045DBD9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731B4-E5C7-445E-9C8E-3C09A4A7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EED5E-3EFA-4529-848E-9F11361E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3167-0E3C-4646-B9C7-6F9BF1F8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D495-0AB7-4839-8168-F1840759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740C-5CD1-42C2-8DA7-3BDEE3C0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8595-F06F-434D-8D7E-CD7ED142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6A2-110A-49BA-AAC4-D2A14CDA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A311-EB37-469D-A815-1ADAEEA5B2A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7C77-F45A-4A46-AFB1-5D139ABA633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3D29-51A1-4A51-9BBC-3C47CB99977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6B98-A660-482B-868E-FE24140567E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895320" y="615960"/>
            <a:ext cx="7785000" cy="1309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400" y="192852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000"/>
                </a:solidFill>
                <a:latin typeface="Constantia"/>
              </a:rPr>
              <a:t>АКТУАЛЬНІ ПРОБЛЕМИ ВЗАЄМОДІЇ ПРАВОВИХ  СИСТЕМ СУЧАСНОСТІ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Схема 2" descr=""/>
          <p:cNvPicPr/>
          <p:nvPr/>
        </p:nvPicPr>
        <p:blipFill>
          <a:blip r:embed="rId1"/>
          <a:stretch/>
        </p:blipFill>
        <p:spPr>
          <a:xfrm>
            <a:off x="79200" y="324000"/>
            <a:ext cx="836316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Місце правової системи України серед правових систем світу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, акцент ставити на панівній правовій культурі та правосвідомості – необхідно погодитися з прибічниками концепції трьох шляхів, визнати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самобутність правової системи 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України і віднести її до слов'янської (євразійської) правов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 домінуючим вважати юридичну техніку (структуру джерел права та системи права, особливості способів тлумачення та процесу правозастосування), то більш виваженою є концепція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овернення до романо-германського права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ьогодні не існує суттєвих відмінностей національної  ПС України від романо-германського права ні за способами створення правових норм, ні за способами їх систематизації, ні за способами їх тлумачення, ні за способами їх використання у правозастосовній практиці.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евний рух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 зроблений і в напрямку зміни праворозуміння: офіційно визнано ідеї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ерховен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тва права, пріоритету прав людини, правової соціальної демократичної держави, поділу права на публічне та приватне, непорушності приватної власності, характерні для європейської правової традиції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тім, сьогодні не можна констатувати, що ПС України є повноправним членом романо-германської сім'ї. Повернення постсоціалістичних країн до романо-германського права відбувається різними темпами. Так, щодо  ПС деяких країн Східної Європи (зокрема, Польщі, Чехії) вже сьогодні можна зробити висновок про відсутність перешкод до їх «усиновлення» романо-германським правом. Вступ цих країн до ЄС символізує остаточне повернення їх правових систем до романо-германськ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Constantia"/>
              </a:rPr>
              <a:t>Дякую за увагу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ПРАВОВА СИСТЕМА </a:t>
            </a:r>
            <a:r>
              <a:rPr b="0" lang="uk-UA" sz="4000" spc="-1" strike="noStrike">
                <a:solidFill>
                  <a:srgbClr val="04617b"/>
                </a:solidFill>
                <a:latin typeface="Calibri"/>
              </a:rPr>
              <a:t>І 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СИСТЕМА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8584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«правова система» відображає не стільки внутрішню структуру права, скільки автономність і своєрідність правової системи як самостійного соціального утворенн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«система права» відображає порядок побудови і взаємозв'язків між нормами, інститутами та галузями права конкретної держав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Правова сім‘я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це певна сукупність правових систем, об'єднаних спільністю історичного формування, структури права, його джерел, провідних галузей та інститутів, правозастосування, правосвідомості, понятійно-категоріального апарату юридичної наук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8 правових сімей згідно </a:t>
            </a:r>
            <a:br>
              <a:rPr sz="4900"/>
            </a:b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К. Цвайгерту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920960"/>
            <a:ext cx="4357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ро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гер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кандинав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загаль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оціалістич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далекосхід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слам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ндуськ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Інші класифікації правових систе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Чисті правові систе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4000"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onstantia"/>
              </a:rPr>
              <a:t>Правові системи змішаного типу («гібридні»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Західні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правові системи і </a:t>
            </a: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традиційні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авові системи, що існують у межах більшості азіатських та африканських правових систем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об'єднують правила та інститути,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що походять з різних правових систем і взаємодіють між собою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До змішаних належать, зокрема, правові системи Філіппін, Японії, Шрі Ланкі, Маврикії, Камеруну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Така змішаність відображає, а іноді сприяє проявам справжнього </a:t>
            </a:r>
            <a:r>
              <a:rPr b="0" lang="uk-UA" sz="2200" spc="-1" strike="noStrike">
                <a:solidFill>
                  <a:srgbClr val="ff0000"/>
                </a:solidFill>
                <a:latin typeface="Constantia"/>
              </a:rPr>
              <a:t>юридичного плюралізму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upload.wikimedia.org/wikipedia/commons/thumb/f/f5/Legal_systems_in_Europe.svg/290px-Legal_systems_in_Europe.svg.png"/>
          <p:cNvPicPr/>
          <p:nvPr/>
        </p:nvPicPr>
        <p:blipFill>
          <a:blip r:embed="rId1"/>
          <a:stretch/>
        </p:blipFill>
        <p:spPr>
          <a:xfrm>
            <a:off x="395280" y="1341360"/>
            <a:ext cx="4176720" cy="4032360"/>
          </a:xfrm>
          <a:prstGeom prst="rect">
            <a:avLst/>
          </a:prstGeom>
          <a:ln w="0">
            <a:noFill/>
          </a:ln>
        </p:spPr>
      </p:pic>
      <p:sp>
        <p:nvSpPr>
          <p:cNvPr id="212" name="Скругленный прямоугольник 4"/>
          <p:cNvSpPr/>
          <p:nvPr/>
        </p:nvSpPr>
        <p:spPr>
          <a:xfrm>
            <a:off x="619200" y="404640"/>
            <a:ext cx="784836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Групи романо-германського права в Європ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4300560" cy="2447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Розвинуті та нерозвинуті правові систем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Розвинуті правові системи —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 системи, в яких розкрилися, розгорнулись якості писан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 них право є утворенням високого інтелектуального порядку, що виступає в суспільному житті як самостійний і сильний соціальний феноме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70c0"/>
                </a:solidFill>
                <a:latin typeface="Constantia"/>
              </a:rPr>
              <a:t>Нерозвинут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— це ті системи, в яких не розкрились, не розгорнулись якості права як самостійного і сильного соціального феномена, що відіграє особливу роль у житті суспільст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и системами в сучасному світі є релігійно-традиційні правові системи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снови рішень життєвих ситуацій тут взагалі перебувають поза правом — вони вкорінені у традиції, у релігійні норми, у постулати ідеології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3:40:06Z</dcterms:created>
  <dc:creator>1</dc:creator>
  <dc:description/>
  <dc:language>en-US</dc:language>
  <cp:lastModifiedBy>User</cp:lastModifiedBy>
  <dcterms:modified xsi:type="dcterms:W3CDTF">2020-09-02T09:12:21Z</dcterms:modified>
  <cp:revision>85</cp:revision>
  <dc:subject/>
  <dc:title>ДЕРЖАВНО-ПРАВОВІ ВЧЕННЯ ЗАХІДНОЇ ЄВРОПИ ДОБИ СЕРЕДНЬОВІЧЧЯ</dc:title>
</cp:coreProperties>
</file>