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E14C-E460-4654-BFB7-C9C91F60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3B34-2BBB-4652-A960-0FA35FE7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F7DE-7E24-41CA-A484-70C7AF0C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E2C6-3A41-4460-8B6B-87B42F88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C076-A34E-4290-90D2-75A2563B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F358-3BBE-4A53-909D-AAC6D016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1DC4-95C6-4E75-B0F5-C72CED5C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2D1D-1D69-4DA7-B1D9-44B9956E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86A6-043C-4397-A2C0-E238817B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97FA-59EA-4E87-A26E-2DBB3737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DA12-3770-462D-9A59-BB671998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B925-926A-45AC-8976-3DB1CEDF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ACC0-FBF3-4EB5-966C-CEECBF75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E53D-41AF-4F21-8CE3-A35CA55B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5306-A59E-4825-8CC4-1B93B3E8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A456-ADC4-45E9-977A-FB917E98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DDF2-921F-4BC8-91BF-D89767DF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5E82B-E662-4CB8-B414-F7ACBEE7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F3644-525C-40DB-9983-FABC6329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D7DF9-0859-4DFA-812F-667A96B9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2FEE6-8B72-4D3D-AC71-A4218760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3D965-6782-4729-BACC-F1BCEC77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ABEA-B8B1-4F6A-B800-CC0EBAAC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2ACEE-1DD8-402D-B580-5934B333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4B5C6-F321-4C06-A987-347BF0AF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E7F92-0B72-4BEE-BC9B-CC0B323B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89320-0061-4E99-B962-B6C99449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8721B-1FD5-4CF1-8087-8A405250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4D795-9957-4D82-AD77-C2A1EBE4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95370-F4A5-407D-9575-E9A71D48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D09B9-610F-4BCA-A97B-829D5D71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C8DFD-D137-4542-9742-86E7A86A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11354-AAF1-4F98-94CF-06381A3F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6832-FF98-4FDC-A778-E1AB65F5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D65DF-E870-44B7-A86C-DBDB494F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1EDB2-87CA-451C-AA67-25833D2B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A4179-E180-4593-9D92-0EEF30F2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A7C5B-3DE6-4DDE-977E-F51A8537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E17BE-1172-40CA-BF35-4A688F92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33A74-7AF5-478E-A916-C6B9E66E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0AC7A-68A7-40EC-8734-16A8F6DD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AFBB7-F14F-45C7-B9B9-652E360C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19828-AAAD-4B49-843C-7CBD7854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4BB0-9C98-477F-926D-4E6660B3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99D6-445C-4504-B5D0-A2141710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FC16-A8E3-4B26-BA28-6B856915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FA7B-58F1-479B-8243-E55DEFCF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6187-E911-4D0B-8723-FB61178C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D180-F4EF-49C6-8970-5ABCD8FC72A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B02F-CB5B-4186-9561-ABC47D267CB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0C38-2B64-4A17-8C5A-32C9FF8F1B2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85CD-6FC4-4EBD-8356-9563C7DD638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895320" y="615960"/>
            <a:ext cx="7785000" cy="1309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400" y="192852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000"/>
                </a:solidFill>
                <a:latin typeface="Constantia"/>
              </a:rPr>
              <a:t>АКТУАЛЬНІ ПРОБЛЕМИ ВЗАЄМОДІЇ ПРАВОВИХ  СИСТЕМ СУЧАСНОСТІ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Схема 2" descr=""/>
          <p:cNvPicPr/>
          <p:nvPr/>
        </p:nvPicPr>
        <p:blipFill>
          <a:blip r:embed="rId1"/>
          <a:stretch/>
        </p:blipFill>
        <p:spPr>
          <a:xfrm>
            <a:off x="79200" y="324000"/>
            <a:ext cx="836316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Місце правової системи України серед правових систем світу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, акцент ставити на панівній правовій культурі та правосвідомості – необхідно погодитися з прибічниками концепції трьох шляхів, визнати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самобутність правової системи 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України і віднести її до слов'янської (євразійської) правов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 домінуючим вважати юридичну техніку (структуру джерел права та системи права, особливості способів тлумачення та процесу правозастосування), то більш виваженою є концепція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овернення до романо-германського права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ьогодні не існує суттєвих відмінностей національної  ПС України від романо-германського права ні за способами створення правових норм, ні за способами їх систематизації, ні за способами їх тлумачення, ні за способами їх використання у правозастосовній практиці.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евний рух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 зроблений і в напрямку зміни праворозуміння: офіційно визнано ідеї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ерховен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тва права, пріоритету прав людини, правової соціальної демократичної держави, поділу права на публічне та приватне, непорушності приватної власності, характерні для європейської правової традиції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тім, сьогодні не можна констатувати, що ПС України є повноправним членом романо-германської сім'ї. Повернення постсоціалістичних країн до романо-германського права відбувається різними темпами. Так, щодо  ПС деяких країн Східної Європи (зокрема, Польщі, Чехії) вже сьогодні можна зробити висновок про відсутність перешкод до їх «усиновлення» романо-германським правом. Вступ цих країн до ЄС символізує остаточне повернення їх правових систем до романо-германськ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Constantia"/>
              </a:rPr>
              <a:t>Дякую за увагу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ПРАВОВА СИСТЕМА </a:t>
            </a:r>
            <a:r>
              <a:rPr b="0" lang="uk-UA" sz="4000" spc="-1" strike="noStrike">
                <a:solidFill>
                  <a:srgbClr val="04617b"/>
                </a:solidFill>
                <a:latin typeface="Calibri"/>
              </a:rPr>
              <a:t>І 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СИСТЕМА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8584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«правова система» відображає не стільки внутрішню структуру права, скільки автономність і своєрідність правової системи як самостійного соціального утворенн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«система права» відображає порядок побудови і взаємозв'язків між нормами, інститутами та галузями права конкретної держав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Правова сім‘я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це певна сукупність правових систем, об'єднаних спільністю історичного формування, структури права, його джерел, провідних галузей та інститутів, правозастосування, правосвідомості, понятійно-категоріального апарату юридичної наук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8 правових сімей згідно </a:t>
            </a:r>
            <a:br>
              <a:rPr sz="4900"/>
            </a:b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К. Цвайгерту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920960"/>
            <a:ext cx="4357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ро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гер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кандинав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загаль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оціалістич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далекосхід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слам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ндуськ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Інші класифікації правових систе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Чисті правові систе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4000"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onstantia"/>
              </a:rPr>
              <a:t>Правові системи змішаного типу («гібридні»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Західні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правові системи і </a:t>
            </a: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традиційні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авові системи, що існують у межах більшості азіатських та африканських правових систем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об'єднують правила та інститути,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що походять з різних правових систем і взаємодіють між собою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До змішаних належать, зокрема, правові системи Філіппін, Японії, Шрі Ланкі, Маврикії, Камеруну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Така змішаність відображає, а іноді сприяє проявам справжнього </a:t>
            </a:r>
            <a:r>
              <a:rPr b="0" lang="uk-UA" sz="2200" spc="-1" strike="noStrike">
                <a:solidFill>
                  <a:srgbClr val="ff0000"/>
                </a:solidFill>
                <a:latin typeface="Constantia"/>
              </a:rPr>
              <a:t>юридичного плюралізму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upload.wikimedia.org/wikipedia/commons/thumb/f/f5/Legal_systems_in_Europe.svg/290px-Legal_systems_in_Europe.svg.png"/>
          <p:cNvPicPr/>
          <p:nvPr/>
        </p:nvPicPr>
        <p:blipFill>
          <a:blip r:embed="rId1"/>
          <a:stretch/>
        </p:blipFill>
        <p:spPr>
          <a:xfrm>
            <a:off x="395280" y="1341360"/>
            <a:ext cx="4176720" cy="4032360"/>
          </a:xfrm>
          <a:prstGeom prst="rect">
            <a:avLst/>
          </a:prstGeom>
          <a:ln w="0">
            <a:noFill/>
          </a:ln>
        </p:spPr>
      </p:pic>
      <p:sp>
        <p:nvSpPr>
          <p:cNvPr id="212" name="Скругленный прямоугольник 4"/>
          <p:cNvSpPr/>
          <p:nvPr/>
        </p:nvSpPr>
        <p:spPr>
          <a:xfrm>
            <a:off x="619200" y="404640"/>
            <a:ext cx="784836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Групи романо-германського права в Європ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4300560" cy="2447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Розвинуті та нерозвинуті правові систем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Розвинуті правові системи —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 системи, в яких розкрилися, розгорнулись якості писан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 них право є утворенням високого інтелектуального порядку, що виступає в суспільному житті як самостійний і сильний соціальний феноме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70c0"/>
                </a:solidFill>
                <a:latin typeface="Constantia"/>
              </a:rPr>
              <a:t>Нерозвинут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— це ті системи, в яких не розкрились, не розгорнулись якості права як самостійного і сильного соціального феномена, що відіграє особливу роль у житті суспільст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и системами в сучасному світі є релігійно-традиційні правові системи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снови рішень життєвих ситуацій тут взагалі перебувають поза правом — вони вкорінені у традиції, у релігійні норми, у постулати ідеології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3:40:06Z</dcterms:created>
  <dc:creator>1</dc:creator>
  <dc:description/>
  <dc:language>en-US</dc:language>
  <cp:lastModifiedBy>User</cp:lastModifiedBy>
  <dcterms:modified xsi:type="dcterms:W3CDTF">2020-09-02T09:12:21Z</dcterms:modified>
  <cp:revision>85</cp:revision>
  <dc:subject/>
  <dc:title>ДЕРЖАВНО-ПРАВОВІ ВЧЕННЯ ЗАХІДНОЇ ЄВРОПИ ДОБИ СЕРЕДНЬОВІЧЧЯ</dc:title>
</cp:coreProperties>
</file>