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40C7-2E62-442E-BDDE-836475F0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DE70-33FC-41D3-A905-AC099D9A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6189-FD70-4F13-9655-5076F7B0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43D4-A419-4E09-8F5C-7486D2D9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733E-EFB1-4C46-B83A-2FA739FC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210D-864E-415B-B302-8677D29B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8FD2-E648-44BB-854C-9C194024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D467-9D96-4C84-A8EA-40B0BBDB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6DF3-F8D8-4AC2-8951-0F853B06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8204-4DC3-4CA9-B65C-7D491733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D0AB-79FA-4A3A-8F57-541B310B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88D-7131-4A57-A9D7-DC9809CA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74D6-C220-4FE7-8B12-2D90507A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6DCF-6192-49A1-BBA9-4F35C893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938A-8537-4E36-8507-DD1C55EF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86E7-618D-44C0-BC2A-960D040B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2844-ECBB-4476-81F3-24A8A1D4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5BD2C-E61B-4DFC-96A0-407197EE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B919B-192A-4938-9D1D-5AE7F576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39D5F-A4BF-47C4-9E92-442ECF17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3B349-BECB-4AFB-9842-E59B3AA0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5EC94-42B8-47FC-BA5F-C99CA8A2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F1A0-3D61-4FCD-BF7B-029B2418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0BCC1-3AD8-4899-BDC0-BB1B5C5F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4EA8E-2F1F-441F-9611-5161789E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63A3E-92FF-4591-AD36-524BC91E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B7154-5FA9-4378-8ECC-5D2188B5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B10EA-DAAF-4CC7-AE28-9543DA31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C41F8-D759-41A2-8C86-BA977D81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98DB2-0D38-4CE5-B8F9-E8C84C84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ED034-501B-4F2A-AC59-F4D5D885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3C22B-A023-4603-9556-00EA99B6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B8663-09BE-4A8B-A341-6D6A9FD0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772E-C9A4-4AE6-9178-9D51E718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BFE4E-8547-4A7B-95CB-379F5320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8A934-80FA-4338-B807-F7E5732C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56459-5713-4352-8375-3DF7D778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55BCA-CDAD-41D3-AAE0-50EDBF7F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DAE13-6F92-4122-BD95-18D71195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C16EE-7CC5-4E07-9CB2-596AFACD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A56DA-8C29-4532-B44A-916CB201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D7589-2CCB-43A6-8211-B9AD8206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B8B11-0F4E-48F3-9B88-310CCA71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87F5-8125-4E57-960C-98B74FF3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716D-B501-4C6D-8447-DD4C2A00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CCDF-D15E-4560-A38F-7D25036C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904E-6A2D-4867-BBD2-2D27854B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090F-E9B5-4768-93E5-E7AA58C2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8661-68F1-489C-8395-2E79D81612F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8B8F-4D6E-4D21-96C7-7DB5F189E48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0324-C1BB-4666-AAB5-F7E93D48733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7295-2646-4F19-9527-812B04B6D91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95320" y="615960"/>
            <a:ext cx="7785000" cy="1309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" y="192852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000"/>
                </a:solidFill>
                <a:latin typeface="Constantia"/>
              </a:rPr>
              <a:t>АКТУАЛЬНІ ПРОБЛЕМИ ВЗАЄМОДІЇ ПРАВОВИХ  СИСТЕМ СУЧАСНОСТІ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Схема 2" descr=""/>
          <p:cNvPicPr/>
          <p:nvPr/>
        </p:nvPicPr>
        <p:blipFill>
          <a:blip r:embed="rId1"/>
          <a:stretch/>
        </p:blipFill>
        <p:spPr>
          <a:xfrm>
            <a:off x="79200" y="324000"/>
            <a:ext cx="836316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Місце правової системи України серед правових систем світу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, акцент ставити на панівній правовій культурі та правосвідомості – необхідно погодитися з прибічниками концепції трьох шляхів, визнати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самобутність правової системи 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України і віднести її до слов'янської (євразійської) правов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 домінуючим вважати юридичну техніку (структуру джерел права та системи права, особливості способів тлумачення та процесу правозастосування), то більш виваженою є концепція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овернення до романо-германського права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ьогодні не існує суттєвих відмінностей національної  ПС України від романо-германського права ні за способами створення правових норм, ні за способами їх систематизації, ні за способами їх тлумачення, ні за способами їх використання у правозастосовній практиці.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евний рух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 зроблений і в напрямку зміни праворозуміння: офіційно визнано ідеї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ерховен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тва права, пріоритету прав людини, правової соціальної демократичної держави, поділу права на публічне та приватне, непорушності приватної власності, характерні для європейської правової традиції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тім, сьогодні не можна констатувати, що ПС України є повноправним членом романо-германської сім'ї. Повернення постсоціалістичних країн до романо-германського права відбувається різними темпами. Так, щодо  ПС деяких країн Східної Європи (зокрема, Польщі, Чехії) вже сьогодні можна зробити висновок про відсутність перешкод до їх «усиновлення» романо-германським правом. Вступ цих країн до ЄС символізує остаточне повернення їх правових систем до романо-германськ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Constantia"/>
              </a:rPr>
              <a:t>Дякую за увагу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ПРАВОВА СИСТЕМА </a:t>
            </a: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І 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СИСТЕМА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8584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«правова система» відображає не стільки внутрішню структуру права, скільки автономність і своєрідність правової системи як самостійного соціального утворенн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«система права» відображає порядок побудови і взаємозв'язків між нормами, інститутами та галузями права конкретної держав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Правова сім‘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це певна сукупність правових систем, об'єднаних спільністю історичного формування, структури права, його джерел, провідних галузей та інститутів, правозастосування, правосвідомості, понятійно-категоріального апарату юридичної нау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8 правових сімей згідно </a:t>
            </a:r>
            <a:br>
              <a:rPr sz="4900"/>
            </a:b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К. Цвайгерту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920960"/>
            <a:ext cx="4357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ро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гер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кандинав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галь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оціалістич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далекосхід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слам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ндусь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Інші класифікації правових систе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Чисті правові систе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4000"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onstantia"/>
              </a:rPr>
              <a:t>Правові системи змішаного типу («гібридні»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Західні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правові системи і </a:t>
            </a: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традиційні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авові системи, що існують у межах більшості азіатських та африканських правових систем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об'єднують правила та інститути,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що походять з різних правових систем і взаємодіють між собою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До змішаних належать, зокрема, правові системи Філіппін, Японії, Шрі Ланкі, Маврикії, Камерун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Така змішаність відображає, а іноді сприяє проявам справжнього </a:t>
            </a: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юридичного плюралізму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upload.wikimedia.org/wikipedia/commons/thumb/f/f5/Legal_systems_in_Europe.svg/290px-Legal_systems_in_Europe.svg.png"/>
          <p:cNvPicPr/>
          <p:nvPr/>
        </p:nvPicPr>
        <p:blipFill>
          <a:blip r:embed="rId1"/>
          <a:stretch/>
        </p:blipFill>
        <p:spPr>
          <a:xfrm>
            <a:off x="395280" y="1341360"/>
            <a:ext cx="4176720" cy="4032360"/>
          </a:xfrm>
          <a:prstGeom prst="rect">
            <a:avLst/>
          </a:prstGeom>
          <a:ln w="0">
            <a:noFill/>
          </a:ln>
        </p:spPr>
      </p:pic>
      <p:sp>
        <p:nvSpPr>
          <p:cNvPr id="212" name="Скругленный прямоугольник 4"/>
          <p:cNvSpPr/>
          <p:nvPr/>
        </p:nvSpPr>
        <p:spPr>
          <a:xfrm>
            <a:off x="619200" y="404640"/>
            <a:ext cx="784836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Групи романо-германського права в Європ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300560" cy="244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Розвинуті та нерозвинуті правові систем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Розвинуті правові системи —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 системи, в яких розкрилися, розгорнулись якості писан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 них право є утворенням високого інтелектуального порядку, що виступає в суспільному житті як самостійний і сильний соціальний феноме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70c0"/>
                </a:solidFill>
                <a:latin typeface="Constantia"/>
              </a:rPr>
              <a:t>Нерозвинут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— це ті системи, в яких не розкрились, не розгорнулись якості права як самостійного і сильного соціального феномена, що відіграє особливу роль у житті суспільст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и системами в сучасному світі є релігійно-традиційні правові системи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снови рішень життєвих ситуацій тут взагалі перебувають поза правом — вони вкорінені у традиції, у релігійні норми, у постулати ідеології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40:06Z</dcterms:created>
  <dc:creator>1</dc:creator>
  <dc:description/>
  <dc:language>en-US</dc:language>
  <cp:lastModifiedBy>User</cp:lastModifiedBy>
  <dcterms:modified xsi:type="dcterms:W3CDTF">2020-09-02T09:12:21Z</dcterms:modified>
  <cp:revision>85</cp:revision>
  <dc:subject/>
  <dc:title>ДЕРЖАВНО-ПРАВОВІ ВЧЕННЯ ЗАХІДНОЇ ЄВРОПИ ДОБИ СЕРЕДНЬОВІЧЧЯ</dc:title>
</cp:coreProperties>
</file>