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E83-B034-46B0-8A27-6A381003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86E-5E37-4A42-923D-FFBE7D18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6E6-5E16-439A-A50C-AD94FBB0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DE6-98CF-4F78-BF9E-372467BE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5EC-83CC-4550-A392-680F84B7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DC6D-789D-44DD-BCD6-6922DD85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2E71-2C19-4D88-82FD-4DF61B45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FB1B-7EF5-40B3-AF4B-9031CA36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736B-CF8F-4913-A175-04BB101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E700-B36C-4529-9DDB-258854B7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3F3D-D1E5-4B81-B4E2-1E72D33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504-8AEA-4AA0-92B2-AEC37E9A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72C-0996-4DE2-8566-8A4631B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BB8-4357-42CB-A09F-DDDAC93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2993-4B02-4E92-9C1D-3CCE0BD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AAD8-9CF7-4907-8926-7B1BF706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0C27-E719-4577-AC73-EA5613F3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641D-BF07-4B51-B9F7-BC673779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5E4A-8E88-493A-A407-BFA14C7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6D3F-E1BA-4111-B82C-C1621AC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801A-5A91-4535-B9D0-294A067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D3DA-4E14-4101-9511-040A2D4A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0E3-1B17-4EA5-AEF4-FE35850A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98B3-BE0E-485A-945A-DB08E9C8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CB09-E77A-4A5A-AB57-A63F29E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78F3-B9BD-4668-AD40-EA3A49B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C56F-A3EC-412F-A33B-BD84CE7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8E71-1E21-4E6D-8CBE-3B85AE0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4A71-D1B2-45A0-A762-5B72B0B0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32D0-7D8B-4808-9A36-662BFA6A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5F242-1F28-4535-8F28-F8B0D11F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CFB2-6D19-457B-9897-D1DC09E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59E2-DB26-4023-8F4D-A1C04BD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D0B-4AD5-49E6-923E-3437204C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FBF6-82E8-421C-8B71-B72359DF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9DC3-514D-4055-BB84-F897DF6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C1F8-5169-413B-96EA-D8778A0E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4E78-4D97-43DA-AF74-C03844F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6A72-54B7-4B2F-AD62-3E487E8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9ABC-39C5-4BE5-BBD9-CAF8DC5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D109-F725-4C41-A45A-291DEFA2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5B28-A34A-41A4-8907-03A2586A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E77E-28D6-47FC-896D-B1FAC962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6DA-1ACA-4A16-BEB6-950FC847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A3F-F06F-44EB-A9FD-1204BDB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0E3-A062-4E07-9442-FB39180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CD2-B281-4AD4-8901-8DD5430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E94-2454-4EEB-A865-9E0F721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D820-2C2D-480C-A6B4-162D97B55F1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3A68-055D-4AAC-A5D8-7A11F4BC821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FD9C-1F79-4321-BC38-FF1EE3B9E1E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37D7-B8A9-4675-B5E7-DEE6E7E8F9A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61596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onstantia"/>
              </a:rPr>
              <a:t>АКТУАЛЬНІ ПРОБЛЕМИ ВЗАЄМОДІЇ ПРАВОВИХ  СИСТЕМ СУЧАСНОСТІ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хема 2" descr=""/>
          <p:cNvPicPr/>
          <p:nvPr/>
        </p:nvPicPr>
        <p:blipFill>
          <a:blip r:embed="rId1"/>
          <a:stretch/>
        </p:blipFill>
        <p:spPr>
          <a:xfrm>
            <a:off x="79200" y="324000"/>
            <a:ext cx="836316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це правової системи України серед правових систем світ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, акцент ставити на панівній правовій культурі та правосвідомості – необхідно погодитися з прибічниками концепції трьох шляхів, визнати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самобутність правової системи 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України і віднести її до слов'янської (євразійської) правов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якщо домінуючим вважати юридичну техніку (структуру джерел права та системи права, особливості способів тлумачення та процесу правозастосування), то більш виваженою є концепція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овернення до романо-германського права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ьогодні не існує суттєвих відмінностей національної  ПС України від романо-германського права ні за способами створення правових норм, ні за способами їх систематизації, ні за способами їх тлумачення, ні за способами їх використання у правозастосовній практиці. </a:t>
            </a:r>
            <a:r>
              <a:rPr b="0" lang="uk-UA" sz="1600" spc="-1" strike="noStrike">
                <a:solidFill>
                  <a:srgbClr val="00b050"/>
                </a:solidFill>
                <a:latin typeface="Constantia"/>
              </a:rPr>
              <a:t>Певний рух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 зроблений і в напрямку зміни праворозуміння: офіційно визнано ідеї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рховен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ства права, пріоритету прав людини, правової соціальної демократичної держави, поділу права на публічне та приватне, непорушності приватної власності, характерні для європейської правової традиції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тім, сьогодні не можна констатувати, що ПС України є повноправним членом романо-германської сім'ї. Повернення постсоціалістичних країн до романо-германського права відбувається різними темпами. Так, щодо  ПС деяких країн Східної Європи (зокрема, Польщі, Чехії) вже сьогодні можна зробити висновок про відсутність перешкод до їх «усиновлення» романо-германським правом. Вступ цих країн до ЄС символізує остаточне повернення їх правових систем до романо-германської сім'ї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c00000"/>
                </a:solidFill>
                <a:latin typeface="Calibri"/>
              </a:rPr>
              <a:t>Зближення правових систем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ає закономірний характер, зумовлений об'єктивними потребами розвитку людства на сучасному етапі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стихій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357520"/>
            <a:ext cx="40384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роцес відбувається </a:t>
            </a:r>
            <a:r>
              <a:rPr b="1" lang="uk-UA" sz="2800" spc="-1" strike="noStrike">
                <a:solidFill>
                  <a:srgbClr val="c00000"/>
                </a:solidFill>
                <a:latin typeface="Constantia"/>
              </a:rPr>
              <a:t>планомір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Процес зближення національних правових систем передбачає </a:t>
            </a:r>
            <a:br>
              <a:rPr sz="4000"/>
            </a:b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(на думку Ю.О.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ихомирова)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1) розроблення загальної політики державного правового розвитк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onstantia"/>
              </a:rPr>
              <a:t>2) здійснення заходів із подолання правових відміннос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3) вживання   заходів   із   вироблення   спільних   юридичних прави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upload.wikimedia.org/wikipedia/commons/thumb/2/2e/European-parliament-brussels-inside.JPG/300px-European-parliament-brussels-inside.JPG"/>
          <p:cNvPicPr/>
          <p:nvPr/>
        </p:nvPicPr>
        <p:blipFill>
          <a:blip r:embed="rId1"/>
          <a:stretch/>
        </p:blipFill>
        <p:spPr>
          <a:xfrm>
            <a:off x="155520" y="142920"/>
            <a:ext cx="791676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оцес гармонізації нормативно-правової бази передбачає </a:t>
            </a: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наявність об'єктивних умов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в тій чи іншій сфері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4929120"/>
            <a:ext cx="361476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середині однієї правової сім‘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3240" y="485784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ж правовими системами, що належать різним правовим сім'я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img.pravda.com.ua/images/doc/6/b/6b4efbb-113.jpg"/>
          <p:cNvPicPr/>
          <p:nvPr/>
        </p:nvPicPr>
        <p:blipFill>
          <a:blip r:embed="rId1"/>
          <a:stretch/>
        </p:blipFill>
        <p:spPr>
          <a:xfrm>
            <a:off x="1143000" y="357120"/>
            <a:ext cx="60008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472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Базовими документами, що визначають процес адаптації законодавства України до законодавства ЄС є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 прийняті Радою Європи на Копенгагенському саміті в 1993 р.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екларація і Угода про партнерство та співпрацю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між Україною і Європейськими Співтовариствами та ї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ржавамичленам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994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)Указ Президента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програму інтеграції України в Європейський Союз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» 2000 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) Закон Україн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«Про Загальнодержавну програму адаптації законодавства України до законодавства Європейського Союзу»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004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onstantia"/>
              </a:rPr>
              <a:t>Дякую за увагу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ПРАВОВА СИСТЕМА </a:t>
            </a: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І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СИСТЕМА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«правова система» відображає не стільки внутрішню структуру права, скільки автономність і своєрідність правової системи як самостійного соціального утвор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Constantia"/>
              </a:rPr>
              <a:t>«система права» відображає порядок побудови і взаємозв'язків між нормами, інститутами та галузями права конкретної держав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вова сім‘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це певна сукупність правових систем, об'єднаних спільністю історичного формування, структури права, його джерел, провідних галузей та інститутів, правозастосування, правосвідомості, понятійно-категоріального апарату юридичної нау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8 правових сімей згідно </a:t>
            </a:r>
            <a:br>
              <a:rPr sz="4900"/>
            </a:br>
            <a:r>
              <a:rPr b="0" lang="uk-UA" sz="4900" spc="-1" strike="noStrike">
                <a:solidFill>
                  <a:srgbClr val="c00000"/>
                </a:solidFill>
                <a:latin typeface="Calibri"/>
              </a:rPr>
              <a:t>К. Цвайгерту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920960"/>
            <a:ext cx="4357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ро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герман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кандинав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соціалістич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далекосхідн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сламсь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Індусь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7030a0"/>
                </a:solidFill>
                <a:latin typeface="Calibri"/>
              </a:rPr>
              <a:t>Інші класифікації правових сист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nstantia"/>
              </a:rPr>
              <a:t>Чисті правові систе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onstantia"/>
              </a:rPr>
              <a:t>Правові системи змішаного типу («гібридні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Західні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правові системи і </a:t>
            </a: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традиційні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авові системи, що існують у межах більшості азіатських та африканських правових систе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onstantia"/>
              </a:rPr>
              <a:t>об'єднують правила та інститути,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що походять з різних правових систем і взаємодіють між собо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До змішаних належать, зокрема, правові системи Філіппін, Японії, Шрі Ланкі, Маврикії, Камерун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Така змішаність відображає, а іноді сприяє проявам справжнього </a:t>
            </a: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юридичного плюралізму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upload.wikimedia.org/wikipedia/commons/thumb/f/f5/Legal_systems_in_Europe.svg/290px-Legal_systems_in_Europe.svg.png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4"/>
          <p:cNvSpPr/>
          <p:nvPr/>
        </p:nvSpPr>
        <p:spPr>
          <a:xfrm>
            <a:off x="619200" y="404640"/>
            <a:ext cx="784836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рупи романо-германського права в Європ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3005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Закономірності зближення правових систем і його фор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Шляхи і способи правової акультурації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onstantia"/>
              </a:rPr>
              <a:t>Відбувається на рівні юридичної науки і юридичної осві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3286080"/>
            <a:ext cx="404028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за допомог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ств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ої практик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кладення договор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дійснюється вченими і викладача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3286080"/>
            <a:ext cx="4284720" cy="307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на цій основі виділяють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конодавч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до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говір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октринальна правова акультураці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озвинуті та нерозвинуті правові систе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Розвинуті правові системи —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 системи, в яких розкрилися, розгорнулись якості писан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 них право є утворенням високого інтелектуального порядку, що виступає в суспільному житті як самостійний і сильний соціальний феном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Constantia"/>
              </a:rPr>
              <a:t>Нерозвинут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— це ті системи, в яких не розкрились, не розгорнулись якості права як самостійного і сильного соціального феномена, що відіграє особливу роль у житті суспіль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Такими системами в сучасному світі є релігійно-традиційні правові систем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снови рішень життєвих ситуацій тут взагалі перебувають поза правом — вони вкорінені у традиції, у релігійні норми, у постулати ідеології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40:06Z</dcterms:created>
  <dc:creator>1</dc:creator>
  <dc:description/>
  <dc:language>en-US</dc:language>
  <cp:lastModifiedBy>User</cp:lastModifiedBy>
  <dcterms:modified xsi:type="dcterms:W3CDTF">2020-09-02T09:12:21Z</dcterms:modified>
  <cp:revision>85</cp:revision>
  <dc:subject/>
  <dc:title>ДЕРЖАВНО-ПРАВОВІ ВЧЕННЯ ЗАХІДНОЇ ЄВРОПИ ДОБИ СЕРЕДНЬОВІЧЧЯ</dc:title>
</cp:coreProperties>
</file>