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2C1-D21B-4478-AF45-05A09B38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8326-46D6-4FBB-B4FE-CDB7680F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3B39-6043-4EF4-B09A-30969370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AA8-2C91-4E08-B940-8860AB8E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77AD-0CB5-4DC9-A33A-689EBD2C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6D77-34C6-4645-9DA8-01D59978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9077-10C4-47A4-AACA-7365B3B9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0EEA-A940-4772-88A0-7E04EDB7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58EA-D86E-4063-B6E9-7F85E58C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C6E2-15A4-47C2-A555-33E678A9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BDCE-447D-4FF7-BDE8-616B8554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DAB-9399-4FFB-81AB-732EADBA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3D92-EC4F-486D-8536-3BCE3BA0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B0B9-8262-49F3-B1F3-49C78413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A2C7-8E2D-49A9-B6DD-3E8A7843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1B5A-6772-4EFB-96F0-32B3EE0D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308B-A9A3-4E95-A4D3-2C01E96C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0F9B6-38F9-4718-93C8-8638D62A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5A482-A73F-48B0-A10A-2E4AA746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B2CE2-87FE-4036-A78A-31E9AF30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F98AF-BDD7-495B-97EC-2DF779DD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1FD3A-EB5D-4662-A89A-3EFDB08C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4C1F-64CE-44DF-8806-389A0A13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5FB8D-BC48-44D4-B759-C7AEEA45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0AC1D-AEEF-4658-97E9-B2B1A0B1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3F526-DD16-47E7-8BFD-0863A3AF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F3294-7585-47BE-9B7D-BA7CAF1D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C3169-E932-4C69-A5DF-837F310B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6D395-7A5F-471C-B026-E9B8F87A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DA0E6-C778-4372-9194-1F72F960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71289-67C3-4ADA-8506-6A1C9BB9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90EA0-11EB-4FD9-B042-CCFEB5EA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C326C-351A-4396-8AEB-F6FEF223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309-1647-48B6-BFC4-2517D4FF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8BB08-0139-4FF2-AE76-DB923E11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85A4A-5DF7-4570-8B22-5DCE496C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AC842-C400-45EB-92F0-33D02CF8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49661-D400-4794-8FFA-36F3DF85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142C0-DF31-4573-960F-B0253876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86912-A2D7-4CFB-913E-10BCA2E5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1F8BF-D44A-4028-83A6-C5684AD1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8CFDA-585B-42AE-9A1E-11AC8F4E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1E65E-9E85-4D36-98DA-8AB3B1BD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DDA9-A30B-49A4-97AF-B328654D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6B2-40FB-4CD0-B63A-841F8F6D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A0A-F7D4-40C7-9B1C-ACAC8212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DC06-F912-4DE8-8AC3-CDB806DF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EB0-D872-4CA1-9B21-6B162915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CE4E-0D39-4730-A1CE-8BF60D2DBC5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074E-A8B1-4F8E-9B66-F36ABA24DFE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DEB7-ABA1-4A25-9627-A550D77D4FD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3615-D6F7-4B52-9056-FF1DA9E2A1E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7785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57232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Constantia"/>
              </a:rPr>
              <a:t>ЗАГАЛЬНА ХАРАКТЕРИСТИКА АНГЛО-АМЕРИКАНСЬКОЇ ПРАВОВОЇ СИСТЕМ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larisa\Рабочий стол\ПП\Порівняльне правознавство\англо-саксонська\Англія\Мидлсексская ратуша, где располагаются одновременно Судебный комитет и Верховный суд Великобритании.jpg"/>
          <p:cNvPicPr/>
          <p:nvPr/>
        </p:nvPicPr>
        <p:blipFill>
          <a:blip r:embed="rId1"/>
          <a:stretch/>
        </p:blipFill>
        <p:spPr>
          <a:xfrm>
            <a:off x="762120" y="576360"/>
            <a:ext cx="7619760" cy="5705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Право СШ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ає своїм історичним джерелом англійське загальне право, але на сьогодні є цілком самостійним і суттєво відрізняється від англійсько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larisa\Рабочий стол\ПП\Порівняльне правознавство\англо-саксонська\США\резиденция президента.JPG"/>
          <p:cNvPicPr/>
          <p:nvPr/>
        </p:nvPicPr>
        <p:blipFill>
          <a:blip r:embed="rId1"/>
          <a:stretch/>
        </p:blipFill>
        <p:spPr>
          <a:xfrm>
            <a:off x="762120" y="604800"/>
            <a:ext cx="7619760" cy="5648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larisa\Рабочий стол\ПП\Порівняльне правознавство\англо-саксонська\США\овальний кабинет.jpg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larisa\Рабочий стол\ПП\Порівняльне правознавство\англо-саксонська\США\Конгресс США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larisa\Рабочий стол\ПП\Порівняльне правознавство\англо-саксонська\США\Зал заседаний Сената.jpg"/>
          <p:cNvPicPr/>
          <p:nvPr/>
        </p:nvPicPr>
        <p:blipFill>
          <a:blip r:embed="rId1"/>
          <a:stretch/>
        </p:blipFill>
        <p:spPr>
          <a:xfrm>
            <a:off x="928800" y="714240"/>
            <a:ext cx="7030800" cy="5543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ана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larisa\Рабочий стол\ПП\Порівняльне правознавство\англо-саксонська\Канада\Будинок уряду в Едмонтоні, Альберта, Канада.jpg"/>
          <p:cNvPicPr/>
          <p:nvPr/>
        </p:nvPicPr>
        <p:blipFill>
          <a:blip r:embed="rId1"/>
          <a:stretch/>
        </p:blipFill>
        <p:spPr>
          <a:xfrm>
            <a:off x="1143000" y="714240"/>
            <a:ext cx="7174080" cy="4680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larisa\Рабочий стол\ПП\Порівняльне правознавство\англо-саксонська\Канада\Канадский парламент, Оттава.jpg"/>
          <p:cNvPicPr/>
          <p:nvPr/>
        </p:nvPicPr>
        <p:blipFill>
          <a:blip r:embed="rId1"/>
          <a:stretch/>
        </p:blipFill>
        <p:spPr>
          <a:xfrm>
            <a:off x="1092240" y="495360"/>
            <a:ext cx="695952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larisa\Рабочий стол\ПП\Порівняльне правознавство\англо-саксонська\Канада\зал Сената..JPG"/>
          <p:cNvPicPr/>
          <p:nvPr/>
        </p:nvPicPr>
        <p:blipFill>
          <a:blip r:embed="rId1"/>
          <a:stretch/>
        </p:blipFill>
        <p:spPr>
          <a:xfrm>
            <a:off x="1928880" y="642960"/>
            <a:ext cx="5479920" cy="5472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. Особливості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Основні етапи розвитку англійської правової систе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3. Виникнення та реформування загального пра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4. Загальне право: поняття та особливост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5. Право справедливості і його співвідношення з загальним прав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6. Джерела права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larisa\Рабочий стол\ПП\Порівняльне правознавство\англо-саксонська\Канада\зал сената.JPG"/>
          <p:cNvPicPr/>
          <p:nvPr/>
        </p:nvPicPr>
        <p:blipFill>
          <a:blip r:embed="rId1"/>
          <a:stretch/>
        </p:blipFill>
        <p:spPr>
          <a:xfrm>
            <a:off x="1214280" y="1143000"/>
            <a:ext cx="7318440" cy="4859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larisa\Рабочий стол\ПП\Порівняльне правознавство\англо-саксонська\Канада\официальная резиденция генерал-губернатора Канады.jpg"/>
          <p:cNvPicPr/>
          <p:nvPr/>
        </p:nvPicPr>
        <p:blipFill>
          <a:blip r:embed="rId1"/>
          <a:stretch/>
        </p:blipFill>
        <p:spPr>
          <a:xfrm>
            <a:off x="127080" y="495360"/>
            <a:ext cx="888984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</a:t>
            </a:r>
            <a:r>
              <a:rPr b="1" lang="uk-UA" sz="4400" spc="-1" strike="noStrike">
                <a:solidFill>
                  <a:srgbClr val="04617b"/>
                </a:solidFill>
                <a:latin typeface="Calibri"/>
              </a:rPr>
              <a:t>нгло-американська правова сім‘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 'я англо-америка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підкреслює той факт, що саме англійське та американське право становлять основу двох самостійних груп і домінують у цій правовій сім'ї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загальн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икористання якого пояснюється тим, що в розвитку правових систем цієї правової сім'ї основна роль належить нормам, створеним судовою практикою (тобто загальному праву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англосаксо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демонструє те, що правові системи, які входять до цієї правової сім'ї, склалися під впливом системи і принципів англійськ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й термін, стосується тільки найдавнішого періоду розвитку права Англії.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ступність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рецепції римськ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уддівський за своєю природою та змістом характер пра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Розвиток загального права юристами-практик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енш абстрактний характер норм, ніж у романо-германському прав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окремлення в англосаксонському праві прецедентного та статутн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Існування в англосаксонському праві загального права та права справедливост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принципового значення поділу на приватне і публіч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ість поділу на матеріальне і процесуаль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епоширеність кодификації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Змагальна судова процеду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а роль інституту суду присяжни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Основні етапи розвитку англійської правової систе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І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: англійське право до норманського завоювання (до 1066р.), або англосаксонський пері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формування системи загального права завдяки діяльності королівських суддів (1066р.—друга половина ХІУст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I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еформування архаїчного загального права і перехід до сучасного права (друга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V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 — сере­д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V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подальший розвиток системи загального права, набуття нею сучасних рис (середина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ст. — нинішні час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"/>
              </a:rPr>
              <a:t>3. Виникнення та реформування загаль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ормани змогли запровадити загальне для всієї території завойованої країни право, звідси і назва англійської системи права —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загальне пра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запровадження загальної для всієї країни правової системи створили систему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суворо централізованих судів, підзвітних лише королю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головним королівським судом, заснованим як противага місцевим судам, була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Королівська рада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У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І століттях у системі королівських судів з‘явилася низка нових судових органі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57200"/>
            <a:ext cx="8472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азначейств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підрозділ Королівської ради і займався податками і зборами. Згодом - почав вирішувати спори фінансового характеру і податкові справ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ассиз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що розглядав справи у виїзних засіданнях. Країна була розділена округами. Судді, переміщаючись по цих округах, проводили засідання суду в кожному місті округу. З часом стали займатися виключно кримінальними справ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низка нових судових органів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загальних позов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створений для вирішення в основному спорів майнового характеру між приватними особ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оролівської лав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створений як орган з розгляду публічних справ і питань, що торкалися інтересів держави (на суді головував корол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ва цих судів призводить до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еншення значення Королівської рад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як судового орган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Англії існували ще кілька видів судів, які не належали до королівських: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канонічні (церковні) суди, місцев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и громади, суди барона (феодала), суди міст, морські суд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ощ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джерел правових норм в Англії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толіття переважав правовий звича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II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і англійські судді починають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вертатися до попередніх судових ріш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исою початкового періоду розвитку англійського загального права є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мінування процесуального права над матеріальним пра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Наказ суду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це припис коро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англійське загальне пра­во піддається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реформуванн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user\Desktop\Порівняльне правознавство\Порівняльне правознавство\0034-034-Karta-rasprostranenija-pravovykh-sem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Найсуттєвішими </a:t>
            </a:r>
            <a:r>
              <a:rPr b="1" i="1" lang="uk-UA" sz="4000" spc="-1" strike="noStrike">
                <a:solidFill>
                  <a:srgbClr val="00b0f0"/>
                </a:solidFill>
                <a:latin typeface="Calibri"/>
              </a:rPr>
              <a:t>недоліками </a:t>
            </a: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загального права бул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надзвичайна суворість і негнучкість його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изнання лише єдиної санкції в цивільному праві - грошової компенсації, а в кримінальному праві одного покарання — стра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сутність засобів забезпечення явки свідків до суд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вільність і дорожнеча судової процедур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безліч дорікань на адресу системи наказів суду, що перешкоджала демократизації суду і не враховувала потреби правового розвитку краї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і у становленні сучасної правової системи Англії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1. Юридичні фікції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виникл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епоху середньовіччя як прийом, що дозволяє обійти право під виглядом суворого дотримання його приписів. Використання юридичних фікцій в англійському праві мало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на ме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ом 'якшення жорстокості норм середньовічного кримінального права (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ільги духівництву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б)розширення переліку наказів суд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в) надання суддям можливості обходити вимоги загального права про підсудність спра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раво справедливості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помагало вийти за вузькі межі загального права. 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лорд-канцлер переходить до практики вирішення в порядку нової правової процедури позовів, з якими піддані звертаються до короля. По суті, це також прецедентне право, але прецеденти тут створюються не через королівські (вестмінстерські) суди, а іншим способом (через діяльність лорда-канцлера) і до того ж на інших принци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1"/>
          <p:cNvGraphicFramePr/>
          <p:nvPr/>
        </p:nvGraphicFramePr>
        <p:xfrm>
          <a:off x="285840" y="428760"/>
          <a:ext cx="8661240" cy="56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866124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500" spc="-1" strike="noStrike">
                <a:solidFill>
                  <a:srgbClr val="04617b"/>
                </a:solidFill>
                <a:latin typeface="Calibri"/>
              </a:rPr>
              <a:t>1. Англійське пра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сідає домінуюче місце в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сім'ї загального пра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Constantia"/>
              </a:rPr>
              <a:t>Сфера застосування англійського права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, в принципі,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обмежується Англією і Вельс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 Північній Ірландії, Шотландії, на островах Ла-Маншу й острові Мен </a:t>
            </a:r>
            <a:r>
              <a:rPr b="1" lang="uk-UA" sz="2000" spc="-1" strike="noStrike">
                <a:solidFill>
                  <a:srgbClr val="c00000"/>
                </a:solidFill>
                <a:latin typeface="Constantia"/>
              </a:rPr>
              <a:t>не діє англійське право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У групу англійського права входять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равові системи Північної Ірландії, Ірландії, Канади (крім Квебеку), Австралії, Нової Зеландії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також право деяких інших держав —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колишніх колоній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ританської імперії: наприклад, Антигуа та Барбуда, Багамів, Барбадосу, Белізу, Гренади, Домініки, Науру, Сент Кітцу і Невісу, островів Тонга, Фіджі, Ямайки (на цей час ці держави є членами Британської Співдружності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 цієї групи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тяжіють </a:t>
            </a:r>
            <a:r>
              <a:rPr b="0" i="1" lang="uk-UA" sz="2000" spc="-1" strike="noStrike">
                <a:solidFill>
                  <a:srgbClr val="c00000"/>
                </a:solidFill>
                <a:latin typeface="Constantia"/>
              </a:rPr>
              <a:t>змішан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ани, Гамбії, Нігерії, Сьєрра-Леоне, Танзанії, Бангладеш, Брунею, Індії, Пакистану, Сингапуру тощо, де запозичене англійське загальне право взаємодіє з релігійними і традиційними правовими систем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larisa\Рабочий стол\ПП\Порівняльне правознавство\англо-саксонська\Англія\Здания Парламента (Вестминстерский дворец)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larisa\Рабочий стол\ПП\Порівняльне правознавство\англо-саксонська\Англія\Зал заседаний шотландского парламента.jpg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larisa\Рабочий стол\ПП\Порівняльне правознавство\англо-саксонська\Англія\Зал заседаний суда.JPG"/>
          <p:cNvPicPr/>
          <p:nvPr/>
        </p:nvPicPr>
        <p:blipFill>
          <a:blip r:embed="rId1"/>
          <a:stretch/>
        </p:blipFill>
        <p:spPr>
          <a:xfrm>
            <a:off x="1214280" y="1071720"/>
            <a:ext cx="6383520" cy="4787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27:57Z</dcterms:modified>
  <cp:revision>31</cp:revision>
  <dc:subject/>
  <dc:title>ЛЕКЦІЯ 3</dc:title>
</cp:coreProperties>
</file>