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wmf" ContentType="image/x-wmf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F2C2-F935-4D40-8C9B-F43423435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71DD-5313-4891-BDD8-9149C873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F088-1B20-4DD5-8A32-0723B207C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471D-12B4-416E-8080-ABC15994C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CA32F-6145-4B27-99E7-57AB6211D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988E8-E176-4463-9920-79D21C99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4CCB-B34D-4A92-9CA9-8781C65E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7CD2-A909-4A63-A837-8522528B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BC10-6A29-45AD-8BF1-9B361FC0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DF84-AB14-4718-984B-1F89B1F8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8A94-6B22-48BA-BF9F-9563BB3C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C6F8-6C0A-47BB-BB3C-923F33C5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E388D-5041-4FE3-8AF1-6E6D0EDC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CBCE-6272-4F53-A55D-DD2CA2F2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EC0D-73ED-472A-B339-9A0EBE5B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D50FB-6CF3-44EB-94BD-44AC6A400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6D686-114A-438B-88D0-A414720B8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B5BA3-6D83-472F-ACAD-71C1FDA0B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F4A97-1A23-4653-880B-1621A87F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BC64C-5879-42D4-81B9-0E766315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596DD-7A0A-4AA8-9167-10247259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916D0-1DF7-4440-96EC-AD8CFCEA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5B54-EE4D-46F8-BEE8-D4C1DC35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19C13-7274-4F44-B039-33077B33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4E9CE-9DA1-4B74-80CE-0F4AFD22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ED01E-1610-4A50-835F-2310F612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26E77-9BD9-41BF-959F-652CD59B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54C50-11F6-41B7-B982-03BF4035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39351-C60C-401B-81C2-FCB612C1D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92984-8813-4E80-B331-0A995EEFF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70EC8-DD2C-461E-BD2B-CC14D1E8F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2D25F-0C1A-438A-AE6A-456E2355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AEA35-B056-4507-A634-2686F314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3619-64DD-499D-AB4D-A0731324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FB461-1691-44FA-A947-54F5360E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A17F3-FB8F-4AD8-A67D-60E1D85F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BCE68-CACA-4571-911F-83629F4B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C33D8-4C41-4461-B124-DCF1B75D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43BCA-61E6-43B7-B1BD-F3F60634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128C0-543A-4A4D-AF97-D1E5B83B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684EA-94A1-47C9-ADB1-6CDBB489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ACB0C-A4BB-44B9-A346-F8B8B00D0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47A77-2AA0-4817-A904-1395CAD52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7D81-BA8C-4ECA-A5E4-54C598EC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428E-23B7-4ADE-BA60-DA9E2B56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234E-8812-424A-9A1C-AAAD1044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785B-3A23-4774-8647-EB5C014B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BD92-9403-44AB-9CC9-A7437F42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ED43-F299-4D6A-A5E6-D1603076AD8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2BBF-007C-4A86-8494-06DF91F5BEC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8838-C665-4A86-B735-50B6D5FACBC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2DF7-CEE4-483B-A836-7B5836A84F3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82560" y="853920"/>
            <a:ext cx="7785000" cy="16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28760" y="2571480"/>
            <a:ext cx="8572320" cy="3066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7030a0"/>
                </a:solidFill>
                <a:latin typeface="Constantia"/>
              </a:rPr>
              <a:t>ЗАГАЛЬНА ХАРАКТЕРИСТИКА АНГЛО-АМЕРИКАНСЬКОЇ ПРАВОВОЇ СИСТЕМИ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C:\Documents and Settings\larisa\Рабочий стол\ПП\Порівняльне правознавство\англо-саксонська\Англія\Мидлсексская ратуша, где располагаются одновременно Судебный комитет и Верховный суд Великобритании.jpg"/>
          <p:cNvPicPr/>
          <p:nvPr/>
        </p:nvPicPr>
        <p:blipFill>
          <a:blip r:embed="rId1"/>
          <a:stretch/>
        </p:blipFill>
        <p:spPr>
          <a:xfrm>
            <a:off x="762120" y="576360"/>
            <a:ext cx="7619760" cy="5705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000" spc="-1" strike="noStrike">
                <a:solidFill>
                  <a:srgbClr val="04617b"/>
                </a:solidFill>
                <a:latin typeface="Calibri"/>
              </a:rPr>
              <a:t>Право СШ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має своїм історичним джерелом англійське загальне право, але на сьогодні є цілком самостійним і суттєво відрізняється від англійського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C:\Documents and Settings\larisa\Рабочий стол\ПП\Порівняльне правознавство\англо-саксонська\США\резиденция президента.JPG"/>
          <p:cNvPicPr/>
          <p:nvPr/>
        </p:nvPicPr>
        <p:blipFill>
          <a:blip r:embed="rId1"/>
          <a:stretch/>
        </p:blipFill>
        <p:spPr>
          <a:xfrm>
            <a:off x="762120" y="604800"/>
            <a:ext cx="7619760" cy="56484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C:\Documents and Settings\larisa\Рабочий стол\ПП\Порівняльне правознавство\англо-саксонська\США\овальний кабинет.jpg"/>
          <p:cNvPicPr/>
          <p:nvPr/>
        </p:nvPicPr>
        <p:blipFill>
          <a:blip r:embed="rId1"/>
          <a:stretch/>
        </p:blipFill>
        <p:spPr>
          <a:xfrm>
            <a:off x="762120" y="1028880"/>
            <a:ext cx="7619760" cy="48006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C:\Documents and Settings\larisa\Рабочий стол\ПП\Порівняльне правознавство\англо-саксонська\США\Конгресс США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C:\Documents and Settings\larisa\Рабочий стол\ПП\Порівняльне правознавство\англо-саксонська\США\Зал заседаний Сената.jpg"/>
          <p:cNvPicPr/>
          <p:nvPr/>
        </p:nvPicPr>
        <p:blipFill>
          <a:blip r:embed="rId1"/>
          <a:stretch/>
        </p:blipFill>
        <p:spPr>
          <a:xfrm>
            <a:off x="928800" y="714240"/>
            <a:ext cx="7030800" cy="55436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канад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C:\Documents and Settings\larisa\Рабочий стол\ПП\Порівняльне правознавство\англо-саксонська\Канада\Будинок уряду в Едмонтоні, Альберта, Канада.jpg"/>
          <p:cNvPicPr/>
          <p:nvPr/>
        </p:nvPicPr>
        <p:blipFill>
          <a:blip r:embed="rId1"/>
          <a:stretch/>
        </p:blipFill>
        <p:spPr>
          <a:xfrm>
            <a:off x="1143000" y="714240"/>
            <a:ext cx="7174080" cy="4680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C:\Documents and Settings\larisa\Рабочий стол\ПП\Порівняльне правознавство\англо-саксонська\Канада\Канадский парламент, Оттава.jpg"/>
          <p:cNvPicPr/>
          <p:nvPr/>
        </p:nvPicPr>
        <p:blipFill>
          <a:blip r:embed="rId1"/>
          <a:stretch/>
        </p:blipFill>
        <p:spPr>
          <a:xfrm>
            <a:off x="1092240" y="495360"/>
            <a:ext cx="6959520" cy="5867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C:\Documents and Settings\larisa\Рабочий стол\ПП\Порівняльне правознавство\англо-саксонська\Канада\зал Сената..JPG"/>
          <p:cNvPicPr/>
          <p:nvPr/>
        </p:nvPicPr>
        <p:blipFill>
          <a:blip r:embed="rId1"/>
          <a:stretch/>
        </p:blipFill>
        <p:spPr>
          <a:xfrm>
            <a:off x="1928880" y="642960"/>
            <a:ext cx="5479920" cy="5472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ПЛА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1. Особливості англо-американської правової сім'ї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2. Основні етапи розвитку англійської правової систе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3. Виникнення та реформування загального прав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4. Загальне право: поняття та особливості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5. Право справедливості і його співвідношення з загальним право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6. Джерела права англо-американської правової сім'ї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C:\Documents and Settings\larisa\Рабочий стол\ПП\Порівняльне правознавство\англо-саксонська\Канада\зал сената.JPG"/>
          <p:cNvPicPr/>
          <p:nvPr/>
        </p:nvPicPr>
        <p:blipFill>
          <a:blip r:embed="rId1"/>
          <a:stretch/>
        </p:blipFill>
        <p:spPr>
          <a:xfrm>
            <a:off x="1214280" y="1143000"/>
            <a:ext cx="7318440" cy="4859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C:\Documents and Settings\larisa\Рабочий стол\ПП\Порівняльне правознавство\англо-саксонська\Канада\официальная резиденция генерал-губернатора Канады.jpg"/>
          <p:cNvPicPr/>
          <p:nvPr/>
        </p:nvPicPr>
        <p:blipFill>
          <a:blip r:embed="rId1"/>
          <a:stretch/>
        </p:blipFill>
        <p:spPr>
          <a:xfrm>
            <a:off x="127080" y="495360"/>
            <a:ext cx="8889840" cy="5867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А</a:t>
            </a:r>
            <a:r>
              <a:rPr b="1" lang="uk-UA" sz="4400" spc="-1" strike="noStrike">
                <a:solidFill>
                  <a:srgbClr val="04617b"/>
                </a:solidFill>
                <a:latin typeface="Calibri"/>
              </a:rPr>
              <a:t>нгло-американська правова сім‘я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nstantia"/>
              </a:rPr>
              <a:t>«сім 'я англо-американського права»,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який підкреслює той факт, що саме англійське та американське право становлять основу двох самостійних груп і домінують у цій правовій сім'ї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nstantia"/>
              </a:rPr>
              <a:t>«сім'я загального права»,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використання якого пояснюється тим, що в розвитку правових систем цієї правової сім'ї основна роль належить нормам, створеним судовою практикою (тобто загальному праву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nstantia"/>
              </a:rPr>
              <a:t>«сім'я англосаксонського права»,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який демонструє те, що правові системи, які входять до цієї правової сім'ї, склалися під впливом системи і принципів англійського права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цей термін, стосується тільки найдавнішого періоду розвитку права Англії.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Особливості сім'ї англо-американськ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ступність прав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ідсутність рецепції римського прав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уддівський за своєю природою та змістом характер прав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Розвиток загального права юристами-практиками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Менш абстрактний характер норм, ніж у романо-германському праві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иокремлення в англосаксонському праві прецедентного та статутного прав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Особливості сім'ї англо-американськ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Існування в англосаксонському праві загального права та права справедливості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ідсутність принципового значення поділу на приватне і публічне право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ажливість поділу на матеріальне і процесуальне право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епоширеність кодификації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Змагальна судова процедур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ажлива роль інституту суду присяжних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Calibri"/>
              </a:rPr>
              <a:t>Основні етапи розвитку англійської правової систем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І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: англійське право до норманського завоювання (до 1066р.), або англосаксонський період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формування системи загального права завдяки діяльності королівських суддів (1066р.—друга половина ХІУст.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III</a:t>
            </a: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: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реформування архаїчного загального права і перехід до сучасного права (друга половина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XIV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т. — сере­дина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XIX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т.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IV</a:t>
            </a:r>
            <a:r>
              <a:rPr b="0" lang="ru-RU" sz="2400" spc="-1" strike="noStrike">
                <a:solidFill>
                  <a:srgbClr val="7030a0"/>
                </a:solidFill>
                <a:latin typeface="Constantia"/>
              </a:rPr>
              <a:t>: </a:t>
            </a: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подальший розвиток системи загального права, набуття нею сучасних рис (середина </a:t>
            </a:r>
            <a:r>
              <a:rPr b="0" lang="en-US" sz="2400" spc="-1" strike="noStrike">
                <a:solidFill>
                  <a:srgbClr val="7030a0"/>
                </a:solidFill>
                <a:latin typeface="Constantia"/>
              </a:rPr>
              <a:t>XIX </a:t>
            </a: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ст. — нинішні часи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7030a0"/>
                </a:solidFill>
                <a:latin typeface="Calibri"/>
              </a:rPr>
              <a:t>3. Виникнення та реформування загальн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Нормани змогли запровадити загальне для всієї території завойованої країни право, звідси і назва англійської системи права — </a:t>
            </a:r>
            <a:r>
              <a:rPr b="0" i="1" lang="uk-UA" sz="2600" spc="-1" strike="noStrike">
                <a:solidFill>
                  <a:srgbClr val="ff0000"/>
                </a:solidFill>
                <a:latin typeface="Constantia"/>
              </a:rPr>
              <a:t>загальне прав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для запровадження загальної для всієї країни правової системи створили систему </a:t>
            </a:r>
            <a:r>
              <a:rPr b="0" i="1" lang="uk-UA" sz="2600" spc="-1" strike="noStrike">
                <a:solidFill>
                  <a:srgbClr val="000000"/>
                </a:solidFill>
                <a:latin typeface="Constantia"/>
              </a:rPr>
              <a:t>суворо централізованих судів, підзвітних лише королю.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ершим головним королівським судом, заснованим як противага місцевим судам, була </a:t>
            </a:r>
            <a:r>
              <a:rPr b="0" i="1" lang="uk-UA" sz="2600" spc="-1" strike="noStrike">
                <a:solidFill>
                  <a:srgbClr val="ff0000"/>
                </a:solidFill>
                <a:latin typeface="Constantia"/>
              </a:rPr>
              <a:t>Королівська рада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У 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XII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—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XII</a:t>
            </a: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І століттях у системі королівських судів з‘явилася низка нових судових органів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6840" y="1357200"/>
            <a:ext cx="8472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казначейства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підрозділ Королівської ради і займався податками і зборами. Згодом - почав вирішувати спори фінансового характеру і податкові справ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ассизів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що розглядав справи у виїзних засіданнях. Країна була розділена округами. Судді, переміщаючись по цих округах, проводили засідання суду в кожному місті округу. З часом стали займатися виключно кримінальними справа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4617b"/>
                </a:solidFill>
                <a:latin typeface="Calibri"/>
              </a:rPr>
              <a:t>низка нових судових органів: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загальних позовів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створений для вирішення в основному спорів майнового характеру між приватними особам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королівської лав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— створений як орган з розгляду публічних справ і питань, що торкалися інтересів держави (на суді головував король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ява цих судів призводить до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зменшення значення Королівської рад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як судового орган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Англії існували ще кілька видів судів, які не належали до королівських: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канонічні (церковні) суди, місцеві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и громади, суди барона (феодала), суди міст, морські суд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тощ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еред джерел правових норм в Англії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до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толіття переважав правовий звича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III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олітті англійські судді починають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звертатися до попередніх судових рішен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рисою початкового періоду розвитку англійського загального права є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домінування процесуального права над матеріальним прав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Наказ суду</a:t>
            </a:r>
            <a:r>
              <a:rPr b="0" i="1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— це припис корол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оліття англійське загальне пра­во піддається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реформуванн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C:\Documents and Settings\user\Desktop\Порівняльне правознавство\Порівняльне правознавство\0034-034-Karta-rasprostranenija-pravovykh-semej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b0f0"/>
                </a:solidFill>
                <a:latin typeface="Calibri"/>
              </a:rPr>
              <a:t>Найсуттєвішими </a:t>
            </a:r>
            <a:r>
              <a:rPr b="1" i="1" lang="uk-UA" sz="4000" spc="-1" strike="noStrike">
                <a:solidFill>
                  <a:srgbClr val="00b0f0"/>
                </a:solidFill>
                <a:latin typeface="Calibri"/>
              </a:rPr>
              <a:t>недоліками </a:t>
            </a:r>
            <a:r>
              <a:rPr b="1" lang="uk-UA" sz="4000" spc="-1" strike="noStrike">
                <a:solidFill>
                  <a:srgbClr val="00b0f0"/>
                </a:solidFill>
                <a:latin typeface="Calibri"/>
              </a:rPr>
              <a:t>загального права були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400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- надзвичайна суворість і негнучкість його нор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- визнання лише єдиної санкції в цивільному праві - грошової компенсації, а в кримінальному праві одного покарання — стра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ідсутність засобів забезпечення явки свідків до суду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вільність і дорожнеча судової процедур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безліч дорікань на адресу системи наказів суду, що перешкоджала демократизації суду і не враховувала потреби правового розвитку країн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490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Інститути, що відіграли найбільш важливу роль у реформі архаїчних норм загального права і у становленні сучасної правової системи Англії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6840" y="1934640"/>
            <a:ext cx="8472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1. Юридичні фікції </a:t>
            </a:r>
            <a:r>
              <a:rPr b="0" i="1" lang="uk-UA" sz="2600" spc="-1" strike="noStrike">
                <a:solidFill>
                  <a:srgbClr val="000000"/>
                </a:solidFill>
                <a:latin typeface="Constantia"/>
              </a:rPr>
              <a:t>виникл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епоху середньовіччя як прийом, що дозволяє обійти право під виглядом суворого дотримання його приписів. Використання юридичних фікцій в англійському праві мало </a:t>
            </a:r>
            <a:r>
              <a:rPr b="0" lang="uk-UA" sz="2600" spc="-1" strike="noStrike">
                <a:solidFill>
                  <a:srgbClr val="00b0f0"/>
                </a:solidFill>
                <a:latin typeface="Constantia"/>
              </a:rPr>
              <a:t>на меті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а)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пом 'якшення жорстокості норм середньовічного кримінального права (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ільги духівництву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б)розширення переліку наказів суду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в) надання суддям можливості обходити вимоги загального права про підсудність спра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Calibri"/>
              </a:rPr>
              <a:t>Інститути, що відіграли найбільш важливу роль у реформі архаїчних норм загального права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Право справедливості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д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опомагало вийти за вузькі межі загального права. З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оліття лорд-канцлер переходить до практики вирішення в порядку нової правової процедури позовів, з якими піддані звертаються до короля. По суті, це також прецедентне право, але прецеденти тут створюються не через королівські (вестмінстерські) суди, а іншим способом (через діяльність лорда-канцлера) і до того ж на інших принципа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19080" y="701640"/>
            <a:ext cx="9180360" cy="25178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Object 1"/>
          <p:cNvGraphicFramePr/>
          <p:nvPr/>
        </p:nvGraphicFramePr>
        <p:xfrm>
          <a:off x="285840" y="428760"/>
          <a:ext cx="8661240" cy="56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428760"/>
                    <a:ext cx="8661240" cy="56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500" spc="-1" strike="noStrike">
                <a:solidFill>
                  <a:srgbClr val="04617b"/>
                </a:solidFill>
                <a:latin typeface="Calibri"/>
              </a:rPr>
              <a:t>1. Англійське право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осідає домінуюче місце в 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сім'ї загального прав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030a0"/>
                </a:solidFill>
                <a:latin typeface="Constantia"/>
              </a:rPr>
              <a:t>Сфера застосування англійського права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, в принципі, </a:t>
            </a: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обмежується Англією і Вельсом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У Північній Ірландії, Шотландії, на островах Ла-Маншу й острові Мен </a:t>
            </a:r>
            <a:r>
              <a:rPr b="1" lang="uk-UA" sz="2000" spc="-1" strike="noStrike">
                <a:solidFill>
                  <a:srgbClr val="c00000"/>
                </a:solidFill>
                <a:latin typeface="Constantia"/>
              </a:rPr>
              <a:t>не діє англійське право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У групу англійського права входять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равові системи Північної Ірландії, Ірландії, Канади (крім Квебеку), Австралії, Нової Зеландії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а також право деяких інших держав — </a:t>
            </a: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колишніх колоній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Британської імперії: наприклад, Антигуа та Барбуда, Багамів, Барбадосу, Белізу, Гренади, Домініки, Науру, Сент Кітцу і Невісу, островів Тонга, Фіджі, Ямайки (на цей час ці держави є членами Британської Співдружності)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До цієї групи </a:t>
            </a: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тяжіють </a:t>
            </a:r>
            <a:r>
              <a:rPr b="0" i="1" lang="uk-UA" sz="2000" spc="-1" strike="noStrike">
                <a:solidFill>
                  <a:srgbClr val="c00000"/>
                </a:solidFill>
                <a:latin typeface="Constantia"/>
              </a:rPr>
              <a:t>змішані правові системи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Гани, Гамбії, Нігерії, Сьєрра-Леоне, Танзанії, Бангладеш, Брунею, Індії, Пакистану, Сингапуру тощо, де запозичене англійське загальне право взаємодіє з релігійними і традиційними правовими системам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larisa\Рабочий стол\ПП\Порівняльне правознавство\англо-саксонська\Англія\Здания Парламента (Вестминстерский дворец).jpg"/>
          <p:cNvPicPr/>
          <p:nvPr/>
        </p:nvPicPr>
        <p:blipFill>
          <a:blip r:embed="rId1"/>
          <a:stretch/>
        </p:blipFill>
        <p:spPr>
          <a:xfrm>
            <a:off x="766800" y="571680"/>
            <a:ext cx="7610400" cy="5715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C:\Documents and Settings\larisa\Рабочий стол\ПП\Порівняльне правознавство\англо-саксонська\Англія\Зал заседаний шотландского парламента.jpg"/>
          <p:cNvPicPr/>
          <p:nvPr/>
        </p:nvPicPr>
        <p:blipFill>
          <a:blip r:embed="rId1"/>
          <a:stretch/>
        </p:blipFill>
        <p:spPr>
          <a:xfrm>
            <a:off x="762120" y="642960"/>
            <a:ext cx="7619760" cy="55720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C:\Documents and Settings\larisa\Рабочий стол\ПП\Порівняльне правознавство\англо-саксонська\Англія\Зал заседаний суда.JPG"/>
          <p:cNvPicPr/>
          <p:nvPr/>
        </p:nvPicPr>
        <p:blipFill>
          <a:blip r:embed="rId1"/>
          <a:stretch/>
        </p:blipFill>
        <p:spPr>
          <a:xfrm>
            <a:off x="1214280" y="1071720"/>
            <a:ext cx="6383520" cy="47876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0-09-02T08:27:57Z</dcterms:modified>
  <cp:revision>31</cp:revision>
  <dc:subject/>
  <dc:title>ЛЕКЦІЯ 3</dc:title>
</cp:coreProperties>
</file>