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A2E-9D24-4D6B-B365-D95BB4ED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CE8-3906-46AE-A6B9-892B2523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D75-4A00-4E56-BA6A-A375E4DA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697-287E-4142-AA83-37EE25FB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32D6-CA13-4471-8694-67BBE6EC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6BF-82BE-4B6C-AD74-F01F72D5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18E8-3FCA-4D60-A7D5-19FD7DAF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C09F-9D22-4D89-92CC-BF2B4B1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B872-DB35-4BFB-898D-558A43B9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F001-E597-41DD-8AEB-DF37E569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F2EC-95D8-44FF-A8A0-A0AAA03D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6AD-8C03-403F-A016-C4D12147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4E27-C1AB-4847-BF90-2534C33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5B14-4221-4CE0-96CC-5628329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9035-96BA-4763-8F74-F490FF9A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2C60-09B3-45F9-9FAE-89E119C2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EA69-ECEA-45A0-8C0C-64D95323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CEC3-F95A-48B3-85BE-7BC06B88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0079-AC0A-4F7D-A933-D6BCBEEA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1E70-7D7E-4011-8C99-62F446F8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0C1D-BC23-4898-B638-48BF2E55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C93C-08E2-4975-A71D-C8D51F29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937-1376-405B-AC2C-AF7A4F9D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A83D-28B5-4315-AD2C-2D2B4427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74E9-0820-48D8-A8B3-9475D64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BF52-19A8-4E4A-AB49-51C6F16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B31D-9BFC-403E-A34A-81BC8D8B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18798-4157-4FEC-891D-BBF4E95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C3B2-DC18-4C73-B8A6-BAD20204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896E-4BCF-4CA8-821A-3D0D4875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2CE52-D2B3-4A36-98D4-2A250589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6FB5-44C3-45FB-90B5-B8CB24C4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86205-16B8-474A-AABB-4BA45289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F96-DC15-4F60-BCF0-5909DC41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BA71-BCE4-43E0-B5D3-11F2C8B5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23167-186D-4419-B963-DFE098B8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C0E1-5916-4C96-9C7A-8AE66824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EC9D-8EC3-4801-A991-291C6BFC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4573-E3B9-4E3D-941A-2086E8FF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82A59-834F-4924-99FF-0CCCDF27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BF69-E82B-4CDE-A9AC-325D9BD8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27DC-A0DF-476D-AA3D-BDAE2694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7F430-092F-4C86-8C2D-B1FA4738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15F-B338-4858-B5E0-FBC364E7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D8A-1C55-41AC-8249-2907014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C9B-A7E1-4891-A2F6-B17257E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827-2297-4EB9-83A5-42412A5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82F-59DA-4CEB-B620-8D235AFC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EC40-8843-46A8-A75E-0587D93B356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E7A3-1DEE-426E-BCBA-55C6E4AA763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DB99-617B-4258-9D60-9D9EF7DFFD9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5B9B-9529-4AE9-8073-E27B96D9B36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853920"/>
            <a:ext cx="7785000" cy="16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572320" cy="30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onstantia"/>
              </a:rPr>
              <a:t>ЗАГАЛЬНА ХАРАКТЕРИСТИКА АНГЛО-АМЕРИКАНСЬКОЇ ПРАВОВОЇ СИСТЕМ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larisa\Рабочий стол\ПП\Порівняльне правознавство\англо-саксонська\Англія\Мидлсексская ратуша, где располагаются одновременно Судебный комитет и Верховный суд Великобритании.jpg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Право С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ає своїм історичним джерелом англійське загальне право, але на сьогодні є цілком самостійним і суттєво відрізняється від англійськ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larisa\Рабочий стол\ПП\Порівняльне правознавство\англо-саксонська\США\резиденция президента.JPG"/>
          <p:cNvPicPr/>
          <p:nvPr/>
        </p:nvPicPr>
        <p:blipFill>
          <a:blip r:embed="rId1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larisa\Рабочий стол\ПП\Порівняльне правознавство\англо-саксонська\США\овальний кабинет.jpg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larisa\Рабочий стол\ПП\Порівняльне правознавство\англо-саксонська\США\Конгресс СШ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larisa\Рабочий стол\ПП\Порівняльне правознавство\англо-саксонська\США\Зал заседаний Сената.jpg"/>
          <p:cNvPicPr/>
          <p:nvPr/>
        </p:nvPicPr>
        <p:blipFill>
          <a:blip r:embed="rId1"/>
          <a:stretch/>
        </p:blipFill>
        <p:spPr>
          <a:xfrm>
            <a:off x="928800" y="714240"/>
            <a:ext cx="7030800" cy="554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larisa\Рабочий стол\ПП\Порівняльне правознавство\англо-саксонська\Канада\Будинок уряду в Едмонтоні, Альберта, Канада.jpg"/>
          <p:cNvPicPr/>
          <p:nvPr/>
        </p:nvPicPr>
        <p:blipFill>
          <a:blip r:embed="rId1"/>
          <a:stretch/>
        </p:blipFill>
        <p:spPr>
          <a:xfrm>
            <a:off x="1143000" y="714240"/>
            <a:ext cx="71740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larisa\Рабочий стол\ПП\Порівняльне правознавство\англо-саксонська\Канада\Канадский парламент, Оттава.jpg"/>
          <p:cNvPicPr/>
          <p:nvPr/>
        </p:nvPicPr>
        <p:blipFill>
          <a:blip r:embed="rId1"/>
          <a:stretch/>
        </p:blipFill>
        <p:spPr>
          <a:xfrm>
            <a:off x="1092240" y="495360"/>
            <a:ext cx="695952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larisa\Рабочий стол\ПП\Порівняльне правознавство\англо-саксонська\Канада\зал Сената..JPG"/>
          <p:cNvPicPr/>
          <p:nvPr/>
        </p:nvPicPr>
        <p:blipFill>
          <a:blip r:embed="rId1"/>
          <a:stretch/>
        </p:blipFill>
        <p:spPr>
          <a:xfrm>
            <a:off x="1928880" y="642960"/>
            <a:ext cx="5479920" cy="5472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. Особливості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Основні етапи розвитку англійської правової систе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3. Виникнення та реформування загального пра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4. Загальне право: поняття та особливост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5. Право справедливості і його співвідношення з загальним пра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6. Джерела права англо-американської правової сім'ї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larisa\Рабочий стол\ПП\Порівняльне правознавство\англо-саксонська\Канада\зал сената.JPG"/>
          <p:cNvPicPr/>
          <p:nvPr/>
        </p:nvPicPr>
        <p:blipFill>
          <a:blip r:embed="rId1"/>
          <a:stretch/>
        </p:blipFill>
        <p:spPr>
          <a:xfrm>
            <a:off x="1214280" y="1143000"/>
            <a:ext cx="73184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larisa\Рабочий стол\ПП\Порівняльне правознавство\англо-саксонська\Канада\официальная резиденция генерал-губернатора Канады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</a:t>
            </a:r>
            <a:r>
              <a:rPr b="1" lang="uk-UA" sz="4400" spc="-1" strike="noStrike">
                <a:solidFill>
                  <a:srgbClr val="04617b"/>
                </a:solidFill>
                <a:latin typeface="Calibri"/>
              </a:rPr>
              <a:t>нгло-американська правова сім‘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 'я англо-америка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підкреслює той факт, що саме англійське та американське право становлять основу двох самостійних груп і домінують у цій правовій сім'ї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загальн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икористання якого пояснюється тим, що в розвитку правових систем цієї правової сім'ї основна роль належить нормам, створеним судовою практикою (тобто загальному прав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nstantia"/>
              </a:rPr>
              <a:t>«сім'я англосаксонського права»,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який демонструє те, що правові системи, які входять до цієї правової сім'ї, склалися під впливом системи і принципів англійського пра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цей термін, стосується тільки найдавнішого періоду розвитку права Англії.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аступність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рецепції римськ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Суддівський за своєю природою та змістом характер пр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Розвиток загального права юристами-практик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енш абстрактний характер норм, ніж у романо-германському прав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окремлення в англосаксонському праві прецедентного та статутного пра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Особливості сім'ї англо-американськ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Існування в англосаксонському праві загального права та права справедливост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дсутність принципового значення поділу на приватне і публіч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ість поділу на матеріальне і процесуальне право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епоширеність кодификації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магальна судова процеду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ажлива роль інституту суду присяж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і етапи розвитку англійської правової систе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І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: англійське право до норманського завоювання (до 1066р.), або англосаксонський пері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формування системи загального права завдяки діяльності королівських суддів (1066р.—друга половина ХІУст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еформування архаїчного загального права і перехід до сучасного права (друга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V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 — сере­ди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тап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подальший розвиток системи загального права, набуття нею сучасних рис (середина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XIX </a:t>
            </a:r>
            <a:r>
              <a:rPr b="0" lang="uk-UA" sz="2400" spc="-1" strike="noStrike">
                <a:solidFill>
                  <a:srgbClr val="7030a0"/>
                </a:solidFill>
                <a:latin typeface="Constantia"/>
              </a:rPr>
              <a:t>ст. — нинішні час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3. Виникнення та реформування загального пра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ормани змогли запровадити загальне для всієї території завойованої країни право, звідси і назва англійської системи права —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загальне пра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запровадження загальної для всієї країни правової системи створили систему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суворо централізованих судів, підзвітних лише королю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головним королівським судом, заснованим як противага місцевим судам, була </a:t>
            </a:r>
            <a:r>
              <a:rPr b="0" i="1" lang="uk-UA" sz="2600" spc="-1" strike="noStrike">
                <a:solidFill>
                  <a:srgbClr val="ff0000"/>
                </a:solidFill>
                <a:latin typeface="Constantia"/>
              </a:rPr>
              <a:t>Королівська рада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У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XII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І століттях у системі королівських судів з‘явилася низка нових судових органі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азначейств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підрозділ Королівської ради і займався податками і зборами. Згодом - почав вирішувати спори фінансового характеру і податкові справ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ассиз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що розглядав справи у виїзних засіданнях. Країна була розділена округами. Судді, переміщаючись по цих округах, проводили засідання суду в кожному місті округу. З часом стали займатися виключно кримінальними спра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низка нових судових органів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загальних позовів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створений для вирішення в основному спорів майнового характеру між приватними особ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 королівської лав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створений як орган з розгляду публічних справ і питань, що торкалися інтересів держави (на суді головував коро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ва цих судів призводить до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еншення значення Королівської рад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як судового орга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Англії існували ще кілька видів судів, які не належали до королівських: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канонічні (церковні) суди, місцев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уди громади, суди барона (феодала), суди міст, морські суд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ощ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еред джерел правових норм в Англії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оліття переважав правовий зви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II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і англійські судді починають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вертатися до попередніх судових ріш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исою початкового періоду розвитку англійського загального права є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домінування процесуального права над матеріальним пра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Наказ суду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— це припис кор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англійське загальне пра­во піддається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реформуванн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user\Desktop\Порівняльне правознавство\Порівняльне правознавство\0034-034-Karta-rasprostranenija-pravovykh-sem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Найсуттєвішими </a:t>
            </a:r>
            <a:r>
              <a:rPr b="1" i="1" lang="uk-UA" sz="4000" spc="-1" strike="noStrike">
                <a:solidFill>
                  <a:srgbClr val="00b0f0"/>
                </a:solidFill>
                <a:latin typeface="Calibri"/>
              </a:rPr>
              <a:t>недоліками </a:t>
            </a:r>
            <a:r>
              <a:rPr b="1" lang="uk-UA" sz="4000" spc="-1" strike="noStrike">
                <a:solidFill>
                  <a:srgbClr val="00b0f0"/>
                </a:solidFill>
                <a:latin typeface="Calibri"/>
              </a:rPr>
              <a:t>загального права бул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надзвичайна суворість і негнучкість його нор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изнання лише єдиної санкції в цивільному праві - грошової компенсації, а в кримінальному праві одного покарання — стра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сутність засобів забезпечення явки свідків до суд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вільність і дорожнеча судової процедур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безліч дорікань на адресу системи наказів суду, що перешкоджала демократизації суду і не враховувала потреби правового розвитку краї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і у становленні сучасної правової системи Англ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1. Юридичні фікції </a:t>
            </a:r>
            <a:r>
              <a:rPr b="0" i="1" lang="uk-UA" sz="2600" spc="-1" strike="noStrike">
                <a:solidFill>
                  <a:srgbClr val="000000"/>
                </a:solidFill>
                <a:latin typeface="Constantia"/>
              </a:rPr>
              <a:t>виникли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 епоху середньовіччя як прийом, що дозволяє обійти право під виглядом суворого дотримання його приписів. Використання юридичних фікцій в англійському праві мало </a:t>
            </a:r>
            <a:r>
              <a:rPr b="0" lang="uk-UA" sz="2600" spc="-1" strike="noStrike">
                <a:solidFill>
                  <a:srgbClr val="00b0f0"/>
                </a:solidFill>
                <a:latin typeface="Constantia"/>
              </a:rPr>
              <a:t>на меті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ом 'якшення жорстокості норм середньовічного кримінального права (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льги духівництву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б)розширення переліку наказів суд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) надання суддям можливості обходити вимоги загального права про підсудність спра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нститути, що відіграли найбільш важливу роль у реформі архаїчних норм загального прав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Право справедливості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помагало вийти за вузькі межі загального права. З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оліття лорд-канцлер переходить до практики вирішення в порядку нової правової процедури позовів, з якими піддані звертаються до короля. По суті, це також прецедентне право, але прецеденти тут створюються не через королівські (вестмінстерські) суди, а іншим способом (через діяльність лорда-канцлера) і до того ж на інших принци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9080" y="701640"/>
            <a:ext cx="9180360" cy="2517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1"/>
          <p:cNvGraphicFramePr/>
          <p:nvPr/>
        </p:nvGraphicFramePr>
        <p:xfrm>
          <a:off x="285840" y="428760"/>
          <a:ext cx="8661240" cy="56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866124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04617b"/>
                </a:solidFill>
                <a:latin typeface="Calibri"/>
              </a:rPr>
              <a:t>1. Англійське пра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осідає домінуюче місце в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сім'ї загального пра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Constantia"/>
              </a:rPr>
              <a:t>Сфера застосування англійського права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, в принципі,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обмежується Англією і Вельс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У Північній Ірландії, Шотландії, на островах Ла-Маншу й острові Мен </a:t>
            </a:r>
            <a:r>
              <a:rPr b="1" lang="uk-UA" sz="2000" spc="-1" strike="noStrike">
                <a:solidFill>
                  <a:srgbClr val="c00000"/>
                </a:solidFill>
                <a:latin typeface="Constantia"/>
              </a:rPr>
              <a:t>не діє англійське право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У групу англійського права входять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равові системи Північної Ірландії, Ірландії, Канади (крім Квебеку), Австралії, Нової Зеландії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також право деяких інших держав —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колишніх колоній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ританської імперії: наприклад, Антигуа та Барбуда, Багамів, Барбадосу, Белізу, Гренади, Домініки, Науру, Сент Кітцу і Невісу, островів Тонга, Фіджі, Ямайки (на цей час ці держави є членами Британської Співдружності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 цієї групи </a:t>
            </a:r>
            <a:r>
              <a:rPr b="0" lang="uk-UA" sz="2000" spc="-1" strike="noStrike">
                <a:solidFill>
                  <a:srgbClr val="c00000"/>
                </a:solidFill>
                <a:latin typeface="Constantia"/>
              </a:rPr>
              <a:t>тяжіють </a:t>
            </a:r>
            <a:r>
              <a:rPr b="0" i="1" lang="uk-UA" sz="2000" spc="-1" strike="noStrike">
                <a:solidFill>
                  <a:srgbClr val="c00000"/>
                </a:solidFill>
                <a:latin typeface="Constantia"/>
              </a:rPr>
              <a:t>змішані правові системи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ани, Гамбії, Нігерії, Сьєрра-Леоне, Танзанії, Бангладеш, Брунею, Індії, Пакистану, Сингапуру тощо, де запозичене англійське загальне право взаємодіє з релігійними і традиційними правовими систем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larisa\Рабочий стол\ПП\Порівняльне правознавство\англо-саксонська\Англія\Здания Парламента (Вестминстерский дворец)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larisa\Рабочий стол\ПП\Порівняльне правознавство\англо-саксонська\Англія\Зал заседаний шотландского парламента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larisa\Рабочий стол\ПП\Порівняльне правознавство\англо-саксонська\Англія\Зал заседаний суда.JPG"/>
          <p:cNvPicPr/>
          <p:nvPr/>
        </p:nvPicPr>
        <p:blipFill>
          <a:blip r:embed="rId1"/>
          <a:stretch/>
        </p:blipFill>
        <p:spPr>
          <a:xfrm>
            <a:off x="1214280" y="1071720"/>
            <a:ext cx="6383520" cy="4787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9-02T08:27:57Z</dcterms:modified>
  <cp:revision>31</cp:revision>
  <dc:subject/>
  <dc:title>ЛЕКЦІЯ 3</dc:title>
</cp:coreProperties>
</file>