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23.png" ContentType="image/png"/>
  <Override PartName="/ppt/media/image11.jpeg" ContentType="image/jpeg"/>
  <Override PartName="/ppt/media/image9.jpeg" ContentType="image/jpeg"/>
  <Override PartName="/ppt/media/image10.jpeg" ContentType="image/jpeg"/>
  <Override PartName="/ppt/media/image5.png" ContentType="image/png"/>
  <Override PartName="/ppt/media/image8.wmf" ContentType="image/x-wmf"/>
  <Override PartName="/ppt/media/image12.jpeg" ContentType="image/jpeg"/>
  <Override PartName="/ppt/media/image7.jpeg" ContentType="image/jpeg"/>
  <Override PartName="/ppt/media/image6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14.jpeg" ContentType="image/jpeg"/>
  <Override PartName="/ppt/media/image4.jpeg" ContentType="image/jpeg"/>
  <Override PartName="/ppt/media/image2.png" ContentType="image/png"/>
  <Override PartName="/ppt/media/image1.jpeg" ContentType="image/jpeg"/>
  <Override PartName="/ppt/media/image22.jpeg" ContentType="image/jpeg"/>
  <Override PartName="/ppt/media/image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9FDC4-59F3-4506-8FA5-4AC5E9107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0A6A9-8516-4D59-82E5-7B3B418AF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62370-4BD6-40B4-90A8-42E86DC4C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D702A-17FD-446B-9CB5-47CBA6FBE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A974C-BD28-407E-BC55-421E35330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23758-274B-4757-A1E1-91C7D86C4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9E9BC-D7FE-4199-BB84-A6D6417DC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14C38-F1BA-4DF7-95B7-F6BE7F060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52EA4-104B-4B82-BE6C-B6B747FC4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32336-3A43-4C42-B611-2E923CF31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F09EF-E8AD-42DC-A190-B325A9710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8219A-977D-4CBC-9025-0C4176604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5A6D0-FA55-40D3-ABE1-C62C7D6A1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DF0CB-F73F-4A7B-977D-380496F8D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99E99-E62A-4BED-86DC-4688702DC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A084D-81F9-4E41-9F56-395F4CAB5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5BFC9-19CF-4182-AB18-D0B70D0B9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59424D-F01B-4C9F-80DF-79EAF3103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C96F55-F13B-48CA-A5DF-6424CF2ED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B34BA4-FF1A-47CE-B1C1-372ADE502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A30E76-5ADB-4358-B597-7EB1990DA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79EB61-F77D-43A8-898B-65B38BC70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309C6-48F4-4F6D-A06E-6F948BD05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C2735E-83A7-41E7-9C48-98DBC6A98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D9C0AB-81C3-4188-8159-74E1C3A35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4BF62E-D6AF-4B12-8934-27CA6AC25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43B0B9-5C58-43E6-A732-10E2F33E4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F1E1F6-9259-481F-950B-063B72217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0DE1C1-4475-4F51-94DB-1DE7FCC5D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DA255C-337A-4F1E-B3D2-978B47290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D1C40E-4F0C-4C19-A21D-F55875594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283B87-1BF1-4EF4-B466-604EF1595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4534E0-A9B9-48CE-88EA-6E315ECD0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DC7DE-020C-4DF8-9220-123730768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492AD3-5F7F-4251-B72E-85EBCDD04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A0C307-5ACA-4F28-A364-4D08A5A87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8D73ED-CB83-4504-B155-BF29ED757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D569EF-933F-46A6-A4ED-E14073ECD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63FAF4-D8C9-4DAE-901C-618BC5CA5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A056DC-AF19-43EE-BE79-DCCD693A6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6F1E2D-B1E1-4511-8C00-EB4B6BC67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507D61-7278-4F94-8D46-FBDD3A585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5326B1-490B-4B12-8820-82451A9F8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9EA91-A6C0-4C63-80CF-44153D7B9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D8ECE-F377-4E7F-B2F6-0C6AEF84F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BE659-5A76-43A1-BE48-F8939F376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56271-72D9-4224-9D5D-742197216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AA0E9-95E5-427C-AC43-6350C1C43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2217C-BB64-4AB0-A4AB-11E441234C8C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C36F6-D4AB-4A71-82EC-9E62D0A4A842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7F191-2A08-4431-A813-B94E41FBC63B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A372E-2F01-41EA-9D88-DCBF4DD380CF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1"/>
          <a:stretch/>
        </p:blipFill>
        <p:spPr>
          <a:xfrm>
            <a:off x="682560" y="853920"/>
            <a:ext cx="7785000" cy="164016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428760" y="2571480"/>
            <a:ext cx="8572320" cy="3066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7030a0"/>
                </a:solidFill>
                <a:latin typeface="Constantia"/>
              </a:rPr>
              <a:t>ЗАГАЛЬНА ХАРАКТЕРИСТИКА АНГЛО-АМЕРИКАНСЬКОЇ ПРАВОВОЇ СИСТЕМИ</a:t>
            </a: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endParaRPr b="0" lang="en-US" sz="4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2" descr="C:\Documents and Settings\larisa\Рабочий стол\ПП\Порівняльне правознавство\англо-саксонська\Англія\Мидлсексская ратуша, где располагаются одновременно Судебный комитет и Верховный суд Великобритании.jpg"/>
          <p:cNvPicPr/>
          <p:nvPr/>
        </p:nvPicPr>
        <p:blipFill>
          <a:blip r:embed="rId1"/>
          <a:stretch/>
        </p:blipFill>
        <p:spPr>
          <a:xfrm>
            <a:off x="762120" y="576360"/>
            <a:ext cx="7619760" cy="570528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0040" y="57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5000" spc="-1" strike="noStrike">
                <a:solidFill>
                  <a:srgbClr val="04617b"/>
                </a:solidFill>
                <a:latin typeface="Calibri"/>
              </a:rPr>
              <a:t>Право СШ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onstantia"/>
              </a:rPr>
              <a:t>має своїм історичним джерелом англійське загальне право, але на сьогодні є цілком самостійним і суттєво відрізняється від англійського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2" descr="C:\Documents and Settings\larisa\Рабочий стол\ПП\Порівняльне правознавство\англо-саксонська\США\резиденция президента.JPG"/>
          <p:cNvPicPr/>
          <p:nvPr/>
        </p:nvPicPr>
        <p:blipFill>
          <a:blip r:embed="rId1"/>
          <a:stretch/>
        </p:blipFill>
        <p:spPr>
          <a:xfrm>
            <a:off x="762120" y="604800"/>
            <a:ext cx="7619760" cy="564840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2" descr="C:\Documents and Settings\larisa\Рабочий стол\ПП\Порівняльне правознавство\англо-саксонська\США\овальний кабинет.jpg"/>
          <p:cNvPicPr/>
          <p:nvPr/>
        </p:nvPicPr>
        <p:blipFill>
          <a:blip r:embed="rId1"/>
          <a:stretch/>
        </p:blipFill>
        <p:spPr>
          <a:xfrm>
            <a:off x="762120" y="1028880"/>
            <a:ext cx="7619760" cy="480060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2" descr="C:\Documents and Settings\larisa\Рабочий стол\ПП\Порівняльне правознавство\англо-саксонська\США\Конгресс США.jpg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2" descr="C:\Documents and Settings\larisa\Рабочий стол\ПП\Порівняльне правознавство\англо-саксонська\США\Зал заседаний Сената.jpg"/>
          <p:cNvPicPr/>
          <p:nvPr/>
        </p:nvPicPr>
        <p:blipFill>
          <a:blip r:embed="rId1"/>
          <a:stretch/>
        </p:blipFill>
        <p:spPr>
          <a:xfrm>
            <a:off x="928800" y="714240"/>
            <a:ext cx="7030800" cy="554364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04617b"/>
                </a:solidFill>
                <a:latin typeface="Calibri"/>
              </a:rPr>
              <a:t>канад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457200" y="1934640"/>
            <a:ext cx="8229600" cy="438948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2" descr="C:\Documents and Settings\larisa\Рабочий стол\ПП\Порівняльне правознавство\англо-саксонська\Канада\Будинок уряду в Едмонтоні, Альберта, Канада.jpg"/>
          <p:cNvPicPr/>
          <p:nvPr/>
        </p:nvPicPr>
        <p:blipFill>
          <a:blip r:embed="rId1"/>
          <a:stretch/>
        </p:blipFill>
        <p:spPr>
          <a:xfrm>
            <a:off x="1143000" y="714240"/>
            <a:ext cx="7174080" cy="468000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2" descr="C:\Documents and Settings\larisa\Рабочий стол\ПП\Порівняльне правознавство\англо-саксонська\Канада\Канадский парламент, Оттава.jpg"/>
          <p:cNvPicPr/>
          <p:nvPr/>
        </p:nvPicPr>
        <p:blipFill>
          <a:blip r:embed="rId1"/>
          <a:stretch/>
        </p:blipFill>
        <p:spPr>
          <a:xfrm>
            <a:off x="1092240" y="495360"/>
            <a:ext cx="6959520" cy="586728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2" descr="C:\Documents and Settings\larisa\Рабочий стол\ПП\Порівняльне правознавство\англо-саксонська\Канада\зал Сената..JPG"/>
          <p:cNvPicPr/>
          <p:nvPr/>
        </p:nvPicPr>
        <p:blipFill>
          <a:blip r:embed="rId1"/>
          <a:stretch/>
        </p:blipFill>
        <p:spPr>
          <a:xfrm>
            <a:off x="1928880" y="642960"/>
            <a:ext cx="5479920" cy="547200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04617b"/>
                </a:solidFill>
                <a:latin typeface="Calibri"/>
              </a:rPr>
              <a:t>ПЛАН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142640"/>
            <a:ext cx="82296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1. Особливості англо-американської правової сім'ї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2. Основні етапи розвитку англійської правової системи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3. Виникнення та реформування загального прав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4. Загальне право: поняття та особливості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5. Право справедливості і його співвідношення з загальним правом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6. Джерела права англо-американської правової сім'ї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2" descr="C:\Documents and Settings\larisa\Рабочий стол\ПП\Порівняльне правознавство\англо-саксонська\Канада\зал сената.JPG"/>
          <p:cNvPicPr/>
          <p:nvPr/>
        </p:nvPicPr>
        <p:blipFill>
          <a:blip r:embed="rId1"/>
          <a:stretch/>
        </p:blipFill>
        <p:spPr>
          <a:xfrm>
            <a:off x="1214280" y="1143000"/>
            <a:ext cx="7318440" cy="485928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2" descr="C:\Documents and Settings\larisa\Рабочий стол\ПП\Порівняльне правознавство\англо-саксонська\Канада\официальная резиденция генерал-губернатора Канады.jpg"/>
          <p:cNvPicPr/>
          <p:nvPr/>
        </p:nvPicPr>
        <p:blipFill>
          <a:blip r:embed="rId1"/>
          <a:stretch/>
        </p:blipFill>
        <p:spPr>
          <a:xfrm>
            <a:off x="127080" y="495360"/>
            <a:ext cx="8889840" cy="586728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А</a:t>
            </a:r>
            <a:r>
              <a:rPr b="1" lang="uk-UA" sz="4400" spc="-1" strike="noStrike">
                <a:solidFill>
                  <a:srgbClr val="04617b"/>
                </a:solidFill>
                <a:latin typeface="Calibri"/>
              </a:rPr>
              <a:t>нгло-американська правова сім‘я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Constantia"/>
              </a:rPr>
              <a:t>«сім 'я англо-американського права», </a:t>
            </a: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який підкреслює той факт, що саме англійське та американське право становлять основу двох самостійних груп і домінують у цій правовій сім'ї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Constantia"/>
              </a:rPr>
              <a:t>«сім'я загального права», </a:t>
            </a: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використання якого пояснюється тим, що в розвитку правових систем цієї правової сім'ї основна роль належить нормам, створеним судовою практикою (тобто загальному праву)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Constantia"/>
              </a:rPr>
              <a:t>«сім'я англосаксонського права», </a:t>
            </a: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який демонструє те, що правові системи, які входять до цієї правової сім'ї, склалися під впливом системи і принципів англійського права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цей термін, стосується тільки найдавнішого періоду розвитку права Англії.</a:t>
            </a:r>
            <a:r>
              <a:rPr b="1" lang="uk-UA" sz="2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c00000"/>
                </a:solidFill>
                <a:latin typeface="Calibri"/>
              </a:rPr>
              <a:t>Особливості сім'ї англо-американського права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149976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09040" indent="-509040"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Наступність права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09040" indent="-509040"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Відсутність рецепції римського права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09040" indent="-509040"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Суддівський за своєю природою та змістом характер права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09040" indent="-509040"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Розвиток загального права юристами-практиками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09040" indent="-509040"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Менш абстрактний характер норм, ніж у романо-германському праві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09040" indent="-509040"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Виокремлення в англосаксонському праві прецедентного та статутного права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09040" indent="-50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509040" indent="-50904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c00000"/>
                </a:solidFill>
                <a:latin typeface="Calibri"/>
              </a:rPr>
              <a:t>Особливості сім'ї англо-американського права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98960" indent="-498960"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Існування в англосаксонському праві загального права та права справедливості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498960" indent="-498960"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Відсутність принципового значення поділу на приватне і публічне право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498960" indent="-498960"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Важливість поділу на матеріальне і процесуальне право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498960" indent="-498960"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Непоширеність кодификації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498960" indent="-498960"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Змагальна судова процедура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498960" indent="-498960"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Важлива роль інституту суду присяжних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c00000"/>
                </a:solidFill>
                <a:latin typeface="Calibri"/>
              </a:rPr>
              <a:t>Основні етапи розвитку англійської правової системи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23560" indent="-22356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 </a:t>
            </a:r>
            <a:r>
              <a:rPr b="0" lang="uk-UA" sz="2400" spc="-1" strike="noStrike">
                <a:solidFill>
                  <a:srgbClr val="c00000"/>
                </a:solidFill>
                <a:latin typeface="Constantia"/>
              </a:rPr>
              <a:t>Етап І</a:t>
            </a: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: англійське право до норманського завоювання (до 1066р.), або англосаксонський період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3560" indent="-22356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 </a:t>
            </a:r>
            <a:r>
              <a:rPr b="0" lang="uk-UA" sz="2400" spc="-1" strike="noStrike">
                <a:solidFill>
                  <a:srgbClr val="c00000"/>
                </a:solidFill>
                <a:latin typeface="Constantia"/>
              </a:rPr>
              <a:t>Етап </a:t>
            </a:r>
            <a:r>
              <a:rPr b="0" lang="en-US" sz="2400" spc="-1" strike="noStrike">
                <a:solidFill>
                  <a:srgbClr val="c00000"/>
                </a:solidFill>
                <a:latin typeface="Constantia"/>
              </a:rPr>
              <a:t>II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: </a:t>
            </a:r>
            <a:r>
              <a:rPr b="0" lang="uk-UA" sz="2400" spc="-1" strike="noStrike">
                <a:solidFill>
                  <a:srgbClr val="7030a0"/>
                </a:solidFill>
                <a:latin typeface="Constantia"/>
              </a:rPr>
              <a:t>формування системи загального права завдяки діяльності королівських суддів (1066р.—друга половина ХІУст.)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3560" indent="-22356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 </a:t>
            </a:r>
            <a:r>
              <a:rPr b="0" lang="uk-UA" sz="2400" spc="-1" strike="noStrike">
                <a:solidFill>
                  <a:srgbClr val="c00000"/>
                </a:solidFill>
                <a:latin typeface="Constantia"/>
              </a:rPr>
              <a:t>Етап </a:t>
            </a:r>
            <a:r>
              <a:rPr b="0" lang="en-US" sz="2400" spc="-1" strike="noStrike">
                <a:solidFill>
                  <a:srgbClr val="c00000"/>
                </a:solidFill>
                <a:latin typeface="Constantia"/>
              </a:rPr>
              <a:t>III</a:t>
            </a:r>
            <a:r>
              <a:rPr b="0" lang="ru-RU" sz="2400" spc="-1" strike="noStrike">
                <a:solidFill>
                  <a:srgbClr val="c00000"/>
                </a:solidFill>
                <a:latin typeface="Constantia"/>
              </a:rPr>
              <a:t>: </a:t>
            </a: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реформування архаїчного загального права і перехід до сучасного права (друга половина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XIV</a:t>
            </a: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ст. — сере­дина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XIX </a:t>
            </a: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ст.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3560" indent="-22356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 </a:t>
            </a:r>
            <a:r>
              <a:rPr b="0" lang="uk-UA" sz="2400" spc="-1" strike="noStrike">
                <a:solidFill>
                  <a:srgbClr val="c00000"/>
                </a:solidFill>
                <a:latin typeface="Constantia"/>
              </a:rPr>
              <a:t>Етап </a:t>
            </a:r>
            <a:r>
              <a:rPr b="0" lang="en-US" sz="2400" spc="-1" strike="noStrike">
                <a:solidFill>
                  <a:srgbClr val="c00000"/>
                </a:solidFill>
                <a:latin typeface="Constantia"/>
              </a:rPr>
              <a:t>IV</a:t>
            </a:r>
            <a:r>
              <a:rPr b="0" lang="ru-RU" sz="2400" spc="-1" strike="noStrike">
                <a:solidFill>
                  <a:srgbClr val="7030a0"/>
                </a:solidFill>
                <a:latin typeface="Constantia"/>
              </a:rPr>
              <a:t>: </a:t>
            </a:r>
            <a:r>
              <a:rPr b="0" lang="uk-UA" sz="2400" spc="-1" strike="noStrike">
                <a:solidFill>
                  <a:srgbClr val="7030a0"/>
                </a:solidFill>
                <a:latin typeface="Constantia"/>
              </a:rPr>
              <a:t>подальший розвиток системи загального права, набуття нею сучасних рис (середина </a:t>
            </a:r>
            <a:r>
              <a:rPr b="0" lang="en-US" sz="2400" spc="-1" strike="noStrike">
                <a:solidFill>
                  <a:srgbClr val="7030a0"/>
                </a:solidFill>
                <a:latin typeface="Constantia"/>
              </a:rPr>
              <a:t>XIX </a:t>
            </a:r>
            <a:r>
              <a:rPr b="0" lang="uk-UA" sz="2400" spc="-1" strike="noStrike">
                <a:solidFill>
                  <a:srgbClr val="7030a0"/>
                </a:solidFill>
                <a:latin typeface="Constantia"/>
              </a:rPr>
              <a:t>ст. — нинішні часи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3560" indent="-22356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23560" indent="-22356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23560" indent="-22356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7030a0"/>
                </a:solidFill>
                <a:latin typeface="Calibri"/>
              </a:rPr>
              <a:t>3. Виникнення та реформування загального права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Нормани змогли запровадити загальне для всієї території завойованої країни право, звідси і назва англійської системи права — </a:t>
            </a:r>
            <a:r>
              <a:rPr b="0" i="1" lang="uk-UA" sz="2600" spc="-1" strike="noStrike">
                <a:solidFill>
                  <a:srgbClr val="ff0000"/>
                </a:solidFill>
                <a:latin typeface="Constantia"/>
              </a:rPr>
              <a:t>загальне право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для запровадження загальної для всієї країни правової системи створили систему </a:t>
            </a:r>
            <a:r>
              <a:rPr b="0" i="1" lang="uk-UA" sz="2600" spc="-1" strike="noStrike">
                <a:solidFill>
                  <a:srgbClr val="000000"/>
                </a:solidFill>
                <a:latin typeface="Constantia"/>
              </a:rPr>
              <a:t>суворо централізованих судів, підзвітних лише королю. 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Першим головним королівським судом, заснованим як противага місцевим судам, була </a:t>
            </a:r>
            <a:r>
              <a:rPr b="0" i="1" lang="uk-UA" sz="2600" spc="-1" strike="noStrike">
                <a:solidFill>
                  <a:srgbClr val="ff0000"/>
                </a:solidFill>
                <a:latin typeface="Constantia"/>
              </a:rPr>
              <a:t>Королівська рада</a:t>
            </a:r>
            <a:r>
              <a:rPr b="0" lang="uk-UA" sz="2600" spc="-1" strike="noStrike">
                <a:solidFill>
                  <a:srgbClr val="ff0000"/>
                </a:solidFill>
                <a:latin typeface="Constantia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1071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4617b"/>
                </a:solidFill>
                <a:latin typeface="Calibri"/>
              </a:rPr>
              <a:t>У </a:t>
            </a: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XII</a:t>
            </a:r>
            <a:r>
              <a:rPr b="0" lang="ru-RU" sz="3200" spc="-1" strike="noStrike">
                <a:solidFill>
                  <a:srgbClr val="04617b"/>
                </a:solidFill>
                <a:latin typeface="Calibri"/>
              </a:rPr>
              <a:t>—</a:t>
            </a: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XII</a:t>
            </a:r>
            <a:r>
              <a:rPr b="0" lang="uk-UA" sz="3200" spc="-1" strike="noStrike">
                <a:solidFill>
                  <a:srgbClr val="04617b"/>
                </a:solidFill>
                <a:latin typeface="Calibri"/>
              </a:rPr>
              <a:t>І століттях у системі королівських судів з‘явилася низка нових судових органів: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6840" y="1357200"/>
            <a:ext cx="8472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600" spc="-1" strike="noStrike">
                <a:solidFill>
                  <a:srgbClr val="000000"/>
                </a:solidFill>
                <a:latin typeface="Constantia"/>
              </a:rPr>
              <a:t>суд казначейства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, підрозділ Королівської ради і займався податками і зборами. Згодом - почав вирішувати спори фінансового характеру і податкові справи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600" spc="-1" strike="noStrike">
                <a:solidFill>
                  <a:srgbClr val="000000"/>
                </a:solidFill>
                <a:latin typeface="Constantia"/>
              </a:rPr>
              <a:t>суд ассизів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, що розглядав справи у виїзних засіданнях. Країна була розділена округами. Судді, переміщаючись по цих округах, проводили засідання суду в кожному місті округу. З часом стали займатися виключно кримінальними справами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85480"/>
            <a:ext cx="8229600" cy="928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4617b"/>
                </a:solidFill>
                <a:latin typeface="Calibri"/>
              </a:rPr>
              <a:t>низка нових судових органів: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57200" y="135720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600" spc="-1" strike="noStrike">
                <a:solidFill>
                  <a:srgbClr val="000000"/>
                </a:solidFill>
                <a:latin typeface="Constantia"/>
              </a:rPr>
              <a:t>суд загальних позовів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, створений для вирішення в основному спорів майнового характеру між приватними особами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i="1" lang="uk-UA" sz="2600" spc="-1" strike="noStrike">
                <a:solidFill>
                  <a:srgbClr val="000000"/>
                </a:solidFill>
                <a:latin typeface="Constantia"/>
              </a:rPr>
              <a:t>суд королівської лави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 — створений як орган з розгляду публічних справ і питань, що торкалися інтересів держави (на суді головував король)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Поява цих судів призводить до </a:t>
            </a: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зменшення значення Королівської ради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 як судового органу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в Англії існували ще кілька видів судів, які не належали до королівських: </a:t>
            </a:r>
            <a:r>
              <a:rPr b="1" i="1" lang="uk-UA" sz="2600" spc="-1" strike="noStrike">
                <a:solidFill>
                  <a:srgbClr val="000000"/>
                </a:solidFill>
                <a:latin typeface="Constantia"/>
              </a:rPr>
              <a:t>канонічні (церковні) суди, місцеві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i="1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i="1" lang="uk-UA" sz="2600" spc="-1" strike="noStrike">
                <a:solidFill>
                  <a:srgbClr val="000000"/>
                </a:solidFill>
                <a:latin typeface="Constantia"/>
              </a:rPr>
              <a:t>суди громади, суди барона (феодала), суди міст, морські суди 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тощо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серед джерел правових норм в Англії </a:t>
            </a:r>
            <a:r>
              <a:rPr b="1" i="1" lang="uk-UA" sz="2600" spc="-1" strike="noStrike">
                <a:solidFill>
                  <a:srgbClr val="000000"/>
                </a:solidFill>
                <a:latin typeface="Constantia"/>
              </a:rPr>
              <a:t>до </a:t>
            </a:r>
            <a:r>
              <a:rPr b="1" i="1" lang="en-US" sz="2600" spc="-1" strike="noStrike">
                <a:solidFill>
                  <a:srgbClr val="000000"/>
                </a:solidFill>
                <a:latin typeface="Constantia"/>
              </a:rPr>
              <a:t>XIV </a:t>
            </a:r>
            <a:r>
              <a:rPr b="1" i="1" lang="uk-UA" sz="2600" spc="-1" strike="noStrike">
                <a:solidFill>
                  <a:srgbClr val="000000"/>
                </a:solidFill>
                <a:latin typeface="Constantia"/>
              </a:rPr>
              <a:t>століття переважав правовий звичай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в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XIII 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столітті англійські судді починають </a:t>
            </a:r>
            <a:r>
              <a:rPr b="1" i="1" lang="uk-UA" sz="2600" spc="-1" strike="noStrike">
                <a:solidFill>
                  <a:srgbClr val="000000"/>
                </a:solidFill>
                <a:latin typeface="Constantia"/>
              </a:rPr>
              <a:t>звертатися до попередніх судових рішень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рисою початкового періоду розвитку англійського загального права є</a:t>
            </a: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i="1" lang="uk-UA" sz="2600" spc="-1" strike="noStrike">
                <a:solidFill>
                  <a:srgbClr val="000000"/>
                </a:solidFill>
                <a:latin typeface="Constantia"/>
              </a:rPr>
              <a:t>домінування процесуального права над матеріальним правом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600" spc="-1" strike="noStrike">
                <a:solidFill>
                  <a:srgbClr val="000000"/>
                </a:solidFill>
                <a:latin typeface="Constantia"/>
              </a:rPr>
              <a:t>Наказ суду</a:t>
            </a:r>
            <a:r>
              <a:rPr b="0" i="1" lang="uk-UA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 — це припис короля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з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XIV 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століття англійське загальне пра­во піддається </a:t>
            </a:r>
            <a:r>
              <a:rPr b="1" i="1" lang="uk-UA" sz="2600" spc="-1" strike="noStrike">
                <a:solidFill>
                  <a:srgbClr val="000000"/>
                </a:solidFill>
                <a:latin typeface="Constantia"/>
              </a:rPr>
              <a:t>реформуванню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2" descr="C:\Documents and Settings\user\Desktop\Порівняльне правознавство\Порівняльне правознавство\0034-034-Karta-rasprostranenija-pravovykh-semej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b0f0"/>
                </a:solidFill>
                <a:latin typeface="Calibri"/>
              </a:rPr>
              <a:t>Найсуттєвішими </a:t>
            </a:r>
            <a:r>
              <a:rPr b="1" i="1" lang="uk-UA" sz="4000" spc="-1" strike="noStrike">
                <a:solidFill>
                  <a:srgbClr val="00b0f0"/>
                </a:solidFill>
                <a:latin typeface="Calibri"/>
              </a:rPr>
              <a:t>недоліками </a:t>
            </a:r>
            <a:r>
              <a:rPr b="1" lang="uk-UA" sz="4000" spc="-1" strike="noStrike">
                <a:solidFill>
                  <a:srgbClr val="00b0f0"/>
                </a:solidFill>
                <a:latin typeface="Calibri"/>
              </a:rPr>
              <a:t>загального права були: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934640"/>
            <a:ext cx="840096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- надзвичайна суворість і негнучкість його норм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- визнання лише єдиної санкції в цивільному праві - грошової компенсації, а в кримінальному праві одного покарання — страти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відсутність засобів забезпечення явки свідків до суду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повільність і дорожнеча судової процедури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безліч дорікань на адресу системи наказів суду, що перешкоджала демократизації суду і не враховувала потреби правового розвитку країни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356760"/>
            <a:ext cx="8229600" cy="1490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c00000"/>
                </a:solidFill>
                <a:latin typeface="Calibri"/>
              </a:rPr>
              <a:t>Інститути, що відіграли найбільш важливу роль у реформі архаїчних норм загального права і у становленні сучасної правової системи Англії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6840" y="1934640"/>
            <a:ext cx="8472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600" spc="-1" strike="noStrike">
                <a:solidFill>
                  <a:srgbClr val="000000"/>
                </a:solidFill>
                <a:latin typeface="Constantia"/>
              </a:rPr>
              <a:t>1. Юридичні фікції </a:t>
            </a:r>
            <a:r>
              <a:rPr b="0" i="1" lang="uk-UA" sz="2600" spc="-1" strike="noStrike">
                <a:solidFill>
                  <a:srgbClr val="000000"/>
                </a:solidFill>
                <a:latin typeface="Constantia"/>
              </a:rPr>
              <a:t>виникли 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в епоху середньовіччя як прийом, що дозволяє обійти право під виглядом суворого дотримання його приписів. Використання юридичних фікцій в англійському праві мало </a:t>
            </a:r>
            <a:r>
              <a:rPr b="0" lang="uk-UA" sz="2600" spc="-1" strike="noStrike">
                <a:solidFill>
                  <a:srgbClr val="00b0f0"/>
                </a:solidFill>
                <a:latin typeface="Constantia"/>
              </a:rPr>
              <a:t>на меті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а) </a:t>
            </a:r>
            <a:r>
              <a:rPr b="1" i="1" lang="uk-UA" sz="2600" spc="-1" strike="noStrike">
                <a:solidFill>
                  <a:srgbClr val="000000"/>
                </a:solidFill>
                <a:latin typeface="Constantia"/>
              </a:rPr>
              <a:t>пом 'якшення жорстокості норм середньовічного кримінального права (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пільги духівництву)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600" spc="-1" strike="noStrike">
                <a:solidFill>
                  <a:srgbClr val="000000"/>
                </a:solidFill>
                <a:latin typeface="Constantia"/>
              </a:rPr>
              <a:t>б)розширення переліку наказів суду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600" spc="-1" strike="noStrike">
                <a:solidFill>
                  <a:srgbClr val="000000"/>
                </a:solidFill>
                <a:latin typeface="Constantia"/>
              </a:rPr>
              <a:t>в) надання суддям можливості обходити вимоги загального права про підсудність справ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c00000"/>
                </a:solidFill>
                <a:latin typeface="Calibri"/>
              </a:rPr>
              <a:t>Інститути, що відіграли найбільш важливу роль у реформі архаїчних норм загального права 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2. </a:t>
            </a:r>
            <a:r>
              <a:rPr b="1" i="1" lang="uk-UA" sz="2600" spc="-1" strike="noStrike">
                <a:solidFill>
                  <a:srgbClr val="000000"/>
                </a:solidFill>
                <a:latin typeface="Constantia"/>
              </a:rPr>
              <a:t>Право справедливості </a:t>
            </a: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д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опомагало вийти за вузькі межі загального права. З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XIV 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століття лорд-канцлер переходить до практики вирішення в порядку нової правової процедури позовів, з якими піддані звертаються до короля. По суті, це також прецедентне право, але прецеденти тут створюються не через королівські (вестмінстерські) суди, а іншим способом (через діяльність лорда-канцлера) і до того ж на інших принципах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Заголовок 1" descr=""/>
          <p:cNvPicPr/>
          <p:nvPr/>
        </p:nvPicPr>
        <p:blipFill>
          <a:blip r:embed="rId1"/>
          <a:stretch/>
        </p:blipFill>
        <p:spPr>
          <a:xfrm>
            <a:off x="19080" y="701640"/>
            <a:ext cx="9180360" cy="251784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0" name="Object 1"/>
          <p:cNvGraphicFramePr/>
          <p:nvPr/>
        </p:nvGraphicFramePr>
        <p:xfrm>
          <a:off x="285840" y="428760"/>
          <a:ext cx="8661240" cy="5651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1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5840" y="428760"/>
                    <a:ext cx="8661240" cy="56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heel spokes="2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500" spc="-1" strike="noStrike">
                <a:solidFill>
                  <a:srgbClr val="04617b"/>
                </a:solidFill>
                <a:latin typeface="Calibri"/>
              </a:rPr>
              <a:t>1. Англійське право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928800"/>
            <a:ext cx="8229600" cy="53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посідає домінуюче місце в </a:t>
            </a:r>
            <a:r>
              <a:rPr b="1" lang="uk-UA" sz="2000" spc="-1" strike="noStrike">
                <a:solidFill>
                  <a:srgbClr val="000000"/>
                </a:solidFill>
                <a:latin typeface="Constantia"/>
              </a:rPr>
              <a:t>сім'ї загального права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7030a0"/>
                </a:solidFill>
                <a:latin typeface="Constantia"/>
              </a:rPr>
              <a:t>Сфера застосування англійського права</a:t>
            </a: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, в принципі, </a:t>
            </a:r>
            <a:r>
              <a:rPr b="0" lang="uk-UA" sz="2000" spc="-1" strike="noStrike">
                <a:solidFill>
                  <a:srgbClr val="c00000"/>
                </a:solidFill>
                <a:latin typeface="Constantia"/>
              </a:rPr>
              <a:t>обмежується Англією і Вельсом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У Північній Ірландії, Шотландії, на островах Ла-Маншу й острові Мен </a:t>
            </a:r>
            <a:r>
              <a:rPr b="1" lang="uk-UA" sz="2000" spc="-1" strike="noStrike">
                <a:solidFill>
                  <a:srgbClr val="c00000"/>
                </a:solidFill>
                <a:latin typeface="Constantia"/>
              </a:rPr>
              <a:t>не діє англійське право</a:t>
            </a:r>
            <a:r>
              <a:rPr b="1" lang="uk-UA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c00000"/>
                </a:solidFill>
                <a:latin typeface="Constantia"/>
              </a:rPr>
              <a:t>У групу англійського права входять </a:t>
            </a: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правові системи Північної Ірландії, Ірландії, Канади (крім Квебеку), Австралії, Нової Зеландії,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а також право деяких інших держав — </a:t>
            </a:r>
            <a:r>
              <a:rPr b="0" lang="uk-UA" sz="2000" spc="-1" strike="noStrike">
                <a:solidFill>
                  <a:srgbClr val="c00000"/>
                </a:solidFill>
                <a:latin typeface="Constantia"/>
              </a:rPr>
              <a:t>колишніх колоній </a:t>
            </a: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Британської імперії: наприклад, Антигуа та Барбуда, Багамів, Барбадосу, Белізу, Гренади, Домініки, Науру, Сент Кітцу і Невісу, островів Тонга, Фіджі, Ямайки (на цей час ці держави є членами Британської Співдружності)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До цієї групи </a:t>
            </a:r>
            <a:r>
              <a:rPr b="0" lang="uk-UA" sz="2000" spc="-1" strike="noStrike">
                <a:solidFill>
                  <a:srgbClr val="c00000"/>
                </a:solidFill>
                <a:latin typeface="Constantia"/>
              </a:rPr>
              <a:t>тяжіють </a:t>
            </a:r>
            <a:r>
              <a:rPr b="0" i="1" lang="uk-UA" sz="2000" spc="-1" strike="noStrike">
                <a:solidFill>
                  <a:srgbClr val="c00000"/>
                </a:solidFill>
                <a:latin typeface="Constantia"/>
              </a:rPr>
              <a:t>змішані правові системи </a:t>
            </a: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Гани, Гамбії, Нігерії, Сьєрра-Леоне, Танзанії, Бангладеш, Брунею, Індії, Пакистану, Сингапуру тощо, де запозичене англійське загальне право взаємодіє з релігійними і традиційними правовими системами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2" descr="C:\Documents and Settings\larisa\Рабочий стол\ПП\Порівняльне правознавство\англо-саксонська\Англія\Здания Парламента (Вестминстерский дворец).jpg"/>
          <p:cNvPicPr/>
          <p:nvPr/>
        </p:nvPicPr>
        <p:blipFill>
          <a:blip r:embed="rId1"/>
          <a:stretch/>
        </p:blipFill>
        <p:spPr>
          <a:xfrm>
            <a:off x="766800" y="571680"/>
            <a:ext cx="7610400" cy="571500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2" descr="C:\Documents and Settings\larisa\Рабочий стол\ПП\Порівняльне правознавство\англо-саксонська\Англія\Зал заседаний шотландского парламента.jpg"/>
          <p:cNvPicPr/>
          <p:nvPr/>
        </p:nvPicPr>
        <p:blipFill>
          <a:blip r:embed="rId1"/>
          <a:stretch/>
        </p:blipFill>
        <p:spPr>
          <a:xfrm>
            <a:off x="762120" y="642960"/>
            <a:ext cx="7619760" cy="557208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wheel spokes="2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2" descr="C:\Documents and Settings\larisa\Рабочий стол\ПП\Порівняльне правознавство\англо-саксонська\Англія\Зал заседаний суда.JPG"/>
          <p:cNvPicPr/>
          <p:nvPr/>
        </p:nvPicPr>
        <p:blipFill>
          <a:blip r:embed="rId1"/>
          <a:stretch/>
        </p:blipFill>
        <p:spPr>
          <a:xfrm>
            <a:off x="1214280" y="1071720"/>
            <a:ext cx="6383520" cy="478764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ser</dc:creator>
  <dc:description/>
  <dc:language>en-US</dc:language>
  <cp:lastModifiedBy>User</cp:lastModifiedBy>
  <dcterms:modified xsi:type="dcterms:W3CDTF">2020-09-02T08:27:57Z</dcterms:modified>
  <cp:revision>31</cp:revision>
  <dc:subject/>
  <dc:title>ЛЕКЦІЯ 3</dc:title>
</cp:coreProperties>
</file>