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9F40-2C91-4DB5-95AA-3AD11C42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31CF-C9AB-489B-91B7-4C57FEC3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DC1-1B8F-4B91-AFE4-CED5DC12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D9A-DC81-40DF-A22D-8720FFEC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84C5-4D93-412B-A79F-F95C55D3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0B4A-655A-4447-BDD9-BA3ED3E6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30FB-115E-4A85-B601-FC38716D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BE4D-1E98-4124-B3B4-358A9EEA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9793-7D10-4598-8B28-C18EC21E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D2B2-32A6-424E-8492-E11E7D75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A8FF-66C4-4694-80BB-EFD153AC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E855-93E3-4278-9270-82AAEABF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AE2F-618E-4839-B862-D070352E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5B6F-53A9-446B-B9A9-BD52A24A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1B1A-A1F8-476E-BC5C-BD55A01E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D285-05EC-4590-85DD-F2EBF234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7D1C-02B1-4DAF-BE0D-599AC56B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59569-3E87-469E-B4B0-68E82D5C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3E446-8976-4B59-85EF-05FBF994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F0105-C5E3-4E06-B297-8DA58576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A68B8-5781-4DD9-94A2-78F837ED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82DA5-E10F-4068-968D-316C6424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4B6-49BC-473F-A19E-3F8A6A4D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7D572-5078-4B0D-9FE9-E2873952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77C6B-8A28-40ED-AEC8-6D3E1325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FF1B2-727B-40D6-AA4E-11106166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29BFA-E05A-4C40-9D57-EBA3C17E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81544-2887-4576-8BB7-34CD3097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2B9BD-F675-4EEE-BC5A-C1B04DB8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C63DD-5439-45BB-803D-462C8264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99E64-337A-4313-80A4-15B9CCE8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2C77F-0692-46E7-9B12-25A9BC01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CB401-D004-43D4-8848-ACD06097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626-B273-4BFC-916D-FAD49099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DDE81-53A4-40FC-BE1B-60FC8D4E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2E5C8-1D5A-4E6D-9DB0-A5774B72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286D2-4086-454A-A2F1-BBF63C44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226AD-2C1C-4024-9BFD-D9AA20AC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98737-5AC2-43F8-B10D-3DE866CC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13C5A-0126-4C9B-B66C-D69F2BE1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CB427-A801-4113-9991-E14D41F8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2C83D-55A8-4D85-93F3-C1C7050E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2F53B-907C-4894-918F-D46013E9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455A-E56E-4D38-B581-49246613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5DB3-ED52-4227-9A18-64AF4368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5139-117B-43F1-A093-27B2757B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66C-B396-4B16-979D-CDD0752F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5A3-0ED9-49E3-8894-FAC7A5B9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EE85-482F-4F7A-8527-40999043307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B3E7-B453-4F2E-B8CE-7F1B5E9EC57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F9F3-174F-4333-87DD-AE75FF7A7B6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155D-C620-4986-93D1-54AECD1BF50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7785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57232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Constantia"/>
              </a:rPr>
              <a:t>ЗАГАЛЬНА ХАРАКТЕРИСТИКА АНГЛО-АМЕРИКАНСЬКОЇ ПРАВОВОЇ СИСТЕМ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larisa\Рабочий стол\ПП\Порівняльне правознавство\англо-саксонська\Англія\Мидлсексская ратуша, где располагаются одновременно Судебный комитет и Верховный суд Великобритании.jpg"/>
          <p:cNvPicPr/>
          <p:nvPr/>
        </p:nvPicPr>
        <p:blipFill>
          <a:blip r:embed="rId1"/>
          <a:stretch/>
        </p:blipFill>
        <p:spPr>
          <a:xfrm>
            <a:off x="762120" y="576360"/>
            <a:ext cx="7619760" cy="5705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Право СШ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ає своїм історичним джерелом англійське загальне право, але на сьогодні є цілком самостійним і суттєво відрізняється від англійсько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larisa\Рабочий стол\ПП\Порівняльне правознавство\англо-саксонська\США\резиденция президента.JPG"/>
          <p:cNvPicPr/>
          <p:nvPr/>
        </p:nvPicPr>
        <p:blipFill>
          <a:blip r:embed="rId1"/>
          <a:stretch/>
        </p:blipFill>
        <p:spPr>
          <a:xfrm>
            <a:off x="762120" y="604800"/>
            <a:ext cx="7619760" cy="5648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larisa\Рабочий стол\ПП\Порівняльне правознавство\англо-саксонська\США\овальний кабинет.jpg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larisa\Рабочий стол\ПП\Порівняльне правознавство\англо-саксонська\США\Конгресс США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larisa\Рабочий стол\ПП\Порівняльне правознавство\англо-саксонська\США\Зал заседаний Сената.jpg"/>
          <p:cNvPicPr/>
          <p:nvPr/>
        </p:nvPicPr>
        <p:blipFill>
          <a:blip r:embed="rId1"/>
          <a:stretch/>
        </p:blipFill>
        <p:spPr>
          <a:xfrm>
            <a:off x="928800" y="714240"/>
            <a:ext cx="7030800" cy="5543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ана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larisa\Рабочий стол\ПП\Порівняльне правознавство\англо-саксонська\Канада\Будинок уряду в Едмонтоні, Альберта, Канада.jpg"/>
          <p:cNvPicPr/>
          <p:nvPr/>
        </p:nvPicPr>
        <p:blipFill>
          <a:blip r:embed="rId1"/>
          <a:stretch/>
        </p:blipFill>
        <p:spPr>
          <a:xfrm>
            <a:off x="1143000" y="714240"/>
            <a:ext cx="7174080" cy="4680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larisa\Рабочий стол\ПП\Порівняльне правознавство\англо-саксонська\Канада\Канадский парламент, Оттава.jpg"/>
          <p:cNvPicPr/>
          <p:nvPr/>
        </p:nvPicPr>
        <p:blipFill>
          <a:blip r:embed="rId1"/>
          <a:stretch/>
        </p:blipFill>
        <p:spPr>
          <a:xfrm>
            <a:off x="1092240" y="495360"/>
            <a:ext cx="695952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larisa\Рабочий стол\ПП\Порівняльне правознавство\англо-саксонська\Канада\зал Сената..JPG"/>
          <p:cNvPicPr/>
          <p:nvPr/>
        </p:nvPicPr>
        <p:blipFill>
          <a:blip r:embed="rId1"/>
          <a:stretch/>
        </p:blipFill>
        <p:spPr>
          <a:xfrm>
            <a:off x="1928880" y="642960"/>
            <a:ext cx="5479920" cy="5472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. Особливості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Основні етапи розвитку англійської правової систе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3. Виникнення та реформування загального пра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4. Загальне право: поняття та особливост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5. Право справедливості і його співвідношення з загальним прав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6. Джерела права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larisa\Рабочий стол\ПП\Порівняльне правознавство\англо-саксонська\Канада\зал сената.JPG"/>
          <p:cNvPicPr/>
          <p:nvPr/>
        </p:nvPicPr>
        <p:blipFill>
          <a:blip r:embed="rId1"/>
          <a:stretch/>
        </p:blipFill>
        <p:spPr>
          <a:xfrm>
            <a:off x="1214280" y="1143000"/>
            <a:ext cx="7318440" cy="4859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larisa\Рабочий стол\ПП\Порівняльне правознавство\англо-саксонська\Канада\официальная резиденция генерал-губернатора Канады.jpg"/>
          <p:cNvPicPr/>
          <p:nvPr/>
        </p:nvPicPr>
        <p:blipFill>
          <a:blip r:embed="rId1"/>
          <a:stretch/>
        </p:blipFill>
        <p:spPr>
          <a:xfrm>
            <a:off x="127080" y="495360"/>
            <a:ext cx="888984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</a:t>
            </a:r>
            <a:r>
              <a:rPr b="1" lang="uk-UA" sz="4400" spc="-1" strike="noStrike">
                <a:solidFill>
                  <a:srgbClr val="04617b"/>
                </a:solidFill>
                <a:latin typeface="Calibri"/>
              </a:rPr>
              <a:t>нгло-американська правова сім‘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 'я англо-америка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підкреслює той факт, що саме англійське та американське право становлять основу двох самостійних груп і домінують у цій правовій сім'ї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загальн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икористання якого пояснюється тим, що в розвитку правових систем цієї правової сім'ї основна роль належить нормам, створеним судовою практикою (тобто загальному праву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англосаксо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демонструє те, що правові системи, які входять до цієї правової сім'ї, склалися під впливом системи і принципів англійськ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й термін, стосується тільки найдавнішого періоду розвитку права Англії.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ступність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рецепції римськ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уддівський за своєю природою та змістом характер пра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Розвиток загального права юристами-практик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енш абстрактний характер норм, ніж у романо-германському прав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окремлення в англосаксонському праві прецедентного та статутн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Існування в англосаксонському праві загального права та права справедливост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принципового значення поділу на приватне і публіч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ість поділу на матеріальне і процесуаль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епоширеність кодификації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Змагальна судова процеду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а роль інституту суду присяжни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Основні етапи розвитку англійської правової систе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І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: англійське право до норманського завоювання (до 1066р.), або англосаксонський пері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формування системи загального права завдяки діяльності королівських суддів (1066р.—друга половина ХІУст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I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еформування архаїчного загального права і перехід до сучасного права (друга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V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 — сере­д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V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подальший розвиток системи загального права, набуття нею сучасних рис (середина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ст. — нинішні час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"/>
              </a:rPr>
              <a:t>3. Виникнення та реформування загаль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ормани змогли запровадити загальне для всієї території завойованої країни право, звідси і назва англійської системи права —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загальне пра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запровадження загальної для всієї країни правової системи створили систему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суворо централізованих судів, підзвітних лише королю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головним королівським судом, заснованим як противага місцевим судам, була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Королівська рада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У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І століттях у системі королівських судів з‘явилася низка нових судових органі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57200"/>
            <a:ext cx="8472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азначейств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підрозділ Королівської ради і займався податками і зборами. Згодом - почав вирішувати спори фінансового характеру і податкові справ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ассиз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що розглядав справи у виїзних засіданнях. Країна була розділена округами. Судді, переміщаючись по цих округах, проводили засідання суду в кожному місті округу. З часом стали займатися виключно кримінальними справ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низка нових судових органів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загальних позов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створений для вирішення в основному спорів майнового характеру між приватними особ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оролівської лав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створений як орган з розгляду публічних справ і питань, що торкалися інтересів держави (на суді головував корол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ва цих судів призводить до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еншення значення Королівської рад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як судового орган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Англії існували ще кілька видів судів, які не належали до королівських: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канонічні (церковні) суди, місцев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и громади, суди барона (феодала), суди міст, морські суд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ощ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джерел правових норм в Англії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толіття переважав правовий звича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II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і англійські судді починають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вертатися до попередніх судових ріш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исою початкового періоду розвитку англійського загального права є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мінування процесуального права над матеріальним пра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Наказ суду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це припис коро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англійське загальне пра­во піддається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реформуванн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user\Desktop\Порівняльне правознавство\Порівняльне правознавство\0034-034-Karta-rasprostranenija-pravovykh-sem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Найсуттєвішими </a:t>
            </a:r>
            <a:r>
              <a:rPr b="1" i="1" lang="uk-UA" sz="4000" spc="-1" strike="noStrike">
                <a:solidFill>
                  <a:srgbClr val="00b0f0"/>
                </a:solidFill>
                <a:latin typeface="Calibri"/>
              </a:rPr>
              <a:t>недоліками </a:t>
            </a: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загального права бул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надзвичайна суворість і негнучкість його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изнання лише єдиної санкції в цивільному праві - грошової компенсації, а в кримінальному праві одного покарання — стра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сутність засобів забезпечення явки свідків до суд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вільність і дорожнеча судової процедур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безліч дорікань на адресу системи наказів суду, що перешкоджала демократизації суду і не враховувала потреби правового розвитку краї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і у становленні сучасної правової системи Англії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1. Юридичні фікції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виникл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епоху середньовіччя як прийом, що дозволяє обійти право під виглядом суворого дотримання його приписів. Використання юридичних фікцій в англійському праві мало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на ме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ом 'якшення жорстокості норм середньовічного кримінального права (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ільги духівництву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б)розширення переліку наказів суд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в) надання суддям можливості обходити вимоги загального права про підсудність спра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раво справедливості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помагало вийти за вузькі межі загального права. 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лорд-канцлер переходить до практики вирішення в порядку нової правової процедури позовів, з якими піддані звертаються до короля. По суті, це також прецедентне право, але прецеденти тут створюються не через королівські (вестмінстерські) суди, а іншим способом (через діяльність лорда-канцлера) і до того ж на інших принци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1"/>
          <p:cNvGraphicFramePr/>
          <p:nvPr/>
        </p:nvGraphicFramePr>
        <p:xfrm>
          <a:off x="285840" y="428760"/>
          <a:ext cx="8661240" cy="56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866124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500" spc="-1" strike="noStrike">
                <a:solidFill>
                  <a:srgbClr val="04617b"/>
                </a:solidFill>
                <a:latin typeface="Calibri"/>
              </a:rPr>
              <a:t>1. Англійське пра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сідає домінуюче місце в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сім'ї загального пра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Constantia"/>
              </a:rPr>
              <a:t>Сфера застосування англійського права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, в принципі,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обмежується Англією і Вельс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 Північній Ірландії, Шотландії, на островах Ла-Маншу й острові Мен </a:t>
            </a:r>
            <a:r>
              <a:rPr b="1" lang="uk-UA" sz="2000" spc="-1" strike="noStrike">
                <a:solidFill>
                  <a:srgbClr val="c00000"/>
                </a:solidFill>
                <a:latin typeface="Constantia"/>
              </a:rPr>
              <a:t>не діє англійське право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У групу англійського права входять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равові системи Північної Ірландії, Ірландії, Канади (крім Квебеку), Австралії, Нової Зеландії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також право деяких інших держав —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колишніх колоній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ританської імперії: наприклад, Антигуа та Барбуда, Багамів, Барбадосу, Белізу, Гренади, Домініки, Науру, Сент Кітцу і Невісу, островів Тонга, Фіджі, Ямайки (на цей час ці держави є членами Британської Співдружності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 цієї групи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тяжіють </a:t>
            </a:r>
            <a:r>
              <a:rPr b="0" i="1" lang="uk-UA" sz="2000" spc="-1" strike="noStrike">
                <a:solidFill>
                  <a:srgbClr val="c00000"/>
                </a:solidFill>
                <a:latin typeface="Constantia"/>
              </a:rPr>
              <a:t>змішан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ани, Гамбії, Нігерії, Сьєрра-Леоне, Танзанії, Бангладеш, Брунею, Індії, Пакистану, Сингапуру тощо, де запозичене англійське загальне право взаємодіє з релігійними і традиційними правовими систем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larisa\Рабочий стол\ПП\Порівняльне правознавство\англо-саксонська\Англія\Здания Парламента (Вестминстерский дворец)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larisa\Рабочий стол\ПП\Порівняльне правознавство\англо-саксонська\Англія\Зал заседаний шотландского парламента.jpg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larisa\Рабочий стол\ПП\Порівняльне правознавство\англо-саксонська\Англія\Зал заседаний суда.JPG"/>
          <p:cNvPicPr/>
          <p:nvPr/>
        </p:nvPicPr>
        <p:blipFill>
          <a:blip r:embed="rId1"/>
          <a:stretch/>
        </p:blipFill>
        <p:spPr>
          <a:xfrm>
            <a:off x="1214280" y="1071720"/>
            <a:ext cx="6383520" cy="4787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27:57Z</dcterms:modified>
  <cp:revision>31</cp:revision>
  <dc:subject/>
  <dc:title>ЛЕКЦІЯ 3</dc:title>
</cp:coreProperties>
</file>