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wmf" ContentType="image/x-wmf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41C7-F6BD-4F2B-B830-1CD5F94E4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C62E-E696-44C2-A190-2C1D4AFE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EE15-F9C5-4EFD-AD85-DD83D2139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BE94-BB96-4293-A26F-CD32D97A4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43682-9D80-494D-8D3A-E3B781197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72EA-569D-40C8-831D-A6FF5612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792F-FDFB-4924-88E2-E7820B5B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0392-07F2-4C4D-A219-5C9A204C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FCAB-CA88-42A4-91FD-FECB96CE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05E6-D88E-43B7-B2FF-C75BD030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9875A-1FA8-429C-8B04-D3C58DA6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E8C0-816E-42C4-9AC3-6A4015FC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6F74-C0F9-4745-B5AF-A6B62821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51B5-FAF6-45DD-ABC0-ABEB4E75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BE46-8942-47A4-B09A-72929BEB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0B49-EAA9-42E9-8CDB-5DA0AA0AB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B4AD-06D7-45C8-B697-4C6FFEA09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0031F-BB9E-4631-B9C8-771D381F4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8985F-655E-4494-96A0-DED7D32EC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187D0-40D9-4A51-80B9-F20599DE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A6721-16F0-452D-8709-5A817530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23A9D-22E7-45E0-85FA-6F5AB4B9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4CAC-CEC7-4817-9817-A5862F56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EADD7-F685-41B7-91B5-BB338F1D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8888B-4A7A-417B-88EA-AFF0331C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5900E-0790-4346-8893-AEFCD13F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553D2-1A28-47D9-B4CE-14517F6A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15EDE-3353-43C2-9F89-C199C294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81A2D-ABA5-49D0-B3EB-C6F177DAD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8C1AB-2DB4-4386-8090-9DC3CEF15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5D1E2-6D08-452C-B459-0D271EABF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88AD0-45EA-4173-B6B1-8966D4D1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A93B1-C408-4491-A978-A99E0961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48D7-E5EF-4C61-BB9C-9AD421B3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90CC6-115C-4757-8103-A426959A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AE460-BE01-4166-B19C-D01B2949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67442-6F54-455B-AEF0-2456DBFD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7127D-CE22-4364-B67E-890D010F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92CCE-94CD-4A19-BFD4-8C082BEE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E61C7-F98D-49FB-92A3-EE86A093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809C1-F89A-4741-B236-C2702D23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20466-BDA7-425C-B181-B69A8450F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FCF1F-2067-404F-AC3F-2183B9DF7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2A88-9FBF-4C8E-B831-EE5F252E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730D-7A72-4CE4-A08E-200142CD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04F8-8330-4434-92A2-487849A8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A0C5-5A7E-491C-8559-7E6464CF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503D-B59D-410F-802E-B12B2C1B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DD39-9521-4329-8B5E-2262B260D98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BA57-C9C4-4623-A67C-CE7A99CBB6D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1D69-746F-4D56-BD18-C9CE2F00314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D5C1-7298-48FB-8E38-18543EF21FE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82560" y="853920"/>
            <a:ext cx="7785000" cy="16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28760" y="2571480"/>
            <a:ext cx="8572320" cy="3066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7030a0"/>
                </a:solidFill>
                <a:latin typeface="Constantia"/>
              </a:rPr>
              <a:t>ЗАГАЛЬНА ХАРАКТЕРИСТИКА АНГЛО-АМЕРИКАНСЬКОЇ ПРАВОВОЇ СИСТЕМИ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C:\Documents and Settings\larisa\Рабочий стол\ПП\Порівняльне правознавство\англо-саксонська\Англія\Мидлсексская ратуша, где располагаются одновременно Судебный комитет и Верховный суд Великобритании.jpg"/>
          <p:cNvPicPr/>
          <p:nvPr/>
        </p:nvPicPr>
        <p:blipFill>
          <a:blip r:embed="rId1"/>
          <a:stretch/>
        </p:blipFill>
        <p:spPr>
          <a:xfrm>
            <a:off x="762120" y="576360"/>
            <a:ext cx="7619760" cy="5705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000" spc="-1" strike="noStrike">
                <a:solidFill>
                  <a:srgbClr val="04617b"/>
                </a:solidFill>
                <a:latin typeface="Calibri"/>
              </a:rPr>
              <a:t>Право СШ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має своїм історичним джерелом англійське загальне право, але на сьогодні є цілком самостійним і суттєво відрізняється від англійського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C:\Documents and Settings\larisa\Рабочий стол\ПП\Порівняльне правознавство\англо-саксонська\США\резиденция президента.JPG"/>
          <p:cNvPicPr/>
          <p:nvPr/>
        </p:nvPicPr>
        <p:blipFill>
          <a:blip r:embed="rId1"/>
          <a:stretch/>
        </p:blipFill>
        <p:spPr>
          <a:xfrm>
            <a:off x="762120" y="604800"/>
            <a:ext cx="7619760" cy="56484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C:\Documents and Settings\larisa\Рабочий стол\ПП\Порівняльне правознавство\англо-саксонська\США\овальний кабинет.jpg"/>
          <p:cNvPicPr/>
          <p:nvPr/>
        </p:nvPicPr>
        <p:blipFill>
          <a:blip r:embed="rId1"/>
          <a:stretch/>
        </p:blipFill>
        <p:spPr>
          <a:xfrm>
            <a:off x="762120" y="1028880"/>
            <a:ext cx="7619760" cy="48006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C:\Documents and Settings\larisa\Рабочий стол\ПП\Порівняльне правознавство\англо-саксонська\США\Конгресс США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C:\Documents and Settings\larisa\Рабочий стол\ПП\Порівняльне правознавство\англо-саксонська\США\Зал заседаний Сената.jpg"/>
          <p:cNvPicPr/>
          <p:nvPr/>
        </p:nvPicPr>
        <p:blipFill>
          <a:blip r:embed="rId1"/>
          <a:stretch/>
        </p:blipFill>
        <p:spPr>
          <a:xfrm>
            <a:off x="928800" y="714240"/>
            <a:ext cx="7030800" cy="55436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канад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C:\Documents and Settings\larisa\Рабочий стол\ПП\Порівняльне правознавство\англо-саксонська\Канада\Будинок уряду в Едмонтоні, Альберта, Канада.jpg"/>
          <p:cNvPicPr/>
          <p:nvPr/>
        </p:nvPicPr>
        <p:blipFill>
          <a:blip r:embed="rId1"/>
          <a:stretch/>
        </p:blipFill>
        <p:spPr>
          <a:xfrm>
            <a:off x="1143000" y="714240"/>
            <a:ext cx="7174080" cy="4680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C:\Documents and Settings\larisa\Рабочий стол\ПП\Порівняльне правознавство\англо-саксонська\Канада\Канадский парламент, Оттава.jpg"/>
          <p:cNvPicPr/>
          <p:nvPr/>
        </p:nvPicPr>
        <p:blipFill>
          <a:blip r:embed="rId1"/>
          <a:stretch/>
        </p:blipFill>
        <p:spPr>
          <a:xfrm>
            <a:off x="1092240" y="495360"/>
            <a:ext cx="6959520" cy="5867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C:\Documents and Settings\larisa\Рабочий стол\ПП\Порівняльне правознавство\англо-саксонська\Канада\зал Сената..JPG"/>
          <p:cNvPicPr/>
          <p:nvPr/>
        </p:nvPicPr>
        <p:blipFill>
          <a:blip r:embed="rId1"/>
          <a:stretch/>
        </p:blipFill>
        <p:spPr>
          <a:xfrm>
            <a:off x="1928880" y="642960"/>
            <a:ext cx="5479920" cy="5472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ПЛА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1. Особливості англо-американської правової сім'ї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2. Основні етапи розвитку англійської правової систе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3. Виникнення та реформування загального прав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4. Загальне право: поняття та особливості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5. Право справедливості і його співвідношення з загальним право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6. Джерела права англо-американської правової сім'ї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C:\Documents and Settings\larisa\Рабочий стол\ПП\Порівняльне правознавство\англо-саксонська\Канада\зал сената.JPG"/>
          <p:cNvPicPr/>
          <p:nvPr/>
        </p:nvPicPr>
        <p:blipFill>
          <a:blip r:embed="rId1"/>
          <a:stretch/>
        </p:blipFill>
        <p:spPr>
          <a:xfrm>
            <a:off x="1214280" y="1143000"/>
            <a:ext cx="7318440" cy="4859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C:\Documents and Settings\larisa\Рабочий стол\ПП\Порівняльне правознавство\англо-саксонська\Канада\официальная резиденция генерал-губернатора Канады.jpg"/>
          <p:cNvPicPr/>
          <p:nvPr/>
        </p:nvPicPr>
        <p:blipFill>
          <a:blip r:embed="rId1"/>
          <a:stretch/>
        </p:blipFill>
        <p:spPr>
          <a:xfrm>
            <a:off x="127080" y="495360"/>
            <a:ext cx="8889840" cy="5867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А</a:t>
            </a:r>
            <a:r>
              <a:rPr b="1" lang="uk-UA" sz="4400" spc="-1" strike="noStrike">
                <a:solidFill>
                  <a:srgbClr val="04617b"/>
                </a:solidFill>
                <a:latin typeface="Calibri"/>
              </a:rPr>
              <a:t>нгло-американська правова сім‘я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nstantia"/>
              </a:rPr>
              <a:t>«сім 'я англо-американського права»,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який підкреслює той факт, що саме англійське та американське право становлять основу двох самостійних груп і домінують у цій правовій сім'ї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nstantia"/>
              </a:rPr>
              <a:t>«сім'я загального права»,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використання якого пояснюється тим, що в розвитку правових систем цієї правової сім'ї основна роль належить нормам, створеним судовою практикою (тобто загальному праву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nstantia"/>
              </a:rPr>
              <a:t>«сім'я англосаксонського права»,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який демонструє те, що правові системи, які входять до цієї правової сім'ї, склалися під впливом системи і принципів англійського права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цей термін, стосується тільки найдавнішого періоду розвитку права Англії.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Особливості сім'ї англо-американськ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ступність прав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ідсутність рецепції римського прав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уддівський за своєю природою та змістом характер прав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Розвиток загального права юристами-практиками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Менш абстрактний характер норм, ніж у романо-германському праві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иокремлення в англосаксонському праві прецедентного та статутного прав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Особливості сім'ї англо-американськ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Існування в англосаксонському праві загального права та права справедливості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ідсутність принципового значення поділу на приватне і публічне право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ажливість поділу на матеріальне і процесуальне право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епоширеність кодификації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Змагальна судова процедур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ажлива роль інституту суду присяжних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Calibri"/>
              </a:rPr>
              <a:t>Основні етапи розвитку англійської правової систем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І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: англійське право до норманського завоювання (до 1066р.), або англосаксонський період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формування системи загального права завдяки діяльності королівських суддів (1066р.—друга половина ХІУст.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III</a:t>
            </a: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: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реформування архаїчного загального права і перехід до сучасного права (друга половина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XIV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т. — сере­дина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XIX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т.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IV</a:t>
            </a:r>
            <a:r>
              <a:rPr b="0" lang="ru-RU" sz="2400" spc="-1" strike="noStrike">
                <a:solidFill>
                  <a:srgbClr val="7030a0"/>
                </a:solidFill>
                <a:latin typeface="Constantia"/>
              </a:rPr>
              <a:t>: </a:t>
            </a: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подальший розвиток системи загального права, набуття нею сучасних рис (середина </a:t>
            </a:r>
            <a:r>
              <a:rPr b="0" lang="en-US" sz="2400" spc="-1" strike="noStrike">
                <a:solidFill>
                  <a:srgbClr val="7030a0"/>
                </a:solidFill>
                <a:latin typeface="Constantia"/>
              </a:rPr>
              <a:t>XIX </a:t>
            </a: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ст. — нинішні часи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7030a0"/>
                </a:solidFill>
                <a:latin typeface="Calibri"/>
              </a:rPr>
              <a:t>3. Виникнення та реформування загальн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Нормани змогли запровадити загальне для всієї території завойованої країни право, звідси і назва англійської системи права — </a:t>
            </a:r>
            <a:r>
              <a:rPr b="0" i="1" lang="uk-UA" sz="2600" spc="-1" strike="noStrike">
                <a:solidFill>
                  <a:srgbClr val="ff0000"/>
                </a:solidFill>
                <a:latin typeface="Constantia"/>
              </a:rPr>
              <a:t>загальне прав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для запровадження загальної для всієї країни правової системи створили систему </a:t>
            </a:r>
            <a:r>
              <a:rPr b="0" i="1" lang="uk-UA" sz="2600" spc="-1" strike="noStrike">
                <a:solidFill>
                  <a:srgbClr val="000000"/>
                </a:solidFill>
                <a:latin typeface="Constantia"/>
              </a:rPr>
              <a:t>суворо централізованих судів, підзвітних лише королю.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ершим головним королівським судом, заснованим як противага місцевим судам, була </a:t>
            </a:r>
            <a:r>
              <a:rPr b="0" i="1" lang="uk-UA" sz="2600" spc="-1" strike="noStrike">
                <a:solidFill>
                  <a:srgbClr val="ff0000"/>
                </a:solidFill>
                <a:latin typeface="Constantia"/>
              </a:rPr>
              <a:t>Королівська рада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У 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XII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—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XII</a:t>
            </a: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І століттях у системі королівських судів з‘явилася низка нових судових органів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6840" y="1357200"/>
            <a:ext cx="8472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казначейства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підрозділ Королівської ради і займався податками і зборами. Згодом - почав вирішувати спори фінансового характеру і податкові справ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ассизів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що розглядав справи у виїзних засіданнях. Країна була розділена округами. Судді, переміщаючись по цих округах, проводили засідання суду в кожному місті округу. З часом стали займатися виключно кримінальними справа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4617b"/>
                </a:solidFill>
                <a:latin typeface="Calibri"/>
              </a:rPr>
              <a:t>низка нових судових органів: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загальних позовів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створений для вирішення в основному спорів майнового характеру між приватними особам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королівської лав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— створений як орган з розгляду публічних справ і питань, що торкалися інтересів держави (на суді головував король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ява цих судів призводить до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зменшення значення Королівської рад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як судового орган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Англії існували ще кілька видів судів, які не належали до королівських: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канонічні (церковні) суди, місцеві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и громади, суди барона (феодала), суди міст, морські суд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тощ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еред джерел правових норм в Англії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до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толіття переважав правовий звича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III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олітті англійські судді починають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звертатися до попередніх судових рішен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рисою початкового періоду розвитку англійського загального права є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домінування процесуального права над матеріальним прав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Наказ суду</a:t>
            </a:r>
            <a:r>
              <a:rPr b="0" i="1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— це припис корол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оліття англійське загальне пра­во піддається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реформуванн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C:\Documents and Settings\user\Desktop\Порівняльне правознавство\Порівняльне правознавство\0034-034-Karta-rasprostranenija-pravovykh-semej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b0f0"/>
                </a:solidFill>
                <a:latin typeface="Calibri"/>
              </a:rPr>
              <a:t>Найсуттєвішими </a:t>
            </a:r>
            <a:r>
              <a:rPr b="1" i="1" lang="uk-UA" sz="4000" spc="-1" strike="noStrike">
                <a:solidFill>
                  <a:srgbClr val="00b0f0"/>
                </a:solidFill>
                <a:latin typeface="Calibri"/>
              </a:rPr>
              <a:t>недоліками </a:t>
            </a:r>
            <a:r>
              <a:rPr b="1" lang="uk-UA" sz="4000" spc="-1" strike="noStrike">
                <a:solidFill>
                  <a:srgbClr val="00b0f0"/>
                </a:solidFill>
                <a:latin typeface="Calibri"/>
              </a:rPr>
              <a:t>загального права були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400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- надзвичайна суворість і негнучкість його нор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- визнання лише єдиної санкції в цивільному праві - грошової компенсації, а в кримінальному праві одного покарання — стра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ідсутність засобів забезпечення явки свідків до суду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вільність і дорожнеча судової процедур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безліч дорікань на адресу системи наказів суду, що перешкоджала демократизації суду і не враховувала потреби правового розвитку країн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490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Інститути, що відіграли найбільш важливу роль у реформі архаїчних норм загального права і у становленні сучасної правової системи Англії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6840" y="1934640"/>
            <a:ext cx="8472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1. Юридичні фікції </a:t>
            </a:r>
            <a:r>
              <a:rPr b="0" i="1" lang="uk-UA" sz="2600" spc="-1" strike="noStrike">
                <a:solidFill>
                  <a:srgbClr val="000000"/>
                </a:solidFill>
                <a:latin typeface="Constantia"/>
              </a:rPr>
              <a:t>виникл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епоху середньовіччя як прийом, що дозволяє обійти право під виглядом суворого дотримання його приписів. Використання юридичних фікцій в англійському праві мало </a:t>
            </a:r>
            <a:r>
              <a:rPr b="0" lang="uk-UA" sz="2600" spc="-1" strike="noStrike">
                <a:solidFill>
                  <a:srgbClr val="00b0f0"/>
                </a:solidFill>
                <a:latin typeface="Constantia"/>
              </a:rPr>
              <a:t>на меті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а)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пом 'якшення жорстокості норм середньовічного кримінального права (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ільги духівництву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б)розширення переліку наказів суду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в) надання суддям можливості обходити вимоги загального права про підсудність спра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Calibri"/>
              </a:rPr>
              <a:t>Інститути, що відіграли найбільш важливу роль у реформі архаїчних норм загального права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Право справедливості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д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опомагало вийти за вузькі межі загального права. З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оліття лорд-канцлер переходить до практики вирішення в порядку нової правової процедури позовів, з якими піддані звертаються до короля. По суті, це також прецедентне право, але прецеденти тут створюються не через королівські (вестмінстерські) суди, а іншим способом (через діяльність лорда-канцлера) і до того ж на інших принципа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19080" y="701640"/>
            <a:ext cx="9180360" cy="25178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Object 1"/>
          <p:cNvGraphicFramePr/>
          <p:nvPr/>
        </p:nvGraphicFramePr>
        <p:xfrm>
          <a:off x="285840" y="428760"/>
          <a:ext cx="8661240" cy="56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428760"/>
                    <a:ext cx="8661240" cy="56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500" spc="-1" strike="noStrike">
                <a:solidFill>
                  <a:srgbClr val="04617b"/>
                </a:solidFill>
                <a:latin typeface="Calibri"/>
              </a:rPr>
              <a:t>1. Англійське право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осідає домінуюче місце в 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сім'ї загального прав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030a0"/>
                </a:solidFill>
                <a:latin typeface="Constantia"/>
              </a:rPr>
              <a:t>Сфера застосування англійського права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, в принципі, </a:t>
            </a: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обмежується Англією і Вельсом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У Північній Ірландії, Шотландії, на островах Ла-Маншу й острові Мен </a:t>
            </a:r>
            <a:r>
              <a:rPr b="1" lang="uk-UA" sz="2000" spc="-1" strike="noStrike">
                <a:solidFill>
                  <a:srgbClr val="c00000"/>
                </a:solidFill>
                <a:latin typeface="Constantia"/>
              </a:rPr>
              <a:t>не діє англійське право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У групу англійського права входять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равові системи Північної Ірландії, Ірландії, Канади (крім Квебеку), Австралії, Нової Зеландії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а також право деяких інших держав — </a:t>
            </a: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колишніх колоній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Британської імперії: наприклад, Антигуа та Барбуда, Багамів, Барбадосу, Белізу, Гренади, Домініки, Науру, Сент Кітцу і Невісу, островів Тонга, Фіджі, Ямайки (на цей час ці держави є членами Британської Співдружності)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До цієї групи </a:t>
            </a: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тяжіють </a:t>
            </a:r>
            <a:r>
              <a:rPr b="0" i="1" lang="uk-UA" sz="2000" spc="-1" strike="noStrike">
                <a:solidFill>
                  <a:srgbClr val="c00000"/>
                </a:solidFill>
                <a:latin typeface="Constantia"/>
              </a:rPr>
              <a:t>змішані правові системи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Гани, Гамбії, Нігерії, Сьєрра-Леоне, Танзанії, Бангладеш, Брунею, Індії, Пакистану, Сингапуру тощо, де запозичене англійське загальне право взаємодіє з релігійними і традиційними правовими системам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larisa\Рабочий стол\ПП\Порівняльне правознавство\англо-саксонська\Англія\Здания Парламента (Вестминстерский дворец).jpg"/>
          <p:cNvPicPr/>
          <p:nvPr/>
        </p:nvPicPr>
        <p:blipFill>
          <a:blip r:embed="rId1"/>
          <a:stretch/>
        </p:blipFill>
        <p:spPr>
          <a:xfrm>
            <a:off x="766800" y="571680"/>
            <a:ext cx="7610400" cy="5715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C:\Documents and Settings\larisa\Рабочий стол\ПП\Порівняльне правознавство\англо-саксонська\Англія\Зал заседаний шотландского парламента.jpg"/>
          <p:cNvPicPr/>
          <p:nvPr/>
        </p:nvPicPr>
        <p:blipFill>
          <a:blip r:embed="rId1"/>
          <a:stretch/>
        </p:blipFill>
        <p:spPr>
          <a:xfrm>
            <a:off x="762120" y="642960"/>
            <a:ext cx="7619760" cy="55720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C:\Documents and Settings\larisa\Рабочий стол\ПП\Порівняльне правознавство\англо-саксонська\Англія\Зал заседаний суда.JPG"/>
          <p:cNvPicPr/>
          <p:nvPr/>
        </p:nvPicPr>
        <p:blipFill>
          <a:blip r:embed="rId1"/>
          <a:stretch/>
        </p:blipFill>
        <p:spPr>
          <a:xfrm>
            <a:off x="1214280" y="1071720"/>
            <a:ext cx="6383520" cy="47876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0-09-02T08:27:57Z</dcterms:modified>
  <cp:revision>31</cp:revision>
  <dc:subject/>
  <dc:title>ЛЕКЦІЯ 3</dc:title>
</cp:coreProperties>
</file>