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D1B0E-80DF-492E-82F6-C64DF93A0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F07BB-1FB6-4113-A655-8FF9C9E57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CF4D5-37E8-4DB5-A2FC-F9349722A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31F42-36D8-4CB3-AC8C-142E4E98E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4CB05-9201-4EDE-9F9E-7223A4BEF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46D89-04F7-45D9-91E2-3AC78B686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2722C-B54D-45CB-8EF0-DBC78AB4C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750DA-D864-475D-A698-5F2E0CF3F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4DAD8-30B9-4372-903B-D40B41F79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7846F-5525-468D-89AA-55CEE512D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7FC2C-9876-4D50-AF8C-8D3F851A8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CD1F6-7C22-488B-98B9-ED130D380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90EE0-14F3-44F4-BD5C-698BDB92A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493EB-966C-4043-ABA0-3AA73EF48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8766D-4B92-4183-BC84-46A45F17C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6EA07C-0996-4E33-BD0D-20C0CC4F1E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3C6DBB-9341-4F3C-A19E-D219356D26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A186A3-CEA0-4F55-A6DF-78AC4A71FE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C957DB-CC3D-4616-8327-595ECBE2CF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5D7A15-21D0-493E-885F-1EC8145D0B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746A2B-E62E-4591-AD25-1152DB5169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6076E8-D33B-4B9A-967B-209F1A1D9A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8A738-A6DC-4891-9D4C-DC8A287A4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404340-8E4E-4412-9C73-0F5891E0F7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3A5E7B-01FD-4589-A8AC-FBA69B753F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410932-8B3B-48A4-8900-E55B27C36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76A5F-A4B6-443A-900E-2AF9D3422C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79AF2A-0419-4E53-B16E-8FCF2FCB60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969746-F358-43C7-B8EC-CE117EC34A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B74281-62C1-4DF0-9E57-BD6816B8E6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5F597B-ADD1-47F6-94FE-A6BE46D29A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8A6F01-15FB-42A4-ADA0-F0D7E43849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FC3CAB-9D11-43A2-BD8A-F2A7117A2D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3108F-5451-4D90-A566-1D39DB38E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DC4A41-F08D-4C27-9F9C-3F6FBA6F8A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5654F0-86B9-4F85-9E39-6593B7023D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7883EB-826A-4579-B5D2-4598D1B64F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76E9AF-A24E-49B3-B99A-06F84D1A6E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4C34E3-7375-4775-877B-D07C12866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BA124E-A8F5-4D1F-A0A6-8A681A644A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74B0E0-4F9E-497A-8D36-70DF3B15E9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240476-9FE0-43F4-A397-4D461E639C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F34260-E803-45A4-818F-BE2C66A7B9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2E18E3-7142-4FC6-B5C0-6F51767080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EC7DC-56F5-41CF-87C6-A77448DBD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D786BE-2813-43F3-BE66-89FF7AA746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EF1E86-29DC-4574-9015-E342F3C291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4C4BE0-BDD7-415F-BFC4-585DF01780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39397F-245E-4F03-97CA-7F4B986A35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904E0A-1935-4AD9-8BC6-AC17F78B68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E5C96C-093B-4A44-88BA-5225BB5B4D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37C98-BFEF-4320-B457-B95450B80C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4298B1-D425-4336-A723-DB6D5D1E98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70CFA1-C5FC-4AA9-B1EE-97B4BAEB9E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A6FA64-F6B9-42A2-96E4-69565EBF1A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1F3BC-7B99-4E1A-80DD-E8AE78900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422792-83CE-403B-9D9B-67E2E5D389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6EC20-239B-49B1-BDC6-1AAD71F1E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DAC00-55CF-4AF9-9072-57504257C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8B7C0-D321-4438-8658-1ECD174AB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0098-77E3-4E76-B7F7-F99838E28BB2}"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773D8-8D3C-43BF-9119-1E45D280FBEA}"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54E96-43FF-4A9E-9A61-7A78260EFD82}"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045C-476D-4642-BC96-BBBF0ACFF83C}"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5FE8-B3A1-4B59-AD33-C91AF5A611F9}"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00040"/>
            <a:ext cx="7772400" cy="578664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4c79d"/>
                </a:solidFill>
                <a:latin typeface="Verdana"/>
              </a:rPr>
              <a:t>  </a:t>
            </a:r>
            <a:r>
              <a:rPr b="1" lang="uk-UA" sz="4100" spc="-1" strike="noStrike">
                <a:solidFill>
                  <a:srgbClr val="b4c79d"/>
                </a:solidFill>
                <a:latin typeface="Verdana"/>
              </a:rPr>
              <a:t>ПРОБЛЕМИ ВЗАЄМОДІЇ МІЖНАРОДНИХ, МІЖДЕРЖАВНИХ І НАЦІОНАЛЬНИХ ПРАВОВИХ СИСТЕМ В УМОВАХ ГЛОБАЛІЗАЦІЇ ТА ІНТЕГРАЦІЇ </a:t>
            </a:r>
            <a:endParaRPr b="1" lang="en-US" sz="4100" spc="-1" strike="noStrike">
              <a:solidFill>
                <a:srgbClr val="b4c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4" descr="osakwe-300x241.jpg"/>
          <p:cNvPicPr/>
          <p:nvPr/>
        </p:nvPicPr>
        <p:blipFill>
          <a:blip r:embed="rId1"/>
          <a:stretch/>
        </p:blipFill>
        <p:spPr>
          <a:xfrm>
            <a:off x="928800" y="1500120"/>
            <a:ext cx="3500280" cy="2876760"/>
          </a:xfrm>
          <a:prstGeom prst="rect">
            <a:avLst/>
          </a:prstGeom>
          <a:ln w="0">
            <a:noFill/>
          </a:ln>
        </p:spPr>
      </p:pic>
      <p:sp>
        <p:nvSpPr>
          <p:cNvPr id="23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слуговує уваги класифікація правових систем, запропонована К. Осакве, побудована на принципах безлічі критеріїв та сукупності об'єктивних і суб'єктивних чинників. Дана класифікація правових систем відображає американську теорію права, відповідно до якої класифікація повинна проводитися на трьох рівнях, тобто на двох рівнях макрокласифікації — по правових традиціях, і на одному рівні мікрокласифікації — по правових сім'ях. На першому рівні макрокласифікації за критерієм релігійної орієнтації релігійні правові системи відмежовуються від нерелігійних. До основних релігійних правових систем належать мусульманське (ісламське) право, єврейське (іудейське) право, канонічне право католицької церкви та індуське право. На другому рівні макрокласифікації нерелігійні правові системи за критерієм праворозуміння і ролі права в суспільстві поділяються на дві основні традиції: західну і незахідну. На рівні мікрокласифікації західна пра­вова традиція (тобто західне право), у свою чергу, поділяється на три правові сім'ї: романо-германську, англо-американську і скандинавську (північноєвропейську). Поняттям незахідної правової традиції об'єднано південно-східне азіатське право, африканське звичаєве право і племінне право американських індіанців.</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7" descr="default.jpeg"/>
          <p:cNvPicPr/>
          <p:nvPr/>
        </p:nvPicPr>
        <p:blipFill>
          <a:blip r:embed="rId1"/>
          <a:stretch/>
        </p:blipFill>
        <p:spPr>
          <a:xfrm>
            <a:off x="1000080" y="1500120"/>
            <a:ext cx="3071880" cy="3390840"/>
          </a:xfrm>
          <a:prstGeom prst="rect">
            <a:avLst/>
          </a:prstGeom>
          <a:ln w="0">
            <a:noFill/>
          </a:ln>
        </p:spPr>
      </p:pic>
      <p:sp>
        <p:nvSpPr>
          <p:cNvPr id="240" name=""/>
          <p:cNvSpPr txBox="1"/>
          <p:nvPr/>
        </p:nvSpPr>
        <p:spPr>
          <a:xfrm>
            <a:off x="4653000" y="1447560"/>
            <a:ext cx="3930480" cy="4267080"/>
          </a:xfrm>
          <a:prstGeom prst="rect">
            <a:avLst/>
          </a:prstGeom>
          <a:noFill/>
          <a:ln w="0">
            <a:noFill/>
          </a:ln>
        </p:spPr>
        <p:txBody>
          <a:bodyPr lIns="182880" tIns="9144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Як відзначає С.С. Алексеев, правових систем так багато, як нині багато існуючих державних утворень, та до того ж в та­кому стані, в якому знаходять відображення провідні категорії і цінності тих культур і цивілізацій, що залишилися в минулому. Це наочно і переконливо підтверджує ту обставину, що саме в праві концентрується «зв'язок часів», духовні, інтелектуальні досягнений людства, що залишаються попередніми поколіннями, починаючи від античності, а можливо і стародавніших цивілізацій, своїм нащадкам, майбутнім цивілізаціям, культурам. Це значною мірою і зумовлює сам факт існування окремих ареалів, «угрупо­вань», або за специфічною термінологією, що склалася в юрисп­руденції, — сімей юридичних систем</a:t>
            </a:r>
            <a:r>
              <a:rPr b="0" lang="uk-UA" sz="1200" spc="-1" strike="noStrike" baseline="30000">
                <a:solidFill>
                  <a:srgbClr val="000000"/>
                </a:solidFill>
                <a:latin typeface="Verdana"/>
              </a:rPr>
              <a:t>2</a:t>
            </a:r>
            <a:r>
              <a:rPr b="0" lang="uk-UA"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1" name="PlaceHolder 1"/>
          <p:cNvSpPr>
            <a:spLocks noGrp="1"/>
          </p:cNvSpPr>
          <p:nvPr>
            <p:ph/>
          </p:nvPr>
        </p:nvSpPr>
        <p:spPr>
          <a:xfrm>
            <a:off x="608040" y="579600"/>
            <a:ext cx="7964640" cy="792000"/>
          </a:xfrm>
          <a:prstGeom prst="rect">
            <a:avLst/>
          </a:prstGeom>
          <a:noFill/>
          <a:ln w="0">
            <a:noFill/>
          </a:ln>
        </p:spPr>
        <p:txBody>
          <a:bodyPr lIns="146160" tIns="91440" anchor="ctr">
            <a:normAutofit fontScale="9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Verdana"/>
              </a:rPr>
              <a:t>Критерії класифікації правових систем</a:t>
            </a:r>
            <a:endParaRPr b="0" lang="en-US" sz="2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Содержимое 4" descr="Robert-Koch-copy-219x300.jpg"/>
          <p:cNvPicPr/>
          <p:nvPr/>
        </p:nvPicPr>
        <p:blipFill>
          <a:blip r:embed="rId1"/>
          <a:stretch/>
        </p:blipFill>
        <p:spPr>
          <a:xfrm>
            <a:off x="1143000" y="1428840"/>
            <a:ext cx="2714760" cy="3230640"/>
          </a:xfrm>
          <a:prstGeom prst="rect">
            <a:avLst/>
          </a:prstGeom>
          <a:ln w="0">
            <a:noFill/>
          </a:ln>
        </p:spPr>
      </p:pic>
      <p:sp>
        <p:nvSpPr>
          <p:cNvPr id="243"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Інші обґрунтовують необхідність використання декількох критеріїв. Так, на думку </a:t>
            </a:r>
            <a:r>
              <a:rPr b="0" lang="en-US" sz="1300" spc="-1" strike="noStrike">
                <a:solidFill>
                  <a:srgbClr val="000000"/>
                </a:solidFill>
                <a:latin typeface="Verdana"/>
              </a:rPr>
              <a:t>X</a:t>
            </a:r>
            <a:r>
              <a:rPr b="0" lang="ru-RU" sz="1300" spc="-1" strike="noStrike">
                <a:solidFill>
                  <a:srgbClr val="000000"/>
                </a:solidFill>
                <a:latin typeface="Verdana"/>
              </a:rPr>
              <a:t>. Коха, У. Магнуса, П. </a:t>
            </a:r>
            <a:r>
              <a:rPr b="0" lang="uk-UA" sz="1300" spc="-1" strike="noStrike">
                <a:solidFill>
                  <a:srgbClr val="000000"/>
                </a:solidFill>
                <a:latin typeface="Verdana"/>
              </a:rPr>
              <a:t>Вінклера фон Моренфельса, при проведенні більш глибоких порівняльно-правових досліджень критерії класифікації повинні бути розши­рені. У цьому випадку кожен правопорядок слід вивчати також</a:t>
            </a:r>
            <a:endParaRPr b="0" lang="en-US" sz="13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в аспекті культурно-історичного розвитку і впливу глобальних правових ідей, з погляду особливостей правової системи в цілому (її устрій і механізм функціонування органів юстиції), правової ос­віти і учасників правового обороту, основних процесуальних при­нципів (принципів судочинства) і джерел права. Зрозуміло, список вищенаведених критеріїв не є вичерпним, і для окремих сфер правового регулювання можна виділити й інші відмінні риси і тим самим збільшити кількість критеріїв вже існуючих правових сімей або формувати їх інакше, групуючи критерії за іншим принципом</a:t>
            </a:r>
            <a:r>
              <a:rPr b="0" lang="uk-UA" sz="1300" spc="-1" strike="noStrike" baseline="30000">
                <a:solidFill>
                  <a:srgbClr val="000000"/>
                </a:solidFill>
                <a:latin typeface="Verdana"/>
              </a:rPr>
              <a:t>1</a:t>
            </a:r>
            <a:r>
              <a:rPr b="0" lang="uk-UA" sz="1300" spc="-1" strike="noStrike">
                <a:solidFill>
                  <a:srgbClr val="000000"/>
                </a:solidFill>
                <a:latin typeface="Verdana"/>
              </a:rPr>
              <a:t>.</a:t>
            </a:r>
            <a:endParaRPr b="0" lang="en-US" sz="13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Содержимое 4" descr="66020_original.jpg"/>
          <p:cNvPicPr/>
          <p:nvPr/>
        </p:nvPicPr>
        <p:blipFill>
          <a:blip r:embed="rId1"/>
          <a:stretch/>
        </p:blipFill>
        <p:spPr>
          <a:xfrm>
            <a:off x="1214280" y="1428840"/>
            <a:ext cx="2714760" cy="3000240"/>
          </a:xfrm>
          <a:prstGeom prst="rect">
            <a:avLst/>
          </a:prstGeom>
          <a:ln w="0">
            <a:noFill/>
          </a:ln>
        </p:spPr>
      </p:pic>
      <p:sp>
        <p:nvSpPr>
          <p:cNvPr id="245"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Вказуючи на вузькість традиційних західних концепцій права Г.Дж. Берман пропонує створити інтегровану, єдину юриспру­денцію, що об'єднає традиційні школи та вийде за їх межі. Ця нова юриспруденція (соціальна теорія права) повинна ґрунтува­тися не тільки на розумі, але і на відчуттях, інтуїції та вірі, на ідеї, що в право треба вірити, інакше воно не працюватиме. Соціальна теорія права повинна просунутися далі, від вивчення західних систем права і західної правової традиції, до вивчення систем і традицій права, що не належать Заходу, тобто розвива­тися у напрямку вивчення взаємодії західного і незахідного права і, таким чином, до вироблення спільної правової мови людства, до подолання кризи західної традиції права</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Содержимое 4" descr="16096.jpg"/>
          <p:cNvPicPr/>
          <p:nvPr/>
        </p:nvPicPr>
        <p:blipFill>
          <a:blip r:embed="rId1"/>
          <a:stretch/>
        </p:blipFill>
        <p:spPr>
          <a:xfrm>
            <a:off x="514440" y="857160"/>
            <a:ext cx="3932280" cy="4643640"/>
          </a:xfrm>
          <a:prstGeom prst="rect">
            <a:avLst/>
          </a:prstGeom>
          <a:ln w="0">
            <a:noFill/>
          </a:ln>
        </p:spPr>
      </p:pic>
      <p:sp>
        <p:nvSpPr>
          <p:cNvPr id="247"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ажливе місце серед правових критеріїв займають особливості походження й еволюції різних правових систем, що відобра­жають особливості функціонування правових систем на різних етапах їх розвитку. На основі даного критерію можна виявити специфіку правових систем не тільки в минулому, але й розгля­дати їх сучасний стан. Ці чинники є найважливішими критеріями для класифікації правових систем.</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Система джерел права, що закріплює правові норми, слу­жить матеріалізованими формами їх вираження. Практично в усіх класифікаціях правових систем джерела права виступають найважливішим критерієм, оскільки саме в них найяскравіше виражаються особливості різних правових систем, а також у них містяться основні правові принципи їх функціонування. Наприклад, Коран є основоположним джерелом ісламського права, що відображає всю специфіку даної правової системи. Що сто­сується загального права, то основні принципи його формування і функціонування містяться в його головному джерелі </a:t>
            </a:r>
            <a:r>
              <a:rPr b="0" lang="ru-RU" sz="1200" spc="-1" strike="noStrike">
                <a:solidFill>
                  <a:srgbClr val="000000"/>
                </a:solidFill>
                <a:latin typeface="Verdana"/>
              </a:rPr>
              <a:t>— </a:t>
            </a:r>
            <a:r>
              <a:rPr b="0" lang="uk-UA" sz="1200" spc="-1" strike="noStrike">
                <a:solidFill>
                  <a:srgbClr val="000000"/>
                </a:solidFill>
                <a:latin typeface="Verdana"/>
              </a:rPr>
              <a:t>судовому прецеденті.</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Содержимое 4" descr="default.jpeg"/>
          <p:cNvPicPr/>
          <p:nvPr/>
        </p:nvPicPr>
        <p:blipFill>
          <a:blip r:embed="rId1"/>
          <a:stretch/>
        </p:blipFill>
        <p:spPr>
          <a:xfrm>
            <a:off x="857160" y="1285920"/>
            <a:ext cx="3286080" cy="3143160"/>
          </a:xfrm>
          <a:prstGeom prst="rect">
            <a:avLst/>
          </a:prstGeom>
          <a:ln w="0">
            <a:noFill/>
          </a:ln>
        </p:spPr>
      </p:pic>
      <p:sp>
        <p:nvSpPr>
          <p:cNvPr id="249"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авовими критеріями класифікації правових систем є струк­тура права, а також специфічні інститути різних правових систем. Структура права відображає наявність певних рівнів викладу правового матеріалу в рамках правових галузей, інсти­тутів і норм. Даний критерій надає класифікації правових систем об'єктивний характер. Наприклад, основою структури романо-германського права є поділ права на публічне і приватне. Дане положення може служити критерієм для віднесення національних правових систем до даної правової сім'ї. Наприклад, специфічним інститутом ісламського права є інститут вакфу</a:t>
            </a:r>
            <a:r>
              <a:rPr b="0" lang="uk-UA" sz="1600" spc="-1" strike="noStrike" baseline="30000">
                <a:solidFill>
                  <a:srgbClr val="000000"/>
                </a:solidFill>
                <a:latin typeface="Verdana"/>
              </a:rPr>
              <a:t>1</a:t>
            </a:r>
            <a:r>
              <a:rPr b="0" lang="uk-UA" sz="1600" spc="-1" strike="noStrike">
                <a:solidFill>
                  <a:srgbClr val="000000"/>
                </a:solidFill>
                <a:latin typeface="Verdana"/>
              </a:rPr>
              <a:t>, а індуського права </a:t>
            </a:r>
            <a:r>
              <a:rPr b="0" lang="ru-RU" sz="1600" spc="-1" strike="noStrike">
                <a:solidFill>
                  <a:srgbClr val="000000"/>
                </a:solidFill>
                <a:latin typeface="Verdana"/>
              </a:rPr>
              <a:t>— </a:t>
            </a:r>
            <a:r>
              <a:rPr b="0" lang="uk-UA" sz="1600" spc="-1" strike="noStrike">
                <a:solidFill>
                  <a:srgbClr val="000000"/>
                </a:solidFill>
                <a:latin typeface="Verdana"/>
              </a:rPr>
              <a:t>інститут священної власності</a:t>
            </a:r>
            <a:r>
              <a:rPr b="0" lang="uk-UA" sz="1600" spc="-1" strike="noStrike" baseline="30000">
                <a:solidFill>
                  <a:srgbClr val="000000"/>
                </a:solidFill>
                <a:latin typeface="Verdana"/>
              </a:rPr>
              <a:t>2</a:t>
            </a:r>
            <a:r>
              <a:rPr b="0" lang="uk-UA" sz="1600" spc="-1" strike="noStrike">
                <a:solidFill>
                  <a:srgbClr val="000000"/>
                </a:solidFill>
                <a:latin typeface="Verdana"/>
              </a:rPr>
              <a:t>, романо-германського права </a:t>
            </a:r>
            <a:r>
              <a:rPr b="0" lang="ru-RU" sz="1600" spc="-1" strike="noStrike">
                <a:solidFill>
                  <a:srgbClr val="000000"/>
                </a:solidFill>
                <a:latin typeface="Verdana"/>
              </a:rPr>
              <a:t>— </a:t>
            </a:r>
            <a:r>
              <a:rPr b="0" lang="uk-UA" sz="1600" spc="-1" strike="noStrike">
                <a:solidFill>
                  <a:srgbClr val="000000"/>
                </a:solidFill>
                <a:latin typeface="Verdana"/>
              </a:rPr>
              <a:t>зобов'язальне право.</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Содержимое 5" descr="defaultс.jpeg"/>
          <p:cNvPicPr/>
          <p:nvPr/>
        </p:nvPicPr>
        <p:blipFill>
          <a:blip r:embed="rId1"/>
          <a:stretch/>
        </p:blipFill>
        <p:spPr>
          <a:xfrm>
            <a:off x="922320" y="1143000"/>
            <a:ext cx="3506760" cy="2928960"/>
          </a:xfrm>
          <a:prstGeom prst="rect">
            <a:avLst/>
          </a:prstGeom>
          <a:ln w="0">
            <a:noFill/>
          </a:ln>
        </p:spPr>
      </p:pic>
      <p:sp>
        <p:nvSpPr>
          <p:cNvPr id="251"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ім'я традиційного права включає найдавніші правові системи, пов'язані з поняттям традиційного суспільства з його устроєм життя і своєрідним поглядом на право в системі регуляторів суспільного життя</a:t>
            </a:r>
            <a:r>
              <a:rPr b="0" lang="uk-UA"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Содержимое 4" descr="defaultіі.jpeg"/>
          <p:cNvPicPr/>
          <p:nvPr/>
        </p:nvPicPr>
        <p:blipFill>
          <a:blip r:embed="rId1"/>
          <a:stretch/>
        </p:blipFill>
        <p:spPr>
          <a:xfrm>
            <a:off x="1285920" y="928800"/>
            <a:ext cx="2857320" cy="3489120"/>
          </a:xfrm>
          <a:prstGeom prst="rect">
            <a:avLst/>
          </a:prstGeom>
          <a:ln w="0">
            <a:noFill/>
          </a:ln>
        </p:spPr>
      </p:pic>
      <p:sp>
        <p:nvSpPr>
          <p:cNvPr id="253"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Отже, завдяки акумуляції особливостей загальноцивілізаційного розвитку, зокрема історичного, культурного, релігійного, духовно-етичного і політичного розвитку, і правових критеріїв, характерних для тієї чи іншої правової системи, що зумовлюють специфіку формування і розвитку правового життя суспільства, стає можливим проведення їх об'єктивної класифікації.</a:t>
            </a:r>
            <a:endParaRPr b="0" lang="en-US" sz="20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07680" y="579600"/>
            <a:ext cx="7893000" cy="792000"/>
          </a:xfrm>
          <a:prstGeom prst="rect">
            <a:avLst/>
          </a:prstGeom>
          <a:noFill/>
          <a:ln w="0">
            <a:noFill/>
          </a:ln>
        </p:spPr>
        <p:txBody>
          <a:bodyPr lIns="146160" tIns="91440" anchor="ctr">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і правові сім’ї</a:t>
            </a:r>
            <a:endParaRPr b="0" lang="en-US" sz="2400" spc="-1" strike="noStrike">
              <a:solidFill>
                <a:srgbClr val="000000"/>
              </a:solidFill>
              <a:latin typeface="Verdana"/>
            </a:endParaRPr>
          </a:p>
        </p:txBody>
      </p:sp>
      <p:pic>
        <p:nvPicPr>
          <p:cNvPr id="255" name="Содержимое 7" descr="default.jpegваапк.jpeg"/>
          <p:cNvPicPr/>
          <p:nvPr/>
        </p:nvPicPr>
        <p:blipFill>
          <a:blip r:embed="rId1"/>
          <a:stretch/>
        </p:blipFill>
        <p:spPr>
          <a:xfrm>
            <a:off x="642960" y="1643040"/>
            <a:ext cx="3857760" cy="2786040"/>
          </a:xfrm>
          <a:prstGeom prst="rect">
            <a:avLst/>
          </a:prstGeom>
          <a:ln w="0">
            <a:noFill/>
          </a:ln>
        </p:spPr>
      </p:pic>
      <p:sp>
        <p:nvSpPr>
          <p:cNvPr id="256" name=""/>
          <p:cNvSpPr txBox="1"/>
          <p:nvPr/>
        </p:nvSpPr>
        <p:spPr>
          <a:xfrm>
            <a:off x="4653000" y="1447920"/>
            <a:ext cx="3930480" cy="44100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На підставі вищезгаданих критеріїв можна виділити такі пра­вові сім'ї:</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го права: сім'я звичаєв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етичного права: далекосхідн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релігійного права: іудейське право, індуське право і</a:t>
            </a:r>
            <a:br>
              <a:rPr sz="1500"/>
            </a:br>
            <a:r>
              <a:rPr b="0" lang="uk-UA" sz="1500" spc="-1" strike="noStrike">
                <a:solidFill>
                  <a:srgbClr val="000000"/>
                </a:solidFill>
                <a:latin typeface="Verdana"/>
              </a:rPr>
              <a:t>ісламськ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законодавчого права: романо-германська правова</a:t>
            </a:r>
            <a:br>
              <a:rPr sz="1500"/>
            </a:br>
            <a:r>
              <a:rPr b="0" lang="uk-UA" sz="1500" spc="-1" strike="noStrike">
                <a:solidFill>
                  <a:srgbClr val="000000"/>
                </a:solidFill>
                <a:latin typeface="Verdana"/>
              </a:rPr>
              <a:t>сім'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a:t>
            </a:r>
            <a:r>
              <a:rPr b="0" lang="ru-RU" sz="1500" spc="-1" strike="noStrike">
                <a:solidFill>
                  <a:srgbClr val="000000"/>
                </a:solidFill>
                <a:latin typeface="Verdana"/>
              </a:rPr>
              <a:t>прецедентного </a:t>
            </a:r>
            <a:r>
              <a:rPr b="0" lang="uk-UA" sz="1500" spc="-1" strike="noStrike">
                <a:solidFill>
                  <a:srgbClr val="000000"/>
                </a:solidFill>
                <a:latin typeface="Verdana"/>
              </a:rPr>
              <a:t>права: сім'я загальн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uk-UA" sz="1500" spc="-1" strike="noStrike">
                <a:solidFill>
                  <a:srgbClr val="000000"/>
                </a:solidFill>
                <a:latin typeface="Verdana"/>
              </a:rPr>
              <a:t>сім'я змішаного права: латиноамериканська правова сім'я і скандинавська правова сім'я.</a:t>
            </a:r>
            <a:endParaRPr b="0" lang="en-US" sz="15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Содержимое 4" descr="pic141.jpg"/>
          <p:cNvPicPr/>
          <p:nvPr/>
        </p:nvPicPr>
        <p:blipFill>
          <a:blip r:embed="rId1"/>
          <a:stretch/>
        </p:blipFill>
        <p:spPr>
          <a:xfrm>
            <a:off x="514440" y="1214280"/>
            <a:ext cx="4128840" cy="3714840"/>
          </a:xfrm>
          <a:prstGeom prst="rect">
            <a:avLst/>
          </a:prstGeom>
          <a:ln w="0">
            <a:noFill/>
          </a:ln>
        </p:spPr>
      </p:pic>
      <p:sp>
        <p:nvSpPr>
          <p:cNvPr id="258"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a:t>
            </a:r>
            <a:r>
              <a:rPr b="0" lang="uk-UA" sz="1800" spc="-1" strike="noStrike">
                <a:solidFill>
                  <a:srgbClr val="000000"/>
                </a:solidFill>
                <a:latin typeface="Verdana"/>
              </a:rPr>
              <a:t>Звичаєве право </a:t>
            </a:r>
            <a:r>
              <a:rPr b="0" lang="ru-RU" sz="1800" spc="-1" strike="noStrike">
                <a:solidFill>
                  <a:srgbClr val="000000"/>
                </a:solidFill>
                <a:latin typeface="Verdana"/>
              </a:rPr>
              <a:t>— </a:t>
            </a:r>
            <a:r>
              <a:rPr b="0" lang="uk-UA" sz="1800" spc="-1" strike="noStrike">
                <a:solidFill>
                  <a:srgbClr val="000000"/>
                </a:solidFill>
                <a:latin typeface="Verdana"/>
              </a:rPr>
              <a:t>це правове утворення, яке складається із сукупності соціальних норм, що мають форму звичаїв і діють не тільки в ранньокласових, але й у сучасному суспільстві, де формується спосіб мислення і поведінка населення. Звичаєве право вважається правом общин, а не правом індивідів, оскільки всі права і обов'язки належать соціальним общинам. У цю правову сім'ю входять: південно-східне азіатське звичаєве право, звичаєве племінне право американських індіанців. Проте</a:t>
            </a:r>
            <a:endParaRPr b="0" lang="en-US" sz="18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4" descr="1photo10778.jpg"/>
          <p:cNvPicPr/>
          <p:nvPr/>
        </p:nvPicPr>
        <p:blipFill>
          <a:blip r:embed="rId1"/>
          <a:stretch/>
        </p:blipFill>
        <p:spPr>
          <a:xfrm>
            <a:off x="714240" y="785880"/>
            <a:ext cx="3714840" cy="4500360"/>
          </a:xfrm>
          <a:prstGeom prst="rect">
            <a:avLst/>
          </a:prstGeom>
          <a:ln w="0">
            <a:noFill/>
          </a:ln>
        </p:spPr>
      </p:pic>
      <p:sp>
        <p:nvSpPr>
          <p:cNvPr id="222"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Як відзначає С.С. </a:t>
            </a:r>
            <a:r>
              <a:rPr b="0" lang="ru-RU" sz="1400" spc="-1" strike="noStrike">
                <a:solidFill>
                  <a:srgbClr val="000000"/>
                </a:solidFill>
                <a:latin typeface="Verdana"/>
              </a:rPr>
              <a:t>Алексеев, у </a:t>
            </a:r>
            <a:r>
              <a:rPr b="0" lang="uk-UA" sz="1400" spc="-1" strike="noStrike">
                <a:solidFill>
                  <a:srgbClr val="000000"/>
                </a:solidFill>
                <a:latin typeface="Verdana"/>
              </a:rPr>
              <a:t>своєму розвитку право пройшло довгу, тисячолітню, багатопланову історію. Іноді — досить дивну і, самобутню в різних регіонах світу, деколи із зухвалими ривками в майбутнє або з «поворотами назад», залежну від різноманітних умов і обставин, здебільшого — основоположних, глобальних, глибинних у тому чи іншому регіоні, а часом — випадкових, особистих звершень великих розумів, професіоналів або просто примхи окремих можновладців. Право підійшло до третього ти­сячоліття християнської ери в стані вражаючого різноманіття існуюючих правових систем</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На сьогодні у світі співіснує велика кількість національних правових систем. Офіційними членами </a:t>
            </a:r>
            <a:r>
              <a:rPr b="0" lang="ru-RU" sz="1400" spc="-1" strike="noStrike">
                <a:solidFill>
                  <a:srgbClr val="000000"/>
                </a:solidFill>
                <a:latin typeface="Verdana"/>
              </a:rPr>
              <a:t>ООН </a:t>
            </a:r>
            <a:r>
              <a:rPr b="0" lang="uk-UA" sz="1400" spc="-1" strike="noStrike">
                <a:solidFill>
                  <a:srgbClr val="000000"/>
                </a:solidFill>
                <a:latin typeface="Verdana"/>
              </a:rPr>
              <a:t>зараз є близько </a:t>
            </a:r>
            <a:r>
              <a:rPr b="0" lang="ru-RU" sz="1400" spc="-1" strike="noStrike">
                <a:solidFill>
                  <a:srgbClr val="000000"/>
                </a:solidFill>
                <a:latin typeface="Verdana"/>
              </a:rPr>
              <a:t>200 </a:t>
            </a:r>
            <a:r>
              <a:rPr b="0" lang="uk-UA" sz="1400" spc="-1" strike="noStrike">
                <a:solidFill>
                  <a:srgbClr val="000000"/>
                </a:solidFill>
                <a:latin typeface="Verdana"/>
              </a:rPr>
              <a:t>держав, і кожна держава має свою власну національну правову систему, яка є нормативним відображенням історичних, політичних, культурних, релігійних й інших особливостей кожного народу і суспільства.</a:t>
            </a:r>
            <a:endParaRPr b="0" lang="en-US" sz="14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Содержимое 4" descr="imagesв.jpeg"/>
          <p:cNvPicPr/>
          <p:nvPr/>
        </p:nvPicPr>
        <p:blipFill>
          <a:blip r:embed="rId1"/>
          <a:stretch/>
        </p:blipFill>
        <p:spPr>
          <a:xfrm>
            <a:off x="1285920" y="1285920"/>
            <a:ext cx="2857320" cy="3286080"/>
          </a:xfrm>
          <a:prstGeom prst="rect">
            <a:avLst/>
          </a:prstGeom>
          <a:ln w="0">
            <a:noFill/>
          </a:ln>
        </p:spPr>
      </p:pic>
      <p:sp>
        <p:nvSpPr>
          <p:cNvPr id="260"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Сім'я африканського звичаєвого права представляє собою форми регламентації суспільних відносин, що існують у країнах Африки і на Мадагаскарі, які ґрунтуються на державному визнанні соціальних норм, що склалися природним чином, і звичаїв, що перетворилися на звичку населення.</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Оскільки протягом тривалого часу норми звичаєвого права мали усний характер у формі приказок, прислів'їв, міфів, то запис цих звичаїв є першим кроком до його уніфікації і систе­матизації. Африканське звичаєве право зазнало сильного впливу в колоніальний період. Вибір африканськими державами тієї чи іншої моделі правового розвитку був продиктований правовими системами колишніх держав метрополії.</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Содержимое 5" descr="imag.jpeg"/>
          <p:cNvPicPr/>
          <p:nvPr/>
        </p:nvPicPr>
        <p:blipFill>
          <a:blip r:embed="rId1"/>
          <a:stretch/>
        </p:blipFill>
        <p:spPr>
          <a:xfrm>
            <a:off x="1236600" y="1214280"/>
            <a:ext cx="3049560" cy="2899080"/>
          </a:xfrm>
          <a:prstGeom prst="rect">
            <a:avLst/>
          </a:prstGeom>
          <a:ln w="0">
            <a:noFill/>
          </a:ln>
        </p:spPr>
      </p:pic>
      <p:sp>
        <p:nvSpPr>
          <p:cNvPr id="262" name=""/>
          <p:cNvSpPr txBox="1"/>
          <p:nvPr/>
        </p:nvSpPr>
        <p:spPr>
          <a:xfrm>
            <a:off x="4756320" y="530280"/>
            <a:ext cx="3930480" cy="518472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традиційно-етичного права. Специфічне праворозуміння є головним критерієм віднесення правових систем до сім'ї традиційно-етичних правових систем, незважаючи на суттєві відмінності між ними. До даної групи правових систем входить далекосхідна правова сім'я. Найважливіша специфіка дале­косхідних правових систем, що дозволяє об'єднати їх в одну правову сім'ю, полягає в особливому підході до права як ре­гулятора суспільних відносин, заснованих на конфуціанських філософських переконаннях і конфуціанській моралі. Право в цих суспільствах не вважається головним засобом забезпе­чення справедливості і порядку та займає підлегле становище щодо ідеального порядку, забезпечуваного вищою силою, неза­лежною від волі людини. Призначення права полягає в тому, щоб відповідати цьому ідеальному порядку і прагнути до його забезпеч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Содержимое 4" descr="imagesкк.jpeg"/>
          <p:cNvPicPr/>
          <p:nvPr/>
        </p:nvPicPr>
        <p:blipFill>
          <a:blip r:embed="rId1"/>
          <a:stretch/>
        </p:blipFill>
        <p:spPr>
          <a:xfrm>
            <a:off x="1071720" y="1071720"/>
            <a:ext cx="3143160" cy="3429000"/>
          </a:xfrm>
          <a:prstGeom prst="rect">
            <a:avLst/>
          </a:prstGeom>
          <a:ln w="0">
            <a:noFill/>
          </a:ln>
        </p:spPr>
      </p:pic>
      <p:sp>
        <p:nvSpPr>
          <p:cNvPr id="26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Сім'я релігійного права формується на основі власного спе­цифічного праворозуміння, заснованого на релігії. Право фор­мується і діє на основі релігійних догм і доктрин. Головним суб'єктом права, згідно з релігійно-правовою доктриною, виступає божественна вол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Найважливіша особливість релігійного права полягає в тому, що сфера його поширення залежить від належності до релігійної общини (або через дотримання певних принципів, як в індуському праві) незалежно від місця проживання чи знаходж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Особливістю релігійного права, що відрізняє його від інших правових систем, є поєднання в ньому релігійних і власне юри­дичних засад, що позначились на специфіці його джерел і струк­турі, механізмі дії та праворозумінні. Дана особливість вияв­ляється й у тому, що для реалізації правової норми необхідна її відповідність не тільки основоположним правовим, але і, перш за все, релігійним принципам.</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До цієї групи правових систем входять іудейське право, ін­дуське право і ісламське право.</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Содержимое 5" descr="рнрг.jpeg"/>
          <p:cNvPicPr/>
          <p:nvPr/>
        </p:nvPicPr>
        <p:blipFill>
          <a:blip r:embed="rId1"/>
          <a:stretch/>
        </p:blipFill>
        <p:spPr>
          <a:xfrm>
            <a:off x="1000080" y="1143000"/>
            <a:ext cx="3429000" cy="3643200"/>
          </a:xfrm>
          <a:prstGeom prst="rect">
            <a:avLst/>
          </a:prstGeom>
          <a:ln w="0">
            <a:noFill/>
          </a:ln>
        </p:spPr>
      </p:pic>
      <p:sp>
        <p:nvSpPr>
          <p:cNvPr id="266" name=""/>
          <p:cNvSpPr txBox="1"/>
          <p:nvPr/>
        </p:nvSpPr>
        <p:spPr>
          <a:xfrm>
            <a:off x="4756320" y="529920"/>
            <a:ext cx="3930480" cy="53276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законодавчого права має тривалу історію і сформувалася в результаті рецепції римського права. її називають законодавчого, оскільки саме закон є основним джерелом права, саме в ньому містяться основні правові принципи, що визначають функціону­вання правових систем, які входять до неї. І нарешті, кодифікація стала завершальним етапом становлення цих правових систе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Коріння сягають західної традиції права в приватне римське право. Вона склалася під впливом канонічного права, має високий рівень правової культури і будується відповідно до концепції правової держави. Законодавчі правові системи є продуктом західних пра­вових традицій і їм властиві вищеназвані ознаки. Саме за цими озна­ками романо-германське право називається законодавчим право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Романо-германське право представлене всіма правовими системами держав континентальної Європи. Романо-германське право є продуктом рецепції римського права, тобто воно сфор­мувалося в результаті модернізації римського права, яке мало місце в епоху Ренесансу в </a:t>
            </a:r>
            <a:r>
              <a:rPr b="0" lang="en-US" sz="1200" spc="-1" strike="noStrike">
                <a:solidFill>
                  <a:srgbClr val="000000"/>
                </a:solidFill>
                <a:latin typeface="Verdana"/>
              </a:rPr>
              <a:t>XII</a:t>
            </a:r>
            <a:r>
              <a:rPr b="0" lang="ru-RU" sz="1200" spc="-1" strike="noStrike">
                <a:solidFill>
                  <a:srgbClr val="000000"/>
                </a:solidFill>
                <a:latin typeface="Verdana"/>
              </a:rPr>
              <a:t>—</a:t>
            </a:r>
            <a:r>
              <a:rPr b="0" lang="en-US" sz="1200" spc="-1" strike="noStrike">
                <a:solidFill>
                  <a:srgbClr val="000000"/>
                </a:solidFill>
                <a:latin typeface="Verdana"/>
              </a:rPr>
              <a:t>XIII </a:t>
            </a:r>
            <a:r>
              <a:rPr b="0" lang="uk-UA" sz="1200" spc="-1" strike="noStrike">
                <a:solidFill>
                  <a:srgbClr val="000000"/>
                </a:solidFill>
                <a:latin typeface="Verdana"/>
              </a:rPr>
              <a:t>ст. Кодифікація, проведена в </a:t>
            </a:r>
            <a:r>
              <a:rPr b="0" lang="en-US" sz="1200" spc="-1" strike="noStrike">
                <a:solidFill>
                  <a:srgbClr val="000000"/>
                </a:solidFill>
                <a:latin typeface="Verdana"/>
              </a:rPr>
              <a:t>XVIII</a:t>
            </a:r>
            <a:r>
              <a:rPr b="0" lang="ru-RU" sz="1200" spc="-1" strike="noStrike">
                <a:solidFill>
                  <a:srgbClr val="000000"/>
                </a:solidFill>
                <a:latin typeface="Verdana"/>
              </a:rPr>
              <a:t> ст. у </a:t>
            </a:r>
            <a:r>
              <a:rPr b="0" lang="uk-UA" sz="1200" spc="-1" strike="noStrike">
                <a:solidFill>
                  <a:srgbClr val="000000"/>
                </a:solidFill>
                <a:latin typeface="Verdana"/>
              </a:rPr>
              <a:t>Франції і Німеччині, завершила процес формування романо-германського права і стала основою цієї правової системи.</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Содержимое 5" descr="default.jpegепк5.jpeg"/>
          <p:cNvPicPr/>
          <p:nvPr/>
        </p:nvPicPr>
        <p:blipFill>
          <a:blip r:embed="rId1"/>
          <a:stretch/>
        </p:blipFill>
        <p:spPr>
          <a:xfrm>
            <a:off x="785880" y="1143000"/>
            <a:ext cx="3929040" cy="3357720"/>
          </a:xfrm>
          <a:prstGeom prst="rect">
            <a:avLst/>
          </a:prstGeom>
          <a:ln w="0">
            <a:noFill/>
          </a:ln>
        </p:spPr>
      </p:pic>
      <p:sp>
        <p:nvSpPr>
          <p:cNvPr id="26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Сім'я </a:t>
            </a:r>
            <a:r>
              <a:rPr b="0" lang="ru-RU" sz="1600" spc="-1" strike="noStrike">
                <a:solidFill>
                  <a:srgbClr val="000000"/>
                </a:solidFill>
                <a:latin typeface="Verdana"/>
              </a:rPr>
              <a:t>прецедентного </a:t>
            </a:r>
            <a:r>
              <a:rPr b="0" lang="uk-UA" sz="1600" spc="-1" strike="noStrike">
                <a:solidFill>
                  <a:srgbClr val="000000"/>
                </a:solidFill>
                <a:latin typeface="Verdana"/>
              </a:rPr>
              <a:t>права також сформувалася і базується на основі західних правових традицій. Проте, вона сформувалася не на основі рецепції римського права, а в результаті діяльності судових органів, точніше в результаті прийняття судових рішень, які потім набули </a:t>
            </a:r>
            <a:r>
              <a:rPr b="0" lang="ru-RU" sz="1600" spc="-1" strike="noStrike">
                <a:solidFill>
                  <a:srgbClr val="000000"/>
                </a:solidFill>
                <a:latin typeface="Verdana"/>
              </a:rPr>
              <a:t>прецедентного </a:t>
            </a:r>
            <a:r>
              <a:rPr b="0" lang="uk-UA" sz="1600" spc="-1" strike="noStrike">
                <a:solidFill>
                  <a:srgbClr val="000000"/>
                </a:solidFill>
                <a:latin typeface="Verdana"/>
              </a:rPr>
              <a:t>характеру і стали обов'язковими для застосування надалі при розгляді аналогічних справ. Головна особливість даних правових систем полягає в тому, що судовий прецедент виступає як основне джерело права, що містить ос­новоположні принципи функціонування даних правових систем. За цими найважливішими ознаками загальне право називають прецедентним правом.</a:t>
            </a:r>
            <a:endParaRPr b="0" lang="en-US" sz="16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Содержимое 4" descr="JUrii_Tikhomirov.jpg"/>
          <p:cNvPicPr/>
          <p:nvPr/>
        </p:nvPicPr>
        <p:blipFill>
          <a:blip r:embed="rId1"/>
          <a:stretch/>
        </p:blipFill>
        <p:spPr>
          <a:xfrm>
            <a:off x="785880" y="714240"/>
            <a:ext cx="3143160" cy="3714840"/>
          </a:xfrm>
          <a:prstGeom prst="rect">
            <a:avLst/>
          </a:prstGeom>
          <a:ln w="0">
            <a:noFill/>
          </a:ln>
        </p:spPr>
      </p:pic>
      <p:sp>
        <p:nvSpPr>
          <p:cNvPr id="22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	</a:t>
            </a:r>
            <a:r>
              <a:rPr b="0" lang="uk-UA" sz="1100" spc="-1" strike="noStrike">
                <a:solidFill>
                  <a:srgbClr val="000000"/>
                </a:solidFill>
                <a:latin typeface="Verdana"/>
              </a:rPr>
              <a:t>На думку Ю.О. </a:t>
            </a:r>
            <a:r>
              <a:rPr b="0" lang="ru-RU" sz="1100" spc="-1" strike="noStrike">
                <a:solidFill>
                  <a:srgbClr val="000000"/>
                </a:solidFill>
                <a:latin typeface="Verdana"/>
              </a:rPr>
              <a:t>Тихомирова, </a:t>
            </a:r>
            <a:r>
              <a:rPr b="0" lang="uk-UA" sz="1100" spc="-1" strike="noStrike">
                <a:solidFill>
                  <a:srgbClr val="000000"/>
                </a:solidFill>
                <a:latin typeface="Verdana"/>
              </a:rPr>
              <a:t>правові відмінності можуть бути: а) сутнісними (наприклад деякі догмати ісламського права, зокрема принцип Конституції Ірану «визнання Страшного суду»); б) теоретичними (наприклад переважання у французькому пуб­лічному праві поняття публічних послуг); в) різними за будовоюгалузі права (наприклад у Німеччині серед джерел трудового права немає трудового кодексу, а в </a:t>
            </a:r>
            <a:r>
              <a:rPr b="0" lang="ru-RU" sz="1100" spc="-1" strike="noStrike">
                <a:solidFill>
                  <a:srgbClr val="000000"/>
                </a:solidFill>
                <a:latin typeface="Verdana"/>
              </a:rPr>
              <a:t>США </a:t>
            </a:r>
            <a:r>
              <a:rPr b="0" lang="uk-UA" sz="1100" spc="-1" strike="noStrike">
                <a:solidFill>
                  <a:srgbClr val="000000"/>
                </a:solidFill>
                <a:latin typeface="Verdana"/>
              </a:rPr>
              <a:t>переважають процесуальні норми в адміністративному праві); г) неоднаковими формами кодифікації (наприклад у Франції кодекси включають і незаконодавчі норми, в Україні співіснують Цивільний і Господарський кодекси); д) віддзеркаленням специфіки конкретних правових інститутів і норм, правових рішень (наприклад в екологічному праві Німеччини робиться акцент на стимулювання, у Криміналь­ному кодексі Швеції передбачено електронний контроль за за­судженим не більше ніж на два місяці тюремного ув'язнення); є) вираженими в особливостях юридичної техніки і побудови законів; ж) різношвидкісними нововведеннями (наприклад в Україні вже прийнято Кодекс адміністративного судочинства, у Казахстані діє Закон «Про адміністративні процедури», у Білорусії розвивається адміністративна юстиція, Росія лише планує новов­ведення); з) контрастними державними інститутами'.</a:t>
            </a:r>
            <a:endParaRPr b="0" lang="en-US" sz="1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Содержимое 6" descr="10273.jpg"/>
          <p:cNvPicPr/>
          <p:nvPr/>
        </p:nvPicPr>
        <p:blipFill>
          <a:blip r:embed="rId1"/>
          <a:stretch/>
        </p:blipFill>
        <p:spPr>
          <a:xfrm>
            <a:off x="571680" y="714240"/>
            <a:ext cx="4429080" cy="4071960"/>
          </a:xfrm>
          <a:prstGeom prst="rect">
            <a:avLst/>
          </a:prstGeom>
          <a:ln w="0">
            <a:noFill/>
          </a:ln>
        </p:spPr>
      </p:pic>
      <p:sp>
        <p:nvSpPr>
          <p:cNvPr id="226"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ричини різноманіття правових систем полягають, перш за все, в тому, що на форму і зміст правової системи найбезпосереднішим чином впливають історичні традиції та умови виникнення і становлення історично конкретної держави і права. Наприклад, причини різноманіття правових систем у Західній Європі полягають у тому, що починаючи з </a:t>
            </a:r>
            <a:r>
              <a:rPr b="0" lang="en-US" sz="1200" spc="-1" strike="noStrike">
                <a:solidFill>
                  <a:srgbClr val="000000"/>
                </a:solidFill>
                <a:latin typeface="Verdana"/>
              </a:rPr>
              <a:t>XV</a:t>
            </a:r>
            <a:r>
              <a:rPr b="0" lang="uk-UA" sz="1200" spc="-1" strike="noStrike">
                <a:solidFill>
                  <a:srgbClr val="000000"/>
                </a:solidFill>
                <a:latin typeface="Verdana"/>
              </a:rPr>
              <a:t> ст. становлення європейських держав було пов'язане з розвитком ринкових відносин і формуванням се­редніх міських станів, які тривалий час були опорою централізації. цифікою їх еволюції та розвитку. Правові системи можуть формуватися під впливом одних історичних чинників, проте вони можуть трансформуватися під впливом інших чинників, що впли­нули на перебіг їх розвитку і функціонування. Наприклад, пра­вова система Японії формувалася і тривалий час розвивалася під впливом китайських правових традицій.</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Содержимое 4" descr="200px-David_de_Rothschild01.JPG"/>
          <p:cNvPicPr/>
          <p:nvPr/>
        </p:nvPicPr>
        <p:blipFill>
          <a:blip r:embed="rId1"/>
          <a:stretch/>
        </p:blipFill>
        <p:spPr>
          <a:xfrm>
            <a:off x="733320" y="785880"/>
            <a:ext cx="3624480" cy="4000320"/>
          </a:xfrm>
          <a:prstGeom prst="rect">
            <a:avLst/>
          </a:prstGeom>
          <a:ln w="0">
            <a:noFill/>
          </a:ln>
        </p:spPr>
      </p:pic>
      <p:sp>
        <p:nvSpPr>
          <p:cNvPr id="22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Як справедливо відзначав Р. Давид, відмінності між правом різних країн значно зменшуються, якщо виходити не зі змісту їх конкретних норм, а з більш постійних елементів, використо­вуваних для створення, тлумачення, оцінки норм. Самі норми можуть бути нескінченно різноманітними, але способи їх вироб­лення, систематизації, тлумачення показують наявність деяких типів, яких не так уже й багато. Тому, як відзначає Р. Давид, можливе групування правових систем у сім'ї, подібно до того, як це роблять інші науки, залишаючи осторонь другорядні відмін­ності і виділяючи сім'ї, як, наприклад, у лінгвістиці — романські, слов'янські, семітські мови, у релігії— християнство, іслам і т. ін., у природчих науках — ссавці, плазуни, птахи, земноводні та ін.</a:t>
            </a:r>
            <a:r>
              <a:rPr b="0" lang="uk-UA" sz="1400" spc="-1" strike="noStrike" baseline="30000">
                <a:solidFill>
                  <a:srgbClr val="000000"/>
                </a:solidFill>
                <a:latin typeface="Verdana"/>
              </a:rPr>
              <a:t>2</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Класифікація правових систем має як теоретичне, так і прак­тичне значення. її теоретична значимість полягає в можливості пізнання і вивчення правової панорами світу з тим, щоб виявити змістовні аспекти правових систем, що забезпечують їх функціо­нування. Практична ж її значимість пояснюється необхідністю зближення правових систем і взаємодії в правовій сфері.</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a:t>
            </a:r>
            <a:r>
              <a:rPr b="0" lang="uk-UA" sz="1800" spc="-1" strike="noStrike">
                <a:solidFill>
                  <a:srgbClr val="000000"/>
                </a:solidFill>
                <a:latin typeface="Verdana"/>
              </a:rPr>
              <a:t>класифікації правових </a:t>
            </a:r>
            <a:r>
              <a:rPr b="0" lang="ru-RU" sz="1800" spc="-1" strike="noStrike">
                <a:solidFill>
                  <a:srgbClr val="000000"/>
                </a:solidFill>
                <a:latin typeface="Verdana"/>
              </a:rPr>
              <a:t>систем </a:t>
            </a:r>
            <a:r>
              <a:rPr b="0" lang="uk-UA" sz="1800" spc="-1" strike="noStrike">
                <a:solidFill>
                  <a:srgbClr val="000000"/>
                </a:solidFill>
                <a:latin typeface="Verdana"/>
              </a:rPr>
              <a:t>використовуються різні кри­терії </a:t>
            </a:r>
            <a:r>
              <a:rPr b="0" lang="ru-RU" sz="1800" spc="-1" strike="noStrike">
                <a:solidFill>
                  <a:srgbClr val="000000"/>
                </a:solidFill>
                <a:latin typeface="Verdana"/>
              </a:rPr>
              <a:t>— </a:t>
            </a:r>
            <a:r>
              <a:rPr b="0" lang="uk-UA" sz="1800" spc="-1" strike="noStrike">
                <a:solidFill>
                  <a:srgbClr val="000000"/>
                </a:solidFill>
                <a:latin typeface="Verdana"/>
              </a:rPr>
              <a:t>етнічні, расові, географічні, релігійні, а також юридична техніка, стиль права і т. ін., що у свою чергу пояснює існування безлічі класифікацій.</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у рамках порівняльного правознавства стає можливою класифікація національних правових систем по різних групах або сім'ях. При цьому критерії класифікації можуть бути найрізноманітнішими.</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Содержимое 4" descr="220px-Adhémar_Esmein.jpg"/>
          <p:cNvPicPr/>
          <p:nvPr/>
        </p:nvPicPr>
        <p:blipFill>
          <a:blip r:embed="rId1"/>
          <a:stretch/>
        </p:blipFill>
        <p:spPr>
          <a:xfrm>
            <a:off x="857160" y="1357200"/>
            <a:ext cx="3286080" cy="3251160"/>
          </a:xfrm>
          <a:prstGeom prst="rect">
            <a:avLst/>
          </a:prstGeom>
          <a:ln w="0">
            <a:noFill/>
          </a:ln>
        </p:spPr>
      </p:pic>
      <p:sp>
        <p:nvSpPr>
          <p:cNvPr id="231"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облема класифікації правових систем перебуває в центрі вивчення порівняльного правознавства з моменту його виник­нення.</a:t>
            </a:r>
            <a:endParaRPr b="0" lang="en-US" sz="1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Однією з перших класифікацій правових систем уважається класифікація, запропонована на початку </a:t>
            </a:r>
            <a:r>
              <a:rPr b="0" lang="en-US" sz="1600" spc="-1" strike="noStrike">
                <a:solidFill>
                  <a:srgbClr val="000000"/>
                </a:solidFill>
                <a:latin typeface="Verdana"/>
              </a:rPr>
              <a:t>XX </a:t>
            </a:r>
            <a:r>
              <a:rPr b="0" lang="uk-UA" sz="1600" spc="-1" strike="noStrike">
                <a:solidFill>
                  <a:srgbClr val="000000"/>
                </a:solidFill>
                <a:latin typeface="Verdana"/>
              </a:rPr>
              <a:t>ст. А. Есмайном, ос­новними критеріями якої були історія розвитку правових систем, їх структура та відмінні особливості. На цій основі ним були виділені такі правові сім'ї: романська, німецька, англосаксонська, слов'янська та ісламська. Не дивлячись на те, що цій класифікації дорікали у відсутності чітких критеріїв, проте вона, за словами К. Цвайгерта і </a:t>
            </a:r>
            <a:r>
              <a:rPr b="0" lang="en-US" sz="1600" spc="-1" strike="noStrike">
                <a:solidFill>
                  <a:srgbClr val="000000"/>
                </a:solidFill>
                <a:latin typeface="Verdana"/>
              </a:rPr>
              <a:t>X</a:t>
            </a:r>
            <a:r>
              <a:rPr b="0" lang="ru-RU" sz="1600" spc="-1" strike="noStrike">
                <a:solidFill>
                  <a:srgbClr val="000000"/>
                </a:solidFill>
                <a:latin typeface="Verdana"/>
              </a:rPr>
              <a:t>. </a:t>
            </a:r>
            <a:r>
              <a:rPr b="0" lang="uk-UA" sz="1600" spc="-1" strike="noStrike">
                <a:solidFill>
                  <a:srgbClr val="000000"/>
                </a:solidFill>
                <a:latin typeface="Verdana"/>
              </a:rPr>
              <a:t>Кьотца, є «щасливою знахідкою» для порів­няльного правознавства</a:t>
            </a:r>
            <a:r>
              <a:rPr b="0" lang="uk-UA" sz="1600" spc="-1" strike="noStrike" baseline="30000">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4" descr="2_13_50.jpg"/>
          <p:cNvPicPr/>
          <p:nvPr/>
        </p:nvPicPr>
        <p:blipFill>
          <a:blip r:embed="rId1"/>
          <a:stretch/>
        </p:blipFill>
        <p:spPr>
          <a:xfrm>
            <a:off x="785880" y="1214280"/>
            <a:ext cx="3390840" cy="3694320"/>
          </a:xfrm>
          <a:prstGeom prst="rect">
            <a:avLst/>
          </a:prstGeom>
          <a:ln w="0">
            <a:noFill/>
          </a:ln>
        </p:spPr>
      </p:pic>
      <p:sp>
        <p:nvSpPr>
          <p:cNvPr id="233"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	</a:t>
            </a:r>
            <a:r>
              <a:rPr b="0" lang="uk-UA" sz="1900" spc="-1" strike="noStrike">
                <a:solidFill>
                  <a:srgbClr val="000000"/>
                </a:solidFill>
                <a:latin typeface="Verdana"/>
              </a:rPr>
              <a:t>Автором наступної класифікації був А. Леві-Ульман. В основу його класифікації було покладено критерій, що є одним із най­важливіших компонентів правової системи, </a:t>
            </a:r>
            <a:r>
              <a:rPr b="0" lang="ru-RU" sz="1900" spc="-1" strike="noStrike">
                <a:solidFill>
                  <a:srgbClr val="000000"/>
                </a:solidFill>
                <a:latin typeface="Verdana"/>
              </a:rPr>
              <a:t>— </a:t>
            </a:r>
            <a:r>
              <a:rPr b="0" lang="uk-UA" sz="1900" spc="-1" strike="noStrike">
                <a:solidFill>
                  <a:srgbClr val="000000"/>
                </a:solidFill>
                <a:latin typeface="Verdana"/>
              </a:rPr>
              <a:t>правові джерела. На підставі ролі правових джерел у правовій системі він виділив континентально-європейську, англо-американську і мусульманську правові сім'ї.</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b4c79d"/>
              </a:solidFill>
              <a:latin typeface="Verdana"/>
            </a:endParaRPr>
          </a:p>
        </p:txBody>
      </p:sp>
      <p:pic>
        <p:nvPicPr>
          <p:cNvPr id="235" name="Содержимое 4" descr="images.jpeg"/>
          <p:cNvPicPr/>
          <p:nvPr/>
        </p:nvPicPr>
        <p:blipFill>
          <a:blip r:embed="rId1"/>
          <a:stretch/>
        </p:blipFill>
        <p:spPr>
          <a:xfrm>
            <a:off x="1143000" y="1000080"/>
            <a:ext cx="2643120" cy="3097080"/>
          </a:xfrm>
          <a:prstGeom prst="rect">
            <a:avLst/>
          </a:prstGeom>
          <a:ln w="0">
            <a:noFill/>
          </a:ln>
        </p:spPr>
      </p:pic>
      <p:sp>
        <p:nvSpPr>
          <p:cNvPr id="236"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ступний етап в історії класифікації правових систем пов'язу­ється з іменами відомих компаративістів А. Армінджона, Б. Нольде і М. </a:t>
            </a:r>
            <a:r>
              <a:rPr b="0" lang="ru-RU" sz="1800" spc="-1" strike="noStrike">
                <a:solidFill>
                  <a:srgbClr val="000000"/>
                </a:solidFill>
                <a:latin typeface="Verdana"/>
              </a:rPr>
              <a:t>Вольфа. </a:t>
            </a:r>
            <a:r>
              <a:rPr b="0" lang="uk-UA" sz="1800" spc="-1" strike="noStrike">
                <a:solidFill>
                  <a:srgbClr val="000000"/>
                </a:solidFill>
                <a:latin typeface="Verdana"/>
              </a:rPr>
              <a:t>Як критерій класифікації правових систем вони вису­нули такий змістовний принцип, як співвідношення загального і особливого, та виділили такі правові сім'ї: французьку, германську, скандинавську, англійську, російську, ісламську та індуськ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9:12:31Z</dcterms:created>
  <dc:creator>алексей</dc:creator>
  <dc:description/>
  <dc:language>en-US</dc:language>
  <cp:lastModifiedBy>User</cp:lastModifiedBy>
  <dcterms:modified xsi:type="dcterms:W3CDTF">2020-09-02T08:54:56Z</dcterms:modified>
  <cp:revision>38</cp:revision>
  <dc:subject/>
  <dc:title>Презентація на тему : Класифікація правових систем</dc:title>
</cp:coreProperties>
</file>