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6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7795-FD0B-45A3-8D7E-4E86555F6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EFD6-0362-46FA-9503-ECD8059CB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5C6E-5620-4BD6-ADC9-4D384F655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62EE-D6EE-4692-92C4-9A56F55AF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A9854-68F2-46CC-B7BF-308CBBD26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F66A6-78E7-4B0E-9B8B-DE5485049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D9255-1F02-451E-B87A-F02418316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DE22A-634A-4906-A2C8-FE3960377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1D629-5570-47F6-9AEF-C29CFD3D2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639B6-7BC6-4CBA-92BF-BF7D55B0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82E10-A722-47A8-9B56-7F973C42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98DB-D985-48A9-86FE-BAB5FCF01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F0F76-1AA7-4B30-8BC9-224F2DFE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0EDFA-B4CC-4BF4-A87B-6D8A69CD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0DAB5-AC67-4EAE-A180-ECE801423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DD685-28C9-482C-A42D-033F39812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DCD39-A2D5-4A39-AFA6-24AA8E5D6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1B962-AA90-479B-B553-C0665F9AA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8B701-FBB0-4C64-B31A-D389BBBCA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58238-EC40-4409-ADBF-E4469D54D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99639-9E4F-47C0-8635-AD3511945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E440A-08CF-43C7-989F-68851824E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6866-42DF-4182-AFD6-5E4F1C85C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CDAFF-52F8-49D8-B822-9314FF995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F09DA-A87B-4F5D-A2E6-1334B405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2371F-28E3-49B0-80DE-A5D56B52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F0161-7201-4985-B038-A67BE32A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3183D-AC1F-488C-8A88-8DE7B21CA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0C158-4DAB-43E8-A11D-ADD652189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EB50B-4406-4329-BF7A-8D07F5879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B0FF3-9C56-4D1F-BDAA-FF4B46B73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E1322-EE51-44B1-8CDE-C46B6C346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2F14B-5BA5-4C8C-8C26-21CF09731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1B3C-F176-4BD1-8B45-C1628DC4E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F3FAD-7F94-4FE8-99C4-CDF1660C7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F3EBC-5CC6-4730-ABCC-8F8711802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78B01-6954-48E7-AA34-D725523C1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3D596-1E7A-4906-8D3D-0F3576C3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4F240-8B0F-4A4D-BA22-9AF011E9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42861-F8A6-44AE-9A4A-512981DE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9C1BC-50AB-418D-A516-E78D27B2B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5E960-B8D5-45FC-A384-73D66AA8F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D93B8-2FE7-4FAE-BDF9-AB2BD518D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1A6C-86D5-4285-B491-038213445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5052-DE72-47C3-A2BD-22F34601F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82F9-FC02-454F-9535-673C42F8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3E3C-2850-4742-9733-28A0BD21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DFBF-892E-4501-AE57-86794595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DADF2-D7A8-41C4-8A90-218D25E7AA0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5550D-9C8E-4D42-9E4B-6077DB5A847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B3B70-5C78-4F6E-969D-55ACE65D7A51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05F13-914C-40F0-95D0-8F988653E9E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gdb.rferl.org/C7FC6D72-EF8A-4F83-A4E6-4016A8B83DED_mw1024_n_s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682560" y="853920"/>
            <a:ext cx="8217000" cy="1640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371600" y="2571480"/>
            <a:ext cx="7129440" cy="3066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Constantia"/>
              </a:rPr>
              <a:t>ТЕНДЕНЦІЇ І ПЕРСПЕКТИВИ ВЗАЄМОДІЇ ПРАВОВИХ СИСТЕМ СУЧАСНОСТІ  В УМОВАХ ГЛОБАЛЬНИХ ВИКЛИКІВ І ЗАГРОЗ</a:t>
            </a:r>
            <a:br>
              <a:rPr sz="4800"/>
            </a:b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c00000"/>
                </a:solidFill>
                <a:latin typeface="Calibri"/>
              </a:rPr>
              <a:t>Закономірності зближення правових систем і його форм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Constantia"/>
              </a:rPr>
              <a:t>Шляхи і способи правової акультурації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4720" y="1860480"/>
            <a:ext cx="4041720" cy="1068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Constantia"/>
              </a:rPr>
              <a:t>Відбувається на рівні юридичної науки і юридичної освіти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6840" y="3286080"/>
            <a:ext cx="4040280" cy="3075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за допомогою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аконодавства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удової практики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укладення договорів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дійснюється вченими і викладачами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45080" y="3286080"/>
            <a:ext cx="4284720" cy="3075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на цій основі виділяються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аконодавч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удов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договірн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доктринальна правова акультураці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http://upload.wikimedia.org/wikipedia/commons/thumb/e/eb/Finland_passport.jpg/150px-Finland_passport.jpg"/>
          <p:cNvPicPr/>
          <p:nvPr/>
        </p:nvPicPr>
        <p:blipFill>
          <a:blip r:embed="rId1"/>
          <a:stretch/>
        </p:blipFill>
        <p:spPr>
          <a:xfrm>
            <a:off x="1071720" y="928800"/>
            <a:ext cx="2643120" cy="33573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Европейский центральный банк во Франкфурте-на-Майне определяет денежно-кредитную политику."/>
          <p:cNvPicPr/>
          <p:nvPr/>
        </p:nvPicPr>
        <p:blipFill>
          <a:blip r:embed="rId2"/>
          <a:stretch/>
        </p:blipFill>
        <p:spPr>
          <a:xfrm>
            <a:off x="4714920" y="1571760"/>
            <a:ext cx="2800440" cy="41432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Зближення правових систем  </a:t>
            </a: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має закономірний характер, зумовлений об'єктивними потребами розвитку людства на сучасному етапі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5357520"/>
            <a:ext cx="4038480" cy="9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процес відбувається </a:t>
            </a:r>
            <a:r>
              <a:rPr b="1" lang="uk-UA" sz="2800" spc="-1" strike="noStrike">
                <a:solidFill>
                  <a:srgbClr val="c00000"/>
                </a:solidFill>
                <a:latin typeface="Constantia"/>
              </a:rPr>
              <a:t>стихійн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648320" y="5357520"/>
            <a:ext cx="4038480" cy="9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процес відбувається </a:t>
            </a:r>
            <a:r>
              <a:rPr b="1" lang="uk-UA" sz="2800" spc="-1" strike="noStrike">
                <a:solidFill>
                  <a:srgbClr val="c00000"/>
                </a:solidFill>
                <a:latin typeface="Constantia"/>
              </a:rPr>
              <a:t>планомірн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http://upload.wikimedia.org/wikipedia/commons/thumb/2/2e/European-parliament-brussels-inside.JPG/300px-European-parliament-brussels-inside.JPG"/>
          <p:cNvPicPr/>
          <p:nvPr/>
        </p:nvPicPr>
        <p:blipFill>
          <a:blip r:embed="rId1"/>
          <a:stretch/>
        </p:blipFill>
        <p:spPr>
          <a:xfrm>
            <a:off x="155520" y="142920"/>
            <a:ext cx="7916760" cy="521496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85480"/>
            <a:ext cx="8472600" cy="1571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7030a0"/>
                </a:solidFill>
                <a:latin typeface="Calibri"/>
              </a:rPr>
              <a:t>Базовими документами, що визначають процес адаптації законодавства України до законодавства ЄС є: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) прийняті Радою Європи на Копенгагенському саміті в 1993 р.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Декларація і Угода про партнерство та співпрацю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між Україною і Європейськими Співтовариствами та їх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ержавамичленами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994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)Указ Президента України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«Про програму інтеграції України в Європейський Союз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» 2000 р.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) Закон України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«Про Загальнодержавну програму адаптації законодавства України до законодавства Європейського Союзу»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004 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04617b"/>
                </a:solidFill>
                <a:latin typeface="Calibri"/>
              </a:rPr>
              <a:t>План дій Ради Європи для України на 2011-2014 роки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має важливе значення у впровадженні європейських правових стандартів у національну правову систему й систему законодавств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ередбачає пакет пріоритетних заходів, покликаних допомогти в приведенні українського законодавства, інститутів та практики у </a:t>
            </a: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відповідність до європейських стандартів щодо прав людини, верховенства права і демократії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Рисунок 1" descr="http://img.pravda.com.ua/images/doc/6/b/6b4efbb-113.jpg"/>
          <p:cNvPicPr/>
          <p:nvPr/>
        </p:nvPicPr>
        <p:blipFill>
          <a:blip r:embed="rId1"/>
          <a:stretch/>
        </p:blipFill>
        <p:spPr>
          <a:xfrm>
            <a:off x="1143000" y="357120"/>
            <a:ext cx="6000840" cy="38592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c00000"/>
                </a:solidFill>
                <a:latin typeface="Calibri"/>
              </a:rPr>
              <a:t>Адаптація законодавства України до законодавства ЄС передбачає: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на 1 етапі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: передбачається розвиток правової системи України згідно з вимогами, визначеними в декларації, у напрямі встановлення верховенства права, забезпечення прав людини, функціонування ринкової економіки; приведення законодавства України у відповідність до вимог Угоди про партнерство і співпрацю та інших міжнародних договорів, які стосуються співпраці України та ЄС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2 етап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полягатиме в перегляді законодавства України у сферах, визначених Угодою про партнерство і співпрацю, з метою забезпечення його приблизної відповідності законодавству ЄС; правовому забезпеченні створення зони вільної торгівлі між Україною та ЄС та підготовки до асоційованого членства України в ЄС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3 етап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- укладення Угоди про асоціацію між Україною та ЄС; підготовка розширеної програми гармонізації законодавства України із законодавством ЄС з метою забезпечення інтеграції України до спільного ринку ЄС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29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c00000"/>
                </a:solidFill>
                <a:latin typeface="Calibri"/>
              </a:rPr>
              <a:t>Нормативно-правова база зближення правових систем різн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 рамках кожного напряму використовуються ті чи інші </a:t>
            </a:r>
            <a:r>
              <a:rPr b="0" lang="uk-UA" sz="2600" spc="-1" strike="noStrike">
                <a:solidFill>
                  <a:srgbClr val="00b0f0"/>
                </a:solidFill>
                <a:latin typeface="Constantia"/>
              </a:rPr>
              <a:t>правові засоби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) програми-проекти, модельні законодавчі ак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) уніфіковані загальні норм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) правові стандар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4) наукові концепції тощо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риродно, їх </a:t>
            </a:r>
            <a:r>
              <a:rPr b="0" lang="uk-UA" sz="2600" spc="-1" strike="noStrike">
                <a:solidFill>
                  <a:srgbClr val="c00000"/>
                </a:solidFill>
                <a:latin typeface="Constantia"/>
              </a:rPr>
              <a:t>юридична сила неоднакова,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оскільки вони можуть мати </a:t>
            </a:r>
            <a:r>
              <a:rPr b="0" lang="uk-UA" sz="2600" spc="-1" strike="noStrike">
                <a:solidFill>
                  <a:srgbClr val="c00000"/>
                </a:solidFill>
                <a:latin typeface="Constantia"/>
              </a:rPr>
              <a:t>програмний, нормативно-орієнтуючий, рекомендаційний і обов'язковий характе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562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70c0"/>
                </a:solidFill>
                <a:latin typeface="Calibri"/>
              </a:rPr>
              <a:t>4 напрями і форми їх проведення щодо «узгодженого» правового розвитку держав (Ю.О. Тихомиров)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) зближення законодавства, коли визначається спільний курс держав у даній сфері, напрями, етапи зближення, способи зближенн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2) гармонізація законодавства, коли узгоджуються спільні підходи, концепції розвитку національних законодавств, виробляються спільні правові принципи і окремі рішенн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) ухвалення модельних законодавчих актів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4) </a:t>
            </a: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уніфікація  законодавства,  коли розробляються і вводяться в дію загальнообов'язкові одноманітні юридичні норми (правила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ПЛАН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1426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Зближення правових систе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Правова акультурація та її значення для зближення правових систе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Закономірності зближення правових систем і його фор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Гармонізація законодавств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Розроблення модельних законодавчих акті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Уніфікація правових нор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Імплементація норм міжнародного права в національне законодавств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Надання міжнародної правової допомог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Процес зближення національних правових систем передбачає </a:t>
            </a:r>
            <a:br>
              <a:rPr sz="4000"/>
            </a:b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(на думку Ю.О. </a:t>
            </a: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Тихомирова)</a:t>
            </a: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292896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1) розроблення загальної політики державного правового розвитку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70c0"/>
                </a:solidFill>
                <a:latin typeface="Constantia"/>
              </a:rPr>
              <a:t>2) здійснення заходів із подолання правових відмінностей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3) вживання   заходів   із   вироблення   спільних   юридичних правил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Процес гармонізації нормативно-правової бази передбачає </a:t>
            </a:r>
            <a:br>
              <a:rPr sz="4500"/>
            </a:br>
            <a:br>
              <a:rPr sz="4500"/>
            </a:br>
            <a:r>
              <a:rPr b="0" lang="uk-UA" sz="4500" spc="-1" strike="noStrike">
                <a:solidFill>
                  <a:srgbClr val="ff0000"/>
                </a:solidFill>
                <a:latin typeface="Calibri"/>
              </a:rPr>
              <a:t>наявність об'єктивних умов</a:t>
            </a: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uk-UA" sz="4500" spc="-1" strike="noStrike">
                <a:solidFill>
                  <a:srgbClr val="ff0000"/>
                </a:solidFill>
                <a:latin typeface="Calibri"/>
              </a:rPr>
              <a:t>в тій чи іншій сфері 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6840" y="4929120"/>
            <a:ext cx="3614760" cy="142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усередині однієї правової сім‘ї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143240" y="4857840"/>
            <a:ext cx="485784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між правовими системами, що належать різним правовим сім'ям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Умовою реалізації гармонізації є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ироблення єдиної термінології, необхідної для здійснення гармонізації, яка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встановлює і закріплює єдині вимоги до використання термінів, систематизує поняття, виключає з обороту застарілі терміни і сприяє раціональній організації нормотворчої діяльності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прияє формальній визначеності права, ліквідації суперечностей у розумінні правових текстів, підвищенні їх доступності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7030a0"/>
                </a:solidFill>
                <a:latin typeface="Calibri"/>
              </a:rPr>
              <a:t>Способи (форми) зближення правових систем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85480" y="1855800"/>
            <a:ext cx="421164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2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гармонізація законодавст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уніфікація правових норм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форма зближення, складний процес, що максимально зближує законодавства різних держав у вирішенні правових проблем, але не приводить правові системи до повної єдності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форма зближення правових систем, процес, пов'язаний зі спробами приведення різних правових систем і окремих їхніх складових частин, зокрема правових норм, до певного спільного знаменник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04617b"/>
                </a:solidFill>
                <a:latin typeface="Calibri"/>
              </a:rPr>
              <a:t>Розроблення модельних законодавчих актів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тобто схожих законодавчих актів, що призводить зрештою до одноманітного регулювання відносин у різних сферах суспільного життя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Розроблення модельних законодавчих актів визнається як успішний і ефективний спосіб, що забезпечує зближення правових систем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Модельні законодавчі акт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мають рекомендаційний характер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служать орієнтиром для розвитку і зближення національних законодавчих актів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містять типові норми, що дають нормативну орієнтацію для законодавця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таким чином, вони виконують функцію певного нормативно-орієнтуючого стандарту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розробляються і приймаються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міждержавними об'єднаннями (наприклад ЄС) для держав-членів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міжнародними організаціями (наприклад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ОН)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ормотворчими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органами федерації (наприклад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ША) для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її суб'єктів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ученими-правознавцями і фахівцями та мають доктринальний характер (наприклад розроблення в 1992 р. фахівцями Гарвардського університету «Базового світового податкового кодексу» в рамках міжнародної податкової програми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0b0f0"/>
                </a:solidFill>
                <a:latin typeface="Calibri"/>
              </a:rPr>
              <a:t>Уніфікація правових норм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7030a0"/>
                </a:solidFill>
                <a:latin typeface="Constantia"/>
              </a:rPr>
              <a:t>як форма зближення правових систем, відображає процес зближення норм конкретного національного права з нормами міжнародного або регіонального права шляхом установлення єдиних норм права, що мають одноманітне застосування в усіх державах, які є учасницями міжнародно-правової або регіонально-правової угод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Ідея уніфікації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а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національному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 і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регіональному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 рівнях йде своїм корінням в глибоку старовину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а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міжнародному рівні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уніфікація починає широко застосовуватися наприкінці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XVIII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ст. і в першій половині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XIX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ст. під прямим впливом торгових, фінансових і інших зв'язків, що швидко розширюються між різними державам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Ідея уніфікації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а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національному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 і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регіональному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 рівнях йде своїм корінням в глибоку старовину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а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міжнародному рівні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уніфікація починає широко застосовуватися наприкінці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XVIII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ст. і в першій половині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XIX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ст. під прямим впливом торгових, фінансових і інших зв'язків, що швидко розширюються між різними державам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7030a0"/>
                </a:solidFill>
                <a:latin typeface="Calibri"/>
              </a:rPr>
              <a:t>Різновиди правової уніфікації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99680" y="1357200"/>
            <a:ext cx="4040280" cy="128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nstantia"/>
              </a:rPr>
              <a:t>на основі предмета уніфікації </a:t>
            </a: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виділяют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00720" y="1428480"/>
            <a:ext cx="4357440" cy="1500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nstantia"/>
              </a:rPr>
              <a:t>за своєю формою уніфікація </a:t>
            </a: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права може проводитися шляхом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213840" y="3071520"/>
            <a:ext cx="4429080" cy="32893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4000"/>
          </a:bodyPr>
          <a:p>
            <a:pPr marL="483480" indent="-483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7030a0"/>
                </a:solidFill>
                <a:latin typeface="Constantia"/>
              </a:rPr>
              <a:t>1)уніфікацію матеріального права 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(цивільного, сімейного, адміністративного права та ін.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7030a0"/>
                </a:solidFill>
                <a:latin typeface="Constantia"/>
              </a:rPr>
              <a:t>процесуального права 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(цивільно-процесуального, кримінально-процесуального права та ін.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644720" y="3000240"/>
            <a:ext cx="4041720" cy="33609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4000"/>
          </a:bodyPr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укладення міжнародних договорів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прийняття модельних рекомендаційних законодавчих актів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застосування примірних договорів міжнародних організацій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використання міжнародних звичаїв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4617b"/>
                </a:solidFill>
                <a:latin typeface="Calibri"/>
              </a:rPr>
              <a:t>Чинники, що впливають на зближення сучасних правових систем:</a:t>
            </a:r>
            <a:br>
              <a:rPr sz="45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7030a0"/>
                </a:solidFill>
                <a:latin typeface="Constantia"/>
              </a:rPr>
              <a:t>неминучість співіснування сучасних цивілізацій та потреба вирішення глобальних проблем сучасності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70c0"/>
                </a:solidFill>
                <a:latin typeface="Constantia"/>
              </a:rPr>
              <a:t>глобалізація (економічна, фінансова, правова, культурна, інформаційна та ін..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правова інтеграція та формування загального правового простор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надання міжнародної правової допомоги як елемент співпраці між державами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b5395"/>
                </a:solidFill>
                <a:latin typeface="Constantia"/>
              </a:rPr>
              <a:t>взаємовплив правових культур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8684e"/>
                </a:solidFill>
                <a:latin typeface="Constantia"/>
              </a:rPr>
              <a:t>розвиток порівняльного правознавства, який сприяє налагодженню діалогу між різними правовими сім'ями і мобілізує їх потенціал для вирішення загальнолюдських пробле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Рівні імплементації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285920"/>
            <a:ext cx="4040280" cy="642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міжнародни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44720" y="1285920"/>
            <a:ext cx="4041720" cy="642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національни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6840" y="2071440"/>
            <a:ext cx="3686040" cy="4289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полягає у виробленні міжнародних норм, що регламентують спільну організаційно-правову діяльність суб'єктів міжнародного права, направлену на здійснення цілей, закладених у міжнародних зобов'язаннях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357800" y="2000160"/>
            <a:ext cx="4572000" cy="43610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полягає у виробленні норм у рамках національного права, які встановлюють процесуальний порядок реалізації міжнародно-правових норм, що регламентують організаційно-правову діяльність органів держави і правозастосовну практику у зв'язку з реалізацією міжнародно-правових норм, направлену на фактичне виконання прийнятих державою міжнародних зобов'язань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c00000"/>
                </a:solidFill>
                <a:latin typeface="Calibri"/>
              </a:rPr>
              <a:t>За масштабами правова уніфікація охоплює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1)правові системи держав одного регіону (АСІАН);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7030a0"/>
                </a:solidFill>
                <a:latin typeface="Constantia"/>
              </a:rPr>
              <a:t>2) правові системи держав у рамках міждержавних об'єднань (ЄС, СНД),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3) може поширюватися на правові системи всіх або більшості держав світу 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(ООН)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Calibri"/>
              </a:rPr>
              <a:t>Імплементація норм міжнародного права в національне законодавство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фактичне здійснення міжнародних зобов'язань на внутрішньодержавному рівні шляхом трансформації міжнародно-правових норм у національні закони і підзаконні акти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Імплементація норм міжнародного пра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роцес, що складається із сукупності процедур і засобів, що сприяють підвищенню ефективності реалізації цих нор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у результаті імплементації відбуваєтьс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з одного боку, </a:t>
            </a:r>
            <a:r>
              <a:rPr b="0" lang="uk-UA" sz="2600" spc="-1" strike="noStrike">
                <a:solidFill>
                  <a:srgbClr val="00b050"/>
                </a:solidFill>
                <a:latin typeface="Constantia"/>
              </a:rPr>
              <a:t>запозичення положень міжнародного права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(процедури, інститути, фрагменти мови, нормативно-правові акти, принципи, цінності, правові ідеї)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а з іншого — </a:t>
            </a:r>
            <a:r>
              <a:rPr b="0" lang="uk-UA" sz="2600" spc="-1" strike="noStrike">
                <a:solidFill>
                  <a:srgbClr val="00b050"/>
                </a:solidFill>
                <a:latin typeface="Constantia"/>
              </a:rPr>
              <a:t>трансформація національного законодавства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з метою оновлення й удосконалення норм національної правової систе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04617b"/>
                </a:solidFill>
                <a:latin typeface="Calibri"/>
              </a:rPr>
              <a:t>Надання міжнародної правової допомог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роцесуальні дії, що здійснюються органами держави на підставі запитів органів іноземної держав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формується на базі норм, що належать до міжнародного публічного і міжнародного приватного права, разом із тим він регулює питання, що стосуються цивільного права, цивільно-процесуального права, адміністративного права, кримінального права, кримінально-процесуального права і т. ін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Види правової допомоги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Наприклад, Конвенція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ООН про 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боротьбу з незаконним захопленням повітряних суден 1970 р1. або Конвенція про боротьбу із захопленням заручників 1979 р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легалізація іноземних офіційних документів, тобто формальна процедура, використовувана дипломатичними або консульськими агентами держави, на території якої документ повинен бути представлений, для посвідчення достовірності підпису, якості, в якій виступала особа, що підписала документ, і, в належному випадку, достовірності печатки або штампу, якими скріплено цей документ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Гаазька конвенція 1961 року, що скасовує вимоги легалізації іноземних офіційних держав, поширюється на офіційні документи, які були укладені на території однієї з держав, що домовлялися, і повинні бути подані на території іншої договірної держави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Приклади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озови до фізичних осіб, які проживають на території однієї з договірних держав, подаються до судів цієї держави (незалежно від громадянства відповідача)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а позови до юридичних осіб — до судів держави, на території якої знаходиться орган управління юридичної особи, її представництво або філія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озови про право власності й інші речові права на нерухоме майно подаються до судів за місцем знаходження даного майн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Таким чином, надання міжнародної правової допомоги сприяє зближенню правових систем, оскільки воно за сучасних умов стає важливим елементом правової співпраці між державами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-328320" y="93960"/>
            <a:ext cx="895752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І</a:t>
            </a:r>
            <a:r>
              <a:rPr b="1" lang="uk-UA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ндекс верховенства прав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Україна 10-а з кінця за рівнем політичного втруч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1" descr="http://gdb.rferl.org/C7FC6D72-EF8A-4F83-A4E6-4016A8B83DED_w640_r1_s_cx9_cy0_cw8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71720" y="2786040"/>
            <a:ext cx="7167240" cy="378612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3"/>
          <p:cNvSpPr/>
          <p:nvPr/>
        </p:nvSpPr>
        <p:spPr>
          <a:xfrm>
            <a:off x="0" y="388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«Індекс верховенства права»,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Україна посіла 87-е місце з 97-ми в рейтингу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складеному неурядовою організацією «Проект світової юстиції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Індекс оцінює країни за показниками у восьми сферах, що мають вплив на стан верховенства права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еред них – межі повноважень центральної влади, корупція, безпека і порядок, фундаментальні права, відкритість уряду, регуляторне середовище, цивільне і кримінальне правосудд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900" spc="-1" strike="noStrike">
                <a:solidFill>
                  <a:srgbClr val="c00000"/>
                </a:solidFill>
                <a:latin typeface="Calibri"/>
              </a:rPr>
              <a:t>Розвиток порівняльного правознавства сприяє: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надає прагматичного, прозорого і передбачуваного характеру процесу зближення правових систем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виявленню найбільш оптимальних методів і форм зближення правових систем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виявленню меж запозичення правових положень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формуванню єдиного категоріально-понятійного апарату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тавить питання щодо формування загального, «універсального» прав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250px-European_court_of_human_rights"/>
          <p:cNvPicPr/>
          <p:nvPr/>
        </p:nvPicPr>
        <p:blipFill>
          <a:blip r:embed="rId1"/>
          <a:stretch/>
        </p:blipFill>
        <p:spPr>
          <a:xfrm>
            <a:off x="0" y="0"/>
            <a:ext cx="5572080" cy="3429000"/>
          </a:xfrm>
          <a:prstGeom prst="rect">
            <a:avLst/>
          </a:prstGeom>
          <a:ln w="0">
            <a:noFill/>
          </a:ln>
        </p:spPr>
      </p:pic>
      <p:sp>
        <p:nvSpPr>
          <p:cNvPr id="291" name="Прямоугольник 2"/>
          <p:cNvSpPr/>
          <p:nvPr/>
        </p:nvSpPr>
        <p:spPr>
          <a:xfrm>
            <a:off x="500040" y="3786120"/>
            <a:ext cx="8215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ількість позовів у Європейський суд  по правах люд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країна, разом з такими державами як Росія, Туреччина займає 4 позицію. Про це заявив директор суду Жан Стать Коста, оприлюднивши результати діяльності суду за 2012 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 47 країн у списку Евросуду за станом на 31 грудня 2012 р. на першому місці по кількості позовів перебуває Росія (28593 позову - 22,3% від загальної кількості справ), на четвертому - Україна (10447 позо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4617b"/>
                </a:solidFill>
                <a:latin typeface="Calibri"/>
              </a:rPr>
              <a:t>Україна і ЄС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285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Комісар Європейського Союзу з питань розширення і європейської політики сусідства Штефан Фюле наприкінці лютого 2013 р. привіз в Україну список вимог, виконання яких дозволить Україні підписати угоду про асоціації з Євросоюзом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редставники Євросоюзу позначили їх не вимоги, а як 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«19 індикаторів» або список Фюлле»,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оскільки даний список не має офіційної назв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СПИСОК ФЮЛЛЕ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1. Виконання рекомендацій, викладених в остаточному звіті спостережливої місії ОБСЄ/БДИПЧ щодо парламентських виборів в Україні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2. Подолання зафіксованих недоліків у проведенні парламентських виборів в Україні 28 жовтня 2012 року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3. Прийняття Виборчого кодексу України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4. Забезпечення збалансованого доступу учасників виборів до засобів масової інформації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5. Проведення повторних виборів в одномандатних виборчих округах, у яких не визначений переможець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6. Рішення питання політично мотивованих вироків без зволікань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СПИСОК ФЮЛЛ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7. Швидке виконання рішень Європейського суду по правах людини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8. Виконання рекомендацій Ради Європи щодо умов утримування й медичної допомоги особам, які перебувають під вартою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9. Забезпечення належного введення в дію нового Карного процесуального кодексу, нового законодавства з питань адвокатур і створення Національного превентивного механізму проти катувань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10. Перегляд у тісних консультаціях з Радою Європи/Венеціанською Комісією закону про прокуратуру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11. Перегляд у тісних консультаціях з Радою Європи/Венеціанською Комісією Кримінального кодексу України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12. Перегляд у тісних консультаціях з Радою Європи/Венеціанською Комісією закону про «Вищу раду юстиції»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Заголовок 1" descr=""/>
          <p:cNvPicPr/>
          <p:nvPr/>
        </p:nvPicPr>
        <p:blipFill>
          <a:blip r:embed="rId1"/>
          <a:stretch/>
        </p:blipFill>
        <p:spPr>
          <a:xfrm>
            <a:off x="268200" y="701640"/>
            <a:ext cx="8601120" cy="573552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200px-Strasbourg-_European_Court_of_Human_Rights"/>
          <p:cNvPicPr/>
          <p:nvPr/>
        </p:nvPicPr>
        <p:blipFill>
          <a:blip r:embed="rId1"/>
          <a:stretch/>
        </p:blipFill>
        <p:spPr>
          <a:xfrm>
            <a:off x="0" y="0"/>
            <a:ext cx="8001000" cy="428616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Заголовок 1" descr=""/>
          <p:cNvPicPr/>
          <p:nvPr/>
        </p:nvPicPr>
        <p:blipFill>
          <a:blip r:embed="rId1"/>
          <a:stretch/>
        </p:blipFill>
        <p:spPr>
          <a:xfrm>
            <a:off x="19080" y="701640"/>
            <a:ext cx="9180360" cy="25178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Правова акультурація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Правова рецепці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взаємодія між правовими системами і правовими культурами на рівні законодавства, судової практики, юридичної науки, юридичної освіти та ін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розглядають як різновид правової акультурації, названу ще тотальною акультурацією або «культурною мутацією» (Карбоньє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Рисунок 1" descr="http://go3.imgsmail.ru/imgpreview?key=http%3A//upload.wikimedia.org/wikipedia/commons/thumb/a/ab/EU%5FMember%5Fstates%5Fand%5FCandidate%5Fcountries%5Fmap.svg/400px-EU%5FMember%5Fstates%5Fand%5FCandidate%5Fcountries%5Fmap.svg.png&amp;mb=imgdb_preview_471"/>
          <p:cNvPicPr/>
          <p:nvPr/>
        </p:nvPicPr>
        <p:blipFill>
          <a:blip r:embed="rId1"/>
          <a:stretch/>
        </p:blipFill>
        <p:spPr>
          <a:xfrm>
            <a:off x="0" y="0"/>
            <a:ext cx="6072120" cy="471492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2857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Запозичення  правових ідей, приниципів, інститутів , </a:t>
            </a:r>
            <a:r>
              <a:rPr b="1" lang="uk-UA" sz="4000" spc="-1" strike="noStrike">
                <a:solidFill>
                  <a:srgbClr val="04617b"/>
                </a:solidFill>
                <a:latin typeface="Calibri"/>
              </a:rPr>
              <a:t>елементів юридичної техніки і практики правозастосовної діяльності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3143160"/>
            <a:ext cx="4040280" cy="571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nstantia"/>
              </a:rPr>
              <a:t>фрагментарн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44720" y="3143160"/>
            <a:ext cx="4041720" cy="571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nstantia"/>
              </a:rPr>
              <a:t>глобальн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6840" y="3857760"/>
            <a:ext cx="4040280" cy="25034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запозичення правових положень (правова акультурація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644720" y="3857760"/>
            <a:ext cx="4041720" cy="25034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коли змінюються основи правової системи взагалі – (правова рецепція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http://go2.imgsmail.ru/imgpreview?key=http%3A//upload.wikimedia.org/wikipedia/commons/thumb/5/51/ENP.jpg/300px-ENP.jpg&amp;mb=imgdb_preview_471"/>
          <p:cNvPicPr/>
          <p:nvPr/>
        </p:nvPicPr>
        <p:blipFill>
          <a:blip r:embed="rId1"/>
          <a:stretch/>
        </p:blipFill>
        <p:spPr>
          <a:xfrm>
            <a:off x="155520" y="285840"/>
            <a:ext cx="4845240" cy="3500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>
                <a:solidFill>
                  <a:srgbClr val="04617b"/>
                </a:solidFill>
                <a:latin typeface="Calibri"/>
              </a:rPr>
              <a:t>Правова акультураці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заємодія між правовими системами і правовими культурами на рівні законодавства, судової практики, юридичної науки, юридичної освіти та ін.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0-09-02T08:59:28Z</dcterms:modified>
  <cp:revision>32</cp:revision>
  <dc:subject/>
  <dc:title>ЛЕКЦІЯ 3</dc:title>
</cp:coreProperties>
</file>