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6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2B5D-FE1D-4FC4-AB1E-193E06880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A2EC-03D1-44BA-82BD-C1F80ABAA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CAC0-47FC-435B-AF6F-53C14CA4A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56DE-369E-4D5C-A837-A2AEB2DB0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E4E05-D652-4980-8570-F4CBD9000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F75CA-FB9D-49B0-AFF1-DE6ADE477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58904-8CC7-48B5-80FF-E5596226E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1CD18-5E44-4AA6-951F-56C90BA22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6553E-3526-43DF-AC83-2BDB06583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B6FB6-D9C2-48A6-8F32-1551EB54E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F0F64-B3B0-4F28-9CF5-3D490987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0F2D-92C8-4572-A384-000CF7674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FF61A-AF67-4C5C-A081-2CDE92A3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3E19D-3B78-46AD-8BEC-D78980F4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50FEC-22EE-4CCB-9937-A80F7095D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7EA7B-C734-41AD-8552-CBDDDFE71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3D00D-9B78-4D30-A54F-B1B9BCF6D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877B2-6626-4700-84A5-315B373B1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E8933-0784-47D0-AE17-DD1C6576D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1FBE5-B85E-4B8C-ADAA-1FBD643B6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6D4BA-37ED-4626-BCAA-0ED8C220C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ED42E-84BC-4900-B0CF-1FF1BD7B8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CE3C-BA34-45E6-A0AA-0515F0C37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77B24-A9B0-4AB4-AE99-C9FE1B417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C1F26-A4F8-45C8-B687-6DEE8DFB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605E3-C4FA-472B-BEDA-68FFB9F5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3DD7E-07D2-46EA-B06D-1C985998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DFDE7-A74E-4336-80DE-2E04A5D8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52E0D-9E20-4125-82F5-EAD661B44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B03A0-D8FD-456E-A567-E0E5E8BEF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F6DA0-B41D-4A14-A182-4A679E5A9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5E0DA-A829-4BC8-82FD-CBC33D6AD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F0147-6583-4AB7-BB51-DB109C36C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1A6F-B483-4BF7-847E-4687F077F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C09F6-8A5B-4D83-A45D-0F81F856B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B1DA5-4EBB-4FBD-BED7-36D1D70A4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9F987-BE3A-4406-9941-B2717B8C4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DB4AF-AC72-452E-9CB3-3D44C6D4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3A609-6AF5-4E2D-BC33-83EED384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8D596-0C81-4BBF-8232-2E23B9F2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B9EC0-F42C-4FF4-9D7C-0BA90E6AB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A1FEA-9AA0-40E2-8999-706B823E0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6FFBB-A249-40E3-9B4E-05194E531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2F4D-A3EB-4AB0-9D7D-109C78AE2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D7B7-EA8F-4A4D-AAFF-5767C68A3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A8AD-3F7A-492C-84D5-7B4C7C16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8B99-EC89-4235-9614-2A1C581B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7915-EE08-4BB0-854C-FEE3C703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E5187-76FA-4688-A6BE-8E9732C6601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14D70-B1FC-45A9-BCAB-A5006293B808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20DF2-5A79-489C-A02A-966F777183A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CE359-DBE7-4F2B-B2DC-AE63DD476F6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gdb.rferl.org/C7FC6D72-EF8A-4F83-A4E6-4016A8B83DED_mw1024_n_s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682560" y="853920"/>
            <a:ext cx="8217000" cy="1640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371600" y="2571480"/>
            <a:ext cx="7129440" cy="3066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Constantia"/>
              </a:rPr>
              <a:t>ТЕНДЕНЦІЇ І ПЕРСПЕКТИВИ ВЗАЄМОДІЇ ПРАВОВИХ СИСТЕМ СУЧАСНОСТІ  В УМОВАХ ГЛОБАЛЬНИХ ВИКЛИКІВ І ЗАГРОЗ</a:t>
            </a:r>
            <a:br>
              <a:rPr sz="4800"/>
            </a:b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c00000"/>
                </a:solidFill>
                <a:latin typeface="Calibri"/>
              </a:rPr>
              <a:t>Закономірності зближення правових систем і його форм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Constantia"/>
              </a:rPr>
              <a:t>Шляхи і способи правової акультурації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4720" y="1860480"/>
            <a:ext cx="4041720" cy="1068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Constantia"/>
              </a:rPr>
              <a:t>Відбувається на рівні юридичної науки і юридичної освіти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6840" y="3286080"/>
            <a:ext cx="4040280" cy="3075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за допомогою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аконодавства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удової практики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укладення договорів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дійснюється вченими і викладачами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45080" y="3286080"/>
            <a:ext cx="4284720" cy="3075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на цій основі виділяються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аконодавч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удов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договірн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доктринальна правова акультураці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http://upload.wikimedia.org/wikipedia/commons/thumb/e/eb/Finland_passport.jpg/150px-Finland_passport.jpg"/>
          <p:cNvPicPr/>
          <p:nvPr/>
        </p:nvPicPr>
        <p:blipFill>
          <a:blip r:embed="rId1"/>
          <a:stretch/>
        </p:blipFill>
        <p:spPr>
          <a:xfrm>
            <a:off x="1071720" y="928800"/>
            <a:ext cx="2643120" cy="33573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Европейский центральный банк во Франкфурте-на-Майне определяет денежно-кредитную политику."/>
          <p:cNvPicPr/>
          <p:nvPr/>
        </p:nvPicPr>
        <p:blipFill>
          <a:blip r:embed="rId2"/>
          <a:stretch/>
        </p:blipFill>
        <p:spPr>
          <a:xfrm>
            <a:off x="4714920" y="1571760"/>
            <a:ext cx="2800440" cy="41432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Зближення правових систем  </a:t>
            </a: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має закономірний характер, зумовлений об'єктивними потребами розвитку людства на сучасному етапі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5357520"/>
            <a:ext cx="4038480" cy="9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процес відбувається </a:t>
            </a:r>
            <a:r>
              <a:rPr b="1" lang="uk-UA" sz="2800" spc="-1" strike="noStrike">
                <a:solidFill>
                  <a:srgbClr val="c00000"/>
                </a:solidFill>
                <a:latin typeface="Constantia"/>
              </a:rPr>
              <a:t>стихійн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648320" y="5357520"/>
            <a:ext cx="4038480" cy="9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процес відбувається </a:t>
            </a:r>
            <a:r>
              <a:rPr b="1" lang="uk-UA" sz="2800" spc="-1" strike="noStrike">
                <a:solidFill>
                  <a:srgbClr val="c00000"/>
                </a:solidFill>
                <a:latin typeface="Constantia"/>
              </a:rPr>
              <a:t>планомірн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http://upload.wikimedia.org/wikipedia/commons/thumb/2/2e/European-parliament-brussels-inside.JPG/300px-European-parliament-brussels-inside.JPG"/>
          <p:cNvPicPr/>
          <p:nvPr/>
        </p:nvPicPr>
        <p:blipFill>
          <a:blip r:embed="rId1"/>
          <a:stretch/>
        </p:blipFill>
        <p:spPr>
          <a:xfrm>
            <a:off x="155520" y="142920"/>
            <a:ext cx="7916760" cy="521496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85480"/>
            <a:ext cx="8472600" cy="1571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7030a0"/>
                </a:solidFill>
                <a:latin typeface="Calibri"/>
              </a:rPr>
              <a:t>Базовими документами, що визначають процес адаптації законодавства України до законодавства ЄС є: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) прийняті Радою Європи на Копенгагенському саміті в 1993 р.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Декларація і Угода про партнерство та співпрацю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між Україною і Європейськими Співтовариствами та їх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ержавамичленами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994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)Указ Президента України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«Про програму інтеграції України в Європейський Союз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» 2000 р.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) Закон України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«Про Загальнодержавну програму адаптації законодавства України до законодавства Європейського Союзу»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004 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04617b"/>
                </a:solidFill>
                <a:latin typeface="Calibri"/>
              </a:rPr>
              <a:t>План дій Ради Європи для України на 2011-2014 роки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має важливе значення у впровадженні європейських правових стандартів у національну правову систему й систему законодавств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ередбачає пакет пріоритетних заходів, покликаних допомогти в приведенні українського законодавства, інститутів та практики у </a:t>
            </a: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відповідність до європейських стандартів щодо прав людини, верховенства права і демократії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Рисунок 1" descr="http://img.pravda.com.ua/images/doc/6/b/6b4efbb-113.jpg"/>
          <p:cNvPicPr/>
          <p:nvPr/>
        </p:nvPicPr>
        <p:blipFill>
          <a:blip r:embed="rId1"/>
          <a:stretch/>
        </p:blipFill>
        <p:spPr>
          <a:xfrm>
            <a:off x="1143000" y="357120"/>
            <a:ext cx="6000840" cy="38592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c00000"/>
                </a:solidFill>
                <a:latin typeface="Calibri"/>
              </a:rPr>
              <a:t>Адаптація законодавства України до законодавства ЄС передбачає: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на 1 етапі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: передбачається розвиток правової системи України згідно з вимогами, визначеними в декларації, у напрямі встановлення верховенства права, забезпечення прав людини, функціонування ринкової економіки; приведення законодавства України у відповідність до вимог Угоди про партнерство і співпрацю та інших міжнародних договорів, які стосуються співпраці України та ЄС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2 етап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полягатиме в перегляді законодавства України у сферах, визначених Угодою про партнерство і співпрацю, з метою забезпечення його приблизної відповідності законодавству ЄС; правовому забезпеченні створення зони вільної торгівлі між Україною та ЄС та підготовки до асоційованого членства України в ЄС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3 етап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- укладення Угоди про асоціацію між Україною та ЄС; підготовка розширеної програми гармонізації законодавства України із законодавством ЄС з метою забезпечення інтеграції України до спільного ринку ЄС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29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c00000"/>
                </a:solidFill>
                <a:latin typeface="Calibri"/>
              </a:rPr>
              <a:t>Нормативно-правова база зближення правових систем різн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 рамках кожного напряму використовуються ті чи інші </a:t>
            </a:r>
            <a:r>
              <a:rPr b="0" lang="uk-UA" sz="2600" spc="-1" strike="noStrike">
                <a:solidFill>
                  <a:srgbClr val="00b0f0"/>
                </a:solidFill>
                <a:latin typeface="Constantia"/>
              </a:rPr>
              <a:t>правові засоби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) програми-проекти, модельні законодавчі ак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) уніфіковані загальні норм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) правові стандар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4) наукові концепції тощо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риродно, їх </a:t>
            </a:r>
            <a:r>
              <a:rPr b="0" lang="uk-UA" sz="2600" spc="-1" strike="noStrike">
                <a:solidFill>
                  <a:srgbClr val="c00000"/>
                </a:solidFill>
                <a:latin typeface="Constantia"/>
              </a:rPr>
              <a:t>юридична сила неоднакова,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оскільки вони можуть мати </a:t>
            </a:r>
            <a:r>
              <a:rPr b="0" lang="uk-UA" sz="2600" spc="-1" strike="noStrike">
                <a:solidFill>
                  <a:srgbClr val="c00000"/>
                </a:solidFill>
                <a:latin typeface="Constantia"/>
              </a:rPr>
              <a:t>програмний, нормативно-орієнтуючий, рекомендаційний і обов'язковий характе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562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70c0"/>
                </a:solidFill>
                <a:latin typeface="Calibri"/>
              </a:rPr>
              <a:t>4 напрями і форми їх проведення щодо «узгодженого» правового розвитку держав (Ю.О. Тихомиров)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) зближення законодавства, коли визначається спільний курс держав у даній сфері, напрями, етапи зближення, способи зближенн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2) гармонізація законодавства, коли узгоджуються спільні підходи, концепції розвитку національних законодавств, виробляються спільні правові принципи і окремі рішенн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) ухвалення модельних законодавчих актів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4) </a:t>
            </a: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уніфікація  законодавства,  коли розробляються і вводяться в дію загальнообов'язкові одноманітні юридичні норми (правила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ПЛАН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1426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Зближення правових систе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Правова акультурація та її значення для зближення правових систе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Закономірності зближення правових систем і його фор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Гармонізація законодавств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Розроблення модельних законодавчих акті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Уніфікація правових нор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Імплементація норм міжнародного права в національне законодавств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Надання міжнародної правової допомог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Процес зближення національних правових систем передбачає </a:t>
            </a:r>
            <a:br>
              <a:rPr sz="4000"/>
            </a:b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(на думку Ю.О. </a:t>
            </a: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Тихомирова)</a:t>
            </a: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292896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1) розроблення загальної політики державного правового розвитку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70c0"/>
                </a:solidFill>
                <a:latin typeface="Constantia"/>
              </a:rPr>
              <a:t>2) здійснення заходів із подолання правових відмінностей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3) вживання   заходів   із   вироблення   спільних   юридичних правил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Процес гармонізації нормативно-правової бази передбачає </a:t>
            </a:r>
            <a:br>
              <a:rPr sz="4500"/>
            </a:br>
            <a:br>
              <a:rPr sz="4500"/>
            </a:br>
            <a:r>
              <a:rPr b="0" lang="uk-UA" sz="4500" spc="-1" strike="noStrike">
                <a:solidFill>
                  <a:srgbClr val="ff0000"/>
                </a:solidFill>
                <a:latin typeface="Calibri"/>
              </a:rPr>
              <a:t>наявність об'єктивних умов</a:t>
            </a: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uk-UA" sz="4500" spc="-1" strike="noStrike">
                <a:solidFill>
                  <a:srgbClr val="ff0000"/>
                </a:solidFill>
                <a:latin typeface="Calibri"/>
              </a:rPr>
              <a:t>в тій чи іншій сфері 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6840" y="4929120"/>
            <a:ext cx="3614760" cy="142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усередині однієї правової сім‘ї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143240" y="4857840"/>
            <a:ext cx="485784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між правовими системами, що належать різним правовим сім'ям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Умовою реалізації гармонізації є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ироблення єдиної термінології, необхідної для здійснення гармонізації, яка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встановлює і закріплює єдині вимоги до використання термінів, систематизує поняття, виключає з обороту застарілі терміни і сприяє раціональній організації нормотворчої діяльності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прияє формальній визначеності права, ліквідації суперечностей у розумінні правових текстів, підвищенні їх доступності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7030a0"/>
                </a:solidFill>
                <a:latin typeface="Calibri"/>
              </a:rPr>
              <a:t>Способи (форми) зближення правових систем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85480" y="1855800"/>
            <a:ext cx="421164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2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гармонізація законодавст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уніфікація правових норм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форма зближення, складний процес, що максимально зближує законодавства різних держав у вирішенні правових проблем, але не приводить правові системи до повної єдності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форма зближення правових систем, процес, пов'язаний зі спробами приведення різних правових систем і окремих їхніх складових частин, зокрема правових норм, до певного спільного знаменник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04617b"/>
                </a:solidFill>
                <a:latin typeface="Calibri"/>
              </a:rPr>
              <a:t>Розроблення модельних законодавчих актів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тобто схожих законодавчих актів, що призводить зрештою до одноманітного регулювання відносин у різних сферах суспільного життя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Розроблення модельних законодавчих актів визнається як успішний і ефективний спосіб, що забезпечує зближення правових систем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Модельні законодавчі акт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мають рекомендаційний характер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служать орієнтиром для розвитку і зближення національних законодавчих актів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містять типові норми, що дають нормативну орієнтацію для законодавця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таким чином, вони виконують функцію певного нормативно-орієнтуючого стандарту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розробляються і приймаються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міждержавними об'єднаннями (наприклад ЄС) для держав-членів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міжнародними організаціями (наприклад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ОН)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ормотворчими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органами федерації (наприклад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ША) для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її суб'єктів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ученими-правознавцями і фахівцями та мають доктринальний характер (наприклад розроблення в 1992 р. фахівцями Гарвардського університету «Базового світового податкового кодексу» в рамках міжнародної податкової програми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0b0f0"/>
                </a:solidFill>
                <a:latin typeface="Calibri"/>
              </a:rPr>
              <a:t>Уніфікація правових норм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7030a0"/>
                </a:solidFill>
                <a:latin typeface="Constantia"/>
              </a:rPr>
              <a:t>як форма зближення правових систем, відображає процес зближення норм конкретного національного права з нормами міжнародного або регіонального права шляхом установлення єдиних норм права, що мають одноманітне застосування в усіх державах, які є учасницями міжнародно-правової або регіонально-правової угод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Ідея уніфікації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а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національному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 і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регіональному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 рівнях йде своїм корінням в глибоку старовину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а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міжнародному рівні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уніфікація починає широко застосовуватися наприкінці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XVIII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ст. і в першій половині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XIX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ст. під прямим впливом торгових, фінансових і інших зв'язків, що швидко розширюються між різними державам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Ідея уніфікації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а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національному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 і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регіональному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 рівнях йде своїм корінням в глибоку старовину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а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міжнародному рівні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уніфікація починає широко застосовуватися наприкінці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XVIII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ст. і в першій половині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XIX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ст. під прямим впливом торгових, фінансових і інших зв'язків, що швидко розширюються між різними державам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7030a0"/>
                </a:solidFill>
                <a:latin typeface="Calibri"/>
              </a:rPr>
              <a:t>Різновиди правової уніфікації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99680" y="1357200"/>
            <a:ext cx="4040280" cy="128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nstantia"/>
              </a:rPr>
              <a:t>на основі предмета уніфікації </a:t>
            </a: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виділяют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00720" y="1428480"/>
            <a:ext cx="4357440" cy="1500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nstantia"/>
              </a:rPr>
              <a:t>за своєю формою уніфікація </a:t>
            </a: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права може проводитися шляхом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213840" y="3071520"/>
            <a:ext cx="4429080" cy="32893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4000"/>
          </a:bodyPr>
          <a:p>
            <a:pPr marL="483480" indent="-483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7030a0"/>
                </a:solidFill>
                <a:latin typeface="Constantia"/>
              </a:rPr>
              <a:t>1)уніфікацію матеріального права 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(цивільного, сімейного, адміністративного права та ін.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7030a0"/>
                </a:solidFill>
                <a:latin typeface="Constantia"/>
              </a:rPr>
              <a:t>процесуального права 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(цивільно-процесуального, кримінально-процесуального права та ін.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644720" y="3000240"/>
            <a:ext cx="4041720" cy="33609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4000"/>
          </a:bodyPr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укладення міжнародних договорів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прийняття модельних рекомендаційних законодавчих актів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застосування примірних договорів міжнародних організацій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використання міжнародних звичаїв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4617b"/>
                </a:solidFill>
                <a:latin typeface="Calibri"/>
              </a:rPr>
              <a:t>Чинники, що впливають на зближення сучасних правових систем:</a:t>
            </a:r>
            <a:br>
              <a:rPr sz="45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7030a0"/>
                </a:solidFill>
                <a:latin typeface="Constantia"/>
              </a:rPr>
              <a:t>неминучість співіснування сучасних цивілізацій та потреба вирішення глобальних проблем сучасності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70c0"/>
                </a:solidFill>
                <a:latin typeface="Constantia"/>
              </a:rPr>
              <a:t>глобалізація (економічна, фінансова, правова, культурна, інформаційна та ін..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правова інтеграція та формування загального правового простор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надання міжнародної правової допомоги як елемент співпраці між державами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b5395"/>
                </a:solidFill>
                <a:latin typeface="Constantia"/>
              </a:rPr>
              <a:t>взаємовплив правових культур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8684e"/>
                </a:solidFill>
                <a:latin typeface="Constantia"/>
              </a:rPr>
              <a:t>розвиток порівняльного правознавства, який сприяє налагодженню діалогу між різними правовими сім'ями і мобілізує їх потенціал для вирішення загальнолюдських пробле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Рівні імплементації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285920"/>
            <a:ext cx="4040280" cy="642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міжнародни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44720" y="1285920"/>
            <a:ext cx="4041720" cy="642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національни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6840" y="2071440"/>
            <a:ext cx="3686040" cy="4289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полягає у виробленні міжнародних норм, що регламентують спільну організаційно-правову діяльність суб'єктів міжнародного права, направлену на здійснення цілей, закладених у міжнародних зобов'язаннях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357800" y="2000160"/>
            <a:ext cx="4572000" cy="43610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полягає у виробленні норм у рамках національного права, які встановлюють процесуальний порядок реалізації міжнародно-правових норм, що регламентують організаційно-правову діяльність органів держави і правозастосовну практику у зв'язку з реалізацією міжнародно-правових норм, направлену на фактичне виконання прийнятих державою міжнародних зобов'язань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c00000"/>
                </a:solidFill>
                <a:latin typeface="Calibri"/>
              </a:rPr>
              <a:t>За масштабами правова уніфікація охоплює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1)правові системи держав одного регіону (АСІАН);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7030a0"/>
                </a:solidFill>
                <a:latin typeface="Constantia"/>
              </a:rPr>
              <a:t>2) правові системи держав у рамках міждержавних об'єднань (ЄС, СНД),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3) може поширюватися на правові системи всіх або більшості держав світу 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(ООН)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Calibri"/>
              </a:rPr>
              <a:t>Імплементація норм міжнародного права в національне законодавство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фактичне здійснення міжнародних зобов'язань на внутрішньодержавному рівні шляхом трансформації міжнародно-правових норм у національні закони і підзаконні акти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Імплементація норм міжнародного пра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роцес, що складається із сукупності процедур і засобів, що сприяють підвищенню ефективності реалізації цих нор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у результаті імплементації відбуваєтьс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з одного боку, </a:t>
            </a:r>
            <a:r>
              <a:rPr b="0" lang="uk-UA" sz="2600" spc="-1" strike="noStrike">
                <a:solidFill>
                  <a:srgbClr val="00b050"/>
                </a:solidFill>
                <a:latin typeface="Constantia"/>
              </a:rPr>
              <a:t>запозичення положень міжнародного права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(процедури, інститути, фрагменти мови, нормативно-правові акти, принципи, цінності, правові ідеї)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а з іншого — </a:t>
            </a:r>
            <a:r>
              <a:rPr b="0" lang="uk-UA" sz="2600" spc="-1" strike="noStrike">
                <a:solidFill>
                  <a:srgbClr val="00b050"/>
                </a:solidFill>
                <a:latin typeface="Constantia"/>
              </a:rPr>
              <a:t>трансформація національного законодавства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з метою оновлення й удосконалення норм національної правової систе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04617b"/>
                </a:solidFill>
                <a:latin typeface="Calibri"/>
              </a:rPr>
              <a:t>Надання міжнародної правової допомог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роцесуальні дії, що здійснюються органами держави на підставі запитів органів іноземної держав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формується на базі норм, що належать до міжнародного публічного і міжнародного приватного права, разом із тим він регулює питання, що стосуються цивільного права, цивільно-процесуального права, адміністративного права, кримінального права, кримінально-процесуального права і т. ін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Види правової допомоги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Наприклад, Конвенція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ООН про 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боротьбу з незаконним захопленням повітряних суден 1970 р1. або Конвенція про боротьбу із захопленням заручників 1979 р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легалізація іноземних офіційних документів, тобто формальна процедура, використовувана дипломатичними або консульськими агентами держави, на території якої документ повинен бути представлений, для посвідчення достовірності підпису, якості, в якій виступала особа, що підписала документ, і, в належному випадку, достовірності печатки або штампу, якими скріплено цей документ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Гаазька конвенція 1961 року, що скасовує вимоги легалізації іноземних офіційних держав, поширюється на офіційні документи, які були укладені на території однієї з держав, що домовлялися, і повинні бути подані на території іншої договірної держави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Приклади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озови до фізичних осіб, які проживають на території однієї з договірних держав, подаються до судів цієї держави (незалежно від громадянства відповідача)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а позови до юридичних осіб — до судів держави, на території якої знаходиться орган управління юридичної особи, її представництво або філія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озови про право власності й інші речові права на нерухоме майно подаються до судів за місцем знаходження даного майн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Таким чином, надання міжнародної правової допомоги сприяє зближенню правових систем, оскільки воно за сучасних умов стає важливим елементом правової співпраці між державами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-328320" y="93960"/>
            <a:ext cx="895752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І</a:t>
            </a:r>
            <a:r>
              <a:rPr b="1" lang="uk-UA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ндекс верховенства прав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Україна 10-а з кінця за рівнем політичного втруч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1" descr="http://gdb.rferl.org/C7FC6D72-EF8A-4F83-A4E6-4016A8B83DED_w640_r1_s_cx9_cy0_cw8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71720" y="2786040"/>
            <a:ext cx="7167240" cy="378612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3"/>
          <p:cNvSpPr/>
          <p:nvPr/>
        </p:nvSpPr>
        <p:spPr>
          <a:xfrm>
            <a:off x="0" y="388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«Індекс верховенства права»,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Україна посіла 87-е місце з 97-ми в рейтингу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складеному неурядовою організацією «Проект світової юстиції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Індекс оцінює країни за показниками у восьми сферах, що мають вплив на стан верховенства права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еред них – межі повноважень центральної влади, корупція, безпека і порядок, фундаментальні права, відкритість уряду, регуляторне середовище, цивільне і кримінальне правосудд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900" spc="-1" strike="noStrike">
                <a:solidFill>
                  <a:srgbClr val="c00000"/>
                </a:solidFill>
                <a:latin typeface="Calibri"/>
              </a:rPr>
              <a:t>Розвиток порівняльного правознавства сприяє: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надає прагматичного, прозорого і передбачуваного характеру процесу зближення правових систем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виявленню найбільш оптимальних методів і форм зближення правових систем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виявленню меж запозичення правових положень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формуванню єдиного категоріально-понятійного апарату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тавить питання щодо формування загального, «універсального» прав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250px-European_court_of_human_rights"/>
          <p:cNvPicPr/>
          <p:nvPr/>
        </p:nvPicPr>
        <p:blipFill>
          <a:blip r:embed="rId1"/>
          <a:stretch/>
        </p:blipFill>
        <p:spPr>
          <a:xfrm>
            <a:off x="0" y="0"/>
            <a:ext cx="5572080" cy="3429000"/>
          </a:xfrm>
          <a:prstGeom prst="rect">
            <a:avLst/>
          </a:prstGeom>
          <a:ln w="0">
            <a:noFill/>
          </a:ln>
        </p:spPr>
      </p:pic>
      <p:sp>
        <p:nvSpPr>
          <p:cNvPr id="291" name="Прямоугольник 2"/>
          <p:cNvSpPr/>
          <p:nvPr/>
        </p:nvSpPr>
        <p:spPr>
          <a:xfrm>
            <a:off x="500040" y="3786120"/>
            <a:ext cx="8215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ількість позовів у Європейський суд  по правах люд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країна, разом з такими державами як Росія, Туреччина займає 4 позицію. Про це заявив директор суду Жан Стать Коста, оприлюднивши результати діяльності суду за 2012 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 47 країн у списку Евросуду за станом на 31 грудня 2012 р. на першому місці по кількості позовів перебуває Росія (28593 позову - 22,3% від загальної кількості справ), на четвертому - Україна (10447 позо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4617b"/>
                </a:solidFill>
                <a:latin typeface="Calibri"/>
              </a:rPr>
              <a:t>Україна і ЄС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285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Комісар Європейського Союзу з питань розширення і європейської політики сусідства Штефан Фюле наприкінці лютого 2013 р. привіз в Україну список вимог, виконання яких дозволить Україні підписати угоду про асоціації з Євросоюзом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редставники Євросоюзу позначили їх не вимоги, а як 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«19 індикаторів» або список Фюлле»,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оскільки даний список не має офіційної назв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СПИСОК ФЮЛЛЕ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1. Виконання рекомендацій, викладених в остаточному звіті спостережливої місії ОБСЄ/БДИПЧ щодо парламентських виборів в Україні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2. Подолання зафіксованих недоліків у проведенні парламентських виборів в Україні 28 жовтня 2012 року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3. Прийняття Виборчого кодексу України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4. Забезпечення збалансованого доступу учасників виборів до засобів масової інформації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5. Проведення повторних виборів в одномандатних виборчих округах, у яких не визначений переможець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6. Рішення питання політично мотивованих вироків без зволікань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СПИСОК ФЮЛЛ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7. Швидке виконання рішень Європейського суду по правах людини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8. Виконання рекомендацій Ради Європи щодо умов утримування й медичної допомоги особам, які перебувають під вартою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9. Забезпечення належного введення в дію нового Карного процесуального кодексу, нового законодавства з питань адвокатур і створення Національного превентивного механізму проти катувань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10. Перегляд у тісних консультаціях з Радою Європи/Венеціанською Комісією закону про прокуратуру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11. Перегляд у тісних консультаціях з Радою Європи/Венеціанською Комісією Кримінального кодексу України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12. Перегляд у тісних консультаціях з Радою Європи/Венеціанською Комісією закону про «Вищу раду юстиції»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Заголовок 1" descr=""/>
          <p:cNvPicPr/>
          <p:nvPr/>
        </p:nvPicPr>
        <p:blipFill>
          <a:blip r:embed="rId1"/>
          <a:stretch/>
        </p:blipFill>
        <p:spPr>
          <a:xfrm>
            <a:off x="268200" y="701640"/>
            <a:ext cx="8601120" cy="573552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200px-Strasbourg-_European_Court_of_Human_Rights"/>
          <p:cNvPicPr/>
          <p:nvPr/>
        </p:nvPicPr>
        <p:blipFill>
          <a:blip r:embed="rId1"/>
          <a:stretch/>
        </p:blipFill>
        <p:spPr>
          <a:xfrm>
            <a:off x="0" y="0"/>
            <a:ext cx="8001000" cy="428616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Заголовок 1" descr=""/>
          <p:cNvPicPr/>
          <p:nvPr/>
        </p:nvPicPr>
        <p:blipFill>
          <a:blip r:embed="rId1"/>
          <a:stretch/>
        </p:blipFill>
        <p:spPr>
          <a:xfrm>
            <a:off x="19080" y="701640"/>
            <a:ext cx="9180360" cy="25178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Правова акультурація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Правова рецепці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взаємодія між правовими системами і правовими культурами на рівні законодавства, судової практики, юридичної науки, юридичної освіти та ін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розглядають як різновид правової акультурації, названу ще тотальною акультурацією або «культурною мутацією» (Карбоньє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Рисунок 1" descr="http://go3.imgsmail.ru/imgpreview?key=http%3A//upload.wikimedia.org/wikipedia/commons/thumb/a/ab/EU%5FMember%5Fstates%5Fand%5FCandidate%5Fcountries%5Fmap.svg/400px-EU%5FMember%5Fstates%5Fand%5FCandidate%5Fcountries%5Fmap.svg.png&amp;mb=imgdb_preview_471"/>
          <p:cNvPicPr/>
          <p:nvPr/>
        </p:nvPicPr>
        <p:blipFill>
          <a:blip r:embed="rId1"/>
          <a:stretch/>
        </p:blipFill>
        <p:spPr>
          <a:xfrm>
            <a:off x="0" y="0"/>
            <a:ext cx="6072120" cy="471492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2857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Запозичення  правових ідей, приниципів, інститутів , </a:t>
            </a:r>
            <a:r>
              <a:rPr b="1" lang="uk-UA" sz="4000" spc="-1" strike="noStrike">
                <a:solidFill>
                  <a:srgbClr val="04617b"/>
                </a:solidFill>
                <a:latin typeface="Calibri"/>
              </a:rPr>
              <a:t>елементів юридичної техніки і практики правозастосовної діяльності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3143160"/>
            <a:ext cx="4040280" cy="571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nstantia"/>
              </a:rPr>
              <a:t>фрагментарн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44720" y="3143160"/>
            <a:ext cx="4041720" cy="571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nstantia"/>
              </a:rPr>
              <a:t>глобальн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6840" y="3857760"/>
            <a:ext cx="4040280" cy="25034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запозичення правових положень (правова акультурація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644720" y="3857760"/>
            <a:ext cx="4041720" cy="25034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коли змінюються основи правової системи взагалі – (правова рецепція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http://go2.imgsmail.ru/imgpreview?key=http%3A//upload.wikimedia.org/wikipedia/commons/thumb/5/51/ENP.jpg/300px-ENP.jpg&amp;mb=imgdb_preview_471"/>
          <p:cNvPicPr/>
          <p:nvPr/>
        </p:nvPicPr>
        <p:blipFill>
          <a:blip r:embed="rId1"/>
          <a:stretch/>
        </p:blipFill>
        <p:spPr>
          <a:xfrm>
            <a:off x="155520" y="285840"/>
            <a:ext cx="4845240" cy="3500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>
                <a:solidFill>
                  <a:srgbClr val="04617b"/>
                </a:solidFill>
                <a:latin typeface="Calibri"/>
              </a:rPr>
              <a:t>Правова акультураці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заємодія між правовими системами і правовими культурами на рівні законодавства, судової практики, юридичної науки, юридичної освіти та ін.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0-09-02T08:59:28Z</dcterms:modified>
  <cp:revision>32</cp:revision>
  <dc:subject/>
  <dc:title>ЛЕКЦІЯ 3</dc:title>
</cp:coreProperties>
</file>