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F074-8EC1-4EA6-8833-C4034302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62B9-67C1-4A5B-B9DD-1C4455D9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53D-8DF5-4825-ACE5-F7FE225A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018-57AE-4ECE-B9EF-24D71BD2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B351-A5A8-4E35-A43C-F9FE6439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BFF8-AE1D-4EDD-B9B5-8DACE60A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B102-3C9A-4317-8267-74114AFE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385F-DC30-490C-9A20-EF8F2BBA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2E99-DEAA-4FF6-ACB0-DE4AB876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2B0B-CDE0-482A-BD72-3A93F93E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6917-337B-475B-90C4-5ADF825F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EC8-CF19-4A65-B3AD-D166BA57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02E7-5B25-4FF3-9CDC-6DE019FA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E5EC-F461-4798-AE9E-AF874BE8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2CB1-E1B3-4639-94E9-D292A073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4E23-EB7E-4A85-A271-32627C16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8F06-97E8-4D2F-B92E-1143018E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5B9AA-8A1F-4225-B225-80F4102D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2FD78-53EE-4D8B-9668-91182140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E02CB-FE33-4558-93DC-53ED2EDD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4DA88-362C-47E8-8D1F-DBE0D965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42600-4D32-4151-A2A7-A0DA28B1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E89-DE87-4E13-BE2D-C1CF9605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12A42-F284-4A55-B44F-FE67EC32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72335-1361-4471-B871-FED82945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2128D-B995-49C3-8739-6CD34ED3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D2663-8D2A-431B-A747-17F40296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9265D-070E-42B7-ADAE-3EB755E1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D6B0B-0C43-4966-A16C-F03C6E6E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96767-C793-4A27-90FE-4AC75952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45182-DA19-4BEB-91CF-7396D6CE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D8CC7-9E68-4803-B8C2-52439E32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6D0E6-6EB2-4D85-B993-5A27D645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A068-822D-496A-A5FE-AE98FEA3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CCA93-38F0-40BD-BD91-04142A11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A4084-8E76-4ADA-9203-E4D8423C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F89C0-65CC-4D90-930E-D185FA29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06D11-9A24-4C10-B844-BF82471F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CB01D-88A9-4ACC-809E-5E0BDB3B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6520E-BE68-403A-8A5B-DD69CECB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3F802-F735-40FC-A5B6-730163AC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DABDC-DA92-4533-938A-5B9ADFAF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1F87D-3194-4ED6-8458-1231022D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5A7-9B3E-47F0-A3F1-6979EC26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3227-34D2-4D08-B1F9-64FFF80A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6E2F-AE69-4D43-A25D-5490C3CF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3E61-37DE-4B8C-9D86-3512450B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7E1-81E4-4C11-9430-DEDFC0F9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4F2E-765E-440E-B6E1-A67089753BB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842C-57C9-4B76-99DC-8CBF1D7C4EC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2698-6CF4-45C1-B6ED-E84189EEF0B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B690-2E75-4E48-9156-37C315386B2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gdb.rferl.org/C7FC6D72-EF8A-4F83-A4E6-4016A8B83DED_mw1024_n_s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8217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2571480"/>
            <a:ext cx="712944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ТЕНДЕНЦІЇ І ПЕРСПЕКТИВИ ВЗАЄМОДІЇ ПРАВОВИХ СИСТЕМ СУЧАСНОСТІ  В УМОВАХ ГЛОБАЛЬНИХ ВИКЛИКІВ І ЗАГРОЗ</a:t>
            </a:r>
            <a:br>
              <a:rPr sz="4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upload.wikimedia.org/wikipedia/commons/thumb/e/eb/Finland_passport.jpg/150px-Finland_passport.jpg"/>
          <p:cNvPicPr/>
          <p:nvPr/>
        </p:nvPicPr>
        <p:blipFill>
          <a:blip r:embed="rId1"/>
          <a:stretch/>
        </p:blipFill>
        <p:spPr>
          <a:xfrm>
            <a:off x="1071720" y="92880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Европейский центральный банк во Франкфурте-на-Майне определяет денежно-кредитную политику."/>
          <p:cNvPicPr/>
          <p:nvPr/>
        </p:nvPicPr>
        <p:blipFill>
          <a:blip r:embed="rId2"/>
          <a:stretch/>
        </p:blipFill>
        <p:spPr>
          <a:xfrm>
            <a:off x="4714920" y="1571760"/>
            <a:ext cx="2800440" cy="4143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План дій Ради Європи для України на 2011-2014 рок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ає важливе значення у впровадженні європейських правових стандартів у національну правову систему й систему законодав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дбачає пакет пріоритетних заходів, покликаних допомогти в приведенні українського законодавства, інститутів та практики у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ідповідність до європейських стандартів щодо прав людини, верховенства права і демократії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Адаптація законодавства України до законодавства ЄС передбачає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на 1 етапі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: передбачається розвиток правової системи України згідно з вимогами, визначеними в декларації, у напрямі встановлення верховенства права, забезпечення прав людини, функціонування ринкової економіки; приведення законодавства України у відповідність до вимог Угоди про партнерство і співпрацю та інших міжнародних договорів, які стосуються співпраці України та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2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лягатиме в перегляді законодавства України у сферах, визначених Угодою про партнерство і співпрацю, з метою забезпечення його приблизної відповідності законодавству ЄС; правовому забезпеченні створення зони вільної торгівлі між Україною та ЄС та підготовки до асоційованого членства України в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3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- укладення Угоди про асоціацію між Україною та ЄС; підготовка розширеної програми гармонізації законодавства України із законодавством ЄС з метою забезпечення інтеграції України до спільного ринку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Нормативно-правова база зближення правових систем різ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рамках кожного напряму використовуються ті чи інші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правові засоб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ограми-проекти, модельні законодавчі ак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 уніфіковані загальні нор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правові стандар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наукові концепції тощ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родно, їх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юридична сила неоднакова,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кільки вони можуть мати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програмний, нормативно-орієнтуючий, рекомендаційний і обов'язкови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</a:rPr>
              <a:t>4 напрями і форми їх проведення щодо «узгодженого» правового розвитку держав (Ю.О. Тихомиров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зближення законодавства, коли визначається спільний курс держав у даній сфері, напрями, етапи зближення, способи зближ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2) гармонізація законодавства, коли узгоджуються спільні підходи, концепції розвитку національних законодавств, виробляються спільні правові принципи і окремі ріш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ухвалення модельних законодавчих акт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ніфікація  законодавства,  коли розробляються і вводяться в дію загальнообов'язкові одноманітні юридичні норми (правил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акультурація та її значення для 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акономірності зближення правових систем і його фор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армонізація законодав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Уніфікація правових нор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мплементація норм міжнародного права в національне законодавст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дання міжнародної правов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мовою реалізації гармонізації 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роблення єдиної термінології, необхідної для здійснення гармонізації, я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становлює і закріплює єдині вимоги до використання термінів, систематизує поняття, виключає з обороту застарілі терміни і сприяє раціональній організації нормотворчої діяльнос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прияє формальній визначеності права, ліквідації суперечностей у розумінні правових текстів, підвищенні їх доступ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Способи (форми) зближення правових систем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480" y="1855800"/>
            <a:ext cx="421164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гармонізація законодавст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уніфікація правових нор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, складний процес, що максимально зближує законодавства різних держав у вирішенні правових проблем, але не приводить правові системи до повної єдност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 правових систем, процес, пов'язаний зі спробами приведення різних правових систем і окремих їхніх складових частин, зокрема правових норм, до певного спільного знамен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Розроблення модельних законодавчих акті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обто схожих законодавчих актів, що призводить зрештою до одноманітного регулювання відносин у різних сферах суспільного житт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 визнається як успішний і ефективний спосіб, що забезпечує зближення правових сист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Модельні законодавчі ак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ають рекомендаційний характе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лужать орієнтиром для розвитку і зближення національних законодавчих акт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стять типові норми, що дають нормативну орієнтацію для законодавц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 чином, вони виконують функцію певного нормативно-орієнтуючого стандарт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озробляються і прийма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державними об'єднаннями (наприклад ЄС) для держав-член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народними організаціями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ОН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ормотворчи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рганами федерації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ША) для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її суб'єкт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ченими-правознавцями і фахівцями та мають доктринальний характер (наприклад розроблення в 1992 р. фахівцями Гарвардського університету «Базового світового податкового кодексу» в рамках міжнародної податкової програм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Уніфікація правових нор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onstantia"/>
              </a:rPr>
              <a:t>як форма зближення правових систем, відображає процес зближення норм конкретного національного права з нормами міжнародного або регіонального права шляхом установлення єдиних норм права, що мають одноманітне застосування в усіх державах, які є учасницями міжнародно-правової або регіонально-правової угод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7030a0"/>
                </a:solidFill>
                <a:latin typeface="Calibri"/>
              </a:rPr>
              <a:t>Різновиди правової уніфік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40402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на основі предмета уніфікації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виділяю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00720" y="1428480"/>
            <a:ext cx="435744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за своєю формою уніфікація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а може проводитися шляхо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3840" y="3071520"/>
            <a:ext cx="4429080" cy="328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1)уніфікацію матері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го, сімейного, адміністративного права та ін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процесу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-процесуального, кримінально-процесуального права та ін.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4720" y="3000240"/>
            <a:ext cx="4041720" cy="3360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укладення міжнародних договор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ийняття модельних рекомендаційних законодавчих акт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стосування примірних договорів міжнародних організацій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икористання міжнародних звичаї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Чинники, що впливають на зближення сучасних правових систем: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неминучість співіснування сучасних цивілізацій та потреба вирішення глобальних проблем сучасності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nstantia"/>
              </a:rPr>
              <a:t>глобалізація (економічна, фінансова, правова, культурна, інформаційна та ін.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равова інтеграція та формування загального правового просто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надання міжнародної правової допомоги як елемент співпраці між держав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5395"/>
                </a:solidFill>
                <a:latin typeface="Constantia"/>
              </a:rPr>
              <a:t>взаємовплив правових культур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684e"/>
                </a:solidFill>
                <a:latin typeface="Constantia"/>
              </a:rPr>
              <a:t>розвиток порівняльного правознавства, який сприяє налагодженню діалогу між різними правовими сім'ями і мобілізує їх потенціал для вирішення загальнолюдських пробл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Рівні імплемент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міжнарод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4720" y="128592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національ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2071440"/>
            <a:ext cx="3686040" cy="4289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ягає у виробленні міжнародних норм, що регламентують спільну організаційно-правову діяльність суб'єктів міжнародного права, направлену на здійснення цілей, закладених у міжнародних зобов'язанн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357800" y="2000160"/>
            <a:ext cx="4572000" cy="4361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олягає у виробленні норм у рамках національного права, які встановлюють процесуальний порядок реалізації міжнародно-правових норм, що регламентують організаційно-правову діяльність органів держави і правозастосовну практику у зв'язку з реалізацією міжнародно-правових норм, направлену на фактичне виконання прийнятих державою міжнародних зобов'язан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За масштабами правова уніфікація охоплю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1)правові системи держав одного регіону (АСІАН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0a0"/>
                </a:solidFill>
                <a:latin typeface="Constantia"/>
              </a:rPr>
              <a:t>2) правові системи держав у рамках міждержавних об'єднань (ЄС, СНД)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3) може поширюватися на правові системи всіх або більшості держав світу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(ООН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 в національне законодавство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фактичне здійснення міжнародних зобов'язань на внутрішньодержавному рівні шляхом трансформації міжнародно-правових норм у національні закони і підзаконні акт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, що складається із сукупності процедур і засобів, що сприяють підвищенню ефективності реалізації цих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 результаті імплементації відбуває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одного боку,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запозичення положень міжнародного пр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(процедури, інститути, фрагменти мови, нормативно-правові акти, принципи, цінності, правові ідеї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з іншого —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трансформація національного законодавст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метою оновлення й удосконалення норм національної правової систе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Надання міжнародної правової допомог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уальні дії, що здійснюються органами держави на підставі запитів органів іноземної держа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формується на базі норм, що належать до міжнародного публічного і міжнародного приватного права, разом із тим він регулює питання, що стосуються цивільного права, цивільно-процесуального права, адміністративного права, кримінального права, кримінально-процесуального права і т. і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иди правової допомог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Наприклад, Конвенці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ОН про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оротьбу з незаконним захопленням повітряних суден 1970 р1. або Конвенція про боротьбу із захопленням заручників 1979 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легалізація іноземних офіційних документів, тобто формальна процедура, використовувана дипломатичними або консульськими агентами держави, на території якої документ повинен бути представлений, для посвідчення достовірності підпису, якості, в якій виступала особа, що підписала документ, і, в належному випадку, достовірності печатки або штампу, якими скріплено цей документ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аазька конвенція 1961 року, що скасовує вимоги легалізації іноземних офіційних держав, поширюється на офіційні документи, які були укладені на території однієї з держав, що домовлялися, і повинні бути подані на території іншої договірної держав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Приклад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до фізичних осіб, які проживають на території однієї з договірних держав, подаються до судів цієї держави (незалежно від громадянства відповідач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позови до юридичних осіб — до судів держави, на території якої знаходиться орган управління юридичної особи, її представництво або філі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про право власності й інші речові права на нерухоме майно подаються до судів за місцем знаходження даного май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Таким чином, надання міжнародної правової допомоги сприяє зближенню правових систем, оскільки воно за сучасних умов стає важливим елементом правової співпраці між державам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-328320" y="93960"/>
            <a:ext cx="89575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декс верховенства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країна 10-а з кінця за рівнем політичного втру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http://gdb.rferl.org/C7FC6D72-EF8A-4F83-A4E6-4016A8B83DED_w640_r1_s_cx9_cy0_cw8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786040"/>
            <a:ext cx="7167240" cy="3786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0" y="388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«Індекс верховенства права»,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країна посіла 87-е місце з 97-ми в рейтинг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кладеному неурядовою організацією «Проект світової юстиції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ндекс оцінює країни за показниками у восьми сферах, що мають вплив на стан верховенства пра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них – межі повноважень центральної влади, корупція, безпека і порядок, фундаментальні права, відкритість уряду, регуляторне середовище, цивільне і кримінальне правосудд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Розвиток порівняльного правознавства сприяє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адає прагматичного, прозорого і передбачуваного характеру процесу зближення правових сист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найбільш оптимальних методів і форм зближення правових систем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меж запозичення правових положе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уванню єдиного категоріально-понятійного апарат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авить питання щодо формування загального, «універсального» пра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250px-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5572080" cy="34290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500040" y="3786120"/>
            <a:ext cx="82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позовів у Європейський суд  по правах лю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а, разом з такими державами як Росія, Туреччина займає 4 позицію. Про це заявив директор суду Жан Стать Коста, оприлюднивши результати діяльності суду за 2012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47 країн у списку Евросуду за станом на 31 грудня 2012 р. на першому місці по кількості позовів перебуває Росія (28593 позову - 22,3% від загальної кількості справ), на четвертому - Україна (10447 поз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Україна і Є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місар Європейського Союзу з питань розширення і європейської політики сусідства Штефан Фюле наприкінці лютого 2013 р. привіз в Україну список вимог, виконання яких дозволить Україні підписати угоду про асоціації з Євросоюз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едставники Євросоюзу позначили їх не вимоги, а як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«19 індикаторів» або список Фюлле»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оскільки даний список не має офіційної наз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 Виконання рекомендацій, викладених в остаточному звіті спостережливої місії ОБСЄ/БДИПЧ щодо парламентських виборів в Україні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2. Подолання зафіксованих недоліків у проведенні парламентських виборів в Україні 28 жовтня 2012 року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 Прийняття Виборчого кодексу Україн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4. Забезпечення збалансованого доступу учасників виборів до засобів масової інформації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. Проведення повторних виборів в одномандатних виборчих округах, у яких не визначений переможец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6. Рішення питання політично мотивованих вироків без зволіка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7. Швидке виконання рішень Європейського суду по правах люди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8. Виконання рекомендацій Ради Європи щодо умов утримування й медичної допомоги особам, які перебувають під вартою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9. Забезпечення належного введення в дію нового Карного процесуального кодексу, нового законодавства з питань адвокатур і створення Національного превентивного механізму проти катуван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0. Перегляд у тісних консультаціях з Радою Європи/Венеціанською Комісією закону про прокуратуру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1. Перегляд у тісних консультаціях з Радою Європи/Венеціанською Комісією Кримінального кодексу Украї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2. Перегляд у тісних консультаціях з Радою Європи/Венеціанською Комісією закону про «Вищу раду юстиції»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601120" cy="5735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00px-Strasbourg-_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800100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акультураці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рецепці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розглядають як різновид правової акультурації, названу ще тотальною акультурацією або «культурною мутацією» (Карбоньє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http://go3.imgsmail.ru/imgpreview?key=http%3A//upload.wikimedia.org/wikipedia/commons/thumb/a/ab/EU%5FMember%5Fstates%5Fand%5FCandidate%5Fcountries%5Fmap.svg/400px-EU%5FMember%5Fstates%5Fand%5FCandidate%5Fcountries%5Fmap.svg.png&amp;mb=imgdb_preview_471"/>
          <p:cNvPicPr/>
          <p:nvPr/>
        </p:nvPicPr>
        <p:blipFill>
          <a:blip r:embed="rId1"/>
          <a:stretch/>
        </p:blipFill>
        <p:spPr>
          <a:xfrm>
            <a:off x="0" y="0"/>
            <a:ext cx="607212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Запозичення  правових ідей, приниципів, інститутів , </a:t>
            </a:r>
            <a:r>
              <a:rPr b="1" lang="uk-UA" sz="4000" spc="-1" strike="noStrike">
                <a:solidFill>
                  <a:srgbClr val="04617b"/>
                </a:solidFill>
                <a:latin typeface="Calibri"/>
              </a:rPr>
              <a:t>елементів юридичної техніки і практики правозастосовної діяльності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314316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фрагментар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3143160"/>
            <a:ext cx="404172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глобаль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3857760"/>
            <a:ext cx="404028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позичення правових положень (правова акультура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4720" y="3857760"/>
            <a:ext cx="404172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оли змінюються основи правової системи взагалі – (правова рецеп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go2.imgsmail.ru/imgpreview?key=http%3A//upload.wikimedia.org/wikipedia/commons/thumb/5/51/ENP.jpg/300px-ENP.jpg&amp;mb=imgdb_preview_471"/>
          <p:cNvPicPr/>
          <p:nvPr/>
        </p:nvPicPr>
        <p:blipFill>
          <a:blip r:embed="rId1"/>
          <a:stretch/>
        </p:blipFill>
        <p:spPr>
          <a:xfrm>
            <a:off x="155520" y="285840"/>
            <a:ext cx="484524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авова акультураці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59:28Z</dcterms:modified>
  <cp:revision>32</cp:revision>
  <dc:subject/>
  <dc:title>ЛЕКЦІЯ 3</dc:title>
</cp:coreProperties>
</file>