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C656-13DD-42FF-83DC-91D37A10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99D6-04E8-4B31-9C68-E5E62B3A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9F9A-4B08-4281-8E48-5C2897933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6951-E7FE-4DF7-A7F1-AEB098766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F94A-5212-46E4-BE3C-3776D52A9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97D4-125F-4C26-9F53-A5B019ED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AF96-F8F7-4CB4-A347-80A43F48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50E5-9A07-4C62-95E7-4B09F76E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9813-6143-40A5-B498-D9D5F8B2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5657-A30D-41AD-B48D-78CD2962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E69F-C1DD-438F-AC62-5C8D8E1B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92DF-39BB-46E8-89F4-4C11E408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D4BA-63FC-4F8E-ABF4-64902993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0EE0-4C7B-4D21-818E-9DD20C04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CE77-272E-4EA3-A035-FB79BFA1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65CD-46D3-4686-A4D1-2E54CCDF3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5D95-068F-499D-A5F3-3F91EAE81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B85B9-2810-4248-B588-2306B5047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67247-3C30-476F-96E9-A258AB0B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F9769-CADF-44C5-BA2D-942C08DA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AF3F6-7111-4869-84D8-B3D9E9D7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349BF-5B87-4398-8D52-A9DC906F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DD45-B4A1-4335-9249-E62EB464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E6234-ED35-4440-83A1-6B4E956F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CC823-C1BC-43A1-BA0C-448CED23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4A260-7AB0-48B1-BED6-4D495134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24705-E3FE-43D5-B379-A59D3F5E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C4991-F1AC-4855-93F3-A930A88F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D0153-71DA-475A-BD8F-84F96D3DF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65734-48D2-4F92-AB1F-DAE6FC646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4B7D9-627E-4C69-BDB5-2A431524F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914AC-5975-4BAA-9B20-7504DE35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C641B-FF72-4FF7-B308-6572576E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DFB4-126D-4E32-A76B-3725B559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C3F98-DA2A-40E3-8812-0642E319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371A5-5B32-4FA7-9D35-6FADCB01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1179C-7CA2-4782-8DBC-F87CA6FC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19212-218B-485D-9098-FE24C8B5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8EFAF-F0DC-4BD2-AC27-80AACF1D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A92DD-9682-4E63-B72C-AE8C58F0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CB3FC-46B6-4AC8-8941-18FA1172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01450-10F6-40A2-9164-CBD1655E3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4AB55-DBD7-4B16-BAC5-8A33D9081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153D-ECEF-4D4D-B6D2-10B13048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35C1-FDF3-4B9E-BEA1-C9051E47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CB0C-4AFB-43F8-B3C9-71480919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25BD-F00C-48F4-9922-BFE58113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3963-7069-4650-B73B-A29E11DD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3557-E53F-4650-91F6-BF5D8DB94E2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9EDF-644A-4761-8216-194EDAA4195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12C0-F0CC-49CA-BFC3-408269BB6F1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D930-743D-48C3-9221-A634FC288CE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gdb.rferl.org/C7FC6D72-EF8A-4F83-A4E6-4016A8B83DED_mw1024_n_s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853920"/>
            <a:ext cx="8217000" cy="16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2571480"/>
            <a:ext cx="7129440" cy="3066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onstantia"/>
              </a:rPr>
              <a:t>ТЕНДЕНЦІЇ І ПЕРСПЕКТИВИ ВЗАЄМОДІЇ ПРАВОВИХ СИСТЕМ СУЧАСНОСТІ  В УМОВАХ ГЛОБАЛЬНИХ ВИКЛИКІВ І ЗАГРОЗ</a:t>
            </a:r>
            <a:br>
              <a:rPr sz="4800"/>
            </a:b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c00000"/>
                </a:solidFill>
                <a:latin typeface="Calibri"/>
              </a:rPr>
              <a:t>Закономірності зближення правових систем і його форм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Шляхи і способи правової акультурації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4720" y="1860480"/>
            <a:ext cx="4041720" cy="10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Відбувається на рівні юридичної науки і юридичної осві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3286080"/>
            <a:ext cx="404028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за допомогою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ств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ої практик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укладення договорів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дійснюється вченими і викладачам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5080" y="3286080"/>
            <a:ext cx="428472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на цій основі виділяютьс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ч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говірн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ктринальна правова акультураці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://upload.wikimedia.org/wikipedia/commons/thumb/e/eb/Finland_passport.jpg/150px-Finland_passport.jpg"/>
          <p:cNvPicPr/>
          <p:nvPr/>
        </p:nvPicPr>
        <p:blipFill>
          <a:blip r:embed="rId1"/>
          <a:stretch/>
        </p:blipFill>
        <p:spPr>
          <a:xfrm>
            <a:off x="1071720" y="928800"/>
            <a:ext cx="2643120" cy="3357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Европейский центральный банк во Франкфурте-на-Майне определяет денежно-кредитную политику."/>
          <p:cNvPicPr/>
          <p:nvPr/>
        </p:nvPicPr>
        <p:blipFill>
          <a:blip r:embed="rId2"/>
          <a:stretch/>
        </p:blipFill>
        <p:spPr>
          <a:xfrm>
            <a:off x="4714920" y="1571760"/>
            <a:ext cx="2800440" cy="41432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Зближення правових систем 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має закономірний характер, зумовлений об'єктивними потребами розвитку людства на сучасному етапі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стихій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4832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планомір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http://upload.wikimedia.org/wikipedia/commons/thumb/2/2e/European-parliament-brussels-inside.JPG/300px-European-parliament-brussels-inside.JPG"/>
          <p:cNvPicPr/>
          <p:nvPr/>
        </p:nvPicPr>
        <p:blipFill>
          <a:blip r:embed="rId1"/>
          <a:stretch/>
        </p:blipFill>
        <p:spPr>
          <a:xfrm>
            <a:off x="155520" y="142920"/>
            <a:ext cx="7916760" cy="52149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472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Базовими документами, що визначають процес адаптації законодавства України до законодавства ЄС є: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ийняті Радою Європи на Копенгагенському саміті в 1993 р.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Декларація і Угода про партнерство та співпрацю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між Україною і Європейськими Співтовариствами та їх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ржавамичленам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994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Указ Президента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програму інтеграції України в Європейський Союз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» 2000 р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Закон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Загальнодержавну програму адаптації законодавства України до законодавства Європейського Союзу»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004 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План дій Ради Європи для України на 2011-2014 роки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має важливе значення у впровадженні європейських правових стандартів у національну правову систему й систему законодавств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едбачає пакет пріоритетних заходів, покликаних допомогти в приведенні українського законодавства, інститутів та практики у </a:t>
            </a: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відповідність до європейських стандартів щодо прав людини, верховенства права і демократії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1" descr="http://img.pravda.com.ua/images/doc/6/b/6b4efbb-113.jpg"/>
          <p:cNvPicPr/>
          <p:nvPr/>
        </p:nvPicPr>
        <p:blipFill>
          <a:blip r:embed="rId1"/>
          <a:stretch/>
        </p:blipFill>
        <p:spPr>
          <a:xfrm>
            <a:off x="1143000" y="357120"/>
            <a:ext cx="6000840" cy="38592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Адаптація законодавства України до законодавства ЄС передбачає: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на 1 етапі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: передбачається розвиток правової системи України згідно з вимогами, визначеними в декларації, у напрямі встановлення верховенства права, забезпечення прав людини, функціонування ринкової економіки; приведення законодавства України у відповідність до вимог Угоди про партнерство і співпрацю та інших міжнародних договорів, які стосуються співпраці України та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2 етап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олягатиме в перегляді законодавства України у сферах, визначених Угодою про партнерство і співпрацю, з метою забезпечення його приблизної відповідності законодавству ЄС; правовому забезпеченні створення зони вільної торгівлі між Україною та ЄС та підготовки до асоційованого членства України в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3 етап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- укладення Угоди про асоціацію між Україною та ЄС; підготовка розширеної програми гармонізації законодавства України із законодавством ЄС з метою забезпечення інтеграції України до спільного ринку Є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Нормативно-правова база зближення правових систем різн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рамках кожного напряму використовуються ті чи інші </a:t>
            </a:r>
            <a:r>
              <a:rPr b="0" lang="uk-UA" sz="2600" spc="-1" strike="noStrike">
                <a:solidFill>
                  <a:srgbClr val="00b0f0"/>
                </a:solidFill>
                <a:latin typeface="Constantia"/>
              </a:rPr>
              <a:t>правові засоб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ограми-проекти, модельні законодавчі ак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 уніфіковані загальні нор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правові стандар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) наукові концепції тощ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иродно, їх </a:t>
            </a:r>
            <a:r>
              <a:rPr b="0" lang="uk-UA" sz="2600" spc="-1" strike="noStrike">
                <a:solidFill>
                  <a:srgbClr val="c00000"/>
                </a:solidFill>
                <a:latin typeface="Constantia"/>
              </a:rPr>
              <a:t>юридична сила неоднакова,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скільки вони можуть мати </a:t>
            </a:r>
            <a:r>
              <a:rPr b="0" lang="uk-UA" sz="2600" spc="-1" strike="noStrike">
                <a:solidFill>
                  <a:srgbClr val="c00000"/>
                </a:solidFill>
                <a:latin typeface="Constantia"/>
              </a:rPr>
              <a:t>програмний, нормативно-орієнтуючий, рекомендаційний і обов'язковий характе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70c0"/>
                </a:solidFill>
                <a:latin typeface="Calibri"/>
              </a:rPr>
              <a:t>4 напрями і форми їх проведення щодо «узгодженого» правового розвитку держав (Ю.О. Тихомиров)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зближення законодавства, коли визначається спільний курс держав у даній сфері, напрями, етапи зближення, способи зближенн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2) гармонізація законодавства, коли узгоджуються спільні підходи, концепції розвитку національних законодавств, виробляються спільні правові принципи і окремі рішенн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ухвалення модельних законодавчих акті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) </a:t>
            </a: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уніфікація  законодавства,  коли розробляються і вводяться в дію загальнообов'язкові одноманітні юридичні норми (правила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ПЛА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ближення правових сист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Правова акультурація та її значення для зближення правових сист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акономірності зближення правових систем і його фор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Гармонізація законодавств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Розроблення модельних законодавчих акті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Уніфікація правових нор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Імплементація норм міжнародного права в національне законодавств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Надання міжнародної правової допомог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7400" indent="-509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Процес зближення національних правових систем передбачає </a:t>
            </a:r>
            <a:br>
              <a:rPr sz="4000"/>
            </a:b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(на думку Ю.О.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Тихомирова)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1) розроблення загальної політики державного правового розвитк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70c0"/>
                </a:solidFill>
                <a:latin typeface="Constantia"/>
              </a:rPr>
              <a:t>2) здійснення заходів із подолання правових відмінностей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3) вживання   заходів   із   вироблення   спільних   юридичних прави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Процес гармонізації нормативно-правової бази передбачає </a:t>
            </a:r>
            <a:br>
              <a:rPr sz="4500"/>
            </a:br>
            <a:br>
              <a:rPr sz="4500"/>
            </a:b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наявність об'єктивних умов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в тій чи іншій сфері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4929120"/>
            <a:ext cx="3614760" cy="14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усередині однієї правової сім‘ї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143240" y="4857840"/>
            <a:ext cx="48578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іж правовими системами, що належать різним правовим сім'я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Умовою реалізації гармонізації є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ироблення єдиної термінології, необхідної для здійснення гармонізації, як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встановлює і закріплює єдині вимоги до використання термінів, систематизує поняття, виключає з обороту застарілі терміни і сприяє раціональній організації нормотворчої діяльност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прияє формальній визначеності права, ліквідації суперечностей у розумінні правових текстів, підвищенні їх доступності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7030a0"/>
                </a:solidFill>
                <a:latin typeface="Calibri"/>
              </a:rPr>
              <a:t>Способи (форми) зближення правових систем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5480" y="1855800"/>
            <a:ext cx="421164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гармонізація законодавст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уніфікація правових нор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а зближення, складний процес, що максимально зближує законодавства різних держав у вирішенні правових проблем, але не приводить правові системи до повної єдності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а зближення правових систем, процес, пов'язаний зі спробами приведення різних правових систем і окремих їхніх складових частин, зокрема правових норм, до певного спільного знаменни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Розроблення модельних законодавчих акті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тобто схожих законодавчих актів, що призводить зрештою до одноманітного регулювання відносин у різних сферах суспільного житт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Розроблення модельних законодавчих актів визнається як успішний і ефективний спосіб, що забезпечує зближення правових систем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Модельні законодавчі акт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ають рекомендаційний характер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служать орієнтиром для розвитку і зближення національних законодавчих акті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стять типові норми, що дають нормативну орієнтацію для законодавц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таким чином, вони виконують функцію певного нормативно-орієнтуючого стандарт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розробляються і приймаються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ждержавними об'єднаннями (наприклад ЄС) для держав-членів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міжнародними організаціями (наприклад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ОН)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ормотворчи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органами федерації (наприклад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ША) для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її суб'єктів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ученими-правознавцями і фахівцями та мають доктринальний характер (наприклад розроблення в 1992 р. фахівцями Гарвардського університету «Базового світового податкового кодексу» в рамках міжнародної податкової програми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0b0f0"/>
                </a:solidFill>
                <a:latin typeface="Calibri"/>
              </a:rPr>
              <a:t>Уніфікація правових норм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onstantia"/>
              </a:rPr>
              <a:t>як форма зближення правових систем, відображає процес зближення норм конкретного національного права з нормами міжнародного або регіонального права шляхом установлення єдиних норм права, що мають одноманітне застосування в усіх державах, які є учасницями міжнародно-правової або регіонально-правової угод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Ідея уніфікації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нац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і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рег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рівнях йде своїм корінням в глибоку старовин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міжнародному рівні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уніфікація починає широко застосовуватися наприкінц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VIII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і в першій половин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під прямим впливом торгових, фінансових і інших зв'язків, що швидко розширюються між різними держава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Ідея уніфікації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нац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і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регіональному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 рівнях йде своїм корінням в глибоку старовин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міжнародному рівні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уніфікація починає широко застосовуватися наприкінц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VIII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і в першій половині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т. під прямим впливом торгових, фінансових і інших зв'язків, що швидко розширюються між різними держава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7030a0"/>
                </a:solidFill>
                <a:latin typeface="Calibri"/>
              </a:rPr>
              <a:t>Різновиди правової уніфікації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99680" y="1357200"/>
            <a:ext cx="4040280" cy="128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на основі предмета уніфікації </a:t>
            </a: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виділяю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00720" y="1428480"/>
            <a:ext cx="4357440" cy="1500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за своєю формою уніфікація </a:t>
            </a: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а може проводитися шляхом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13840" y="3071520"/>
            <a:ext cx="4429080" cy="328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483480" indent="-483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7030a0"/>
                </a:solidFill>
                <a:latin typeface="Constantia"/>
              </a:rPr>
              <a:t>1)уніфікацію матеріального права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(цивільного, сімейного, адміністративного права та ін.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7030a0"/>
                </a:solidFill>
                <a:latin typeface="Constantia"/>
              </a:rPr>
              <a:t>процесуального права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(цивільно-процесуального, кримінально-процесуального права та ін.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4720" y="3000240"/>
            <a:ext cx="4041720" cy="3360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укладення міжнародних договорів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рийняття модельних рекомендаційних законодавчих актів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застосування примірних договорів міжнародних організацій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икористання міжнародних звичаї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Calibri"/>
              </a:rPr>
              <a:t>Чинники, що впливають на зближення сучасних правових систем:</a:t>
            </a:r>
            <a:br>
              <a:rPr sz="45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неминучість співіснування сучасних цивілізацій та потреба вирішення глобальних проблем сучасності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70c0"/>
                </a:solidFill>
                <a:latin typeface="Constantia"/>
              </a:rPr>
              <a:t>глобалізація (економічна, фінансова, правова, культурна, інформаційна та ін..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правова інтеграція та формування загального правового простор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надання міжнародної правової допомоги як елемент співпраці між державам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b5395"/>
                </a:solidFill>
                <a:latin typeface="Constantia"/>
              </a:rPr>
              <a:t>взаємовплив правових культур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8684e"/>
                </a:solidFill>
                <a:latin typeface="Constantia"/>
              </a:rPr>
              <a:t>розвиток порівняльного правознавства, який сприяє налагодженню діалогу між різними правовими сім'ями і мобілізує їх потенціал для вирішення загальнолюдських пробле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Рівні імплементації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285920"/>
            <a:ext cx="404028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міжнарод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44720" y="1285920"/>
            <a:ext cx="404172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національ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2071440"/>
            <a:ext cx="3686040" cy="4289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полягає у виробленні міжнародних норм, що регламентують спільну організаційно-правову діяльність суб'єктів міжнародного права, направлену на здійснення цілей, закладених у міжнародних зобов'язаннях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357800" y="2000160"/>
            <a:ext cx="4572000" cy="4361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олягає у виробленні норм у рамках національного права, які встановлюють процесуальний порядок реалізації міжнародно-правових норм, що регламентують організаційно-правову діяльність органів держави і правозастосовну практику у зв'язку з реалізацією міжнародно-правових норм, направлену на фактичне виконання прийнятих державою міжнародних зобов'язань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c00000"/>
                </a:solidFill>
                <a:latin typeface="Calibri"/>
              </a:rPr>
              <a:t>За масштабами правова уніфікація охоплює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1)правові системи держав одного регіону (АСІАН)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7030a0"/>
                </a:solidFill>
                <a:latin typeface="Constantia"/>
              </a:rPr>
              <a:t>2) правові системи держав у рамках міждержавних об'єднань (ЄС, СНД)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3) може поширюватися на правові системи всіх або більшості держав світу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(ООН)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alibri"/>
              </a:rPr>
              <a:t>Імплементація норм міжнародного права в національне законодавство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фактичне здійснення міжнародних зобов'язань на внутрішньодержавному рівні шляхом трансформації міжнародно-правових норм у національні закони і підзаконні акти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Імплементація норм міжнародн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оцес, що складається із сукупності процедур і засобів, що сприяють підвищенню ефективності реалізації цих нор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у результаті імплементації відбуваєть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одного боку, </a:t>
            </a:r>
            <a:r>
              <a:rPr b="0" lang="uk-UA" sz="2600" spc="-1" strike="noStrike">
                <a:solidFill>
                  <a:srgbClr val="00b050"/>
                </a:solidFill>
                <a:latin typeface="Constantia"/>
              </a:rPr>
              <a:t>запозичення положень міжнародного прав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(процедури, інститути, фрагменти мови, нормативно-правові акти, принципи, цінності, правові ідеї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 з іншого — </a:t>
            </a:r>
            <a:r>
              <a:rPr b="0" lang="uk-UA" sz="2600" spc="-1" strike="noStrike">
                <a:solidFill>
                  <a:srgbClr val="00b050"/>
                </a:solidFill>
                <a:latin typeface="Constantia"/>
              </a:rPr>
              <a:t>трансформація національного законодавств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метою оновлення й удосконалення норм національної правової систе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Надання міжнародної правової допомог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оцесуальні дії, що здійснюються органами держави на підставі запитів органів іноземної держав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формується на базі норм, що належать до міжнародного публічного і міжнародного приватного права, разом із тим він регулює питання, що стосуються цивільного права, цивільно-процесуального права, адміністративного права, кримінального права, кримінально-процесуального права і т. і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Види правової допомог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Наприклад, Конвенція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ОН про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боротьбу з незаконним захопленням повітряних суден 1970 р1. або Конвенція про боротьбу із захопленням заручників 1979 р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легалізація іноземних офіційних документів, тобто формальна процедура, використовувана дипломатичними або консульськими агентами держави, на території якої документ повинен бути представлений, для посвідчення достовірності підпису, якості, в якій виступала особа, що підписала документ, і, в належному випадку, достовірності печатки або штампу, якими скріплено цей документ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Гаазька конвенція 1961 року, що скасовує вимоги легалізації іноземних офіційних держав, поширюється на офіційні документи, які були укладені на території однієї з держав, що домовлялися, і повинні бути подані на території іншої договірної держав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Приклад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зови до фізичних осіб, які проживають на території однієї з договірних держав, подаються до судів цієї держави (незалежно від громадянства відповідача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 позови до юридичних осіб — до судів держави, на території якої знаходиться орган управління юридичної особи, її представництво або філі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зови про право власності й інші речові права на нерухоме майно подаються до судів за місцем знаходження даного майн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Таким чином, надання міжнародної правової допомоги сприяє зближенню правових систем, оскільки воно за сучасних умов стає важливим елементом правової співпраці між державам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-328320" y="93960"/>
            <a:ext cx="895752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декс верховенства пра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Україна 10-а з кінця за рівнем політичного втруч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" descr="http://gdb.rferl.org/C7FC6D72-EF8A-4F83-A4E6-4016A8B83DED_w640_r1_s_cx9_cy0_cw8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71720" y="2786040"/>
            <a:ext cx="7167240" cy="378612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3"/>
          <p:cNvSpPr/>
          <p:nvPr/>
        </p:nvSpPr>
        <p:spPr>
          <a:xfrm>
            <a:off x="0" y="388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«Індекс верховенства права»,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Україна посіла 87-е місце з 97-ми в рейтингу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складеному неурядовою організацією «Проект світової юстиції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Індекс оцінює країни за показниками у восьми сферах, що мають вплив на стан верховенства прав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еред них – межі повноважень центральної влади, корупція, безпека і порядок, фундаментальні права, відкритість уряду, регуляторне середовище, цивільне і кримінальне правосудд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Розвиток порівняльного правознавства сприяє: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надає прагматичного, прозорого і передбачуваного характеру процесу зближення правових систем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иявленню найбільш оптимальних методів і форм зближення правових систем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иявленню меж запозичення правових положен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формуванню єдиного категоріально-понятійного апарату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авить питання щодо формування загального, «універсального» прав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250px-European_court_of_human_rights"/>
          <p:cNvPicPr/>
          <p:nvPr/>
        </p:nvPicPr>
        <p:blipFill>
          <a:blip r:embed="rId1"/>
          <a:stretch/>
        </p:blipFill>
        <p:spPr>
          <a:xfrm>
            <a:off x="0" y="0"/>
            <a:ext cx="5572080" cy="342900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2"/>
          <p:cNvSpPr/>
          <p:nvPr/>
        </p:nvSpPr>
        <p:spPr>
          <a:xfrm>
            <a:off x="500040" y="3786120"/>
            <a:ext cx="8215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лькість позовів у Європейський суд  по правах люд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країна, разом з такими державами як Росія, Туреччина займає 4 позицію. Про це заявив директор суду Жан Стать Коста, оприлюднивши результати діяльності суду за 2012 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 47 країн у списку Евросуду за станом на 31 грудня 2012 р. на першому місці по кількості позовів перебуває Росія (28593 позову - 22,3% від загальної кількості справ), на четвертому - Україна (10447 позо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Calibri"/>
              </a:rPr>
              <a:t>Україна і ЄС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Комісар Європейського Союзу з питань розширення і європейської політики сусідства Штефан Фюле наприкінці лютого 2013 р. привіз в Україну список вимог, виконання яких дозволить Україні підписати угоду про асоціації з Євросоюзом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едставники Євросоюзу позначили їх не вимоги, а як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«19 індикаторів» або список Фюлле»,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оскільки даний список не має офіційної назв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СПИСОК ФЮЛЛЕ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1. Виконання рекомендацій, викладених в остаточному звіті спостережливої місії ОБСЄ/БДИПЧ щодо парламентських виборів в Україні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2. Подолання зафіксованих недоліків у проведенні парламентських виборів в Україні 28 жовтня 2012 року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3. Прийняття Виборчого кодексу Україн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4. Забезпечення збалансованого доступу учасників виборів до засобів масової інформації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5. Проведення повторних виборів в одномандатних виборчих округах, у яких не визначений переможец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6. Рішення питання політично мотивованих вироків без зволікан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СПИСОК ФЮЛЛ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7. Швидке виконання рішень Європейського суду по правах людин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8. Виконання рекомендацій Ради Європи щодо умов утримування й медичної допомоги особам, які перебувають під вартою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9. Забезпечення належного введення в дію нового Карного процесуального кодексу, нового законодавства з питань адвокатур і створення Національного превентивного механізму проти катувань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0. Перегляд у тісних консультаціях з Радою Європи/Венеціанською Комісією закону про прокуратуру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1. Перегляд у тісних консультаціях з Радою Європи/Венеціанською Комісією Кримінального кодексу Україн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2. Перегляд у тісних консультаціях з Радою Європи/Венеціанською Комісією закону про «Вищу раду юстиції»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268200" y="701640"/>
            <a:ext cx="8601120" cy="57355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200px-Strasbourg-_European_Court_of_Human_Rights"/>
          <p:cNvPicPr/>
          <p:nvPr/>
        </p:nvPicPr>
        <p:blipFill>
          <a:blip r:embed="rId1"/>
          <a:stretch/>
        </p:blipFill>
        <p:spPr>
          <a:xfrm>
            <a:off x="0" y="0"/>
            <a:ext cx="8001000" cy="42861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Заголовок 1" descr=""/>
          <p:cNvPicPr/>
          <p:nvPr/>
        </p:nvPicPr>
        <p:blipFill>
          <a:blip r:embed="rId1"/>
          <a:stretch/>
        </p:blipFill>
        <p:spPr>
          <a:xfrm>
            <a:off x="19080" y="701640"/>
            <a:ext cx="9180360" cy="25178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ова акультураці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равова рецепці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заємодія між правовими системами і правовими культурами на рівні законодавства, судової практики, юридичної науки, юридичної освіти та ін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розглядають як різновид правової акультурації, названу ще тотальною акультурацією або «культурною мутацією» (Карбоньє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1" descr="http://go3.imgsmail.ru/imgpreview?key=http%3A//upload.wikimedia.org/wikipedia/commons/thumb/a/ab/EU%5FMember%5Fstates%5Fand%5FCandidate%5Fcountries%5Fmap.svg/400px-EU%5FMember%5Fstates%5Fand%5FCandidate%5Fcountries%5Fmap.svg.png&amp;mb=imgdb_preview_471"/>
          <p:cNvPicPr/>
          <p:nvPr/>
        </p:nvPicPr>
        <p:blipFill>
          <a:blip r:embed="rId1"/>
          <a:stretch/>
        </p:blipFill>
        <p:spPr>
          <a:xfrm>
            <a:off x="0" y="0"/>
            <a:ext cx="6072120" cy="47149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Запозичення  правових ідей, приниципів, інститутів , </a:t>
            </a:r>
            <a:r>
              <a:rPr b="1" lang="uk-UA" sz="4000" spc="-1" strike="noStrike">
                <a:solidFill>
                  <a:srgbClr val="04617b"/>
                </a:solidFill>
                <a:latin typeface="Calibri"/>
              </a:rPr>
              <a:t>елементів юридичної техніки і практики правозастосовної діяльності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3143160"/>
            <a:ext cx="4040280" cy="57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фрагментарн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4720" y="3143160"/>
            <a:ext cx="4041720" cy="57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глобальн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3857760"/>
            <a:ext cx="4040280" cy="2503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запозичення правових положень (правова акультурація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4720" y="3857760"/>
            <a:ext cx="4041720" cy="2503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коли змінюються основи правової системи взагалі – (правова рецепція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http://go2.imgsmail.ru/imgpreview?key=http%3A//upload.wikimedia.org/wikipedia/commons/thumb/5/51/ENP.jpg/300px-ENP.jpg&amp;mb=imgdb_preview_471"/>
          <p:cNvPicPr/>
          <p:nvPr/>
        </p:nvPicPr>
        <p:blipFill>
          <a:blip r:embed="rId1"/>
          <a:stretch/>
        </p:blipFill>
        <p:spPr>
          <a:xfrm>
            <a:off x="155520" y="285840"/>
            <a:ext cx="4845240" cy="3500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04617b"/>
                </a:solidFill>
                <a:latin typeface="Calibri"/>
              </a:rPr>
              <a:t>Правова акультураці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заємодія між правовими системами і правовими культурами на рівні законодавства, судової практики, юридичної науки, юридичної освіти та ін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09-02T08:59:28Z</dcterms:modified>
  <cp:revision>32</cp:revision>
  <dc:subject/>
  <dc:title>ЛЕКЦІЯ 3</dc:title>
</cp:coreProperties>
</file>