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2EE4-445F-4E0F-9CDE-8C8339B79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47FB-B2DD-4175-8E1C-F8A5DB1A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8825-21C0-4CC1-8EC1-57E5DA74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B681-DE28-436B-B2ED-B1FDDEB4F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2FDA-3EDC-41B5-A128-3955A951F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8666-F5ED-44E3-A844-6B449631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6008-BAB6-4E66-8E6D-780E93BC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18BC-F59C-46A2-BEBA-6ED5F425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1E59-9FA7-48B3-9CD0-EEDD7A51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7131-3414-4315-B381-80ECD499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C00A-FF40-4EE3-AD08-5B037DAA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C309-60B8-49A7-ABD0-B4288E0F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A056-06ED-4B4B-A71C-B6334728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8884-4A30-4B16-BFFD-AC903858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BA6A-DA83-419C-891B-88FA6878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EFBF-4176-429A-B952-241AA6610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ED0B-5D02-4B38-AFA2-6E23D5BDE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BB88D-7EE7-4926-9645-782E3A96E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3FB9B-A2E2-43D1-B664-6B300D03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9476F-23B8-4AE8-9BC6-C7E63905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D6586-A755-40F4-9A53-EAAE8A0D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5868F-9123-4400-9500-A11B6053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278C-CAC4-418A-9EB1-FC41D297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088D9-A1B0-4272-B1D2-0A468341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04FFD-C54A-4D68-9628-C4238885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F1296-5637-4C32-9F8B-4CE6DA15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FAE3B-3745-478A-8504-445E5C95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3BB90-274A-481F-B36A-9FE7DD77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BF205-3B13-45B9-8235-5B23628FC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0C77D-C63F-40F8-A2BA-BAE0F2A4C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FA8EA-27CA-43BA-B9D5-3AA4A92A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7EDC1-702E-416A-BCA5-CD8D1A67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CC435-72DD-4380-B007-47F94319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EE3E-4106-44C6-B92F-D2416051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D8121-48E4-4521-B33E-39C4E8B8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61311-4DCE-42B6-A1F3-0D4C9216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A0E32-A9F5-43A5-9C88-5FA719A7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5F053-9A52-4788-9683-382973EE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DC01C-4006-4C81-ACBC-3E06E3B6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2395A-AB30-419F-9FEF-4CEAB4B9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7CD9D-B189-4754-BE94-BC0F19DD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CE9D5-06EF-4461-9E9E-78141CE9D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15FE6-F2AF-47A9-B061-0A3C6CD23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0AC1-47FC-451C-AA17-02DE6DF6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828B-C12A-44D0-A174-DDF2C3F8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8BD6-971C-4147-854A-FD7BF08F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7F6D-34A7-4D64-AAA7-7239B45B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6F78-6C12-417B-B851-28B16509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8D08-4AF4-4F3A-9946-46450DB8A91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D784-14A9-4745-AC11-67CC82BE765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F5D7-2A42-4EE7-8E60-19B9A059D08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23E9-0D99-47D5-8155-07A5A1519D2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gdb.rferl.org/C7FC6D72-EF8A-4F83-A4E6-4016A8B83DED_mw1024_n_s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853920"/>
            <a:ext cx="8217000" cy="16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2571480"/>
            <a:ext cx="7129440" cy="3066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onstantia"/>
              </a:rPr>
              <a:t>ТЕНДЕНЦІЇ І ПЕРСПЕКТИВИ ВЗАЄМОДІЇ ПРАВОВИХ СИСТЕМ СУЧАСНОСТІ  В УМОВАХ ГЛОБАЛЬНИХ ВИКЛИКІВ І ЗАГРОЗ</a:t>
            </a:r>
            <a:br>
              <a:rPr sz="4800"/>
            </a:b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c00000"/>
                </a:solidFill>
                <a:latin typeface="Calibri"/>
              </a:rPr>
              <a:t>Закономірності зближення правових систем і його форм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Шляхи і способи правової акультурації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4720" y="1860480"/>
            <a:ext cx="4041720" cy="10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Відбувається на рівні юридичної науки і юридичної осві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3286080"/>
            <a:ext cx="404028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за допомогою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ств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ої практик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укладення договорів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дійснюється вченими і викладачам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5080" y="3286080"/>
            <a:ext cx="428472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на цій основі виділяютьс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ч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говірн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ктринальна правова акультураці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://upload.wikimedia.org/wikipedia/commons/thumb/e/eb/Finland_passport.jpg/150px-Finland_passport.jpg"/>
          <p:cNvPicPr/>
          <p:nvPr/>
        </p:nvPicPr>
        <p:blipFill>
          <a:blip r:embed="rId1"/>
          <a:stretch/>
        </p:blipFill>
        <p:spPr>
          <a:xfrm>
            <a:off x="1071720" y="928800"/>
            <a:ext cx="2643120" cy="3357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Европейский центральный банк во Франкфурте-на-Майне определяет денежно-кредитную политику."/>
          <p:cNvPicPr/>
          <p:nvPr/>
        </p:nvPicPr>
        <p:blipFill>
          <a:blip r:embed="rId2"/>
          <a:stretch/>
        </p:blipFill>
        <p:spPr>
          <a:xfrm>
            <a:off x="4714920" y="1571760"/>
            <a:ext cx="2800440" cy="41432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Зближення правових систем 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має закономірний характер, зумовлений об'єктивними потребами розвитку людства на сучасному етапі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стихій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4832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планомір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http://upload.wikimedia.org/wikipedia/commons/thumb/2/2e/European-parliament-brussels-inside.JPG/300px-European-parliament-brussels-inside.JPG"/>
          <p:cNvPicPr/>
          <p:nvPr/>
        </p:nvPicPr>
        <p:blipFill>
          <a:blip r:embed="rId1"/>
          <a:stretch/>
        </p:blipFill>
        <p:spPr>
          <a:xfrm>
            <a:off x="155520" y="142920"/>
            <a:ext cx="7916760" cy="52149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472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Базовими документами, що визначають процес адаптації законодавства України до законодавства ЄС є: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ийняті Радою Європи на Копенгагенському саміті в 1993 р.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Декларація і Угода про партнерство та співпрацю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між Україною і Європейськими Співтовариствами та їх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ржавамичленам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994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Указ Президента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програму інтеграції України в Європейський Союз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» 2000 р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Закон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Загальнодержавну програму адаптації законодавства України до законодавства Європейського Союзу»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004 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План дій Ради Європи для України на 2011-2014 роки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має важливе значення у впровадженні європейських правових стандартів у національну правову систему й систему законодавств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едбачає пакет пріоритетних заходів, покликаних допомогти в приведенні українського законодавства, інститутів та практики у </a:t>
            </a: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відповідність до європейських стандартів щодо прав людини, верховенства права і демократії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1" descr="http://img.pravda.com.ua/images/doc/6/b/6b4efbb-113.jpg"/>
          <p:cNvPicPr/>
          <p:nvPr/>
        </p:nvPicPr>
        <p:blipFill>
          <a:blip r:embed="rId1"/>
          <a:stretch/>
        </p:blipFill>
        <p:spPr>
          <a:xfrm>
            <a:off x="1143000" y="357120"/>
            <a:ext cx="6000840" cy="38592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Адаптація законодавства України до законодавства ЄС передбачає: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на 1 етапі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: передбачається розвиток правової системи України згідно з вимогами, визначеними в декларації, у напрямі встановлення верховенства права, забезпечення прав людини, функціонування ринкової економіки; приведення законодавства України у відповідність до вимог Угоди про партнерство і співпрацю та інших міжнародних договорів, які стосуються співпраці України та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2 етап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олягатиме в перегляді законодавства України у сферах, визначених Угодою про партнерство і співпрацю, з метою забезпечення його приблизної відповідності законодавству ЄС; правовому забезпеченні створення зони вільної торгівлі між Україною та ЄС та підготовки до асоційованого членства України в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3 етап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- укладення Угоди про асоціацію між Україною та ЄС; підготовка розширеної програми гармонізації законодавства України із законодавством ЄС з метою забезпечення інтеграції України до спільного ринку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Нормативно-правова база зближення правових систем різн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рамках кожного напряму використовуються ті чи інші </a:t>
            </a:r>
            <a:r>
              <a:rPr b="0" lang="uk-UA" sz="2600" spc="-1" strike="noStrike">
                <a:solidFill>
                  <a:srgbClr val="00b0f0"/>
                </a:solidFill>
                <a:latin typeface="Constantia"/>
              </a:rPr>
              <a:t>правові засоб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ограми-проекти, модельні законодавчі ак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 уніфіковані загальні нор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правові стандар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) наукові концепції тощ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иродно, їх </a:t>
            </a:r>
            <a:r>
              <a:rPr b="0" lang="uk-UA" sz="2600" spc="-1" strike="noStrike">
                <a:solidFill>
                  <a:srgbClr val="c00000"/>
                </a:solidFill>
                <a:latin typeface="Constantia"/>
              </a:rPr>
              <a:t>юридична сила неоднакова,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скільки вони можуть мати </a:t>
            </a:r>
            <a:r>
              <a:rPr b="0" lang="uk-UA" sz="2600" spc="-1" strike="noStrike">
                <a:solidFill>
                  <a:srgbClr val="c00000"/>
                </a:solidFill>
                <a:latin typeface="Constantia"/>
              </a:rPr>
              <a:t>програмний, нормативно-орієнтуючий, рекомендаційний і обов'язковий характе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70c0"/>
                </a:solidFill>
                <a:latin typeface="Calibri"/>
              </a:rPr>
              <a:t>4 напрями і форми їх проведення щодо «узгодженого» правового розвитку держав (Ю.О. Тихомиров)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зближення законодавства, коли визначається спільний курс держав у даній сфері, напрями, етапи зближення, способи зближенн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2) гармонізація законодавства, коли узгоджуються спільні підходи, концепції розвитку національних законодавств, виробляються спільні правові принципи і окремі рішенн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ухвалення модельних законодавчих акті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) </a:t>
            </a: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уніфікація  законодавства,  коли розробляються і вводяться в дію загальнообов'язкові одноманітні юридичні норми (правила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ПЛА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ближення правових сист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Правова акультурація та її значення для зближення правових сист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акономірності зближення правових систем і його фор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Гармонізація законодавств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Розроблення модельних законодавчих акті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Уніфікація правових нор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Імплементація норм міжнародного права в національне законодавств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Надання міжнародної правової допомог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Процес зближення національних правових систем передбачає </a:t>
            </a:r>
            <a:br>
              <a:rPr sz="4000"/>
            </a:b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(на думку Ю.О.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Тихомирова)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1) розроблення загальної політики державного правового розвитк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70c0"/>
                </a:solidFill>
                <a:latin typeface="Constantia"/>
              </a:rPr>
              <a:t>2) здійснення заходів із подолання правових відмінностей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3) вживання   заходів   із   вироблення   спільних   юридичних прави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Процес гармонізації нормативно-правової бази передбачає </a:t>
            </a:r>
            <a:br>
              <a:rPr sz="4500"/>
            </a:br>
            <a:br>
              <a:rPr sz="4500"/>
            </a:b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наявність об'єктивних умов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в тій чи іншій сфері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4929120"/>
            <a:ext cx="3614760" cy="14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усередині однієї правової сім‘ї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143240" y="4857840"/>
            <a:ext cx="48578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іж правовими системами, що належать різним правовим сім'я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Умовою реалізації гармонізації є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ироблення єдиної термінології, необхідної для здійснення гармонізації, як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встановлює і закріплює єдині вимоги до використання термінів, систематизує поняття, виключає з обороту застарілі терміни і сприяє раціональній організації нормотворчої діяльност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прияє формальній визначеності права, ліквідації суперечностей у розумінні правових текстів, підвищенні їх доступності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7030a0"/>
                </a:solidFill>
                <a:latin typeface="Calibri"/>
              </a:rPr>
              <a:t>Способи (форми) зближення правових систем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5480" y="1855800"/>
            <a:ext cx="421164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гармонізація законодавст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уніфікація правових нор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а зближення, складний процес, що максимально зближує законодавства різних держав у вирішенні правових проблем, але не приводить правові системи до повної єдності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а зближення правових систем, процес, пов'язаний зі спробами приведення різних правових систем і окремих їхніх складових частин, зокрема правових норм, до певного спільного знаменни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Розроблення модельних законодавчих акті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тобто схожих законодавчих актів, що призводить зрештою до одноманітного регулювання відносин у різних сферах суспільного житт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Розроблення модельних законодавчих актів визнається як успішний і ефективний спосіб, що забезпечує зближення правових систем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Модельні законодавчі акт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ають рекомендаційний характер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служать орієнтиром для розвитку і зближення національних законодавчих акті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стять типові норми, що дають нормативну орієнтацію для законодавц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таким чином, вони виконують функцію певного нормативно-орієнтуючого стандарт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розробляються і приймаються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ждержавними об'єднаннями (наприклад ЄС) для держав-членів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жнародними організаціями (наприклад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ОН)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ормотворчи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органами федерації (наприклад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ША) для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її суб'єктів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ученими-правознавцями і фахівцями та мають доктринальний характер (наприклад розроблення в 1992 р. фахівцями Гарвардського університету «Базового світового податкового кодексу» в рамках міжнародної податкової програми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0b0f0"/>
                </a:solidFill>
                <a:latin typeface="Calibri"/>
              </a:rPr>
              <a:t>Уніфікація правових норм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onstantia"/>
              </a:rPr>
              <a:t>як форма зближення правових систем, відображає процес зближення норм конкретного національного права з нормами міжнародного або регіонального права шляхом установлення єдиних норм права, що мають одноманітне застосування в усіх державах, які є учасницями міжнародно-правової або регіонально-правової угод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Ідея уніфікації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нац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і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рег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рівнях йде своїм корінням в глибоку старовин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міжнародному рівні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уніфікація починає широко застосовуватися наприкінц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VIII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і в першій половин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під прямим впливом торгових, фінансових і інших зв'язків, що швидко розширюються між різними держава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Ідея уніфікації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нац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і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рег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рівнях йде своїм корінням в глибоку старовин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міжнародному рівні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уніфікація починає широко застосовуватися наприкінц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VIII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і в першій половин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під прямим впливом торгових, фінансових і інших зв'язків, що швидко розширюються між різними держава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7030a0"/>
                </a:solidFill>
                <a:latin typeface="Calibri"/>
              </a:rPr>
              <a:t>Різновиди правової уніфікації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99680" y="1357200"/>
            <a:ext cx="4040280" cy="128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на основі предмета уніфікації </a:t>
            </a: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виділяю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00720" y="1428480"/>
            <a:ext cx="4357440" cy="1500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за своєю формою уніфікація </a:t>
            </a: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а може проводитися шляхом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13840" y="3071520"/>
            <a:ext cx="4429080" cy="328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483480" indent="-483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7030a0"/>
                </a:solidFill>
                <a:latin typeface="Constantia"/>
              </a:rPr>
              <a:t>1)уніфікацію матеріального права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(цивільного, сімейного, адміністративного права та ін.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7030a0"/>
                </a:solidFill>
                <a:latin typeface="Constantia"/>
              </a:rPr>
              <a:t>процесуального права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(цивільно-процесуального, кримінально-процесуального права та ін.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4720" y="3000240"/>
            <a:ext cx="4041720" cy="3360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укладення міжнародних договорів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рийняття модельних рекомендаційних законодавчих актів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застосування примірних договорів міжнародних організацій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икористання міжнародних звичаї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Calibri"/>
              </a:rPr>
              <a:t>Чинники, що впливають на зближення сучасних правових систем:</a:t>
            </a:r>
            <a:br>
              <a:rPr sz="45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неминучість співіснування сучасних цивілізацій та потреба вирішення глобальних проблем сучасності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70c0"/>
                </a:solidFill>
                <a:latin typeface="Constantia"/>
              </a:rPr>
              <a:t>глобалізація (економічна, фінансова, правова, культурна, інформаційна та ін..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правова інтеграція та формування загального правового простор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надання міжнародної правової допомоги як елемент співпраці між державам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b5395"/>
                </a:solidFill>
                <a:latin typeface="Constantia"/>
              </a:rPr>
              <a:t>взаємовплив правових культур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8684e"/>
                </a:solidFill>
                <a:latin typeface="Constantia"/>
              </a:rPr>
              <a:t>розвиток порівняльного правознавства, який сприяє налагодженню діалогу між різними правовими сім'ями і мобілізує їх потенціал для вирішення загальнолюдських пробле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Рівні імплементації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285920"/>
            <a:ext cx="404028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міжнарод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44720" y="1285920"/>
            <a:ext cx="404172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національ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2071440"/>
            <a:ext cx="3686040" cy="4289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полягає у виробленні міжнародних норм, що регламентують спільну організаційно-правову діяльність суб'єктів міжнародного права, направлену на здійснення цілей, закладених у міжнародних зобов'язаннях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357800" y="2000160"/>
            <a:ext cx="4572000" cy="4361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олягає у виробленні норм у рамках національного права, які встановлюють процесуальний порядок реалізації міжнародно-правових норм, що регламентують організаційно-правову діяльність органів держави і правозастосовну практику у зв'язку з реалізацією міжнародно-правових норм, направлену на фактичне виконання прийнятих державою міжнародних зобов'язань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За масштабами правова уніфікація охоплює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1)правові системи держав одного регіону (АСІАН)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7030a0"/>
                </a:solidFill>
                <a:latin typeface="Constantia"/>
              </a:rPr>
              <a:t>2) правові системи держав у рамках міждержавних об'єднань (ЄС, СНД)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3) може поширюватися на правові системи всіх або більшості держав світу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(ООН)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alibri"/>
              </a:rPr>
              <a:t>Імплементація норм міжнародного права в національне законодавство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фактичне здійснення міжнародних зобов'язань на внутрішньодержавному рівні шляхом трансформації міжнародно-правових норм у національні закони і підзаконні акти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Імплементація норм міжнародн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оцес, що складається із сукупності процедур і засобів, що сприяють підвищенню ефективності реалізації цих нор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у результаті імплементації відбуваєть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одного боку, </a:t>
            </a:r>
            <a:r>
              <a:rPr b="0" lang="uk-UA" sz="2600" spc="-1" strike="noStrike">
                <a:solidFill>
                  <a:srgbClr val="00b050"/>
                </a:solidFill>
                <a:latin typeface="Constantia"/>
              </a:rPr>
              <a:t>запозичення положень міжнародного прав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(процедури, інститути, фрагменти мови, нормативно-правові акти, принципи, цінності, правові ідеї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 з іншого — </a:t>
            </a:r>
            <a:r>
              <a:rPr b="0" lang="uk-UA" sz="2600" spc="-1" strike="noStrike">
                <a:solidFill>
                  <a:srgbClr val="00b050"/>
                </a:solidFill>
                <a:latin typeface="Constantia"/>
              </a:rPr>
              <a:t>трансформація національного законодавств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метою оновлення й удосконалення норм національної правової систе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Надання міжнародної правової допомог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оцесуальні дії, що здійснюються органами держави на підставі запитів органів іноземної держав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формується на базі норм, що належать до міжнародного публічного і міжнародного приватного права, разом із тим він регулює питання, що стосуються цивільного права, цивільно-процесуального права, адміністративного права, кримінального права, кримінально-процесуального права і т. і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Види правової допомог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Наприклад, Конвенція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ОН про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боротьбу з незаконним захопленням повітряних суден 1970 р1. або Конвенція про боротьбу із захопленням заручників 1979 р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легалізація іноземних офіційних документів, тобто формальна процедура, використовувана дипломатичними або консульськими агентами держави, на території якої документ повинен бути представлений, для посвідчення достовірності підпису, якості, в якій виступала особа, що підписала документ, і, в належному випадку, достовірності печатки або штампу, якими скріплено цей документ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Гаазька конвенція 1961 року, що скасовує вимоги легалізації іноземних офіційних держав, поширюється на офіційні документи, які були укладені на території однієї з держав, що домовлялися, і повинні бути подані на території іншої договірної держав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Приклад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зови до фізичних осіб, які проживають на території однієї з договірних держав, подаються до судів цієї держави (незалежно від громадянства відповідача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 позови до юридичних осіб — до судів держави, на території якої знаходиться орган управління юридичної особи, її представництво або філі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зови про право власності й інші речові права на нерухоме майно подаються до судів за місцем знаходження даного майн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Таким чином, надання міжнародної правової допомоги сприяє зближенню правових систем, оскільки воно за сучасних умов стає важливим елементом правової співпраці між державам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-328320" y="93960"/>
            <a:ext cx="895752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декс верховенства пра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Україна 10-а з кінця за рівнем політичного втруч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" descr="http://gdb.rferl.org/C7FC6D72-EF8A-4F83-A4E6-4016A8B83DED_w640_r1_s_cx9_cy0_cw8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71720" y="2786040"/>
            <a:ext cx="7167240" cy="378612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3"/>
          <p:cNvSpPr/>
          <p:nvPr/>
        </p:nvSpPr>
        <p:spPr>
          <a:xfrm>
            <a:off x="0" y="388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«Індекс верховенства права»,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Україна посіла 87-е місце з 97-ми в рейтингу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складеному неурядовою організацією «Проект світової юстиції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Індекс оцінює країни за показниками у восьми сферах, що мають вплив на стан верховенства прав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еред них – межі повноважень центральної влади, корупція, безпека і порядок, фундаментальні права, відкритість уряду, регуляторне середовище, цивільне і кримінальне правосудд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Розвиток порівняльного правознавства сприяє: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надає прагматичного, прозорого і передбачуваного характеру процесу зближення правових систем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иявленню найбільш оптимальних методів і форм зближення правових систем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иявленню меж запозичення правових положен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уванню єдиного категоріально-понятійного апарату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авить питання щодо формування загального, «універсального» прав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250px-European_court_of_human_rights"/>
          <p:cNvPicPr/>
          <p:nvPr/>
        </p:nvPicPr>
        <p:blipFill>
          <a:blip r:embed="rId1"/>
          <a:stretch/>
        </p:blipFill>
        <p:spPr>
          <a:xfrm>
            <a:off x="0" y="0"/>
            <a:ext cx="5572080" cy="342900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2"/>
          <p:cNvSpPr/>
          <p:nvPr/>
        </p:nvSpPr>
        <p:spPr>
          <a:xfrm>
            <a:off x="500040" y="3786120"/>
            <a:ext cx="8215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лькість позовів у Європейський суд  по правах люд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країна, разом з такими державами як Росія, Туреччина займає 4 позицію. Про це заявив директор суду Жан Стать Коста, оприлюднивши результати діяльності суду за 2012 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 47 країн у списку Евросуду за станом на 31 грудня 2012 р. на першому місці по кількості позовів перебуває Росія (28593 позову - 22,3% від загальної кількості справ), на четвертому - Україна (10447 позо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Calibri"/>
              </a:rPr>
              <a:t>Україна і ЄС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Комісар Європейського Союзу з питань розширення і європейської політики сусідства Штефан Фюле наприкінці лютого 2013 р. привіз в Україну список вимог, виконання яких дозволить Україні підписати угоду про асоціації з Євросоюзом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едставники Євросоюзу позначили їх не вимоги, а як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«19 індикаторів» або список Фюлле»,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оскільки даний список не має офіційної назв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СПИСОК ФЮЛЛЕ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1. Виконання рекомендацій, викладених в остаточному звіті спостережливої місії ОБСЄ/БДИПЧ щодо парламентських виборів в Україні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2. Подолання зафіксованих недоліків у проведенні парламентських виборів в Україні 28 жовтня 2012 року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3. Прийняття Виборчого кодексу Україн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4. Забезпечення збалансованого доступу учасників виборів до засобів масової інформації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5. Проведення повторних виборів в одномандатних виборчих округах, у яких не визначений переможец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6. Рішення питання політично мотивованих вироків без зволікан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СПИСОК ФЮЛЛ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7. Швидке виконання рішень Європейського суду по правах людин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8. Виконання рекомендацій Ради Європи щодо умов утримування й медичної допомоги особам, які перебувають під вартою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9. Забезпечення належного введення в дію нового Карного процесуального кодексу, нового законодавства з питань адвокатур і створення Національного превентивного механізму проти катувань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0. Перегляд у тісних консультаціях з Радою Європи/Венеціанською Комісією закону про прокуратуру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1. Перегляд у тісних консультаціях з Радою Європи/Венеціанською Комісією Кримінального кодексу Україн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2. Перегляд у тісних консультаціях з Радою Європи/Венеціанською Комісією закону про «Вищу раду юстиції»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268200" y="701640"/>
            <a:ext cx="8601120" cy="57355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200px-Strasbourg-_European_Court_of_Human_Rights"/>
          <p:cNvPicPr/>
          <p:nvPr/>
        </p:nvPicPr>
        <p:blipFill>
          <a:blip r:embed="rId1"/>
          <a:stretch/>
        </p:blipFill>
        <p:spPr>
          <a:xfrm>
            <a:off x="0" y="0"/>
            <a:ext cx="8001000" cy="42861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Заголовок 1" descr=""/>
          <p:cNvPicPr/>
          <p:nvPr/>
        </p:nvPicPr>
        <p:blipFill>
          <a:blip r:embed="rId1"/>
          <a:stretch/>
        </p:blipFill>
        <p:spPr>
          <a:xfrm>
            <a:off x="19080" y="701640"/>
            <a:ext cx="9180360" cy="25178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ова акультураці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ова рецепці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заємодія між правовими системами і правовими культурами на рівні законодавства, судової практики, юридичної науки, юридичної освіти та ін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розглядають як різновид правової акультурації, названу ще тотальною акультурацією або «культурною мутацією» (Карбоньє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1" descr="http://go3.imgsmail.ru/imgpreview?key=http%3A//upload.wikimedia.org/wikipedia/commons/thumb/a/ab/EU%5FMember%5Fstates%5Fand%5FCandidate%5Fcountries%5Fmap.svg/400px-EU%5FMember%5Fstates%5Fand%5FCandidate%5Fcountries%5Fmap.svg.png&amp;mb=imgdb_preview_471"/>
          <p:cNvPicPr/>
          <p:nvPr/>
        </p:nvPicPr>
        <p:blipFill>
          <a:blip r:embed="rId1"/>
          <a:stretch/>
        </p:blipFill>
        <p:spPr>
          <a:xfrm>
            <a:off x="0" y="0"/>
            <a:ext cx="6072120" cy="47149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Запозичення  правових ідей, приниципів, інститутів , </a:t>
            </a:r>
            <a:r>
              <a:rPr b="1" lang="uk-UA" sz="4000" spc="-1" strike="noStrike">
                <a:solidFill>
                  <a:srgbClr val="04617b"/>
                </a:solidFill>
                <a:latin typeface="Calibri"/>
              </a:rPr>
              <a:t>елементів юридичної техніки і практики правозастосовної діяльності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3143160"/>
            <a:ext cx="4040280" cy="57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фрагментарн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4720" y="3143160"/>
            <a:ext cx="4041720" cy="57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глобальн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3857760"/>
            <a:ext cx="4040280" cy="2503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запозичення правових положень (правова акультурація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4720" y="3857760"/>
            <a:ext cx="4041720" cy="2503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коли змінюються основи правової системи взагалі – (правова рецепція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http://go2.imgsmail.ru/imgpreview?key=http%3A//upload.wikimedia.org/wikipedia/commons/thumb/5/51/ENP.jpg/300px-ENP.jpg&amp;mb=imgdb_preview_471"/>
          <p:cNvPicPr/>
          <p:nvPr/>
        </p:nvPicPr>
        <p:blipFill>
          <a:blip r:embed="rId1"/>
          <a:stretch/>
        </p:blipFill>
        <p:spPr>
          <a:xfrm>
            <a:off x="155520" y="285840"/>
            <a:ext cx="4845240" cy="3500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04617b"/>
                </a:solidFill>
                <a:latin typeface="Calibri"/>
              </a:rPr>
              <a:t>Правова акультураці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заємодія між правовими системами і правовими культурами на рівні законодавства, судової практики, юридичної науки, юридичної освіти та ін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09-02T08:59:28Z</dcterms:modified>
  <cp:revision>32</cp:revision>
  <dc:subject/>
  <dc:title>ЛЕКЦІЯ 3</dc:title>
</cp:coreProperties>
</file>