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F96F-603F-4B18-8981-F586AFCED7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8D48-7EA6-4E6A-BC9A-7293195497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AB8-26DC-44C1-8A6F-CDE8D9AD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870-0714-4C37-B92B-A5521B8B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6A71-7358-4721-8FBB-53746573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EBF-4B4A-4AD1-BF44-90168F50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B1B4-7CA2-450C-8E22-537A2AB4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E38-9975-4478-A4A0-4B69AA8F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115-AF2B-4BE0-84AF-D3129C2C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F9B0-D8B4-4FA6-91AD-02284970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8C00-A877-4481-BC9E-5804F003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D336-6955-43F3-B7A6-45295481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6E81-05CB-4DE8-AC9B-54885C90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2C44-3D1F-4CD0-8925-C01ACFD6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B386-7063-4115-AFCA-01CB1A4F4B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кристаллических решеток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c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гонии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4200" y="1571760"/>
            <a:ext cx="31687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Кубическ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Тетрагональн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мбическ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мбоэдрическ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тригональна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Гексагональ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Моноклин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Триклинна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3075120" y="1628640"/>
            <a:ext cx="5981400" cy="468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30625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структурные ти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труктура каменной сол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галогениды щелочных металл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LiF, LiCI, NaF, RbF, RbC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, оксиды переходных металлов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O, MnO, FeO, Ni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, нитриды и карбиды переходных подгрупп Ti и V, галоиды серебра AgCl, AgBr, AgF, сульфиды и селениды свинца и теллура, полупроводниковые соединения группы AIVBVI (GeTe, SnTe, PbS, PbSe, PbTe). Структура – 2 ГЦК сдвинутые относительно другдруг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429000" y="3214800"/>
            <a:ext cx="1800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структурные ти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труктурный тип алмаза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ментарные полупроводники — германий, кремний, серое олово.   Ячейка ГЦК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214280" y="2500200"/>
            <a:ext cx="2238480" cy="2152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4143240" y="2286000"/>
            <a:ext cx="3673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структурные ти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труктурный тип сфалерита и вюрцита (цинковой обманк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IIIBV (GaAs, InAs, GaP, lnP, InSb, AlN, BN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IIBVI (CdS, CdSe, ZnSe, HgSe, CdTe, ZnTe, Hg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857680" y="2357280"/>
            <a:ext cx="330516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структурные ти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труктурный тип перовскита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CaTi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BaTi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CaZr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PbTi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2976480" cy="2833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4429080" y="2500200"/>
            <a:ext cx="33418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структурные типы</a:t>
            </a:r>
            <a:br>
              <a:rPr sz="44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труктурный тип шпин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572080" y="2500200"/>
            <a:ext cx="311472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X (Mg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Mn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Fe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Ni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Zn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Y — трехвалентные ионы (Al3+, V3+, Cr3+, Mn3+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ЦК-решет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ри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5187960" cy="41148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6786720" y="1500120"/>
            <a:ext cx="185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A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7"/>
          <p:cNvSpPr/>
          <p:nvPr/>
        </p:nvSpPr>
        <p:spPr>
          <a:xfrm>
            <a:off x="6500880" y="2000160"/>
            <a:ext cx="178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связей в кристал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000080" y="1143000"/>
            <a:ext cx="70722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связей в кристалл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о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валент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н-дер-валь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алличе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4429080" y="1500120"/>
            <a:ext cx="2571840" cy="785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4286160" y="2214720"/>
            <a:ext cx="2473560" cy="500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4286160" y="2714760"/>
            <a:ext cx="3357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фекты в кристаллах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971640" y="1557360"/>
            <a:ext cx="64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фект – это нарушение идеальной структуры кристал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ификация дефектов (по Ван-Бюрен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 Нульмерные (точечные) дефекты – вакансии, межузельные атомы, примесные атомы, антиструктурные дефект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 Одномерные (линейные) дефекты – цепочки точечных дефектов, дислокации, дисклин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 Двумерные (поверхностные) дефекты – дефекты упаковки, г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оков мозаики, двойников, зерен, межфазные границы, поверх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 Трёхмерные (объёмные) дефекты – поры, включения второй фа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чечные дефекты в кристал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35684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Шотки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Френкел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мещения примесным атом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дрения примесного ат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571760" y="4143240"/>
            <a:ext cx="5695920" cy="18003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"/>
          <p:cNvSpPr/>
          <p:nvPr/>
        </p:nvSpPr>
        <p:spPr>
          <a:xfrm>
            <a:off x="5611680" y="148428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5629320" y="1854360"/>
            <a:ext cx="1319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V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7380360" y="2637000"/>
            <a:ext cx="63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означения дефектов по Крегеру-Вин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476360" y="2200320"/>
            <a:ext cx="1276200" cy="12286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1527120" y="3284640"/>
            <a:ext cx="122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Sylfaen"/>
              </a:rPr>
              <a:t>′</a:t>
            </a: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imesNew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Sylfaen"/>
              </a:rPr>
              <a:t>′′</a:t>
            </a: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600" spc="-1" strike="noStrike" baseline="30000">
                <a:solidFill>
                  <a:srgbClr val="000000"/>
                </a:solidFill>
                <a:latin typeface="SimSun"/>
                <a:ea typeface="SimSun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ингонии и кристаллические систе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883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000080" y="642960"/>
            <a:ext cx="2314800" cy="434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5214960" y="1928880"/>
            <a:ext cx="2666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ф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4781520" cy="1190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1042920" y="2852640"/>
            <a:ext cx="55720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евые (линейные) дисло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0" y="1428840"/>
            <a:ext cx="6458040" cy="2171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5786280" y="2500200"/>
            <a:ext cx="305784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нтовые дислок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714240" y="1285920"/>
            <a:ext cx="6305760" cy="25146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2214720" y="3860640"/>
            <a:ext cx="414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=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𝐺𝜀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где 𝐺 — модуль сдвига, 𝜀 —деформ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2143080" y="4572000"/>
            <a:ext cx="521496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𝐸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𝐺𝐵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𝑙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B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B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льное расщеп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2143080" y="550080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B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2214720" y="5929200"/>
            <a:ext cx="61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B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B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 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фферентны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верхностные деф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ой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фекты упак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ницы зер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оки</a:t>
            </a:r>
            <a:br>
              <a:rPr sz="4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ориентация  от нескольких секунд до нескольких мину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928800" y="1357200"/>
            <a:ext cx="612936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вой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571840" y="1357200"/>
            <a:ext cx="411480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ие деф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хождение молибдена в кристалл АИГ при выращивании методом Стокбаргера-Бриджме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285920" y="1428840"/>
            <a:ext cx="66387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тки Брав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835280" y="1349280"/>
            <a:ext cx="482436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исталлографические направления и плоск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452880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означение кристаллографических плоск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1424160" y="1514520"/>
            <a:ext cx="62956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положение позиций ионов в гранат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143080" y="1428840"/>
            <a:ext cx="53578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1357200" y="1785960"/>
            <a:ext cx="72154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– элемен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– соединения типа АВ (например, NaCl, CsI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– соединения типа AB2 (CaF2, TiO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D - соединения типа AnBm (Al2O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E – соединения, образованные больше, чем двумя сортами атомов без радикалов или комплексных ионов (например, CuFe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F –структуры соединений с двух- или трехатомными ионами (KCNS, NaHF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G – соединения с четырехатомными ионами (CaCO3, NaClO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 – соединения с пятиатомными ионами (CaSО4.2H2O, CaWO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L – сплав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S –силикаты. (гранаты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3B2(SiO4)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ы структурных тип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структурные ти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уктура Меди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, Ag, Ni, Al, Pb.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вердые раствор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Ag-Au, Cu-Au,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единения тип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Sb, A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, A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   Ячейка ГЦ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.  4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тома на ячейк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уктура Вольфрама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ом, ванадий, молибден, ниобий, тантал, -кобальт, -железо, титан, цирконий, гафний, щелочные элементы — литий, натрий, калий, рубидий, цезий, щелочноземельные — кальций, стронций, барий, актиниды — уран, нептуний, плутон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чейка  ОЦК  , 2 атома на ячейк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кристаллических решет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0" y="1500120"/>
            <a:ext cx="6208560" cy="2185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итив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мно-центрированная (ОЦ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нецентрированная (ГЦ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ксагональная плотноупакованная (ГП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2"/>
          <a:stretch/>
        </p:blipFill>
        <p:spPr>
          <a:xfrm>
            <a:off x="6500880" y="1285920"/>
            <a:ext cx="1784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2:33:48Z</dcterms:created>
  <dc:creator>admin</dc:creator>
  <dc:description/>
  <dc:language>en-US</dc:language>
  <cp:lastModifiedBy>vint91@ukr.net</cp:lastModifiedBy>
  <dcterms:modified xsi:type="dcterms:W3CDTF">2019-10-18T07:10:20Z</dcterms:modified>
  <cp:revision>152</cp:revision>
  <dc:subject/>
  <dc:title>Слайд 1</dc:title>
</cp:coreProperties>
</file>