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612B-E679-46C0-873B-99D0384907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4D1A-A7DE-4209-96B0-05363E77DF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E55-3808-4AEB-9C29-79B6D9E7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2DC-35EA-4A4A-BF18-9423C134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15C-A86A-4396-A8DC-BAE5AD0C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C41-A373-4C0F-BE8E-7EA31A8C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C87-AECF-4788-A8F1-A3CEBCCF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0A0-F498-4FC6-AAE9-FD6B86EF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742-F56A-4F78-95E7-86843224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6F9-8641-4EF7-9B96-96EC358D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B2F-6358-4AAD-AEF2-8D564BFD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3D9-EAFF-4315-8A0D-28B70C4B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75D-CC98-4ED7-971A-E9A1ECD6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C0D-04DD-4B9E-B46B-7F3B765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7F8D-F73E-4C77-81A3-8375D85C8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кристаллических решето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гони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4200" y="1571760"/>
            <a:ext cx="3168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убиче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Тетрагональ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мбиче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мбоэдриче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ригональна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Гексагональ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Моноклин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Триклин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075120" y="1628640"/>
            <a:ext cx="5981400" cy="46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30625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труктура каменной сол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галогениды щелочных металл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iF, LiCI, NaF, RbF, RbC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, оксиды переходных металлов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O, MnO, FeO, Ni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, нитриды и карбиды переходных подгрупп Ti и V, галоиды серебра AgCl, AgBr, AgF, сульфиды и селениды свинца и теллура, полупроводниковые соединения группы AIVBVI (GeTe, SnTe, PbS, PbSe, PbTe). Структура – 2 ГЦК сдвинутые относительно другдру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429000" y="3214800"/>
            <a:ext cx="1800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руктурный тип алмаза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ментарные полупроводники — германий, кремний, серое олово.   Ячейка ГЦК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214280" y="2500200"/>
            <a:ext cx="2238480" cy="2152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4143240" y="2286000"/>
            <a:ext cx="3673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руктурный тип сфалерита и вюрцита (цинковой обман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IIBV (GaAs, InAs, GaP, lnP, InSb, AlN, BN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IIBVI (CdS, CdSe, ZnSe, HgSe, CdTe, ZnTe, Hg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57680" y="2357280"/>
            <a:ext cx="33051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руктурный тип перовскита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CaTi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BaTi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CaZr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PbTi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2976480" cy="28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29080" y="2500200"/>
            <a:ext cx="33418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br>
              <a:rPr sz="44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руктурный тип шпин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72080" y="2500200"/>
            <a:ext cx="31147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X (Mg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Mn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F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Ni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Zn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Y — трехвалентные ионы (Al3+, V3+, Cr3+, Mn3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ЦК-решет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ри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518796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6786720" y="1500120"/>
            <a:ext cx="185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7"/>
          <p:cNvSpPr/>
          <p:nvPr/>
        </p:nvSpPr>
        <p:spPr>
          <a:xfrm>
            <a:off x="6500880" y="2000160"/>
            <a:ext cx="178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связей в кристал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000080" y="1143000"/>
            <a:ext cx="7072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связей в кристалл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о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валент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н-дер-валь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лличе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4429080" y="1500120"/>
            <a:ext cx="2571840" cy="785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286160" y="2214720"/>
            <a:ext cx="2473560" cy="500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4286160" y="2714760"/>
            <a:ext cx="3357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фекты в кристалла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971640" y="1557360"/>
            <a:ext cx="64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ект – это нарушение идеальной структуры крист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дефектов (по Ван-Бюрен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 Нульмерные (точечные) дефекты – вакансии, межузельные атомы, примесные атомы, антиструктурные дефект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 Одномерные (линейные) дефекты – цепочки точечных дефектов, дислокации, дисклин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 Двумерные (поверхностные) дефекты – дефекты упаковки, г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оков мозаики, двойников, зерен, межфазные границы, поверх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 Трёхмерные (объёмные) дефекты – поры, включения второй ф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чечные дефекты в кристал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35684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Шотки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Френке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мещения примесным атом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дрения примесного ат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571760" y="4143240"/>
            <a:ext cx="5695920" cy="18003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"/>
          <p:cNvSpPr/>
          <p:nvPr/>
        </p:nvSpPr>
        <p:spPr>
          <a:xfrm>
            <a:off x="5611680" y="148428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5629320" y="1854360"/>
            <a:ext cx="1319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V′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7380360" y="2637000"/>
            <a:ext cx="63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значения дефектов по Крегеру-Вин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476360" y="2200320"/>
            <a:ext cx="1276200" cy="12286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1527120" y="3284640"/>
            <a:ext cx="12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Sylfaen"/>
              </a:rPr>
              <a:t>′</a:t>
            </a: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New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Sylfaen"/>
              </a:rPr>
              <a:t>′′</a:t>
            </a: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imSun"/>
                <a:ea typeface="SimSun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TimesNew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ингонии и кристаллические сист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83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2314800" cy="434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214960" y="192888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ф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4781520" cy="1190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5572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евые (линейные) дисло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0" y="1428840"/>
            <a:ext cx="6458040" cy="2171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5786280" y="2500200"/>
            <a:ext cx="30578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нтовые дислок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714240" y="1285920"/>
            <a:ext cx="630576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2214720" y="3860640"/>
            <a:ext cx="414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=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𝐺𝜀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де 𝐺 — модуль сдвига, 𝜀 —де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2143080" y="4572000"/>
            <a:ext cx="52149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𝐸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𝐺𝐵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𝑙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B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B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льное расщеп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2143080" y="55008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B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B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214720" y="592920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B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 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фферентны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=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ерхностные деф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фекты упак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ницы зер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оки</a:t>
            </a: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ориентация  от нескольких секунд до нескольких мину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928800" y="1357200"/>
            <a:ext cx="612936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ой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571840" y="1357200"/>
            <a:ext cx="41148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деф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ждение молибдена в кристалл АИГ при выращивании методом Стокбаргера-Бриджм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285920" y="1428840"/>
            <a:ext cx="6638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тки Брав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835280" y="1349280"/>
            <a:ext cx="48243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исталлографические направления и плоск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45288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означение кристаллографических плоск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424160" y="1514520"/>
            <a:ext cx="62956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оложение позиций ионов в гранат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143080" y="1428840"/>
            <a:ext cx="53578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1357200" y="1785960"/>
            <a:ext cx="72154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– элемен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– соединения типа АВ (например, NaCl, Cs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– соединения типа AB2 (CaF2, TiO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D - соединения типа AnBm (Al2O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E – соединения, образованные больше, чем двумя сортами атомов без радикалов или комплексных ионов (например, CuF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F –структуры соединений с двух- или трехатомными ионами (KCNS, NaHF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G – соединения с четырехатомными ионами (CaCO3, NaClO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 – соединения с пятиатомными ионами (CaSО4.2H2O, CaWO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L – сплав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S –силикаты. (гранаты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B2(SiO4)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руппы структурных тип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труктурные ти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уктура Меди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, Ag, Ni, Al, Pb.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ердые раствор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Ag-Au, Cu-Au,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единения тип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Sb, A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, A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  Ячейка ГЦ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.  4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тома на ячейк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уктура Вольфрама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м, ванадий, молибден, ниобий, тантал, -кобальт, -железо, титан, цирконий, гафний, щелочные элементы — литий, натрий, калий, рубидий, цезий, щелочноземельные — кальций, стронций, барий, актиниды — уран, нептуний, плутон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чейка  ОЦК  , 2 атома на ячейк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кристаллических реше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0" y="1500120"/>
            <a:ext cx="6208560" cy="218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итив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но-центрированная (ОЦ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ецентрированная (ГЦ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ксагональная плотноупакованная (ГП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2"/>
          <a:stretch/>
        </p:blipFill>
        <p:spPr>
          <a:xfrm>
            <a:off x="6500880" y="1285920"/>
            <a:ext cx="1784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2:33:48Z</dcterms:created>
  <dc:creator>admin</dc:creator>
  <dc:description/>
  <dc:language>en-US</dc:language>
  <cp:lastModifiedBy>vint91@ukr.net</cp:lastModifiedBy>
  <dcterms:modified xsi:type="dcterms:W3CDTF">2019-10-18T07:10:20Z</dcterms:modified>
  <cp:revision>152</cp:revision>
  <dc:subject/>
  <dc:title>Слайд 1</dc:title>
</cp:coreProperties>
</file>