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C48-E559-44C4-8F4F-756D2DB6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64F-EC6F-4E2B-9097-9EA8086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ADC-861E-4811-BFE2-C11F8B1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DC6-FC33-45E3-9318-711E5F38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E29D-5599-46BC-A3F2-40D2125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83DE-BA54-4706-A4D4-CC0D9284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C3AA-88C0-44DC-8F3B-74816E9A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30A2-F5BB-41EA-A1B0-5FF92A4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24F-F5B2-408F-B872-4FE021ED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B17-BFE5-4956-B866-390680DC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8B32-BAB5-4845-8C20-B4731C2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8AF-1799-4C89-AB6E-0E491B24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F72-B472-42F3-97B8-0974C78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E6F6-2FD6-4879-917C-1C77C653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FACB-E387-4DC6-8D62-9E4212C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5B3-F559-49F6-8A6E-6F33504C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21A5-14D4-4AB8-9305-7E8E1D60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71C-57EC-46D3-BB63-3399C2DC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96B-7FDD-4F0F-B005-B31CEB2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84A-79B1-428E-B5B7-2D7C3B7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7B3-593F-43A0-A7F8-CE819289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C11-D984-4F1C-89C2-45AC393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506-F8DE-491D-879E-929B4431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350-437F-4A2D-B1E4-B5FDCEF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E82-9E9B-4DBF-BCB1-E370A9C1578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E44C-7D95-408B-8326-83D93B9B32F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c4c3aa"/>
                </a:solidFill>
                <a:latin typeface="Arial"/>
              </a:rPr>
              <a:t>ІНФОРМАТИКА ТА КОМП</a:t>
            </a:r>
            <a:r>
              <a:rPr b="1" lang="en-US" sz="5100" spc="-1" strike="noStrike">
                <a:solidFill>
                  <a:srgbClr val="c4c3aa"/>
                </a:solidFill>
                <a:latin typeface="Arial"/>
              </a:rPr>
              <a:t>’</a:t>
            </a:r>
            <a:r>
              <a:rPr b="1" lang="uk-UA" sz="5100" spc="-1" strike="noStrike">
                <a:solidFill>
                  <a:srgbClr val="c4c3aa"/>
                </a:solidFill>
                <a:latin typeface="Arial"/>
              </a:rPr>
              <a:t>ЮТЕРНА ТЕХНІКА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ладач: доцент, к.т.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хайлуца О.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ННІ, З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4c3aa"/>
                </a:solidFill>
                <a:latin typeface="Arial"/>
              </a:rPr>
              <a:t>ОПИС КУРСУ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тою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кладання навчальної дисципліни «Інформатика та комп’ютерна техніка» є оволодіння навичками роботи на сучасній обчислювальній техніці, засвоєння основних пакетів прикладних програм, розвиток алгоритмічного мислення, оволодіння розробкою програм на алгоритмічній мові високого рівн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сновними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даннями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кладання дисципліни «Інформатика та комп’ютерна техніка» є: надання теоретичних знань з принципів роботи ЕОМ, основ алгоритмізації, основ програмування на мовах високого рівня та технології програмування, з операційних систем; набуття практичних навичок з текстової обробки інформації, з систем програмування, графічних засобів ЕОМ, основних понять сучасної технологій обробки інформації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4c3aa"/>
                </a:solidFill>
                <a:latin typeface="Arial"/>
              </a:rPr>
              <a:t>У результаті вивчення навчальної дисципліни студент повинен </a:t>
            </a:r>
            <a:r>
              <a:rPr b="1" lang="uk-UA" sz="3600" spc="-1" strike="noStrike">
                <a:solidFill>
                  <a:srgbClr val="c4c3aa"/>
                </a:solidFill>
                <a:latin typeface="Arial"/>
              </a:rPr>
              <a:t>знати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альну будову ЕОМ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начення її основних частин та периферійних пристрої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начення операційних систем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і структури, які використовуються під час розробки алгоритмі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і способи програмуванн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4c3aa"/>
                </a:solidFill>
                <a:latin typeface="Arial"/>
              </a:rPr>
              <a:t>У результаті вивчення навчальної дисципліни студент повинен </a:t>
            </a:r>
            <a:r>
              <a:rPr b="1" lang="uk-UA" sz="3600" spc="-1" strike="noStrike">
                <a:solidFill>
                  <a:srgbClr val="c4c3aa"/>
                </a:solidFill>
                <a:latin typeface="Arial"/>
              </a:rPr>
              <a:t>вміти:</a:t>
            </a:r>
            <a:endParaRPr b="0" lang="en-US" sz="3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нувати формалізацію задачі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озробляти алгоритм задачі за математичним описо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ладати програму однією з мов програму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ну з операційних систе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– два текстових редактор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з графічних редакторі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ин з спеціалізованих пакетів програ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икористовувати одне з інтегрованих середовищ програмуванн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амостійно засвоїти роботу з прикладною програмо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4c3aa"/>
                </a:solidFill>
                <a:latin typeface="Arial"/>
              </a:rPr>
              <a:t>Згідно з вимогами освітньо-професійної  програми студенти повинні досягти таких </a:t>
            </a:r>
            <a:r>
              <a:rPr b="1" lang="uk-UA" sz="3200" spc="-1" strike="noStrike">
                <a:solidFill>
                  <a:srgbClr val="c4c3aa"/>
                </a:solidFill>
                <a:latin typeface="Arial"/>
              </a:rPr>
              <a:t>компетентностей</a:t>
            </a:r>
            <a:r>
              <a:rPr b="0" lang="uk-UA" sz="3200" spc="-1" strike="noStrike">
                <a:solidFill>
                  <a:srgbClr val="c4c3a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вчитися і оволодівати сучасними знанням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застосовувати знання у практичних ситуаціях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до абстрактного мислення, аналізу та синтезу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до пошуку, оброблення та аналізу інформації з різних джерел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атність приймати обґрунтовані рішенн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5T11:12:08Z</dcterms:created>
  <dc:creator>Aspire-5740g</dc:creator>
  <dc:description/>
  <dc:language>en-US</dc:language>
  <cp:lastModifiedBy>z</cp:lastModifiedBy>
  <dcterms:modified xsi:type="dcterms:W3CDTF">2020-11-14T10:54:03Z</dcterms:modified>
  <cp:revision>3</cp:revision>
  <dc:subject/>
  <dc:title>ІНФОРМАТИКА ТА КОМП’ЮТЕРНА ТЕХНІКА</dc:title>
</cp:coreProperties>
</file>