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59B0-5FE0-45A1-A3EB-80FDAB565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215C-4298-4C39-B9BA-4F2369D18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9DFF-EA57-436E-8084-2188CA57E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33BA-242F-49F5-8F0B-237C680DA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702AD-C420-43A9-B5D5-B0351D52A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F8240-12AA-4ECA-998D-035DF95A0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E580D-ECE0-4404-8CB4-B80958BE3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5E034-0DFA-4A23-BA92-332E0F691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1DA88-231E-43C8-8FBF-42CC5D2C0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F29B4-322D-47C5-BCF0-A34C820E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A3C30-F65A-400A-994C-E73BD1E7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5D11-F85A-4ACD-BA8E-31AE0A8CF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6DDB9-DE92-4376-A760-4E697EAF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24706-6646-4BF9-806A-08BA5B6A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C3B47-84C7-4873-8F4D-665866EE0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2F53A-A857-4E9B-8A75-AECEB19B5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D80AC-E92B-4F86-8860-235920DBC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B997-3619-4758-B617-99EC31168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F582-4404-4D12-8E01-08B1174C6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4DFE-3EC8-4AAB-B537-78693779E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2506-B85F-41EB-94BE-CDCBB521D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67D3-A3E7-4051-B726-A2837CD6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7B36-4A40-4E36-9877-347C86C0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0C94-1BF0-481B-BDE8-74D6DC88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D155A-A0E1-44BF-890B-63EA2FDE3050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C373A-2883-45F1-B6ED-7713529C31B0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100" spc="-1" strike="noStrike">
                <a:solidFill>
                  <a:srgbClr val="c4c3aa"/>
                </a:solidFill>
                <a:latin typeface="Arial"/>
              </a:rPr>
              <a:t>ІНФОРМАТИКА ТА КОМП</a:t>
            </a:r>
            <a:r>
              <a:rPr b="1" lang="en-US" sz="5100" spc="-1" strike="noStrike">
                <a:solidFill>
                  <a:srgbClr val="c4c3aa"/>
                </a:solidFill>
                <a:latin typeface="Arial"/>
              </a:rPr>
              <a:t>’</a:t>
            </a:r>
            <a:r>
              <a:rPr b="1" lang="uk-UA" sz="5100" spc="-1" strike="noStrike">
                <a:solidFill>
                  <a:srgbClr val="c4c3aa"/>
                </a:solidFill>
                <a:latin typeface="Arial"/>
              </a:rPr>
              <a:t>ЮТЕРНА ТЕХНІКА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икладач: доцент, к.т.н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хайлуца О.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"/>
          <p:cNvSpPr/>
          <p:nvPr/>
        </p:nvSpPr>
        <p:spPr>
          <a:xfrm>
            <a:off x="2987640" y="55166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ІННІ, ЗН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c4c3aa"/>
                </a:solidFill>
                <a:latin typeface="Arial"/>
              </a:rPr>
              <a:t>ОПИС КУРСУ</a:t>
            </a:r>
            <a:endParaRPr b="0" lang="en-US" sz="5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Метою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икладання навчальної дисципліни «Інформатика та комп’ютерна техніка» є оволодіння навичками роботи на сучасній обчислювальній техніці, засвоєння основних пакетів прикладних програм, розвиток алгоритмічного мислення, оволодіння розробкою програм на алгоритмічній мові високого рівня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сновними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завданнями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икладання дисципліни «Інформатика та комп’ютерна техніка» є: надання теоретичних знань з принципів роботи ЕОМ, основ алгоритмізації, основ програмування на мовах високого рівня та технології програмування, з операційних систем; набуття практичних навичок з текстової обробки інформації, з систем програмування, графічних засобів ЕОМ, основних понять сучасної технологій обробки інформації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c4c3aa"/>
                </a:solidFill>
                <a:latin typeface="Arial"/>
              </a:rPr>
              <a:t>У результаті вивчення навчальної дисципліни студент повинен </a:t>
            </a:r>
            <a:r>
              <a:rPr b="1" lang="uk-UA" sz="3600" spc="-1" strike="noStrike">
                <a:solidFill>
                  <a:srgbClr val="c4c3aa"/>
                </a:solidFill>
                <a:latin typeface="Arial"/>
              </a:rPr>
              <a:t>знати:</a:t>
            </a:r>
            <a:endParaRPr b="0" lang="en-US" sz="36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гальну будову ЕОМ;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значення її основних частин та периферійних пристроїв;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значення операційних систем;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новні структури, які використовуються під час розробки алгоритмів;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новні способи програмування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c4c3aa"/>
                </a:solidFill>
                <a:latin typeface="Arial"/>
              </a:rPr>
              <a:t>У результаті вивчення навчальної дисципліни студент повинен </a:t>
            </a:r>
            <a:r>
              <a:rPr b="1" lang="uk-UA" sz="3600" spc="-1" strike="noStrike">
                <a:solidFill>
                  <a:srgbClr val="c4c3aa"/>
                </a:solidFill>
                <a:latin typeface="Arial"/>
              </a:rPr>
              <a:t>вміти:</a:t>
            </a:r>
            <a:endParaRPr b="0" lang="en-US" sz="36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иконувати формалізацію задачі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розробляти алгоритм задачі за математичним описом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кладати програму однією з мов програмування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икористовувати одну з операційних систем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икористовувати один – два текстових редактори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икористовувати один з графічних редакторів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икористовувати один з спеціалізованих пакетів програм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икористовувати одне з інтегрованих середовищ програмування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амостійно засвоїти роботу з прикладною програмою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4c3aa"/>
                </a:solidFill>
                <a:latin typeface="Arial"/>
              </a:rPr>
              <a:t>Згідно з вимогами освітньо-професійної  програми студенти повинні досягти таких </a:t>
            </a:r>
            <a:r>
              <a:rPr b="1" lang="uk-UA" sz="3200" spc="-1" strike="noStrike">
                <a:solidFill>
                  <a:srgbClr val="c4c3aa"/>
                </a:solidFill>
                <a:latin typeface="Arial"/>
              </a:rPr>
              <a:t>компетентностей</a:t>
            </a:r>
            <a:r>
              <a:rPr b="0" lang="uk-UA" sz="3200" spc="-1" strike="noStrike">
                <a:solidFill>
                  <a:srgbClr val="c4c3aa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датність вчитися і оволодівати сучасними знаннями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датність застосовувати знання у практичних ситуаціях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датність до абстрактного мислення, аналізу та синтезу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датність до пошуку, оброблення та аналізу інформації з різних джерел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датність приймати обґрунтовані рішення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9-05T11:12:08Z</dcterms:created>
  <dc:creator>Aspire-5740g</dc:creator>
  <dc:description/>
  <dc:language>en-US</dc:language>
  <cp:lastModifiedBy>z</cp:lastModifiedBy>
  <dcterms:modified xsi:type="dcterms:W3CDTF">2020-11-14T10:54:03Z</dcterms:modified>
  <cp:revision>3</cp:revision>
  <dc:subject/>
  <dc:title>ІНФОРМАТИКА ТА КОМП’ЮТЕРНА ТЕХНІКА</dc:title>
</cp:coreProperties>
</file>