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E8-8557-48B3-9A36-13BF9934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F75-7A6C-4D72-A03A-37F67C5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6F6-C3C8-4606-9232-72EB67FB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C79-B1A1-4ED4-8D72-AC9C3A07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664-5B0B-4712-B0F8-55A291C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DC0F-40C9-4CF0-89E6-220E6117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F66-97F5-4E2B-B106-640FD18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E4A4-B9EA-4B9F-873B-FDCC63B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277-A399-471F-B75F-DCFEE38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703F-6BCC-4925-81B2-D62F94D5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7BD-386A-464F-97D4-63ECB14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E24-9DC1-45DF-B90F-20175FA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41F9-A45F-4E2A-913D-DAEDC05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AB4-2DD9-4F3C-8619-1B93EC2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B63A-5E31-413F-A2A5-CDE657C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0BE8-200A-4D87-B4FC-DF1F8E6D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A2CB-4AC7-4734-8FF8-141EE5E4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1D9-1DEC-4233-BB22-67054036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301-FE90-4E94-8964-F329FDC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D73-323A-4C5E-9D24-940E4BC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8F8-6F2B-456B-A271-D14BB45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0A7-6B82-4080-947A-B67D68F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232-FB10-4ADF-B0C5-E133209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813-61C6-4750-A49D-473B2C0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D2E-A3FB-4CA0-A895-373CC2419E3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48EB-52F0-4323-8C82-151A1811C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042920" y="126828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Тема 1. Міжнародний маркетинг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Суб</a:t>
            </a:r>
            <a:r>
              <a:rPr b="1" i="1" lang="en-US" sz="36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600" spc="-1" strike="noStrike">
                <a:solidFill>
                  <a:srgbClr val="b52a13"/>
                </a:solidFill>
                <a:latin typeface="Times New Roman"/>
              </a:rPr>
              <a:t>єкти міжнародного маркетингу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експортер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ірма, яка виготовляє продукцію в якій-небудь  країні і продає її за межі цієї краї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імпортер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– фірма, яка знаходиться на території однієї країни, але яка має постачальників чи партнерів по кооперації за рубежем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а корпорація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форма структурної організації великої фірми, яка здійснює прямі інвестиції в різні країни світу; буває двох основних вид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транснаціональна корпорація (Т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однієї країни, а філії розкидані по багатьом країнам світу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1f4aa9"/>
                </a:solidFill>
                <a:latin typeface="Tahoma"/>
              </a:rPr>
              <a:t>- </a:t>
            </a:r>
            <a:r>
              <a:rPr b="0" i="1" lang="uk-UA" sz="1700" spc="-1" strike="noStrike">
                <a:solidFill>
                  <a:srgbClr val="7e7c4a"/>
                </a:solidFill>
                <a:latin typeface="Tahoma"/>
              </a:rPr>
              <a:t>багатонаціональна корпорація (БНК)</a:t>
            </a:r>
            <a:r>
              <a:rPr b="0" lang="uk-UA" sz="1700" spc="-1" strike="noStrike">
                <a:solidFill>
                  <a:srgbClr val="1f4aa9"/>
                </a:solidFill>
                <a:latin typeface="Tahoma"/>
              </a:rPr>
              <a:t> — корпорація, головна компанія якої належить капіталу двох і більше країн, а філії також розкидані по усьому світі</a:t>
            </a:r>
            <a:endParaRPr b="0" lang="en-US" sz="1700" spc="-1" strike="noStrike">
              <a:solidFill>
                <a:srgbClr val="eaeaea"/>
              </a:solidFill>
              <a:latin typeface="Tahoma"/>
            </a:endParaRPr>
          </a:p>
          <a:p>
            <a:pPr marL="343080" indent="380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посередни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21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розділи навчальної дисципліни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Теоретичні та методологічні основи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Середовище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Міжнародні маркетингові дослідження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Комплекс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Товар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Цін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Збутов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imes New Roman"/>
              </a:rPr>
              <a:t>- Комунікаційна політика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Вихід на зарубіж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5461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imes New Roman"/>
              </a:rPr>
              <a:t>Організація міжнародного маркетингу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17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7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Основні етапи еволюції стратегій поведінки підприємців на ринку: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1.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Виробнич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сер. ХІХ – поч. ХХ ст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2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Товарн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00 – 193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3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Збут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30 – 1950 рр.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4.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 Маркетингова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концепція (1950 – 1970 рр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5. Концепція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  <a:ea typeface="Times New Roman"/>
              </a:rPr>
              <a:t>соціально-етич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  <a:ea typeface="Times New Roman"/>
              </a:rPr>
              <a:t> (сер. 1970 – по цей час)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426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тановл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Визначення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ід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м маркетингом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розуміють прикладну дисципліну і практичний вид діяльності, які спрямовані на задоволення потреб споживачів за допомогою обміну між суб'єктами ринку, що знаходяться в різних державах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Міжнарод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через національні кордон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рубіжний маркетинг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– маркетинг всередині інших 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Транснаціональний (мультинаціональний) маркетинг –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координація маркетингових дій на ринках багатьох</a:t>
            </a:r>
            <a:r>
              <a:rPr b="0" lang="en-US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країн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531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б</a:t>
            </a:r>
            <a:r>
              <a:rPr b="1" i="1" lang="en-US" sz="3200" spc="-1" strike="noStrike">
                <a:solidFill>
                  <a:srgbClr val="b52a13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єкт та предмет </a:t>
            </a:r>
            <a:br>
              <a:rPr sz="3200"/>
            </a:b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Об'єктом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виступають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закордонні ринки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aa9"/>
                </a:solidFill>
                <a:latin typeface="Tahoma"/>
              </a:rPr>
              <a:t>Предмет міжнародного маркетингу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іввідношення попиту і пропозиції на закордонних ринках, їхня кон</a:t>
            </a:r>
            <a:r>
              <a:rPr b="0" lang="en-US" sz="2800" spc="-1" strike="noStrike">
                <a:solidFill>
                  <a:srgbClr val="7e7c4a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юнктура,</a:t>
            </a: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1f4aa9"/>
                </a:solidFill>
                <a:latin typeface="Tahoma"/>
              </a:rPr>
              <a:t>а також </a:t>
            </a:r>
            <a:r>
              <a:rPr b="0" lang="uk-UA" sz="2800" spc="-1" strike="noStrike">
                <a:solidFill>
                  <a:srgbClr val="7e7c4a"/>
                </a:solidFill>
                <a:latin typeface="Tahoma"/>
              </a:rPr>
              <a:t>способи формування попиту на закордонних ринках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етод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Системний підхід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Економіко-математичні методи обробки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експертних оцінок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469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aa9"/>
                </a:solidFill>
                <a:latin typeface="Tahoma"/>
              </a:rPr>
              <a:t>Методи збору первинної маркетингової інформації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Спостереже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Опитування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aa9"/>
                </a:solidFill>
                <a:latin typeface="Tahoma"/>
              </a:rPr>
              <a:t>- Експеримент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Сутність і принципи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ahoma"/>
              </a:rPr>
              <a:t>Сутність міжнародного маркетинг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як і маркетингу в цілому, полягає в наступному: виробляти і пропонувати ринку (у даному випадку — зовнішньому ринку) тільки те, що безумовно знайде споживача і буде продано, а не намагатися нав'язати покупцю попередньо не погоджену продукцію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     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Із сутності маркетингу випливають основн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принцип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а саме: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Націленість на досягнення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інцевого практичного результату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— одержання підприємцем певної вигоди (прибутку) при одночасному якісному задоволенні потреб споживачів.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Спрямованість підприємства на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довгостроковий 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результат маркетингової діяльності. Це вимагає особливої уваги до прогнозних досліджень, розробці на їхній основі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товарів ринкової новизни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забезпечують високоприбуткову господарську діяльність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-341280">
              <a:lnSpc>
                <a:spcPct val="80000"/>
              </a:lnSpc>
              <a:spcBef>
                <a:spcPts val="400"/>
              </a:spcBef>
              <a:buClr>
                <a:srgbClr val="1f4aa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Застосування в єдності і взаємозв'язку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тратегії і тактики активного пристосування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вимог потенційних покупців з одночасним цілеспрямованим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впливом на них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4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Комплексний підхід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до досягнення поставлених цілей (комплекс маркетингу — взаємопов`язані товарна, цінова, збутова і комунікаційна стратегії міжнародного маркетингу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5.</a:t>
            </a:r>
            <a:r>
              <a:rPr b="1" i="1" lang="uk-UA" sz="1600" spc="-1" strike="noStrike">
                <a:solidFill>
                  <a:srgbClr val="1f4aa9"/>
                </a:solidFill>
                <a:latin typeface="Tahoma"/>
              </a:rPr>
              <a:t> 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Швидка і чітка реакція на поточні зміни зовнішнього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 стосовно організації </a:t>
            </a:r>
            <a:r>
              <a:rPr b="1" i="1" lang="uk-UA" sz="1600" spc="-1" strike="noStrike">
                <a:solidFill>
                  <a:srgbClr val="1c1c1c"/>
                </a:solidFill>
                <a:latin typeface="Tahoma"/>
              </a:rPr>
              <a:t>середовища</a:t>
            </a:r>
            <a:r>
              <a:rPr b="1" lang="uk-UA" sz="1600" spc="-1" strike="noStrike">
                <a:solidFill>
                  <a:srgbClr val="1f4aa9"/>
                </a:solidFill>
                <a:latin typeface="Tahoma"/>
              </a:rPr>
              <a:t>, що складають споживачі, постачальники, посередники, конкуренти, контактні аудиторії; економічні, політико-правові, соціокультурні фактори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511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Задачі 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одержання надійної, достовірної і своєчасної інформації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про зовнішні ринки, структуру і динаміку конкретного попиту, смаки і переваги покупців, тобто інформації про зовнішні умови функціонування фірм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створення такого товар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чи набору товарів (асортименту),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що більш повно задовольняє вимоги світового ринку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, аніж товари конкурент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еобхідний </a:t>
            </a: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плив на споживача, на попит, на ринок</a:t>
            </a:r>
            <a:r>
              <a:rPr b="0" lang="uk-UA" sz="2000" spc="-1" strike="noStrike">
                <a:solidFill>
                  <a:srgbClr val="7e7c4a"/>
                </a:solidFill>
                <a:latin typeface="Tahoma"/>
              </a:rPr>
              <a:t>,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що забезпечує максимально можливий контроль сфери реалізації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абезпечення перспективи розвитку міжнародного бізнесу</a:t>
            </a:r>
            <a:r>
              <a:rPr b="0" i="1" lang="uk-UA" sz="2000" spc="-1" strike="noStrike">
                <a:solidFill>
                  <a:srgbClr val="1f4aa9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на основі прогнозування потреб потенційних покупців та задоволення цих потреб шляхом пропозиції більш конкурентноспроможних товарів, послуг, технологій, ідей, організацій, людей, місць і т. ін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Основні функції</a:t>
            </a:r>
            <a:r>
              <a:rPr b="0" i="1" lang="uk-UA" sz="2800" spc="-1" strike="noStrike">
                <a:solidFill>
                  <a:srgbClr val="b52a13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аналітичн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збір і обробка надійної, достовірної і своєчасної інформації про міжнародні ринки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виробнич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виробництва такого товару, що найбільш точно відповідає умовам зовнішнього ринку в порівнянні з товарами-аналогами інших виробників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збутов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організація просування товару по міжнародних каналах розподілу, формування попиту на нього і стимулювання збуту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7e7c4a"/>
                </a:solidFill>
                <a:latin typeface="Tahoma"/>
              </a:rPr>
              <a:t>управлінська</a:t>
            </a:r>
            <a:r>
              <a:rPr b="0" lang="uk-UA" sz="2000" spc="-1" strike="noStrike">
                <a:solidFill>
                  <a:srgbClr val="1f4aa9"/>
                </a:solidFill>
                <a:latin typeface="Tahoma"/>
              </a:rPr>
              <a:t> — планування, інформаційне забезпечення і контроль заходів маркетингу, націленого на зовнішні ринки, з оцінкою ризику, прибутку, ефективності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5" name="explod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04:26Z</dcterms:modified>
  <cp:revision>403</cp:revision>
  <dc:subject>Conference</dc:subject>
  <dc:title>Duk N., Dnipropetrovs’k national university </dc:title>
</cp:coreProperties>
</file>