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B1F8-64C5-4B13-BF26-6E27A82B4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590F-CC0D-4971-BA0A-637FBE96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A80A-2803-448F-8A5C-6DB0FFF9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EC71-ACBE-4228-9E1A-E0F31EC2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BC50-F6E4-46B8-AD26-73DE4DA82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D50D-9A12-4DCD-96C9-53ADFB47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FCBD-8502-43AE-86EB-201DE6A3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CA57-7F1D-49D1-B65C-A6A8E170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1E58-FFB8-4CD4-993F-BE033483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40FC-45E7-4950-B170-F7280160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E5D8-EA64-4712-AEA6-4489C373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52A2-B292-43AC-83C1-150FC961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BCC0-B5CF-45C3-9DE5-8F5909AD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D74E-B8DE-413A-8CA9-A198E2DE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64D0-8E01-45ED-8A16-0C0BAC7D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FE7F-DF2F-42BC-8976-9B1B5C20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53C0-2BA2-4E2F-8380-AA737487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772E-00B1-4D86-A5F8-B8EDD9A7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CF28-752E-44DA-9009-4E042AC6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919C-4446-48A7-9DD7-064D3D92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C276-BC47-45F4-AE54-50306861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D796-63C1-4098-9FC0-689B2749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E8D6-C06C-4F50-B3A1-7B902E44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0C42-2645-4F0F-9DD2-2185B591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9493-E8F7-4274-ADD2-1F1B9AF6A5F4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51AA-82D1-40FB-8C70-583B8E8063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WordArt 6"/>
          <p:cNvSpPr txBox="1"/>
          <p:nvPr/>
        </p:nvSpPr>
        <p:spPr>
          <a:xfrm>
            <a:off x="1042920" y="1268280"/>
            <a:ext cx="7632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Тема 1. Міжнародний маркетинг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7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b52a13"/>
                </a:solidFill>
                <a:latin typeface="Times New Roman"/>
              </a:rPr>
              <a:t>Суб</a:t>
            </a:r>
            <a:r>
              <a:rPr b="1" i="1" lang="en-US" sz="36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3600" spc="-1" strike="noStrike">
                <a:solidFill>
                  <a:srgbClr val="b52a13"/>
                </a:solidFill>
                <a:latin typeface="Times New Roman"/>
              </a:rPr>
              <a:t>єкти міжнародного маркетингу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експортер</a:t>
            </a:r>
            <a:r>
              <a:rPr b="0" lang="uk-UA" sz="2000" spc="-1" strike="noStrike">
                <a:solidFill>
                  <a:srgbClr val="7e7c4a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фірма, яка виготовляє продукцію в якій-небудь  країні і продає її за межі цієї країн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імпортер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– фірма, яка знаходиться на території однієї країни, але яка має постачальників чи партнерів по кооперації за рубежем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а корпорація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форма структурної організації великої фірми, яка здійснює прямі інвестиції в різні країни світу; буває двох основних вид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1f4aa9"/>
                </a:solidFill>
                <a:latin typeface="Tahoma"/>
              </a:rPr>
              <a:t>- </a:t>
            </a:r>
            <a:r>
              <a:rPr b="0" i="1" lang="uk-UA" sz="1700" spc="-1" strike="noStrike">
                <a:solidFill>
                  <a:srgbClr val="7e7c4a"/>
                </a:solidFill>
                <a:latin typeface="Tahoma"/>
              </a:rPr>
              <a:t>транснаціональна корпорація (ТНК)</a:t>
            </a:r>
            <a:r>
              <a:rPr b="0" lang="uk-UA" sz="1700" spc="-1" strike="noStrike">
                <a:solidFill>
                  <a:srgbClr val="1f4aa9"/>
                </a:solidFill>
                <a:latin typeface="Tahoma"/>
              </a:rPr>
              <a:t> — корпорація, головна компанія якої належить капіталу однієї країни, а філії розкидані по багатьом країнам світу</a:t>
            </a:r>
            <a:endParaRPr b="0" lang="en-US" sz="17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1f4aa9"/>
                </a:solidFill>
                <a:latin typeface="Tahoma"/>
              </a:rPr>
              <a:t>- </a:t>
            </a:r>
            <a:r>
              <a:rPr b="0" i="1" lang="uk-UA" sz="1700" spc="-1" strike="noStrike">
                <a:solidFill>
                  <a:srgbClr val="7e7c4a"/>
                </a:solidFill>
                <a:latin typeface="Tahoma"/>
              </a:rPr>
              <a:t>багатонаціональна корпорація (БНК)</a:t>
            </a:r>
            <a:r>
              <a:rPr b="0" lang="uk-UA" sz="1700" spc="-1" strike="noStrike">
                <a:solidFill>
                  <a:srgbClr val="1f4aa9"/>
                </a:solidFill>
                <a:latin typeface="Tahoma"/>
              </a:rPr>
              <a:t> — корпорація, головна компанія якої належить капіталу двох і більше країн, а філії також розкидані по усьому світі</a:t>
            </a:r>
            <a:endParaRPr b="0" lang="en-US" sz="17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посередник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213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сновні розділи навчальної дисципліни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Теоретичні та методологічні основи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Середовище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Міжнародні маркетингові дослідження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Комплекс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Товарн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Цінов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Збутов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Комунікаційн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Вихід на зарубіжні ринки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Організація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7" name="explod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6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Основні етапи еволюції стратегій поведінки підприємців на ринку: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1.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Виробнич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сер. ХІХ – поч. ХХ ст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2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Товарн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00 – 1930 рр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3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Збутов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30 – 1950 рр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4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Маркетингов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50 – 1970 рр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5. Концепція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соціально-етич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(сер. 1970 – по цей час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246240" y="92988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Становлення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Визначення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Під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им маркетингом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розуміють прикладну дисципліну і практичний вид діяльності, які спрямовані на задоволення потреб споживачів за допомогою обміну між суб'єктами ринку, що знаходяться в різних державах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ий маркетинг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маркетинг через національні кордон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арубіжний маркетинг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маркетинг всередині інших країн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Транснаціональний (мультинаціональний) маркетинг –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координація маркетингових дій на ринках багатьох</a:t>
            </a:r>
            <a:r>
              <a:rPr b="0" lang="en-US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країн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б</a:t>
            </a:r>
            <a:r>
              <a:rPr b="1" i="1" lang="en-US" sz="32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єкт та предмет </a:t>
            </a:r>
            <a:br>
              <a:rPr sz="3200"/>
            </a:b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aa9"/>
                </a:solidFill>
                <a:latin typeface="Tahoma"/>
              </a:rPr>
              <a:t>Об'єктом міжнарод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виступають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закордонні ринки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aa9"/>
                </a:solidFill>
                <a:latin typeface="Tahoma"/>
              </a:rPr>
              <a:t>Предмет міжнарод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—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співвідношення попиту і пропозиції на закордонних ринках, їхня кон</a:t>
            </a:r>
            <a:r>
              <a:rPr b="0" lang="en-US" sz="2800" spc="-1" strike="noStrike">
                <a:solidFill>
                  <a:srgbClr val="7e7c4a"/>
                </a:solidFill>
                <a:latin typeface="Tahoma"/>
              </a:rPr>
              <a:t>’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юнктура,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</a:t>
            </a:r>
            <a:br>
              <a:rPr sz="2800"/>
            </a:b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а також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способи формування попиту на закордонних ринках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етоди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Системний підхід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Економіко-математичні методи обробки маркетингової інформації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Методи експертних оцінок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Методи збору первинної маркетингової інформації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Спостереження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Опитування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Експеримент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929880"/>
            <a:ext cx="91440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Сутність і принципи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ahoma"/>
              </a:rPr>
              <a:t>Сутність міжнародного маркетингу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як і маркетингу в цілому, полягає в наступному: виробляти і пропонувати ринку (у даному випадку — зовнішньому ринку) тільки те, що безумовно знайде споживача і буде продано, а не намагатися нав'язати покупцю попередньо не погоджену продукцію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      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Із сутності маркетингу випливають основні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принципи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а саме: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Націленість на досягнення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кінцевого практичного результату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— одержання підприємцем певної вигоди (прибутку) при одночасному якісному задоволенні потреб споживачів. 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Спрямованість підприємства на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довгостроковий 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результат маркетингової діяльності. Це вимагає особливої уваги до прогнозних досліджень, розробці на їхній основі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товарів ринкової новизни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що забезпечують високоприбуткову господарську діяльність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Застосування в єдності і взаємозв'язку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стратегії і тактики активного пристосування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до вимог потенційних покупців з одночасним цілеспрямованим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впливом на них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4.</a:t>
            </a:r>
            <a:r>
              <a:rPr b="1" i="1" lang="uk-UA" sz="1600" spc="-1" strike="noStrike">
                <a:solidFill>
                  <a:srgbClr val="1f4aa9"/>
                </a:solidFill>
                <a:latin typeface="Tahoma"/>
              </a:rPr>
              <a:t> 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Комплексний підхід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до досягнення поставлених цілей (комплекс маркетингу — взаємопов`язані товарна, цінова, збутова і комунікаційна стратегії міжнародного маркетингу)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5.</a:t>
            </a:r>
            <a:r>
              <a:rPr b="1" i="1" lang="uk-UA" sz="1600" spc="-1" strike="noStrike">
                <a:solidFill>
                  <a:srgbClr val="1f4aa9"/>
                </a:solidFill>
                <a:latin typeface="Tahoma"/>
              </a:rPr>
              <a:t> 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Швидка і чітка реакція на поточні зміни зовнішнього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стосовно організації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середовища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що складають споживачі, постачальники, посередники, конкуренти, контактні аудиторії; економічні, політико-правові, соціокультурні фактори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Задачі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одержання надійної, достовірної і своєчасної інформації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про зовнішні ринки, структуру і динаміку конкретного попиту, смаки і переваги покупців, тобто інформації про зовнішні умови функціонування фірм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створення такого товару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чи набору товарів (асортименту),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що більш повно задовольняє вимоги світового ринку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, аніж товари конкурент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необхідний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вплив на споживача, на попит, на ринок</a:t>
            </a:r>
            <a:r>
              <a:rPr b="0" lang="uk-UA" sz="2000" spc="-1" strike="noStrike">
                <a:solidFill>
                  <a:srgbClr val="7e7c4a"/>
                </a:solidFill>
                <a:latin typeface="Tahoma"/>
              </a:rPr>
              <a:t>,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що забезпечує максимально можливий контроль сфери реалізації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абезпечення перспективи розвитку міжнародного бізнесу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на основі прогнозування потреб потенційних покупців та задоволення цих потреб шляхом пропозиції більш конкурентноспроможних товарів, послуг, технологій, ідей, організацій, людей, місць і т. ін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сновні функції</a:t>
            </a:r>
            <a:r>
              <a:rPr b="0" i="1" lang="uk-UA" sz="2800" spc="-1" strike="noStrike">
                <a:solidFill>
                  <a:srgbClr val="b52a13"/>
                </a:solidFill>
                <a:latin typeface="Times New Roman"/>
              </a:rPr>
              <a:t> </a:t>
            </a: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аналітичн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збір і обробка надійної, достовірної і своєчасної інформації про міжнародні ринк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виробнич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організація виробництва такого товару, що найбільш точно відповідає умовам зовнішнього ринку в порівнянні з товарами-аналогами інших виробник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бутов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організація просування товару по міжнародних каналах розподілу, формування попиту на нього і стимулювання збуту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управлінськ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планування, інформаційне забезпечення і контроль заходів маркетингу, націленого на зовнішні ринки, з оцінкою ризику, прибутку, ефективності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04:26Z</dcterms:modified>
  <cp:revision>403</cp:revision>
  <dc:subject>Conference</dc:subject>
  <dc:title>Duk N., Dnipropetrovs’k national university </dc:title>
</cp:coreProperties>
</file>