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explod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B8F3-55C3-4AB5-AD66-A60125AD3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548F-10A0-4025-BB0F-705F7D690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883C-DD93-43B8-AD46-C72178F52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D96D-E935-4E12-A5BB-27F65FFA7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435BB-467E-4CD7-AFEB-555BF86FB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710C4-F4BD-4B88-BF57-C74B1F059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C88E5-72CE-4C83-9464-CA84E1F21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1BF33-A7FA-4F71-B776-C15C56B1E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7C7E5-02D8-4599-B903-CF4D8D8CB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45F74-CD2B-4DA2-88E7-6816DC204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8C34B-194F-4E84-9241-72BE0CBA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C3DD-A965-4295-A9AF-4FEA69AD9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9C21F-BBF8-4BE3-9D89-92AECCEC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DF21D-053F-4960-99C4-FF8DB793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74885-651E-4601-8987-BD5E5BAC6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5419F-EFB9-4B28-85A6-AA13A5205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54C22-93D2-4D78-B905-FC2A8B9C1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1483-F319-4A48-88B1-3923701A0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66FF-4CD0-4F13-BCB0-817532D06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8110-6F90-4BD8-BC5A-BFBD1A38A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823F-274F-432A-85AF-0DD2A6A78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3644-BFC9-4DB9-B811-A57474864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BDB2-1871-4580-ABBB-0A310A4D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2667-373D-4C3D-8F75-C1C630E9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5DE13-CACE-45D0-BA75-8FA33D85A899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prstGeom prst="pie">
                <a:avLst/>
              </a:prstGeom>
              <a:solidFill>
                <a:srgbClr val="93acc3"/>
              </a:solidFill>
              <a:ln w="9360">
                <a:solidFill>
                  <a:srgbClr val="1b375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earth"/>
            <p:cNvPicPr/>
            <p:nvPr/>
          </p:nvPicPr>
          <p:blipFill>
            <a:blip r:embed="rId5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195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96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197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prstGeom prst="pie">
                <a:avLst/>
              </a:pr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198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199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56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268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Picture 91" descr="earth"/>
            <p:cNvPicPr/>
            <p:nvPr/>
          </p:nvPicPr>
          <p:blipFill>
            <a:blip r:embed="rId3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42225-A216-4DB7-B4CB-73EBD73672A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WordArt 6"/>
          <p:cNvSpPr txBox="1"/>
          <p:nvPr/>
        </p:nvSpPr>
        <p:spPr>
          <a:xfrm>
            <a:off x="1042920" y="1268280"/>
            <a:ext cx="763272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Тема 1. Міжнародний маркетинг</a:t>
            </a:r>
            <a:endParaRPr b="0" i="1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57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b52a13"/>
                </a:solidFill>
                <a:latin typeface="Times New Roman"/>
              </a:rPr>
              <a:t>Суб</a:t>
            </a:r>
            <a:r>
              <a:rPr b="1" i="1" lang="en-US" sz="3600" spc="-1" strike="noStrike">
                <a:solidFill>
                  <a:srgbClr val="b52a13"/>
                </a:solidFill>
                <a:latin typeface="Times New Roman"/>
              </a:rPr>
              <a:t>’</a:t>
            </a:r>
            <a:r>
              <a:rPr b="1" i="1" lang="uk-UA" sz="3600" spc="-1" strike="noStrike">
                <a:solidFill>
                  <a:srgbClr val="b52a13"/>
                </a:solidFill>
                <a:latin typeface="Times New Roman"/>
              </a:rPr>
              <a:t>єкти міжнародного маркетингу</a:t>
            </a:r>
            <a:endParaRPr b="0" i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808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експортер</a:t>
            </a:r>
            <a:r>
              <a:rPr b="0" lang="uk-UA" sz="2000" spc="-1" strike="noStrike">
                <a:solidFill>
                  <a:srgbClr val="7e7c4a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– фірма, яка виготовляє продукцію в якій-небудь  країні і продає її за межі цієї країни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3808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імпортер</a:t>
            </a:r>
            <a:r>
              <a:rPr b="0" i="1" lang="uk-UA" sz="2000" spc="-1" strike="noStrike">
                <a:solidFill>
                  <a:srgbClr val="1f4aa9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– фірма, яка знаходиться на території однієї країни, але яка має постачальників чи партнерів по кооперації за рубежем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3808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міжнародна корпорація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– форма структурної організації великої фірми, яка здійснює прямі інвестиції в різні країни світу; буває двох основних видів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1f4aa9"/>
                </a:solidFill>
                <a:latin typeface="Tahoma"/>
              </a:rPr>
              <a:t>- </a:t>
            </a:r>
            <a:r>
              <a:rPr b="0" i="1" lang="uk-UA" sz="1700" spc="-1" strike="noStrike">
                <a:solidFill>
                  <a:srgbClr val="7e7c4a"/>
                </a:solidFill>
                <a:latin typeface="Tahoma"/>
              </a:rPr>
              <a:t>транснаціональна корпорація (ТНК)</a:t>
            </a:r>
            <a:r>
              <a:rPr b="0" lang="uk-UA" sz="1700" spc="-1" strike="noStrike">
                <a:solidFill>
                  <a:srgbClr val="1f4aa9"/>
                </a:solidFill>
                <a:latin typeface="Tahoma"/>
              </a:rPr>
              <a:t> — корпорація, головна компанія якої належить капіталу однієї країни, а філії розкидані по багатьом країнам світу</a:t>
            </a:r>
            <a:endParaRPr b="0" lang="en-US" sz="17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1f4aa9"/>
                </a:solidFill>
                <a:latin typeface="Tahoma"/>
              </a:rPr>
              <a:t>- </a:t>
            </a:r>
            <a:r>
              <a:rPr b="0" i="1" lang="uk-UA" sz="1700" spc="-1" strike="noStrike">
                <a:solidFill>
                  <a:srgbClr val="7e7c4a"/>
                </a:solidFill>
                <a:latin typeface="Tahoma"/>
              </a:rPr>
              <a:t>багатонаціональна корпорація (БНК)</a:t>
            </a:r>
            <a:r>
              <a:rPr b="0" lang="uk-UA" sz="1700" spc="-1" strike="noStrike">
                <a:solidFill>
                  <a:srgbClr val="1f4aa9"/>
                </a:solidFill>
                <a:latin typeface="Tahoma"/>
              </a:rPr>
              <a:t> — корпорація, головна компанія якої належить капіталу двох і більше країн, а філії також розкидані по усьому світі</a:t>
            </a:r>
            <a:endParaRPr b="0" lang="en-US" sz="1700" spc="-1" strike="noStrike">
              <a:solidFill>
                <a:srgbClr val="eaeaea"/>
              </a:solidFill>
              <a:latin typeface="Tahoma"/>
            </a:endParaRPr>
          </a:p>
          <a:p>
            <a:pPr marL="343080" indent="3808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посередники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5" name="explode.wav"/>
      </p:stSnd>
    </p:sndAc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213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Основні розділи навчальної дисципліни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7772400" cy="44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5461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imes New Roman"/>
              </a:rPr>
              <a:t>Теоретичні та методологічні основи міжнародного маркетингу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5461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imes New Roman"/>
              </a:rPr>
              <a:t>Середовище міжнародного маркетингу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5461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imes New Roman"/>
              </a:rPr>
              <a:t>Міжнародні маркетингові дослідження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5461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imes New Roman"/>
              </a:rPr>
              <a:t>Комплекс міжнародного маркетингу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imes New Roman"/>
              </a:rPr>
              <a:t>- Товарна політика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17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imes New Roman"/>
              </a:rPr>
              <a:t>- Цінова політика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17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imes New Roman"/>
              </a:rPr>
              <a:t>- Збутова політика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17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imes New Roman"/>
              </a:rPr>
              <a:t>- Комунікаційна політика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177840" indent="5461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imes New Roman"/>
              </a:rPr>
              <a:t>Вихід на зарубіжні ринки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5461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imes New Roman"/>
              </a:rPr>
              <a:t>Організація міжнародного маркетингу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7" name="explod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266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Основні етапи еволюції стратегій поведінки підприємців на ринку: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1. 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  <a:ea typeface="Times New Roman"/>
              </a:rPr>
              <a:t>Виробнича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 концепція (сер. ХІХ – поч. ХХ ст.).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2.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  <a:ea typeface="Times New Roman"/>
              </a:rPr>
              <a:t> Товарна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 концепція (1900 – 1930 рр.).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3.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  <a:ea typeface="Times New Roman"/>
              </a:rPr>
              <a:t> Збутова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 концепція (1930 – 1950 рр.).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4.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  <a:ea typeface="Times New Roman"/>
              </a:rPr>
              <a:t> Маркетингова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 концепція (1950 – 1970 рр).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5. Концепція 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  <a:ea typeface="Times New Roman"/>
              </a:rPr>
              <a:t>соціально-етичного маркетингу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 (сер. 1970 – по цей час).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title"/>
          </p:nvPr>
        </p:nvSpPr>
        <p:spPr>
          <a:xfrm>
            <a:off x="246240" y="929880"/>
            <a:ext cx="8286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Становлення 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Визначення 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31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Під </a:t>
            </a: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міжнародним маркетингом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розуміють прикладну дисципліну і практичний вид діяльності, які спрямовані на задоволення потреб споживачів за допомогою обміну між суб'єктами ринку, що знаходяться в різних державах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Міжнародний маркетинг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– маркетинг через національні кордони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Зарубіжний маркетинг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– маркетинг всередині інших країн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Транснаціональний (мультинаціональний) маркетинг –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координація маркетингових дій на ринках багатьох</a:t>
            </a:r>
            <a:r>
              <a:rPr b="0" lang="en-US" sz="2000" spc="-1" strike="noStrike">
                <a:solidFill>
                  <a:srgbClr val="1f4aa9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країн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Об</a:t>
            </a:r>
            <a:r>
              <a:rPr b="1" i="1" lang="en-US" sz="3200" spc="-1" strike="noStrike">
                <a:solidFill>
                  <a:srgbClr val="b52a13"/>
                </a:solidFill>
                <a:latin typeface="Times New Roman"/>
              </a:rPr>
              <a:t>’</a:t>
            </a: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єкт та предмет </a:t>
            </a:r>
            <a:br>
              <a:rPr sz="3200"/>
            </a:b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aa9"/>
                </a:solidFill>
                <a:latin typeface="Tahoma"/>
              </a:rPr>
              <a:t>Об'єктом міжнародного маркетингу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</a:rPr>
              <a:t> виступають 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</a:rPr>
              <a:t>закордонні ринки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aa9"/>
                </a:solidFill>
                <a:latin typeface="Tahoma"/>
              </a:rPr>
              <a:t>Предмет міжнародного маркетингу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</a:rPr>
              <a:t> — 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</a:rPr>
              <a:t>співвідношення попиту і пропозиції на закордонних ринках, їхня кон</a:t>
            </a:r>
            <a:r>
              <a:rPr b="0" lang="en-US" sz="2800" spc="-1" strike="noStrike">
                <a:solidFill>
                  <a:srgbClr val="7e7c4a"/>
                </a:solidFill>
                <a:latin typeface="Tahoma"/>
              </a:rPr>
              <a:t>’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</a:rPr>
              <a:t>юнктура,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</a:rPr>
              <a:t> </a:t>
            </a:r>
            <a:br>
              <a:rPr sz="2800"/>
            </a:br>
            <a:r>
              <a:rPr b="0" lang="uk-UA" sz="2800" spc="-1" strike="noStrike">
                <a:solidFill>
                  <a:srgbClr val="1f4aa9"/>
                </a:solidFill>
                <a:latin typeface="Tahoma"/>
              </a:rPr>
              <a:t>а також 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</a:rPr>
              <a:t>способи формування попиту на закордонних ринках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Методи 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698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f4aa9"/>
                </a:solidFill>
                <a:latin typeface="Tahoma"/>
              </a:rPr>
              <a:t>Системний підхід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4698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f4aa9"/>
                </a:solidFill>
                <a:latin typeface="Tahoma"/>
              </a:rPr>
              <a:t>Економіко-математичні методи обробки маркетингової інформації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4698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f4aa9"/>
                </a:solidFill>
                <a:latin typeface="Tahoma"/>
              </a:rPr>
              <a:t>Методи експертних оцінок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4698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f4aa9"/>
                </a:solidFill>
                <a:latin typeface="Tahoma"/>
              </a:rPr>
              <a:t>Методи збору первинної маркетингової інформації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ahoma"/>
              </a:rPr>
              <a:t>- Спостереження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ahoma"/>
              </a:rPr>
              <a:t>- Опитування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ahoma"/>
              </a:rPr>
              <a:t>- Експеримент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5" name="explod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0" y="929880"/>
            <a:ext cx="9144000" cy="4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Сутність і принципи 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7724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ahoma"/>
              </a:rPr>
              <a:t>Сутність міжнародного маркетингу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, як і маркетингу в цілому, полягає в наступному: виробляти і пропонувати ринку (у даному випадку — зовнішньому ринку) тільки те, що безумовно знайде споживача і буде продано, а не намагатися нав'язати покупцю попередньо не погоджену продукцію.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       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Із сутності маркетингу випливають основні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принципи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, а саме: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-341280">
              <a:lnSpc>
                <a:spcPct val="80000"/>
              </a:lnSpc>
              <a:spcBef>
                <a:spcPts val="400"/>
              </a:spcBef>
              <a:buClr>
                <a:srgbClr val="1f4aa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Націленість на досягнення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кінцевого практичного результату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 — одержання підприємцем певної вигоди (прибутку) при одночасному якісному задоволенні потреб споживачів. 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-341280">
              <a:lnSpc>
                <a:spcPct val="80000"/>
              </a:lnSpc>
              <a:spcBef>
                <a:spcPts val="400"/>
              </a:spcBef>
              <a:buClr>
                <a:srgbClr val="1f4aa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Спрямованість підприємства на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довгостроковий 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результат маркетингової діяльності. Це вимагає особливої уваги до прогнозних досліджень, розробці на їхній основі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товарів ринкової новизни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, що забезпечують високоприбуткову господарську діяльність.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-341280">
              <a:lnSpc>
                <a:spcPct val="80000"/>
              </a:lnSpc>
              <a:spcBef>
                <a:spcPts val="400"/>
              </a:spcBef>
              <a:buClr>
                <a:srgbClr val="1f4aa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Застосування в єдності і взаємозв'язку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стратегії і тактики активного пристосування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 до вимог потенційних покупців з одночасним цілеспрямованим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впливом на них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4.</a:t>
            </a:r>
            <a:r>
              <a:rPr b="1" i="1" lang="uk-UA" sz="1600" spc="-1" strike="noStrike">
                <a:solidFill>
                  <a:srgbClr val="1f4aa9"/>
                </a:solidFill>
                <a:latin typeface="Tahoma"/>
              </a:rPr>
              <a:t> 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Комплексний підхід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 до досягнення поставлених цілей (комплекс маркетингу — взаємопов`язані товарна, цінова, збутова і комунікаційна стратегії міжнародного маркетингу).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5.</a:t>
            </a:r>
            <a:r>
              <a:rPr b="1" i="1" lang="uk-UA" sz="1600" spc="-1" strike="noStrike">
                <a:solidFill>
                  <a:srgbClr val="1f4aa9"/>
                </a:solidFill>
                <a:latin typeface="Tahoma"/>
              </a:rPr>
              <a:t> 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Швидка і чітка реакція на поточні зміни зовнішнього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 стосовно організації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середовища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, що складають споживачі, постачальники, посередники, конкуренти, контактні аудиторії; економічні, політико-правові, соціокультурні фактори.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4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Задачі 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одержання надійної, достовірної і своєчасної інформації</a:t>
            </a:r>
            <a:r>
              <a:rPr b="0" i="1" lang="uk-UA" sz="2000" spc="-1" strike="noStrike">
                <a:solidFill>
                  <a:srgbClr val="1f4aa9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про зовнішні ринки, структуру і динаміку конкретного попиту, смаки і переваги покупців, тобто інформації про зовнішні умови функціонування фірми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створення такого товару</a:t>
            </a:r>
            <a:r>
              <a:rPr b="0" i="1" lang="uk-UA" sz="2000" spc="-1" strike="noStrike">
                <a:solidFill>
                  <a:srgbClr val="1f4aa9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чи набору товарів (асортименту), </a:t>
            </a: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що більш повно задовольняє вимоги світового ринку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, аніж товари конкурентів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необхідний </a:t>
            </a: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вплив на споживача, на попит, на ринок</a:t>
            </a:r>
            <a:r>
              <a:rPr b="0" lang="uk-UA" sz="2000" spc="-1" strike="noStrike">
                <a:solidFill>
                  <a:srgbClr val="7e7c4a"/>
                </a:solidFill>
                <a:latin typeface="Tahoma"/>
              </a:rPr>
              <a:t>,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що забезпечує максимально можливий контроль сфери реалізації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забезпечення перспективи розвитку міжнародного бізнесу</a:t>
            </a:r>
            <a:r>
              <a:rPr b="0" i="1" lang="uk-UA" sz="2000" spc="-1" strike="noStrike">
                <a:solidFill>
                  <a:srgbClr val="1f4aa9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на основі прогнозування потреб потенційних покупців та задоволення цих потреб шляхом пропозиції більш конкурентноспроможних товарів, послуг, технологій, ідей, організацій, людей, місць і т. ін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5" name="explode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50920" y="907560"/>
            <a:ext cx="871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Основні функції</a:t>
            </a:r>
            <a:r>
              <a:rPr b="0" i="1" lang="uk-UA" sz="2800" spc="-1" strike="noStrike">
                <a:solidFill>
                  <a:srgbClr val="b52a13"/>
                </a:solidFill>
                <a:latin typeface="Times New Roman"/>
              </a:rPr>
              <a:t> </a:t>
            </a: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84464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аналітична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— збір і обробка надійної, достовірної і своєчасної інформації про міжнародні ринки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виробнича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— організація виробництва такого товару, що найбільш точно відповідає умовам зовнішнього ринку в порівнянні з товарами-аналогами інших виробників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збутова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— організація просування товару по міжнародних каналах розподілу, формування попиту на нього і стимулювання збуту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управлінська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— планування, інформаційне забезпечення і контроль заходів маркетингу, націленого на зовнішні ринки, з оцінкою ризику, прибутку, ефективності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5" name="explode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5:54:34Z</dcterms:created>
  <dc:creator>Duk, Soumatokhina</dc:creator>
  <dc:description/>
  <dc:language>en-US</dc:language>
  <cp:lastModifiedBy>Windows 7</cp:lastModifiedBy>
  <dcterms:modified xsi:type="dcterms:W3CDTF">2020-09-05T15:04:26Z</dcterms:modified>
  <cp:revision>403</cp:revision>
  <dc:subject>Conference</dc:subject>
  <dc:title>Duk N., Dnipropetrovs’k national university </dc:title>
</cp:coreProperties>
</file>