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9298-8E5F-4420-80B2-2D15BBF4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0332-91A4-4FB6-9892-B495E934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FE7-2359-4F3A-BCED-FB54A44C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3F7-349D-4FBE-A363-F9CE2E01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9F18-EE21-4E33-9A41-1F431A49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CAA2-083D-41B7-9BDA-9CF56385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B744-E4FC-4712-8F8C-2F3F2358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E6E3-B5BD-4B1F-872C-849CBE5F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B8BB-2BB6-40D3-8A94-CF1BE883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7008-01A9-42EA-8DAB-14CB5590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9293-B906-4D78-952B-F3DFA12E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1B7-61FB-4B32-8C9A-3DBEB231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2208-A0C9-43AC-B152-50AFE178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9F60-726C-4396-A133-514B4626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6820-7746-4361-B292-99577D5E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BE69-AB9F-4960-BE9D-37377359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29F1-1D33-4BE9-92B6-82E5A0F3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491-B493-426C-A75C-A214D2F6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4B3-B485-4401-9596-0D1DCA9E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0F4-9366-4E80-A44D-353915BF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6E3-0068-4510-B179-A3E9D6CF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5CD-D5F6-4626-AAAF-427540A7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1D27-14A8-4305-A3B3-94F5156B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1EDB-E4CB-4176-A5A8-580F7249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E6A9-D576-43F4-9EDE-02C689234FD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3ABE-2323-4833-98EE-02E24F5E73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042920" y="126828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ема 1. Міжнародний маркетинг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36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єкти міжнародного маркетингу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експортер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ірма, яка виготовляє продукцію в якій-небудь  країні і продає її за межі цієї краї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імпортер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– фірма, яка знаходиться на території однієї країни, але яка має постачальників чи партнерів по кооперації за рубежем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а корпорація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орма структурної організації великої фірми, яка здійснює прямі інвестиції в різні країни світу; буває двох основних вид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транснаціональна корпорація (Т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однієї країни, а філії розкидані по багатьом країнам світу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багатонаціональна корпорація (Б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двох і більше країн, а філії також розкидані по усьому світі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посередни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21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розділи навчальної дисципліни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Теоретичні та методологічні основи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Середовище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Міжнародні маркетингові дослідження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Комплекс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Товар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Цін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Збут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Комунікацій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Вихід на зарубіж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Організація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7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Основні етапи еволюції стратегій поведінки підприємців на ринку: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Виробнич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сер. ХІХ – поч. ХХ ст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2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Товарн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00 – 193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3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Збут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30 – 195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4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Маркетинг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50 – 1970 рр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5. Концепція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соціально-етич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(сер. 1970 – по цей час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тановл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Визнач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ід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м маркетингом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розуміють прикладну дисципліну і практичний вид діяльності, які спрямовані на задоволення потреб споживачів за допомогою обміну між суб'єктами ринку, що знаходяться в різних держава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через національні кордо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рубіж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всередині інших 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Транснаціональний (мультинаціональний) маркетинг –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координація маркетингових дій на ринках багатьох</a:t>
            </a:r>
            <a:r>
              <a:rPr b="0" lang="en-US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б</a:t>
            </a:r>
            <a:r>
              <a:rPr b="1" i="1" lang="en-US" sz="32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єкт та предмет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Об'єктом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виступають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закордон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Предмет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іввідношення попиту і пропозиції на закордонних ринках, їхня кон</a:t>
            </a:r>
            <a:r>
              <a:rPr b="0" lang="en-US" sz="2800" spc="-1" strike="noStrike">
                <a:solidFill>
                  <a:srgbClr val="7e7c4a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юнктура,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а також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особи формування попиту на закордонних ринках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етод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Системний підхід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Економіко-математичні методи обробки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експертних оцінок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збору первинної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Спостереже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Опитува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Експеримент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утність і принцип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ahoma"/>
              </a:rPr>
              <a:t>Сутність міжнародного маркетинг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як і маркетингу в цілому, полягає в наступному: виробляти і пропонувати ринку (у даному випадку — зовнішньому ринку) тільки те, що безумовно знайде споживача і буде продано, а не намагатися нав'язати покупцю попередньо не погоджену продукцію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     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Із сутності маркетингу випливають основн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принцип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а саме: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Націленість на досягнення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інцевого практичного результат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— одержання підприємцем певної вигоди (прибутку) при одночасному якісному задоволенні потреб споживачів.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Спрямованість підприємства на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довгостроковий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результат маркетингової діяльності. Це вимагає особливої уваги до прогнозних досліджень, розробці на їхній основ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товарів ринкової новизн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забезпечують високоприбуткову господарську діяльність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Застосування в єдності і взаємозв'язку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тратегії і тактики активного пристосування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вимог потенційних покупців з одночасним цілеспрямованим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впливом на них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4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омплексний підхід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досягнення поставлених цілей (комплекс маркетингу — взаємопов`язані товарна, цінова, збутова і комунікаційна стратегії міжнародного маркетингу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5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Швидка і чітка реакція на поточні зміни зовнішнього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стосовно організації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ередовища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складають споживачі, постачальники, посередники, конкуренти, контактні аудиторії; економічні, політико-правові, соціокультурні фактори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Задачі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одержання надійної, достовірної і своєчасної інформації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ро зовнішні ринки, структуру і динаміку конкретного попиту, смаки і переваги покупців, тобто інформації про зовнішні умови функціонування фірм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створення такого товар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чи набору товарів (асортименту),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що більш повно задовольняє вимоги світового ринку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, аніж товари конкурент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еобхідний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плив на споживача, на попит, на ринок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,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що забезпечує максимально можливий контроль сфери реалізації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безпечення перспективи розвитку міжнародного бізнес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а основі прогнозування потреб потенційних покупців та задоволення цих потреб шляхом пропозиції більш конкурентноспроможних товарів, послуг, технологій, ідей, організацій, людей, місць і т. ін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функції</a:t>
            </a:r>
            <a:r>
              <a:rPr b="0" i="1" lang="uk-UA" sz="2800" spc="-1" strike="noStrike">
                <a:solidFill>
                  <a:srgbClr val="b52a13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аналітичн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збір і обробка надійної, достовірної і своєчасної інформації про міжнародні рин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иробнич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виробництва такого товару, що найбільш точно відповідає умовам зовнішнього ринку в порівнянні з товарами-аналогами інших виробник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бутов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просування товару по міжнародних каналах розподілу, формування попиту на нього і стимулювання збуту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управлінськ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планування, інформаційне забезпечення і контроль заходів маркетингу, націленого на зовнішні ринки, з оцінкою ризику, прибутку, ефективності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04:26Z</dcterms:modified>
  <cp:revision>403</cp:revision>
  <dc:subject>Conference</dc:subject>
  <dc:title>Duk N., Dnipropetrovs’k national university </dc:title>
</cp:coreProperties>
</file>