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explode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4DDE-BF3E-4EFF-B804-9452BF21B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71C5-9A27-4377-9FD9-4FB55D8B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ED66-6D15-4952-A541-022DD9F29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65C5-C349-41F7-9E17-B24AF379F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CCC2-7377-4579-A608-DD45B22B9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9F4C-FA84-482B-A97C-C59258F3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7F8A-2142-4457-81EF-5EE504F7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9B12-88A6-4F21-BF37-F35AB9EC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59D4-F36D-4E52-92BB-AADD1F0F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63BC-FD89-4D29-888A-8B373B34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ECFC-6FC8-43DA-9786-76EC082D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E074-CFDA-4222-AB66-66AA9F07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CD83-A74F-4899-884E-A81B5E59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BBDC-E1E8-4E03-8218-75340CE3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71ED-D338-406F-B664-3094A523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4FC2-ADC1-4754-B3DE-95DEBF642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6BFF-8A35-4D3E-B2AB-DCC73EB2B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6CA0F-57CB-477C-82A8-A7B0F2325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D9A2C-4ED1-4A54-B94C-181604EE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267EF-E78B-4626-8BE6-048114CD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2CCF5-38E2-4DF3-800E-AE6289DE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0F4EB-C106-41F9-8938-CA3D6B77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AD49-7C85-458A-83F8-D6335C6E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4E738-0099-480E-9805-D16BB44A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C990C-F10E-4878-856B-50509209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DAC9D-24D6-47F4-BAE1-57C50ECB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5635E-7879-4D73-A01A-3C61B4F0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0EE68-2CBA-4A0A-81BF-94151142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A03BF-B3BE-4A10-A594-7D10A0370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D3809-5255-4B6F-B111-F3CF81BF6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CAC2-DD95-46E7-841A-E6C01A6B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9042-658A-40FD-8E86-EEDAD815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2C79-2650-4754-8160-5987143D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FD13-6806-4288-87C5-BF0F1FCE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7C95-3F22-40E4-8C32-B10E8043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8C56-3ED8-46F5-801E-0E13E5FE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0F6E-928F-4144-B859-5C0A9C035995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93acc3"/>
              </a:solidFill>
              <a:ln w="9360">
                <a:solidFill>
                  <a:srgbClr val="1b37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789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7897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93ac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6DDF-4DBC-4BD5-8949-59DFF0275C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236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238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9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240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97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309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4" name="Picture 91" descr="earth"/>
            <p:cNvPicPr/>
            <p:nvPr/>
          </p:nvPicPr>
          <p:blipFill>
            <a:blip r:embed="rId3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BEAF-7AAC-4B73-8B01-2DFE9989B6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37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cc"/>
                </a:solidFill>
                <a:latin typeface="Times New Roman"/>
              </a:rPr>
              <a:t>Тема 2. Середовище глобального маркетингу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86468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Критерії соціокультурної класифікації країн світ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Text Box 18"/>
          <p:cNvSpPr/>
          <p:nvPr/>
        </p:nvSpPr>
        <p:spPr>
          <a:xfrm>
            <a:off x="395280" y="1557360"/>
            <a:ext cx="1871640" cy="1221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1. Довжина ієрархічних східців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PD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Text Box 20"/>
          <p:cNvSpPr/>
          <p:nvPr/>
        </p:nvSpPr>
        <p:spPr>
          <a:xfrm>
            <a:off x="395280" y="2997360"/>
            <a:ext cx="1873080" cy="1221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2. Відобра-ження стану невизначе</a:t>
            </a:r>
            <a:r>
              <a:rPr b="1" i="1" lang="en-US" sz="1800" spc="-1" strike="noStrike">
                <a:solidFill>
                  <a:srgbClr val="126e1b"/>
                </a:solidFill>
                <a:latin typeface="Times New Roman"/>
              </a:rPr>
              <a:t>-</a:t>
            </a: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ності </a:t>
            </a: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UA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Text Box 21"/>
          <p:cNvSpPr/>
          <p:nvPr/>
        </p:nvSpPr>
        <p:spPr>
          <a:xfrm>
            <a:off x="395280" y="4581360"/>
            <a:ext cx="1873080" cy="673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3. Індивідуалізм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IN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Text Box 22"/>
          <p:cNvSpPr/>
          <p:nvPr/>
        </p:nvSpPr>
        <p:spPr>
          <a:xfrm>
            <a:off x="395280" y="5516640"/>
            <a:ext cx="1873080" cy="673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26e1b"/>
                </a:solidFill>
                <a:latin typeface="Times New Roman"/>
              </a:rPr>
              <a:t>4. Маскулінізм </a:t>
            </a:r>
            <a:br>
              <a:rPr sz="1800"/>
            </a:br>
            <a:r>
              <a:rPr b="1" i="1" lang="uk-UA" sz="2000" spc="-1" strike="noStrike">
                <a:solidFill>
                  <a:srgbClr val="02087e"/>
                </a:solidFill>
                <a:latin typeface="Tahoma"/>
              </a:rPr>
              <a:t>(МА</a:t>
            </a:r>
            <a:r>
              <a:rPr b="1" i="1" lang="en-US" sz="2000" spc="-1" strike="noStrike">
                <a:solidFill>
                  <a:srgbClr val="02087e"/>
                </a:solidFill>
                <a:latin typeface="Tahoma"/>
              </a:rPr>
              <a:t>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Rectangle 29"/>
          <p:cNvSpPr/>
          <p:nvPr/>
        </p:nvSpPr>
        <p:spPr>
          <a:xfrm>
            <a:off x="2700360" y="1557360"/>
            <a:ext cx="6048360" cy="1150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Rectangle 30"/>
          <p:cNvSpPr/>
          <p:nvPr/>
        </p:nvSpPr>
        <p:spPr>
          <a:xfrm>
            <a:off x="2700360" y="2997360"/>
            <a:ext cx="6048360" cy="11509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Rectangle 31"/>
          <p:cNvSpPr/>
          <p:nvPr/>
        </p:nvSpPr>
        <p:spPr>
          <a:xfrm>
            <a:off x="2700360" y="4581360"/>
            <a:ext cx="6048360" cy="64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Rectangle 32"/>
          <p:cNvSpPr/>
          <p:nvPr/>
        </p:nvSpPr>
        <p:spPr>
          <a:xfrm>
            <a:off x="2700360" y="5516640"/>
            <a:ext cx="6048360" cy="649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Text Box 33"/>
          <p:cNvSpPr/>
          <p:nvPr/>
        </p:nvSpPr>
        <p:spPr>
          <a:xfrm>
            <a:off x="2771640" y="177336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Сприйняття рівності між людьми, 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як в організації, так і між верствами суспільства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Text Box 34"/>
          <p:cNvSpPr/>
          <p:nvPr/>
        </p:nvSpPr>
        <p:spPr>
          <a:xfrm>
            <a:off x="2700360" y="314172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Ставлення людей до планування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 свого майбутнього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Text Box 35"/>
          <p:cNvSpPr/>
          <p:nvPr/>
        </p:nvSpPr>
        <p:spPr>
          <a:xfrm>
            <a:off x="2700360" y="4581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ажання людей діяти незалежно 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бо схилятися до групового вибор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Text Box 36"/>
          <p:cNvSpPr/>
          <p:nvPr/>
        </p:nvSpPr>
        <p:spPr>
          <a:xfrm>
            <a:off x="2700360" y="551664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Віддання переваг чоловічим або жіночим цінностям у характері поведінки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Line 37"/>
          <p:cNvSpPr/>
          <p:nvPr/>
        </p:nvSpPr>
        <p:spPr>
          <a:xfrm>
            <a:off x="2411280" y="213372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Line 38"/>
          <p:cNvSpPr/>
          <p:nvPr/>
        </p:nvSpPr>
        <p:spPr>
          <a:xfrm>
            <a:off x="2411280" y="350028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Line 39"/>
          <p:cNvSpPr/>
          <p:nvPr/>
        </p:nvSpPr>
        <p:spPr>
          <a:xfrm>
            <a:off x="2411280" y="494172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Line 40"/>
          <p:cNvSpPr/>
          <p:nvPr/>
        </p:nvSpPr>
        <p:spPr>
          <a:xfrm>
            <a:off x="2411280" y="5805360"/>
            <a:ext cx="289080" cy="0"/>
          </a:xfrm>
          <a:prstGeom prst="line">
            <a:avLst/>
          </a:prstGeom>
          <a:ln cap="sq" w="57240">
            <a:solidFill>
              <a:srgbClr val="3414f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9" name="explode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4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4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77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770" fill="hold"/>
                                        <p:tgtEl>
                                          <p:spTgt spid="4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7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70" fill="hold"/>
                                        <p:tgtEl>
                                          <p:spTgt spid="4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71848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c0000"/>
                </a:solidFill>
                <a:latin typeface="Times New Roman"/>
              </a:rPr>
              <a:t>Виділені за даними критеріями геокультурні регіони світу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5" name="Diagram 26"/>
          <p:cNvGrpSpPr/>
          <p:nvPr/>
        </p:nvGrpSpPr>
        <p:grpSpPr>
          <a:xfrm>
            <a:off x="405000" y="1484280"/>
            <a:ext cx="8259840" cy="4096800"/>
            <a:chOff x="405000" y="1484280"/>
            <a:chExt cx="8259840" cy="4096800"/>
          </a:xfrm>
        </p:grpSpPr>
        <p:sp>
          <p:nvSpPr>
            <p:cNvPr id="456" name="_s4100"/>
            <p:cNvSpPr/>
            <p:nvPr/>
          </p:nvSpPr>
          <p:spPr>
            <a:xfrm flipH="1" flipV="1">
              <a:off x="3070800" y="2809080"/>
              <a:ext cx="730440" cy="3621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7" name="_s4101"/>
            <p:cNvSpPr/>
            <p:nvPr/>
          </p:nvSpPr>
          <p:spPr>
            <a:xfrm>
              <a:off x="1310400" y="1936440"/>
              <a:ext cx="2066760" cy="10245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8" name="_s4102"/>
            <p:cNvSpPr/>
            <p:nvPr/>
          </p:nvSpPr>
          <p:spPr>
            <a:xfrm flipH="1">
              <a:off x="2464920" y="3528360"/>
              <a:ext cx="1386720" cy="46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9" name="_s4103"/>
            <p:cNvSpPr/>
            <p:nvPr/>
          </p:nvSpPr>
          <p:spPr>
            <a:xfrm>
              <a:off x="405000" y="3021120"/>
              <a:ext cx="2066760" cy="10245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0" name="_s4104"/>
            <p:cNvSpPr/>
            <p:nvPr/>
          </p:nvSpPr>
          <p:spPr>
            <a:xfrm flipH="1">
              <a:off x="3071160" y="3830400"/>
              <a:ext cx="851040" cy="4269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1" name="_s4105"/>
            <p:cNvSpPr/>
            <p:nvPr/>
          </p:nvSpPr>
          <p:spPr>
            <a:xfrm>
              <a:off x="1310400" y="4106160"/>
              <a:ext cx="2066760" cy="10242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2" name="_s4106"/>
            <p:cNvSpPr/>
            <p:nvPr/>
          </p:nvSpPr>
          <p:spPr>
            <a:xfrm>
              <a:off x="4501440" y="3905640"/>
              <a:ext cx="30240" cy="65232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3" name="_s4107"/>
            <p:cNvSpPr/>
            <p:nvPr/>
          </p:nvSpPr>
          <p:spPr>
            <a:xfrm>
              <a:off x="3498480" y="4556520"/>
              <a:ext cx="2066040" cy="102456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4" name="_s4108"/>
            <p:cNvSpPr/>
            <p:nvPr/>
          </p:nvSpPr>
          <p:spPr>
            <a:xfrm>
              <a:off x="5261760" y="3895560"/>
              <a:ext cx="730440" cy="36216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5" name="_s4109"/>
            <p:cNvSpPr/>
            <p:nvPr/>
          </p:nvSpPr>
          <p:spPr>
            <a:xfrm>
              <a:off x="5689800" y="4107600"/>
              <a:ext cx="2066040" cy="102456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6" name="_s4110"/>
            <p:cNvSpPr/>
            <p:nvPr/>
          </p:nvSpPr>
          <p:spPr>
            <a:xfrm>
              <a:off x="5652360" y="3528360"/>
              <a:ext cx="1174320" cy="14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7" name="_s4111"/>
            <p:cNvSpPr/>
            <p:nvPr/>
          </p:nvSpPr>
          <p:spPr>
            <a:xfrm>
              <a:off x="6598080" y="3021120"/>
              <a:ext cx="2066760" cy="10245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8" name="_s4112"/>
            <p:cNvSpPr/>
            <p:nvPr/>
          </p:nvSpPr>
          <p:spPr>
            <a:xfrm flipV="1">
              <a:off x="5578560" y="2696040"/>
              <a:ext cx="730440" cy="3614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9" name="_s4113"/>
            <p:cNvSpPr/>
            <p:nvPr/>
          </p:nvSpPr>
          <p:spPr>
            <a:xfrm>
              <a:off x="5689800" y="1935000"/>
              <a:ext cx="2066040" cy="102420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0" name="_s4114"/>
            <p:cNvSpPr/>
            <p:nvPr/>
          </p:nvSpPr>
          <p:spPr>
            <a:xfrm flipV="1">
              <a:off x="4532040" y="2391840"/>
              <a:ext cx="39600" cy="63072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1" name="_s4115"/>
            <p:cNvSpPr/>
            <p:nvPr/>
          </p:nvSpPr>
          <p:spPr>
            <a:xfrm>
              <a:off x="3498480" y="1484280"/>
              <a:ext cx="2066040" cy="102600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2" name="_s4116"/>
            <p:cNvSpPr/>
            <p:nvPr/>
          </p:nvSpPr>
          <p:spPr>
            <a:xfrm>
              <a:off x="3498480" y="3022920"/>
              <a:ext cx="2066040" cy="1024200"/>
            </a:xfrm>
            <a:prstGeom prst="roundRect">
              <a:avLst>
                <a:gd name="adj" fmla="val 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73" name="Text Box 48"/>
          <p:cNvSpPr/>
          <p:nvPr/>
        </p:nvSpPr>
        <p:spPr>
          <a:xfrm rot="561600">
            <a:off x="3634920" y="2997000"/>
            <a:ext cx="194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Геокультурні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регіони 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imes New Roman"/>
              </a:rPr>
              <a:t>світу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Text Box 50"/>
          <p:cNvSpPr/>
          <p:nvPr/>
        </p:nvSpPr>
        <p:spPr>
          <a:xfrm rot="604200">
            <a:off x="3779640" y="17002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Північ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Text Box 51"/>
          <p:cNvSpPr/>
          <p:nvPr/>
        </p:nvSpPr>
        <p:spPr>
          <a:xfrm rot="604200">
            <a:off x="5866920" y="220500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нгл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Text Box 52"/>
          <p:cNvSpPr/>
          <p:nvPr/>
        </p:nvSpPr>
        <p:spPr>
          <a:xfrm rot="604200">
            <a:off x="6587280" y="3284640"/>
            <a:ext cx="21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Германомовний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7" name="Text Box 53"/>
          <p:cNvSpPr/>
          <p:nvPr/>
        </p:nvSpPr>
        <p:spPr>
          <a:xfrm rot="604200">
            <a:off x="5940000" y="4149720"/>
            <a:ext cx="1881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ільш розвинутий роман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Text Box 54"/>
          <p:cNvSpPr/>
          <p:nvPr/>
        </p:nvSpPr>
        <p:spPr>
          <a:xfrm rot="604200">
            <a:off x="3634920" y="4581360"/>
            <a:ext cx="199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Менш розвинутий романомов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Text Box 55"/>
          <p:cNvSpPr/>
          <p:nvPr/>
        </p:nvSpPr>
        <p:spPr>
          <a:xfrm rot="604200">
            <a:off x="1546920" y="4221000"/>
            <a:ext cx="172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ільш розвинутий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зійськ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Text Box 56"/>
          <p:cNvSpPr/>
          <p:nvPr/>
        </p:nvSpPr>
        <p:spPr>
          <a:xfrm rot="604200">
            <a:off x="610920" y="3284640"/>
            <a:ext cx="172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Text Box 57"/>
          <p:cNvSpPr/>
          <p:nvPr/>
        </p:nvSpPr>
        <p:spPr>
          <a:xfrm rot="604200">
            <a:off x="1331640" y="220500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Близькосхідн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Text Box 59"/>
          <p:cNvSpPr/>
          <p:nvPr/>
        </p:nvSpPr>
        <p:spPr>
          <a:xfrm rot="604200">
            <a:off x="610560" y="3141720"/>
            <a:ext cx="172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Менш розвинутий</a:t>
            </a:r>
            <a:br>
              <a:rPr sz="2000"/>
            </a:br>
            <a:r>
              <a:rPr b="1" i="1" lang="uk-UA" sz="2000" spc="-1" strike="noStrike">
                <a:solidFill>
                  <a:srgbClr val="800080"/>
                </a:solidFill>
                <a:latin typeface="Times New Roman"/>
              </a:rPr>
              <a:t>азійськи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Text Box 60"/>
          <p:cNvSpPr/>
          <p:nvPr/>
        </p:nvSpPr>
        <p:spPr>
          <a:xfrm>
            <a:off x="539640" y="5516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cc"/>
                </a:solidFill>
                <a:latin typeface="Tahoma"/>
              </a:rPr>
              <a:t>Кожен з цих регіонів характеризується своїми особливостями національних культур на рівні менталітету.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0" name="explode.wav"/>
      </p:stSnd>
    </p:sndAc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71848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Політико-правове середовище </a:t>
            </a:r>
            <a:br>
              <a:rPr sz="2800"/>
            </a:b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міжнародного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8" name="Organization Chart 49"/>
          <p:cNvGrpSpPr/>
          <p:nvPr/>
        </p:nvGrpSpPr>
        <p:grpSpPr>
          <a:xfrm>
            <a:off x="684360" y="2108160"/>
            <a:ext cx="8134920" cy="4102200"/>
            <a:chOff x="684360" y="2108160"/>
            <a:chExt cx="8134920" cy="4102200"/>
          </a:xfrm>
        </p:grpSpPr>
        <p:cxnSp>
          <p:nvCxnSpPr>
            <p:cNvPr id="369" name="_s1028"/>
            <p:cNvCxnSpPr>
              <a:stCxn id="370" idx="0"/>
              <a:endCxn id="371" idx="2"/>
            </p:cNvCxnSpPr>
            <p:nvPr/>
          </p:nvCxnSpPr>
          <p:spPr>
            <a:xfrm flipV="1" rot="16200000">
              <a:off x="5661720" y="2380320"/>
              <a:ext cx="650520" cy="2166480"/>
            </a:xfrm>
            <a:prstGeom prst="bentConnector3">
              <a:avLst>
                <a:gd name="adj1" fmla="val 17552"/>
              </a:avLst>
            </a:prstGeom>
            <a:ln w="28440">
              <a:solidFill>
                <a:srgbClr val="1b3753"/>
              </a:solidFill>
              <a:miter/>
            </a:ln>
          </p:spPr>
        </p:cxnSp>
        <p:cxnSp>
          <p:nvCxnSpPr>
            <p:cNvPr id="372" name="_s1029"/>
            <p:cNvCxnSpPr/>
            <p:nvPr/>
          </p:nvCxnSpPr>
          <p:spPr>
            <a:xfrm flipH="1" flipV="1" rot="5400000">
              <a:off x="3098520" y="2234880"/>
              <a:ext cx="650520" cy="2457720"/>
            </a:xfrm>
            <a:prstGeom prst="bentConnector3">
              <a:avLst>
                <a:gd name="adj1" fmla="val 17552"/>
              </a:avLst>
            </a:prstGeom>
            <a:ln w="28440">
              <a:solidFill>
                <a:srgbClr val="1b3753"/>
              </a:solidFill>
              <a:miter/>
            </a:ln>
          </p:spPr>
        </p:cxnSp>
        <p:sp>
          <p:nvSpPr>
            <p:cNvPr id="371" name="_s1030"/>
            <p:cNvSpPr/>
            <p:nvPr/>
          </p:nvSpPr>
          <p:spPr>
            <a:xfrm>
              <a:off x="1825200" y="2108160"/>
              <a:ext cx="6157800" cy="103104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_s1031"/>
            <p:cNvSpPr/>
            <p:nvPr/>
          </p:nvSpPr>
          <p:spPr>
            <a:xfrm>
              <a:off x="684360" y="3789000"/>
              <a:ext cx="3527640" cy="2421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0" name="_s1032"/>
            <p:cNvSpPr/>
            <p:nvPr/>
          </p:nvSpPr>
          <p:spPr>
            <a:xfrm>
              <a:off x="5321880" y="3789000"/>
              <a:ext cx="3497400" cy="2421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1b37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4" name="Text Box 59"/>
          <p:cNvSpPr/>
          <p:nvPr/>
        </p:nvSpPr>
        <p:spPr>
          <a:xfrm>
            <a:off x="1908000" y="2205000"/>
            <a:ext cx="56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aa9"/>
                </a:solidFill>
                <a:latin typeface="Times New Roman"/>
              </a:rPr>
              <a:t>Найважливіші складові міжнародного маркетингового політико-правового середовища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Text Box 60"/>
          <p:cNvSpPr/>
          <p:nvPr/>
        </p:nvSpPr>
        <p:spPr>
          <a:xfrm>
            <a:off x="826920" y="4221000"/>
            <a:ext cx="33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Політичний устрій </a:t>
            </a:r>
            <a:br>
              <a:rPr sz="2400"/>
            </a:b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в країні та політична стабільність у майбутньому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Text Box 61"/>
          <p:cNvSpPr/>
          <p:nvPr/>
        </p:nvSpPr>
        <p:spPr>
          <a:xfrm>
            <a:off x="5508720" y="3933720"/>
            <a:ext cx="31687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aa9"/>
                </a:solidFill>
                <a:latin typeface="Times New Roman"/>
              </a:rPr>
              <a:t>Державна економічна політика </a:t>
            </a:r>
            <a:r>
              <a:rPr b="0" lang="uk-UA" sz="1800" spc="-1" strike="noStrike">
                <a:solidFill>
                  <a:srgbClr val="1f4aa9"/>
                </a:solidFill>
                <a:latin typeface="Times New Roman"/>
              </a:rPr>
              <a:t>(співвідношення між лібералізацією та протекціонізмом у зовнішньоекономічній стратегії)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c30520"/>
                </a:solidFill>
                <a:latin typeface="Tahoma"/>
              </a:rPr>
              <a:t>Державна економічна політика</a:t>
            </a:r>
            <a:r>
              <a:rPr b="0" i="1" lang="uk-UA" sz="2200" spc="-1" strike="noStrike">
                <a:solidFill>
                  <a:srgbClr val="1f4aa9"/>
                </a:solidFill>
                <a:latin typeface="Tahoma"/>
              </a:rPr>
              <a:t> передбачає насамперед  стан </a:t>
            </a:r>
            <a:r>
              <a:rPr b="0" i="1" lang="uk-UA" sz="2200" spc="-1" strike="noStrike">
                <a:solidFill>
                  <a:srgbClr val="7e7c4a"/>
                </a:solidFill>
                <a:latin typeface="Tahoma"/>
              </a:rPr>
              <a:t>законодавства, що регулює господарську діяльність. </a:t>
            </a:r>
            <a:r>
              <a:rPr b="0" i="1" lang="uk-UA" sz="2200" spc="-1" strike="noStrike">
                <a:solidFill>
                  <a:srgbClr val="1f4aa9"/>
                </a:solidFill>
                <a:latin typeface="Tahoma"/>
              </a:rPr>
              <a:t>Особливо в міжнародному маркетингу враховуються </a:t>
            </a:r>
            <a:r>
              <a:rPr b="0" i="1" lang="uk-UA" sz="2200" spc="-1" strike="noStrike">
                <a:solidFill>
                  <a:srgbClr val="7e7c4a"/>
                </a:solidFill>
                <a:latin typeface="Tahoma"/>
              </a:rPr>
              <a:t>такі види обмежень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1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Валютний контроль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регулювання обсягів готівки в іноземній валюті, що ввозиться та вивозиться, а також її обмінного курсу стосовно національної та інших валют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2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Тарифні методи регулювання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митний тариф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зведення ставок мита, що застосовуються до товарів, які перетинають митний кордон, відповідно товарної номенклатури ЗЕД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мито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– обов’язковий платіж, що стягується митними органами при перетинанні товаром кордону країни та є умовою експорту або імпорту, буває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експортне, імпортне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транзитне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3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Нетарифні кількісні методи регулювання – 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адміністративні обмеження щодо торгового обігу, що визначають кількість та номенклатуру товарів, дозволених до експорту або імпорту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квотуванн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. Види квот: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  <a:ea typeface="Times New Roman"/>
              </a:rPr>
              <a:t>глобальна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  <a:ea typeface="Times New Roman"/>
              </a:rPr>
              <a:t>індивідуальна;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</a:rPr>
              <a:t>ліцензування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. Види ліцензій: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разова, генеральна, глобальна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та </a:t>
            </a:r>
            <a:r>
              <a:rPr b="0" i="1" lang="uk-UA" sz="2200" spc="-1" strike="noStrike">
                <a:solidFill>
                  <a:srgbClr val="7e7c4a"/>
                </a:solidFill>
                <a:latin typeface="Times New Roman"/>
              </a:rPr>
              <a:t>автоматична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4. </a:t>
            </a:r>
            <a:r>
              <a:rPr b="0" lang="uk-UA" sz="2200" spc="-1" strike="noStrike">
                <a:solidFill>
                  <a:srgbClr val="7e7c4a"/>
                </a:solidFill>
                <a:latin typeface="Times New Roman"/>
              </a:rPr>
              <a:t>Прихований протекціонізм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технічні бар</a:t>
            </a:r>
            <a:r>
              <a:rPr b="0" lang="en-US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’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єри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внутрішні податки на імпортовані товари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політика державних закупівель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● </a:t>
            </a:r>
            <a:r>
              <a:rPr b="0" lang="uk-UA" sz="22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вимоги про вміст місцевих компонентів</a:t>
            </a:r>
            <a:r>
              <a:rPr b="0" lang="uk-UA" sz="22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5. </a:t>
            </a:r>
            <a:r>
              <a:rPr b="0" lang="uk-UA" sz="2600" spc="-1" strike="noStrike">
                <a:solidFill>
                  <a:srgbClr val="7e7c4a"/>
                </a:solidFill>
                <a:latin typeface="Times New Roman"/>
              </a:rPr>
              <a:t>Фінансові методи торгової політики: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  <a:ea typeface="Times New Roman"/>
              </a:rPr>
              <a:t>субсидії експортерам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 – грошові виплати, спрямовані на підтримку національних виробників та на дискримінацію імпорту;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експортне кредитуванн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кредитування національних екмпортерів та іноземних імпортерів;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  <a:ea typeface="Times New Roman"/>
              </a:rPr>
              <a:t>●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демпінгова політика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заохочення просування товарів на зовнішній ринок за рахунок зниження експортних цін нижче нормального рівня, що існує на даному ринку.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4. </a:t>
            </a:r>
            <a:r>
              <a:rPr b="0" lang="uk-UA" sz="2600" spc="-1" strike="noStrike">
                <a:solidFill>
                  <a:srgbClr val="7e7c4a"/>
                </a:solidFill>
                <a:latin typeface="Times New Roman"/>
              </a:rPr>
              <a:t>Неекономічні методи регулювання 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являють собою </a:t>
            </a:r>
            <a:r>
              <a:rPr b="0" lang="uk-UA" sz="2600" spc="-1" strike="noStrike" u="sng">
                <a:solidFill>
                  <a:srgbClr val="1f4aa9"/>
                </a:solidFill>
                <a:uFillTx/>
                <a:latin typeface="Times New Roman"/>
              </a:rPr>
              <a:t>торгові угоди</a:t>
            </a:r>
            <a:r>
              <a:rPr b="0" lang="uk-UA" sz="2600" spc="-1" strike="noStrike">
                <a:solidFill>
                  <a:srgbClr val="1f4aa9"/>
                </a:solidFill>
                <a:latin typeface="Times New Roman"/>
              </a:rPr>
              <a:t> – різновиди міждержавних угод, що встановлюють принципи й режими двосторонньої торгівлі.</a:t>
            </a:r>
            <a:endParaRPr b="0" lang="en-US" sz="2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46240" y="1196640"/>
            <a:ext cx="85024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b52a13"/>
                </a:solidFill>
                <a:latin typeface="Times New Roman"/>
              </a:rPr>
              <a:t>Основні правові режими регулювання міжнародної торгівлі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Group 70"/>
          <p:cNvGrpSpPr/>
          <p:nvPr/>
        </p:nvGrpSpPr>
        <p:grpSpPr>
          <a:xfrm>
            <a:off x="250920" y="1916280"/>
            <a:ext cx="4392000" cy="3673440"/>
            <a:chOff x="250920" y="1916280"/>
            <a:chExt cx="4392000" cy="3673440"/>
          </a:xfrm>
        </p:grpSpPr>
        <p:sp>
          <p:nvSpPr>
            <p:cNvPr id="382" name="AutoShape 71"/>
            <p:cNvSpPr/>
            <p:nvPr/>
          </p:nvSpPr>
          <p:spPr>
            <a:xfrm>
              <a:off x="371160" y="1979280"/>
              <a:ext cx="4153320" cy="3610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5e76"/>
                </a:gs>
                <a:gs pos="100000">
                  <a:srgbClr val="ffcc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3" name="Rectangle 72"/>
            <p:cNvSpPr/>
            <p:nvPr/>
          </p:nvSpPr>
          <p:spPr>
            <a:xfrm>
              <a:off x="250920" y="1916280"/>
              <a:ext cx="4392000" cy="36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4" name="Text Box 73"/>
            <p:cNvSpPr/>
            <p:nvPr/>
          </p:nvSpPr>
          <p:spPr>
            <a:xfrm>
              <a:off x="371160" y="2041920"/>
              <a:ext cx="4035960" cy="32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7e7c4a"/>
                  </a:solidFill>
                  <a:latin typeface="Times New Roman"/>
                </a:rPr>
                <a:t>Режим найбільшого сприяння – 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надання країнами, що домовляються, одна одній усіх прав, переваг та пільг, якими користується або буде користуватися будь-яка третя держава.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Але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 країни, що надають одна одній пільги в межах інтеграційних угруповань, мають право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не поширювати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 їх на треті країни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85" name="Group 78"/>
          <p:cNvGrpSpPr/>
          <p:nvPr/>
        </p:nvGrpSpPr>
        <p:grpSpPr>
          <a:xfrm>
            <a:off x="4572000" y="1916280"/>
            <a:ext cx="4392360" cy="3673440"/>
            <a:chOff x="4572000" y="1916280"/>
            <a:chExt cx="4392360" cy="3673440"/>
          </a:xfrm>
        </p:grpSpPr>
        <p:sp>
          <p:nvSpPr>
            <p:cNvPr id="386" name="AutoShape 79"/>
            <p:cNvSpPr/>
            <p:nvPr/>
          </p:nvSpPr>
          <p:spPr>
            <a:xfrm>
              <a:off x="4692240" y="1979280"/>
              <a:ext cx="4153680" cy="3610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5e76"/>
                </a:gs>
                <a:gs pos="50000">
                  <a:srgbClr val="ffccff"/>
                </a:gs>
                <a:gs pos="100000">
                  <a:srgbClr val="765e7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7" name="Rectangle 80"/>
            <p:cNvSpPr/>
            <p:nvPr/>
          </p:nvSpPr>
          <p:spPr>
            <a:xfrm>
              <a:off x="4572000" y="1916280"/>
              <a:ext cx="4392360" cy="36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8" name="Text Box 81"/>
            <p:cNvSpPr/>
            <p:nvPr/>
          </p:nvSpPr>
          <p:spPr>
            <a:xfrm>
              <a:off x="4692240" y="2041920"/>
              <a:ext cx="4036320" cy="24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7e7c4a"/>
                  </a:solidFill>
                  <a:latin typeface="Times New Roman"/>
                </a:rPr>
                <a:t>Національний режим – 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6676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умови економічних відносин між державами, за яких одна держава надає іноземним фізичним та юридичним особам режим </a:t>
              </a:r>
              <a:r>
                <a:rPr b="1" i="1" lang="uk-UA" sz="1800" spc="-1" strike="noStrike">
                  <a:solidFill>
                    <a:srgbClr val="1f4aa9"/>
                  </a:solidFill>
                  <a:latin typeface="Times New Roman"/>
                </a:rPr>
                <a:t>не менш сприятливий</a:t>
              </a:r>
              <a:r>
                <a:rPr b="0" i="1" lang="uk-UA" sz="1800" spc="-1" strike="noStrike">
                  <a:solidFill>
                    <a:srgbClr val="1f4aa9"/>
                  </a:solidFill>
                  <a:latin typeface="Times New Roman"/>
                </a:rPr>
                <a:t>, аніж для вітчизняних юридичних та фізичних осіб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89" name="Text Box 82"/>
          <p:cNvSpPr/>
          <p:nvPr/>
        </p:nvSpPr>
        <p:spPr>
          <a:xfrm>
            <a:off x="468360" y="573408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c30520"/>
                </a:solidFill>
                <a:latin typeface="Times New Roman"/>
              </a:rPr>
              <a:t>В межах Всесвітньої торгової організації (ВТО) універсально визнаною основою для міжнародної торгівлі є режим найбільшого сприяння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Кожна країна, кожний ринок характеризується певними традиціями, звичаями, вдачами в поведінці людей, формуванні їхніх навичок і смаків, що обумовлює можливість реалізації тих чи інших товарів кінцевим споживачам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Існує декілька підходів щодо характеристики </a:t>
            </a:r>
            <a:r>
              <a:rPr b="0" i="1" lang="uk-UA" sz="2400" spc="-1" strike="noStrike">
                <a:solidFill>
                  <a:srgbClr val="7e7c4a"/>
                </a:solidFill>
                <a:latin typeface="Tahoma"/>
              </a:rPr>
              <a:t>соціокультурного середовища</a:t>
            </a:r>
            <a:r>
              <a:rPr b="0" i="1" lang="uk-UA" sz="2400" spc="-1" strike="noStrike">
                <a:solidFill>
                  <a:srgbClr val="1f4aa9"/>
                </a:solidFill>
                <a:latin typeface="Tahoma"/>
              </a:rPr>
              <a:t> маркетингу. Суть їх полягає у визначенні цінностей і ступеня залежності розвитку кожної людини від рівня розвитку суспільства в цілому. Ця концепція ґрунтується на тому, що всебічне охоплення аспектів життя кожного індивідууму прямо впливає на формування моделі поведінки в суспільстві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-360" y="907920"/>
            <a:ext cx="89694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b52a13"/>
                </a:solidFill>
                <a:latin typeface="Times New Roman"/>
              </a:rPr>
              <a:t>Соціокультурне середовище міжнародного маркетингу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871848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b52a13"/>
                </a:solidFill>
                <a:latin typeface="Times New Roman"/>
              </a:rPr>
              <a:t>Основні елементи соціокультурного середовища міжнародного маркетингу</a:t>
            </a:r>
            <a:endParaRPr b="0" i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93" name="Diagram 28"/>
          <p:cNvGrpSpPr/>
          <p:nvPr/>
        </p:nvGrpSpPr>
        <p:grpSpPr>
          <a:xfrm>
            <a:off x="693720" y="1705680"/>
            <a:ext cx="8044560" cy="4742280"/>
            <a:chOff x="693720" y="1705680"/>
            <a:chExt cx="8044560" cy="4742280"/>
          </a:xfrm>
        </p:grpSpPr>
        <p:sp>
          <p:nvSpPr>
            <p:cNvPr id="394" name="_s2052"/>
            <p:cNvSpPr/>
            <p:nvPr/>
          </p:nvSpPr>
          <p:spPr>
            <a:xfrm flipH="1" flipV="1">
              <a:off x="3290400" y="323820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5" name="_s2053"/>
            <p:cNvSpPr/>
            <p:nvPr/>
          </p:nvSpPr>
          <p:spPr>
            <a:xfrm>
              <a:off x="1575360" y="222768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6" name="_s2054"/>
            <p:cNvSpPr/>
            <p:nvPr/>
          </p:nvSpPr>
          <p:spPr>
            <a:xfrm flipH="1">
              <a:off x="2699640" y="4076640"/>
              <a:ext cx="1006200" cy="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7" name="_s2055"/>
            <p:cNvSpPr/>
            <p:nvPr/>
          </p:nvSpPr>
          <p:spPr>
            <a:xfrm>
              <a:off x="693720" y="348336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8" name="_s2056"/>
            <p:cNvSpPr/>
            <p:nvPr/>
          </p:nvSpPr>
          <p:spPr>
            <a:xfrm flipH="1">
              <a:off x="3290400" y="449604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9" name="_s2057"/>
            <p:cNvSpPr/>
            <p:nvPr/>
          </p:nvSpPr>
          <p:spPr>
            <a:xfrm>
              <a:off x="1575360" y="4739760"/>
              <a:ext cx="2012760" cy="11858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0" name="_s2058"/>
            <p:cNvSpPr/>
            <p:nvPr/>
          </p:nvSpPr>
          <p:spPr>
            <a:xfrm>
              <a:off x="4713120" y="4670280"/>
              <a:ext cx="0" cy="5932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" name="_s2059"/>
            <p:cNvSpPr/>
            <p:nvPr/>
          </p:nvSpPr>
          <p:spPr>
            <a:xfrm>
              <a:off x="3706560" y="526140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" name="_s2060"/>
            <p:cNvSpPr/>
            <p:nvPr/>
          </p:nvSpPr>
          <p:spPr>
            <a:xfrm>
              <a:off x="5423760" y="449604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3" name="_s2061"/>
            <p:cNvSpPr/>
            <p:nvPr/>
          </p:nvSpPr>
          <p:spPr>
            <a:xfrm>
              <a:off x="5841000" y="474156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_s2062"/>
            <p:cNvSpPr/>
            <p:nvPr/>
          </p:nvSpPr>
          <p:spPr>
            <a:xfrm>
              <a:off x="5718960" y="4076640"/>
              <a:ext cx="1006200" cy="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5" name="_s2063"/>
            <p:cNvSpPr/>
            <p:nvPr/>
          </p:nvSpPr>
          <p:spPr>
            <a:xfrm>
              <a:off x="6725520" y="3483360"/>
              <a:ext cx="201276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6" name="_s2064"/>
            <p:cNvSpPr/>
            <p:nvPr/>
          </p:nvSpPr>
          <p:spPr>
            <a:xfrm flipV="1">
              <a:off x="5423760" y="3238200"/>
              <a:ext cx="711360" cy="41904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7" name="_s2065"/>
            <p:cNvSpPr/>
            <p:nvPr/>
          </p:nvSpPr>
          <p:spPr>
            <a:xfrm>
              <a:off x="5841000" y="2225880"/>
              <a:ext cx="2012040" cy="11858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8" name="_s2066"/>
            <p:cNvSpPr/>
            <p:nvPr/>
          </p:nvSpPr>
          <p:spPr>
            <a:xfrm flipV="1">
              <a:off x="4713120" y="2892240"/>
              <a:ext cx="0" cy="593280"/>
            </a:xfrm>
            <a:prstGeom prst="line">
              <a:avLst/>
            </a:prstGeom>
            <a:ln w="28440">
              <a:solidFill>
                <a:srgbClr val="c305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9" name="_s2067"/>
            <p:cNvSpPr/>
            <p:nvPr/>
          </p:nvSpPr>
          <p:spPr>
            <a:xfrm>
              <a:off x="3706560" y="1705680"/>
              <a:ext cx="2012040" cy="1186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0" name="_s2068"/>
            <p:cNvSpPr/>
            <p:nvPr/>
          </p:nvSpPr>
          <p:spPr>
            <a:xfrm>
              <a:off x="3706560" y="3485880"/>
              <a:ext cx="2012040" cy="1185840"/>
            </a:xfrm>
            <a:prstGeom prst="ellipse">
              <a:avLst/>
            </a:prstGeom>
            <a:solidFill>
              <a:srgbClr val="3bf907"/>
            </a:soli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Основні елементи</a:t>
              </a:r>
              <a:br>
                <a:rPr sz="1600"/>
              </a:b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 соціокультурного</a:t>
              </a:r>
              <a:br>
                <a:rPr sz="1600"/>
              </a:br>
              <a:r>
                <a:rPr b="1" lang="uk-UA" sz="1600" spc="-1" strike="noStrike">
                  <a:solidFill>
                    <a:srgbClr val="1b3753"/>
                  </a:solidFill>
                  <a:latin typeface="Times New Roman"/>
                </a:rPr>
                <a:t> середовища </a:t>
              </a:r>
              <a:endParaRPr b="0" i="1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11" name="Text Box 56"/>
          <p:cNvSpPr/>
          <p:nvPr/>
        </p:nvSpPr>
        <p:spPr>
          <a:xfrm>
            <a:off x="5940360" y="234936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Цінності </a:t>
            </a:r>
            <a:br>
              <a:rPr sz="2200"/>
            </a:b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та норми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Text Box 67"/>
          <p:cNvSpPr/>
          <p:nvPr/>
        </p:nvSpPr>
        <p:spPr>
          <a:xfrm>
            <a:off x="3924360" y="184464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Релігія та церкв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Text Box 68"/>
          <p:cNvSpPr/>
          <p:nvPr/>
        </p:nvSpPr>
        <p:spPr>
          <a:xfrm>
            <a:off x="6877080" y="3645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Рівень освіти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Text Box 69"/>
          <p:cNvSpPr/>
          <p:nvPr/>
        </p:nvSpPr>
        <p:spPr>
          <a:xfrm>
            <a:off x="6012000" y="4869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Наука та мистецтво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Text Box 70"/>
          <p:cNvSpPr/>
          <p:nvPr/>
        </p:nvSpPr>
        <p:spPr>
          <a:xfrm>
            <a:off x="3924360" y="5445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Політична культур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Text Box 71"/>
          <p:cNvSpPr/>
          <p:nvPr/>
        </p:nvSpPr>
        <p:spPr>
          <a:xfrm>
            <a:off x="1763640" y="486900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Правова культура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Text Box 72"/>
          <p:cNvSpPr/>
          <p:nvPr/>
        </p:nvSpPr>
        <p:spPr>
          <a:xfrm>
            <a:off x="900000" y="364500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Соціальна організація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Text Box 73"/>
          <p:cNvSpPr/>
          <p:nvPr/>
        </p:nvSpPr>
        <p:spPr>
          <a:xfrm>
            <a:off x="1763640" y="234936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Мовне середовище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1" name="explode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4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c0000"/>
                </a:solidFill>
                <a:latin typeface="Times New Roman"/>
              </a:rPr>
              <a:t>Найважливіші для формування маркетингових програм показники соціокультурного середовища країн</a:t>
            </a:r>
            <a:endParaRPr b="0" i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20" name="Organization Chart 7"/>
          <p:cNvGrpSpPr/>
          <p:nvPr/>
        </p:nvGrpSpPr>
        <p:grpSpPr>
          <a:xfrm>
            <a:off x="179280" y="2108160"/>
            <a:ext cx="8712360" cy="4103280"/>
            <a:chOff x="179280" y="2108160"/>
            <a:chExt cx="8712360" cy="4103280"/>
          </a:xfrm>
        </p:grpSpPr>
        <p:cxnSp>
          <p:nvCxnSpPr>
            <p:cNvPr id="421" name="_s3076"/>
            <p:cNvCxnSpPr>
              <a:stCxn id="422" idx="1"/>
              <a:endCxn id="423" idx="2"/>
            </p:cNvCxnSpPr>
            <p:nvPr/>
          </p:nvCxnSpPr>
          <p:spPr>
            <a:xfrm flipH="1" rot="10800000">
              <a:off x="752760" y="2590200"/>
              <a:ext cx="2886120" cy="3379680"/>
            </a:xfrm>
            <a:prstGeom prst="bentConnector4">
              <a:avLst>
                <a:gd name="adj1" fmla="val -3954"/>
                <a:gd name="adj2" fmla="val 53542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4" name="_s3077"/>
            <p:cNvCxnSpPr>
              <a:stCxn id="425" idx="1"/>
              <a:endCxn id="423" idx="2"/>
            </p:cNvCxnSpPr>
            <p:nvPr/>
          </p:nvCxnSpPr>
          <p:spPr>
            <a:xfrm flipH="1" rot="10800000">
              <a:off x="752760" y="2590200"/>
              <a:ext cx="2886120" cy="2655360"/>
            </a:xfrm>
            <a:prstGeom prst="bentConnector4">
              <a:avLst>
                <a:gd name="adj1" fmla="val -3954"/>
                <a:gd name="adj2" fmla="val 54508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6" name="_s3078"/>
            <p:cNvCxnSpPr>
              <a:stCxn id="427" idx="1"/>
              <a:endCxn id="423" idx="2"/>
            </p:cNvCxnSpPr>
            <p:nvPr/>
          </p:nvCxnSpPr>
          <p:spPr>
            <a:xfrm flipH="1" rot="10800000">
              <a:off x="752760" y="2590200"/>
              <a:ext cx="2886120" cy="1932480"/>
            </a:xfrm>
            <a:prstGeom prst="bentConnector4">
              <a:avLst>
                <a:gd name="adj1" fmla="val -3954"/>
                <a:gd name="adj2" fmla="val 56195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28" name="_s3079"/>
            <p:cNvCxnSpPr>
              <a:stCxn id="429" idx="1"/>
              <a:endCxn id="423" idx="2"/>
            </p:cNvCxnSpPr>
            <p:nvPr/>
          </p:nvCxnSpPr>
          <p:spPr>
            <a:xfrm flipH="1" rot="10800000">
              <a:off x="752760" y="2590200"/>
              <a:ext cx="2886120" cy="1207440"/>
            </a:xfrm>
            <a:prstGeom prst="bentConnector4">
              <a:avLst>
                <a:gd name="adj1" fmla="val -3954"/>
                <a:gd name="adj2" fmla="val 59916"/>
              </a:avLst>
            </a:prstGeom>
            <a:ln w="28440">
              <a:solidFill>
                <a:srgbClr val="c30520"/>
              </a:solidFill>
              <a:miter/>
            </a:ln>
          </p:spPr>
        </p:cxnSp>
        <p:cxnSp>
          <p:nvCxnSpPr>
            <p:cNvPr id="430" name="_s3080"/>
            <p:cNvCxnSpPr>
              <a:stCxn id="431" idx="1"/>
              <a:endCxn id="423" idx="2"/>
            </p:cNvCxnSpPr>
            <p:nvPr/>
          </p:nvCxnSpPr>
          <p:spPr>
            <a:xfrm flipH="1" rot="10800000">
              <a:off x="753480" y="2590200"/>
              <a:ext cx="2880720" cy="433440"/>
            </a:xfrm>
            <a:prstGeom prst="bentConnector4">
              <a:avLst>
                <a:gd name="adj1" fmla="val -3962"/>
                <a:gd name="adj2" fmla="val 77971"/>
              </a:avLst>
            </a:prstGeom>
            <a:ln w="28440">
              <a:solidFill>
                <a:srgbClr val="c30520"/>
              </a:solidFill>
              <a:miter/>
            </a:ln>
          </p:spPr>
        </p:cxnSp>
        <p:sp>
          <p:nvSpPr>
            <p:cNvPr id="423" name="_s3081"/>
            <p:cNvSpPr/>
            <p:nvPr/>
          </p:nvSpPr>
          <p:spPr>
            <a:xfrm>
              <a:off x="179280" y="2108160"/>
              <a:ext cx="6915240" cy="48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52f"/>
                </a:gs>
                <a:gs pos="50000">
                  <a:srgbClr val="ffff66"/>
                </a:gs>
                <a:gs pos="100000">
                  <a:srgbClr val="75752f"/>
                </a:gs>
              </a:gsLst>
              <a:lin ang="8100000"/>
            </a:grad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1f4aa9"/>
                  </a:solidFill>
                  <a:latin typeface="Times New Roman"/>
                </a:rPr>
                <a:t>Найголовніші для маркетингу показники та риси </a:t>
              </a:r>
              <a:br>
                <a:rPr sz="1800"/>
              </a:br>
              <a:r>
                <a:rPr b="1" lang="uk-UA" sz="1800" spc="-1" strike="noStrike">
                  <a:solidFill>
                    <a:srgbClr val="1f4aa9"/>
                  </a:solidFill>
                  <a:latin typeface="Times New Roman"/>
                </a:rPr>
                <a:t>соціокультурного середовища країн</a:t>
              </a:r>
              <a:endParaRPr b="0" i="1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1" name="_s3082"/>
            <p:cNvSpPr/>
            <p:nvPr/>
          </p:nvSpPr>
          <p:spPr>
            <a:xfrm>
              <a:off x="753840" y="2780280"/>
              <a:ext cx="8137800" cy="4845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9" name="_s3083"/>
            <p:cNvSpPr/>
            <p:nvPr/>
          </p:nvSpPr>
          <p:spPr>
            <a:xfrm>
              <a:off x="753840" y="355680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7" name="_s3084"/>
            <p:cNvSpPr/>
            <p:nvPr/>
          </p:nvSpPr>
          <p:spPr>
            <a:xfrm>
              <a:off x="753840" y="428112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5" name="_s3085"/>
            <p:cNvSpPr/>
            <p:nvPr/>
          </p:nvSpPr>
          <p:spPr>
            <a:xfrm>
              <a:off x="753840" y="5005800"/>
              <a:ext cx="8137800" cy="48132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2" name="_s3086"/>
            <p:cNvSpPr/>
            <p:nvPr/>
          </p:nvSpPr>
          <p:spPr>
            <a:xfrm>
              <a:off x="753840" y="5728680"/>
              <a:ext cx="8137800" cy="48276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c30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32" name="Text Box 25"/>
          <p:cNvSpPr/>
          <p:nvPr/>
        </p:nvSpPr>
        <p:spPr>
          <a:xfrm>
            <a:off x="755640" y="285264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Мова та ймовірність неонозначних перекладів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Text Box 26"/>
          <p:cNvSpPr/>
          <p:nvPr/>
        </p:nvSpPr>
        <p:spPr>
          <a:xfrm>
            <a:off x="755640" y="3645000"/>
            <a:ext cx="8064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Традиції та звички і їх вплив на споживання різних товарів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Text Box 27"/>
          <p:cNvSpPr/>
          <p:nvPr/>
        </p:nvSpPr>
        <p:spPr>
          <a:xfrm>
            <a:off x="755640" y="4292640"/>
            <a:ext cx="81374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Етика та її вплив на певні вчинки і норми поведінки людей</a:t>
            </a:r>
            <a:r>
              <a:rPr b="1" i="1" lang="ru-RU" sz="1800" spc="-1" strike="noStrike">
                <a:solidFill>
                  <a:srgbClr val="1f4aa9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Text Box 29"/>
          <p:cNvSpPr/>
          <p:nvPr/>
        </p:nvSpPr>
        <p:spPr>
          <a:xfrm>
            <a:off x="755640" y="501336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Естетика – з точки зору колірної гами і символів</a:t>
            </a:r>
            <a:r>
              <a:rPr b="1" i="1" lang="ru-RU" sz="2200" spc="-1" strike="noStrike">
                <a:solidFill>
                  <a:srgbClr val="1f4aa9"/>
                </a:solidFill>
                <a:latin typeface="Times New Roman"/>
              </a:rPr>
              <a:t> 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Text Box 30"/>
          <p:cNvSpPr/>
          <p:nvPr/>
        </p:nvSpPr>
        <p:spPr>
          <a:xfrm>
            <a:off x="755640" y="5661000"/>
            <a:ext cx="8137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Вірування, забобони та упередження </a:t>
            </a:r>
            <a:br>
              <a:rPr sz="2200"/>
            </a:br>
            <a:r>
              <a:rPr b="1" i="1" lang="uk-UA" sz="2200" spc="-1" strike="noStrike">
                <a:solidFill>
                  <a:srgbClr val="1f4aa9"/>
                </a:solidFill>
                <a:latin typeface="Times New Roman"/>
              </a:rPr>
              <a:t>і їх відображення у поведінці</a:t>
            </a:r>
            <a:endParaRPr b="0" i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6" name="explode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5:54:34Z</dcterms:created>
  <dc:creator>Duk, Soumatokhina</dc:creator>
  <dc:description/>
  <dc:language>en-US</dc:language>
  <cp:lastModifiedBy>Windows 7</cp:lastModifiedBy>
  <dcterms:modified xsi:type="dcterms:W3CDTF">2020-09-05T15:13:15Z</dcterms:modified>
  <cp:revision>447</cp:revision>
  <dc:subject>Conference</dc:subject>
  <dc:title>Duk N., Dnipropetrovs’k national university </dc:title>
</cp:coreProperties>
</file>