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3A1D-680F-439C-BBB7-F47BF4E4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2B3-E2C3-48A1-B309-51D685CE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37E-6792-47C6-BFBD-D4006A32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3C08-C2BC-4A52-B47A-5899D7B6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6264-FB54-49C5-B67F-07349CFA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7ED2-8E18-4D50-AC49-4C9CD34D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0982-11E0-4A8A-8C5C-FF2C89EF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0FB5-1218-4D1B-A36A-C98CFBFE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1052-80FA-4A9B-887F-F656661E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AB24-7181-4AB2-B61F-C9FD4A85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0D0A-6689-4E7F-94A6-3EE9C4C2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2622-879C-45F9-8175-33A9EF82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9D56-9CB5-4335-8EA2-94817BD6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41E0-6A92-4BD2-86F4-AB6536AE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D8CD-5240-4C68-B04D-A677531B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E5DE-67EF-4168-B174-E2FBCD2C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064A-E034-46AF-9CC3-56607AD6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FBB80-F10A-4C08-9EAE-EC4BF2A7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72BA9-23B9-44ED-9DF9-4890CD65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2A920-A6F0-4C7A-B2ED-D4B0521A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EC4DF-19C0-4FED-86E8-9B8C4B2A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1D902-0C91-4042-AC01-E2A1ACB4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C84-ED81-4CB3-A6E0-3F17A5B7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4A4D6-BB9D-4F81-B9B5-4FEE7237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5CC93-1CA8-4F11-A281-340C7C16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7273-4664-420F-819B-C4FF7E15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DB7A7-B86C-4772-813E-DDCD8B7A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659E2-4F90-4611-AB11-7A8568C6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01AAB-1F82-4496-8AD2-4BD5C7C0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759C7-5193-4553-949C-C3031541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515-1FF6-4ABD-958F-381143E6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CDF-601A-49B1-809D-5BC79724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13B-A28C-478C-8B9F-678F0F2F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227F-8D91-4A09-BB17-12E9DF64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2A34-7C74-4E33-85BE-A4B7E99C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9131-07F5-4836-8573-DB522C2C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7319-FB68-4DAC-87BC-71C12FD34DC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A24A-67EE-4484-B359-261C4F21F5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2385-C82D-46D1-BC99-AE4193319E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cc"/>
                </a:solidFill>
                <a:latin typeface="Times New Roman"/>
              </a:rPr>
              <a:t>Тема 2. Середовище глобального маркетингу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646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Критерії соціокультурної класифікації країн світ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95280" y="1557360"/>
            <a:ext cx="1871640" cy="122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1. Довжина ієрархічних східців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PD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395280" y="2997360"/>
            <a:ext cx="1873080" cy="122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2. Відобра-ження стану невизначе</a:t>
            </a:r>
            <a:r>
              <a:rPr b="1" i="1" lang="en-US" sz="1800" spc="-1" strike="noStrike">
                <a:solidFill>
                  <a:srgbClr val="126e1b"/>
                </a:solidFill>
                <a:latin typeface="Times New Roman"/>
              </a:rPr>
              <a:t>-</a:t>
            </a: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ності </a:t>
            </a: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UA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395280" y="4581360"/>
            <a:ext cx="1873080" cy="67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3. Індивідуал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IN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395280" y="5516640"/>
            <a:ext cx="1873080" cy="67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4. Маскулін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МА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29"/>
          <p:cNvSpPr/>
          <p:nvPr/>
        </p:nvSpPr>
        <p:spPr>
          <a:xfrm>
            <a:off x="2700360" y="1557360"/>
            <a:ext cx="6048360" cy="11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30"/>
          <p:cNvSpPr/>
          <p:nvPr/>
        </p:nvSpPr>
        <p:spPr>
          <a:xfrm>
            <a:off x="2700360" y="2997360"/>
            <a:ext cx="6048360" cy="1150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31"/>
          <p:cNvSpPr/>
          <p:nvPr/>
        </p:nvSpPr>
        <p:spPr>
          <a:xfrm>
            <a:off x="2700360" y="4581360"/>
            <a:ext cx="6048360" cy="64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Rectangle 32"/>
          <p:cNvSpPr/>
          <p:nvPr/>
        </p:nvSpPr>
        <p:spPr>
          <a:xfrm>
            <a:off x="2700360" y="5516640"/>
            <a:ext cx="6048360" cy="64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2771640" y="177336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прийняття рівності між людьми,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як в організації, так і між верствами суспільств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Text Box 34"/>
          <p:cNvSpPr/>
          <p:nvPr/>
        </p:nvSpPr>
        <p:spPr>
          <a:xfrm>
            <a:off x="2700360" y="314172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тавлення людей до планування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 свого майбутнього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Text Box 35"/>
          <p:cNvSpPr/>
          <p:nvPr/>
        </p:nvSpPr>
        <p:spPr>
          <a:xfrm>
            <a:off x="2700360" y="45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ажання людей діяти незалежно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бо схилятися до групового вибор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Text Box 36"/>
          <p:cNvSpPr/>
          <p:nvPr/>
        </p:nvSpPr>
        <p:spPr>
          <a:xfrm>
            <a:off x="2700360" y="5516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Віддання переваг чоловічим або жіночим цінностям у характері поведінк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37"/>
          <p:cNvSpPr/>
          <p:nvPr/>
        </p:nvSpPr>
        <p:spPr>
          <a:xfrm>
            <a:off x="2411280" y="2133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2411280" y="350028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2411280" y="4941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2411280" y="580536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9" name="explode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4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Виділені за даними критеріями геокультурні регіони світ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5" name="Diagram 26"/>
          <p:cNvGrpSpPr/>
          <p:nvPr/>
        </p:nvGrpSpPr>
        <p:grpSpPr>
          <a:xfrm>
            <a:off x="405000" y="1484280"/>
            <a:ext cx="8259840" cy="4096800"/>
            <a:chOff x="405000" y="1484280"/>
            <a:chExt cx="8259840" cy="4096800"/>
          </a:xfrm>
        </p:grpSpPr>
        <p:sp>
          <p:nvSpPr>
            <p:cNvPr id="456" name="_s4100"/>
            <p:cNvSpPr/>
            <p:nvPr/>
          </p:nvSpPr>
          <p:spPr>
            <a:xfrm flipH="1" flipV="1">
              <a:off x="3070800" y="280908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_s4101"/>
            <p:cNvSpPr/>
            <p:nvPr/>
          </p:nvSpPr>
          <p:spPr>
            <a:xfrm>
              <a:off x="1310400" y="1936440"/>
              <a:ext cx="2066760" cy="1024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_s4102"/>
            <p:cNvSpPr/>
            <p:nvPr/>
          </p:nvSpPr>
          <p:spPr>
            <a:xfrm flipH="1">
              <a:off x="2464920" y="3528360"/>
              <a:ext cx="1386720" cy="46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_s4103"/>
            <p:cNvSpPr/>
            <p:nvPr/>
          </p:nvSpPr>
          <p:spPr>
            <a:xfrm>
              <a:off x="405000" y="3021120"/>
              <a:ext cx="2066760" cy="1024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_s4104"/>
            <p:cNvSpPr/>
            <p:nvPr/>
          </p:nvSpPr>
          <p:spPr>
            <a:xfrm flipH="1">
              <a:off x="3071160" y="3830400"/>
              <a:ext cx="851040" cy="4269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_s4105"/>
            <p:cNvSpPr/>
            <p:nvPr/>
          </p:nvSpPr>
          <p:spPr>
            <a:xfrm>
              <a:off x="1310400" y="4106160"/>
              <a:ext cx="2066760" cy="1024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_s4106"/>
            <p:cNvSpPr/>
            <p:nvPr/>
          </p:nvSpPr>
          <p:spPr>
            <a:xfrm>
              <a:off x="4501440" y="3905640"/>
              <a:ext cx="30240" cy="6523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_s4107"/>
            <p:cNvSpPr/>
            <p:nvPr/>
          </p:nvSpPr>
          <p:spPr>
            <a:xfrm>
              <a:off x="3498480" y="4556520"/>
              <a:ext cx="2066040" cy="1024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_s4108"/>
            <p:cNvSpPr/>
            <p:nvPr/>
          </p:nvSpPr>
          <p:spPr>
            <a:xfrm>
              <a:off x="5261760" y="389556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_s4109"/>
            <p:cNvSpPr/>
            <p:nvPr/>
          </p:nvSpPr>
          <p:spPr>
            <a:xfrm>
              <a:off x="5689800" y="4107600"/>
              <a:ext cx="2066040" cy="10245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_s4110"/>
            <p:cNvSpPr/>
            <p:nvPr/>
          </p:nvSpPr>
          <p:spPr>
            <a:xfrm>
              <a:off x="5652360" y="3528360"/>
              <a:ext cx="1174320" cy="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_s4111"/>
            <p:cNvSpPr/>
            <p:nvPr/>
          </p:nvSpPr>
          <p:spPr>
            <a:xfrm>
              <a:off x="6598080" y="3021120"/>
              <a:ext cx="2066760" cy="102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_s4112"/>
            <p:cNvSpPr/>
            <p:nvPr/>
          </p:nvSpPr>
          <p:spPr>
            <a:xfrm flipV="1">
              <a:off x="5578560" y="2696040"/>
              <a:ext cx="730440" cy="36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_s4113"/>
            <p:cNvSpPr/>
            <p:nvPr/>
          </p:nvSpPr>
          <p:spPr>
            <a:xfrm>
              <a:off x="5689800" y="1935000"/>
              <a:ext cx="2066040" cy="10242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_s4114"/>
            <p:cNvSpPr/>
            <p:nvPr/>
          </p:nvSpPr>
          <p:spPr>
            <a:xfrm flipV="1">
              <a:off x="4532040" y="2391840"/>
              <a:ext cx="39600" cy="6307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_s4115"/>
            <p:cNvSpPr/>
            <p:nvPr/>
          </p:nvSpPr>
          <p:spPr>
            <a:xfrm>
              <a:off x="3498480" y="1484280"/>
              <a:ext cx="2066040" cy="1026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_s4116"/>
            <p:cNvSpPr/>
            <p:nvPr/>
          </p:nvSpPr>
          <p:spPr>
            <a:xfrm>
              <a:off x="3498480" y="3022920"/>
              <a:ext cx="2066040" cy="1024200"/>
            </a:xfrm>
            <a:prstGeom prst="roundRect">
              <a:avLst>
                <a:gd name="adj" fmla="val 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Text Box 48"/>
          <p:cNvSpPr/>
          <p:nvPr/>
        </p:nvSpPr>
        <p:spPr>
          <a:xfrm rot="561600">
            <a:off x="3634920" y="299700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Геокультурні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регіони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сві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Text Box 50"/>
          <p:cNvSpPr/>
          <p:nvPr/>
        </p:nvSpPr>
        <p:spPr>
          <a:xfrm rot="604200">
            <a:off x="3779640" y="1700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Північ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Text Box 51"/>
          <p:cNvSpPr/>
          <p:nvPr/>
        </p:nvSpPr>
        <p:spPr>
          <a:xfrm rot="604200">
            <a:off x="5866920" y="22050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нгл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Text Box 52"/>
          <p:cNvSpPr/>
          <p:nvPr/>
        </p:nvSpPr>
        <p:spPr>
          <a:xfrm rot="604200">
            <a:off x="6587280" y="328464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Германомовний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Text Box 53"/>
          <p:cNvSpPr/>
          <p:nvPr/>
        </p:nvSpPr>
        <p:spPr>
          <a:xfrm rot="604200">
            <a:off x="5940000" y="4149720"/>
            <a:ext cx="1881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Text Box 54"/>
          <p:cNvSpPr/>
          <p:nvPr/>
        </p:nvSpPr>
        <p:spPr>
          <a:xfrm rot="604200">
            <a:off x="3634920" y="4581360"/>
            <a:ext cx="19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Text Box 55"/>
          <p:cNvSpPr/>
          <p:nvPr/>
        </p:nvSpPr>
        <p:spPr>
          <a:xfrm rot="604200">
            <a:off x="1546920" y="4221000"/>
            <a:ext cx="17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Text Box 56"/>
          <p:cNvSpPr/>
          <p:nvPr/>
        </p:nvSpPr>
        <p:spPr>
          <a:xfrm rot="604200">
            <a:off x="610920" y="328464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Text Box 57"/>
          <p:cNvSpPr/>
          <p:nvPr/>
        </p:nvSpPr>
        <p:spPr>
          <a:xfrm rot="604200">
            <a:off x="1331640" y="22050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лизькосхід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Text Box 59"/>
          <p:cNvSpPr/>
          <p:nvPr/>
        </p:nvSpPr>
        <p:spPr>
          <a:xfrm rot="604200">
            <a:off x="610560" y="3141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Text Box 60"/>
          <p:cNvSpPr/>
          <p:nvPr/>
        </p:nvSpPr>
        <p:spPr>
          <a:xfrm>
            <a:off x="539640" y="551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cc"/>
                </a:solidFill>
                <a:latin typeface="Tahoma"/>
              </a:rPr>
              <a:t>Кожен з цих регіонів характеризується своїми особливостями національних культур на рівні менталітет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олітико-правове середовище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Organization Chart 49"/>
          <p:cNvGrpSpPr/>
          <p:nvPr/>
        </p:nvGrpSpPr>
        <p:grpSpPr>
          <a:xfrm>
            <a:off x="684360" y="2108160"/>
            <a:ext cx="8134920" cy="4102200"/>
            <a:chOff x="684360" y="2108160"/>
            <a:chExt cx="8134920" cy="4102200"/>
          </a:xfrm>
        </p:grpSpPr>
        <p:cxnSp>
          <p:nvCxnSpPr>
            <p:cNvPr id="369" name="_s1028"/>
            <p:cNvCxnSpPr>
              <a:stCxn id="370" idx="0"/>
              <a:endCxn id="371" idx="2"/>
            </p:cNvCxnSpPr>
            <p:nvPr/>
          </p:nvCxnSpPr>
          <p:spPr>
            <a:xfrm flipV="1" rot="16200000">
              <a:off x="5661720" y="2380320"/>
              <a:ext cx="650520" cy="216648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cxnSp>
          <p:nvCxnSpPr>
            <p:cNvPr id="372" name="_s1029"/>
            <p:cNvCxnSpPr/>
            <p:nvPr/>
          </p:nvCxnSpPr>
          <p:spPr>
            <a:xfrm flipH="1" flipV="1" rot="5400000">
              <a:off x="3098520" y="2234880"/>
              <a:ext cx="650520" cy="245772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sp>
          <p:nvSpPr>
            <p:cNvPr id="371" name="_s1030"/>
            <p:cNvSpPr/>
            <p:nvPr/>
          </p:nvSpPr>
          <p:spPr>
            <a:xfrm>
              <a:off x="1825200" y="2108160"/>
              <a:ext cx="6157800" cy="10310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1"/>
            <p:cNvSpPr/>
            <p:nvPr/>
          </p:nvSpPr>
          <p:spPr>
            <a:xfrm>
              <a:off x="684360" y="3789000"/>
              <a:ext cx="352764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32"/>
            <p:cNvSpPr/>
            <p:nvPr/>
          </p:nvSpPr>
          <p:spPr>
            <a:xfrm>
              <a:off x="5321880" y="3789000"/>
              <a:ext cx="349740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" name="Text Box 59"/>
          <p:cNvSpPr/>
          <p:nvPr/>
        </p:nvSpPr>
        <p:spPr>
          <a:xfrm>
            <a:off x="1908000" y="2205000"/>
            <a:ext cx="56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imes New Roman"/>
              </a:rPr>
              <a:t>Найважливіші складові міжнародного маркетингового політико-правового середовищ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Text Box 60"/>
          <p:cNvSpPr/>
          <p:nvPr/>
        </p:nvSpPr>
        <p:spPr>
          <a:xfrm>
            <a:off x="826920" y="422100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Політичний устрій </a:t>
            </a:r>
            <a:br>
              <a:rPr sz="2400"/>
            </a:b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в країні та політична стабільність у майбутньом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Text Box 61"/>
          <p:cNvSpPr/>
          <p:nvPr/>
        </p:nvSpPr>
        <p:spPr>
          <a:xfrm>
            <a:off x="5508720" y="3933720"/>
            <a:ext cx="3168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Державна економічна політика </a:t>
            </a:r>
            <a:r>
              <a:rPr b="0" lang="uk-UA" sz="1800" spc="-1" strike="noStrike">
                <a:solidFill>
                  <a:srgbClr val="1f4aa9"/>
                </a:solidFill>
                <a:latin typeface="Times New Roman"/>
              </a:rPr>
              <a:t>(співвідношення між лібералізацією та протекціонізмом у зовнішньоекономічній стратегії)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c30520"/>
                </a:solidFill>
                <a:latin typeface="Tahoma"/>
              </a:rPr>
              <a:t>Державна економічна політика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 передбачає насамперед  стан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законодавства, що регулює господарську діяльність. 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Особливо в міжнародному маркетингу враховуються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такі види обмежень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1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Валютний контро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регулювання обсягів готівки в іноземній валюті, що ввозиться та вивозиться, а також її обмінного курсу стосовно національної та інших валют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2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Тарифні методи регулювання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ний тариф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зведення ставок мита, що застосовуються до товарів, які перетинають митний кордон, відповідно товарної номенклатури ЗЕД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о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обов’язковий платіж, що стягується митними органами при перетинанні товаром кордону країни та є умовою експорту або імпорту, буває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експортне, імпортне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транзитне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3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Нетарифні кількісні методи регулювання –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адміністративні обмеження щодо торгового обігу, що визначають кількість та номенклатуру товарів, дозволених до експорту або імпорту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квот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 Види квот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індивідуальна;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ліценз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. Види ліцензій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разова, генеральна, 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автоматична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Прихований протекціонізм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технічні бар</a:t>
            </a:r>
            <a:r>
              <a:rPr b="0" lang="en-US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’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є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нутрішні податки на імпортовані това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політика державних закупіве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имоги про вміст місцевих компонентів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5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Фінансові методи торгової політики: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субсидії експортерам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– грошові виплати, спрямовані на підтримку національних виробників та на дискримінацію імпорту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експортне кредитуванн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кредитування національних екмпортерів та іноземних імпортерів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демпінгова політика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заохочення просування товарів на зовнішній ринок за рахунок зниження експортних цін нижче нормального рівня, що існує на даному ринку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Неекономічні методи регулювання 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являють собою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торгові угоди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різновиди міждержавних угод, що встановлюють принципи й режими двосторонньої торгівлі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1196640"/>
            <a:ext cx="8502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b52a13"/>
                </a:solidFill>
                <a:latin typeface="Times New Roman"/>
              </a:rPr>
              <a:t>Основні правові режими регулювання міжнародної торгівлі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Group 70"/>
          <p:cNvGrpSpPr/>
          <p:nvPr/>
        </p:nvGrpSpPr>
        <p:grpSpPr>
          <a:xfrm>
            <a:off x="250920" y="1916280"/>
            <a:ext cx="4392000" cy="3673440"/>
            <a:chOff x="250920" y="1916280"/>
            <a:chExt cx="4392000" cy="3673440"/>
          </a:xfrm>
        </p:grpSpPr>
        <p:sp>
          <p:nvSpPr>
            <p:cNvPr id="382" name="AutoShape 71"/>
            <p:cNvSpPr/>
            <p:nvPr/>
          </p:nvSpPr>
          <p:spPr>
            <a:xfrm>
              <a:off x="371160" y="1979280"/>
              <a:ext cx="415332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100000">
                  <a:srgbClr val="ff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Rectangle 72"/>
            <p:cNvSpPr/>
            <p:nvPr/>
          </p:nvSpPr>
          <p:spPr>
            <a:xfrm>
              <a:off x="250920" y="1916280"/>
              <a:ext cx="439200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Text Box 73"/>
            <p:cNvSpPr/>
            <p:nvPr/>
          </p:nvSpPr>
          <p:spPr>
            <a:xfrm>
              <a:off x="371160" y="2041920"/>
              <a:ext cx="4035960" cy="32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Режим найбільшого сприяння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надання країнами, що домовляються, одна одній усіх прав, переваг та пільг, якими користується або буде користуватися будь-яка третя держава.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Але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країни, що надають одна одній пільги в межах інтеграційних угруповань, мають право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поширювати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їх на треті країни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5" name="Group 78"/>
          <p:cNvGrpSpPr/>
          <p:nvPr/>
        </p:nvGrpSpPr>
        <p:grpSpPr>
          <a:xfrm>
            <a:off x="4572000" y="1916280"/>
            <a:ext cx="4392360" cy="3673440"/>
            <a:chOff x="4572000" y="1916280"/>
            <a:chExt cx="4392360" cy="3673440"/>
          </a:xfrm>
        </p:grpSpPr>
        <p:sp>
          <p:nvSpPr>
            <p:cNvPr id="386" name="AutoShape 79"/>
            <p:cNvSpPr/>
            <p:nvPr/>
          </p:nvSpPr>
          <p:spPr>
            <a:xfrm>
              <a:off x="4692240" y="1979280"/>
              <a:ext cx="415368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50000">
                  <a:srgbClr val="ffccff"/>
                </a:gs>
                <a:gs pos="100000">
                  <a:srgbClr val="765e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Rectangle 80"/>
            <p:cNvSpPr/>
            <p:nvPr/>
          </p:nvSpPr>
          <p:spPr>
            <a:xfrm>
              <a:off x="4572000" y="1916280"/>
              <a:ext cx="439236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Text Box 81"/>
            <p:cNvSpPr/>
            <p:nvPr/>
          </p:nvSpPr>
          <p:spPr>
            <a:xfrm>
              <a:off x="4692240" y="2041920"/>
              <a:ext cx="403632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Національний режим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умови економічних відносин між державами, за яких одна держава надає іноземним фізичним та юридичним особам режим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менш сприятливий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, аніж для вітчизняних юридичних та фізичних осіб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9" name="Text Box 82"/>
          <p:cNvSpPr/>
          <p:nvPr/>
        </p:nvSpPr>
        <p:spPr>
          <a:xfrm>
            <a:off x="468360" y="573408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30520"/>
                </a:solidFill>
                <a:latin typeface="Times New Roman"/>
              </a:rPr>
              <a:t>В межах Всесвітньої торгової організації (ВТО) універсально визнаною основою для міжнародної торгівлі є режим найбільшого сприяння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Кожна країна, кожний ринок характеризується певними традиціями, звичаями, вдачами в поведінці людей, формуванні їхніх навичок і смаків, що обумовлює можливість реалізації тих чи інших товарів кінцевим споживачам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Існує декілька підходів щодо характеристики </a:t>
            </a:r>
            <a:r>
              <a:rPr b="0" i="1" lang="uk-UA" sz="2400" spc="-1" strike="noStrike">
                <a:solidFill>
                  <a:srgbClr val="7e7c4a"/>
                </a:solidFill>
                <a:latin typeface="Tahoma"/>
              </a:rPr>
              <a:t>соціокультурного середовища</a:t>
            </a: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 маркетингу. Суть їх полягає у визначенні цінностей і ступеня залежності розвитку кожної людини від рівня розвитку суспільства в цілому. Ця концепція ґрунтується на тому, що всебічне охоплення аспектів життя кожного індивідууму прямо впливає на формування моделі поведінки в суспільстві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-360" y="907920"/>
            <a:ext cx="8969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оціокультурне середовище 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b52a13"/>
                </a:solidFill>
                <a:latin typeface="Times New Roman"/>
              </a:rPr>
              <a:t>Основні елементи соціокультурного середовища міжнародного маркетингу</a:t>
            </a:r>
            <a:endParaRPr b="0" i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3" name="Diagram 28"/>
          <p:cNvGrpSpPr/>
          <p:nvPr/>
        </p:nvGrpSpPr>
        <p:grpSpPr>
          <a:xfrm>
            <a:off x="693720" y="1705680"/>
            <a:ext cx="8044560" cy="4742280"/>
            <a:chOff x="693720" y="1705680"/>
            <a:chExt cx="8044560" cy="4742280"/>
          </a:xfrm>
        </p:grpSpPr>
        <p:sp>
          <p:nvSpPr>
            <p:cNvPr id="394" name="_s2052"/>
            <p:cNvSpPr/>
            <p:nvPr/>
          </p:nvSpPr>
          <p:spPr>
            <a:xfrm flipH="1" flipV="1">
              <a:off x="329040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_s2053"/>
            <p:cNvSpPr/>
            <p:nvPr/>
          </p:nvSpPr>
          <p:spPr>
            <a:xfrm>
              <a:off x="1575360" y="222768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_s2054"/>
            <p:cNvSpPr/>
            <p:nvPr/>
          </p:nvSpPr>
          <p:spPr>
            <a:xfrm flipH="1">
              <a:off x="269964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_s2055"/>
            <p:cNvSpPr/>
            <p:nvPr/>
          </p:nvSpPr>
          <p:spPr>
            <a:xfrm>
              <a:off x="6937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_s2056"/>
            <p:cNvSpPr/>
            <p:nvPr/>
          </p:nvSpPr>
          <p:spPr>
            <a:xfrm flipH="1">
              <a:off x="329040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_s2057"/>
            <p:cNvSpPr/>
            <p:nvPr/>
          </p:nvSpPr>
          <p:spPr>
            <a:xfrm>
              <a:off x="1575360" y="4739760"/>
              <a:ext cx="201276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_s2058"/>
            <p:cNvSpPr/>
            <p:nvPr/>
          </p:nvSpPr>
          <p:spPr>
            <a:xfrm>
              <a:off x="4713120" y="467028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_s2059"/>
            <p:cNvSpPr/>
            <p:nvPr/>
          </p:nvSpPr>
          <p:spPr>
            <a:xfrm>
              <a:off x="3706560" y="526140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_s2060"/>
            <p:cNvSpPr/>
            <p:nvPr/>
          </p:nvSpPr>
          <p:spPr>
            <a:xfrm>
              <a:off x="542376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_s2061"/>
            <p:cNvSpPr/>
            <p:nvPr/>
          </p:nvSpPr>
          <p:spPr>
            <a:xfrm>
              <a:off x="5841000" y="474156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_s2062"/>
            <p:cNvSpPr/>
            <p:nvPr/>
          </p:nvSpPr>
          <p:spPr>
            <a:xfrm>
              <a:off x="571896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_s2063"/>
            <p:cNvSpPr/>
            <p:nvPr/>
          </p:nvSpPr>
          <p:spPr>
            <a:xfrm>
              <a:off x="67255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_s2064"/>
            <p:cNvSpPr/>
            <p:nvPr/>
          </p:nvSpPr>
          <p:spPr>
            <a:xfrm flipV="1">
              <a:off x="542376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_s2065"/>
            <p:cNvSpPr/>
            <p:nvPr/>
          </p:nvSpPr>
          <p:spPr>
            <a:xfrm>
              <a:off x="5841000" y="2225880"/>
              <a:ext cx="201204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_s2066"/>
            <p:cNvSpPr/>
            <p:nvPr/>
          </p:nvSpPr>
          <p:spPr>
            <a:xfrm flipV="1">
              <a:off x="4713120" y="289224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_s2067"/>
            <p:cNvSpPr/>
            <p:nvPr/>
          </p:nvSpPr>
          <p:spPr>
            <a:xfrm>
              <a:off x="3706560" y="170568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_s2068"/>
            <p:cNvSpPr/>
            <p:nvPr/>
          </p:nvSpPr>
          <p:spPr>
            <a:xfrm>
              <a:off x="3706560" y="3485880"/>
              <a:ext cx="2012040" cy="1185840"/>
            </a:xfrm>
            <a:prstGeom prst="ellipse">
              <a:avLst/>
            </a:prstGeom>
            <a:solidFill>
              <a:srgbClr val="3bf907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Основні елементи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оціокультурного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ередовища </a:t>
              </a:r>
              <a:endParaRPr b="0" i="1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1" name="Text Box 56"/>
          <p:cNvSpPr/>
          <p:nvPr/>
        </p:nvSpPr>
        <p:spPr>
          <a:xfrm>
            <a:off x="5940360" y="2349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Цінності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а норм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67"/>
          <p:cNvSpPr/>
          <p:nvPr/>
        </p:nvSpPr>
        <p:spPr>
          <a:xfrm>
            <a:off x="3924360" y="1844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елігія та церкв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68"/>
          <p:cNvSpPr/>
          <p:nvPr/>
        </p:nvSpPr>
        <p:spPr>
          <a:xfrm>
            <a:off x="6877080" y="36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івень освіт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69"/>
          <p:cNvSpPr/>
          <p:nvPr/>
        </p:nvSpPr>
        <p:spPr>
          <a:xfrm>
            <a:off x="6012000" y="4869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Наука та мистецтво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Text Box 70"/>
          <p:cNvSpPr/>
          <p:nvPr/>
        </p:nvSpPr>
        <p:spPr>
          <a:xfrm>
            <a:off x="3924360" y="54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олітичн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Text Box 71"/>
          <p:cNvSpPr/>
          <p:nvPr/>
        </p:nvSpPr>
        <p:spPr>
          <a:xfrm>
            <a:off x="1763640" y="4869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равов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900000" y="3645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Соціальна організація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73"/>
          <p:cNvSpPr/>
          <p:nvPr/>
        </p:nvSpPr>
        <p:spPr>
          <a:xfrm>
            <a:off x="1763640" y="2349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не середовище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4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Найважливіші для формування маркетингових програм показники соціокультурного середовища країн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0" name="Organization Chart 7"/>
          <p:cNvGrpSpPr/>
          <p:nvPr/>
        </p:nvGrpSpPr>
        <p:grpSpPr>
          <a:xfrm>
            <a:off x="179280" y="2108160"/>
            <a:ext cx="8712360" cy="4103280"/>
            <a:chOff x="179280" y="2108160"/>
            <a:chExt cx="8712360" cy="4103280"/>
          </a:xfrm>
        </p:grpSpPr>
        <p:cxnSp>
          <p:nvCxnSpPr>
            <p:cNvPr id="421" name="_s3076"/>
            <p:cNvCxnSpPr>
              <a:stCxn id="422" idx="1"/>
              <a:endCxn id="423" idx="2"/>
            </p:cNvCxnSpPr>
            <p:nvPr/>
          </p:nvCxnSpPr>
          <p:spPr>
            <a:xfrm flipH="1" rot="10800000">
              <a:off x="752760" y="2590200"/>
              <a:ext cx="2886120" cy="3379680"/>
            </a:xfrm>
            <a:prstGeom prst="bentConnector4">
              <a:avLst>
                <a:gd name="adj1" fmla="val -3954"/>
                <a:gd name="adj2" fmla="val 53542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4" name="_s3077"/>
            <p:cNvCxnSpPr>
              <a:stCxn id="425" idx="1"/>
              <a:endCxn id="423" idx="2"/>
            </p:cNvCxnSpPr>
            <p:nvPr/>
          </p:nvCxnSpPr>
          <p:spPr>
            <a:xfrm flipH="1" rot="10800000">
              <a:off x="752760" y="2590200"/>
              <a:ext cx="2886120" cy="2655360"/>
            </a:xfrm>
            <a:prstGeom prst="bentConnector4">
              <a:avLst>
                <a:gd name="adj1" fmla="val -3954"/>
                <a:gd name="adj2" fmla="val 54508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6" name="_s3078"/>
            <p:cNvCxnSpPr>
              <a:stCxn id="427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932480"/>
            </a:xfrm>
            <a:prstGeom prst="bentConnector4">
              <a:avLst>
                <a:gd name="adj1" fmla="val -3954"/>
                <a:gd name="adj2" fmla="val 56195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8" name="_s3079"/>
            <p:cNvCxnSpPr>
              <a:stCxn id="429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207440"/>
            </a:xfrm>
            <a:prstGeom prst="bentConnector4">
              <a:avLst>
                <a:gd name="adj1" fmla="val -3954"/>
                <a:gd name="adj2" fmla="val 59916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30" name="_s3080"/>
            <p:cNvCxnSpPr>
              <a:stCxn id="431" idx="1"/>
              <a:endCxn id="423" idx="2"/>
            </p:cNvCxnSpPr>
            <p:nvPr/>
          </p:nvCxnSpPr>
          <p:spPr>
            <a:xfrm flipH="1" rot="10800000">
              <a:off x="753480" y="2590200"/>
              <a:ext cx="2880720" cy="433440"/>
            </a:xfrm>
            <a:prstGeom prst="bentConnector4">
              <a:avLst>
                <a:gd name="adj1" fmla="val -3962"/>
                <a:gd name="adj2" fmla="val 77971"/>
              </a:avLst>
            </a:prstGeom>
            <a:ln w="28440">
              <a:solidFill>
                <a:srgbClr val="c30520"/>
              </a:solidFill>
              <a:miter/>
            </a:ln>
          </p:spPr>
        </p:cxnSp>
        <p:sp>
          <p:nvSpPr>
            <p:cNvPr id="423" name="_s3081"/>
            <p:cNvSpPr/>
            <p:nvPr/>
          </p:nvSpPr>
          <p:spPr>
            <a:xfrm>
              <a:off x="179280" y="2108160"/>
              <a:ext cx="691524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2f"/>
                </a:gs>
                <a:gs pos="50000">
                  <a:srgbClr val="ffff66"/>
                </a:gs>
                <a:gs pos="100000">
                  <a:srgbClr val="75752f"/>
                </a:gs>
              </a:gsLst>
              <a:lin ang="8100000"/>
            </a:gra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Найголовніші для маркетингу показники та риси </a:t>
              </a:r>
              <a:br>
                <a:rPr sz="1800"/>
              </a:b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соціокультурного середовища країн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_s3082"/>
            <p:cNvSpPr/>
            <p:nvPr/>
          </p:nvSpPr>
          <p:spPr>
            <a:xfrm>
              <a:off x="753840" y="2780280"/>
              <a:ext cx="8137800" cy="484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_s3083"/>
            <p:cNvSpPr/>
            <p:nvPr/>
          </p:nvSpPr>
          <p:spPr>
            <a:xfrm>
              <a:off x="753840" y="355680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_s3084"/>
            <p:cNvSpPr/>
            <p:nvPr/>
          </p:nvSpPr>
          <p:spPr>
            <a:xfrm>
              <a:off x="753840" y="428112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_s3085"/>
            <p:cNvSpPr/>
            <p:nvPr/>
          </p:nvSpPr>
          <p:spPr>
            <a:xfrm>
              <a:off x="753840" y="5005800"/>
              <a:ext cx="8137800" cy="4813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_s3086"/>
            <p:cNvSpPr/>
            <p:nvPr/>
          </p:nvSpPr>
          <p:spPr>
            <a:xfrm>
              <a:off x="753840" y="572868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2" name="Text Box 25"/>
          <p:cNvSpPr/>
          <p:nvPr/>
        </p:nvSpPr>
        <p:spPr>
          <a:xfrm>
            <a:off x="755640" y="2852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а та ймовірність неонозначних перекладів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755640" y="3645000"/>
            <a:ext cx="8064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радиції та звички і їх вплив на споживання різних товарів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755640" y="4292640"/>
            <a:ext cx="8137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тика та її вплив на певні вчинки і норми поведінки людей</a:t>
            </a:r>
            <a:r>
              <a:rPr b="1" i="1" lang="ru-RU" sz="18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Text Box 29"/>
          <p:cNvSpPr/>
          <p:nvPr/>
        </p:nvSpPr>
        <p:spPr>
          <a:xfrm>
            <a:off x="755640" y="5013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стетика – з точки зору колірної гами і символів</a:t>
            </a:r>
            <a:r>
              <a:rPr b="1" i="1" lang="ru-RU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755640" y="5661000"/>
            <a:ext cx="8137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Вірування, забобони та упередження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і їх відображення у поведінці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3:15Z</dcterms:modified>
  <cp:revision>447</cp:revision>
  <dc:subject>Conference</dc:subject>
  <dc:title>Duk N., Dnipropetrovs’k national university </dc:title>
</cp:coreProperties>
</file>