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2BC6-F9CD-4820-9B21-4078793D37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09AE-E708-43F2-AE26-82B717CBA2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3355-2623-4B9E-8C8B-EC773A4FE7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B9DE-8565-414E-843F-00EA2893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FA17-049E-429C-9A66-181F081F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705-26D1-4C64-84AE-3A6617FB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7030-75B2-4525-9B34-37F070EC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44EA-BBFC-4C98-9CA8-78820BDF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3D70-ADA1-4714-B0C8-23CAC503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09C3-8F3B-4B7A-8BEB-2E56C987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0C7-3F0C-4CFA-BA1E-9E0C5236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FB4B-1438-4FB6-8287-6DD18574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E597-18EC-4B4F-BAC7-3C72BFA1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D3D2-A175-44AB-AD5D-E1A9B4FF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27E9-BD49-43F0-A787-02FC29DF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9485-8288-42E0-B33E-354ED7D1EC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4360" y="692280"/>
            <a:ext cx="77724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Тема 3. Оцінка міжнародної конкурентоспроможності підприємств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971640" y="213372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іагностика міжнародної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71640" y="3500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Методи та показники оцінки міжнародно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ості компан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971640" y="47973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загальнення результатів конкурентної діагностики компан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268280"/>
          <a:ext cx="8209080" cy="2416320"/>
        </p:xfrm>
        <a:graphic>
          <a:graphicData uri="http://schemas.openxmlformats.org/drawingml/2006/table">
            <a:tbl>
              <a:tblPr/>
              <a:tblGrid>
                <a:gridCol w="2181240"/>
                <a:gridCol w="2566800"/>
                <a:gridCol w="3461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ентоспроможність товару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Якість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здатність товару задовольняти потреби відповідно до його признач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ий мет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Ціна товар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611280" y="1773360"/>
            <a:ext cx="8142120" cy="3816360"/>
          </a:xfrm>
          <a:prstGeom prst="rect">
            <a:avLst/>
          </a:prstGeom>
          <a:gradFill rotWithShape="0">
            <a:gsLst>
              <a:gs pos="0">
                <a:srgbClr val="fffcf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КП=0,15 ЭП + 0,29 ФП + 0,23 ЭС + 0,33 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КП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ефіцієнт конкурентноздат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ченн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ю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фінансового положення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ефективності організації збуту і просування товару на рин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конкурентноздат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5; 0,29; 0,23; 0,33 - коефіцієнти вагомості критерії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9640" y="2133720"/>
            <a:ext cx="8142480" cy="38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58920" y="260280"/>
            <a:ext cx="6342120" cy="719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9640" y="1197000"/>
            <a:ext cx="814248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П = 0,29 КА + 0,20 КП 0,36 КЛ + 0,15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фінансового положення підприємства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носний показник автономії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латоспромож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ліквід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оборотності оборотних кош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476360" y="105264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9640" y="2637000"/>
            <a:ext cx="8142480" cy="30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 = 0,37РП + 0,29КЗ + 0,21КМ + 0,14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організації збуту і просування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продаж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З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товареності готовою продукціє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М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вантаження виробничих потуж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ефективності реклами і коштів стимулювання збу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1413000"/>
            <a:ext cx="86979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9640" y="1909080"/>
            <a:ext cx="79200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іагностика міжнародної конкурентоспроможності підприємства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— системний цільовий аналіз, спрямований на виявлення і оцінку фактичних та потенційних загроз для  розвитку підприєм­ства, внутрішніх проблем його функціонування як суб’єкта міжнародної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конкуренції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, визначення його переваг у порівнянні з конкурен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Базовими принципами оцінки рівня конкурентоспроможності підприємства є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63640" y="1988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комплексність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476360" y="27075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истемніст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619280" y="34995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б’єктив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619280" y="422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динаміч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763640" y="494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езперерв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763640" y="566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птималь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Основні показники оцінки конкурентоспроможності підприємства можна об’єднати в такі групи: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50920" y="12672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показники ефективності виробничої діяль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24000" y="16992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фінансовий  стан  підприєм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84360" y="2132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ефективність організації збуту та просування товару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84360" y="2564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ість товару.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258920" y="3213000"/>
            <a:ext cx="6849720" cy="2592360"/>
            <a:chOff x="1258920" y="3213000"/>
            <a:chExt cx="6849720" cy="2592360"/>
          </a:xfrm>
        </p:grpSpPr>
        <p:sp>
          <p:nvSpPr>
            <p:cNvPr id="69" name="Rectangle 11"/>
            <p:cNvSpPr/>
            <p:nvPr/>
          </p:nvSpPr>
          <p:spPr>
            <a:xfrm>
              <a:off x="2809800" y="4134600"/>
              <a:ext cx="4265280" cy="684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курентоспроможність підприєм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591156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омерційн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58524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иробнич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4"/>
            <p:cNvSpPr/>
            <p:nvPr/>
          </p:nvSpPr>
          <p:spPr>
            <a:xfrm>
              <a:off x="1258920" y="32166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Фінанс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591156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адр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>
              <a:off x="358524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хнологічн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7"/>
            <p:cNvSpPr/>
            <p:nvPr/>
          </p:nvSpPr>
          <p:spPr>
            <a:xfrm>
              <a:off x="125892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Управлінськ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2422080" y="372996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H="1">
              <a:off x="4748760" y="372996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4748760" y="372996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1"/>
            <p:cNvSpPr/>
            <p:nvPr/>
          </p:nvSpPr>
          <p:spPr>
            <a:xfrm flipV="1">
              <a:off x="4748760" y="492732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2"/>
            <p:cNvSpPr/>
            <p:nvPr/>
          </p:nvSpPr>
          <p:spPr>
            <a:xfrm flipV="1">
              <a:off x="2422080" y="492732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 flipH="1" flipV="1">
              <a:off x="4748760" y="492732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4"/>
          <p:cNvSpPr/>
          <p:nvPr/>
        </p:nvSpPr>
        <p:spPr>
          <a:xfrm>
            <a:off x="324000" y="5876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Характеристика факторів внутрішнього середовища конкурентоспроможності виробничих підприємст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20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19"/>
          <p:cNvGraphicFramePr/>
          <p:nvPr/>
        </p:nvGraphicFramePr>
        <p:xfrm>
          <a:off x="826920" y="1197000"/>
          <a:ext cx="7518600" cy="417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3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51860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321"/>
          <p:cNvSpPr/>
          <p:nvPr/>
        </p:nvSpPr>
        <p:spPr>
          <a:xfrm>
            <a:off x="0" y="52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22"/>
          <p:cNvSpPr/>
          <p:nvPr/>
        </p:nvSpPr>
        <p:spPr>
          <a:xfrm>
            <a:off x="1763640" y="565992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Багатокутник конкурентоспроможності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826920" y="260280"/>
            <a:ext cx="7274160" cy="6337080"/>
            <a:chOff x="826920" y="260280"/>
            <a:chExt cx="7274160" cy="6337080"/>
          </a:xfrm>
        </p:grpSpPr>
        <p:sp>
          <p:nvSpPr>
            <p:cNvPr id="90" name="Rectangle 9"/>
            <p:cNvSpPr/>
            <p:nvPr/>
          </p:nvSpPr>
          <p:spPr>
            <a:xfrm>
              <a:off x="866520" y="260280"/>
              <a:ext cx="7228440" cy="6847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Фактори, що впливають на фінансову конкурентоспроможність  підприєм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826920" y="13456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88aa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перш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4622040" y="1345680"/>
              <a:ext cx="342612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друг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82692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доход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82692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витр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82692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прибутк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5"/>
            <p:cNvSpPr/>
            <p:nvPr/>
          </p:nvSpPr>
          <p:spPr>
            <a:xfrm>
              <a:off x="82692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та структура інвестиці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82692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капіталу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7"/>
            <p:cNvSpPr/>
            <p:nvPr/>
          </p:nvSpPr>
          <p:spPr>
            <a:xfrm>
              <a:off x="82692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майна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82692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Доступність додаткових джерел фінансуванн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462204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ентабельність капіталу та його ці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462204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ефективності використання оборотного капітал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462204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фінансової стійкості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462204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ліквід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462204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платоспроможності і кредитоспроможнос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4"/>
            <p:cNvSpPr/>
            <p:nvPr/>
          </p:nvSpPr>
          <p:spPr>
            <a:xfrm>
              <a:off x="462204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рентабель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462204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Ефективність інвестиційних вкладе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6"/>
            <p:cNvSpPr/>
            <p:nvPr/>
          </p:nvSpPr>
          <p:spPr>
            <a:xfrm flipH="1">
              <a:off x="1775160" y="945000"/>
              <a:ext cx="221364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7"/>
            <p:cNvSpPr/>
            <p:nvPr/>
          </p:nvSpPr>
          <p:spPr>
            <a:xfrm>
              <a:off x="4305960" y="945000"/>
              <a:ext cx="205560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971640" y="260280"/>
            <a:ext cx="7272360" cy="720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ритерії і показники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1052640"/>
          <a:ext cx="8604000" cy="5689440"/>
        </p:xfrm>
        <a:graphic>
          <a:graphicData uri="http://schemas.openxmlformats.org/drawingml/2006/table">
            <a:tbl>
              <a:tblPr/>
              <a:tblGrid>
                <a:gridCol w="2617560"/>
                <a:gridCol w="2611440"/>
                <a:gridCol w="337500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Ефективність виробничої діяльності підприєм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Витрати виробництва на одиницю продукції,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витрат при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і витра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Фондовіддача, ти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 середньорічна вартість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 Рентабельність товару, %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виробництва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100 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на собівартість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 Продуктивність праці, тис. руб./ чіл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організації виробництва і використання робочої си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спискова чисельність працівни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333360"/>
          <a:ext cx="8353440" cy="65152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е положенн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.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ефіцієнт автоном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незалежність підприємства від позикових джер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і кошти підприєм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сума джерел фінансув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Коефіцієнт платоспромо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здатність підприємства виконувати свої фінансові зобов’язання і вимірює імовірність банкрут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капіта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і зобов’яз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 Коефіцієнт абсолютної ліквід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якісний склад коштів, що є джерелами покриття поточних зобов’яза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і високоліквідні цінні папер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зобов’язанн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9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 Коефіцієнт оборотності оборотних кошт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боротних коштів. Відповідає часу, протягом яког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і кошти проходять усі стадії виробництва і звертання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чка від реалізаці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річний залишок оборотних кошт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476280"/>
          <a:ext cx="8353440" cy="59770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ість організації збуту і просування товару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 Рентабельність продажів, %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роботи підприємства на ринку, правильність установлення ціни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х 100 %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Коефіцієнт затовареності готовою продукціє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ступінь затовареності готовою продукцією. Ріст показника свідчить про зниження попи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нереалізовано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 Коефіцієнт завантаження виробничої поту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ділову активність підприємства, ефективність роботи служби побу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ча потуж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 Коефіцієнт ефективності реклами і коштів стимулювання збут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кономічну ефективність реклами і коштів стимулювання збут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на рекламу і стимулювання збут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іст прибутку від реалізації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7:20:58Z</dcterms:created>
  <dc:creator>sva</dc:creator>
  <dc:description/>
  <dc:language>en-US</dc:language>
  <cp:lastModifiedBy>Windows 7</cp:lastModifiedBy>
  <dcterms:modified xsi:type="dcterms:W3CDTF">2020-09-05T15:20:21Z</dcterms:modified>
  <cp:revision>62</cp:revision>
  <dc:subject/>
  <dc:title>Слайд 1</dc:title>
</cp:coreProperties>
</file>