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9459-A91D-4551-9E87-B7ECC8152F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B5F6-101D-4AEC-A32F-3CBC117BF3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FAEA-217F-4444-A6ED-C32EE97F3D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A6C-326E-4D89-97EF-53C4BA10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61F-A02E-42A8-AE74-F1D830FB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0225-5980-4ECB-A996-4BC7EFD6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9BF-FAAA-4718-8CBF-1B0761B1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1BAE-A90E-4608-833E-9CAEE5BF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4A4-2926-4C3A-B1E7-9B1D62D7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B31-1D19-40ED-B723-3B4D4EC3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2C7-D92A-433E-857C-EA72A2F9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55A-3230-49DA-AF5B-ED621EAC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FD2-19CC-4989-9707-32AC00FD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841-D2C4-4779-9FF7-4AA9AD94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E3C-75C7-4CA1-81FB-D03DCEF1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1A3D-D278-48FD-861B-34EDA77982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692280"/>
            <a:ext cx="77724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ема 3. Оцінка міжнародної конкурентоспроможності підприємств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2133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іагностика міжнародної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1640" y="350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Методи та показники оцінки міжнародно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ості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971640" y="479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загальнення результатів конкурентної діагностики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09080" cy="2416320"/>
        </p:xfrm>
        <a:graphic>
          <a:graphicData uri="http://schemas.openxmlformats.org/drawingml/2006/table">
            <a:tbl>
              <a:tblPr/>
              <a:tblGrid>
                <a:gridCol w="2181240"/>
                <a:gridCol w="2566800"/>
                <a:gridCol w="346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оспроможність това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Якість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здатність товару задовольняти потреби відповідно до його при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ий мет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Ціна товар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1280" y="1773360"/>
            <a:ext cx="8142120" cy="3816360"/>
          </a:xfrm>
          <a:prstGeom prst="rect">
            <a:avLst/>
          </a:prstGeom>
          <a:gradFill rotWithShape="0">
            <a:gsLst>
              <a:gs pos="0">
                <a:srgbClr val="fffcf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П=0,15 ЭП + 0,29 ФП + 0,23 ЭС + 0,33 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КП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іцієнт конкурентноздат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фінансового положення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ефективності організації збуту і просування товару на ри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конкурентноздат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; 0,29; 0,23; 0,33 - коефіцієнти вагомості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2133720"/>
            <a:ext cx="8142480" cy="38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260280"/>
            <a:ext cx="6342120" cy="719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1197000"/>
            <a:ext cx="814248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 = 0,29 КА + 0,20 КП 0,36 КЛ + 0,15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фінансового положення підприємст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носний показник автономії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латоспромож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ліквід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оборотності оборотних кош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476360" y="105264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2637000"/>
            <a:ext cx="814248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= 0,37РП + 0,29КЗ + 0,21КМ + 0,14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організації збуту і просування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продаж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З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товареності готов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вантаження виробничих поту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ефективності реклами і коштів стимулювання збу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1413000"/>
            <a:ext cx="86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9640" y="1909080"/>
            <a:ext cx="7920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іагностика міжнародної конкурентоспроможності підприємств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— системний цільовий аналіз, спрямований на виявлення і оцінку фактичних та потенційних загроз для  розвитку підприєм­ства, внутрішніх проблем його функціонування як суб’єкта міжнародної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нкуренції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визначення його переваг у порівнянні з конкур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азовими принципами оцінки рівня конкурентоспроможності підприємства 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63640" y="198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мплексність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476360" y="27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истем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19280" y="34995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б’єктив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9280" y="422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инаміч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763640" y="494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езперер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763640" y="56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птималь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новні показники оцінки конкурентоспроможності підприємства можна об’єднати в такі групи: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2672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показники ефективності виробнич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16992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фінансовий  стан  підприєм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4360" y="213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ефективність організації збуту та просування товару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25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ість товару.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258920" y="3213000"/>
            <a:ext cx="6849720" cy="2592360"/>
            <a:chOff x="1258920" y="3213000"/>
            <a:chExt cx="6849720" cy="2592360"/>
          </a:xfrm>
        </p:grpSpPr>
        <p:sp>
          <p:nvSpPr>
            <p:cNvPr id="69" name="Rectangle 11"/>
            <p:cNvSpPr/>
            <p:nvPr/>
          </p:nvSpPr>
          <p:spPr>
            <a:xfrm>
              <a:off x="2809800" y="4134600"/>
              <a:ext cx="4265280" cy="684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курентоспроможність підприєм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591156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ерційн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58524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иробнич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1258920" y="32166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інанс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591156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358524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ічн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125892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правлінськ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422080" y="372996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4748760" y="372996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4748760" y="372996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1"/>
            <p:cNvSpPr/>
            <p:nvPr/>
          </p:nvSpPr>
          <p:spPr>
            <a:xfrm flipV="1">
              <a:off x="4748760" y="492732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 flipV="1">
              <a:off x="2422080" y="492732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 flipH="1" flipV="1">
              <a:off x="4748760" y="492732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4"/>
          <p:cNvSpPr/>
          <p:nvPr/>
        </p:nvSpPr>
        <p:spPr>
          <a:xfrm>
            <a:off x="324000" y="58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Характеристика факторів внутрішнього середовища конкурентоспроможності виробничих підприємст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19"/>
          <p:cNvGraphicFramePr/>
          <p:nvPr/>
        </p:nvGraphicFramePr>
        <p:xfrm>
          <a:off x="826920" y="1197000"/>
          <a:ext cx="7518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3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5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21"/>
          <p:cNvSpPr/>
          <p:nvPr/>
        </p:nvSpPr>
        <p:spPr>
          <a:xfrm>
            <a:off x="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2"/>
          <p:cNvSpPr/>
          <p:nvPr/>
        </p:nvSpPr>
        <p:spPr>
          <a:xfrm>
            <a:off x="1763640" y="56599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агатокутник конкурентоспроможності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826920" y="260280"/>
            <a:ext cx="7274160" cy="6337080"/>
            <a:chOff x="826920" y="260280"/>
            <a:chExt cx="7274160" cy="6337080"/>
          </a:xfrm>
        </p:grpSpPr>
        <p:sp>
          <p:nvSpPr>
            <p:cNvPr id="90" name="Rectangle 9"/>
            <p:cNvSpPr/>
            <p:nvPr/>
          </p:nvSpPr>
          <p:spPr>
            <a:xfrm>
              <a:off x="866520" y="260280"/>
              <a:ext cx="7228440" cy="684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, що впливають на фінансову конкурентоспроможність  підприєм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826920" y="13456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88aa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перш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622040" y="1345680"/>
              <a:ext cx="342612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друг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82692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до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82692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ви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82692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прибут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82692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та структура інвестиц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82692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капіталу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82692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майна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82692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Доступність додаткових джерел фінансува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62204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ентабельність капіталу та його ці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62204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ефективності використання оборотного капіта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62204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фінансової стійкост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2204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ліквід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462204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платоспроможності і кредитоспроможн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62204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рентабель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462204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Ефективність інвестиційних вклад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 flipH="1">
              <a:off x="1775160" y="945000"/>
              <a:ext cx="221364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4305960" y="945000"/>
              <a:ext cx="205560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71640" y="260280"/>
            <a:ext cx="7272360" cy="720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терії і показники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052640"/>
          <a:ext cx="8604000" cy="5689440"/>
        </p:xfrm>
        <a:graphic>
          <a:graphicData uri="http://schemas.openxmlformats.org/drawingml/2006/table">
            <a:tbl>
              <a:tblPr/>
              <a:tblGrid>
                <a:gridCol w="2617560"/>
                <a:gridCol w="2611440"/>
                <a:gridCol w="3375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фективність виробничої діяльності підприєм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итрати виробництва на одиницю продукції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витрат при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Фондовіддача, ти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 середньорічна вартість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нтабельність товару, 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виробництва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100 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а собівартість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родуктивність праці, тис. руб./ чіл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організації виробництва і використання робочої с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спискова чисельність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33360"/>
          <a:ext cx="8353440" cy="65152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е положенн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.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ефіцієнт автоном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незалежність підприємства від позикових дже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підприєм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ума джерел фінанс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Коефіцієнт платоспромо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здатність підприємства виконувати свої фінансові зобов’язання і вимірює імовірність банкрут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зобов’яз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Коефіцієнт абсолютної лікв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якісний склад коштів, що є джерелами покриття поточних зобов’яз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і високоліквідні цінні папер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зобов’яз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Коефіцієнт оборотності оборотних кошт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боротних коштів. Відповідає часу, протягом яког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кошти проходять усі стадії виробництва і звертання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чка від реалізаці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ічний залишок оборотних кошт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 організації збуту і просування товар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Рентабельність продажів, %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роботи підприємства на ринку, правильність установлення ціни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х 100 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Коефіцієнт затовареності готовою продукціє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ступінь затовареності готовою продукцією. Ріст показника свідчить про зниження попи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нереалізовано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Коефіцієнт завантаження виробничої поту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ділову активність підприємства, ефективність роботи служби побу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ча потуж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Коефіцієнт ефективності реклами і коштів стимулювання збу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кономічну ефективність реклами і коштів стимулювання збут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рекламу і стимулювання збу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іст прибутку від реалізації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20:58Z</dcterms:created>
  <dc:creator>sva</dc:creator>
  <dc:description/>
  <dc:language>en-US</dc:language>
  <cp:lastModifiedBy>Windows 7</cp:lastModifiedBy>
  <dcterms:modified xsi:type="dcterms:W3CDTF">2020-09-05T15:20:21Z</dcterms:modified>
  <cp:revision>62</cp:revision>
  <dc:subject/>
  <dc:title>Слайд 1</dc:title>
</cp:coreProperties>
</file>