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0423-F34B-41D9-AF3C-D9BD99525A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46BD-BE1D-4DBD-B551-234D129F02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даток № 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D5EF-FBC4-4C32-A4B2-5D344E7CD8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даток № 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2CD9-CE55-4521-A863-BB7013EF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8D1C-74FC-4D07-92BF-AD2DEDED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FB33-4C58-4F25-9C6D-4E8C26018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9E01-2ECC-4320-BC5E-638283FAC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0D48-175B-444F-BB2A-B3C2B9F6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5A09-5A6C-4FF3-B38A-6EDE916E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9444-973E-468F-9860-C2360DA6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75F9-5694-4160-8144-DAEF64F2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C49A-FF72-4AFF-B423-D799AF03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CA74-E022-4738-BA86-B54F0859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0DA7-EDF6-499C-9D46-A705B941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0ABC-2846-4DE2-A94A-1F8EA214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D602-7558-4B5F-A1EA-6CF5724455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4360" y="692280"/>
            <a:ext cx="7772400" cy="12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Тема 3. Оцінка міжнародної конкурентоспроможності підприємства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971640" y="213372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Діагностика міжнародної конкурентоспроможності підприєм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971640" y="3500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Методи та показники оцінки міжнародної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конкурентоспроможності компані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971640" y="479736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Узагальнення результатів конкурентної діагностики компан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8360" y="1268280"/>
          <a:ext cx="8209080" cy="2416320"/>
        </p:xfrm>
        <a:graphic>
          <a:graphicData uri="http://schemas.openxmlformats.org/drawingml/2006/table">
            <a:tbl>
              <a:tblPr/>
              <a:tblGrid>
                <a:gridCol w="2181240"/>
                <a:gridCol w="2566800"/>
                <a:gridCol w="3461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ентоспроможність товару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 Якість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здатність товару задовольняти потреби відповідно до його призначе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ий мето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 Ціна товару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6"/>
          <p:cNvSpPr/>
          <p:nvPr/>
        </p:nvSpPr>
        <p:spPr>
          <a:xfrm>
            <a:off x="1258920" y="54936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611280" y="1773360"/>
            <a:ext cx="8142120" cy="3816360"/>
          </a:xfrm>
          <a:prstGeom prst="rect">
            <a:avLst/>
          </a:prstGeom>
          <a:gradFill rotWithShape="0">
            <a:gsLst>
              <a:gs pos="0">
                <a:srgbClr val="fffcf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КП=0,15 ЭП + 0,29 ФП + 0,23 ЭС + 0,33 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КП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ефіцієнт конкурентноздат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чення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ію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фінансового положення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С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ефективності організації збуту і просування товару на рин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конкурентноздат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5; 0,29; 0,23; 0,33 - коефіцієнти вагомості критерії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258920" y="54936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9640" y="2133720"/>
            <a:ext cx="8142480" cy="381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 = 0,31И + 0,19Ф + 0,40РТ + 0,10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витрат виробництва на одиницю продук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фондовіддач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родуктивності прац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258920" y="260280"/>
            <a:ext cx="6342120" cy="7192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539640" y="1197000"/>
            <a:ext cx="8142480" cy="525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 = 0,31И + 0,19Ф + 0,40РТ + 0,10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витрат виробництва на одиницю продук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фондовіддач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родуктивності прац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П = 0,29 КА + 0,20 КП 0,36 КЛ + 0,15 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фінансового положення підприємства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ідносний показник автономії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латоспромож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Л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ліквід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оборотності оборотних кошт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476360" y="105264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39640" y="2637000"/>
            <a:ext cx="8142480" cy="30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 = 0,37РП + 0,29КЗ + 0,21КМ + 0,14К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С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організації збуту і просування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продаж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З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затовареності готовою продукціє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М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завантаження виробничих потуж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Р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ефективності реклами і коштів стимулювання збу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0" y="1413000"/>
            <a:ext cx="86979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539640" y="1909080"/>
            <a:ext cx="792000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іагностика міжнародної конкурентоспроможності підприємства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— системний цільовий аналіз, спрямований на виявлення і оцінку фактичних та потенційних загроз для  розвитку підприєм­ства, внутрішніх проблем його функціонування як суб’єкта міжнародної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конкуренції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, визначення його переваг у порівнянні з конкурент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Базовими принципами оцінки рівня конкурентоспроможності підприємства є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763640" y="1988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комплексність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476360" y="27075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системність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619280" y="349956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об’єктивніст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619280" y="422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динамічн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763640" y="4941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безперервн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1763640" y="566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оптимальніст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Основні показники оцінки конкурентоспроможності підприємства можна об’єднати в такі групи: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50920" y="126720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показники ефективності виробничої діяльност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324000" y="169920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фінансовий  стан  підприєм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84360" y="21326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ефективність організації збуту та просування товару;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684360" y="256428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конкурентоспроможність товару.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0"/>
          <p:cNvGrpSpPr/>
          <p:nvPr/>
        </p:nvGrpSpPr>
        <p:grpSpPr>
          <a:xfrm>
            <a:off x="1258920" y="3213000"/>
            <a:ext cx="6849720" cy="2592360"/>
            <a:chOff x="1258920" y="3213000"/>
            <a:chExt cx="6849720" cy="2592360"/>
          </a:xfrm>
        </p:grpSpPr>
        <p:sp>
          <p:nvSpPr>
            <p:cNvPr id="69" name="Rectangle 11"/>
            <p:cNvSpPr/>
            <p:nvPr/>
          </p:nvSpPr>
          <p:spPr>
            <a:xfrm>
              <a:off x="2809800" y="4134600"/>
              <a:ext cx="4265280" cy="684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Конкурентоспроможність підприєм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5911560" y="32130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омерційні аспек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585240" y="32130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Виробнич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4"/>
            <p:cNvSpPr/>
            <p:nvPr/>
          </p:nvSpPr>
          <p:spPr>
            <a:xfrm>
              <a:off x="1258920" y="32166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Фінансов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591156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адров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6"/>
            <p:cNvSpPr/>
            <p:nvPr/>
          </p:nvSpPr>
          <p:spPr>
            <a:xfrm>
              <a:off x="358524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ехнологічн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7"/>
            <p:cNvSpPr/>
            <p:nvPr/>
          </p:nvSpPr>
          <p:spPr>
            <a:xfrm>
              <a:off x="125892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Управлінські аспек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2422080" y="3729960"/>
              <a:ext cx="232632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H="1">
              <a:off x="4748760" y="3729960"/>
              <a:ext cx="258480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4748760" y="3729960"/>
              <a:ext cx="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1"/>
            <p:cNvSpPr/>
            <p:nvPr/>
          </p:nvSpPr>
          <p:spPr>
            <a:xfrm flipV="1">
              <a:off x="4748760" y="4927320"/>
              <a:ext cx="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22"/>
            <p:cNvSpPr/>
            <p:nvPr/>
          </p:nvSpPr>
          <p:spPr>
            <a:xfrm flipV="1">
              <a:off x="2422080" y="4927320"/>
              <a:ext cx="232632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 flipH="1" flipV="1">
              <a:off x="4748760" y="4927320"/>
              <a:ext cx="258480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Rectangle 24"/>
          <p:cNvSpPr/>
          <p:nvPr/>
        </p:nvSpPr>
        <p:spPr>
          <a:xfrm>
            <a:off x="324000" y="58762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Характеристика факторів внутрішнього середовища конкурентоспроможності виробничих підприємст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20"/>
          <p:cNvSpPr/>
          <p:nvPr/>
        </p:nvSpPr>
        <p:spPr>
          <a:xfrm>
            <a:off x="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319"/>
          <p:cNvGraphicFramePr/>
          <p:nvPr/>
        </p:nvGraphicFramePr>
        <p:xfrm>
          <a:off x="826920" y="1197000"/>
          <a:ext cx="7518600" cy="417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Object 3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518600" cy="41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321"/>
          <p:cNvSpPr/>
          <p:nvPr/>
        </p:nvSpPr>
        <p:spPr>
          <a:xfrm>
            <a:off x="0" y="521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22"/>
          <p:cNvSpPr/>
          <p:nvPr/>
        </p:nvSpPr>
        <p:spPr>
          <a:xfrm>
            <a:off x="1763640" y="5659920"/>
            <a:ext cx="60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Багатокутник конкурентоспроможності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826920" y="260280"/>
            <a:ext cx="7274160" cy="6337080"/>
            <a:chOff x="826920" y="260280"/>
            <a:chExt cx="7274160" cy="6337080"/>
          </a:xfrm>
        </p:grpSpPr>
        <p:sp>
          <p:nvSpPr>
            <p:cNvPr id="90" name="Rectangle 9"/>
            <p:cNvSpPr/>
            <p:nvPr/>
          </p:nvSpPr>
          <p:spPr>
            <a:xfrm>
              <a:off x="866520" y="260280"/>
              <a:ext cx="7228440" cy="6847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</a:rPr>
                <a:t>Фактори, що впливають на фінансову конкурентоспроможність  підприємст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>
              <a:off x="826920" y="13456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88aa8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6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Показники першого рів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1"/>
            <p:cNvSpPr/>
            <p:nvPr/>
          </p:nvSpPr>
          <p:spPr>
            <a:xfrm>
              <a:off x="4622040" y="1345680"/>
              <a:ext cx="3426120" cy="5248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9ac1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6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Показники другого рів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2"/>
            <p:cNvSpPr/>
            <p:nvPr/>
          </p:nvSpPr>
          <p:spPr>
            <a:xfrm>
              <a:off x="826920" y="21333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валових доході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3"/>
            <p:cNvSpPr/>
            <p:nvPr/>
          </p:nvSpPr>
          <p:spPr>
            <a:xfrm>
              <a:off x="826920" y="279000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валових витр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4"/>
            <p:cNvSpPr/>
            <p:nvPr/>
          </p:nvSpPr>
          <p:spPr>
            <a:xfrm>
              <a:off x="826920" y="34462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прибутк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5"/>
            <p:cNvSpPr/>
            <p:nvPr/>
          </p:nvSpPr>
          <p:spPr>
            <a:xfrm>
              <a:off x="826920" y="47595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та структура інвестиці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6"/>
            <p:cNvSpPr/>
            <p:nvPr/>
          </p:nvSpPr>
          <p:spPr>
            <a:xfrm>
              <a:off x="826920" y="60724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озмір капіталу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7"/>
            <p:cNvSpPr/>
            <p:nvPr/>
          </p:nvSpPr>
          <p:spPr>
            <a:xfrm>
              <a:off x="826920" y="541584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озмір майна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8"/>
            <p:cNvSpPr/>
            <p:nvPr/>
          </p:nvSpPr>
          <p:spPr>
            <a:xfrm>
              <a:off x="826920" y="410292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Доступність додаткових джерел фінансуванн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9"/>
            <p:cNvSpPr/>
            <p:nvPr/>
          </p:nvSpPr>
          <p:spPr>
            <a:xfrm>
              <a:off x="4622040" y="21333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ентабельність капіталу та його ці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0"/>
            <p:cNvSpPr/>
            <p:nvPr/>
          </p:nvSpPr>
          <p:spPr>
            <a:xfrm>
              <a:off x="4622040" y="279000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ефективності використання оборотного капітал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1"/>
            <p:cNvSpPr/>
            <p:nvPr/>
          </p:nvSpPr>
          <p:spPr>
            <a:xfrm>
              <a:off x="4622040" y="34462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фінансової стійкості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2"/>
            <p:cNvSpPr/>
            <p:nvPr/>
          </p:nvSpPr>
          <p:spPr>
            <a:xfrm>
              <a:off x="4622040" y="410292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ліквідності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3"/>
            <p:cNvSpPr/>
            <p:nvPr/>
          </p:nvSpPr>
          <p:spPr>
            <a:xfrm>
              <a:off x="4622040" y="47595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платоспроможності і кредитоспроможност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4"/>
            <p:cNvSpPr/>
            <p:nvPr/>
          </p:nvSpPr>
          <p:spPr>
            <a:xfrm>
              <a:off x="4622040" y="541584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рентабельності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5"/>
            <p:cNvSpPr/>
            <p:nvPr/>
          </p:nvSpPr>
          <p:spPr>
            <a:xfrm>
              <a:off x="4622040" y="60724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Ефективність інвестиційних вкладен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6"/>
            <p:cNvSpPr/>
            <p:nvPr/>
          </p:nvSpPr>
          <p:spPr>
            <a:xfrm flipH="1">
              <a:off x="1775160" y="945000"/>
              <a:ext cx="2213640" cy="39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7"/>
            <p:cNvSpPr/>
            <p:nvPr/>
          </p:nvSpPr>
          <p:spPr>
            <a:xfrm>
              <a:off x="4305960" y="945000"/>
              <a:ext cx="2055600" cy="39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r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3"/>
          <p:cNvSpPr/>
          <p:nvPr/>
        </p:nvSpPr>
        <p:spPr>
          <a:xfrm>
            <a:off x="971640" y="260280"/>
            <a:ext cx="7272360" cy="7207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ритерії і показники конкурентоспроможності підприєм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50920" y="1052640"/>
          <a:ext cx="8604000" cy="5689440"/>
        </p:xfrm>
        <a:graphic>
          <a:graphicData uri="http://schemas.openxmlformats.org/drawingml/2006/table">
            <a:tbl>
              <a:tblPr/>
              <a:tblGrid>
                <a:gridCol w="2617560"/>
                <a:gridCol w="2611440"/>
                <a:gridCol w="337500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01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Ефективність виробничої діяльності підприємств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 Витрати виробництва на одиницю продукції,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ефективність витрат при випуску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ові витрат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57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 Фондовіддача, ти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фективність використання основних виробничих фонд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 середньорічна вартість основних виробничих фонд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 Рентабельність товару, %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ступінь прибутковості виробництва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уток від реалізації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100 %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на собівартість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. Продуктивність праці, тис. руб./ чіл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ефективність організації виробництва і використання робочої си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ьоспискова чисельність працівник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5280" y="333360"/>
          <a:ext cx="8353440" cy="6515280"/>
        </p:xfrm>
        <a:graphic>
          <a:graphicData uri="http://schemas.openxmlformats.org/drawingml/2006/table">
            <a:tbl>
              <a:tblPr/>
              <a:tblGrid>
                <a:gridCol w="2325600"/>
                <a:gridCol w="2567160"/>
                <a:gridCol w="34606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01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нансове положенн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приємства.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Коефіцієнт автоном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незалежність підприємства від позикових джер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і кошти підприємств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а сума джерел фінансув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4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 Коефіцієнт платоспромож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здатність підприємства виконувати свої фінансові зобов’язання і вимірює імовірність банкрутст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ий капітал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і зобов’яз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 Коефіцієнт абсолютної ліквід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якісний склад коштів, що є джерелами покриття поточних зобов’язан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и і високоліквідні цінні папер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зобов’язанн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9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. Коефіцієнт оборотності оборотних кошті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фективність використання оборотних коштів. Відповідає часу, протягом якого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отні кошти проходять усі стадії виробництва і звертання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чка від реалізації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ьорічний залишок оборотних кошт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95280" y="476280"/>
          <a:ext cx="8353440" cy="5977080"/>
        </p:xfrm>
        <a:graphic>
          <a:graphicData uri="http://schemas.openxmlformats.org/drawingml/2006/table">
            <a:tbl>
              <a:tblPr/>
              <a:tblGrid>
                <a:gridCol w="2325600"/>
                <a:gridCol w="2567160"/>
                <a:gridCol w="34606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фективність організації збуту і просування товару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 Рентабельність продажів, %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ступінь прибутковості роботи підприємства на ринку, правильність установлення ціни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уток від реалізації х 100 %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продажі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2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 Коефіцієнт затовареності готовою продукціє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ступінь затовареності готовою продукцією. Ріст показника свідчить про зниження попит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нереалізованої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продажів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. Коефіцієнт завантаження виробничої потуж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ділову активність підприємства, ефективність роботи служби побу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обнича потужні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. Коефіцієнт ефективності реклами і коштів стимулювання збуту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кономічну ефективність реклами і коштів стимулювання збуту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рати на рекламу і стимулювання збут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іст прибутку від реалізації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7:20:58Z</dcterms:created>
  <dc:creator>sva</dc:creator>
  <dc:description/>
  <dc:language>en-US</dc:language>
  <cp:lastModifiedBy>Windows 7</cp:lastModifiedBy>
  <dcterms:modified xsi:type="dcterms:W3CDTF">2020-09-05T15:20:21Z</dcterms:modified>
  <cp:revision>62</cp:revision>
  <dc:subject/>
  <dc:title>Слайд 1</dc:title>
</cp:coreProperties>
</file>