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8C478-9C05-4933-8201-D96DFDDA87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41F94-174A-4D76-91F5-E84A01E38E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даток № 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7C3BE-D161-46B4-9C76-7A7A4D2C5A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даток № 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6F5A-1497-416C-A735-B1E264FFD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098E-816E-4AAB-9731-F65A76E5D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E7D8-7991-4A32-98B9-9AD95DB64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7BAB-9B36-490E-9B54-F7504C879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31A3-2B85-47FF-880E-A834B557E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0F46-5CA0-48A0-910D-24F43635E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8B54-E5BC-4203-AAFE-668E33F72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75A4-310C-4597-A6A7-973152C69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B8A0-8291-44AE-822F-F6FC38B6E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DC31-DC3E-4010-B185-989F857D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8B0F-36B0-4ECA-8894-58B68328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75DC-0435-4033-B8F3-D1684AC35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00414-C0F7-40A8-8D20-8B28D711F6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684360" y="692280"/>
            <a:ext cx="7772400" cy="12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Тема 3. Оцінка міжнародної конкурентоспроможності підприємства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971640" y="2133720"/>
            <a:ext cx="75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Діагностика міжнародної конкурентоспроможності підприєм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971640" y="350028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Методи та показники оцінки міжнародної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конкурентоспроможності компані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971640" y="4797360"/>
            <a:ext cx="75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Узагальнення результатів конкурентної діагностики компанії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68360" y="1268280"/>
          <a:ext cx="8209080" cy="2416320"/>
        </p:xfrm>
        <a:graphic>
          <a:graphicData uri="http://schemas.openxmlformats.org/drawingml/2006/table">
            <a:tbl>
              <a:tblPr/>
              <a:tblGrid>
                <a:gridCol w="2181240"/>
                <a:gridCol w="2566800"/>
                <a:gridCol w="3461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ль 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цінц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о розрахун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98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курентоспроможність товару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5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. Якість товар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здатність товару задовольняти потреби відповідно до його призначенн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ексний мето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2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. Ціна товару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p:transition spd="slow">
    <p:pull dir="r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9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6"/>
          <p:cNvSpPr/>
          <p:nvPr/>
        </p:nvSpPr>
        <p:spPr>
          <a:xfrm>
            <a:off x="1258920" y="549360"/>
            <a:ext cx="6342120" cy="7189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Розрахунок критеріїв і коефіцієнта конкурентоспроможност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7"/>
          <p:cNvSpPr/>
          <p:nvPr/>
        </p:nvSpPr>
        <p:spPr>
          <a:xfrm>
            <a:off x="611280" y="1773360"/>
            <a:ext cx="8142120" cy="3816360"/>
          </a:xfrm>
          <a:prstGeom prst="rect">
            <a:avLst/>
          </a:prstGeom>
          <a:gradFill rotWithShape="0">
            <a:gsLst>
              <a:gs pos="0">
                <a:srgbClr val="fffcf9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КП=0,15 ЭП + 0,29 ФП + 0,23 ЭС + 0,33 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: </a:t>
            </a: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КП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коефіцієнт конкурентноздатності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П</a:t>
            </a:r>
            <a:r>
              <a:rPr b="1" lang="uk-UA" sz="2000" spc="-1" strike="noStrike">
                <a:solidFill>
                  <a:srgbClr val="00ccff"/>
                </a:solidFill>
                <a:latin typeface="Times New Roman"/>
                <a:ea typeface="Times New Roman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начення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ію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фективності виробничої діяльності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значення критерію фінансового положення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С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значення критерію ефективності організації збуту і просування товару на ринк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Т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значення критерію конкурентноздатності товар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15; 0,29; 0,23; 0,33 - коефіцієнти вагомості критерії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3000"/>
                            </p:stCondLst>
                            <p:childTnLst>
                              <p:par>
                                <p:cTn id="3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1258920" y="549360"/>
            <a:ext cx="6342120" cy="7189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Розрахунок критеріїв і коефіцієнта конкурентоспроможност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9640" y="2133720"/>
            <a:ext cx="8142480" cy="381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П = 0,31И + 0,19Ф + 0,40РТ + 0,10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: </a:t>
            </a: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критерій ефективності виробничої діяльності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витрат виробництва на одиницю продукції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фондовіддачі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Т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рентабельності товар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продуктивності праці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3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1258920" y="260280"/>
            <a:ext cx="6342120" cy="7192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Розрахунок критеріїв і коефіцієнта конкурентоспроможност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539640" y="1197000"/>
            <a:ext cx="8142480" cy="525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П = 0,31И + 0,19Ф + 0,40РТ + 0,10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: </a:t>
            </a: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критерій ефективності виробничої діяльності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витрат виробництва на одиницю продукції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фондовіддачі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Т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рентабельності товар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продуктивності праці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П = 0,29 КА + 0,20 КП 0,36 КЛ + 0,15 Д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: </a:t>
            </a: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критерій фінансового положення підприємства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А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ідносний показник автономії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платоспроможності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Л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ліквідності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О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оборотності оборотних кошті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3000"/>
                            </p:stCondLst>
                            <p:childTnLst>
                              <p:par>
                                <p:cTn id="3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1476360" y="1052640"/>
            <a:ext cx="6342120" cy="7189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Розрахунок критеріїв і коефіцієнта конкурентоспроможност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539640" y="2637000"/>
            <a:ext cx="8142480" cy="3095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С = 0,37РП + 0,29КЗ + 0,21КМ + 0,14К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: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С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критерій ефективності організації збуту і просування товар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рентабельності продажі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З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затовареності готовою продукціє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М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завантаження виробничих потужност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Р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ефективності реклами і коштів стимулювання збут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3000"/>
                            </p:stCondLst>
                            <p:childTnLst>
                              <p:par>
                                <p:cTn id="3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9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9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5"/>
          <p:cNvSpPr/>
          <p:nvPr/>
        </p:nvSpPr>
        <p:spPr>
          <a:xfrm>
            <a:off x="0" y="1413000"/>
            <a:ext cx="869796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539640" y="1909080"/>
            <a:ext cx="7920000" cy="22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ffff"/>
                </a:solidFill>
                <a:uFillTx/>
                <a:latin typeface="Times New Roman"/>
              </a:rPr>
              <a:t>Діагностика міжнародної конкурентоспроможності підприємства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 — системний цільовий аналіз, спрямований на виявлення і оцінку фактичних та потенційних загроз для  розвитку підприєм­ства, внутрішніх проблем його функціонування як суб’єкта міжнародної </a:t>
            </a: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конкуренції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, визначення його переваг у порівнянні з конкурента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Базовими принципами оцінки рівня конкурентоспроможності підприємства є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1763640" y="19882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комплексність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1476360" y="270756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системність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1619280" y="3499560"/>
            <a:ext cx="38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об’єктивність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1619280" y="42202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динамічні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1763640" y="494100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безперервні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1763640" y="56602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оптимальність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457200" y="274680"/>
            <a:ext cx="8229600" cy="77796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Основні показники оцінки конкурентоспроможності підприємства можна об’єднати в такі групи: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250920" y="1267200"/>
            <a:ext cx="79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показники ефективності виробничої діяльності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324000" y="169920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фінансовий  стан  підприєм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684360" y="213264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ефективність організації збуту та просування товару;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9"/>
          <p:cNvSpPr/>
          <p:nvPr/>
        </p:nvSpPr>
        <p:spPr>
          <a:xfrm>
            <a:off x="684360" y="256428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конкурентоспроможність товару.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10"/>
          <p:cNvGrpSpPr/>
          <p:nvPr/>
        </p:nvGrpSpPr>
        <p:grpSpPr>
          <a:xfrm>
            <a:off x="1258920" y="3213000"/>
            <a:ext cx="6849720" cy="2592360"/>
            <a:chOff x="1258920" y="3213000"/>
            <a:chExt cx="6849720" cy="2592360"/>
          </a:xfrm>
        </p:grpSpPr>
        <p:sp>
          <p:nvSpPr>
            <p:cNvPr id="69" name="Rectangle 11"/>
            <p:cNvSpPr/>
            <p:nvPr/>
          </p:nvSpPr>
          <p:spPr>
            <a:xfrm>
              <a:off x="2809800" y="4134600"/>
              <a:ext cx="4265280" cy="684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Конкурентоспроможність підприємст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5911560" y="3213000"/>
              <a:ext cx="2197080" cy="513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Комерційні аспек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585240" y="3213000"/>
              <a:ext cx="2197080" cy="513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Виробничі ресурс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14"/>
            <p:cNvSpPr/>
            <p:nvPr/>
          </p:nvSpPr>
          <p:spPr>
            <a:xfrm>
              <a:off x="1258920" y="3216600"/>
              <a:ext cx="2197080" cy="513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Фінансові ресурс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15"/>
            <p:cNvSpPr/>
            <p:nvPr/>
          </p:nvSpPr>
          <p:spPr>
            <a:xfrm>
              <a:off x="5911560" y="5292360"/>
              <a:ext cx="2197080" cy="513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Кадрові ресурс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16"/>
            <p:cNvSpPr/>
            <p:nvPr/>
          </p:nvSpPr>
          <p:spPr>
            <a:xfrm>
              <a:off x="3585240" y="5292360"/>
              <a:ext cx="2197080" cy="513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Технологічні ресурс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17"/>
            <p:cNvSpPr/>
            <p:nvPr/>
          </p:nvSpPr>
          <p:spPr>
            <a:xfrm>
              <a:off x="1258920" y="5292360"/>
              <a:ext cx="2197080" cy="513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Управлінські аспек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8"/>
            <p:cNvSpPr/>
            <p:nvPr/>
          </p:nvSpPr>
          <p:spPr>
            <a:xfrm>
              <a:off x="2422080" y="3729960"/>
              <a:ext cx="2326320" cy="34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9"/>
            <p:cNvSpPr/>
            <p:nvPr/>
          </p:nvSpPr>
          <p:spPr>
            <a:xfrm flipH="1">
              <a:off x="4748760" y="3729960"/>
              <a:ext cx="2584800" cy="34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20"/>
            <p:cNvSpPr/>
            <p:nvPr/>
          </p:nvSpPr>
          <p:spPr>
            <a:xfrm>
              <a:off x="4748760" y="3729960"/>
              <a:ext cx="0" cy="34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21"/>
            <p:cNvSpPr/>
            <p:nvPr/>
          </p:nvSpPr>
          <p:spPr>
            <a:xfrm flipV="1">
              <a:off x="4748760" y="4927320"/>
              <a:ext cx="0" cy="34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22"/>
            <p:cNvSpPr/>
            <p:nvPr/>
          </p:nvSpPr>
          <p:spPr>
            <a:xfrm flipV="1">
              <a:off x="2422080" y="4927320"/>
              <a:ext cx="2326320" cy="34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23"/>
            <p:cNvSpPr/>
            <p:nvPr/>
          </p:nvSpPr>
          <p:spPr>
            <a:xfrm flipH="1" flipV="1">
              <a:off x="4748760" y="4927320"/>
              <a:ext cx="2584800" cy="34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Rectangle 24"/>
          <p:cNvSpPr/>
          <p:nvPr/>
        </p:nvSpPr>
        <p:spPr>
          <a:xfrm>
            <a:off x="324000" y="587628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uk-UA" sz="1800" spc="-1" strike="noStrike">
                <a:solidFill>
                  <a:srgbClr val="ffffff"/>
                </a:solidFill>
                <a:latin typeface="Arial"/>
              </a:rPr>
              <a:t>Характеристика факторів внутрішнього середовища конкурентоспроможності виробничих підприємств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20"/>
          <p:cNvSpPr/>
          <p:nvPr/>
        </p:nvSpPr>
        <p:spPr>
          <a:xfrm>
            <a:off x="0" y="16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Object 319"/>
          <p:cNvGraphicFramePr/>
          <p:nvPr/>
        </p:nvGraphicFramePr>
        <p:xfrm>
          <a:off x="826920" y="1197000"/>
          <a:ext cx="7518600" cy="4178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Object 3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197000"/>
                    <a:ext cx="7518600" cy="41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Rectangle 321"/>
          <p:cNvSpPr/>
          <p:nvPr/>
        </p:nvSpPr>
        <p:spPr>
          <a:xfrm>
            <a:off x="0" y="521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22"/>
          <p:cNvSpPr/>
          <p:nvPr/>
        </p:nvSpPr>
        <p:spPr>
          <a:xfrm>
            <a:off x="1763640" y="5659920"/>
            <a:ext cx="60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Багатокутник конкурентоспроможності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8"/>
          <p:cNvGrpSpPr/>
          <p:nvPr/>
        </p:nvGrpSpPr>
        <p:grpSpPr>
          <a:xfrm>
            <a:off x="826920" y="260280"/>
            <a:ext cx="7274160" cy="6337080"/>
            <a:chOff x="826920" y="260280"/>
            <a:chExt cx="7274160" cy="6337080"/>
          </a:xfrm>
        </p:grpSpPr>
        <p:sp>
          <p:nvSpPr>
            <p:cNvPr id="90" name="Rectangle 9"/>
            <p:cNvSpPr/>
            <p:nvPr/>
          </p:nvSpPr>
          <p:spPr>
            <a:xfrm>
              <a:off x="866520" y="260280"/>
              <a:ext cx="7228440" cy="68472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Times New Roman"/>
                </a:rPr>
                <a:t>Фактори, що впливають на фінансову конкурентоспроможність  підприємст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10"/>
            <p:cNvSpPr/>
            <p:nvPr/>
          </p:nvSpPr>
          <p:spPr>
            <a:xfrm>
              <a:off x="826920" y="134568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88aa8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6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Times New Roman"/>
                </a:rPr>
                <a:t>Показники першого рів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11"/>
            <p:cNvSpPr/>
            <p:nvPr/>
          </p:nvSpPr>
          <p:spPr>
            <a:xfrm>
              <a:off x="4622040" y="1345680"/>
              <a:ext cx="3426120" cy="52488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9ac19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6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Times New Roman"/>
                </a:rPr>
                <a:t>Показники другого рів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2"/>
            <p:cNvSpPr/>
            <p:nvPr/>
          </p:nvSpPr>
          <p:spPr>
            <a:xfrm>
              <a:off x="826920" y="213336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Обсяг валових доході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13"/>
            <p:cNvSpPr/>
            <p:nvPr/>
          </p:nvSpPr>
          <p:spPr>
            <a:xfrm>
              <a:off x="826920" y="279000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Обсяг валових витра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4"/>
            <p:cNvSpPr/>
            <p:nvPr/>
          </p:nvSpPr>
          <p:spPr>
            <a:xfrm>
              <a:off x="826920" y="344628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Обсяг прибутк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15"/>
            <p:cNvSpPr/>
            <p:nvPr/>
          </p:nvSpPr>
          <p:spPr>
            <a:xfrm>
              <a:off x="826920" y="475956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Обсяг та структура інвестиці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6"/>
            <p:cNvSpPr/>
            <p:nvPr/>
          </p:nvSpPr>
          <p:spPr>
            <a:xfrm>
              <a:off x="826920" y="607248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Розмір капіталу підприємств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7"/>
            <p:cNvSpPr/>
            <p:nvPr/>
          </p:nvSpPr>
          <p:spPr>
            <a:xfrm>
              <a:off x="826920" y="541584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Розмір майна підприємств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8"/>
            <p:cNvSpPr/>
            <p:nvPr/>
          </p:nvSpPr>
          <p:spPr>
            <a:xfrm>
              <a:off x="826920" y="410292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Доступність додаткових джерел фінансуванн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9"/>
            <p:cNvSpPr/>
            <p:nvPr/>
          </p:nvSpPr>
          <p:spPr>
            <a:xfrm>
              <a:off x="4622040" y="213336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Рентабельність капіталу та його цін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20"/>
            <p:cNvSpPr/>
            <p:nvPr/>
          </p:nvSpPr>
          <p:spPr>
            <a:xfrm>
              <a:off x="4622040" y="279000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Показники ефективності використання оборотного капітал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1"/>
            <p:cNvSpPr/>
            <p:nvPr/>
          </p:nvSpPr>
          <p:spPr>
            <a:xfrm>
              <a:off x="4622040" y="344628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Показники фінансової стійкості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2"/>
            <p:cNvSpPr/>
            <p:nvPr/>
          </p:nvSpPr>
          <p:spPr>
            <a:xfrm>
              <a:off x="4622040" y="410292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Показники ліквідності підприємств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23"/>
            <p:cNvSpPr/>
            <p:nvPr/>
          </p:nvSpPr>
          <p:spPr>
            <a:xfrm>
              <a:off x="4622040" y="475956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Показники платоспроможності і кредитоспроможності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24"/>
            <p:cNvSpPr/>
            <p:nvPr/>
          </p:nvSpPr>
          <p:spPr>
            <a:xfrm>
              <a:off x="4622040" y="541584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Показники рентабельності підприємств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25"/>
            <p:cNvSpPr/>
            <p:nvPr/>
          </p:nvSpPr>
          <p:spPr>
            <a:xfrm>
              <a:off x="4622040" y="607248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Ефективність інвестиційних вкладен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26"/>
            <p:cNvSpPr/>
            <p:nvPr/>
          </p:nvSpPr>
          <p:spPr>
            <a:xfrm flipH="1">
              <a:off x="1775160" y="945000"/>
              <a:ext cx="2213640" cy="39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27"/>
            <p:cNvSpPr/>
            <p:nvPr/>
          </p:nvSpPr>
          <p:spPr>
            <a:xfrm>
              <a:off x="4305960" y="945000"/>
              <a:ext cx="2055600" cy="39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r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3"/>
          <p:cNvSpPr/>
          <p:nvPr/>
        </p:nvSpPr>
        <p:spPr>
          <a:xfrm>
            <a:off x="971640" y="260280"/>
            <a:ext cx="7272360" cy="7207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Критерії і показники конкурентоспроможності підприєм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50920" y="1052640"/>
          <a:ext cx="8604000" cy="5689440"/>
        </p:xfrm>
        <a:graphic>
          <a:graphicData uri="http://schemas.openxmlformats.org/drawingml/2006/table">
            <a:tbl>
              <a:tblPr/>
              <a:tblGrid>
                <a:gridCol w="2617560"/>
                <a:gridCol w="2611440"/>
                <a:gridCol w="3375000"/>
              </a:tblGrid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0fcf6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ль 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цінц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0fcf6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о розрахун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0fcf6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017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Ефективність виробничої діяльності підприємства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 Витрати виробництва на одиницю продукції,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ображає ефективність витрат при випуску продукц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ові витрати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випуску продукц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57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 Фондовіддача, тис.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ефективність використання основних виробничих фонді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випуску продукції; середньорічна вартість основних виробничих фонді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08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. Рентабельність товару, %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ступінь прибутковості виробництва товар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уток від реалізації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 100 %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на собівартість продукц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10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. Продуктивність праці, тис. руб./ чіл.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ображає ефективність організації виробництва і використання робочої сил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випуску продукції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дньоспискова чисельність працівникі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p:transition spd="slow">
    <p:pull dir="r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95280" y="333360"/>
          <a:ext cx="8353440" cy="6515280"/>
        </p:xfrm>
        <a:graphic>
          <a:graphicData uri="http://schemas.openxmlformats.org/drawingml/2006/table">
            <a:tbl>
              <a:tblPr/>
              <a:tblGrid>
                <a:gridCol w="2325600"/>
                <a:gridCol w="2567160"/>
                <a:gridCol w="3460680"/>
              </a:tblGrid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ль 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цінц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о розрахун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017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інансове положення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ідприємства.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1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. Коефіцієнт автоном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незалежність підприємства від позикових джер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сні кошти підприємства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альна сума джерел фінансуванн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4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. Коефіцієнт платоспроможності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ображає здатність підприємства виконувати свої фінансові зобов’язання і вимірює імовірність банкрутств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сний капітал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альні зобов’язанн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01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. Коефіцієнт абсолютної ліквідності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ображає якісний склад коштів, що є джерелами покриття поточних зобов’язан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шти і високоліквідні цінні папери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откострокові зобов’язання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9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. Коефіцієнт оборотності оборотних коштів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ефективність використання оборотних коштів. Відповідає часу, протягом якого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ротні кошти проходять усі стадії виробництва і звертання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ручка від реалізації продукції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дньорічний залишок оборотних кошті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p:transition spd="slow">
    <p:pull dir="r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95280" y="476280"/>
          <a:ext cx="8353440" cy="5977080"/>
        </p:xfrm>
        <a:graphic>
          <a:graphicData uri="http://schemas.openxmlformats.org/drawingml/2006/table">
            <a:tbl>
              <a:tblPr/>
              <a:tblGrid>
                <a:gridCol w="2325600"/>
                <a:gridCol w="2567160"/>
                <a:gridCol w="3460680"/>
              </a:tblGrid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ль 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цінц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о розрахун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985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фективність організації збуту і просування товару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8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 Рентабельність продажів, %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ступінь прибутковості роботи підприємства на ринку, правильність установлення ціни товар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уток від реалізації х 100 %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продажів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2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. Коефіцієнт затовареності готовою продукцією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ображає ступінь затовареності готовою продукцією. Ріст показника свідчить про зниження попит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нереалізованої продукції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продажів.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3. Коефіцієнт завантаження виробничої потужності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ділову активність підприємства, ефективність роботи служби побут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випуску продукції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робнича потужніст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10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4. Коефіцієнт ефективності реклами і коштів стимулювання збуту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економічну ефективність реклами і коштів стимулювання збуту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рати на рекламу і стимулювання збуту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ріст прибутку від реалізації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p:transition spd="slow">
    <p:pull dir="r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4T17:20:58Z</dcterms:created>
  <dc:creator>sva</dc:creator>
  <dc:description/>
  <dc:language>en-US</dc:language>
  <cp:lastModifiedBy>Windows 7</cp:lastModifiedBy>
  <dcterms:modified xsi:type="dcterms:W3CDTF">2020-09-05T15:20:21Z</dcterms:modified>
  <cp:revision>62</cp:revision>
  <dc:subject/>
  <dc:title>Слайд 1</dc:title>
</cp:coreProperties>
</file>