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7A85-6838-405A-AF74-F258C3DC43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006D-F67C-44F5-B0F0-BC29A08781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3E72-29C1-429C-8B8B-67FA0AA22F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даток №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980-6D03-4830-99CB-C72683DB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607-B3B0-4EE5-B5BD-A2D14756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89C-9ED6-4A56-A53D-A155393E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1A3-F780-4A20-8373-171CFF9B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4E4-C629-45CF-A89A-F1553E46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0AE-C5EE-43CD-A250-9B4DB950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9F1-CC4A-4527-9C03-43ADBB3F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FB7-94E5-48FC-A2DE-056DFB3F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356-9AFA-433A-B623-28BD9704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052-56D5-4D9E-9FF6-7AFC103C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AE0-6FB9-4598-A084-D4911F6A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947-7304-4070-81CB-737A2D89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44C4-A12A-4381-BD89-DE06B97C9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692280"/>
            <a:ext cx="7772400" cy="12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ема 3. Оцінка міжнародної конкурентоспроможності підприємств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971640" y="21337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іагностика міжнародної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71640" y="350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Методи та показники оцінки міжнародно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ості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971640" y="479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загальнення результатів конкурентної діагностики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268280"/>
          <a:ext cx="8209080" cy="2416320"/>
        </p:xfrm>
        <a:graphic>
          <a:graphicData uri="http://schemas.openxmlformats.org/drawingml/2006/table">
            <a:tbl>
              <a:tblPr/>
              <a:tblGrid>
                <a:gridCol w="2181240"/>
                <a:gridCol w="2566800"/>
                <a:gridCol w="346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тоспроможність това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Якість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здатність товару задовольняти потреби відповідно до його при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ий мет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Ціна товар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1280" y="1773360"/>
            <a:ext cx="8142120" cy="3816360"/>
          </a:xfrm>
          <a:prstGeom prst="rect">
            <a:avLst/>
          </a:prstGeom>
          <a:gradFill rotWithShape="0">
            <a:gsLst>
              <a:gs pos="0">
                <a:srgbClr val="fffcf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П=0,15 ЭП + 0,29 ФП + 0,23 ЭС + 0,33 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КП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іцієнт конкурентноздат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че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фінансового положення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ефективності організації збуту і просування товару на рин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начення критерію конкурентноздат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5; 0,29; 0,23; 0,33 - коефіцієнти вагомості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58920" y="54936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2133720"/>
            <a:ext cx="8142480" cy="38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260280"/>
            <a:ext cx="6342120" cy="719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1197000"/>
            <a:ext cx="814248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 = 0,31И + 0,19Ф + 0,40РТ + 0,10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виробничої діяль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витрат виробництва на одиницю продук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фондовіддач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 = 0,29 КА + 0,20 КП 0,36 КЛ + 0,15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фінансового положення підприємст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носний показник автономії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платоспромож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ліквідності підприєм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оборотності оборотних кош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476360" y="1052640"/>
            <a:ext cx="6342120" cy="718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ахунок критеріїв і коефіцієнта конкурентоспроможн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2637000"/>
            <a:ext cx="814248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= 0,37РП + 0,29КЗ + 0,21КМ + 0,14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терій ефективності організації збуту і просування това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рентабельності продаж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З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товареності готов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завантаження виробничих поту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носний показник ефективності реклами і коштів стимулювання збу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1413000"/>
            <a:ext cx="86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9640" y="1909080"/>
            <a:ext cx="79200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іагностика міжнародної конкурентоспроможності підприємств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— системний цільовий аналіз, спрямований на виявлення і оцінку фактичних та потенційних загроз для  розвитку підприєм­ства, внутрішніх проблем його функціонування як суб’єкта міжнародної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нкуренції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, визначення його переваг у порівнянні з конкурен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азовими принципами оцінки рівня конкурентоспроможності підприємства є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63640" y="198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комплексність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476360" y="27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истемн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19280" y="34995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б’єктив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9280" y="422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инаміч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763640" y="494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езперерв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763640" y="56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оптимальні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новні показники оцінки конкурентоспроможності підприємства можна об’єднати в такі групи: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0920" y="12672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показники ефективності виробнич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24000" y="16992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фінансовий  стан  підприєм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4360" y="213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ефективність організації збуту та просування товару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84360" y="256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онкурентоспроможність товару.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258920" y="3213000"/>
            <a:ext cx="6849720" cy="2592360"/>
            <a:chOff x="1258920" y="3213000"/>
            <a:chExt cx="6849720" cy="2592360"/>
          </a:xfrm>
        </p:grpSpPr>
        <p:sp>
          <p:nvSpPr>
            <p:cNvPr id="69" name="Rectangle 11"/>
            <p:cNvSpPr/>
            <p:nvPr/>
          </p:nvSpPr>
          <p:spPr>
            <a:xfrm>
              <a:off x="2809800" y="4134600"/>
              <a:ext cx="4265280" cy="684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курентоспроможність підприєм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591156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мерційн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585240" y="32130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иробнич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1258920" y="321660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інанс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591156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ов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358524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ічні ресур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1258920" y="5292360"/>
              <a:ext cx="2197080" cy="5130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7d1a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правлінські аспек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422080" y="372996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H="1">
              <a:off x="4748760" y="372996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4748760" y="372996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1"/>
            <p:cNvSpPr/>
            <p:nvPr/>
          </p:nvSpPr>
          <p:spPr>
            <a:xfrm flipV="1">
              <a:off x="4748760" y="4927320"/>
              <a:ext cx="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2"/>
            <p:cNvSpPr/>
            <p:nvPr/>
          </p:nvSpPr>
          <p:spPr>
            <a:xfrm flipV="1">
              <a:off x="2422080" y="4927320"/>
              <a:ext cx="232632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 flipH="1" flipV="1">
              <a:off x="4748760" y="4927320"/>
              <a:ext cx="2584800" cy="34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4"/>
          <p:cNvSpPr/>
          <p:nvPr/>
        </p:nvSpPr>
        <p:spPr>
          <a:xfrm>
            <a:off x="324000" y="58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Характеристика факторів внутрішнього середовища конкурентоспроможності виробничих підприємст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20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19"/>
          <p:cNvGraphicFramePr/>
          <p:nvPr/>
        </p:nvGraphicFramePr>
        <p:xfrm>
          <a:off x="826920" y="1197000"/>
          <a:ext cx="7518600" cy="417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3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51860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21"/>
          <p:cNvSpPr/>
          <p:nvPr/>
        </p:nvSpPr>
        <p:spPr>
          <a:xfrm>
            <a:off x="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2"/>
          <p:cNvSpPr/>
          <p:nvPr/>
        </p:nvSpPr>
        <p:spPr>
          <a:xfrm>
            <a:off x="1763640" y="565992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агатокутник конкурентоспроможності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826920" y="260280"/>
            <a:ext cx="7274160" cy="6337080"/>
            <a:chOff x="826920" y="260280"/>
            <a:chExt cx="7274160" cy="6337080"/>
          </a:xfrm>
        </p:grpSpPr>
        <p:sp>
          <p:nvSpPr>
            <p:cNvPr id="90" name="Rectangle 9"/>
            <p:cNvSpPr/>
            <p:nvPr/>
          </p:nvSpPr>
          <p:spPr>
            <a:xfrm>
              <a:off x="866520" y="260280"/>
              <a:ext cx="7228440" cy="684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, що впливають на фінансову конкурентоспроможність  підприєм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826920" y="13456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88aa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перш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622040" y="1345680"/>
              <a:ext cx="3426120" cy="524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6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оказники другого рів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82692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доход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82692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валових витр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82692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прибут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82692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Обсяг та структура інвестиц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82692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капіталу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82692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озмір майна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82692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Доступність додаткових джерел фінансува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622040" y="21333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Рентабельність капіталу та його ці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622040" y="279000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ефективності використання оборотного капіта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622040" y="34462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фінансової стійкост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4622040" y="410292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ліквід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4622040" y="475956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платоспроможності і кредитоспроможн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4"/>
            <p:cNvSpPr/>
            <p:nvPr/>
          </p:nvSpPr>
          <p:spPr>
            <a:xfrm>
              <a:off x="4622040" y="541584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Показники рентабельності підприєм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4622040" y="6072480"/>
              <a:ext cx="347904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21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</a:rPr>
                <a:t>Ефективність інвестиційних вклад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 flipH="1">
              <a:off x="1775160" y="945000"/>
              <a:ext cx="221364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>
              <a:off x="4305960" y="945000"/>
              <a:ext cx="2055600" cy="39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971640" y="260280"/>
            <a:ext cx="7272360" cy="720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терії і показники конкурентоспроможності підприє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1052640"/>
          <a:ext cx="8604000" cy="5689440"/>
        </p:xfrm>
        <a:graphic>
          <a:graphicData uri="http://schemas.openxmlformats.org/drawingml/2006/table">
            <a:tbl>
              <a:tblPr/>
              <a:tblGrid>
                <a:gridCol w="2617560"/>
                <a:gridCol w="2611440"/>
                <a:gridCol w="33750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0fcf6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Ефективність виробничої діяльності підприєм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Витрати виробництва на одиницю продукції,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витрат при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Фондовіддача, ти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 середньорічна вартість основних виробничих фонд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нтабельність товару, 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виробництва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100 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на собівартість продук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 Продуктивність праці, тис. руб./ чіл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ефективність організації виробництва і використання робочої с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спискова чисельність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8d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33360"/>
          <a:ext cx="8353440" cy="65152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е положенн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.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ефіцієнт автоном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незалежність підприємства від позикових дже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підприєм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сума джерел фінанс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Коефіцієнт платоспромо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здатність підприємства виконувати свої фінансові зобов’язання і вимірює імовірність банкрут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зобов’яз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Коефіцієнт абсолютної ліквід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якісний склад коштів, що є джерелами покриття поточних зобов’яза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и і високоліквідні цінні папер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зобов’яз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 Коефіцієнт оборотності оборотних кошт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фективність використання оборотних коштів. Відповідає часу, протягом яког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і кошти проходять усі стадії виробництва і звертання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чка від реалізаці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ьорічний залишок оборотних кошт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325600"/>
                <a:gridCol w="2567160"/>
                <a:gridCol w="34606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цін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о розраху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cc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ість організації збуту і просування товар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Рентабельність продажів, %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ступінь прибутковості роботи підприємства на ринку, правильність установлення ціни тов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 від реалізації х 100 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Коефіцієнт затовареності готовою продукціє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 ступінь затовареності готовою продукцією. Ріст показника свідчить про зниження попи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нереалізованої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продажів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Коефіцієнт завантаження виробничої потуж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ділову активність підприємства, ефективність роботи служби побу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пуску продукції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ча потужні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Коефіцієнт ефективності реклами і коштів стимулювання збу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ує економічну ефективність реклами і коштів стимулювання збуту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рекламу і стимулювання збу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іст прибутку від реалізації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d1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pull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20:58Z</dcterms:created>
  <dc:creator>sva</dc:creator>
  <dc:description/>
  <dc:language>en-US</dc:language>
  <cp:lastModifiedBy>Windows 7</cp:lastModifiedBy>
  <dcterms:modified xsi:type="dcterms:W3CDTF">2020-09-05T15:20:21Z</dcterms:modified>
  <cp:revision>62</cp:revision>
  <dc:subject/>
  <dc:title>Слайд 1</dc:title>
</cp:coreProperties>
</file>