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explode.wav" ContentType="audio/x-wav"/>
  <Override PartName="/ppt/media/image6.png" ContentType="image/png"/>
  <Override PartName="/ppt/media/image7.jpeg" ContentType="image/jpeg"/>
  <Override PartName="/ppt/media/image5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F1E6-45EE-4453-919F-345C0DA19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DE9C-175E-485B-9B25-BAC9BB99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C635-2C35-4AA3-8B28-20393DF5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A111-F45C-4A01-B90F-EE07C57E3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8D12-B5F9-48FB-8171-C4C465E3D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3DD3-0E6D-4FC0-8608-F9D002D2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A43F-56D5-4E06-8457-85825697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9B51-7D6E-4C4D-A03E-18593F75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B21D-3E4A-4456-92B3-0D84FE41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CCE8-3015-455F-A3E2-305F78D0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D7C1-36AA-49BC-B911-073BF8C9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740A-F764-4501-B67B-FE7B106A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7E57-27E4-450A-883F-1AD212EB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3AA2-4F25-4165-AA59-3B0E0779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1C7A-25D4-40AD-BD3A-7943910C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6E59-EFB1-42A5-BE5E-3C287A9F0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65B1-39B6-4304-9D06-8B392C497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12108-5CCE-43EB-AC9D-14C5CDEA8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28618-B8C6-4FA2-BF6F-2E9B2992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40A4E-7670-49E6-90CC-B7BD4858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C8ED3-E0FB-4B58-8D59-611BCD4A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9BF7F-D9C2-47C6-97C0-809F3098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2D3F-D7D0-4207-8F2C-CC2E9357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941D9-EDAB-4530-954D-921F621F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6C67A-2B3D-42CE-9E8B-AB2F3B29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E47E5-9AB6-4174-A4E3-14D5CA1F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B6E35-A0B4-4411-81BA-84D28B15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47F6E-C9A5-4861-B8EC-96CFCAC3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EAE0A-BA4F-4580-A59C-07ACDFE49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D7C71-CB95-4ED1-9BE9-64F4C58A7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5700-707D-46DA-8E51-78310662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3DA6-DEE3-43A6-8A5E-3BA5558D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D5FE-E29D-4529-B233-D9F9D984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A695-281C-4FCA-89E9-7ED29E45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3CF0-EDE7-4BF3-A550-C776273C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25EC-E900-4C6F-B0F4-11531E66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FE72-3982-4A54-A896-CE6FD9C52036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6357-7514-4E34-9973-8514B5A8FA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8DFC-8A7F-4A9F-9D75-F4C629C087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image" Target="../media/image9.jpe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image" Target="../media/image8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1c1c1c"/>
                </a:solidFill>
                <a:latin typeface="Tahoma"/>
              </a:rPr>
              <a:t>Тема 4. Підготовка підприємств до 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1c1c1c"/>
                </a:solidFill>
                <a:latin typeface="Tahoma"/>
              </a:rPr>
              <a:t>глобалізації маркетингової діяльності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4" name="explod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3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Етапи сегментації ринк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AutoShape 4"/>
          <p:cNvSpPr/>
          <p:nvPr/>
        </p:nvSpPr>
        <p:spPr>
          <a:xfrm>
            <a:off x="179280" y="1341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1. Вибір агрегованого ринку та дослідження структури попиту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в ретроспективі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“старий” ринок – початок “нового”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AutoShape 5"/>
          <p:cNvSpPr/>
          <p:nvPr/>
        </p:nvSpPr>
        <p:spPr>
          <a:xfrm>
            <a:off x="179280" y="1773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2. Виявлення основних змін у структурі попиту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та аналіз факторів, що обумовили ці змін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AutoShape 6"/>
          <p:cNvSpPr/>
          <p:nvPr/>
        </p:nvSpPr>
        <p:spPr>
          <a:xfrm>
            <a:off x="179280" y="2205000"/>
            <a:ext cx="8236080" cy="711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3. Визначення найбільш важливих для конкретного ринка параметрів сегментації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AutoShape 7"/>
          <p:cNvSpPr/>
          <p:nvPr/>
        </p:nvSpPr>
        <p:spPr>
          <a:xfrm>
            <a:off x="179280" y="292428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4. Безпосередньо сегментація – укладання таблиць сегментації ринк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AutoShape 11"/>
          <p:cNvSpPr/>
          <p:nvPr/>
        </p:nvSpPr>
        <p:spPr>
          <a:xfrm>
            <a:off x="179280" y="3357720"/>
            <a:ext cx="8209080" cy="4078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5. Аналіз якісної сторони попиту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специфіки)</a:t>
            </a: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 сегментів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AutoShape 14"/>
          <p:cNvSpPr/>
          <p:nvPr/>
        </p:nvSpPr>
        <p:spPr>
          <a:xfrm>
            <a:off x="179280" y="3789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6. Аналіз кількісної сторони попиту сегментів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визначення місткості, насиченості та ін.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AutoShape 15"/>
          <p:cNvSpPr/>
          <p:nvPr/>
        </p:nvSpPr>
        <p:spPr>
          <a:xfrm>
            <a:off x="179280" y="450864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7. Відбір сегмента (сегментів), де виявлені найбільш сприятливі умови для діяльності конкретної фірм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179280" y="5229360"/>
            <a:ext cx="3926160" cy="101556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8. Розробка стратегії і тактики маркетингу для кожного сегмен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AutoShape 21"/>
          <p:cNvSpPr/>
          <p:nvPr/>
        </p:nvSpPr>
        <p:spPr>
          <a:xfrm>
            <a:off x="179280" y="6237360"/>
            <a:ext cx="8205840" cy="40788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9. Аналіз сильних та слабких сторін сегментації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AutoShape 24"/>
          <p:cNvSpPr/>
          <p:nvPr/>
        </p:nvSpPr>
        <p:spPr>
          <a:xfrm>
            <a:off x="4500720" y="5229360"/>
            <a:ext cx="3925800" cy="1015560"/>
          </a:xfrm>
          <a:prstGeom prst="roundRect">
            <a:avLst>
              <a:gd name="adj" fmla="val 16667"/>
            </a:avLst>
          </a:prstGeom>
          <a:blipFill rotWithShape="0">
            <a:blip r:embed="rId10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8. Розробка рекомендацій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по товарному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асортимен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Line 25"/>
          <p:cNvSpPr/>
          <p:nvPr/>
        </p:nvSpPr>
        <p:spPr>
          <a:xfrm>
            <a:off x="4091040" y="5468760"/>
            <a:ext cx="433440" cy="1800"/>
          </a:xfrm>
          <a:prstGeom prst="line">
            <a:avLst/>
          </a:prstGeom>
          <a:ln w="381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Line 26"/>
          <p:cNvSpPr/>
          <p:nvPr/>
        </p:nvSpPr>
        <p:spPr>
          <a:xfrm flipH="1">
            <a:off x="4091040" y="5684760"/>
            <a:ext cx="433440" cy="1800"/>
          </a:xfrm>
          <a:prstGeom prst="line">
            <a:avLst/>
          </a:prstGeom>
          <a:ln w="381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80" name="AutoShape 28"/>
          <p:cNvCxnSpPr>
            <a:stCxn id="376" idx="3"/>
            <a:endCxn id="368" idx="3"/>
          </p:cNvCxnSpPr>
          <p:nvPr/>
        </p:nvCxnSpPr>
        <p:spPr>
          <a:xfrm flipV="1">
            <a:off x="8385120" y="1697760"/>
            <a:ext cx="29520" cy="4744440"/>
          </a:xfrm>
          <a:prstGeom prst="bentConnector3">
            <a:avLst>
              <a:gd name="adj1" fmla="val 893827"/>
            </a:avLst>
          </a:prstGeom>
          <a:ln w="38160">
            <a:solidFill>
              <a:srgbClr val="1b3753"/>
            </a:solidFill>
            <a:miter/>
            <a:tailEnd len="med" type="triangle" w="med"/>
          </a:ln>
        </p:spPr>
      </p:cxnSp>
    </p:spTree>
  </p:cSld>
  <p:transition spd="slow">
    <p:cover dir="rd"/>
    <p:sndAc>
      <p:stSnd>
        <p:snd r:embed="rId1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5"/>
          <p:cNvSpPr/>
          <p:nvPr/>
        </p:nvSpPr>
        <p:spPr>
          <a:xfrm>
            <a:off x="149400" y="2708280"/>
            <a:ext cx="8994600" cy="2536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1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Недиференційований маркетинг 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– фірма вважає ринок однорідним з точки зору збуту продукції і виходить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на всі сегменти відразу зі стандартним комплексом маркетингу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. </a:t>
            </a:r>
            <a:r>
              <a:rPr b="0" i="1" lang="uk-UA" sz="2000" spc="-1" strike="noStrike">
                <a:solidFill>
                  <a:srgbClr val="0000cc"/>
                </a:solidFill>
                <a:latin typeface="Verdana"/>
              </a:rPr>
              <a:t>Позитивні рис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–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економічність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внаслідок низького рівня витрат на маркетингові дослідження (не потрібно вивчення сегментів), товарорух та рекламу. Найбільш підходить для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однорідних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товарів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AutoShape 6"/>
          <p:cNvSpPr/>
          <p:nvPr/>
        </p:nvSpPr>
        <p:spPr>
          <a:xfrm>
            <a:off x="203040" y="3284640"/>
            <a:ext cx="8940960" cy="21988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2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Диференційований маркетинг 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– фірма виходить </a:t>
            </a: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на всі сегменти ринку з розробкою для кожного з них свого індивідуального комплексу маркетингу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 з урахуванням відмін у потребах клієнтів та умовах збуту. </a:t>
            </a:r>
            <a:r>
              <a:rPr b="0" i="1" lang="uk-UA" sz="2000" spc="-1" strike="noStrike">
                <a:solidFill>
                  <a:srgbClr val="008000"/>
                </a:solidFill>
                <a:latin typeface="Verdana"/>
              </a:rPr>
              <a:t>Позитивні риси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 – зростання продаж та більш глибоке проникнення на ринок, закріплення на ньом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AutoShape 7"/>
          <p:cNvSpPr/>
          <p:nvPr/>
        </p:nvSpPr>
        <p:spPr>
          <a:xfrm>
            <a:off x="171360" y="3789360"/>
            <a:ext cx="8972640" cy="21988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3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Концентрований маркетинг 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– фірма обирає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один або декілька сегментів ринка і концентрує на них свої зусилля по розробці єдиного комплексу маркетингу.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Привабливий для фірм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з обмеженими ресурсам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завдяки меншим витратам. Однак існує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ризик втратит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обраний сегмент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внаслідок змін запитів покупців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або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втручання конкурентів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718480" cy="26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тратегії охоплення сегментів ринк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AutoShape 9"/>
          <p:cNvSpPr/>
          <p:nvPr/>
        </p:nvSpPr>
        <p:spPr>
          <a:xfrm>
            <a:off x="163440" y="1684440"/>
            <a:ext cx="8812440" cy="13518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Після виділення чітко окреслених сегментів ринку обираються ті з них, де буде здійснюватися збут товарів та послуг,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–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цільові сегменти ринка. 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Існує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три стратегії охоплення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 цільових сегментів ринк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Rectangle 69"/>
          <p:cNvSpPr/>
          <p:nvPr/>
        </p:nvSpPr>
        <p:spPr>
          <a:xfrm>
            <a:off x="179280" y="1557360"/>
            <a:ext cx="8964720" cy="1657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Text Box 70"/>
          <p:cNvSpPr/>
          <p:nvPr/>
        </p:nvSpPr>
        <p:spPr>
          <a:xfrm>
            <a:off x="324000" y="1916280"/>
            <a:ext cx="2016000" cy="61020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Комплекс маркетинг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Text Box 71"/>
          <p:cNvSpPr/>
          <p:nvPr/>
        </p:nvSpPr>
        <p:spPr>
          <a:xfrm>
            <a:off x="2627280" y="206064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ринок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Line 72"/>
          <p:cNvSpPr/>
          <p:nvPr/>
        </p:nvSpPr>
        <p:spPr>
          <a:xfrm>
            <a:off x="2340000" y="2205000"/>
            <a:ext cx="28728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Oval 73"/>
          <p:cNvSpPr/>
          <p:nvPr/>
        </p:nvSpPr>
        <p:spPr>
          <a:xfrm rot="522600">
            <a:off x="5003280" y="177336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Text Box 74"/>
          <p:cNvSpPr/>
          <p:nvPr/>
        </p:nvSpPr>
        <p:spPr>
          <a:xfrm rot="555600">
            <a:off x="5435640" y="1988640"/>
            <a:ext cx="295272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Недиференцій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Rectangle 75"/>
          <p:cNvSpPr/>
          <p:nvPr/>
        </p:nvSpPr>
        <p:spPr>
          <a:xfrm>
            <a:off x="179280" y="3143160"/>
            <a:ext cx="8964720" cy="1657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Text Box 76"/>
          <p:cNvSpPr/>
          <p:nvPr/>
        </p:nvSpPr>
        <p:spPr>
          <a:xfrm>
            <a:off x="252360" y="321300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1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Text Box 77"/>
          <p:cNvSpPr/>
          <p:nvPr/>
        </p:nvSpPr>
        <p:spPr>
          <a:xfrm>
            <a:off x="2556000" y="37180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2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Line 78"/>
          <p:cNvSpPr/>
          <p:nvPr/>
        </p:nvSpPr>
        <p:spPr>
          <a:xfrm>
            <a:off x="2268360" y="386244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Oval 79"/>
          <p:cNvSpPr/>
          <p:nvPr/>
        </p:nvSpPr>
        <p:spPr>
          <a:xfrm rot="522600">
            <a:off x="4932000" y="343044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Text Box 80"/>
          <p:cNvSpPr/>
          <p:nvPr/>
        </p:nvSpPr>
        <p:spPr>
          <a:xfrm rot="555600">
            <a:off x="5364000" y="3646080"/>
            <a:ext cx="295308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Диференцій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Text Box 81"/>
          <p:cNvSpPr/>
          <p:nvPr/>
        </p:nvSpPr>
        <p:spPr>
          <a:xfrm>
            <a:off x="2556000" y="422100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3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Text Box 82"/>
          <p:cNvSpPr/>
          <p:nvPr/>
        </p:nvSpPr>
        <p:spPr>
          <a:xfrm>
            <a:off x="2556000" y="321300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1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Text Box 83"/>
          <p:cNvSpPr/>
          <p:nvPr/>
        </p:nvSpPr>
        <p:spPr>
          <a:xfrm>
            <a:off x="252360" y="371808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2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Text Box 84"/>
          <p:cNvSpPr/>
          <p:nvPr/>
        </p:nvSpPr>
        <p:spPr>
          <a:xfrm>
            <a:off x="252360" y="422100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3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Line 85"/>
          <p:cNvSpPr/>
          <p:nvPr/>
        </p:nvSpPr>
        <p:spPr>
          <a:xfrm>
            <a:off x="2268360" y="342900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Line 86"/>
          <p:cNvSpPr/>
          <p:nvPr/>
        </p:nvSpPr>
        <p:spPr>
          <a:xfrm>
            <a:off x="2268360" y="436572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Rectangle 87"/>
          <p:cNvSpPr/>
          <p:nvPr/>
        </p:nvSpPr>
        <p:spPr>
          <a:xfrm>
            <a:off x="179280" y="4797360"/>
            <a:ext cx="8964720" cy="1657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Text Box 88"/>
          <p:cNvSpPr/>
          <p:nvPr/>
        </p:nvSpPr>
        <p:spPr>
          <a:xfrm>
            <a:off x="2627280" y="5445000"/>
            <a:ext cx="2016000" cy="305280"/>
          </a:xfrm>
          <a:prstGeom prst="rect">
            <a:avLst/>
          </a:prstGeom>
          <a:solidFill>
            <a:srgbClr val="ff33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2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Line 89"/>
          <p:cNvSpPr/>
          <p:nvPr/>
        </p:nvSpPr>
        <p:spPr>
          <a:xfrm>
            <a:off x="2340000" y="5589720"/>
            <a:ext cx="28728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Oval 90"/>
          <p:cNvSpPr/>
          <p:nvPr/>
        </p:nvSpPr>
        <p:spPr>
          <a:xfrm rot="522600">
            <a:off x="5003280" y="515772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Text Box 91"/>
          <p:cNvSpPr/>
          <p:nvPr/>
        </p:nvSpPr>
        <p:spPr>
          <a:xfrm rot="555600">
            <a:off x="5435640" y="5373360"/>
            <a:ext cx="295272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Концентр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Text Box 92"/>
          <p:cNvSpPr/>
          <p:nvPr/>
        </p:nvSpPr>
        <p:spPr>
          <a:xfrm>
            <a:off x="2627280" y="59482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3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Text Box 93"/>
          <p:cNvSpPr/>
          <p:nvPr/>
        </p:nvSpPr>
        <p:spPr>
          <a:xfrm>
            <a:off x="2627280" y="49402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1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Text Box 94"/>
          <p:cNvSpPr/>
          <p:nvPr/>
        </p:nvSpPr>
        <p:spPr>
          <a:xfrm>
            <a:off x="324000" y="5445000"/>
            <a:ext cx="2016000" cy="61020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Комплекс маркетингу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8" name="explode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8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сновні фактори обрання стратегії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хоплення цільових сегментів ринк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292929"/>
                </a:solidFill>
                <a:latin typeface="Tahoma"/>
              </a:rPr>
              <a:t>При обранні стратегії охоплення ринка враховують такі фактори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ресурси фірм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якщо обмежені – концентр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ступінь однорідності продукції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чим більш однорідна, тим вигідніше недиференцій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етап життєвого циклу товару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на етапі впровадження більш підходять недиференційований і концентр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ступінь однорідності ринка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якщо у всіх споживачів схожі смаки, то вигідним є недиференцій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Маркетингові стратегії конкурентів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 якщо конкуренти застосовують недиференційований маркетинг, то фірма може отримати вигоду від диференційованого або концентрованого маркетингу)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strips dir="rd"/>
    <p:sndAc>
      <p:stSnd>
        <p:snd r:embed="rId6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Критерії обрання </a:t>
            </a:r>
            <a:br>
              <a:rPr sz="3200"/>
            </a:b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конкретних сегментів ринка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AutoShape 4"/>
          <p:cNvSpPr/>
          <p:nvPr/>
        </p:nvSpPr>
        <p:spPr>
          <a:xfrm>
            <a:off x="0" y="1700280"/>
            <a:ext cx="9210600" cy="42260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3300"/>
                </a:solidFill>
                <a:latin typeface="Verdana"/>
              </a:rPr>
              <a:t>1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Потенціал сегменту ринка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, що характеризується такими двома кількісними показникам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c1c1c"/>
                </a:solidFill>
                <a:latin typeface="Verdana"/>
              </a:rPr>
              <a:t>Місткість ринку 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– обсяг товарів або послуг, що реалізуються на ринку, за певний час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С=П+</a:t>
            </a:r>
            <a:r>
              <a:rPr b="1" i="1" lang="uk-UA" sz="1400" spc="-1" strike="noStrike">
                <a:solidFill>
                  <a:srgbClr val="1c1c1c"/>
                </a:solidFill>
                <a:latin typeface="Verdana"/>
              </a:rPr>
              <a:t>Δ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О–Е+І–Ек+Ік,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Де С – місткість ринку; П – виробництво товару всередині ринку; </a:t>
            </a:r>
            <a:r>
              <a:rPr b="1" i="1" lang="uk-UA" sz="1400" spc="-1" strike="noStrike">
                <a:solidFill>
                  <a:srgbClr val="1c1c1c"/>
                </a:solidFill>
                <a:latin typeface="Verdana"/>
              </a:rPr>
              <a:t>Δ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О – різниця залишків товарів на складах</a:t>
            </a:r>
            <a:r>
              <a:rPr b="0" i="1" lang="uk-UA" sz="1000" spc="-1" strike="noStrike">
                <a:solidFill>
                  <a:srgbClr val="1c1c1c"/>
                </a:solidFill>
                <a:latin typeface="Times New Roman"/>
              </a:rPr>
              <a:t>; 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Е – вивіз товару; І – ввіз товару; Ек – непрямий вивіз; Ік – непрямий ввіз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c1c1c"/>
                </a:solidFill>
                <a:latin typeface="Verdana"/>
              </a:rPr>
              <a:t>Насиченість ринку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 (Нр) – показник, що відображає перспективи зміни попиту (у %) та визначається як відношення числа покупців, що вже придбали товар (Пт), до загальної кількості споживачів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30240" y="2421000"/>
            <a:ext cx="9113760" cy="33462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2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Доступність сегмента ринку</a:t>
            </a:r>
            <a:r>
              <a:rPr b="0" i="1" lang="uk-UA" sz="1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– отримання експертних оцінок про те, </a:t>
            </a:r>
            <a:r>
              <a:rPr b="1" i="1" lang="uk-UA" sz="2400" spc="-1" strike="noStrike">
                <a:solidFill>
                  <a:srgbClr val="1b3753"/>
                </a:solidFill>
                <a:latin typeface="Verdana"/>
              </a:rPr>
              <a:t>чи є принципова можливість почати впровадження та просування своїх товарів на тому чи іншому сегменті ринка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, які на ньому існують правила торгівлі, вхідні бар</a:t>
            </a:r>
            <a:r>
              <a:rPr b="0" i="1" lang="en-US" sz="2400" spc="-1" strike="noStrike">
                <a:solidFill>
                  <a:srgbClr val="1b3753"/>
                </a:solidFill>
                <a:latin typeface="Verdana"/>
              </a:rPr>
              <a:t>’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єри, чи можна використовувати наявні канали збуту або необхідно сформувати власну збутову мережу зі своїми торговими посередниками, складами й магазинам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0" y="3124080"/>
            <a:ext cx="9091440" cy="33462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3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Суттєвість сегмента ринку</a:t>
            </a:r>
            <a:r>
              <a:rPr b="0" i="1" lang="uk-UA" sz="1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1f4aa9"/>
                </a:solidFill>
                <a:latin typeface="Verdana"/>
              </a:rPr>
              <a:t>– визначення того, наскільки реально ту чи іншу групу споживачів можна розглядати як сегмент ринку, наскільки вона стійка за основними об’єднуючими ознаками; чи</a:t>
            </a:r>
            <a:r>
              <a:rPr b="1" i="1" lang="uk-UA" sz="2400" spc="-1" strike="noStrike">
                <a:solidFill>
                  <a:srgbClr val="1f4aa9"/>
                </a:solidFill>
                <a:latin typeface="Verdana"/>
              </a:rPr>
              <a:t> </a:t>
            </a:r>
            <a:r>
              <a:rPr b="0" i="1" lang="uk-UA" sz="2400" spc="-1" strike="noStrike">
                <a:solidFill>
                  <a:srgbClr val="1f4aa9"/>
                </a:solidFill>
                <a:latin typeface="Verdana"/>
              </a:rPr>
              <a:t>є стійкими потреби сегмента щодо пропонованого товару. У протилежному разі можна запропонувати товар з нечіткими, розмитими адресними характеристиками, який не буде визнаний споживачам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12"/>
              <p:cNvSpPr txBox="1"/>
              <p:nvPr/>
            </p:nvSpPr>
            <p:spPr>
              <a:xfrm>
                <a:off x="3635280" y="5877000"/>
                <a:ext cx="20890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Н</m:t>
                        </m:r>
                      </m:e>
                      <m:sub>
                        <m:r>
                          <m:t xml:space="preserve">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т</m:t>
                            </m:r>
                          </m:sub>
                        </m:sSub>
                      </m:num>
                      <m:den>
                        <m:r>
                          <m:t xml:space="preserve">П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cover dir="rd"/>
    <p:sndAc>
      <p:stSnd>
        <p:snd r:embed="rId4" name="explode.wav"/>
      </p:stSnd>
    </p:sndAc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2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Шляхи залучення фірм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до міжнародної маркетингової діяльност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292929"/>
                </a:solidFill>
                <a:latin typeface="Tahoma"/>
              </a:rPr>
              <a:t>Фірми залучаються до діяльності з міжнародного маркетингу двома шляхами: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1c1c1c"/>
                </a:solidFill>
                <a:latin typeface="Tahoma"/>
              </a:rPr>
              <a:t>до фірми звертаються з проханням організувати продаж за кордоном</a:t>
            </a: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 (наприклад, інший вітчизняний експортер, іноземний імпортер або іноземний уряд);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1c1c1c"/>
                </a:solidFill>
                <a:latin typeface="Tahoma"/>
              </a:rPr>
              <a:t>фірма сама приймає рішення вийти на зарубіжний ринок,</a:t>
            </a: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 оскільки: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Clr>
                <a:srgbClr val="1c1c1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її виробничі потужності перевищують потреби вітчизняного ринку;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Clr>
                <a:srgbClr val="1c1c1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за кордоном наявні більш сприятливі маркетингові можливості.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strips dir="rd"/>
    <p:sndAc>
      <p:stSnd>
        <p:snd r:embed="rId3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utoShape 2"/>
          <p:cNvSpPr/>
          <p:nvPr/>
        </p:nvSpPr>
        <p:spPr>
          <a:xfrm>
            <a:off x="266760" y="2131920"/>
            <a:ext cx="8877240" cy="13201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1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який відсоток загального обсягу своїх продаж фірма буде прагнути здійснювати на зовнішніх ринках. 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289080" y="3429000"/>
            <a:ext cx="8854920" cy="9147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2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буде фірма займатися маркетингом в одній-двох або в багатьох країнах.</a:t>
            </a:r>
            <a:r>
              <a:rPr b="0" i="1" lang="uk-UA" sz="10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718480" cy="26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собливості прийняття рішення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про доцільність виходу на зарубіжний ринок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195120" y="1716120"/>
            <a:ext cx="8747280" cy="337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Рішення про доцільність виходу на зарубіжний ринок передбачає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AutoShape 3"/>
          <p:cNvSpPr/>
          <p:nvPr/>
        </p:nvSpPr>
        <p:spPr>
          <a:xfrm>
            <a:off x="328680" y="4724280"/>
            <a:ext cx="8815320" cy="9147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3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у країнах якого типу фірма бажає працюват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AutoShape 33"/>
          <p:cNvSpPr/>
          <p:nvPr/>
        </p:nvSpPr>
        <p:spPr>
          <a:xfrm>
            <a:off x="179280" y="5877000"/>
            <a:ext cx="8775720" cy="9622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900" spc="-1" strike="noStrike">
                <a:solidFill>
                  <a:srgbClr val="292929"/>
                </a:solidFill>
                <a:latin typeface="Tahoma"/>
              </a:rPr>
              <a:t>Таким чином, різні компанії залежно від поставленої мети можуть більшою або меншою мірою брати участь у міжнародній маркетинговій діяльності.</a:t>
            </a:r>
            <a:endParaRPr b="0" i="1" lang="en-US" sz="1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AutoShape 34"/>
          <p:cNvSpPr/>
          <p:nvPr/>
        </p:nvSpPr>
        <p:spPr>
          <a:xfrm>
            <a:off x="-11160" y="1689120"/>
            <a:ext cx="8944200" cy="496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На практиці рішення по виходу на зарубіжні ринки  спираються не лише на раціональні критерії, що виходять з чіткої та об</a:t>
            </a:r>
            <a:r>
              <a:rPr b="0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єктивної інформації. На багатьох підприємствах питання міжнародного розвитку часто сильно залежать від таких </a:t>
            </a: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суб</a:t>
            </a:r>
            <a:r>
              <a:rPr b="1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єктивних причин,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 як: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прив</a:t>
            </a:r>
            <a:r>
              <a:rPr b="0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язаність певних осіб, що приймають рішення, до певної країни та її культури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наслідки ознайомчого візиту у складі групи або випадкових зустрічей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бажання узаконити за кордоном певні дії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прагнення досягти успіхів на новому ринку, що відомий своєю складністю та ін.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Тому роль випадку в прийнятті рішення по виходу на зовнішній ринок буває досить великою.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6" name="explode.wav"/>
      </p:stSnd>
    </p:sndAc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6:37Z</dcterms:modified>
  <cp:revision>561</cp:revision>
  <dc:subject>Conference</dc:subject>
  <dc:title>Duk N., Dnipropetrovs’k national university </dc:title>
</cp:coreProperties>
</file>