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B48-A021-459C-83CD-94618A2A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1C0-8359-4541-8F5A-125CE40E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837-3C50-4A52-83FE-A798F111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D72-8E84-4E4E-B4B6-DA6001BB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4502-AAA1-432D-BC44-4FA7DC4E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CC60-5136-45FF-BE68-83D4403E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A3E6-BCB2-4158-B533-031EAF5D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4E3-BB51-43C2-9A24-8A04554A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FA29-3541-40B8-BFBF-DD4FCA21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8502-8D64-431C-A26E-A17DF2DC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083E-BB9A-43BC-BCEC-E557F35A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405-5FD4-4EBA-A745-2D9D9DA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3CAA-0BB8-4B63-BDF4-1B256FF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BCCB-0C8D-4BDF-85D2-1AA30C19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5B1E-4A2D-457A-8A4A-46BF10A9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BADE-B7F9-4113-A5E8-72651F87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6FFD-AD2D-410E-A714-AB91C63E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C02C-0720-4DE1-A263-120273FB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4DB9-17AD-4138-9C37-88503302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92A7-8A0F-4695-B044-92FBDAA5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0BDA-4277-4AA8-BA27-8961E787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7198-DD49-492A-82F0-AA157BFE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7AA-A42A-47C2-A332-05C40252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522B-B54D-488C-ACDB-1582A6D0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CAAC-E2EC-474C-906D-863798A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2188F-0771-4EF0-B2CD-37DE7BC2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E687-1053-426A-91E1-FD2BF65F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F245-E62F-4272-B81C-9E8B11F0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1538-BB78-4C29-8CA1-C35EB98B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59DA-CE22-40D4-B6A9-9DD9D52B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F5E-A0E7-4D79-BBE2-8ED9C832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113-CD2D-4C13-8EE3-B1E169D3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417-CB1A-4CCF-9828-5E7C84B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ECD-2CA6-42E5-A50F-D2598C83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2F7-17F2-4D18-94C5-5338630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504-08C8-4F30-A9FF-448990A5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D861-85D2-4CB7-BC02-84E88E2D3E3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0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13CF-12CF-4B3C-8FBF-B18E13DE5C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119C-DEB2-43AD-9E9C-0E866709C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Тема 4. Підготовка підприємств до 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1c1c1c"/>
                </a:solidFill>
                <a:latin typeface="Tahoma"/>
              </a:rPr>
              <a:t>глобалізації маркетингової діяльності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3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Етапи сегментації ринк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79280" y="1341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1. Вибір агрегованого ринку та дослідження структури попит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в ретроспективі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“старий” ринок – початок “нового”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79280" y="1773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2. Виявлення основних змін у структурі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та аналіз факторів, що обумовили ці змін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79280" y="2205000"/>
            <a:ext cx="8236080" cy="71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3. Визначення найбільш важливих для конкретного ринка параметрів сегментації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79280" y="292428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4. Безпосередньо сегментація – укладання таблиць сегментації ринк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179280" y="3357720"/>
            <a:ext cx="8209080" cy="4078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5. Аналіз якісної сторони попиту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специфіки)</a:t>
            </a: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 сегментів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79280" y="378936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6. Аналіз кількісної сторони попиту сегментів </a:t>
            </a:r>
            <a:r>
              <a:rPr b="0" lang="uk-UA" sz="2000" spc="-1" strike="noStrike">
                <a:solidFill>
                  <a:srgbClr val="800080"/>
                </a:solidFill>
                <a:latin typeface="Times New Roman"/>
              </a:rPr>
              <a:t>(визначення місткості, насиченості та ін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179280" y="4508640"/>
            <a:ext cx="8234640" cy="711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7. Відбір сегмента (сегментів), де виявлені найбільш сприятливі умови для діяльності конкретної фірм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179280" y="5229360"/>
            <a:ext cx="3926160" cy="1015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стратегії і тактики маркетингу для кожного сег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AutoShape 21"/>
          <p:cNvSpPr/>
          <p:nvPr/>
        </p:nvSpPr>
        <p:spPr>
          <a:xfrm>
            <a:off x="179280" y="6237360"/>
            <a:ext cx="8205840" cy="40788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9. Аналіз сильних та слабких сторін сегментації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4500720" y="5229360"/>
            <a:ext cx="3925800" cy="101556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8. Розробка рекомендацій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по товарному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асортимен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4091040" y="5468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4091040" y="5684760"/>
            <a:ext cx="433440" cy="1800"/>
          </a:xfrm>
          <a:prstGeom prst="line">
            <a:avLst/>
          </a:prstGeom>
          <a:ln w="381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80" name="AutoShape 28"/>
          <p:cNvCxnSpPr>
            <a:stCxn id="376" idx="3"/>
            <a:endCxn id="368" idx="3"/>
          </p:cNvCxnSpPr>
          <p:nvPr/>
        </p:nvCxnSpPr>
        <p:spPr>
          <a:xfrm flipV="1">
            <a:off x="8385120" y="1697760"/>
            <a:ext cx="29520" cy="4744440"/>
          </a:xfrm>
          <a:prstGeom prst="bentConnector3">
            <a:avLst>
              <a:gd name="adj1" fmla="val 893827"/>
            </a:avLst>
          </a:prstGeom>
          <a:ln w="38160">
            <a:solidFill>
              <a:srgbClr val="1b3753"/>
            </a:solidFill>
            <a:miter/>
            <a:tailEnd len="med" type="triangle" w="med"/>
          </a:ln>
        </p:spPr>
      </p:cxnSp>
    </p:spTree>
  </p:cSld>
  <p:transition spd="slow">
    <p:cover dir="rd"/>
    <p:sndAc>
      <p:stSnd>
        <p:snd r:embed="rId1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5"/>
          <p:cNvSpPr/>
          <p:nvPr/>
        </p:nvSpPr>
        <p:spPr>
          <a:xfrm>
            <a:off x="149400" y="2708280"/>
            <a:ext cx="8994600" cy="253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Недиференцій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вважає ринок однорідним з точки зору збуту продукції і виходить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на всі сегменти відразу зі стандартним комплексом маркетингу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. </a:t>
            </a:r>
            <a:r>
              <a:rPr b="0" i="1" lang="uk-UA" sz="2000" spc="-1" strike="noStrike">
                <a:solidFill>
                  <a:srgbClr val="0000cc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–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економічність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внаслідок низького рівня витрат на маркетингові дослідження (не потрібно вивчення сегментів), товарорух та рекламу. Найбільш підходить для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норідних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товар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03040" y="3284640"/>
            <a:ext cx="8940960" cy="219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иференційований маркетинг 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– фірма виходить </a:t>
            </a: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на всі сегменти ринку з розробкою для кожного з них свого індивідуального комплексу маркетингу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з урахуванням відмін у потребах клієнтів та умовах збуту. </a:t>
            </a:r>
            <a:r>
              <a:rPr b="0" i="1" lang="uk-UA" sz="2000" spc="-1" strike="noStrike">
                <a:solidFill>
                  <a:srgbClr val="008000"/>
                </a:solidFill>
                <a:latin typeface="Verdana"/>
              </a:rPr>
              <a:t>Позитивні риси</a:t>
            </a:r>
            <a:r>
              <a:rPr b="0" i="1" lang="uk-UA" sz="2000" spc="-1" strike="noStrike">
                <a:solidFill>
                  <a:srgbClr val="1f4aa9"/>
                </a:solidFill>
                <a:latin typeface="Verdana"/>
              </a:rPr>
              <a:t> – зростання продаж та більш глибоке проникнення на ринок, закріплення на ньом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171360" y="3789360"/>
            <a:ext cx="8972640" cy="21988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Концентрований маркетинг 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– фірма обира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один або декілька сегментів ринка і концентрує на них свої зусилля по розробці єдиного комплексу маркетингу.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Привабливий для фірм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з обмеженими ресурсам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завдяки меншим витратам. Однак існує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ризик втратити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обраний сегмент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наслідок змін запитів покупців</a:t>
            </a:r>
            <a:r>
              <a:rPr b="0" i="1" lang="uk-UA" sz="2000" spc="-1" strike="noStrike">
                <a:solidFill>
                  <a:srgbClr val="1b3753"/>
                </a:solidFill>
                <a:latin typeface="Verdana"/>
              </a:rPr>
              <a:t> або </a:t>
            </a: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втручання конкурентів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тратегії охоплення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163440" y="1684440"/>
            <a:ext cx="8812440" cy="1351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Після виділення чітко окреслених сегментів ринку обираються ті з них, де буде здійснюватися збут товарів та послуг,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цільові сегменти ринка. 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Існує </a:t>
            </a:r>
            <a:r>
              <a:rPr b="1" i="1" lang="uk-UA" sz="2000" spc="-1" strike="noStrike">
                <a:solidFill>
                  <a:srgbClr val="ff3300"/>
                </a:solidFill>
                <a:latin typeface="Tahoma"/>
              </a:rPr>
              <a:t>три стратегії охоплення</a:t>
            </a:r>
            <a:r>
              <a:rPr b="0" i="1" lang="uk-UA" sz="2000" spc="-1" strike="noStrike">
                <a:solidFill>
                  <a:srgbClr val="0033cc"/>
                </a:solidFill>
                <a:latin typeface="Tahoma"/>
              </a:rPr>
              <a:t> цільових сегментів ринку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69"/>
          <p:cNvSpPr/>
          <p:nvPr/>
        </p:nvSpPr>
        <p:spPr>
          <a:xfrm>
            <a:off x="179280" y="1557360"/>
            <a:ext cx="8964720" cy="1657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Text Box 70"/>
          <p:cNvSpPr/>
          <p:nvPr/>
        </p:nvSpPr>
        <p:spPr>
          <a:xfrm>
            <a:off x="324000" y="191628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Text Box 71"/>
          <p:cNvSpPr/>
          <p:nvPr/>
        </p:nvSpPr>
        <p:spPr>
          <a:xfrm>
            <a:off x="2627280" y="206064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ринок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72"/>
          <p:cNvSpPr/>
          <p:nvPr/>
        </p:nvSpPr>
        <p:spPr>
          <a:xfrm>
            <a:off x="2340000" y="220500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Oval 73"/>
          <p:cNvSpPr/>
          <p:nvPr/>
        </p:nvSpPr>
        <p:spPr>
          <a:xfrm rot="522600">
            <a:off x="5003280" y="177336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Text Box 74"/>
          <p:cNvSpPr/>
          <p:nvPr/>
        </p:nvSpPr>
        <p:spPr>
          <a:xfrm rot="555600">
            <a:off x="5435640" y="198864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Не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75"/>
          <p:cNvSpPr/>
          <p:nvPr/>
        </p:nvSpPr>
        <p:spPr>
          <a:xfrm>
            <a:off x="179280" y="3143160"/>
            <a:ext cx="8964720" cy="165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76"/>
          <p:cNvSpPr/>
          <p:nvPr/>
        </p:nvSpPr>
        <p:spPr>
          <a:xfrm>
            <a:off x="252360" y="3213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1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77"/>
          <p:cNvSpPr/>
          <p:nvPr/>
        </p:nvSpPr>
        <p:spPr>
          <a:xfrm>
            <a:off x="2556000" y="37180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Line 78"/>
          <p:cNvSpPr/>
          <p:nvPr/>
        </p:nvSpPr>
        <p:spPr>
          <a:xfrm>
            <a:off x="2268360" y="386244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Oval 79"/>
          <p:cNvSpPr/>
          <p:nvPr/>
        </p:nvSpPr>
        <p:spPr>
          <a:xfrm rot="522600">
            <a:off x="4932000" y="343044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Text Box 80"/>
          <p:cNvSpPr/>
          <p:nvPr/>
        </p:nvSpPr>
        <p:spPr>
          <a:xfrm rot="555600">
            <a:off x="5364000" y="3646080"/>
            <a:ext cx="295308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иференцій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81"/>
          <p:cNvSpPr/>
          <p:nvPr/>
        </p:nvSpPr>
        <p:spPr>
          <a:xfrm>
            <a:off x="2556000" y="4221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Text Box 82"/>
          <p:cNvSpPr/>
          <p:nvPr/>
        </p:nvSpPr>
        <p:spPr>
          <a:xfrm>
            <a:off x="2556000" y="321300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Text Box 83"/>
          <p:cNvSpPr/>
          <p:nvPr/>
        </p:nvSpPr>
        <p:spPr>
          <a:xfrm>
            <a:off x="252360" y="371808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2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Text Box 84"/>
          <p:cNvSpPr/>
          <p:nvPr/>
        </p:nvSpPr>
        <p:spPr>
          <a:xfrm>
            <a:off x="252360" y="4221000"/>
            <a:ext cx="2016000" cy="4870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1c1c1c"/>
                </a:solidFill>
                <a:latin typeface="Tahoma"/>
              </a:rPr>
              <a:t>Комплекс маркетингу 3</a:t>
            </a:r>
            <a:endParaRPr b="0" i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85"/>
          <p:cNvSpPr/>
          <p:nvPr/>
        </p:nvSpPr>
        <p:spPr>
          <a:xfrm>
            <a:off x="2268360" y="342900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86"/>
          <p:cNvSpPr/>
          <p:nvPr/>
        </p:nvSpPr>
        <p:spPr>
          <a:xfrm>
            <a:off x="2268360" y="4365720"/>
            <a:ext cx="28764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Rectangle 87"/>
          <p:cNvSpPr/>
          <p:nvPr/>
        </p:nvSpPr>
        <p:spPr>
          <a:xfrm>
            <a:off x="179280" y="4797360"/>
            <a:ext cx="8964720" cy="1657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88"/>
          <p:cNvSpPr/>
          <p:nvPr/>
        </p:nvSpPr>
        <p:spPr>
          <a:xfrm>
            <a:off x="2627280" y="5445000"/>
            <a:ext cx="2016000" cy="305280"/>
          </a:xfrm>
          <a:prstGeom prst="rect">
            <a:avLst/>
          </a:prstGeom>
          <a:solidFill>
            <a:srgbClr val="ff33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2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89"/>
          <p:cNvSpPr/>
          <p:nvPr/>
        </p:nvSpPr>
        <p:spPr>
          <a:xfrm>
            <a:off x="2340000" y="5589720"/>
            <a:ext cx="287280" cy="0"/>
          </a:xfrm>
          <a:prstGeom prst="line">
            <a:avLst/>
          </a:prstGeom>
          <a:ln w="9360">
            <a:solidFill>
              <a:srgbClr val="1b37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Oval 90"/>
          <p:cNvSpPr/>
          <p:nvPr/>
        </p:nvSpPr>
        <p:spPr>
          <a:xfrm rot="522600">
            <a:off x="5003280" y="5157720"/>
            <a:ext cx="3816360" cy="1150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Text Box 91"/>
          <p:cNvSpPr/>
          <p:nvPr/>
        </p:nvSpPr>
        <p:spPr>
          <a:xfrm rot="555600">
            <a:off x="5435640" y="5373360"/>
            <a:ext cx="2952720" cy="61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Концентрований маркетинг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Text Box 92"/>
          <p:cNvSpPr/>
          <p:nvPr/>
        </p:nvSpPr>
        <p:spPr>
          <a:xfrm>
            <a:off x="2627280" y="5948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3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Text Box 93"/>
          <p:cNvSpPr/>
          <p:nvPr/>
        </p:nvSpPr>
        <p:spPr>
          <a:xfrm>
            <a:off x="2627280" y="4940280"/>
            <a:ext cx="2016000" cy="30528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сегмент 1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Text Box 94"/>
          <p:cNvSpPr/>
          <p:nvPr/>
        </p:nvSpPr>
        <p:spPr>
          <a:xfrm>
            <a:off x="324000" y="5445000"/>
            <a:ext cx="2016000" cy="610200"/>
          </a:xfrm>
          <a:prstGeom prst="rect">
            <a:avLst/>
          </a:prstGeom>
          <a:solidFill>
            <a:srgbClr val="00ff00"/>
          </a:solidFill>
          <a:ln w="9360">
            <a:solidFill>
              <a:srgbClr val="1b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Tahoma"/>
              </a:rPr>
              <a:t>Комплекс маркетингу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8" name="explode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новні фактори обрання стратегії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хоплення цільових сегментів ринк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292929"/>
                </a:solidFill>
                <a:latin typeface="Tahoma"/>
              </a:rPr>
              <a:t>При обранні стратегії охоплення ринка враховують такі фактори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ресурси фірми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обмежені –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продукції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чим більш однорідна, тим вигідніше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етап життєвого циклу товару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на етапі впровадження більш підходять недиференційований і концентр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ступінь однорідності ринка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якщо у всіх споживачів схожі смаки, то вигідним є недиференційований маркетинг)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c1c1c"/>
                </a:solidFill>
                <a:latin typeface="Tahoma"/>
              </a:rPr>
              <a:t>Маркетингові стратегії конкурентів</a:t>
            </a:r>
            <a:r>
              <a:rPr b="0" i="1" lang="uk-UA" sz="2200" spc="-1" strike="noStrike">
                <a:solidFill>
                  <a:srgbClr val="1c1c1c"/>
                </a:solidFill>
                <a:latin typeface="Tahoma"/>
              </a:rPr>
              <a:t> ( якщо конкуренти застосовують недиференційований маркетинг, то фірма може отримати вигоду від диференційованого або концентрованого маркетингу)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6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ритерії обрання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конкретних сегментів ринка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0" y="1700280"/>
            <a:ext cx="9210600" cy="422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Verdana"/>
              </a:rPr>
              <a:t>1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Потенціал сегменту ринка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, що характеризується такими двома кількісними показниками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Місткість ринку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– обсяг товарів або послуг, що реалізуються на ринку, за певний час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С=П+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–Е+І–Ек+Ік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Де С – місткість ринку; П – виробництво товару всередині ринку; </a:t>
            </a:r>
            <a:r>
              <a:rPr b="1" i="1" lang="uk-UA" sz="1400" spc="-1" strike="noStrike">
                <a:solidFill>
                  <a:srgbClr val="1c1c1c"/>
                </a:solidFill>
                <a:latin typeface="Verdana"/>
              </a:rPr>
              <a:t>Δ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О – різниця залишків товарів на складах</a:t>
            </a:r>
            <a:r>
              <a:rPr b="0" i="1" lang="uk-UA" sz="1000" spc="-1" strike="noStrike">
                <a:solidFill>
                  <a:srgbClr val="1c1c1c"/>
                </a:solidFill>
                <a:latin typeface="Times New Roman"/>
              </a:rPr>
              <a:t>; 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Е – вивіз товару; І – ввіз товару; Ек – непрямий вивіз; Ік – непрямий ввіз;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c1c1c"/>
                </a:solidFill>
                <a:latin typeface="Verdana"/>
              </a:rPr>
              <a:t>Насиченість ринку</a:t>
            </a:r>
            <a:r>
              <a:rPr b="0" i="1" lang="uk-UA" sz="2000" spc="-1" strike="noStrike">
                <a:solidFill>
                  <a:srgbClr val="1c1c1c"/>
                </a:solidFill>
                <a:latin typeface="Verdana"/>
              </a:rPr>
              <a:t> (Нр) – показник, що відображає перспективи зміни попиту (у %) та визначається як відношення числа покупців, що вже придбали товар (Пт), до загальної кількості споживачів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600" indent="-363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0240" y="2421000"/>
            <a:ext cx="9113760" cy="3346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b3753"/>
                </a:solidFill>
                <a:latin typeface="Verdana"/>
              </a:rPr>
              <a:t>2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Доступн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– отримання експертних оцінок про те, </a:t>
            </a:r>
            <a:r>
              <a:rPr b="1" i="1" lang="uk-UA" sz="2400" spc="-1" strike="noStrike">
                <a:solidFill>
                  <a:srgbClr val="1b3753"/>
                </a:solidFill>
                <a:latin typeface="Verdana"/>
              </a:rPr>
              <a:t>чи є принципова можливість почати впровадження та просування своїх товарів на тому чи іншому сегменті ринка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, які на ньому існують правила торгівлі, вхідні бар</a:t>
            </a:r>
            <a:r>
              <a:rPr b="0" i="1" lang="en-US" sz="2400" spc="-1" strike="noStrike">
                <a:solidFill>
                  <a:srgbClr val="1b3753"/>
                </a:solidFill>
                <a:latin typeface="Verdana"/>
              </a:rPr>
              <a:t>’</a:t>
            </a:r>
            <a:r>
              <a:rPr b="0" i="1" lang="uk-UA" sz="2400" spc="-1" strike="noStrike">
                <a:solidFill>
                  <a:srgbClr val="1b3753"/>
                </a:solidFill>
                <a:latin typeface="Verdana"/>
              </a:rPr>
              <a:t>єри, чи можна використовувати наявні канали збуту або необхідно сформувати власну збутову мережу зі своїми торговими посередниками, складами й магазин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0" y="3124080"/>
            <a:ext cx="9091440" cy="33462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aa9"/>
                </a:solidFill>
                <a:latin typeface="Verdana"/>
              </a:rPr>
              <a:t>3. </a:t>
            </a:r>
            <a:r>
              <a:rPr b="1" lang="uk-UA" sz="2400" spc="-1" strike="noStrike">
                <a:solidFill>
                  <a:srgbClr val="ff3300"/>
                </a:solidFill>
                <a:latin typeface="Verdana"/>
              </a:rPr>
              <a:t>Суттєвість сегмента ринку</a:t>
            </a:r>
            <a:r>
              <a:rPr b="0" i="1" lang="uk-UA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– визначення того, наскільки реально ту чи іншу групу споживачів можна розглядати як сегмент ринку, наскільки вона стійка за основними об’єднуючими ознаками; чи</a:t>
            </a:r>
            <a:r>
              <a:rPr b="1" i="1" lang="uk-UA" sz="2400" spc="-1" strike="noStrike">
                <a:solidFill>
                  <a:srgbClr val="1f4aa9"/>
                </a:solidFill>
                <a:latin typeface="Verdana"/>
              </a:rPr>
              <a:t> </a:t>
            </a:r>
            <a:r>
              <a:rPr b="0" i="1" lang="uk-UA" sz="2400" spc="-1" strike="noStrike">
                <a:solidFill>
                  <a:srgbClr val="1f4aa9"/>
                </a:solidFill>
                <a:latin typeface="Verdana"/>
              </a:rPr>
              <a:t>є стійкими потреби сегмента щодо пропонованого товару. У протилежному разі можна запропонувати товар з нечіткими, розмитими адресними характеристиками, який не буде визнаний споживачам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2"/>
              <p:cNvSpPr txBox="1"/>
              <p:nvPr/>
            </p:nvSpPr>
            <p:spPr>
              <a:xfrm>
                <a:off x="3635280" y="5877000"/>
                <a:ext cx="208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num>
                      <m:den>
                        <m:r>
                          <m:t xml:space="preserve">П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  <p:sndAc>
      <p:stSnd>
        <p:snd r:embed="rId4" name="explod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184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Шляхи залучення фірм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до міжнародної маркетингової діяльності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292929"/>
                </a:solidFill>
                <a:latin typeface="Tahoma"/>
              </a:rPr>
              <a:t>Фірми залучаються до діяльності з міжнародного маркетингу двома шляхам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до фірми звертаються з проханням організувати продаж за кордоном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(наприклад, інший вітчизняний експортер, іноземний імпортер або іноземний уряд)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1c1c1c"/>
                </a:solidFill>
                <a:latin typeface="Tahoma"/>
              </a:rPr>
              <a:t>фірма сама приймає рішення вийти на зарубіжний ринок,</a:t>
            </a: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 оскільки: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її виробничі потужності перевищують потреби вітчизняного ринку;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Clr>
                <a:srgbClr val="1c1c1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1c1c1c"/>
                </a:solidFill>
                <a:latin typeface="Tahoma"/>
              </a:rPr>
              <a:t>за кордоном наявні більш сприятливі маркетингові можливості.</a:t>
            </a:r>
            <a:endParaRPr b="0" lang="en-US" sz="25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strips dir="rd"/>
    <p:sndAc>
      <p:stSnd>
        <p:snd r:embed="rId3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266760" y="2131920"/>
            <a:ext cx="8877240" cy="132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1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який відсоток загального обсягу своїх продаж фірма буде прагнути здійснювати на зовнішніх ринках. 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89080" y="3429000"/>
            <a:ext cx="8854920" cy="914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2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буде фірма займатися маркетингом в одній-двох або в багатьох країнах.</a:t>
            </a:r>
            <a:r>
              <a:rPr b="0" i="1" lang="uk-UA" sz="1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718480" cy="2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Особливості прийняття рішення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ро доцільність виходу на зарубіжний ринок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95120" y="1716120"/>
            <a:ext cx="8747280" cy="337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292929"/>
                </a:solidFill>
                <a:latin typeface="Tahoma"/>
              </a:rPr>
              <a:t>Рішення про доцільність виходу на зарубіжний ринок передбачає: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328680" y="4724280"/>
            <a:ext cx="8815320" cy="914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292929"/>
                </a:solidFill>
                <a:latin typeface="Verdana"/>
              </a:rPr>
              <a:t>3. </a:t>
            </a:r>
            <a:r>
              <a:rPr b="0" lang="uk-UA" sz="2400" spc="-1" strike="noStrike">
                <a:solidFill>
                  <a:srgbClr val="292929"/>
                </a:solidFill>
                <a:latin typeface="Verdana"/>
              </a:rPr>
              <a:t>Рішення про те,</a:t>
            </a:r>
            <a:r>
              <a:rPr b="1" lang="uk-UA" sz="2400" spc="-1" strike="noStrike">
                <a:solidFill>
                  <a:srgbClr val="292929"/>
                </a:solidFill>
                <a:latin typeface="Verdana"/>
              </a:rPr>
              <a:t> у країнах якого типу фірма бажає працювати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179280" y="5877000"/>
            <a:ext cx="8775720" cy="962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292929"/>
                </a:solidFill>
                <a:latin typeface="Tahoma"/>
              </a:rPr>
              <a:t>Таким чином, різні компанії залежно від поставленої мети можуть більшою або меншою мірою брати участь у міжнародній маркетинговій діяльності.</a:t>
            </a:r>
            <a:endParaRPr b="0" i="1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-11160" y="1689120"/>
            <a:ext cx="8944200" cy="496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 практиці рішення по виходу на зарубіжні ринки  спираються не лише на раціональні критерії, що виходять з чіткої та об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єктивної інформації. На багатьох підприємствах питання міжнародного розвитку часто сильно залежать від таких 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суб</a:t>
            </a:r>
            <a:r>
              <a:rPr b="1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єктивних причин,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 як: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ив</a:t>
            </a:r>
            <a:r>
              <a:rPr b="0" i="1" lang="en-US" sz="2100" spc="-1" strike="noStrike">
                <a:solidFill>
                  <a:srgbClr val="1c1c1c"/>
                </a:solidFill>
                <a:latin typeface="Tahoma"/>
              </a:rPr>
              <a:t>’</a:t>
            </a: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язаність певних осіб, що приймають рішення, до певної країни та її культури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наслідки ознайомчого візиту у складі групи або випадкових зустрічей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бажання узаконити за кордоном певні дії;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355680">
              <a:lnSpc>
                <a:spcPct val="100000"/>
              </a:lnSpc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1c1c1c"/>
                </a:solidFill>
                <a:latin typeface="Tahoma"/>
              </a:rPr>
              <a:t>прагнення досягти успіхів на новому ринку, що відомий своєю складністю та ін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1c1c1c"/>
                </a:solidFill>
                <a:latin typeface="Tahoma"/>
              </a:rPr>
              <a:t>Тому роль випадку в прийнятті рішення по виходу на зовнішній ринок буває досить великою.</a:t>
            </a:r>
            <a:endParaRPr b="0" i="1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6:37Z</dcterms:modified>
  <cp:revision>561</cp:revision>
  <dc:subject>Conference</dc:subject>
  <dc:title>Duk N., Dnipropetrovs’k national university </dc:title>
</cp:coreProperties>
</file>