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9B51-19BD-4A0C-AC1B-207987606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6371-066F-4D07-938C-3BCFC93CB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5C35-97EC-40CB-99E0-A2C486311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119A-D0FE-47A1-B1EB-C1FC3848F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D2A8-F7DB-4282-B4E3-E31CA53EE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DBF1-127E-4B00-8CA8-F5D365AFB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119A-C98E-4120-9396-3A9DE68DF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7B70-5121-4CCE-9A4F-6FF1806C9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4E4F-F310-4868-8A93-B71F64290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3D10-D19A-48D0-9EDE-262C0CCD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B683-8A29-449B-9D8C-8A4B1C68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E114-BB7E-4DCA-8818-352BCDE7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B2D2B-FBD6-4157-AD2D-1427B09270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11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Тема 5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Стратегії глобального маркетин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360" y="2276280"/>
            <a:ext cx="792000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1. Сутність і види стратегій міжнародної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конкурентоспроможності підприємств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2. Принципи і методологія формування стратегії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міжнародної конкурентоспроможності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підприєм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3. Управління розробкою і реалізацією стратегії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міжнародної конкурентоспроможності підприєм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551664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ис. 7. Конкурентний потенціал базових, ключових і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   радикальних технологі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4"/>
          <p:cNvGraphicFramePr/>
          <p:nvPr/>
        </p:nvGraphicFramePr>
        <p:xfrm>
          <a:off x="108000" y="765000"/>
          <a:ext cx="9036000" cy="424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765000"/>
                    <a:ext cx="9036000" cy="424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ереваги і недоліки стратегій формування 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ехнологічних переваг підприєм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4"/>
          <p:cNvGraphicFramePr/>
          <p:nvPr/>
        </p:nvGraphicFramePr>
        <p:xfrm>
          <a:off x="217440" y="730080"/>
          <a:ext cx="8675640" cy="594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7440" y="730080"/>
                    <a:ext cx="8675640" cy="594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73560" y="4986360"/>
            <a:ext cx="3035160" cy="16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ис. 8. Концептуальна модель процесу управління розробкою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а реалізацією стратегії нового продук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-76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Object 4"/>
          <p:cNvGraphicFramePr/>
          <p:nvPr/>
        </p:nvGraphicFramePr>
        <p:xfrm>
          <a:off x="1042920" y="25560"/>
          <a:ext cx="4506840" cy="678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5560"/>
                    <a:ext cx="4506840" cy="678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ис. 9. Матриця стратегій нового продук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539640" y="703440"/>
          <a:ext cx="8229600" cy="4525920"/>
        </p:xfrm>
        <a:graphic>
          <a:graphicData uri="http://schemas.openxmlformats.org/drawingml/2006/table">
            <a:tbl>
              <a:tblPr/>
              <a:tblGrid>
                <a:gridCol w="2803680"/>
                <a:gridCol w="2881440"/>
                <a:gridCol w="2544480"/>
              </a:tblGrid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                 </a:t>
                      </a: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_              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пи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позиці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снуючі покупц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ві покупц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8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Існуючі това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асткове будівниц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зширення ринк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8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ві това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зширення ліні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вий бізне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585936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ис. 1. Піраміда стратегій підприємства-суб’єкта міжнародної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  економічної діяль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7" descr="Picture1"/>
          <p:cNvPicPr/>
          <p:nvPr/>
        </p:nvPicPr>
        <p:blipFill>
          <a:blip r:embed="rId1"/>
          <a:stretch/>
        </p:blipFill>
        <p:spPr>
          <a:xfrm>
            <a:off x="1150920" y="-100080"/>
            <a:ext cx="8101080" cy="58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алузевий аспект проблеми типології стратегій міжнародної конкурентоспроможності підприєм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08000" y="907920"/>
          <a:ext cx="8929800" cy="5581800"/>
        </p:xfrm>
        <a:graphic>
          <a:graphicData uri="http://schemas.openxmlformats.org/drawingml/2006/table">
            <a:tbl>
              <a:tblPr/>
              <a:tblGrid>
                <a:gridCol w="2232000"/>
                <a:gridCol w="1508040"/>
                <a:gridCol w="1467000"/>
                <a:gridCol w="1100160"/>
                <a:gridCol w="2622600"/>
              </a:tblGrid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АЛУЗ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арактеристикагалузево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уктур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мінуючий тип конкурентних перев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ритерії к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атегія формув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курентних перев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Галузі первинного сек-тора економіки (сільське господарство, видобуток мінеральної сировин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том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родно-ресурсні (факторні переваг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інімізація витра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 Електроенерге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н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сурсні (факторні)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інімізація витра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 Металургія, базова хімія, будматеріа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ліг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сурсні (факторні)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інімізація витра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 Харчова промислов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нополістична конкуренці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сурсно-техноло-гічні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иференціація виробів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клама, брендін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 Машинобудув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ліг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ехнологічні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вестиційно-технологічн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зви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 Електроніка, інформаційно-ком-п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'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ютерні технологі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ліг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о-технологічні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швид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ий розви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алузевий аспект проблеми типології стратегій міжнародної конкурентоспроможності підприєм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08000" y="1434960"/>
          <a:ext cx="8929800" cy="2865600"/>
        </p:xfrm>
        <a:graphic>
          <a:graphicData uri="http://schemas.openxmlformats.org/drawingml/2006/table">
            <a:tbl>
              <a:tblPr/>
              <a:tblGrid>
                <a:gridCol w="2232000"/>
                <a:gridCol w="1508040"/>
                <a:gridCol w="1467000"/>
                <a:gridCol w="1100160"/>
                <a:gridCol w="2622600"/>
              </a:tblGrid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АЛУЗ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арактеристикагалузево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уктур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мінуючий тип конкурентних перев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ритерії к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атегія формув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курентних перев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 Фармацевтична промислов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ліг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о-технологічні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швид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ий розви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 Аерокосмічна промисловість, продукція військово-технічного призначе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ліг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о-інституціональні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швид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ий розви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0920" y="5878080"/>
            <a:ext cx="8281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ис. 2. Типова модель організації процесу розробки та реалізації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   стратегії міжнародної конкурентоспроможності підприєм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72"/>
          <p:cNvGraphicFramePr/>
          <p:nvPr/>
        </p:nvGraphicFramePr>
        <p:xfrm>
          <a:off x="1166760" y="-30240"/>
          <a:ext cx="6718320" cy="598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7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6760" y="-30240"/>
                    <a:ext cx="6718320" cy="598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515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ис. 3. Ієрархія (рівні) цілей підприєм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5" descr="Picture1"/>
          <p:cNvPicPr/>
          <p:nvPr/>
        </p:nvPicPr>
        <p:blipFill>
          <a:blip r:embed="rId1"/>
          <a:stretch/>
        </p:blipFill>
        <p:spPr>
          <a:xfrm>
            <a:off x="322200" y="765000"/>
            <a:ext cx="84978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ис. 4. Інтерактивна модель взаємодії станів ринку,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       потенціалу і стратегічної мети підприєм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132"/>
          <p:cNvGraphicFramePr/>
          <p:nvPr/>
        </p:nvGraphicFramePr>
        <p:xfrm>
          <a:off x="0" y="533520"/>
          <a:ext cx="9144000" cy="46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1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520"/>
                    <a:ext cx="9144000" cy="46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1280" y="571500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Рис. 5. Структурно-логічна схема процесу розробки стратегії </a:t>
            </a:r>
            <a:br>
              <a:rPr sz="2200"/>
            </a:b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            технологічних переваг підприєм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Object 120"/>
          <p:cNvGraphicFramePr/>
          <p:nvPr/>
        </p:nvGraphicFramePr>
        <p:xfrm>
          <a:off x="108000" y="155520"/>
          <a:ext cx="9036000" cy="536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1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55520"/>
                    <a:ext cx="9036000" cy="536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648120" y="3933720"/>
            <a:ext cx="202716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ис. 6. Технологічні відносини у галузі та стратегії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технологічного розвитку підприєм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Object 4"/>
          <p:cNvGraphicFramePr/>
          <p:nvPr/>
        </p:nvGraphicFramePr>
        <p:xfrm>
          <a:off x="733320" y="44280"/>
          <a:ext cx="5351400" cy="674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3320" y="44280"/>
                    <a:ext cx="5351400" cy="674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8T23:07:15Z</dcterms:created>
  <dc:creator>Bron</dc:creator>
  <dc:description/>
  <dc:language>en-US</dc:language>
  <cp:lastModifiedBy>Windows 7</cp:lastModifiedBy>
  <dcterms:modified xsi:type="dcterms:W3CDTF">2020-09-05T15:21:37Z</dcterms:modified>
  <cp:revision>31</cp:revision>
  <dc:subject/>
  <dc:title>Тема 1. Введення в дисципліну «Управління міжнародною  конкурентоспроможністю підприємства»</dc:title>
</cp:coreProperties>
</file>