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58ED-980E-4E7D-8342-784B8F4E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E40C-2F4B-4A39-A3ED-1042CD34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12B9-DB03-4205-ADC0-CFF0FDF8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DACD-A758-44B0-BA6B-EC099BAF7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3E18-2B4E-487A-949D-CDBFAC3C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5713-8313-4BC2-917B-E48EC855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8E98-9FB5-4E59-A506-81DEF715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0885-CAB4-4569-B9CB-8127E222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0F2D-41CA-452A-AB40-D26B1E67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CA17-0A08-4DBF-BB0D-259CE027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67A3-C937-4130-A7D6-5EADA476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29A7-A62D-4C34-8349-D8050CF0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3B07-6B39-400C-B5C7-470BFDEA6A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ема 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тратегії глобального маркетин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276280"/>
            <a:ext cx="79200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1. Сутність і види стратегій міжнародно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конкурентоспроможності підприємств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2. Принципи і методологія формування стратегі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міжнародної конкурентоспроможност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3. Управління розробкою і реалізацією стратегі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міжнародної конкурентоспроможності 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551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7. Конкурентний потенціал базових, ключових і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радикальних технологі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108000" y="765000"/>
          <a:ext cx="9036000" cy="424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765000"/>
                    <a:ext cx="9036000" cy="42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еваги і недоліки стратегій формування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ологічних переваг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217440" y="730080"/>
          <a:ext cx="8675640" cy="59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730080"/>
                    <a:ext cx="8675640" cy="59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73560" y="4986360"/>
            <a:ext cx="3035160" cy="16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ис. 8. Концептуальна модель процесу управління розробкою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 реалізацією стратегії нового проду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-7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4"/>
          <p:cNvGraphicFramePr/>
          <p:nvPr/>
        </p:nvGraphicFramePr>
        <p:xfrm>
          <a:off x="1042920" y="25560"/>
          <a:ext cx="4506840" cy="67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5560"/>
                    <a:ext cx="4506840" cy="67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9. Матриця стратегій нового продук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9640" y="703440"/>
          <a:ext cx="8229600" cy="4525920"/>
        </p:xfrm>
        <a:graphic>
          <a:graphicData uri="http://schemas.openxmlformats.org/drawingml/2006/table">
            <a:tbl>
              <a:tblPr/>
              <a:tblGrid>
                <a:gridCol w="2803680"/>
                <a:gridCol w="2881440"/>
                <a:gridCol w="254448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       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_             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п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позиц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снуючі покупц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і покупц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снуючі това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ткове будівниц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ширення рин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і това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ширення ліні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ий бізне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85936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1. Піраміда стратегій підприємства-суб’єкта міжнародно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економічної діяль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7" descr="Picture1"/>
          <p:cNvPicPr/>
          <p:nvPr/>
        </p:nvPicPr>
        <p:blipFill>
          <a:blip r:embed="rId1"/>
          <a:stretch/>
        </p:blipFill>
        <p:spPr>
          <a:xfrm>
            <a:off x="1150920" y="-100080"/>
            <a:ext cx="810108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лузевий аспект проблеми типології стратегій міжнародної конкурентоспроможності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08000" y="907920"/>
          <a:ext cx="8929800" cy="5581800"/>
        </p:xfrm>
        <a:graphic>
          <a:graphicData uri="http://schemas.openxmlformats.org/drawingml/2006/table">
            <a:tbl>
              <a:tblPr/>
              <a:tblGrid>
                <a:gridCol w="2232000"/>
                <a:gridCol w="1508040"/>
                <a:gridCol w="1467000"/>
                <a:gridCol w="1100160"/>
                <a:gridCol w="26226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ЛУЗ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галузево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інуючий тип 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ії к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тегія форм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Галузі первинного сек-тора економіки (сільське господарство, видобуток мінеральної сирови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том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родно-ресурсні (факторні переваг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Електроенерге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н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і (факторні)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Металургія, базова хімія, будматері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і (факторні)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Харчова промислов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нополістична конкурен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о-техноло-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ференціація виробів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клама, бренді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Машинобуд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вестиційно-технологіч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 Електроніка, інформаційно-ком-п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'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терні технолог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лузевий аспект проблеми типології стратегій міжнародної конкурентоспроможності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8000" y="1434960"/>
          <a:ext cx="8929800" cy="2865600"/>
        </p:xfrm>
        <a:graphic>
          <a:graphicData uri="http://schemas.openxmlformats.org/drawingml/2006/table">
            <a:tbl>
              <a:tblPr/>
              <a:tblGrid>
                <a:gridCol w="2232000"/>
                <a:gridCol w="1508040"/>
                <a:gridCol w="1467000"/>
                <a:gridCol w="1100160"/>
                <a:gridCol w="26226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ЛУЗ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галузево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інуючий тип 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ії к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тегія форм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 Фармацевтична промислов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 Аерокосмічна промисловість, продукція військово-технічного признач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інституціональ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5878080"/>
            <a:ext cx="8281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2. Типова модель організації процесу розробки та реалізаці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стратегії міжнародної конкурентоспроможності підприє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72"/>
          <p:cNvGraphicFramePr/>
          <p:nvPr/>
        </p:nvGraphicFramePr>
        <p:xfrm>
          <a:off x="1166760" y="-30240"/>
          <a:ext cx="6718320" cy="598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7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-30240"/>
                    <a:ext cx="671832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3. Ієрархія (рівні) цілей підприєм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5" descr="Picture1"/>
          <p:cNvPicPr/>
          <p:nvPr/>
        </p:nvPicPr>
        <p:blipFill>
          <a:blip r:embed="rId1"/>
          <a:stretch/>
        </p:blipFill>
        <p:spPr>
          <a:xfrm>
            <a:off x="322200" y="765000"/>
            <a:ext cx="8497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4. Інтерактивна модель взаємодії станів ринку,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потенціалу і стратегічної мети підприєм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32"/>
          <p:cNvGraphicFramePr/>
          <p:nvPr/>
        </p:nvGraphicFramePr>
        <p:xfrm>
          <a:off x="0" y="533520"/>
          <a:ext cx="9144000" cy="46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1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46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5715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ис. 5. Структурно-логічна схема процесу розробки стратегії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    технологічних переваг 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20"/>
          <p:cNvGraphicFramePr/>
          <p:nvPr/>
        </p:nvGraphicFramePr>
        <p:xfrm>
          <a:off x="108000" y="155520"/>
          <a:ext cx="9036000" cy="53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55520"/>
                    <a:ext cx="903600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48120" y="3933720"/>
            <a:ext cx="202716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6. Технологічні відносини у галузі та стратегі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ехнологічного розвитку підприє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4"/>
          <p:cNvGraphicFramePr/>
          <p:nvPr/>
        </p:nvGraphicFramePr>
        <p:xfrm>
          <a:off x="733320" y="44280"/>
          <a:ext cx="5351400" cy="674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44280"/>
                    <a:ext cx="5351400" cy="674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23:07:15Z</dcterms:created>
  <dc:creator>Bron</dc:creator>
  <dc:description/>
  <dc:language>en-US</dc:language>
  <cp:lastModifiedBy>Windows 7</cp:lastModifiedBy>
  <dcterms:modified xsi:type="dcterms:W3CDTF">2020-09-05T15:21:37Z</dcterms:modified>
  <cp:revision>31</cp:revision>
  <dc:subject/>
  <dc:title>Тема 1. Введення в дисципліну «Управління міжнародною  конкурентоспроможністю підприємства»</dc:title>
</cp:coreProperties>
</file>