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FD9A-69A8-4E9D-ADB0-11307BEA5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A53A-354E-4954-A584-E6E210B7D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E901-B10C-4964-A966-ACAEE35B4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D6B1-9D7A-49A3-8AB9-A76194DED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8153-FDE9-4681-9DCF-05B3CDEE9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294A-9CC0-4479-824F-A0554382B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8214-C6AA-476C-8566-8AA411557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D96B-B224-4901-92B5-D1AC987C7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34DF-9839-4499-A48E-1DFF5E96E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FE28-4072-4B88-85B0-258472FE3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FC0E-6A23-4C11-B4EA-27E35EA0A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0D39-2BBA-4D46-BF07-0661F7316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C70BF-74FA-4499-872E-B24A64EF14C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765000"/>
            <a:ext cx="7772400" cy="115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Тема 5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Стратегії глобального маркетинг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4360" y="2276280"/>
            <a:ext cx="7920000" cy="28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1. Сутність і види стратегій міжнародної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конкурентоспроможності підприємств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2. Принципи і методологія формування стратегії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міжнародної конкурентоспроможності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підприємств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3. Управління розробкою і реалізацією стратегії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міжнародної конкурентоспроможності підприємств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11280" y="551664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Рис. 7. Конкурентний потенціал базових, ключових і </a:t>
            </a:r>
            <a:br>
              <a:rPr sz="2000"/>
            </a:b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            радикальних технологі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Object 4"/>
          <p:cNvGraphicFramePr/>
          <p:nvPr/>
        </p:nvGraphicFramePr>
        <p:xfrm>
          <a:off x="108000" y="765000"/>
          <a:ext cx="9036000" cy="424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765000"/>
                    <a:ext cx="9036000" cy="424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ереваги і недоліки стратегій формування 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технологічних переваг підприєм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Object 4"/>
          <p:cNvGraphicFramePr/>
          <p:nvPr/>
        </p:nvGraphicFramePr>
        <p:xfrm>
          <a:off x="217440" y="730080"/>
          <a:ext cx="8675640" cy="594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7440" y="730080"/>
                    <a:ext cx="8675640" cy="594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73560" y="4986360"/>
            <a:ext cx="3035160" cy="16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Рис. 8. Концептуальна модель процесу управління розробкою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та реалізацією стратегії нового продукт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0" y="-76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Object 4"/>
          <p:cNvGraphicFramePr/>
          <p:nvPr/>
        </p:nvGraphicFramePr>
        <p:xfrm>
          <a:off x="1042920" y="25560"/>
          <a:ext cx="4506840" cy="678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25560"/>
                    <a:ext cx="4506840" cy="678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11280" y="537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Рис. 9. Матриця стратегій нового продук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539640" y="703440"/>
          <a:ext cx="8229600" cy="4525920"/>
        </p:xfrm>
        <a:graphic>
          <a:graphicData uri="http://schemas.openxmlformats.org/drawingml/2006/table">
            <a:tbl>
              <a:tblPr/>
              <a:tblGrid>
                <a:gridCol w="2803680"/>
                <a:gridCol w="2881440"/>
                <a:gridCol w="2544480"/>
              </a:tblGrid>
              <a:tr h="228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                     </a:t>
                      </a: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_              </a:t>
                      </a: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пи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опозиці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Існуючі покупц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ові покупц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8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Існуючі товар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асткове будівництв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озширення ринк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8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ові товар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озширення ліні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овий бізне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24000" y="5859360"/>
            <a:ext cx="8229600" cy="8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Рис. 1. Піраміда стратегій підприємства-суб’єкта міжнародної </a:t>
            </a:r>
            <a:br>
              <a:rPr sz="2000"/>
            </a:b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           економічної діяльност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7" descr="Picture1"/>
          <p:cNvPicPr/>
          <p:nvPr/>
        </p:nvPicPr>
        <p:blipFill>
          <a:blip r:embed="rId1"/>
          <a:stretch/>
        </p:blipFill>
        <p:spPr>
          <a:xfrm>
            <a:off x="1150920" y="-100080"/>
            <a:ext cx="8101080" cy="580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Галузевий аспект проблеми типології стратегій міжнародної конкурентоспроможності підприєм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08000" y="907920"/>
          <a:ext cx="8929800" cy="5581800"/>
        </p:xfrm>
        <a:graphic>
          <a:graphicData uri="http://schemas.openxmlformats.org/drawingml/2006/table">
            <a:tbl>
              <a:tblPr/>
              <a:tblGrid>
                <a:gridCol w="2232000"/>
                <a:gridCol w="1508040"/>
                <a:gridCol w="1467000"/>
                <a:gridCol w="1100160"/>
                <a:gridCol w="2622600"/>
              </a:tblGrid>
              <a:tr h="946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АЛУЗ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арактеристикагалузевої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руктур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омінуючий тип конкурентних перева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ритерії к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/</a:t>
                      </a: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ратегія формуван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нкурентних перева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 Галузі первинного сек-тора економіки (сільське господарство, видобуток мінеральної сировини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томістич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иродно-ресурсні (факторні переваги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итра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інімізація витрат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 Електроенергет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онополістич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сурсні (факторні) переваг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итра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інімізація витрат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 Металургія, базова хімія, будматеріа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лігополістич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сурсні (факторні) переваг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итрати, які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інімізація витрат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 Харчова промислові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онополістична конкуренці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сурсно-техноло-гічні переваг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итрати, які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иференціація виробів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клама, брендін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. Машинобудуван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лігополістич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ехнологічні переваг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итрати, які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Інвестиційно-технологічни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озвит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. Електроніка, інформаційно-ком-п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'</a:t>
                      </a: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ютерні технології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лігополістич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Інноваційно-технологічні переваг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итрати, якість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швидкі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Інноваційний розвит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Галузевий аспект проблеми типології стратегій міжнародної конкурентоспроможності підприєм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08000" y="1434960"/>
          <a:ext cx="8929800" cy="2865600"/>
        </p:xfrm>
        <a:graphic>
          <a:graphicData uri="http://schemas.openxmlformats.org/drawingml/2006/table">
            <a:tbl>
              <a:tblPr/>
              <a:tblGrid>
                <a:gridCol w="2232000"/>
                <a:gridCol w="1508040"/>
                <a:gridCol w="1467000"/>
                <a:gridCol w="1100160"/>
                <a:gridCol w="2622600"/>
              </a:tblGrid>
              <a:tr h="946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АЛУЗ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арактеристикагалузевої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руктур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омінуючий тип конкурентних перева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ритерії к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/</a:t>
                      </a: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ратегія формуван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нкурентних перева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. Фармацевтична промислові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лігополістич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Інноваційно-технологічні переваг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итрати, якість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швидкі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Інноваційний розвит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. Аерокосмічна промисловість, продукція військово-технічного призначен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лігополістич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Інноваційно-інституціональні переваг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итрати, якість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швидкі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Інноваційний розвит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0920" y="5878080"/>
            <a:ext cx="82818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Рис. 2. Типова модель організації процесу розробки та реалізації </a:t>
            </a:r>
            <a:br>
              <a:rPr sz="2000"/>
            </a:b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            стратегії міжнародної конкурентоспроможності підприєм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Object 72"/>
          <p:cNvGraphicFramePr/>
          <p:nvPr/>
        </p:nvGraphicFramePr>
        <p:xfrm>
          <a:off x="1166760" y="-30240"/>
          <a:ext cx="6718320" cy="598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7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6760" y="-30240"/>
                    <a:ext cx="6718320" cy="598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5640" y="515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Рис. 3. Ієрархія (рівні) цілей підприєм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5" descr="Picture1"/>
          <p:cNvPicPr/>
          <p:nvPr/>
        </p:nvPicPr>
        <p:blipFill>
          <a:blip r:embed="rId1"/>
          <a:stretch/>
        </p:blipFill>
        <p:spPr>
          <a:xfrm>
            <a:off x="322200" y="765000"/>
            <a:ext cx="84978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11280" y="537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Рис. 4. Інтерактивна модель взаємодії станів ринку, 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           потенціалу і стратегічної мети підприєм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Object 132"/>
          <p:cNvGraphicFramePr/>
          <p:nvPr/>
        </p:nvGraphicFramePr>
        <p:xfrm>
          <a:off x="0" y="533520"/>
          <a:ext cx="9144000" cy="462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Object 13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33520"/>
                    <a:ext cx="9144000" cy="46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11280" y="5715000"/>
            <a:ext cx="822960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Рис. 5. Структурно-логічна схема процесу розробки стратегії </a:t>
            </a:r>
            <a:br>
              <a:rPr sz="2200"/>
            </a:b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             технологічних переваг підприємств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Object 120"/>
          <p:cNvGraphicFramePr/>
          <p:nvPr/>
        </p:nvGraphicFramePr>
        <p:xfrm>
          <a:off x="108000" y="155520"/>
          <a:ext cx="9036000" cy="536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Object 12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155520"/>
                    <a:ext cx="9036000" cy="536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648120" y="3933720"/>
            <a:ext cx="2027160" cy="266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Рис. 6. Технологічні відносини у галузі та стратегії </a:t>
            </a:r>
            <a:br>
              <a:rPr sz="2000"/>
            </a:b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технологічного розвитку підприєм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Object 4"/>
          <p:cNvGraphicFramePr/>
          <p:nvPr/>
        </p:nvGraphicFramePr>
        <p:xfrm>
          <a:off x="733320" y="44280"/>
          <a:ext cx="5351400" cy="674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3320" y="44280"/>
                    <a:ext cx="5351400" cy="674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8T23:07:15Z</dcterms:created>
  <dc:creator>Bron</dc:creator>
  <dc:description/>
  <dc:language>en-US</dc:language>
  <cp:lastModifiedBy>Windows 7</cp:lastModifiedBy>
  <dcterms:modified xsi:type="dcterms:W3CDTF">2020-09-05T15:21:37Z</dcterms:modified>
  <cp:revision>31</cp:revision>
  <dc:subject/>
  <dc:title>Тема 1. Введення в дисципліну «Управління міжнародною  конкурентоспроможністю підприємства»</dc:title>
</cp:coreProperties>
</file>