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01A-E17B-4D7E-A548-08D87191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442-DFFA-44CC-A8C7-8AEBB3AF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C74-7D79-4723-8483-C0D29B35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312-F530-4B8C-A70B-397D3825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056-4087-4E30-AFC3-962AB6E6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EC9-7B09-42FD-BF42-FDA88EB7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533-B3E3-47A6-9090-D31807B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BD7-F277-4D4D-9EEA-440E2058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3D1-D321-459B-8219-8DF4AF27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48F-8791-4DFA-B3C1-FC518CCA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2DF-D756-4FFD-9F14-672D30A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EB7-0C64-4A6B-9F05-619115C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BED6-D756-49D5-A781-67E90FF68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ратегії глобального маркет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20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 Сутність і види стратегій міжнародно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нкурентоспроможності підприєм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 Принципи і методологія формування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 Управління розробкою і реалізацією стратегі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міжнародної конкурентоспроможності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7. Конкурентний потенціал базових, ключових і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радикальних технолог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08000" y="765000"/>
          <a:ext cx="903600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903600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ваги і недоліки стратегій формування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их переваг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17440" y="730080"/>
          <a:ext cx="8675640" cy="59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30080"/>
                    <a:ext cx="8675640" cy="59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73560" y="4986360"/>
            <a:ext cx="3035160" cy="16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8. Концептуальна модель процесу управління розробкою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алізацією стратегії нового проду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-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042920" y="25560"/>
          <a:ext cx="4506840" cy="67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560"/>
                    <a:ext cx="450684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9. Матриця стратегій нов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703440"/>
          <a:ext cx="8229600" cy="4525920"/>
        </p:xfrm>
        <a:graphic>
          <a:graphicData uri="http://schemas.openxmlformats.org/drawingml/2006/table">
            <a:tbl>
              <a:tblPr/>
              <a:tblGrid>
                <a:gridCol w="2803680"/>
                <a:gridCol w="2881440"/>
                <a:gridCol w="2544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            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ози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нуюч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покупц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снуюч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кове будівниц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ри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і това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ширення лін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ий бізн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85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1. Піраміда стратегій підприємства-суб’єкта міжнародн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економічної діяль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7" descr="Picture1"/>
          <p:cNvPicPr/>
          <p:nvPr/>
        </p:nvPicPr>
        <p:blipFill>
          <a:blip r:embed="rId1"/>
          <a:stretch/>
        </p:blipFill>
        <p:spPr>
          <a:xfrm>
            <a:off x="1150920" y="-100080"/>
            <a:ext cx="8101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907920"/>
          <a:ext cx="8929800" cy="55818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Галузі первинного сек-тора економіки (сільське господарство, видобуток мінеральної сирови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ом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о-ресурсні (факторні переваг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Електрое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Металургія, базова хімія, будматері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і (факторні)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інімізація витр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Харчов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нополістична конкурен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урсно-техноло-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еренціація виробів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лама, бренді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ашинобуд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о-технологіч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Електроніка, інформаційно-ком-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терні техн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лузевий аспект проблеми типології стратегій міжнародної конкурентоспроможності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1434960"/>
          <a:ext cx="8929800" cy="2865600"/>
        </p:xfrm>
        <a:graphic>
          <a:graphicData uri="http://schemas.openxmlformats.org/drawingml/2006/table">
            <a:tbl>
              <a:tblPr/>
              <a:tblGrid>
                <a:gridCol w="2232000"/>
                <a:gridCol w="1508040"/>
                <a:gridCol w="1467000"/>
                <a:gridCol w="1100160"/>
                <a:gridCol w="26226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ЛУ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галузево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інуючий тип 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ії к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тегія форм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ентних перев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Фармацевтична промислов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технологіч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Аерокосмічна промисловість, продукція військово-технічного призна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лігополіст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о-інституціональні перев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трати, якіст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вид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новаційний розви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5878080"/>
            <a:ext cx="828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2. Типова модель організації процесу розробки та реалізац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стратегії міжнародної конкурентоспроможності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72"/>
          <p:cNvGraphicFramePr/>
          <p:nvPr/>
        </p:nvGraphicFramePr>
        <p:xfrm>
          <a:off x="1166760" y="-30240"/>
          <a:ext cx="6718320" cy="59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-30240"/>
                    <a:ext cx="671832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3. Ієрархія (рівні) цілей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5" descr="Picture1"/>
          <p:cNvPicPr/>
          <p:nvPr/>
        </p:nvPicPr>
        <p:blipFill>
          <a:blip r:embed="rId1"/>
          <a:stretch/>
        </p:blipFill>
        <p:spPr>
          <a:xfrm>
            <a:off x="322200" y="765000"/>
            <a:ext cx="849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с. 4. Інтерактивна модель взаємодії станів ринку,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потенціалу і стратегічної мети підприєм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32"/>
          <p:cNvGraphicFramePr/>
          <p:nvPr/>
        </p:nvGraphicFramePr>
        <p:xfrm>
          <a:off x="0" y="533520"/>
          <a:ext cx="914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715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. 5. Структурно-логічна схема процесу розробки стратегії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    технологічних переваг підприєм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20"/>
          <p:cNvGraphicFramePr/>
          <p:nvPr/>
        </p:nvGraphicFramePr>
        <p:xfrm>
          <a:off x="108000" y="155520"/>
          <a:ext cx="903600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55520"/>
                    <a:ext cx="903600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8120" y="3933720"/>
            <a:ext cx="2027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с. 6. Технологічні відносини у галузі та стратегі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хнологічного розвитку підприєм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33320" y="44280"/>
          <a:ext cx="5351400" cy="674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4280"/>
                    <a:ext cx="5351400" cy="67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3:07:15Z</dcterms:created>
  <dc:creator>Bron</dc:creator>
  <dc:description/>
  <dc:language>en-US</dc:language>
  <cp:lastModifiedBy>Windows 7</cp:lastModifiedBy>
  <dcterms:modified xsi:type="dcterms:W3CDTF">2020-09-05T15:21:37Z</dcterms:modified>
  <cp:revision>31</cp:revision>
  <dc:subject/>
  <dc:title>Тема 1. Введення в дисципліну «Управління міжнародною  конкурентоспроможністю підприємства»</dc:title>
</cp:coreProperties>
</file>