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73A1-F325-4767-AE3B-A0F85797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24D-AC8F-4F9C-A9E7-C698FC8E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AEE-620A-4D23-A0CD-854E5A22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CEC6-FEF0-466F-8E63-5706181A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2A76-F53B-4C02-85B9-71E02595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72C-218D-4752-892D-80B9AC05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368-2C34-4674-8EB8-1850BEBA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4A4D-E02B-435B-B0AB-B83DD4B9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BC8-55D5-41AA-A63B-5181A16F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E7F4-C214-4DCF-B6A2-EE19C205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B5AA-7FE8-454D-8471-D25E42E6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6FA3-BC59-45C1-9045-B2D6CD96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DBBD-D38C-49E4-9C3C-093895AFCF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ратегії глобального маркетин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20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1. Сутність і види стратегій міжнародно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конкурентоспроможності підприєм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2. Принципи і методологія формування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3. Управління розробкою і реалізацією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7. Конкурентний потенціал базових, ключових і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радикальних технолог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08000" y="765000"/>
          <a:ext cx="9036000" cy="42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9036000" cy="42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ваги і недоліки стратегій формування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чних переваг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17440" y="730080"/>
          <a:ext cx="8675640" cy="59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730080"/>
                    <a:ext cx="8675640" cy="59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73560" y="4986360"/>
            <a:ext cx="3035160" cy="16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8. Концептуальна модель процесу управління розробкою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реалізацією стратегії нового проду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-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042920" y="25560"/>
          <a:ext cx="4506840" cy="67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5560"/>
                    <a:ext cx="4506840" cy="67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9. Матриця стратегій нового проду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703440"/>
          <a:ext cx="8229600" cy="4525920"/>
        </p:xfrm>
        <a:graphic>
          <a:graphicData uri="http://schemas.openxmlformats.org/drawingml/2006/table">
            <a:tbl>
              <a:tblPr/>
              <a:tblGrid>
                <a:gridCol w="2803680"/>
                <a:gridCol w="2881440"/>
                <a:gridCol w="2544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            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ози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снуюч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снуюч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кове будівниц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рин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лін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ий бізн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85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1. Піраміда стратегій підприємства-суб’єкта міжнародно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економічної діяль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7" descr="Picture1"/>
          <p:cNvPicPr/>
          <p:nvPr/>
        </p:nvPicPr>
        <p:blipFill>
          <a:blip r:embed="rId1"/>
          <a:stretch/>
        </p:blipFill>
        <p:spPr>
          <a:xfrm>
            <a:off x="1150920" y="-100080"/>
            <a:ext cx="8101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8000" y="907920"/>
          <a:ext cx="8929800" cy="55818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Галузі первинного сек-тора економіки (сільське господарство, видобуток мінеральної сирови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ом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одно-ресурсні (факторні переваг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Електроенерге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Металургія, базова хімія, будматері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Харчов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 конкурен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о-техноло-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ференціація виробі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лама, бренді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Машинобуд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вестиційно-технологіч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Електроніка, інформаційно-ком-п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терні технолог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8000" y="1434960"/>
          <a:ext cx="8929800" cy="28656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Фармацевтичн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Аерокосмічна промисловість, продукція військово-технічного 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інституціональ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5878080"/>
            <a:ext cx="828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2. Типова модель організації процесу розробки та реалізац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стратегії міжнародної конкурентоспроможності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72"/>
          <p:cNvGraphicFramePr/>
          <p:nvPr/>
        </p:nvGraphicFramePr>
        <p:xfrm>
          <a:off x="1166760" y="-30240"/>
          <a:ext cx="6718320" cy="59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-30240"/>
                    <a:ext cx="671832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3. Ієрархія (рівні) цілей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5" descr="Picture1"/>
          <p:cNvPicPr/>
          <p:nvPr/>
        </p:nvPicPr>
        <p:blipFill>
          <a:blip r:embed="rId1"/>
          <a:stretch/>
        </p:blipFill>
        <p:spPr>
          <a:xfrm>
            <a:off x="322200" y="765000"/>
            <a:ext cx="849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4. Інтерактивна модель взаємодії станів ринку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потенціалу і стратегічної мети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32"/>
          <p:cNvGraphicFramePr/>
          <p:nvPr/>
        </p:nvGraphicFramePr>
        <p:xfrm>
          <a:off x="0" y="533520"/>
          <a:ext cx="914400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5715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ис. 5. Структурно-логічна схема процесу розробки стратегії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    технологічних переваг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20"/>
          <p:cNvGraphicFramePr/>
          <p:nvPr/>
        </p:nvGraphicFramePr>
        <p:xfrm>
          <a:off x="108000" y="155520"/>
          <a:ext cx="903600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55520"/>
                    <a:ext cx="903600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8120" y="3933720"/>
            <a:ext cx="20271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6. Технологічні відносини у галузі та стратег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хнологічного розвитку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33320" y="44280"/>
          <a:ext cx="5351400" cy="674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4280"/>
                    <a:ext cx="5351400" cy="67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3:07:15Z</dcterms:created>
  <dc:creator>Bron</dc:creator>
  <dc:description/>
  <dc:language>en-US</dc:language>
  <cp:lastModifiedBy>Windows 7</cp:lastModifiedBy>
  <dcterms:modified xsi:type="dcterms:W3CDTF">2020-09-05T15:21:37Z</dcterms:modified>
  <cp:revision>31</cp:revision>
  <dc:subject/>
  <dc:title>Тема 1. Введення в дисципліну «Управління міжнародною  конкурентоспроможністю підприємства»</dc:title>
</cp:coreProperties>
</file>