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4AF-06F8-4F3F-8595-747F39DF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52B-9D02-4E24-9234-AFDC6AB3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F73-F6E8-447A-B34A-C5E64A4A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BC5-04F3-469D-A03C-3258D1BA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463-3567-4BC1-AD3F-521DE6F6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A17-D7F2-426F-B267-4445A60B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20F-84F6-4321-B7E1-4E9CA6D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005-C59C-448C-8A5D-92D4738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29EE-4D48-4FE1-B1DF-DFD2FD3C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C28-8C54-46D6-89B5-87A38824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A930-295D-4CD3-88EA-675091F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E54-F27E-4E09-A2A6-4F29882E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E2D7-0CD7-445F-890C-52225B8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133-75A9-4F54-B5F1-47468D3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6B27-63CD-41F1-898E-5F842FD9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5370-D2ED-4442-85FB-5B42FB4E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D32-8469-416E-96C1-906FB8F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9D4C-FA12-4D43-9CA5-C226B8AE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4097-2091-491D-B587-3273711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7A90-869A-4141-8B2A-B5FE428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B43B-1913-4555-9A20-1F445214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FA07-15EC-486E-8B19-DC3B88D0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CAC-6A5E-49DE-A409-DA02F83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8E7B-77F9-43DE-B2F1-9DE28DB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D67C-50C1-4C7C-9424-068091D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D585-F446-49A7-825A-4B394E9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045B-9AE6-4CE2-9B0F-33E6F1D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BF0F-195C-4C25-8419-1BB2634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12BF-AEE1-447F-82F9-550E6553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3948-0598-4CE5-88C4-DE08FA13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3A6-8C11-4CD8-8FE9-CA1378B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781-96DB-43BF-B1AF-E24FB70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64B-4A1F-4FB9-8C33-92DE121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806-2C7D-4C9B-A3BE-E2C7060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ED8-233B-404F-B977-CDCB88E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4E5-6741-41D8-82D4-DDB4844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D8E-ADDF-43E6-80F4-CD71F11C7CE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C38B-C6E6-457E-964C-237D1EE921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ACBB-9CE2-4F1D-9A8F-6DDCF145E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1c1c1c"/>
                </a:solidFill>
                <a:latin typeface="Times New Roman"/>
              </a:rPr>
              <a:t>Тема 9. Міжнародні маркетингові комунікації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Інші учасники рекламного процес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Під час здійснення рекламного процесу до нього залучаються й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інші учасники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державн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урядові установи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рганізації, що регулюють рекламну діяльніс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на громадському рівн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(асоціації рекламістів, товариства захисту прав споживачів та ін.)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иробничі, творчі та дослідницькі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організації, що провадять свою діяльність у галузі рекла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4000" y="4508640"/>
            <a:ext cx="8632800" cy="243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Щоб рекламний процес був достатньо високоефективним, йому мають передувати відповідні </a:t>
            </a:r>
            <a:r>
              <a:rPr b="1" i="1" lang="uk-UA" sz="2400" spc="-1" strike="noStrike">
                <a:solidFill>
                  <a:srgbClr val="1c1c1c"/>
                </a:solidFill>
                <a:latin typeface="Tahoma"/>
              </a:rPr>
              <a:t>маркетингові дослідження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стратегічне планування й опрацювання тактичних рішень, що диктуються збутовими цілями рекламодавця та конкретної обстановки на ринк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а маркетингова комунікаційна політик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Diagram 8"/>
          <p:cNvGrpSpPr/>
          <p:nvPr/>
        </p:nvGrpSpPr>
        <p:grpSpPr>
          <a:xfrm>
            <a:off x="324000" y="3390120"/>
            <a:ext cx="8132760" cy="2885400"/>
            <a:chOff x="324000" y="3390120"/>
            <a:chExt cx="8132760" cy="2885400"/>
          </a:xfrm>
        </p:grpSpPr>
        <p:sp>
          <p:nvSpPr>
            <p:cNvPr id="369" name="_s1028"/>
            <p:cNvSpPr/>
            <p:nvPr/>
          </p:nvSpPr>
          <p:spPr>
            <a:xfrm flipH="1">
              <a:off x="23526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29"/>
            <p:cNvSpPr/>
            <p:nvPr/>
          </p:nvSpPr>
          <p:spPr>
            <a:xfrm>
              <a:off x="32400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Стимулювання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 збуту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_s1030"/>
            <p:cNvSpPr/>
            <p:nvPr/>
          </p:nvSpPr>
          <p:spPr>
            <a:xfrm>
              <a:off x="4391280" y="519264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2" name="_s1031"/>
            <p:cNvSpPr/>
            <p:nvPr/>
          </p:nvSpPr>
          <p:spPr>
            <a:xfrm>
              <a:off x="3375000" y="55555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паганда 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2"/>
            <p:cNvSpPr/>
            <p:nvPr/>
          </p:nvSpPr>
          <p:spPr>
            <a:xfrm>
              <a:off x="5405400" y="4833000"/>
              <a:ext cx="1022400" cy="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_s1033"/>
            <p:cNvSpPr/>
            <p:nvPr/>
          </p:nvSpPr>
          <p:spPr>
            <a:xfrm>
              <a:off x="6428160" y="4473000"/>
              <a:ext cx="2028600" cy="7196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Особистий </a:t>
              </a:r>
              <a:br>
                <a:rPr sz="2000"/>
              </a:br>
              <a:r>
                <a:rPr b="1" i="1" lang="uk-UA" sz="2000" spc="-1" strike="noStrike">
                  <a:solidFill>
                    <a:srgbClr val="1f4aa9"/>
                  </a:solidFill>
                  <a:latin typeface="Times New Roman"/>
                </a:rPr>
                <a:t>продаж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_s1034"/>
            <p:cNvSpPr/>
            <p:nvPr/>
          </p:nvSpPr>
          <p:spPr>
            <a:xfrm flipV="1">
              <a:off x="4391280" y="4109760"/>
              <a:ext cx="0" cy="362520"/>
            </a:xfrm>
            <a:prstGeom prst="line">
              <a:avLst/>
            </a:prstGeom>
            <a:ln w="2844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_s1035"/>
            <p:cNvSpPr/>
            <p:nvPr/>
          </p:nvSpPr>
          <p:spPr>
            <a:xfrm>
              <a:off x="3375000" y="3390120"/>
              <a:ext cx="2030040" cy="7200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1f4aa9"/>
                  </a:solidFill>
                  <a:latin typeface="Times New Roman"/>
                </a:rPr>
                <a:t>Реклама </a:t>
              </a:r>
              <a:endParaRPr b="0" i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_s1036"/>
            <p:cNvSpPr/>
            <p:nvPr/>
          </p:nvSpPr>
          <p:spPr>
            <a:xfrm>
              <a:off x="3375000" y="4473000"/>
              <a:ext cx="2030040" cy="7196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c41f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Комплекс</a:t>
              </a:r>
              <a:br>
                <a:rPr sz="2000"/>
              </a:br>
              <a:r>
                <a:rPr b="1" lang="uk-UA" sz="2000" spc="-1" strike="noStrike">
                  <a:solidFill>
                    <a:srgbClr val="cc3300"/>
                  </a:solidFill>
                  <a:latin typeface="Times New Roman"/>
                </a:rPr>
                <a:t> комунікацій</a:t>
              </a:r>
              <a:endParaRPr b="0" i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Rectangle 20"/>
          <p:cNvSpPr/>
          <p:nvPr/>
        </p:nvSpPr>
        <p:spPr>
          <a:xfrm>
            <a:off x="324000" y="1413000"/>
            <a:ext cx="84960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Комплекс маркетингових комунікацій </a:t>
            </a:r>
            <a:r>
              <a:rPr b="0" i="1" lang="uk-UA" sz="2000" spc="-1" strike="noStrike">
                <a:solidFill>
                  <a:srgbClr val="660033"/>
                </a:solidFill>
                <a:latin typeface="Tahoma"/>
              </a:rPr>
              <a:t>(комплекс стимулювання) в міжнародному маркетинг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– це систем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формування попи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й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стимулювання збуту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товарів або послуг, спрямована на їх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просування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на зовнішньому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она включає чотири основні елемент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Просування та реклам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Просування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сукупність методів освідомлення, що використовуються фірмою для інформування й переконання споживачів або нагадування про свої товари, образи, ідеї, громадську діяльність або вплив на суспільство. Головна мета процесу просування – стимулювання (покращення) попиту. Основним засобом маркетингових комунікацій є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будь-яка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оплач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знеособлен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форма представлення й просування товарів, послуг, ідей, підприємств і окремих осіб. Реклама являє собою неособисті форми комунікації, здійснювані за посередництвом платних засобів поширення інформації, з чітко зазначеним джерелом фінансування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Важливо усвідомити, що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реклама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діяльність </a:t>
            </a:r>
            <a:r>
              <a:rPr b="1" i="1" lang="uk-UA" sz="2000" spc="-1" strike="noStrike">
                <a:solidFill>
                  <a:srgbClr val="292929"/>
                </a:solidFill>
                <a:latin typeface="Tahoma"/>
              </a:rPr>
              <a:t>багатофункціональна.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 Вона служить багатьом господарям для досягнення безлічі цілей.</a:t>
            </a:r>
            <a:r>
              <a:rPr b="0" lang="uk-UA" sz="20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Уперше з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явилась у США в середині ХІХ ст. і невдовзі стала невід</a:t>
            </a:r>
            <a:r>
              <a:rPr b="0" i="1" lang="en-US" sz="20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ємною частиною підприємницької діяльності. Витрати на рекламу являють собою вагому частину бюджетів закордонних промислових фір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133"/>
          <p:cNvSpPr/>
          <p:nvPr/>
        </p:nvSpPr>
        <p:spPr>
          <a:xfrm>
            <a:off x="4643280" y="5335560"/>
            <a:ext cx="4326120" cy="152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Виконує рекламну функцію не прямолінійно, а завуальовано, без використання прямих каналів розповсюдження реклами і без вказання рекламодавц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Rectangle 106"/>
          <p:cNvSpPr/>
          <p:nvPr/>
        </p:nvSpPr>
        <p:spPr>
          <a:xfrm>
            <a:off x="4788000" y="3500280"/>
            <a:ext cx="1873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126"/>
          <p:cNvSpPr/>
          <p:nvPr/>
        </p:nvSpPr>
        <p:spPr>
          <a:xfrm>
            <a:off x="2268360" y="3500280"/>
            <a:ext cx="6613560" cy="1374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споживачів про властивості та переваги конкретного товару, щоб пробудити до нього інтерес та стимулювати споживачів до здійснення купівл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AutoShape 132"/>
          <p:cNvSpPr/>
          <p:nvPr/>
        </p:nvSpPr>
        <p:spPr>
          <a:xfrm>
            <a:off x="4572000" y="3716280"/>
            <a:ext cx="4351320" cy="1215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Здійснюється на комерційних засадах із вказанням рекламодавця; прямо виконує рекламну функцію стосовно конкретних товарів або фірм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127"/>
          <p:cNvSpPr/>
          <p:nvPr/>
        </p:nvSpPr>
        <p:spPr>
          <a:xfrm>
            <a:off x="2173320" y="5207040"/>
            <a:ext cx="6643800" cy="16783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Інформування про переваги фірми, що вигідно відрізняють її від конкурентів, з метою створення серед потенційних покупців її привабливого образу (іміджу), що викликає довіру до неї та її продукції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истематизація видів реклами 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AutoShape 93"/>
          <p:cNvSpPr/>
          <p:nvPr/>
        </p:nvSpPr>
        <p:spPr>
          <a:xfrm>
            <a:off x="250920" y="2060640"/>
            <a:ext cx="8642160" cy="30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8e46"/>
              </a:gs>
              <a:gs pos="100000">
                <a:srgbClr val="56422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cc"/>
                </a:solidFill>
                <a:latin typeface="Tahoma"/>
              </a:rPr>
              <a:t>Види рекла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94"/>
          <p:cNvSpPr/>
          <p:nvPr/>
        </p:nvSpPr>
        <p:spPr>
          <a:xfrm>
            <a:off x="250920" y="1341360"/>
            <a:ext cx="856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</a:rPr>
              <a:t>В міжнародному маркетингу реклама відіграє незрівнянно більшу роль, аніж у внутрішньому. В залежності від властивостей реклами виділяють такі її види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Text Box 95"/>
          <p:cNvSpPr/>
          <p:nvPr/>
        </p:nvSpPr>
        <p:spPr>
          <a:xfrm>
            <a:off x="250920" y="2421000"/>
            <a:ext cx="2008080" cy="857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об</a:t>
            </a:r>
            <a:r>
              <a:rPr b="1" i="1" lang="en-US" sz="16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єктом рекламува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Text Box 96"/>
          <p:cNvSpPr/>
          <p:nvPr/>
        </p:nvSpPr>
        <p:spPr>
          <a:xfrm>
            <a:off x="2411280" y="2421000"/>
            <a:ext cx="2008440" cy="73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способом подання рекламної інформації 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97"/>
          <p:cNvSpPr/>
          <p:nvPr/>
        </p:nvSpPr>
        <p:spPr>
          <a:xfrm>
            <a:off x="4643280" y="2421000"/>
            <a:ext cx="2006640" cy="85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поставленими цілями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Text Box 98"/>
          <p:cNvSpPr/>
          <p:nvPr/>
        </p:nvSpPr>
        <p:spPr>
          <a:xfrm>
            <a:off x="6877080" y="2421000"/>
            <a:ext cx="2008080" cy="85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292929"/>
                </a:solidFill>
                <a:latin typeface="Tahoma"/>
              </a:rPr>
              <a:t>За засобами розповсюдження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101"/>
          <p:cNvSpPr/>
          <p:nvPr/>
        </p:nvSpPr>
        <p:spPr>
          <a:xfrm>
            <a:off x="395280" y="350028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102"/>
          <p:cNvSpPr/>
          <p:nvPr/>
        </p:nvSpPr>
        <p:spPr>
          <a:xfrm>
            <a:off x="395280" y="515772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105"/>
          <p:cNvSpPr/>
          <p:nvPr/>
        </p:nvSpPr>
        <p:spPr>
          <a:xfrm>
            <a:off x="2556000" y="5313240"/>
            <a:ext cx="1873080" cy="154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108"/>
          <p:cNvSpPr/>
          <p:nvPr/>
        </p:nvSpPr>
        <p:spPr>
          <a:xfrm>
            <a:off x="4788000" y="4653000"/>
            <a:ext cx="187308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109"/>
          <p:cNvSpPr/>
          <p:nvPr/>
        </p:nvSpPr>
        <p:spPr>
          <a:xfrm>
            <a:off x="4788000" y="5992920"/>
            <a:ext cx="187308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118"/>
          <p:cNvSpPr/>
          <p:nvPr/>
        </p:nvSpPr>
        <p:spPr>
          <a:xfrm>
            <a:off x="6948360" y="63579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119"/>
          <p:cNvSpPr/>
          <p:nvPr/>
        </p:nvSpPr>
        <p:spPr>
          <a:xfrm>
            <a:off x="6948360" y="599436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6948360" y="563076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114"/>
          <p:cNvSpPr/>
          <p:nvPr/>
        </p:nvSpPr>
        <p:spPr>
          <a:xfrm>
            <a:off x="6948360" y="5243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Rectangle 115"/>
          <p:cNvSpPr/>
          <p:nvPr/>
        </p:nvSpPr>
        <p:spPr>
          <a:xfrm>
            <a:off x="6948360" y="48798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Rectangle 116"/>
          <p:cNvSpPr/>
          <p:nvPr/>
        </p:nvSpPr>
        <p:spPr>
          <a:xfrm>
            <a:off x="6948360" y="45180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6948360" y="4154400"/>
            <a:ext cx="1944720" cy="312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Rectangle 112"/>
          <p:cNvSpPr/>
          <p:nvPr/>
        </p:nvSpPr>
        <p:spPr>
          <a:xfrm>
            <a:off x="6948360" y="37926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111"/>
          <p:cNvSpPr/>
          <p:nvPr/>
        </p:nvSpPr>
        <p:spPr>
          <a:xfrm>
            <a:off x="6948360" y="3429000"/>
            <a:ext cx="1944720" cy="311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Text Box 123"/>
          <p:cNvSpPr/>
          <p:nvPr/>
        </p:nvSpPr>
        <p:spPr>
          <a:xfrm rot="2026200">
            <a:off x="608040" y="380988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Товар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124"/>
          <p:cNvSpPr/>
          <p:nvPr/>
        </p:nvSpPr>
        <p:spPr>
          <a:xfrm rot="2026200">
            <a:off x="398520" y="5567040"/>
            <a:ext cx="1541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міджева (фірмова)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Rectangle 104"/>
          <p:cNvSpPr/>
          <p:nvPr/>
        </p:nvSpPr>
        <p:spPr>
          <a:xfrm>
            <a:off x="2556000" y="3645000"/>
            <a:ext cx="1873080" cy="154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128"/>
          <p:cNvSpPr/>
          <p:nvPr/>
        </p:nvSpPr>
        <p:spPr>
          <a:xfrm rot="18430200">
            <a:off x="2683800" y="4197960"/>
            <a:ext cx="1725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Безпосередня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129"/>
          <p:cNvSpPr/>
          <p:nvPr/>
        </p:nvSpPr>
        <p:spPr>
          <a:xfrm rot="18430200">
            <a:off x="2700720" y="5804640"/>
            <a:ext cx="1541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епряма  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135"/>
          <p:cNvSpPr/>
          <p:nvPr/>
        </p:nvSpPr>
        <p:spPr>
          <a:xfrm rot="1185000">
            <a:off x="4858920" y="3645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Інформатив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136"/>
          <p:cNvSpPr/>
          <p:nvPr/>
        </p:nvSpPr>
        <p:spPr>
          <a:xfrm rot="1185000">
            <a:off x="4716360" y="4797000"/>
            <a:ext cx="19558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повіщувальна (переконуюча)</a:t>
            </a:r>
            <a:br>
              <a:rPr sz="1800"/>
            </a:b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137"/>
          <p:cNvSpPr/>
          <p:nvPr/>
        </p:nvSpPr>
        <p:spPr>
          <a:xfrm rot="1185000">
            <a:off x="4858920" y="6093000"/>
            <a:ext cx="172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Нагадувальна реклам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139"/>
          <p:cNvSpPr/>
          <p:nvPr/>
        </p:nvSpPr>
        <p:spPr>
          <a:xfrm>
            <a:off x="179280" y="3645000"/>
            <a:ext cx="4415040" cy="608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Розповсюдження комерційно важливих відомостей про фірму та її товар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140"/>
          <p:cNvSpPr/>
          <p:nvPr/>
        </p:nvSpPr>
        <p:spPr>
          <a:xfrm>
            <a:off x="179280" y="4437000"/>
            <a:ext cx="4440240" cy="15202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Переконання покупця здійснити купівлю шляхом поширення відомостей про переваги фірми та її товари, у тому числі порівняно з іншими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141"/>
          <p:cNvSpPr/>
          <p:nvPr/>
        </p:nvSpPr>
        <p:spPr>
          <a:xfrm>
            <a:off x="179280" y="5805360"/>
            <a:ext cx="4373640" cy="9118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66"/>
                </a:solidFill>
                <a:latin typeface="Tahoma"/>
              </a:rPr>
              <a:t>Нагадування про існування фірми та її товарів , підтвердження та закріплення їх іміджу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142"/>
          <p:cNvSpPr/>
          <p:nvPr/>
        </p:nvSpPr>
        <p:spPr>
          <a:xfrm>
            <a:off x="6948360" y="3357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У пресі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Text Box 143"/>
          <p:cNvSpPr/>
          <p:nvPr/>
        </p:nvSpPr>
        <p:spPr>
          <a:xfrm>
            <a:off x="6948360" y="378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Друкова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Text Box 144"/>
          <p:cNvSpPr/>
          <p:nvPr/>
        </p:nvSpPr>
        <p:spPr>
          <a:xfrm>
            <a:off x="6948360" y="414972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Аудіовізуаль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Text Box 145"/>
          <p:cNvSpPr/>
          <p:nvPr/>
        </p:nvSpPr>
        <p:spPr>
          <a:xfrm>
            <a:off x="6948360" y="4508640"/>
            <a:ext cx="194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 електронних ЗМІ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146"/>
          <p:cNvSpPr/>
          <p:nvPr/>
        </p:nvSpPr>
        <p:spPr>
          <a:xfrm>
            <a:off x="6948360" y="486900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Пряма поштов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Text Box 147"/>
          <p:cNvSpPr/>
          <p:nvPr/>
        </p:nvSpPr>
        <p:spPr>
          <a:xfrm>
            <a:off x="6948360" y="522936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Зовнішня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Text Box 148"/>
          <p:cNvSpPr/>
          <p:nvPr/>
        </p:nvSpPr>
        <p:spPr>
          <a:xfrm>
            <a:off x="6948360" y="5589720"/>
            <a:ext cx="194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800080"/>
                </a:solidFill>
                <a:latin typeface="Times New Roman"/>
              </a:rPr>
              <a:t>Інтернет-реклама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Text Box 149"/>
          <p:cNvSpPr/>
          <p:nvPr/>
        </p:nvSpPr>
        <p:spPr>
          <a:xfrm>
            <a:off x="6948360" y="5877000"/>
            <a:ext cx="1944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00080"/>
                </a:solidFill>
                <a:latin typeface="Times New Roman"/>
              </a:rPr>
              <a:t>Виставково-ярмаркова</a:t>
            </a: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Text Box 150"/>
          <p:cNvSpPr/>
          <p:nvPr/>
        </p:nvSpPr>
        <p:spPr>
          <a:xfrm>
            <a:off x="6948360" y="6308640"/>
            <a:ext cx="194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80"/>
                </a:solidFill>
                <a:latin typeface="Times New Roman"/>
              </a:rPr>
              <a:t>Сувенірна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2" name="explode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28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єкти рекламного процесу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в міжнародному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Принципова схема рекламного процесу складається з чотирьох ланок (суб</a:t>
            </a:r>
            <a:r>
              <a:rPr b="0" i="1" lang="en-US" sz="2000" spc="-1" strike="noStrike">
                <a:solidFill>
                  <a:srgbClr val="1b3753"/>
                </a:solidFill>
                <a:latin typeface="Tahoma"/>
              </a:rPr>
              <a:t>’</a:t>
            </a:r>
            <a:r>
              <a:rPr b="0" i="1" lang="uk-UA" sz="2000" spc="-1" strike="noStrike">
                <a:solidFill>
                  <a:srgbClr val="1b3753"/>
                </a:solidFill>
                <a:latin typeface="Tahoma"/>
              </a:rPr>
              <a:t>єктів) та виглядає наступним чином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AutoShape 4"/>
          <p:cNvSpPr/>
          <p:nvPr/>
        </p:nvSpPr>
        <p:spPr>
          <a:xfrm>
            <a:off x="179280" y="24922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одавець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395280" y="364500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Рекламне агенство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755640" y="479736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900000" y="5950080"/>
            <a:ext cx="8088480" cy="528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Times New Roman"/>
              </a:rPr>
              <a:t>Споживач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2195640" y="306864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356000" y="4221000"/>
            <a:ext cx="0" cy="5749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20000" y="5373720"/>
            <a:ext cx="0" cy="57456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Рекламодавц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Рекламодавець 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– це юридична або фізична особа, що є замовником реклами у рекламного а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енства та яка оплачує її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Основні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функції рекламодавця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оварів,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тому числі експортних, що потребують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Визначе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енством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міри та особливостей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ування цих товар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Форму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плану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ної продукції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а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Опрацювання спільно з рекламним а</a:t>
            </a:r>
            <a:r>
              <a:rPr b="0" i="1" lang="ru-RU" sz="1800" spc="-1" strike="noStrike">
                <a:solidFill>
                  <a:srgbClr val="292929"/>
                </a:solidFill>
                <a:latin typeface="Tahoma"/>
                <a:ea typeface="Tahoma"/>
              </a:rPr>
              <a:t>ґенством 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бюджету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створення реклами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і проведення рекламних заход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Укладання угоди з а</a:t>
            </a:r>
            <a:r>
              <a:rPr b="0" i="1" lang="ru-RU" sz="1800" spc="-1" strike="noStrike">
                <a:solidFill>
                  <a:srgbClr val="003399"/>
                </a:solidFill>
                <a:latin typeface="Tahoma"/>
                <a:ea typeface="Tahoma"/>
              </a:rPr>
              <a:t>ґ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енство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на створення рекламних матеріалів, розміщення реклами у засобах її розповсюдження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опомога виконавцям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у підготовці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вихідних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матеріалів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Надання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технічних та фактичних </a:t>
            </a: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даних про продукцію та послуг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Технічні консультації, затвердження макет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рекламних матеріалів та оригіналів реклами;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3399"/>
                </a:solidFill>
                <a:latin typeface="Tahoma"/>
                <a:ea typeface="Tahoma"/>
              </a:rPr>
              <a:t>Оплата рахунків</a:t>
            </a:r>
            <a:r>
              <a:rPr b="0" i="1" lang="uk-UA" sz="1800" spc="-1" strike="noStrike">
                <a:solidFill>
                  <a:srgbClr val="292929"/>
                </a:solidFill>
                <a:latin typeface="Tahoma"/>
                <a:ea typeface="Tahoma"/>
              </a:rPr>
              <a:t> виконавця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0" y="1628640"/>
            <a:ext cx="8918640" cy="516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До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в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лежать виробники, роздрібні торговці, оптові торговці, фірми послуг, дистриб'ютори, профспілки, приватні особи і багато хто інш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Загальнонаціональні та міжнародн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складають велику частину. Зазвичай це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виробники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, тобто фірми, що випускають товари, з якими ми зустрічаємося в універсамах, демонстраційних залах, на виставках і т.д. Серед найбільш інтенсивно рекламованих товарів – продукти харчування, туалетні засоби, автомобілі, ліки і лікувальні засоби, побутові послуги, пиво, вино, тютюн, легкі закуски і безалкогольні напої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На частку 10 найбільших загальнонаціональних рекламодавців припадає майже 70% загальних витрат на рекламу в країні.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ahoma"/>
              </a:rPr>
              <a:t>Місцеві </a:t>
            </a:r>
            <a:r>
              <a:rPr b="1" i="1" lang="uk-UA" sz="1800" spc="-1" strike="noStrike">
                <a:solidFill>
                  <a:srgbClr val="1c1c1c"/>
                </a:solidFill>
                <a:latin typeface="Tahoma"/>
              </a:rPr>
              <a:t>рекламодавці 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– це головним чином </a:t>
            </a:r>
            <a:r>
              <a:rPr b="0" i="1" lang="uk-UA" sz="1800" spc="-1" strike="noStrike">
                <a:solidFill>
                  <a:srgbClr val="cc3300"/>
                </a:solidFill>
                <a:latin typeface="Tahoma"/>
              </a:rPr>
              <a:t>роздрібні торговці</a:t>
            </a:r>
            <a:r>
              <a:rPr b="0" i="1" lang="uk-UA" sz="1800" spc="-1" strike="noStrike">
                <a:solidFill>
                  <a:srgbClr val="1c1c1c"/>
                </a:solidFill>
                <a:latin typeface="Tahoma"/>
              </a:rPr>
              <a:t>. Прагнучи відігравати роль агентів із закупівлі своєї округи, роздрібні торговці витрачають на рекламу великі кошти, щоб повідомити населенню, що вони закупили для людей, і обґрунтувати, чому варто робити закупівлі саме в них.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Рекламні а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ґ</a:t>
            </a: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енства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Рекламні а</a:t>
            </a:r>
            <a:r>
              <a:rPr b="1" i="1" lang="ru-RU" sz="2200" spc="-1" strike="noStrike">
                <a:solidFill>
                  <a:srgbClr val="003399"/>
                </a:solidFill>
                <a:latin typeface="Tahoma"/>
              </a:rPr>
              <a:t>ґ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енства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крім робіт, що виконуються спільно з рекламодавцям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за їх замовленнями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творчі та виконавські функції,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ов</a:t>
            </a:r>
            <a:r>
              <a:rPr b="0" i="1" lang="en-US" sz="22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язані зі створенням рекламних матеріалів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Виготовля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ригінали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водя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мплексні рекламні компан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окремі рекламні заход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заємодію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 виробничими базами, з іншими рекламними та видавничими фірмами, у тому числ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арубіжни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дійснюють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зв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’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зок із засобами розповсюдж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и, розміщують в них замовлення на публікацію реклами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Контролюють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проходження і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якість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виконання замовлень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Виставля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рекламодавцям та </a:t>
            </a:r>
            <a:r>
              <a:rPr b="0" i="1" lang="uk-UA" sz="2200" spc="-1" strike="noStrike">
                <a:solidFill>
                  <a:srgbClr val="003399"/>
                </a:solidFill>
                <a:latin typeface="Tahoma"/>
              </a:rPr>
              <a:t>сплачують рахунк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засобів розповсюдження реклами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-15840" y="1468440"/>
            <a:ext cx="8970840" cy="574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Повносервісне </a:t>
            </a:r>
            <a:r>
              <a:rPr b="0" i="1" lang="uk-UA" sz="2000" spc="-1" strike="noStrike">
                <a:solidFill>
                  <a:srgbClr val="003399"/>
                </a:solidFill>
                <a:latin typeface="Tahoma"/>
              </a:rPr>
              <a:t>рекламне аґенство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зазвичай володіє широким колом висококваліфікованих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позаштатних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творчих співробітників та виконавців і при значних обсягах міжнародної діяльності має комерційних аґентів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за кордоном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Зазвичай </a:t>
            </a:r>
            <a:r>
              <a:rPr b="1" i="1" lang="uk-UA" sz="2000" spc="-1" strike="noStrike">
                <a:solidFill>
                  <a:srgbClr val="1c1c1c"/>
                </a:solidFill>
                <a:latin typeface="Tahoma"/>
              </a:rPr>
              <a:t>основу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рекламного аґентства складають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4 відділ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творч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розробкою і виробництвом рекламних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відділ засобів реклами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відповідальний за вибір засобів реклами  і розміщення оголошень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дослідницьк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вивчає характеристики і потреби аудиторії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003399"/>
                </a:solidFill>
                <a:latin typeface="Tahoma"/>
              </a:rPr>
              <a:t>комерційний відділ,</a:t>
            </a: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 що займається комерційною стороною діяльності аґенства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Як правило, аґентства пропонують потенційним клієнтам послуги різних фахівців, серед яких текстовики, художники, продюсери телебачення і радіо, фахівці з рекламних засобів, дослідники та ін.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646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Засоби розповсюдження реклами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Засіб розповсюдження реклами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– це канал інформації, по якому рекламне звернення доходить до споживачів. В рекламному процесі засіб розповсюдження реклами зазвичай представлений організацією, що є володарем каналу інформації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Рекламодавці та рекламні 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 розглядают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асоби масової інформації як носіїв, що доводять рекламні звернення до аудиторії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зібраної завдяки основному </a:t>
            </a:r>
            <a:r>
              <a:rPr b="1" i="1" lang="uk-UA" sz="2400" spc="-1" strike="noStrike">
                <a:solidFill>
                  <a:srgbClr val="003399"/>
                </a:solidFill>
                <a:latin typeface="Tahoma"/>
              </a:rPr>
              <a:t>(нерекламному)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 матеріалу,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 що пропонують радіо- і телестанції, газети чи журнали. Оскільки доходи журналів і газет на 60 – 70%, а доходи установ телебачення і радіо майже на всі 100% складаються з надходжень за рекламу, рекламодавців і їхні агентства всіляко підтримують і  “підгодовують”, не шкодуючи на це величезних витрат часу і зусил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44280" y="1528920"/>
            <a:ext cx="8850600" cy="40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Таким чином,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журнали, газети, телевізійні і радіостанції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азвичай залучають потрібну аудиторію своїм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нерекламним 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змістом, а рекламодавець одержує можливість звернутися саме до цієї аудиторії. </a:t>
            </a: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Іншим  засобам реклами,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щоб привернути  увагу визначеної аудиторії, доводиться покладатися </a:t>
            </a:r>
            <a:r>
              <a:rPr b="1" i="1" lang="uk-UA" sz="2200" spc="-1" strike="noStrike">
                <a:solidFill>
                  <a:srgbClr val="003399"/>
                </a:solidFill>
                <a:latin typeface="Tahoma"/>
              </a:rPr>
              <a:t>винятково на саме  рекламне звернення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. Важливу роль сполучної ланки між рекламодавцями і потенційними покупцями грають пряма поштова реклама, плакати, щити, рекламні планшети в громадському транспорті, а також рекламне оформлення торгових приміщень.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5300640"/>
            <a:ext cx="8964720" cy="109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Реклама – це передусім форма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го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 вмовляння, і вступити в контакт з аудиторією їй допомагають засоби </a:t>
            </a: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сової</a:t>
            </a:r>
            <a:r>
              <a:rPr b="1" lang="uk-UA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66"/>
                </a:solidFill>
                <a:latin typeface="Arial"/>
              </a:rPr>
              <a:t>інформації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explode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Times New Roman"/>
              </a:rPr>
              <a:t>Споживач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поживач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– той, на кого спрямоване рекламне звернення з метою спонукати його здійснити певну дію, у якій зацікавлений рекламодавець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До недавнього часу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активними учасниками рекламного процесу  були лише перші три ланки, а споживачу відводилась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пасивна роль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елемента аудиторії, що підлягає рекламному вплив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Зараз 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споживач стає </a:t>
            </a:r>
            <a:r>
              <a:rPr b="0" i="1" lang="uk-UA" sz="2400" spc="-1" strike="noStrike">
                <a:solidFill>
                  <a:srgbClr val="003399"/>
                </a:solidFill>
                <a:latin typeface="Tahoma"/>
              </a:rPr>
              <a:t>активним учасником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 рекламного процесу, часто його ініціатором. За власним бажанням він робить запити від рекламного 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а</a:t>
            </a:r>
            <a:r>
              <a:rPr b="0" i="1" lang="ru-RU" sz="2400" spc="-1" strike="noStrike">
                <a:solidFill>
                  <a:srgbClr val="1c1c1c"/>
                </a:solidFill>
                <a:latin typeface="Tahoma"/>
              </a:rPr>
              <a:t>ґ</a:t>
            </a:r>
            <a:r>
              <a:rPr b="0" i="1" lang="uk-UA" sz="2400" spc="-1" strike="noStrike">
                <a:solidFill>
                  <a:srgbClr val="1c1c1c"/>
                </a:solidFill>
                <a:latin typeface="Tahoma"/>
              </a:rPr>
              <a:t>енства</a:t>
            </a:r>
            <a:r>
              <a:rPr b="0" i="1" lang="uk-UA" sz="2400" spc="-1" strike="noStrike">
                <a:solidFill>
                  <a:srgbClr val="292929"/>
                </a:solidFill>
                <a:latin typeface="Tahoma"/>
              </a:rPr>
              <a:t>, засобу розповсюдження реклами або рекламодавця потрібну йому інформацію, тобто виступає у якості 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генератора зворотного зв</a:t>
            </a:r>
            <a:r>
              <a:rPr b="1" i="1" lang="en-US" sz="2400" spc="-1" strike="noStrike">
                <a:solidFill>
                  <a:srgbClr val="292929"/>
                </a:solidFill>
                <a:latin typeface="Tahoma"/>
              </a:rPr>
              <a:t>’</a:t>
            </a:r>
            <a:r>
              <a:rPr b="1" i="1" lang="uk-UA" sz="2400" spc="-1" strike="noStrike">
                <a:solidFill>
                  <a:srgbClr val="292929"/>
                </a:solidFill>
                <a:latin typeface="Tahoma"/>
              </a:rPr>
              <a:t>язку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1:02Z</dcterms:modified>
  <cp:revision>488</cp:revision>
  <dc:subject>Conference</dc:subject>
  <dc:title>Duk N., Dnipropetrovs’k national university </dc:title>
</cp:coreProperties>
</file>