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B93-C49A-43CE-BF7C-99B74855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557-51C3-456B-B9F1-6D13E425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F605-E598-41F4-9DC9-512D8F32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352-3C53-478E-8D4E-67A63B2B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FF68-50AE-4D54-935E-C812D59B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5526-2554-480A-B4C1-65CA9FCC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8D13-14CD-4EFA-B661-1FF4C029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877A-5888-490A-B77F-96F4C36D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58D3-507E-43AD-A416-F4E0441E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7395-48C6-4B4F-99CD-F2EDB684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2203-F760-4C3F-B88A-0B8EE438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A9B-C887-45BA-B93D-397108B1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B0E3-43CF-4859-AD14-CDE6F5AC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CF79-2387-46D5-9287-E9F9218E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D8D7-3794-4BBD-A9BD-F7FAC90E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F26E-0E69-4892-8798-ED7810E5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5BE9-C5F4-44DE-8A70-C989DB9A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C8A9A-CA60-42F7-BF0E-30D8F8E0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3FD2B-8C45-4075-A1FD-25FCEEA0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5CB4E-94F9-400E-9EC3-E09BEF07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9E2A2-BEC9-4B20-8BB5-94CF12E8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601F2-867C-41A4-91C9-D5AF3059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DD1-48C5-42AC-802C-712F72D1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80A22-08CA-4C3B-8D00-7A234FD2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B0743-24F1-400E-9B4C-0A12B39E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15B3D-76BC-4F27-91A8-28EDB0DB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3D4E7-3488-473D-878B-8392ECED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6731D-A732-40B2-A142-63D293FF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55EAC-9ACF-4E41-9536-5B1D3E22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CC433-E54F-471A-885F-3327386F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70A8-6CA8-4BEC-A583-C6FE4BE5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A73C-791C-4EBA-AC3B-AE95651C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FB5-7D89-4182-B1AA-E4023F97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DE92-C286-48B8-9547-7A34674F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CA64-37F9-443C-AA33-3F722BEF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9E9-213B-4D8B-89CC-B28A978D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3CCC-ED29-46DD-BF0A-3BF388CB2E17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8882-3D27-4162-A5E4-E612DC6EDA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3091-7269-4329-8024-B9BBE6BF1D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1c1c1c"/>
                </a:solidFill>
                <a:latin typeface="Times New Roman"/>
              </a:rPr>
              <a:t>Тема 9. Міжнародні маркетингові комунікації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Інші учасники рекламного процес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Під час здійснення рекламного процесу до нього залучаються й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інші учасники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державн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урядові установи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громадськ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асоціації рекламістів, товариства захисту прав споживачів та ін.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иробничі, творчі та дослідницьк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організації, що провадять свою діяльність у галузі рекла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4000" y="4508640"/>
            <a:ext cx="8632800" cy="243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Щоб рекламний процес був достатньо високоефективним, йому мають передувати відповідні </a:t>
            </a:r>
            <a:r>
              <a:rPr b="1" i="1" lang="uk-UA" sz="2400" spc="-1" strike="noStrike">
                <a:solidFill>
                  <a:srgbClr val="1c1c1c"/>
                </a:solidFill>
                <a:latin typeface="Tahoma"/>
              </a:rPr>
              <a:t>маркетингові дослідження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стратегічне планування й опрацювання тактичних рішень, що диктуються збутовими цілями рекламодавця та конкретної обстановки на ринк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а маркетингова комунікаційна політик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Diagram 8"/>
          <p:cNvGrpSpPr/>
          <p:nvPr/>
        </p:nvGrpSpPr>
        <p:grpSpPr>
          <a:xfrm>
            <a:off x="324000" y="3390120"/>
            <a:ext cx="8132760" cy="2885400"/>
            <a:chOff x="324000" y="3390120"/>
            <a:chExt cx="8132760" cy="2885400"/>
          </a:xfrm>
        </p:grpSpPr>
        <p:sp>
          <p:nvSpPr>
            <p:cNvPr id="369" name="_s1028"/>
            <p:cNvSpPr/>
            <p:nvPr/>
          </p:nvSpPr>
          <p:spPr>
            <a:xfrm flipH="1">
              <a:off x="23526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29"/>
            <p:cNvSpPr/>
            <p:nvPr/>
          </p:nvSpPr>
          <p:spPr>
            <a:xfrm>
              <a:off x="32400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Стимулювання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 збуту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_s1030"/>
            <p:cNvSpPr/>
            <p:nvPr/>
          </p:nvSpPr>
          <p:spPr>
            <a:xfrm>
              <a:off x="4391280" y="519264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3375000" y="55555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паганда 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2"/>
            <p:cNvSpPr/>
            <p:nvPr/>
          </p:nvSpPr>
          <p:spPr>
            <a:xfrm>
              <a:off x="54054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_s1033"/>
            <p:cNvSpPr/>
            <p:nvPr/>
          </p:nvSpPr>
          <p:spPr>
            <a:xfrm>
              <a:off x="642816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Особистий 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даж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_s1034"/>
            <p:cNvSpPr/>
            <p:nvPr/>
          </p:nvSpPr>
          <p:spPr>
            <a:xfrm flipV="1">
              <a:off x="4391280" y="410976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_s1035"/>
            <p:cNvSpPr/>
            <p:nvPr/>
          </p:nvSpPr>
          <p:spPr>
            <a:xfrm>
              <a:off x="3375000" y="33901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1f4aa9"/>
                  </a:solidFill>
                  <a:latin typeface="Times New Roman"/>
                </a:rPr>
                <a:t>Реклама </a:t>
              </a:r>
              <a:endParaRPr b="0" i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_s1036"/>
            <p:cNvSpPr/>
            <p:nvPr/>
          </p:nvSpPr>
          <p:spPr>
            <a:xfrm>
              <a:off x="3375000" y="4473000"/>
              <a:ext cx="2030040" cy="71964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Комплекс</a:t>
              </a:r>
              <a:br>
                <a:rPr sz="2000"/>
              </a:b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 комунікацій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8" name="Rectangle 20"/>
          <p:cNvSpPr/>
          <p:nvPr/>
        </p:nvSpPr>
        <p:spPr>
          <a:xfrm>
            <a:off x="324000" y="1413000"/>
            <a:ext cx="8496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Комплекс маркетингових комунікацій </a:t>
            </a:r>
            <a:r>
              <a:rPr b="0" i="1" lang="uk-UA" sz="2000" spc="-1" strike="noStrike">
                <a:solidFill>
                  <a:srgbClr val="660033"/>
                </a:solidFill>
                <a:latin typeface="Tahoma"/>
              </a:rPr>
              <a:t>(комплекс стимулювання) в міжнародному маркетинг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– це систем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формування попи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й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стимулювання збу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товарів або послуг, спрямована на їх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просування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на зовнішньому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она включає чотири основні елемент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Просування та реклам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Просування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сукупність методів освідомлення, що використовуються фірмою для інформування й переконання споживачів або нагадування про свої товари, образи, ідеї, громадську діяльність або вплив на суспільство. Головна мета процесу просування – стимулювання (покращення) попиту. Основним засобом маркетингових комунікацій є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будь-як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оплач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знеособл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форма представлення й просування товарів, послуг, ідей, підприємств і окремих осіб. Реклама являє собою неособисті форми комунікації, здійснювані за посередництвом платних засобів поширення інформації, з чітко зазначеним джерелом фінансування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ажливо усвідомити, що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діяльність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багатофункціональна.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Вона служить багатьом господарям для досягнення безлічі цілей.</a:t>
            </a:r>
            <a:r>
              <a:rPr b="0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Уперше з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явилась у США в середині ХІХ ст. і невдовзі стала невід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ємною частиною підприємницької діяльності. Витрати на рекламу являють собою вагому частину бюджетів закордонних промислових фір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133"/>
          <p:cNvSpPr/>
          <p:nvPr/>
        </p:nvSpPr>
        <p:spPr>
          <a:xfrm>
            <a:off x="4643280" y="5335560"/>
            <a:ext cx="4326120" cy="1520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Виконує рекламну функцію не прямолінійно, а завуальовано, без використання прямих каналів розповсюдження реклами і без вказання рекламодавц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Rectangle 106"/>
          <p:cNvSpPr/>
          <p:nvPr/>
        </p:nvSpPr>
        <p:spPr>
          <a:xfrm>
            <a:off x="4788000" y="3500280"/>
            <a:ext cx="1873080" cy="8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126"/>
          <p:cNvSpPr/>
          <p:nvPr/>
        </p:nvSpPr>
        <p:spPr>
          <a:xfrm>
            <a:off x="2268360" y="3500280"/>
            <a:ext cx="6613560" cy="1374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споживачів про властивості та переваги конкретного товару, щоб пробудити до нього інтерес та стимулювати споживачів до здійснення купівл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AutoShape 132"/>
          <p:cNvSpPr/>
          <p:nvPr/>
        </p:nvSpPr>
        <p:spPr>
          <a:xfrm>
            <a:off x="4572000" y="3716280"/>
            <a:ext cx="4351320" cy="1215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Здійснюється на комерційних засадах із вказанням рекламодавця; прямо виконує рекламну функцію стосовно конкретних товарів або фірм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127"/>
          <p:cNvSpPr/>
          <p:nvPr/>
        </p:nvSpPr>
        <p:spPr>
          <a:xfrm>
            <a:off x="2173320" y="5207040"/>
            <a:ext cx="6643800" cy="16783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про переваги фірми, що вигідно відрізняють її від конкурентів, з метою створення серед потенційних покупців її привабливого образу (іміджу), що викликає довіру до неї та її продукції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истематизація видів реклами 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AutoShape 93"/>
          <p:cNvSpPr/>
          <p:nvPr/>
        </p:nvSpPr>
        <p:spPr>
          <a:xfrm>
            <a:off x="250920" y="2060640"/>
            <a:ext cx="8642160" cy="30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8e46"/>
              </a:gs>
              <a:gs pos="100000">
                <a:srgbClr val="56422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cc"/>
                </a:solidFill>
                <a:latin typeface="Tahoma"/>
              </a:rPr>
              <a:t>Види рекла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94"/>
          <p:cNvSpPr/>
          <p:nvPr/>
        </p:nvSpPr>
        <p:spPr>
          <a:xfrm>
            <a:off x="250920" y="1341360"/>
            <a:ext cx="856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</a:rPr>
              <a:t>В міжнародному маркетингу реклама відіграє незрівнянно більшу роль, аніж у внутрішньому. В залежності від властивостей реклами виділяють такі її види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Text Box 95"/>
          <p:cNvSpPr/>
          <p:nvPr/>
        </p:nvSpPr>
        <p:spPr>
          <a:xfrm>
            <a:off x="250920" y="2421000"/>
            <a:ext cx="2008080" cy="857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об</a:t>
            </a:r>
            <a:r>
              <a:rPr b="1" i="1" lang="en-US" sz="16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єктом рекламува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Text Box 96"/>
          <p:cNvSpPr/>
          <p:nvPr/>
        </p:nvSpPr>
        <p:spPr>
          <a:xfrm>
            <a:off x="2411280" y="2421000"/>
            <a:ext cx="2008440" cy="73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способом подання рекламної інформації 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97"/>
          <p:cNvSpPr/>
          <p:nvPr/>
        </p:nvSpPr>
        <p:spPr>
          <a:xfrm>
            <a:off x="4643280" y="2421000"/>
            <a:ext cx="2006640" cy="85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поставленими цілями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Text Box 98"/>
          <p:cNvSpPr/>
          <p:nvPr/>
        </p:nvSpPr>
        <p:spPr>
          <a:xfrm>
            <a:off x="6877080" y="2421000"/>
            <a:ext cx="2008080" cy="85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засобами розповсюдже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Rectangle 101"/>
          <p:cNvSpPr/>
          <p:nvPr/>
        </p:nvSpPr>
        <p:spPr>
          <a:xfrm>
            <a:off x="395280" y="350028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Rectangle 102"/>
          <p:cNvSpPr/>
          <p:nvPr/>
        </p:nvSpPr>
        <p:spPr>
          <a:xfrm>
            <a:off x="395280" y="515772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Rectangle 105"/>
          <p:cNvSpPr/>
          <p:nvPr/>
        </p:nvSpPr>
        <p:spPr>
          <a:xfrm>
            <a:off x="2556000" y="531324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Rectangle 108"/>
          <p:cNvSpPr/>
          <p:nvPr/>
        </p:nvSpPr>
        <p:spPr>
          <a:xfrm>
            <a:off x="4788000" y="4653000"/>
            <a:ext cx="187308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Rectangle 109"/>
          <p:cNvSpPr/>
          <p:nvPr/>
        </p:nvSpPr>
        <p:spPr>
          <a:xfrm>
            <a:off x="4788000" y="5992920"/>
            <a:ext cx="187308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Rectangle 118"/>
          <p:cNvSpPr/>
          <p:nvPr/>
        </p:nvSpPr>
        <p:spPr>
          <a:xfrm>
            <a:off x="6948360" y="63579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Rectangle 119"/>
          <p:cNvSpPr/>
          <p:nvPr/>
        </p:nvSpPr>
        <p:spPr>
          <a:xfrm>
            <a:off x="6948360" y="59943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Rectangle 120"/>
          <p:cNvSpPr/>
          <p:nvPr/>
        </p:nvSpPr>
        <p:spPr>
          <a:xfrm>
            <a:off x="6948360" y="563076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Rectangle 114"/>
          <p:cNvSpPr/>
          <p:nvPr/>
        </p:nvSpPr>
        <p:spPr>
          <a:xfrm>
            <a:off x="6948360" y="5243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Rectangle 115"/>
          <p:cNvSpPr/>
          <p:nvPr/>
        </p:nvSpPr>
        <p:spPr>
          <a:xfrm>
            <a:off x="6948360" y="48798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Rectangle 116"/>
          <p:cNvSpPr/>
          <p:nvPr/>
        </p:nvSpPr>
        <p:spPr>
          <a:xfrm>
            <a:off x="6948360" y="45180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113"/>
          <p:cNvSpPr/>
          <p:nvPr/>
        </p:nvSpPr>
        <p:spPr>
          <a:xfrm>
            <a:off x="6948360" y="4154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Rectangle 112"/>
          <p:cNvSpPr/>
          <p:nvPr/>
        </p:nvSpPr>
        <p:spPr>
          <a:xfrm>
            <a:off x="6948360" y="37926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Rectangle 111"/>
          <p:cNvSpPr/>
          <p:nvPr/>
        </p:nvSpPr>
        <p:spPr>
          <a:xfrm>
            <a:off x="6948360" y="34290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Text Box 123"/>
          <p:cNvSpPr/>
          <p:nvPr/>
        </p:nvSpPr>
        <p:spPr>
          <a:xfrm rot="2026200">
            <a:off x="608040" y="380988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Товар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124"/>
          <p:cNvSpPr/>
          <p:nvPr/>
        </p:nvSpPr>
        <p:spPr>
          <a:xfrm rot="2026200">
            <a:off x="398520" y="5567040"/>
            <a:ext cx="15415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міджева (фірмова)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Rectangle 104"/>
          <p:cNvSpPr/>
          <p:nvPr/>
        </p:nvSpPr>
        <p:spPr>
          <a:xfrm>
            <a:off x="2556000" y="3645000"/>
            <a:ext cx="1873080" cy="154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128"/>
          <p:cNvSpPr/>
          <p:nvPr/>
        </p:nvSpPr>
        <p:spPr>
          <a:xfrm rot="18430200">
            <a:off x="2683800" y="4197960"/>
            <a:ext cx="1725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Безпосередня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129"/>
          <p:cNvSpPr/>
          <p:nvPr/>
        </p:nvSpPr>
        <p:spPr>
          <a:xfrm rot="18430200">
            <a:off x="2700720" y="580464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епряма  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135"/>
          <p:cNvSpPr/>
          <p:nvPr/>
        </p:nvSpPr>
        <p:spPr>
          <a:xfrm rot="1185000">
            <a:off x="4858920" y="3645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нформатив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136"/>
          <p:cNvSpPr/>
          <p:nvPr/>
        </p:nvSpPr>
        <p:spPr>
          <a:xfrm rot="1185000">
            <a:off x="4716360" y="4797000"/>
            <a:ext cx="19558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повіщувальна (переконуюча)</a:t>
            </a:r>
            <a:br>
              <a:rPr sz="1800"/>
            </a:b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137"/>
          <p:cNvSpPr/>
          <p:nvPr/>
        </p:nvSpPr>
        <p:spPr>
          <a:xfrm rot="1185000">
            <a:off x="4858920" y="6093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агадуваль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139"/>
          <p:cNvSpPr/>
          <p:nvPr/>
        </p:nvSpPr>
        <p:spPr>
          <a:xfrm>
            <a:off x="179280" y="3645000"/>
            <a:ext cx="4415040" cy="608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Розповсюдження комерційно важливих відомостей про фірму та її товар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140"/>
          <p:cNvSpPr/>
          <p:nvPr/>
        </p:nvSpPr>
        <p:spPr>
          <a:xfrm>
            <a:off x="179280" y="4437000"/>
            <a:ext cx="4440240" cy="152028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Переконання покупця здійснити купівлю шляхом поширення відомостей про переваги фірми та її товари, у тому числі порівняно з інши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141"/>
          <p:cNvSpPr/>
          <p:nvPr/>
        </p:nvSpPr>
        <p:spPr>
          <a:xfrm>
            <a:off x="179280" y="5805360"/>
            <a:ext cx="4373640" cy="9118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Нагадування про існування фірми та її товарів , підтвердження та закріплення їх іміджу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142"/>
          <p:cNvSpPr/>
          <p:nvPr/>
        </p:nvSpPr>
        <p:spPr>
          <a:xfrm>
            <a:off x="6948360" y="3357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У прес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Text Box 143"/>
          <p:cNvSpPr/>
          <p:nvPr/>
        </p:nvSpPr>
        <p:spPr>
          <a:xfrm>
            <a:off x="6948360" y="378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Друкова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Text Box 144"/>
          <p:cNvSpPr/>
          <p:nvPr/>
        </p:nvSpPr>
        <p:spPr>
          <a:xfrm>
            <a:off x="6948360" y="4149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Аудіовізуаль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Text Box 145"/>
          <p:cNvSpPr/>
          <p:nvPr/>
        </p:nvSpPr>
        <p:spPr>
          <a:xfrm>
            <a:off x="6948360" y="4508640"/>
            <a:ext cx="1944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 електронних ЗМІ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146"/>
          <p:cNvSpPr/>
          <p:nvPr/>
        </p:nvSpPr>
        <p:spPr>
          <a:xfrm>
            <a:off x="6948360" y="486900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Пряма поштов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Text Box 147"/>
          <p:cNvSpPr/>
          <p:nvPr/>
        </p:nvSpPr>
        <p:spPr>
          <a:xfrm>
            <a:off x="6948360" y="522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Зовнішн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Text Box 148"/>
          <p:cNvSpPr/>
          <p:nvPr/>
        </p:nvSpPr>
        <p:spPr>
          <a:xfrm>
            <a:off x="6948360" y="5589720"/>
            <a:ext cx="194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800080"/>
                </a:solidFill>
                <a:latin typeface="Times New Roman"/>
              </a:rPr>
              <a:t>Інтернет-реклама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Text Box 149"/>
          <p:cNvSpPr/>
          <p:nvPr/>
        </p:nvSpPr>
        <p:spPr>
          <a:xfrm>
            <a:off x="6948360" y="5877000"/>
            <a:ext cx="1944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иставково-ярмаркова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Text Box 150"/>
          <p:cNvSpPr/>
          <p:nvPr/>
        </p:nvSpPr>
        <p:spPr>
          <a:xfrm>
            <a:off x="6948360" y="630864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увенір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2" name="explod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8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4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0" dur="5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28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єкти рекламного процесу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в міжнародному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Принципова схема рекламного процесу складається з чотирьох ланок (суб</a:t>
            </a:r>
            <a:r>
              <a:rPr b="0" i="1" lang="en-US" sz="2000" spc="-1" strike="noStrike">
                <a:solidFill>
                  <a:srgbClr val="1b3753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єктів) та виглядає наступним чино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179280" y="24922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одавець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395280" y="364500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не агенство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755640" y="479736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900000" y="59500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Споживач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2195640" y="306864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356000" y="4221000"/>
            <a:ext cx="0" cy="5749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7020000" y="537372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Рекламодавц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одавець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юридична або фізична особа, що є замовником реклами у рекламного 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енства та яка оплачує її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сновні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функції рекламодавця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оварів,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тому числі експортних, що потребують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енством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міри та особливостей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ування цих товар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Форму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плану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ної продукції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а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Опрацю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бюджету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и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і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Укладання угоди з а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енство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на створення рекламних матеріалів, розміщення реклами у засобах її розповсюдження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опомога виконавця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підготовці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вихідних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матеріал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Надання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ехнічних та фактичних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аних про продукцію та послуг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ехнічні консультації, затвердження макет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них матеріалів та оригіналів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Оплата рахунк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виконавця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0" y="1628640"/>
            <a:ext cx="8918640" cy="516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До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в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лежать виробники, роздрібні торговці, оптові торговці, фірми послуг, дистриб'ютори, профспілки, приватні особи і багато хто інш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Загальнонаціональні та міжнародн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складають велику частину. Зазвичай це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виробники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, тобто фірми, що випускають товари, з якими ми зустрічаємося в універсамах, демонстраційних залах, на виставках і т.д. Серед найбільш інтенсивно рекламованих товарів – продукти харчування, туалетні засоби, автомобілі, ліки і лікувальні засоби, побутові послуги, пиво, вино, тютюн, легкі закуски і безалкогольні напої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 частку 10 найбільших загальнонаціональних рекламодавців припадає майже 70% загальних витрат на рекламу в країн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Місцев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– це головним чином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роздрібні торговці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. Прагнучи відігравати роль агентів із закупівлі своєї округи, роздрібні торговці витрачають на рекламу великі кошти, щоб повідомити населенню, що вони закупили для людей, і обґрунтувати, чому варто робити закупівлі саме в них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Рекламні а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ґ</a:t>
            </a: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енств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Рекламні а</a:t>
            </a:r>
            <a:r>
              <a:rPr b="1" i="1" lang="ru-RU" sz="2200" spc="-1" strike="noStrike">
                <a:solidFill>
                  <a:srgbClr val="003399"/>
                </a:solidFill>
                <a:latin typeface="Tahoma"/>
              </a:rPr>
              <a:t>ґ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енства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крім робіт, що виконуються спільно з рекламодавцям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за їх замовленнями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творчі та виконавські функції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ов</a:t>
            </a:r>
            <a:r>
              <a:rPr b="0" i="1" lang="en-US" sz="22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язані зі створенням рекламних матеріалів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Виготовля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ригінали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водя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мплексні рекламні компан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кремі рекламні заход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заємодію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 виробничими базами, з іншими рекламними та видавничими фірмами, у тому числ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арубіжни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в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зок із засобами розповсюдж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и, розміщують в них замовлення на публікацію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нтролюють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ходження 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кіс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виконання замовлень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иставля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одавцям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сплачу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асобів розповсюдження реклами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-15840" y="1468440"/>
            <a:ext cx="8970840" cy="574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Повносервісне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рекламне аґенство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зазвичай володіє широким колом висококваліфікованих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позаштатних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творчих співробітників та виконавців і при значних обсягах міжнародної діяльності має комерційних аґентів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за кордоном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Зазвичай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основу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рекламного аґентства складаю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4 відділ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творч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розробкою і виробництвом рекламних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ідділ засобів реклами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відповідальний за вибір засобів реклами  і розміщення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дослідницьк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вивчає характеристики і потреби аудиторії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комерційн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комерційною стороною діяльності аґенства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Як правило, аґентства пропонують потенційним клієнтам послуги різних фахівців, серед яких текстовики, художники, продюсери телебачення і радіо, фахівці з рекламних засобів, дослідники та ін.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Засіб розповсюдження реклами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– це канал інформації, по якому рекламне звернення доходить до споживачів. В рекламному процесі засіб розповсюдження реклами зазвичай представлений організацією, що є володарем каналу інформації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Рекламодавці та рекламні 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 розглядают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асоби масової інформації як носіїв, що доводять рекламні звернення до аудиторії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ібраної завдяки основному </a:t>
            </a: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(нерекламному)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 матеріалу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що пропонують радіо- і телестанції, газети чи журнали. Оскільки доходи журналів і газет на 60 – 70%, а доходи установ телебачення і радіо майже на всі 100% складаються з надходжень за рекламу, рекламодавців і їхні агентства всіляко підтримують і  “підгодовують”, не шкодуючи на це величезних витрат часу і зусил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44280" y="1528920"/>
            <a:ext cx="8850600" cy="40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Таким чином,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журнали, газети, телевізійні і радіостанції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азвичай залучають потрібну аудиторію своїм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нерекламним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містом, а рекламодавець одержує можливість звернутися саме до цієї аудиторії.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Іншим  засобам реклами,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щоб привернути  увагу визначеної аудиторії, доводиться покладатися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винятково на саме  рекламне зверн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. Важливу роль сполучної ланки між рекламодавцями і потенційними покупцями грають пряма поштова реклама, плакати, щити, рекламні планшети в громадському транспорті, а також рекламне оформлення торгових приміщень.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0" y="5300640"/>
            <a:ext cx="8964720" cy="109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Реклама – це передусім форма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го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вмовляння, і вступити в контакт з аудиторією їй допомагають засоби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ї</a:t>
            </a:r>
            <a:r>
              <a:rPr b="1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інформації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explode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Споживач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Споживач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– той, на кого спрямоване рекламне звернення з метою спонукати його здійснити певну дію, у якій зацікавлений рекламодавец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До недавнього часу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активними учасниками рекламного процесу  були лише перші три ланки, а споживачу відводилас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пасивна роль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елемента аудиторії, що підлягає рекламному вплив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Зараз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споживач стає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активним учасником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рекламного процесу, часто його ініціатором. За власним бажанням він робить запити від рекламного 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, засобу розповсюдження реклами або рекламодавця потрібну йому інформацію, тобто виступає у якості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генератора зворотного зв</a:t>
            </a:r>
            <a:r>
              <a:rPr b="1" i="1" lang="en-US" sz="24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язк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1:02Z</dcterms:modified>
  <cp:revision>488</cp:revision>
  <dc:subject>Conference</dc:subject>
  <dc:title>Duk N., Dnipropetrovs’k national university </dc:title>
</cp:coreProperties>
</file>