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F70-1174-4451-88A8-C0F51615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BFA-91AC-4F2F-BF17-A237860A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56C9-A3F4-4988-8B8A-BB44C963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072D-9267-4556-A0EE-BEB34266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E763-D8EC-47FE-9594-B08742B5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22BE-4C6E-491B-80FC-5C8A2BB1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9A4D-5743-4FEE-B1D5-7F13EEC7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87CC-CC5A-460D-BD2A-6D92F3D4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F190-09F6-4600-8D6D-1AD92967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CBC6-B751-45DA-9FB3-CC6F03FF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2684-BF36-45A7-B0A5-CAEBE058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C32E-FE60-4B18-B958-E094B569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9B1E-797A-4094-81CA-F73CB96E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72B4-5F1C-4948-A335-D5F50D54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2A45-D1F6-4489-9E17-D298CB09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3844-D44A-4387-928B-B7976F69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EAA2-6FE3-4ECA-BECF-77283CD5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40204-6626-4EC1-B447-6EA9B804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48E7E-8CA2-458F-B271-0D369BF9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C2DD9-415B-4001-A7EF-996ABD9C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CCE3D-823F-4B27-B638-09F61698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360F9-C00D-4C3B-A1B4-C0C674C6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ED2-BE1D-4CE4-8336-8AF78850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DBC3F-9957-4189-89E0-CF2A72CF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EDABB-6E1D-4D5E-AE9E-5B372214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49B0B-875C-4345-9520-214B4D68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4A475-60C5-44B6-A6FD-6B2C25B7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72392-BD22-4553-AAF0-8CBAB8BC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0DEC8-E4FD-4BCB-85BF-EBDFE8AD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F7ACE-E780-458E-ACB6-48E9175A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B13-04A5-46A6-B463-7E4501AC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E3F2-6839-4748-9CEA-540E1B05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F5A-EF9C-4AB6-879A-02CC2675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51A-91EB-4534-8F65-17B54494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3B80-E47B-4FAB-8084-4EFA6268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BDB-73F9-4067-BB24-52117C96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9C52-71DF-471A-A0BC-D97943746A6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910F-3AA6-4263-84D8-9671AAC5E3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0E96-7F62-4B16-B2E6-AAEC40C8E5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1c1c1c"/>
                </a:solidFill>
                <a:latin typeface="Times New Roman"/>
              </a:rPr>
              <a:t>Тема 9. Міжнародні маркетингові комунікації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Інші учасники рекламного процес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Під час здійснення рекламного процесу до нього залучаються й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інші учасники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державн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урядові установи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громадськ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асоціації рекламістів, товариства захисту прав споживачів та ін.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иробничі, творчі та дослідницьк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організації, що провадять свою діяльність у галузі рекла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4000" y="4508640"/>
            <a:ext cx="8632800" cy="243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Щоб рекламний процес був достатньо високоефективним, йому мають передувати відповідні </a:t>
            </a:r>
            <a:r>
              <a:rPr b="1" i="1" lang="uk-UA" sz="2400" spc="-1" strike="noStrike">
                <a:solidFill>
                  <a:srgbClr val="1c1c1c"/>
                </a:solidFill>
                <a:latin typeface="Tahoma"/>
              </a:rPr>
              <a:t>маркетингові дослідження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стратегічне планування й опрацювання тактичних рішень, що диктуються збутовими цілями рекламодавця та конкретної обстановки на ринк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а маркетингова комунікаційна політик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Diagram 8"/>
          <p:cNvGrpSpPr/>
          <p:nvPr/>
        </p:nvGrpSpPr>
        <p:grpSpPr>
          <a:xfrm>
            <a:off x="324000" y="3390120"/>
            <a:ext cx="8132760" cy="2885400"/>
            <a:chOff x="324000" y="3390120"/>
            <a:chExt cx="8132760" cy="2885400"/>
          </a:xfrm>
        </p:grpSpPr>
        <p:sp>
          <p:nvSpPr>
            <p:cNvPr id="369" name="_s1028"/>
            <p:cNvSpPr/>
            <p:nvPr/>
          </p:nvSpPr>
          <p:spPr>
            <a:xfrm flipH="1">
              <a:off x="23526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29"/>
            <p:cNvSpPr/>
            <p:nvPr/>
          </p:nvSpPr>
          <p:spPr>
            <a:xfrm>
              <a:off x="32400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Стимулювання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 збуту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_s1030"/>
            <p:cNvSpPr/>
            <p:nvPr/>
          </p:nvSpPr>
          <p:spPr>
            <a:xfrm>
              <a:off x="4391280" y="519264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3375000" y="55555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паганда 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2"/>
            <p:cNvSpPr/>
            <p:nvPr/>
          </p:nvSpPr>
          <p:spPr>
            <a:xfrm>
              <a:off x="54054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_s1033"/>
            <p:cNvSpPr/>
            <p:nvPr/>
          </p:nvSpPr>
          <p:spPr>
            <a:xfrm>
              <a:off x="642816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Особистий 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даж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_s1034"/>
            <p:cNvSpPr/>
            <p:nvPr/>
          </p:nvSpPr>
          <p:spPr>
            <a:xfrm flipV="1">
              <a:off x="4391280" y="410976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_s1035"/>
            <p:cNvSpPr/>
            <p:nvPr/>
          </p:nvSpPr>
          <p:spPr>
            <a:xfrm>
              <a:off x="3375000" y="33901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1f4aa9"/>
                  </a:solidFill>
                  <a:latin typeface="Times New Roman"/>
                </a:rPr>
                <a:t>Реклама </a:t>
              </a:r>
              <a:endParaRPr b="0" i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_s1036"/>
            <p:cNvSpPr/>
            <p:nvPr/>
          </p:nvSpPr>
          <p:spPr>
            <a:xfrm>
              <a:off x="3375000" y="4473000"/>
              <a:ext cx="2030040" cy="7196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Комплекс</a:t>
              </a:r>
              <a:br>
                <a:rPr sz="2000"/>
              </a:b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 комунікацій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" name="Rectangle 20"/>
          <p:cNvSpPr/>
          <p:nvPr/>
        </p:nvSpPr>
        <p:spPr>
          <a:xfrm>
            <a:off x="324000" y="1413000"/>
            <a:ext cx="8496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Комплекс маркетингових комунікацій </a:t>
            </a:r>
            <a:r>
              <a:rPr b="0" i="1" lang="uk-UA" sz="2000" spc="-1" strike="noStrike">
                <a:solidFill>
                  <a:srgbClr val="660033"/>
                </a:solidFill>
                <a:latin typeface="Tahoma"/>
              </a:rPr>
              <a:t>(комплекс стимулювання) в міжнародному маркетинг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– це систем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формування попи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й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стимулювання збу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товарів або послуг, спрямована на їх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просування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на зовнішньому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она включає чотири основні елемент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Просування та реклам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Просування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сукупність методів освідомлення, що використовуються фірмою для інформування й переконання споживачів або нагадування про свої товари, образи, ідеї, громадську діяльність або вплив на суспільство. Головна мета процесу просування – стимулювання (покращення) попиту. Основним засобом маркетингових комунікацій є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будь-як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оплач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знеособл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форма представлення й просування товарів, послуг, ідей, підприємств і окремих осіб. Реклама являє собою неособисті форми комунікації, здійснювані за посередництвом платних засобів поширення інформації, з чітко зазначеним джерелом фінансування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ажливо усвідомити, що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діяльність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багатофункціональна.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Вона служить багатьом господарям для досягнення безлічі цілей.</a:t>
            </a:r>
            <a:r>
              <a:rPr b="0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Уперше з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явилась у США в середині ХІХ ст. і невдовзі стала невід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ємною частиною підприємницької діяльності. Витрати на рекламу являють собою вагому частину бюджетів закордонних промислових фір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33"/>
          <p:cNvSpPr/>
          <p:nvPr/>
        </p:nvSpPr>
        <p:spPr>
          <a:xfrm>
            <a:off x="4643280" y="5335560"/>
            <a:ext cx="4326120" cy="1520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Виконує рекламну функцію не прямолінійно, а завуальовано, без використання прямих каналів розповсюдження реклами і без вказання рекламодавц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Rectangle 106"/>
          <p:cNvSpPr/>
          <p:nvPr/>
        </p:nvSpPr>
        <p:spPr>
          <a:xfrm>
            <a:off x="4788000" y="3500280"/>
            <a:ext cx="187308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126"/>
          <p:cNvSpPr/>
          <p:nvPr/>
        </p:nvSpPr>
        <p:spPr>
          <a:xfrm>
            <a:off x="2268360" y="3500280"/>
            <a:ext cx="6613560" cy="1374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споживачів про властивості та переваги конкретного товару, щоб пробудити до нього інтерес та стимулювати споживачів до здійснення купівл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AutoShape 132"/>
          <p:cNvSpPr/>
          <p:nvPr/>
        </p:nvSpPr>
        <p:spPr>
          <a:xfrm>
            <a:off x="4572000" y="3716280"/>
            <a:ext cx="4351320" cy="1215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Здійснюється на комерційних засадах із вказанням рекламодавця; прямо виконує рекламну функцію стосовно конкретних товарів або фірм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127"/>
          <p:cNvSpPr/>
          <p:nvPr/>
        </p:nvSpPr>
        <p:spPr>
          <a:xfrm>
            <a:off x="2173320" y="5207040"/>
            <a:ext cx="6643800" cy="16783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про переваги фірми, що вигідно відрізняють її від конкурентів, з метою створення серед потенційних покупців її привабливого образу (іміджу), що викликає довіру до неї та її продукції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истематизація видів реклами 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AutoShape 93"/>
          <p:cNvSpPr/>
          <p:nvPr/>
        </p:nvSpPr>
        <p:spPr>
          <a:xfrm>
            <a:off x="250920" y="2060640"/>
            <a:ext cx="8642160" cy="30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8e46"/>
              </a:gs>
              <a:gs pos="100000">
                <a:srgbClr val="56422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cc"/>
                </a:solidFill>
                <a:latin typeface="Tahoma"/>
              </a:rPr>
              <a:t>Види рекла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94"/>
          <p:cNvSpPr/>
          <p:nvPr/>
        </p:nvSpPr>
        <p:spPr>
          <a:xfrm>
            <a:off x="250920" y="1341360"/>
            <a:ext cx="856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</a:rPr>
              <a:t>В міжнародному маркетингу реклама відіграє незрівнянно більшу роль, аніж у внутрішньому. В залежності від властивостей реклами виділяють такі її види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Text Box 95"/>
          <p:cNvSpPr/>
          <p:nvPr/>
        </p:nvSpPr>
        <p:spPr>
          <a:xfrm>
            <a:off x="250920" y="2421000"/>
            <a:ext cx="2008080" cy="857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об</a:t>
            </a:r>
            <a:r>
              <a:rPr b="1" i="1" lang="en-US" sz="16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єктом рекламува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Text Box 96"/>
          <p:cNvSpPr/>
          <p:nvPr/>
        </p:nvSpPr>
        <p:spPr>
          <a:xfrm>
            <a:off x="2411280" y="2421000"/>
            <a:ext cx="2008440" cy="73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способом подання рекламної інформації 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97"/>
          <p:cNvSpPr/>
          <p:nvPr/>
        </p:nvSpPr>
        <p:spPr>
          <a:xfrm>
            <a:off x="4643280" y="2421000"/>
            <a:ext cx="2006640" cy="85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поставленими цілями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Text Box 98"/>
          <p:cNvSpPr/>
          <p:nvPr/>
        </p:nvSpPr>
        <p:spPr>
          <a:xfrm>
            <a:off x="6877080" y="2421000"/>
            <a:ext cx="2008080" cy="85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засобами розповсюдже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Rectangle 101"/>
          <p:cNvSpPr/>
          <p:nvPr/>
        </p:nvSpPr>
        <p:spPr>
          <a:xfrm>
            <a:off x="395280" y="350028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Rectangle 102"/>
          <p:cNvSpPr/>
          <p:nvPr/>
        </p:nvSpPr>
        <p:spPr>
          <a:xfrm>
            <a:off x="395280" y="515772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Rectangle 105"/>
          <p:cNvSpPr/>
          <p:nvPr/>
        </p:nvSpPr>
        <p:spPr>
          <a:xfrm>
            <a:off x="2556000" y="531324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Rectangle 108"/>
          <p:cNvSpPr/>
          <p:nvPr/>
        </p:nvSpPr>
        <p:spPr>
          <a:xfrm>
            <a:off x="4788000" y="4653000"/>
            <a:ext cx="187308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109"/>
          <p:cNvSpPr/>
          <p:nvPr/>
        </p:nvSpPr>
        <p:spPr>
          <a:xfrm>
            <a:off x="4788000" y="5992920"/>
            <a:ext cx="187308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Rectangle 118"/>
          <p:cNvSpPr/>
          <p:nvPr/>
        </p:nvSpPr>
        <p:spPr>
          <a:xfrm>
            <a:off x="6948360" y="63579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Rectangle 119"/>
          <p:cNvSpPr/>
          <p:nvPr/>
        </p:nvSpPr>
        <p:spPr>
          <a:xfrm>
            <a:off x="6948360" y="59943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Rectangle 120"/>
          <p:cNvSpPr/>
          <p:nvPr/>
        </p:nvSpPr>
        <p:spPr>
          <a:xfrm>
            <a:off x="6948360" y="563076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Rectangle 114"/>
          <p:cNvSpPr/>
          <p:nvPr/>
        </p:nvSpPr>
        <p:spPr>
          <a:xfrm>
            <a:off x="6948360" y="5243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Rectangle 115"/>
          <p:cNvSpPr/>
          <p:nvPr/>
        </p:nvSpPr>
        <p:spPr>
          <a:xfrm>
            <a:off x="6948360" y="48798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Rectangle 116"/>
          <p:cNvSpPr/>
          <p:nvPr/>
        </p:nvSpPr>
        <p:spPr>
          <a:xfrm>
            <a:off x="6948360" y="45180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6948360" y="4154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Rectangle 112"/>
          <p:cNvSpPr/>
          <p:nvPr/>
        </p:nvSpPr>
        <p:spPr>
          <a:xfrm>
            <a:off x="6948360" y="37926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Rectangle 111"/>
          <p:cNvSpPr/>
          <p:nvPr/>
        </p:nvSpPr>
        <p:spPr>
          <a:xfrm>
            <a:off x="6948360" y="34290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Text Box 123"/>
          <p:cNvSpPr/>
          <p:nvPr/>
        </p:nvSpPr>
        <p:spPr>
          <a:xfrm rot="2026200">
            <a:off x="608040" y="380988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Товар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124"/>
          <p:cNvSpPr/>
          <p:nvPr/>
        </p:nvSpPr>
        <p:spPr>
          <a:xfrm rot="2026200">
            <a:off x="398520" y="5567040"/>
            <a:ext cx="1541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міджева (фірмова)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Rectangle 104"/>
          <p:cNvSpPr/>
          <p:nvPr/>
        </p:nvSpPr>
        <p:spPr>
          <a:xfrm>
            <a:off x="2556000" y="3645000"/>
            <a:ext cx="1873080" cy="154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128"/>
          <p:cNvSpPr/>
          <p:nvPr/>
        </p:nvSpPr>
        <p:spPr>
          <a:xfrm rot="18430200">
            <a:off x="2683800" y="4197960"/>
            <a:ext cx="1725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Безпосередня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129"/>
          <p:cNvSpPr/>
          <p:nvPr/>
        </p:nvSpPr>
        <p:spPr>
          <a:xfrm rot="18430200">
            <a:off x="2700720" y="580464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епряма  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135"/>
          <p:cNvSpPr/>
          <p:nvPr/>
        </p:nvSpPr>
        <p:spPr>
          <a:xfrm rot="1185000">
            <a:off x="4858920" y="3645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нформатив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136"/>
          <p:cNvSpPr/>
          <p:nvPr/>
        </p:nvSpPr>
        <p:spPr>
          <a:xfrm rot="1185000">
            <a:off x="4716360" y="4797000"/>
            <a:ext cx="1955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повіщувальна (переконуюча)</a:t>
            </a:r>
            <a:br>
              <a:rPr sz="1800"/>
            </a:b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137"/>
          <p:cNvSpPr/>
          <p:nvPr/>
        </p:nvSpPr>
        <p:spPr>
          <a:xfrm rot="1185000">
            <a:off x="4858920" y="6093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агадуваль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139"/>
          <p:cNvSpPr/>
          <p:nvPr/>
        </p:nvSpPr>
        <p:spPr>
          <a:xfrm>
            <a:off x="179280" y="3645000"/>
            <a:ext cx="4415040" cy="608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Розповсюдження комерційно важливих відомостей про фірму та її товар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140"/>
          <p:cNvSpPr/>
          <p:nvPr/>
        </p:nvSpPr>
        <p:spPr>
          <a:xfrm>
            <a:off x="179280" y="4437000"/>
            <a:ext cx="4440240" cy="15202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Переконання покупця здійснити купівлю шляхом поширення відомостей про переваги фірми та її товари, у тому числі порівняно з інши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141"/>
          <p:cNvSpPr/>
          <p:nvPr/>
        </p:nvSpPr>
        <p:spPr>
          <a:xfrm>
            <a:off x="179280" y="5805360"/>
            <a:ext cx="4373640" cy="9118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Нагадування про існування фірми та її товарів , підтвердження та закріплення їх іміджу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142"/>
          <p:cNvSpPr/>
          <p:nvPr/>
        </p:nvSpPr>
        <p:spPr>
          <a:xfrm>
            <a:off x="6948360" y="3357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У прес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Text Box 143"/>
          <p:cNvSpPr/>
          <p:nvPr/>
        </p:nvSpPr>
        <p:spPr>
          <a:xfrm>
            <a:off x="6948360" y="378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Друкова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Text Box 144"/>
          <p:cNvSpPr/>
          <p:nvPr/>
        </p:nvSpPr>
        <p:spPr>
          <a:xfrm>
            <a:off x="6948360" y="4149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Аудіовізуаль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Text Box 145"/>
          <p:cNvSpPr/>
          <p:nvPr/>
        </p:nvSpPr>
        <p:spPr>
          <a:xfrm>
            <a:off x="6948360" y="4508640"/>
            <a:ext cx="1944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 електронних ЗМІ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146"/>
          <p:cNvSpPr/>
          <p:nvPr/>
        </p:nvSpPr>
        <p:spPr>
          <a:xfrm>
            <a:off x="6948360" y="486900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Пряма поштов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Text Box 147"/>
          <p:cNvSpPr/>
          <p:nvPr/>
        </p:nvSpPr>
        <p:spPr>
          <a:xfrm>
            <a:off x="6948360" y="522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Зовнішн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Text Box 148"/>
          <p:cNvSpPr/>
          <p:nvPr/>
        </p:nvSpPr>
        <p:spPr>
          <a:xfrm>
            <a:off x="6948360" y="5589720"/>
            <a:ext cx="194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800080"/>
                </a:solidFill>
                <a:latin typeface="Times New Roman"/>
              </a:rPr>
              <a:t>Інтернет-реклама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Text Box 149"/>
          <p:cNvSpPr/>
          <p:nvPr/>
        </p:nvSpPr>
        <p:spPr>
          <a:xfrm>
            <a:off x="6948360" y="5877000"/>
            <a:ext cx="1944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иставково-ярмаркова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Text Box 150"/>
          <p:cNvSpPr/>
          <p:nvPr/>
        </p:nvSpPr>
        <p:spPr>
          <a:xfrm>
            <a:off x="6948360" y="630864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увенір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2" name="explod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28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єкти рекламного процесу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в міжнародному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Принципова схема рекламного процесу складається з чотирьох ланок (суб</a:t>
            </a:r>
            <a:r>
              <a:rPr b="0" i="1" lang="en-US" sz="2000" spc="-1" strike="noStrike">
                <a:solidFill>
                  <a:srgbClr val="1b3753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єктів) та виглядає наступним чино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179280" y="24922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одавець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395280" y="364500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не агенство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755640" y="479736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900000" y="59500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Споживач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2195640" y="306864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356000" y="4221000"/>
            <a:ext cx="0" cy="5749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7020000" y="537372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Рекламодавц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одавець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юридична або фізична особа, що є замовником реклами у рекламного 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енства та яка оплачує її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сновні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функції рекламодавця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оварів,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тому числі експортних, що потребують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енством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міри та особливостей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ування цих товар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Форму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плану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ної продукції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а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Опрацю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бюджету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и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і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Укладання угоди з а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енство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на створення рекламних матеріалів, розміщення реклами у засобах її розповсюдження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опомога виконавця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підготовці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вихідних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матеріал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Надання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ехнічних та фактичних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аних про продукцію та послуг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ехнічні консультації, затвердження макет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них матеріалів та оригіналів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Оплата рахунк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виконавця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0" y="1628640"/>
            <a:ext cx="8918640" cy="516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До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в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лежать виробники, роздрібні торговці, оптові торговці, фірми послуг, дистриб'ютори, профспілки, приватні особи і багато хто інш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Загальнонаціональні та міжнародн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складають велику частину. Зазвичай це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виробники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, тобто фірми, що випускають товари, з якими ми зустрічаємося в універсамах, демонстраційних залах, на виставках і т.д. Серед найбільш інтенсивно рекламованих товарів – продукти харчування, туалетні засоби, автомобілі, ліки і лікувальні засоби, побутові послуги, пиво, вино, тютюн, легкі закуски і безалкогольні напої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 частку 10 найбільших загальнонаціональних рекламодавців припадає майже 70% загальних витрат на рекламу в країн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Місцев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– це головним чином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роздрібні торговці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. Прагнучи відігравати роль агентів із закупівлі своєї округи, роздрібні торговці витрачають на рекламу великі кошти, щоб повідомити населенню, що вони закупили для людей, і обґрунтувати, чому варто робити закупівлі саме в них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Рекламні а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ґ</a:t>
            </a: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енств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Рекламні а</a:t>
            </a:r>
            <a:r>
              <a:rPr b="1" i="1" lang="ru-RU" sz="2200" spc="-1" strike="noStrike">
                <a:solidFill>
                  <a:srgbClr val="003399"/>
                </a:solidFill>
                <a:latin typeface="Tahoma"/>
              </a:rPr>
              <a:t>ґ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енства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крім робіт, що виконуються спільно з рекламодавцям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за їх замовленнями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творчі та виконавські функції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ов</a:t>
            </a:r>
            <a:r>
              <a:rPr b="0" i="1" lang="en-US" sz="22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язані зі створенням рекламних матеріалів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Виготовля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ригінали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водя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мплексні рекламні компан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кремі рекламні заход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заємодію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 виробничими базами, з іншими рекламними та видавничими фірмами, у тому числ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арубіжни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в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зок із засобами розповсюдж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и, розміщують в них замовлення на публікацію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нтролюють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ходження 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кіс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виконання замовлень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иставля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одавцям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сплачу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асобів розповсюдження реклами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-15840" y="1468440"/>
            <a:ext cx="8970840" cy="574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Повносервісне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рекламне аґенство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зазвичай володіє широким колом висококваліфікованих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позаштатних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творчих співробітників та виконавців і при значних обсягах міжнародної діяльності має комерційних аґентів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за кордоном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Зазвичай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основу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рекламного аґентства складаю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4 відділ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творч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розробкою і виробництвом рекламних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ідділ засобів реклами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відповідальний за вибір засобів реклами  і розміщення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дослідницьк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вивчає характеристики і потреби аудиторії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комерційн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комерційною стороною діяльності аґенства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Як правило, аґентства пропонують потенційним клієнтам послуги різних фахівців, серед яких текстовики, художники, продюсери телебачення і радіо, фахівці з рекламних засобів, дослідники та ін.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Засіб розповсюдження реклами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– це канал інформації, по якому рекламне звернення доходить до споживачів. В рекламному процесі засіб розповсюдження реклами зазвичай представлений організацією, що є володарем каналу інформації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Рекламодавці та рекламні 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 розглядают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асоби масової інформації як носіїв, що доводять рекламні звернення до аудиторії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ібраної завдяки основному </a:t>
            </a: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(нерекламному)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 матеріалу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що пропонують радіо- і телестанції, газети чи журнали. Оскільки доходи журналів і газет на 60 – 70%, а доходи установ телебачення і радіо майже на всі 100% складаються з надходжень за рекламу, рекламодавців і їхні агентства всіляко підтримують і  “підгодовують”, не шкодуючи на це величезних витрат часу і зусил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44280" y="1528920"/>
            <a:ext cx="8850600" cy="40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Таким чином,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журнали, газети, телевізійні і радіостанції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азвичай залучають потрібну аудиторію своїм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нерекламним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містом, а рекламодавець одержує можливість звернутися саме до цієї аудиторії.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Іншим  засобам реклами,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щоб привернути  увагу визначеної аудиторії, доводиться покладатися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винятково на саме  рекламне зверн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. Важливу роль сполучної ланки між рекламодавцями і потенційними покупцями грають пряма поштова реклама, плакати, щити, рекламні планшети в громадському транспорті, а також рекламне оформлення торгових приміщень.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0" y="5300640"/>
            <a:ext cx="8964720" cy="109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Реклама – це передусім форма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го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вмовляння, і вступити в контакт з аудиторією їй допомагають засоби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ї</a:t>
            </a:r>
            <a:r>
              <a:rPr b="1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інформації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explode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Споживач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Споживач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– той, на кого спрямоване рекламне звернення з метою спонукати його здійснити певну дію, у якій зацікавлений рекламодавец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До недавнього часу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активними учасниками рекламного процесу  були лише перші три ланки, а споживачу відводилас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пасивна роль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елемента аудиторії, що підлягає рекламному вплив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Зараз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споживач стає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активним учасником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рекламного процесу, часто його ініціатором. За власним бажанням він робить запити від рекламного 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, засобу розповсюдження реклами або рекламодавця потрібну йому інформацію, тобто виступає у якості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генератора зворотного зв</a:t>
            </a:r>
            <a:r>
              <a:rPr b="1" i="1" lang="en-US" sz="24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язк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1:02Z</dcterms:modified>
  <cp:revision>488</cp:revision>
  <dc:subject>Conference</dc:subject>
  <dc:title>Duk N., Dnipropetrovs’k national university </dc:title>
</cp:coreProperties>
</file>