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4F14-B85C-451E-ABA1-D210BB950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F18A-4055-43F8-81E8-5A397A621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B38D-0880-4852-9F0C-E3387CE8E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215C-1206-4452-B4F9-34E7880A8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891B-A8E1-4349-94B1-D24D93360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CACE-96E2-4218-B030-AE3B742EF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3926-E146-4D1B-8A23-DE9C9CB9E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E77C-D7F9-4E57-89AC-86958CB5F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A4A2-ECC0-412A-9015-F01B3F915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559E-9EB2-478E-9007-F9857DE10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23F5-8631-4A78-BB99-CC12773E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7E1C-3CC8-46C5-B2A6-FD980746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0090E-1BFB-4832-AF20-5B8D450CE9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14520" y="2214720"/>
            <a:ext cx="507204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ема: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icrosoft Office Project 20</a:t>
            </a:r>
            <a:r>
              <a:rPr b="1" lang="pl-PL" sz="4000" spc="-1" strike="noStrike">
                <a:solidFill>
                  <a:srgbClr val="000000"/>
                </a:solidFill>
                <a:latin typeface="Calibri"/>
              </a:rPr>
              <a:t>10</a:t>
            </a:r>
            <a:br>
              <a:rPr sz="4000"/>
            </a:br>
            <a:r>
              <a:rPr b="0" lang="ru-RU" sz="3500" spc="-1" strike="noStrike">
                <a:solidFill>
                  <a:srgbClr val="000000"/>
                </a:solidFill>
                <a:latin typeface="Calibri"/>
              </a:rPr>
              <a:t>План</a:t>
            </a:r>
            <a:br>
              <a:rPr sz="29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.1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зработка календарного графика проекта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.2 Управление ресурсами проек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http://1.bp.blogspot.com/-_oVlUNGWW-M/U9wWztYxHCI/AAAAAAAABBk/NOzGdPXEYLA/s1600/Microsoft-Office-Project-Professional-2007-Front-Cover-35389.jpg"/>
          <p:cNvPicPr/>
          <p:nvPr/>
        </p:nvPicPr>
        <p:blipFill>
          <a:blip r:embed="rId1"/>
          <a:stretch/>
        </p:blipFill>
        <p:spPr>
          <a:xfrm>
            <a:off x="0" y="1428840"/>
            <a:ext cx="42861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932508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Существует следующие типы взаимосвязей работ (этапов)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оугольник 6"/>
          <p:cNvSpPr/>
          <p:nvPr/>
        </p:nvSpPr>
        <p:spPr>
          <a:xfrm>
            <a:off x="611280" y="1197000"/>
            <a:ext cx="82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Окончание-Начало»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оследующая операция не может начаться ранее, чем завершится предыдуща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5400720" cy="79056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8"/>
          <p:cNvSpPr/>
          <p:nvPr/>
        </p:nvSpPr>
        <p:spPr>
          <a:xfrm>
            <a:off x="395280" y="263700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Окончание - Окончание»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оследующая операция должна завершиться не позднее предшествующ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3132000" y="3429000"/>
            <a:ext cx="2735280" cy="137304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10"/>
          <p:cNvSpPr/>
          <p:nvPr/>
        </p:nvSpPr>
        <p:spPr>
          <a:xfrm>
            <a:off x="468360" y="4941720"/>
            <a:ext cx="82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Начало - Начало»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оследующая операция начинается не раньше начала предшествующей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3"/>
          <a:stretch/>
        </p:blipFill>
        <p:spPr>
          <a:xfrm>
            <a:off x="3995640" y="5381640"/>
            <a:ext cx="300060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932508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Существует следующие типы взаимосвязей работ (этапов)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оугольник 6"/>
          <p:cNvSpPr/>
          <p:nvPr/>
        </p:nvSpPr>
        <p:spPr>
          <a:xfrm>
            <a:off x="611280" y="1197000"/>
            <a:ext cx="82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Начало - Окончание»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оследующая операция заканчивается не раньше начала предшествующ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2268360" y="2060640"/>
            <a:ext cx="3343320" cy="153360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9"/>
          <p:cNvSpPr/>
          <p:nvPr/>
        </p:nvSpPr>
        <p:spPr>
          <a:xfrm>
            <a:off x="250920" y="3716280"/>
            <a:ext cx="8569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иболее часто используются связи тип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Окончание - Начало»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иболее редк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«Начало - Окончание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оме типа взаимосвязи, информация о связи операций может содержать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апаздыва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Запаздывание может быть как положительным, так и отрицательным. Положительное запаздывание называется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переж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а отрицательное –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адерж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имер: последующую работу можно начать не ранее, чем через неделю после начала предшествующей. Это описывается связью «Начало - Начало» с задержкой в одну недел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нтрольные событ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оугольник 3"/>
          <p:cNvSpPr/>
          <p:nvPr/>
        </p:nvSpPr>
        <p:spPr>
          <a:xfrm>
            <a:off x="539640" y="1413000"/>
            <a:ext cx="813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аждом из проектов должны быть задачи, не имеющие длительности, так называемые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«Контрольные события» (вехи)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ычно они отображают наступление важных событий проекта (например, «Подписан договор отвода земельного участка»), достижение запланированных результа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1258920" y="4508640"/>
            <a:ext cx="6649920" cy="214776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6"/>
          <p:cNvSpPr/>
          <p:nvPr/>
        </p:nvSpPr>
        <p:spPr>
          <a:xfrm>
            <a:off x="539640" y="299736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того, что задачу сделать вехой, необходимо в «Сведениях о задаче», на закладке «Дополнительно» поставить галочку «Пометить задачу как веху». Для того чтобы вставить новую веху в проект, необходимо на закладке «Задача» в области «Вставить» нажать кнопку «Веха»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108360" y="259920"/>
            <a:ext cx="511164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Установление ограничений и </a:t>
            </a:r>
            <a:r>
              <a:rPr b="1" lang="ru-RU" sz="3800" spc="-1" strike="noStrike">
                <a:solidFill>
                  <a:srgbClr val="000000"/>
                </a:solidFill>
                <a:latin typeface="Calibri"/>
              </a:rPr>
              <a:t>крайних сроков задач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оугольник 3"/>
          <p:cNvSpPr/>
          <p:nvPr/>
        </p:nvSpPr>
        <p:spPr>
          <a:xfrm>
            <a:off x="324000" y="2060640"/>
            <a:ext cx="41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Microsoft Project 201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зволяет устанавливать на задач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граниче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райние сро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6"/>
          <p:cNvSpPr/>
          <p:nvPr/>
        </p:nvSpPr>
        <p:spPr>
          <a:xfrm>
            <a:off x="395280" y="3500280"/>
            <a:ext cx="820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ачестве ограничений могут выступать контрактные даты начала, окончания зада, даты поставок, информация о доступности того или иного ресурса. Установка ограничений влияет на график расчета прое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Картинки по запросу крайний срок проекта"/>
          <p:cNvPicPr/>
          <p:nvPr/>
        </p:nvPicPr>
        <p:blipFill>
          <a:blip r:embed="rId1"/>
          <a:stretch/>
        </p:blipFill>
        <p:spPr>
          <a:xfrm>
            <a:off x="4867200" y="0"/>
            <a:ext cx="4276800" cy="320976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7"/>
          <p:cNvSpPr/>
          <p:nvPr/>
        </p:nvSpPr>
        <p:spPr>
          <a:xfrm>
            <a:off x="395280" y="4508640"/>
            <a:ext cx="820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того чтобы установить тот или иной тип ограничения, необходимо перейти в свойства задачи на закладку «Дополнительно» и выбрать тип ограничения и дату его наступ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8"/>
          <p:cNvSpPr/>
          <p:nvPr/>
        </p:nvSpPr>
        <p:spPr>
          <a:xfrm>
            <a:off x="395280" y="546876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личие у задачи крайнего срока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не влияет на расчет проект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тличие от ограничений. В случае установки у задачи крайнего срока, на диаграмме Ганта у такой задачи появится зеленая стрелка, а в случае срыва крайнего срока, в колонке «і», у такой задачи загорится красный индикат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108000" y="259920"/>
            <a:ext cx="89280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ЕЗЕНТАЦИЯ ПРОЕК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ямоугольник 8"/>
          <p:cNvSpPr/>
          <p:nvPr/>
        </p:nvSpPr>
        <p:spPr>
          <a:xfrm>
            <a:off x="324000" y="3141720"/>
            <a:ext cx="835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Microsoft Project 2010 появилась новая функциональность 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ременная шкала (timeline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которая может быть использована для презентации проекта, защиты проекта и/или отчет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Картинки по запросу временная шкала (timeline),  project"/>
          <p:cNvPicPr/>
          <p:nvPr/>
        </p:nvPicPr>
        <p:blipFill>
          <a:blip r:embed="rId1"/>
          <a:stretch/>
        </p:blipFill>
        <p:spPr>
          <a:xfrm>
            <a:off x="246240" y="907920"/>
            <a:ext cx="88977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Microsoft Office Project 20</a:t>
            </a: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2876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Microsoft Office Project 2010 – это комплексное решение корпорации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Microsoft по управлению корпоративными проектами, которое позволяет управлять проектами любой сложности и включает в себя семейство следующих программных продуктов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MS Office Project Standart – пакет начального уровня для управления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стыми проектам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MS Office Project Professional – пакет для профессионального управления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ектами любой сложности на любом уровне управле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MS Office Project Server – серверный продукт, который используется для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заимодействия менеджеров проекта при управлении распределенными проектам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S Office Project Web Access 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еб-интерфейс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S Project,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зволяющий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частникам проектов получить доступ к проектной информации через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net Explor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Microsoft Office Project 20</a:t>
            </a: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2876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MS Project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зволяет эффективно управлять всеми задачами и ресурсами проекта, определять дату завершения работ, отслеживать выполнение работ по проекту, создавать различные виды отчетной документации. Данные проекта можно рассматривать в виде таблиц, диаграмм и график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ЦЕЛИ МОДЕЛИРОВАНИЯ ПРОЕКТОВ В MICROSOFT PROJECT 2010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39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оделирование проектов в Microsoft Project 2010 позволяет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 составить план производства работ, включающий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) сроки исполнения работ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b) потребность в ресурсах (людях, механизмах, материалах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c) необходимые затрат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 рассчитать бюджет проекта и распределение запланированных затрат во времен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 рассчитать распределение во времени потребностей проекта в основных материалах и оборудовани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. определить оптимальный состав ресурсов (людей и механизмов) проекта и распределение во времени их плановой загрузки и количественного состава; денежных средств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ЦЕЛИ МОДЕЛИРОВАНИЯ ПРОЕКТОВ В MICROSOFT PROJECT 2010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. разработать оптимальную схему финансирования работ, поставок материалов и оборудования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6. проанализировать риски и определить необходимые резервы для надежной реализации проект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7. обеспечить информационную и аналитическую поддержку для эффективного взаимодействия подразделений организации и других участников проект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8. эффективно контролировать исполнение составленного план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9. получать необходимую отчетность по проекту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0. анализировать отклонения фактического хода выполнения работ от запланированного, своевременно и обоснованно корректировать плановые показател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ЦЕЛИ МОДЕЛИРОВАНИЯ ПРОЕКТОВ В MICROSOFT PROJECT 2010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28760" y="1357200"/>
            <a:ext cx="822960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1. моделировать любые решения, например, о замене одних механизмов на другие, изменение схемы финансирования, изменение схемы поставок ключевого оборудования и др., а также анализировать их последствия для проекта на модели и принимать обоснованные управленческие решения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2. вести архивы проектов и анализировать опыт их реализации, который может быть использован в других проектах, и многое друго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оздание перечня задач с оценкой их продолжительн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28760" y="1357200"/>
            <a:ext cx="822960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 создания нового проекта можно выполнить команду мен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айл-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&gt;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озда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тобы задать различные характеристики проекта, выполните команд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еню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оект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&gt;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ведения о проекте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500040" y="2928960"/>
            <a:ext cx="5334120" cy="354312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4"/>
          <p:cNvSpPr/>
          <p:nvPr/>
        </p:nvSpPr>
        <p:spPr>
          <a:xfrm>
            <a:off x="5929200" y="3000240"/>
            <a:ext cx="3214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ект можно планировать двумя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пособам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 даты начала проек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 даты окончания. Задай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ланирование - от даты начала проек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лендарь - Стандартн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3851280" cy="15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етод планирования прое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240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етод планирования </a:t>
            </a:r>
            <a:r>
              <a:rPr b="1" lang="ru-RU" sz="2500" spc="-1" strike="noStrike" u="sng">
                <a:solidFill>
                  <a:srgbClr val="000000"/>
                </a:solidFill>
                <a:uFillTx/>
                <a:latin typeface="Calibri"/>
              </a:rPr>
              <a:t>от даты начала проекта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значает, что все задачи будут начинаться как можно раньше, и на основании их длительностей и зависимостей между ними, мы узнаем дату окончания проекта. Если мы выберем метод планирования </a:t>
            </a:r>
            <a:r>
              <a:rPr b="1" lang="ru-RU" sz="2500" spc="-1" strike="noStrike" u="sng">
                <a:solidFill>
                  <a:srgbClr val="000000"/>
                </a:solidFill>
                <a:uFillTx/>
                <a:latin typeface="Calibri"/>
              </a:rPr>
              <a:t>от даты окончания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оекта, то все задачи будут начинаться как можно позже, и на основании даты окончания проекта, длительностей и зависимостей между задачами проекта мы узнаем, когда необходимо начать проект, чтобы закончить его к дате окончания проект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Картинки по запросу Метод планирования проекта"/>
          <p:cNvPicPr/>
          <p:nvPr/>
        </p:nvPicPr>
        <p:blipFill>
          <a:blip r:embed="rId1"/>
          <a:stretch/>
        </p:blipFill>
        <p:spPr>
          <a:xfrm>
            <a:off x="3957480" y="0"/>
            <a:ext cx="518652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3851280" cy="15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пределение иерархической структуры прое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24000" y="206064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моделирования этапов в Microsoft Project 2010 используются суммарные задачи. Для того чтобы создать этап (суммарную задачу) «Инициация проекта» необходимо на закладке «Задача», в области «Вставить» нажать на пиктограмме «Суммарная задача»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Картинки по запросу Метод планирования проекта"/>
          <p:cNvPicPr/>
          <p:nvPr/>
        </p:nvPicPr>
        <p:blipFill>
          <a:blip r:embed="rId1"/>
          <a:stretch/>
        </p:blipFill>
        <p:spPr>
          <a:xfrm>
            <a:off x="3957480" y="0"/>
            <a:ext cx="5186520" cy="1655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1476360" y="3141720"/>
            <a:ext cx="6191280" cy="34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 Windows</cp:lastModifiedBy>
  <dcterms:modified xsi:type="dcterms:W3CDTF">2020-09-06T21:35:32Z</dcterms:modified>
  <cp:revision>99</cp:revision>
  <dc:subject/>
  <dc:title>Тема: МЕТОДОЛОГИЯ УПРАВЛЕНИЯ ИНФОРМАЦИОННЫМИ ПРОЕКТАМИ  </dc:title>
</cp:coreProperties>
</file>