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81C-D43E-4109-8F07-9CCF3165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745-440D-4EBC-9C50-8351583C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0BC2-26EE-4D1C-9B0F-069C2C02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A74-4A9C-4ADC-90DB-0DCA09A5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0B69-C97F-4FAE-B9B3-D266D816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B8B1-6A1D-42BE-B1A8-DDD81CA4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36A4-1E93-4DD7-8598-C75D3AD9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8640-59DC-4C8C-9A13-5E8E3C19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7583-E41F-4522-94EB-C4F0FD13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A520-8516-4A5B-889D-ECFDB06D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7B3E-6272-4F8C-BBB8-3D607BA7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6FF-B2AF-4D94-8448-0CC062B3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B9A6-904D-41D0-83C1-25FF45F9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6566-4B13-49C8-9DE7-167D5CC0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6FA5-2BF0-4EE6-ADA9-277B514F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48F4-7F42-4F5D-8565-1F7BDF01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408B-ED66-407A-878F-EB512AEC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953-F2FF-462D-AB50-71A87CA0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2DA9-230E-4C65-ADDA-997FFB3F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BE57-A1AF-4D85-BF67-767C789D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4704-9FD1-4F0F-BAAE-C1F41BD0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5C5-2E1B-4980-8064-5D33356E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5A3-58C9-451D-838F-35A90845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D866-1007-4557-A604-06D342C6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9BC2-2FDC-45A9-959D-191D513EEB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FC20-B5F9-4B41-9474-1CBE809BC2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ТЕМА 8. Трудотерапия как средство реабилита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trudoterapiya"/>
          <p:cNvPicPr/>
          <p:nvPr/>
        </p:nvPicPr>
        <p:blipFill>
          <a:blip r:embed="rId1"/>
          <a:stretch/>
        </p:blipFill>
        <p:spPr>
          <a:xfrm>
            <a:off x="1619280" y="2840040"/>
            <a:ext cx="604188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сновные принципы трудовой терап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6. Проведение трудовой терапии требует постоянной коррекции на основе результатов обратной связ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нтроль за ходом реабилитационного процесса позволяет вовремя обнаружить нежелательные отклонения, предотвратить возможность развития «отрицательных» компенсаций, дозировать нагрузки в зависимости от состояния пациент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рудотерапия - виды деятельност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141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пка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сарные и столярные работы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Шитье, вязание  плетение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d177d1e87a83220e3a1ed170a424902b"/>
          <p:cNvPicPr/>
          <p:nvPr/>
        </p:nvPicPr>
        <p:blipFill>
          <a:blip r:embed="rId1"/>
          <a:stretch/>
        </p:blipFill>
        <p:spPr>
          <a:xfrm>
            <a:off x="4344840" y="1844640"/>
            <a:ext cx="4799160" cy="3195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896"/>
          <p:cNvPicPr/>
          <p:nvPr/>
        </p:nvPicPr>
        <p:blipFill>
          <a:blip r:embed="rId2"/>
          <a:stretch/>
        </p:blipFill>
        <p:spPr>
          <a:xfrm>
            <a:off x="395280" y="5064120"/>
            <a:ext cx="23907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рудотерапия - виды деятельност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орка помещений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та в огороде и саду и други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S1050467"/>
          <p:cNvPicPr/>
          <p:nvPr/>
        </p:nvPicPr>
        <p:blipFill>
          <a:blip r:embed="rId1"/>
          <a:stretch/>
        </p:blipFill>
        <p:spPr>
          <a:xfrm>
            <a:off x="4572000" y="1700280"/>
            <a:ext cx="43149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обенности трудотерапии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243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обходимо проводить в специальных хорошо оборудованных помещениях или в кабинетах (стационар), которые  желательно располагать вблизи массажного кабинета, бассейна, физиотерапии, зала для ЛФК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218251_600"/>
          <p:cNvPicPr/>
          <p:nvPr/>
        </p:nvPicPr>
        <p:blipFill>
          <a:blip r:embed="rId1"/>
          <a:stretch/>
        </p:blipFill>
        <p:spPr>
          <a:xfrm>
            <a:off x="1332000" y="1700280"/>
            <a:ext cx="667368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рудотерапия — лечение трудом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удотерапия направлена на предупреждение развития патологических изменений, проявляющихся в тканях опорно-двигательного аппарата, которые ограничивают двигательную функцию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рудотерапия — лечение трудом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вреждения, разные ортопедические болезни, патологии позвоночника и нервной системы приводят к развитию у больных тяжелых функциональных расстройств, которые нарушают трудоспособность и приводят к инвалидности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трудотерапии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азание психологического и общеукрепляющего воздействия на организм пациента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циальная реинтеграци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сстановление функций, которые были утрачены, бытовых и профессиональных навы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640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сновные факторы, применяемые для  трудотерапии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ределение уровня профессиональной трудоспособности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готовление простых приспособлений, которые помогут выработать у пациента навыки самообслуживания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становление рабочих навыков, двигательных функций и обучение видам деятельности, которые пригодятся больному в повседневной жизн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ерапия трудом и занятие трудом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терапии трудо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применяют в лечебных целях разнообразные трудовые операции и процессы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3280" y="1752480"/>
            <a:ext cx="4500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анятиях трудо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свободное время пациента заполняется изготовлением сувениров, лепкой, рисованием, что  улучшает психоэмоциональное состояние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рудотерап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метод восстановления функций организма больного челове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ктивный метод по восстановлению трудоспособности больного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различные трудовые процессы, применяемые по медицинским показаниям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 терапии трудом выделяют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ри 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формы: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оизводственная трудотерап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которая подготавливает пациента к профессиональной деятельности. Такая форма трудотерапии осуществляется в близких условиях к  производству (на стендах, тренажерах, станках и так далее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Производственная трудотерап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7" descr="images (1)"/>
          <p:cNvPicPr/>
          <p:nvPr/>
        </p:nvPicPr>
        <p:blipFill>
          <a:blip r:embed="rId1"/>
          <a:stretch/>
        </p:blipFill>
        <p:spPr>
          <a:xfrm>
            <a:off x="539640" y="1700280"/>
            <a:ext cx="3961080" cy="3908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images"/>
          <p:cNvPicPr/>
          <p:nvPr/>
        </p:nvPicPr>
        <p:blipFill>
          <a:blip r:embed="rId2"/>
          <a:stretch/>
        </p:blipFill>
        <p:spPr>
          <a:xfrm>
            <a:off x="4500720" y="1773360"/>
            <a:ext cx="40957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 терапии трудом выделяют три основные формы: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Общеукрепляющая трудотерап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которая направлена на поддержание трудоспособности в ситуации с длительным течением болезн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бщеукрепляющая трудотерап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4" descr="occupational-therapy-department"/>
          <p:cNvPicPr/>
          <p:nvPr/>
        </p:nvPicPr>
        <p:blipFill>
          <a:blip r:embed="rId1"/>
          <a:stretch/>
        </p:blipFill>
        <p:spPr>
          <a:xfrm>
            <a:off x="611280" y="1844640"/>
            <a:ext cx="76197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 терапии трудом выделяют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ри 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формы: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осстановительная трудотерап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которая направлена на восстановление потерянных функций или предупреждение расстройств движ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Восстановительная трудотерап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3"/>
          <p:cNvPicPr/>
          <p:nvPr/>
        </p:nvPicPr>
        <p:blipFill>
          <a:blip r:embed="rId1"/>
          <a:stretch/>
        </p:blipFill>
        <p:spPr>
          <a:xfrm>
            <a:off x="1619280" y="1773360"/>
            <a:ext cx="619272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сстановление потерянной двигательной функции может быть осуществлена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двумя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путям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259056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аптацией пациента к труд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32000" y="259056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витием потерянных двигательных функций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Группы трудовых операций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удотерапия, которая развивает координацию движений и увеличение чувствительности пальцев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печатание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летение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язани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 другие упражн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Группы трудовых операций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удотерапия, которая развивает силу и выносливость мышц в руках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работа напильником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банком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лепк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 друг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Группы трудовых операций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удотерапию облегченного режим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изготовление марлевых масок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ролоновых игрушек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матывание ниток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ртонажные работ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 друг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у трудотерапии составляют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сстановление двигательных навыков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ческие тренировки производственных и бытовых движен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загруженное"/>
          <p:cNvPicPr/>
          <p:nvPr/>
        </p:nvPicPr>
        <p:blipFill>
          <a:blip r:embed="rId1"/>
          <a:stretch/>
        </p:blipFill>
        <p:spPr>
          <a:xfrm>
            <a:off x="4643280" y="2565360"/>
            <a:ext cx="427068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ериоды трудотерапии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4" descr="5"/>
          <p:cNvPicPr/>
          <p:nvPr/>
        </p:nvPicPr>
        <p:blipFill>
          <a:blip r:embed="rId1"/>
          <a:stretch/>
        </p:blipFill>
        <p:spPr>
          <a:xfrm>
            <a:off x="1116000" y="1700280"/>
            <a:ext cx="68342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ериод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лительность - от двух до четырех недель, начиная от момента повреждения и до момента первых элементов реабилитац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ериод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мерно с третьих суток уже рекомендуют пассивные и активные упражнения, а также легкие трудовые процессы, которые выполняются не травмированной конечностью и пальцами поврежденной рук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I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ерио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тяженность — 3-4 недел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екомендуется: расширение комплекса ЛФК и упражнений, выполнение которых требует участия поврежденной руки.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II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ерио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лительность — от 6 месяцев и дольш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ериод начинается после выписки пациента из клиники и занимает весь  восстановительный период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домашних условиях и в поликлинике в течение длительного времени проводят массаж, ЛФК и трудовую терапию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движ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, которые развивают навыки самообслуживания, работа в саду, уборка помещения и подобные им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комендованы столярные работы, машинопись, рисование, разборка малых деталей, изготовление игрушек из картона, вязание, лепка, вышивание, плетение и други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движения (классификация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 подбору манипуляций, величине нагрузки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 достигаемому освоению движени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 локализации действий на опорно-двигательный аппарат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На дозирование нагрузки влияет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бочая поза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арактер работы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ежим труда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с инструмента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ъем работы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лительность выполнения работы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Дозирование нагрузки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еобходимо сочетать с лечением положением, массажем, ЛФК (особенно перед процедурами)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водится каждый день или через день и длится от получаса до сорока пяти минут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Правила дозирования нагрузки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накомство пациента с движением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каз техники его выполнения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мощь в приобретении трудовых навыков посредством многократного повторения движ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лавный принцип трудотерапи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ормализуя психику и стимулируя функции пораженного органа, трудотерапия является главной составляющей в системе реабилитации пациентов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Виды выполняемых работ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 некоторых заболеваниях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4" descr="1052_0_300_300"/>
          <p:cNvPicPr/>
          <p:nvPr/>
        </p:nvPicPr>
        <p:blipFill>
          <a:blip r:embed="rId1"/>
          <a:stretch/>
        </p:blipFill>
        <p:spPr>
          <a:xfrm>
            <a:off x="2411280" y="2382840"/>
            <a:ext cx="453564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Заболевания ОДА верхних конечностей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бота в оранжерее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бота на станке для шлифовки изделий из керамик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 ткацком станке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лесарные работы (ручные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жигание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олярные работы (ручные)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пиливание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ашинопись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лепка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летение и вязание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сихические болезни, инсульты, повреждения ЦНС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вмещают с массажем и лечебной гимнастико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еред ее проведением также обязательно проводят упражнения и либо массаж (самомассаж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Проводимые упражнения вызывать болезненные ощущения у пациентов не должны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Упражнения, призванные помочь освоить бытовые навыки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 помещениях, в которых находятся стенды с закрепленными на них наборами бытовых приборов,  пациенты не только тренируются в самообслуживании, но также и тренируют захват поврежденной рукой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Упражнения, призванные помочь освоить бытовые навыки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 помещениях, в которых находятся стенды с закрепленными на них наборами бытовых приборов,  пациенты не только тренируются в самообслуживании, но также и тренируют захват поврежденной рукой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тенд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 бытовых стендах присутствуют водопроводные краны, замки с ключами, вилки, выключатели, разнообразные дверные ручки и так далее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32360" y="1752480"/>
            <a:ext cx="3635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 стендах производственного плана закреплены выключатели, рубильники, болты и тому подобные вещ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тен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4" descr="121869_html_764a2235"/>
          <p:cNvPicPr/>
          <p:nvPr/>
        </p:nvPicPr>
        <p:blipFill>
          <a:blip r:embed="rId1"/>
          <a:stretch/>
        </p:blipFill>
        <p:spPr>
          <a:xfrm>
            <a:off x="900000" y="1741320"/>
            <a:ext cx="7632720" cy="41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рудотерапия в ортопедии и травматолог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4" descr="images (2)"/>
          <p:cNvPicPr/>
          <p:nvPr/>
        </p:nvPicPr>
        <p:blipFill>
          <a:blip r:embed="rId1"/>
          <a:stretch/>
        </p:blipFill>
        <p:spPr>
          <a:xfrm>
            <a:off x="684360" y="1916280"/>
            <a:ext cx="769140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рудотерапия в ортопедии и травматолог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 ситуации, связанной с наложением гипсовой повязки, пациент должен выполнять самообслуживание не только здоровой рукой, но и помогать себе пальцами травмированной рук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 период после снятия гипса, процедуры направленные на восстановление, преследуют такую цель как увеличение амплитуды движений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рудотерапия в ортопедии и травматолог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жно назначать сортирование деталей, изготовление игрушек из бумаги, проклеивание конвертов, глажение бель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должительность подобных занятий должна достигать четверти часа и  повторяться не менее 2 раз в день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сновные принципы трудовой терап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метод выбор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удотерапия является одним из наиболее доступных Реабилитационных методов, имеющих ограниченное число Противопоказаний. Для лечения трудом практически отсутствуют возрастные огранич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рудотерапия в ортопедии и травматолог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течением времени процессы трудовой терапии усложняют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швейные работы, плетение, картонажные работы (склеивание коробок, конвертов), шлифование, работу рубанко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величивают и продолжительность работ (примерно вдвое), частоту выполнения упражнений оставляют на прежнем уровн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ако в перерывы между выполнением упражнений включают  либо криомассаж, либо самомассаж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рудотерапия в ортопедии и травматолог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Через 1-1,5 месяца реабилитации, начинают применять трудотерапию, которая требует больших статических и динамических усилий, прилагаемых пациентом. 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то слесарные работы, протирание стекол, столярные работы и подобные им (не менее двух раз в день, а продолжительность увеличивают до сорока минут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язательно наличие паузы для массажа и отдых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рудотерапия при повреждении нервов верхних конечностей и плечевого сплетения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вих плеча, переломы ключицы и плечевых костей часто сопровождаются травмами периферических нервов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начальном этапе используют простые движения, затем рекомендуют более активные с использованием тренажеров и предметов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рудотерапия при повреждении нервов верхних конечностей и плечевого сплетения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4" descr="загруженное (2)"/>
          <p:cNvPicPr/>
          <p:nvPr/>
        </p:nvPicPr>
        <p:blipFill>
          <a:blip r:embed="rId1"/>
          <a:stretch/>
        </p:blipFill>
        <p:spPr>
          <a:xfrm>
            <a:off x="179280" y="2205000"/>
            <a:ext cx="4103640" cy="3270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09"/>
          <p:cNvPicPr/>
          <p:nvPr/>
        </p:nvPicPr>
        <p:blipFill>
          <a:blip r:embed="rId2"/>
          <a:stretch/>
        </p:blipFill>
        <p:spPr>
          <a:xfrm>
            <a:off x="4716360" y="1700280"/>
            <a:ext cx="391176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рудотерапия при двигательных расстройствах рук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переломах костей в локтевом суставе, травмах ключично-акромиального сочленения, плечевого пояса, вывихе головки и травмах проксимального конца плечевой кости трудотерапия показана!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равмы нижних конечносте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травмах нервной периферической системы, ахиллова сухожилия, голеностопного сустава и переломах костей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удотерапию необходимо начинать в как можно более раннем периоде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комплексном лечении травм нижних конечностей применяют массаж, гимнастику и трудотерапию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рудотерапия в лечении послеродовых плекситов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комплексном лечении парезов у детей, возникающих вследствие родовых травм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Лечение также включает в себя помимо трудотерапии гимнастику, физиотерапию, массаж. 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5" descr="images (4)"/>
          <p:cNvPicPr/>
          <p:nvPr/>
        </p:nvPicPr>
        <p:blipFill>
          <a:blip r:embed="rId1"/>
          <a:stretch/>
        </p:blipFill>
        <p:spPr>
          <a:xfrm>
            <a:off x="4859280" y="2349360"/>
            <a:ext cx="40276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рудотерапия в лечении ДЦП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+обучение ходьбе, ЛФК в воде, тренировки бытовых навыков и другие средств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Чрезвычайно важно выработать верную рабочую позу, которая поспособствует тому, что расслабится спастическая мускулатур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ажно обучить ребенка технике трудового навык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5" descr="par"/>
          <p:cNvPicPr/>
          <p:nvPr/>
        </p:nvPicPr>
        <p:blipFill>
          <a:blip r:embed="rId1"/>
          <a:stretch/>
        </p:blipFill>
        <p:spPr>
          <a:xfrm>
            <a:off x="1042920" y="3860640"/>
            <a:ext cx="33116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Основные виды работ при ДЦП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исование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скрашивание простых рисунков и т.д.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готовление платьев для кукол из бумаги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девание и раздевание кукол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зборка и сборка игрушек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летение, лепка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клеивание коробок, конвертов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олярные работы (строгание, шлифование и др.)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учная швейная работа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матывание ниток на катушку и т.п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Неспецифический полиартрит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4" descr="загруженное (1)"/>
          <p:cNvPicPr/>
          <p:nvPr/>
        </p:nvPicPr>
        <p:blipFill>
          <a:blip r:embed="rId1"/>
          <a:stretch/>
        </p:blipFill>
        <p:spPr>
          <a:xfrm>
            <a:off x="2124000" y="1773360"/>
            <a:ext cx="550224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сновные принципы трудовой терап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Комплексность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уществляется в комплексе с другими методами восстановительной терапии, предваряя или закрепляя эффект их воздейств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Неспецифический полиартрит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Цель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меньшение имеющихся функциональных нарушений конечности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сстановление силы мышц, необходимых для выполнения работы руко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работка навыков самообслужива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Неспецифический полиартрит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Виды трудотерапи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ртонажные, переплетно-брошюровочные работы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толярные, слесарные, швейные работы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лепка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исование и др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Неспецифический полиартрит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ля выработки правильного пальцевого захвата и развития функции сгибания в пястно-фаланговых суставах используют следующие виды трудовой терапии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лепка из пластилин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абота на швейной машине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ашинопись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летение, разматывание и сматывание ниток в клубок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«разминание» поролона, губки в тазу с теплой водой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захватывание теннисного мяч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зготовление из марли тампонов, салфеток и из бумаги конвертов, коробочек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ортировка пуговиц и др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Зависимости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твлечь человека от мыслей о наркотиках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ывести его из депрессивного состояни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мочь осознать, что одними лишь грустными мыслями проблему не решит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5" descr="alk"/>
          <p:cNvPicPr/>
          <p:nvPr/>
        </p:nvPicPr>
        <p:blipFill>
          <a:blip r:embed="rId1"/>
          <a:stretch/>
        </p:blipFill>
        <p:spPr>
          <a:xfrm>
            <a:off x="5148360" y="1844640"/>
            <a:ext cx="33717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Итоги трудотерапии и дальнейшая реабилитация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и зависимостях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овый шанс вернуться к нормальной жизн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таются жить и работать при реабилитационных центра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ходят новую работу, переезжают в новый город, чтобы оставалось меньше напоминаний о прошлых проблемах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ценка эффективности трудовой терап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5" descr="image052"/>
          <p:cNvPicPr/>
          <p:nvPr/>
        </p:nvPicPr>
        <p:blipFill>
          <a:blip r:embed="rId1"/>
          <a:stretch/>
        </p:blipFill>
        <p:spPr>
          <a:xfrm>
            <a:off x="324000" y="1700280"/>
            <a:ext cx="88200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ценка эффективности трудовой терап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удовая терапия обладает комплексным воздействием на больного и отражается на его психофизиологических, социально-бытовых и производственно-экономических показателях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390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Эффективность трудовой терапии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оцениваться по динамике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казателей физического развития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сихофизиологической выносливости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линических данных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арактеристик социального статус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фессиональной эффективност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казатели эффективности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лавные и тотальные размеры тела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ндекс относительной силы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жизненная емкость легких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аксимальный объем выдыхаемого воздуха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истолический и минутный объемы крови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личина периферического сопротивления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кторы нейромоторики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изическая дееспособность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казатели эффективности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зарубежной практике широкое распространение получили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ндексы ADL и RLA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шкала Бриннстрема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шкала Бартела, позволяющие оценить степень восстановления функций и ряд основных показателей адаптации в быту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 основе индекса ADL и рекомендаций экспертов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ыла предложена 5-ступенчатая классификация оценки социально-бытовой активности больных с последствиями мозгового инсульта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сновные принципы трудовой терап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Адекватность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рудовая терапия должна быть физиологически обоснованной, социально значимой и психологически комфортной и не должна вызывать перенапряжение систем организм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казатели эффективности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ценка производственно-экономической эффективности трудотерапии базируется на характеристиках производительности труда больного до и после цикла заняти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казатели эффективности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ровень производительности труда характеризуетс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количеством продукции, произведенной в единицу времен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) количеством времени, затраченного на производство единицы продукции (трудоемкостью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пасибо за внимани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сновные принципы трудовой терап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«порогового дискомфорт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мысл трудотерапии сводится к тому, чтобы больной в известном смысле «преодолел себя» и познал вкус победы над недугом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вызывать дозированное напряжение психофизиологических систем организма больного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сновные принципы трудовой терапии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 Индивидуальный характер трудотерапии определяется не только особенностями физического развития, физиологической толерантности, психоэмоциального профиля, клинической картины болезни пациента, но и характеристиками его социально-средового, профессионального статуса, условиями труда и быт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07:17:56Z</dcterms:created>
  <dc:creator>Admin</dc:creator>
  <dc:description/>
  <dc:language>en-US</dc:language>
  <cp:lastModifiedBy>Natasha</cp:lastModifiedBy>
  <dcterms:modified xsi:type="dcterms:W3CDTF">2018-12-01T20:52:09Z</dcterms:modified>
  <cp:revision>24</cp:revision>
  <dc:subject/>
  <dc:title>ТЕМА 8. Трудотерапия как средство реабилитации</dc:title>
</cp:coreProperties>
</file>