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FA2-107E-440A-A84F-32D9D83A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536-FCDE-4776-9B5A-49C2B91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BAD-4E7C-4C49-9767-03126AC5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F20-E560-4762-8FE4-124FDED5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A0DB-87FA-412A-A7B5-4AF7146B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2251-9DCB-4702-9C4D-ECC421A8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B6E-CCE3-46AF-A909-F2CBB8B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084F-208B-4975-99C1-263BB46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CDD-AF06-4AF5-92D3-ADCE159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57C-5FBD-40E7-8D18-31020C3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510-47D1-46BB-B30D-D26C1526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6E3-9844-4938-90FA-58894488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6526-787C-40F3-982F-8AA0B05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3C5B-730C-49A9-82FE-ECA3412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F271-96D5-42C0-89B2-58F39508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067-8FCE-4FD0-A4F0-9D3DDAFA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3221-B31A-4F5C-92B0-3F1F1B3F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70D-7E11-410F-A5F3-837E1DDE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6CF-7C90-48D5-8302-B7AB781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463-5DED-4DE3-921F-EE053DD0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1AB-1C35-41FD-ADCC-63700034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E46-351A-4500-AC31-6CDB3C5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4CF-094E-445E-8B0F-8CDA4CF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1F4-F3C3-40CF-9D97-0F2AA64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316-F549-4A6A-8C94-E1939CFA34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D71-B40E-4349-99A6-E2414F29AC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МА 8. Трудотерапия как средство реабилит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trudoterapiya"/>
          <p:cNvPicPr/>
          <p:nvPr/>
        </p:nvPicPr>
        <p:blipFill>
          <a:blip r:embed="rId1"/>
          <a:stretch/>
        </p:blipFill>
        <p:spPr>
          <a:xfrm>
            <a:off x="1619280" y="2840040"/>
            <a:ext cx="6041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Проведение трудовой терапии требует постоянной коррекции на основе результатов обратной связ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нтроль за ходом реабилитационного процесса позволяет вовремя обнаружить нежелательные отклонения, предотвратить возможность развития «отрицательных» компенсаций, дозировать нагрузки в зависимости от состояния пациен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- виды деятельност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14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сарные и столярные работ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итье, вязание  плетени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d177d1e87a83220e3a1ed170a424902b"/>
          <p:cNvPicPr/>
          <p:nvPr/>
        </p:nvPicPr>
        <p:blipFill>
          <a:blip r:embed="rId1"/>
          <a:stretch/>
        </p:blipFill>
        <p:spPr>
          <a:xfrm>
            <a:off x="4344840" y="1844640"/>
            <a:ext cx="4799160" cy="319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896"/>
          <p:cNvPicPr/>
          <p:nvPr/>
        </p:nvPicPr>
        <p:blipFill>
          <a:blip r:embed="rId2"/>
          <a:stretch/>
        </p:blipFill>
        <p:spPr>
          <a:xfrm>
            <a:off x="395280" y="506412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- виды деятельност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орка помещени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в огороде и саду и друг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S1050467"/>
          <p:cNvPicPr/>
          <p:nvPr/>
        </p:nvPicPr>
        <p:blipFill>
          <a:blip r:embed="rId1"/>
          <a:stretch/>
        </p:blipFill>
        <p:spPr>
          <a:xfrm>
            <a:off x="4572000" y="170028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 трудотерапии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обходимо проводить в специальных хорошо оборудованных помещениях или в кабинетах (стационар), которые  желательно располагать вблизи массажного кабинета, бассейна, физиотерапии, зала для ЛФК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18251_600"/>
          <p:cNvPicPr/>
          <p:nvPr/>
        </p:nvPicPr>
        <p:blipFill>
          <a:blip r:embed="rId1"/>
          <a:stretch/>
        </p:blipFill>
        <p:spPr>
          <a:xfrm>
            <a:off x="1332000" y="1700280"/>
            <a:ext cx="667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— лечение трудом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удотерапия направлена на предупреждение развития патологических изменений, проявляющихся в тканях опорно-двигательного аппарата, которые ограничивают двигательную функци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— лечение трудом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реждения, разные ортопедические болезни, патологии позвоночника и нервной системы приводят к развитию у больных тяжелых функциональных расстройств, которые нарушают трудоспособность и приводят к инвалидност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трудотерапи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азание психологического и общеукрепляющего воздействия на организм пациента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циальная реинтеграци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сстановление функций, которые были утрачены, бытовых и профессиональных навы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факторы, применяемые для  трудотерапи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уровня профессиональной трудоспособност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готовление простых приспособлений, которые помогут выработать у пациента навыки самообслужива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становление рабочих навыков, двигательных функций и обучение видам деятельности, которые пригодятся больному в повседневной жизн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ерапия трудом и занятие труд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рапии труд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рименяют в лечебных целях разнообразные трудовые операции и процесс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752480"/>
            <a:ext cx="4500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нятиях труд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вободное время пациента заполняется изготовлением сувениров, лепкой, рисованием, что  улучшает психоэмоциональное состояни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рудотерап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метод восстановления функций организма больного челове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тивный метод по восстановлению трудоспособности больного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различные трудовые процессы, применяемые по медицинским показания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и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подготавливает пациента к профессиональной деятельности. Такая форма трудотерапии осуществляется в близких условиях к  производству (на стендах, тренажерах, станках и так далее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оизводственн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7" descr="images (1)"/>
          <p:cNvPicPr/>
          <p:nvPr/>
        </p:nvPicPr>
        <p:blipFill>
          <a:blip r:embed="rId1"/>
          <a:stretch/>
        </p:blipFill>
        <p:spPr>
          <a:xfrm>
            <a:off x="539640" y="1700280"/>
            <a:ext cx="3961080" cy="390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ages"/>
          <p:cNvPicPr/>
          <p:nvPr/>
        </p:nvPicPr>
        <p:blipFill>
          <a:blip r:embed="rId2"/>
          <a:stretch/>
        </p:blipFill>
        <p:spPr>
          <a:xfrm>
            <a:off x="4500720" y="1773360"/>
            <a:ext cx="4095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три 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бщеукрепляющ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направлена на поддержание трудоспособности в ситуации с длительным течением болезн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бщеукрепляющ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occupational-therapy-department"/>
          <p:cNvPicPr/>
          <p:nvPr/>
        </p:nvPicPr>
        <p:blipFill>
          <a:blip r:embed="rId1"/>
          <a:stretch/>
        </p:blipFill>
        <p:spPr>
          <a:xfrm>
            <a:off x="611280" y="1844640"/>
            <a:ext cx="7619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и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осстановительн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направлена на восстановление потерянных функций или предупреждение расстройств движ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осстановительн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3"/>
          <p:cNvPicPr/>
          <p:nvPr/>
        </p:nvPicPr>
        <p:blipFill>
          <a:blip r:embed="rId1"/>
          <a:stretch/>
        </p:blipFill>
        <p:spPr>
          <a:xfrm>
            <a:off x="1619280" y="1773360"/>
            <a:ext cx="6192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сстановление потерянной двигательной функции может быть осуществлена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вум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путя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аптацией пациента к тру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витием потерянных двигательных функци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, которая развивает координацию движений и увеличение чувствительности пальце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печатани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летени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язани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 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, которая развивает силу и выносливость мышц в рук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работа напильнико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банко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п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ю облегченного режим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зготовление марлевых масок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ролоновых игрушек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матывание ниток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онажны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у трудотерапии составляют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становление двигательных навыков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ческие тренировки производственных и бытовых дви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загруженное"/>
          <p:cNvPicPr/>
          <p:nvPr/>
        </p:nvPicPr>
        <p:blipFill>
          <a:blip r:embed="rId1"/>
          <a:stretch/>
        </p:blipFill>
        <p:spPr>
          <a:xfrm>
            <a:off x="4643280" y="2565360"/>
            <a:ext cx="42706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ы трудотерапи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5"/>
          <p:cNvPicPr/>
          <p:nvPr/>
        </p:nvPicPr>
        <p:blipFill>
          <a:blip r:embed="rId1"/>
          <a:stretch/>
        </p:blipFill>
        <p:spPr>
          <a:xfrm>
            <a:off x="1116000" y="1700280"/>
            <a:ext cx="68342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- от двух до четырех недель, начиная от момента повреждения и до момента первых элементов реабилит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мерно с третьих суток уже рекомендуют пассивные и активные упражнения, а также легкие трудовые процессы, которые выполняются не травмированной конечностью и пальцами поврежденной рук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тяженность — 3-4 недел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комендуется: расширение комплекса ЛФК и упражнений, выполнение которых требует участия поврежденной руки.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— от 6 месяцев и дольш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 начинается после выписки пациента из клиники и занимает весь  восстановительный пери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домашних условиях и в поликлинике в течение длительного времени проводят массаж, ЛФК и трудовую терапию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движ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, которые развивают навыки самообслуживания, работа в саду, уборка помещения и подобные и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комендованы столярные работы, машинопись, рисование, разборка малых деталей, изготовление игрушек из картона, вязание, лепка, вышивание, плетение и друг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движения (классификация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подбору манипуляций, величине нагрузк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достигаемому освоению движени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локализации действий на опорно-двигательный аппарат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На дозирование нагрузки влияет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чая поз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 работы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жим труд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с инструмент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ем работы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выполнения работ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Дозирование нагрузк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обходимо сочетать с лечением положением, массажем, ЛФК (особенно перед процедурами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водится каждый день или через день и длится от получаса до сорока пяти минут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авила дозирования нагрузк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комство пациента с движени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каз техники его выполнения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щь в приобретении трудовых навыков посредством многократного повторения движ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й принцип трудотерап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рмализуя психику и стимулируя функции пораженного органа, трудотерапия является главной составляющей в системе реабилитации пациент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иды выполняемых работ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 некоторых заболевания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1052_0_300_300"/>
          <p:cNvPicPr/>
          <p:nvPr/>
        </p:nvPicPr>
        <p:blipFill>
          <a:blip r:embed="rId1"/>
          <a:stretch/>
        </p:blipFill>
        <p:spPr>
          <a:xfrm>
            <a:off x="2411280" y="2382840"/>
            <a:ext cx="45356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болевания ОДА верхних конечностей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бота в оранжере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бота на станке для шлифовки изделий из керамик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кацком станк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сарные работы (ручные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жиг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олярные работы (ручные)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илив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шинопись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етение и вяза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сихические болезни, инсульты, повреждения ЦНС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мещают с массажем и лечебной гимнастик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д ее проведением также обязательно проводят упражнения и либо массаж (самомассаж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Проводимые упражнения вызывать болезненные ощущения у пациентов не долж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пражнения, призванные помочь освоить бытовые навык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помещениях, в которых находятся стенды с закрепленными на них наборами бытовых приборов,  пациенты не только тренируются в самообслуживании, но также и тренируют захват поврежденной рук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пражнения, призванные помочь освоить бытовые навык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помещениях, в которых находятся стенды с закрепленными на них наборами бытовых приборов,  пациенты не только тренируются в самообслуживании, но также и тренируют захват поврежденной рук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енд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бытовых стендах присутствуют водопроводные краны, замки с ключами, вилки, выключатели, разнообразные дверные ручки и так дале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360" y="1752480"/>
            <a:ext cx="363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тендах производственного плана закреплены выключатели, рубильники, болты и тому подобные вещ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е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121869_html_764a2235"/>
          <p:cNvPicPr/>
          <p:nvPr/>
        </p:nvPicPr>
        <p:blipFill>
          <a:blip r:embed="rId1"/>
          <a:stretch/>
        </p:blipFill>
        <p:spPr>
          <a:xfrm>
            <a:off x="900000" y="1741320"/>
            <a:ext cx="763272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images (2)"/>
          <p:cNvPicPr/>
          <p:nvPr/>
        </p:nvPicPr>
        <p:blipFill>
          <a:blip r:embed="rId1"/>
          <a:stretch/>
        </p:blipFill>
        <p:spPr>
          <a:xfrm>
            <a:off x="684360" y="1916280"/>
            <a:ext cx="76914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ситуации, связанной с наложением гипсовой повязки, пациент должен выполнять самообслуживание не только здоровой рукой, но и помогать себе пальцами травмированной рук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период после снятия гипса, процедуры направленные на восстановление, преследуют такую цель как увеличение амплитуды движен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жно назначать сортирование деталей, изготовление игрушек из бумаги, проклеивание конвертов, глажение бель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олжительность подобных занятий должна достигать четверти часа и  повторяться не менее 2 раз в ден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 выбор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 является одним из наиболее доступных Реабилитационных методов, имеющих ограниченное число Противопоказаний. Для лечения трудом практически отсутствуют возрастные огранич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течением времени процессы трудовой терапии усложняю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швейные работы, плетение, картонажные работы (склеивание коробок, конвертов), шлифование, работу рубанк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вают и продолжительность работ (примерно вдвое), частоту выполнения упражнений оставляют на прежнем уровн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перерывы между выполнением упражнений включают  либо криомассаж, либо самомассаж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ерез 1-1,5 месяца реабилитации, начинают применять трудотерапию, которая требует больших статических и динамических усилий, прилагаемых пациентом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слесарные работы, протирание стекол, столярные работы и подобные им (не менее двух раз в день, а продолжительность увеличивают до сорока минут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язательно наличие паузы для массажа и отдых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при повреждении нервов верхних конечностей и плечевого сплетени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вих плеча, переломы ключицы и плечевых костей часто сопровождаются травмами периферических нерв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начальном этапе используют простые движения, затем рекомендуют более активные с использованием тренажеров и предмет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при повреждении нервов верхних конечностей и плечевого сплетени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179280" y="2205000"/>
            <a:ext cx="4103640" cy="3270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09"/>
          <p:cNvPicPr/>
          <p:nvPr/>
        </p:nvPicPr>
        <p:blipFill>
          <a:blip r:embed="rId2"/>
          <a:stretch/>
        </p:blipFill>
        <p:spPr>
          <a:xfrm>
            <a:off x="4716360" y="1700280"/>
            <a:ext cx="3911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при двигательных расстройствах ру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переломах костей в локтевом суставе, травмах ключично-акромиального сочленения, плечевого пояса, вывихе головки и травмах проксимального конца плечевой кости трудотерапия показана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авмы нижних конечност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травмах нервной периферической системы, ахиллова сухожилия, голеностопного сустава и переломах костей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удотерапию необходимо начинать в как можно более раннем период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омплексном лечении травм нижних конечностей применяют массаж, гимнастику и трудотерап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лечении послеродовых плексит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омплексном лечении парезов у детей, возникающих вследствие родовых трав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чение также включает в себя помимо трудотерапии гимнастику, физиотерапию, массаж.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images (4)"/>
          <p:cNvPicPr/>
          <p:nvPr/>
        </p:nvPicPr>
        <p:blipFill>
          <a:blip r:embed="rId1"/>
          <a:stretch/>
        </p:blipFill>
        <p:spPr>
          <a:xfrm>
            <a:off x="4859280" y="2349360"/>
            <a:ext cx="40276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лечении ДЦП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обучение ходьбе, ЛФК в воде, тренировки бытовых навыков и другие средств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резвычайно важно выработать верную рабочую позу, которая поспособствует тому, что расслабится спастическая мускулату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ажно обучить ребенка технике трудового навык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par"/>
          <p:cNvPicPr/>
          <p:nvPr/>
        </p:nvPicPr>
        <p:blipFill>
          <a:blip r:embed="rId1"/>
          <a:stretch/>
        </p:blipFill>
        <p:spPr>
          <a:xfrm>
            <a:off x="1042920" y="3860640"/>
            <a:ext cx="33116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Основные виды работ при ДЦП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исов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крашивание простых рисунков и т.д.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готовление платьев для кукол из бумаги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девание и раздевание кукол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борка и сборка игрушек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етение, леп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леивание коробок, конверт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олярные работы (строгание, шлифование и др.)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учная швейная работ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матывание ниток на катушку и т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загруженное (1)"/>
          <p:cNvPicPr/>
          <p:nvPr/>
        </p:nvPicPr>
        <p:blipFill>
          <a:blip r:embed="rId1"/>
          <a:stretch/>
        </p:blipFill>
        <p:spPr>
          <a:xfrm>
            <a:off x="2124000" y="1773360"/>
            <a:ext cx="55022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омплекс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яется в комплексе с другими методами восстановительной терапии, предваряя или закрепляя эффект их воздейств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ль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меньшение имеющихся функциональных нарушений конечн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сстановление силы мышц, необходимых для выполнения работы рук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навыков самообслужи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иды трудотерап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онажные, переплетно-брошюровочные работ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олярные, слесарные, швейные работ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ование и д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ля выработки правильного пальцевого захвата и развития функции сгибания в пястно-фаланговых суставах используют следующие виды трудовой терапии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лепка из пластилин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бота на швейной машине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ашинопись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етение, разматывание и сматывание ниток в клубок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«разминание» поролона, губки в тазу с теплой водо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хватывание теннисного мяч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готовление из марли тампонов, салфеток и из бумаги конвертов, коробочек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ортировка пуговиц и др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Зависимости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влечь человека от мыслей о наркотика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вести его из депрессивного состоя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мочь осознать, что одними лишь грустными мыслями проблему не реши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alk"/>
          <p:cNvPicPr/>
          <p:nvPr/>
        </p:nvPicPr>
        <p:blipFill>
          <a:blip r:embed="rId1"/>
          <a:stretch/>
        </p:blipFill>
        <p:spPr>
          <a:xfrm>
            <a:off x="5148360" y="1844640"/>
            <a:ext cx="3371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тоги трудотерапии и дальнейшая реабилитаци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 зависимостя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ый шанс вернуться к нормальной жизн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таются жить и работать при реабилитационных центра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ходят новую работу, переезжают в новый город, чтобы оставалось меньше напоминаний о прошлых проблем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ценка эффективности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5" descr="image052"/>
          <p:cNvPicPr/>
          <p:nvPr/>
        </p:nvPicPr>
        <p:blipFill>
          <a:blip r:embed="rId1"/>
          <a:stretch/>
        </p:blipFill>
        <p:spPr>
          <a:xfrm>
            <a:off x="324000" y="1700280"/>
            <a:ext cx="8820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ценка эффективности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вая терапия обладает комплексным воздействием на больного и отражается на его психофизиологических, социально-бытовых и производственно-экономических показателя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ффективность трудовой терапии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цениваться по динамик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казателей физического развития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сихофизиологической вынослив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инических данных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истик социального стату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фессиональной эффективност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лавные и тотальные размеры тел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екс относительной силы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жизненная емкость легких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ксимальный объем выдыхаемого воздух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столический и минутный объемы крови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личина периферического сопротивления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кторы нейромоторики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зическая дееспособ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зарубежной практике широкое распространение получил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дексы ADL и RL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кала Бриннстрем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кала Бартела, позволяющие оценить степень восстановления функций и ряд основных показателей адаптации в быт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основе индекса ADL и рекомендаций эксперто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ыла предложена 5-ступенчатая классификация оценки социально-бытовой активности больных с последствиями мозгового инсуль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Адекват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вая терапия должна быть физиологически обоснованной, социально значимой и психологически комфортной и не должна вызывать перенапряжение систем организ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ка производственно-экономической эффективности трудотерапии базируется на характеристиках производительности труда больного до и после цикла заняти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ровень производительности труда характеризует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количеством продукции, произведенной в единицу времен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количеством времени, затраченного на производство единицы продукции (трудоемкостью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«порогового дискомфорт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мысл трудотерапии сводится к тому, чтобы больной в известном смысле «преодолел себя» и познал вкус победы над недугом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ызывать дозированное напряжение психофизиологических систем организма больног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Индивидуальный характер трудотерапии определяется не только особенностями физического развития, физиологической толерантности, психоэмоциального профиля, клинической картины болезни пациента, но и характеристиками его социально-средового, профессионального статуса, условиями труда и бы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07:17:56Z</dcterms:created>
  <dc:creator>Admin</dc:creator>
  <dc:description/>
  <dc:language>en-US</dc:language>
  <cp:lastModifiedBy>Natasha</cp:lastModifiedBy>
  <dcterms:modified xsi:type="dcterms:W3CDTF">2018-12-01T20:52:09Z</dcterms:modified>
  <cp:revision>24</cp:revision>
  <dc:subject/>
  <dc:title>ТЕМА 8. Трудотерапия как средство реабилитации</dc:title>
</cp:coreProperties>
</file>