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D865D-2B77-4C45-8CF2-44388AE3C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E5A1-9662-4AA7-BFDC-D1A96BA2B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17914-39BC-4DA9-9AD9-A566BCE38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76E5D-C5B6-4F6F-8D8B-458DA19F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01735-A163-400E-AFE8-2B899D20B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9C0FF-BF43-4177-B719-790146AD9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0BA74-8030-451D-AA79-8A22CDD20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6BB77-96CD-4DC1-B12E-E75179B21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D6729-6B44-484C-95DD-E3B7F7129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1DDA8-3900-4533-BBDC-E9B619051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4932-AE0B-46CD-8DB6-4FE25AB72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21018-C07C-47D4-8169-F114B518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53086-BBB4-4E12-BB12-746DFAF33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1D43E-69B5-497D-BF78-D0BE1C95B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6E5A-EF43-405B-B755-6B1EE88F8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D12D8-DC54-42DC-ADBD-64ED34A6A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2ECA2-5D2E-4E3A-A20F-CDB7B2815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DB07F-F47F-4316-B766-5BD4A5D7D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7D99A-EE99-4D0F-BDFD-3D3374031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85CCF-2DDB-4766-96D8-E8CA3F265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A059F-1459-4DB5-8E17-F0073CBB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2055-9A27-4F73-B122-6AA33393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5C02F-CAB4-4E1C-9F0F-31D3D455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E49B-9217-44CB-B12E-FED2E4F47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077E-F92F-4231-9E1A-E1A342D0D9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8E118-3E68-417C-877D-F9B2CF561C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30033"/>
                </a:solidFill>
                <a:latin typeface="Times New Roman"/>
              </a:rPr>
              <a:t>Збройний конфлікт в Україні та його правове регулювання</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	</a:t>
            </a:r>
            <a:r>
              <a:rPr b="0" lang="uk-UA" sz="2800" spc="-1" strike="noStrike">
                <a:solidFill>
                  <a:srgbClr val="000000"/>
                </a:solidFill>
                <a:latin typeface="Times New Roman"/>
              </a:rPr>
              <a:t>Як назвати діяльність, спрямовану на запобігання, виявлення, припинення, мінімізації наслідків терористичної діяльн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imes New Roman"/>
              </a:rPr>
              <a:t>	</a:t>
            </a:r>
            <a:r>
              <a:rPr b="0" lang="uk-UA" sz="2800" spc="-1" strike="noStrike">
                <a:solidFill>
                  <a:srgbClr val="000000"/>
                </a:solidFill>
                <a:latin typeface="Times New Roman"/>
              </a:rPr>
              <a:t>Як називається комплекс скоординованих спеціальних заходів, спрямованих на попередження, запобігання та припинення терористичної діяльності, звільнення заручників, забезпечення безпеки населення, знешкодження терористів, мінімізацію наслідків терористичної діяльн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Чи підпадають нижченаведені дії під терористичну діяльність:</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 планування, організація, підготовка та реалізація 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 поширення закликів до застосування зброї, вчинення вибуху, підпалу</a:t>
            </a:r>
            <a:r>
              <a:rPr b="0" lang="uk-UA" sz="1800" spc="-1" strike="noStrike">
                <a:solidFill>
                  <a:srgbClr val="000000"/>
                </a:solidFill>
                <a:latin typeface="Arial"/>
              </a:rPr>
              <a:t> </a:t>
            </a:r>
            <a:r>
              <a:rPr b="0" lang="ru-RU" sz="1800" spc="-1" strike="noStrike">
                <a:solidFill>
                  <a:srgbClr val="000000"/>
                </a:solidFill>
                <a:latin typeface="Arial"/>
              </a:rPr>
              <a:t>чи інших дій, які створюють небезпеку для життя чи здоров'я людини</a:t>
            </a:r>
            <a:r>
              <a:rPr b="0" lang="uk-UA" sz="1800" spc="-1" strike="noStrike">
                <a:solidFill>
                  <a:srgbClr val="000000"/>
                </a:solidFill>
                <a:latin typeface="Arial"/>
              </a:rPr>
              <a:t> </a:t>
            </a:r>
            <a:r>
              <a:rPr b="0" lang="ru-RU" sz="1800" spc="-1" strike="noStrike">
                <a:solidFill>
                  <a:srgbClr val="000000"/>
                </a:solidFill>
                <a:latin typeface="Arial"/>
              </a:rPr>
              <a:t>або заподіяння значної майнової шкоди з метою залякування населення, провокації воєнного конфлікту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 відвідання мітингу, на якому лунають заклики до вчинення 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 організація незаконних збройних формувань, злочинних угруповань</a:t>
            </a:r>
            <a:r>
              <a:rPr b="0" lang="uk-UA" sz="1800" spc="-1" strike="noStrike">
                <a:solidFill>
                  <a:srgbClr val="000000"/>
                </a:solidFill>
                <a:latin typeface="Arial"/>
              </a:rPr>
              <a:t> </a:t>
            </a:r>
            <a:r>
              <a:rPr b="0" lang="ru-RU" sz="1800" spc="-1" strike="noStrike">
                <a:solidFill>
                  <a:srgbClr val="000000"/>
                </a:solidFill>
                <a:latin typeface="Arial"/>
              </a:rPr>
              <a:t>(злочинних організацій), організованих злочинних груп для вчинення</a:t>
            </a:r>
            <a:r>
              <a:rPr b="0" lang="uk-UA" sz="1800" spc="-1" strike="noStrike">
                <a:solidFill>
                  <a:srgbClr val="000000"/>
                </a:solidFill>
                <a:latin typeface="Arial"/>
              </a:rPr>
              <a:t> </a:t>
            </a:r>
            <a:r>
              <a:rPr b="0" lang="ru-RU" sz="1800" spc="-1" strike="noStrike">
                <a:solidFill>
                  <a:srgbClr val="000000"/>
                </a:solidFill>
                <a:latin typeface="Arial"/>
              </a:rPr>
              <a:t>терористичних ак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 вербування, озброєння, підготовка та використання терористів;</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 пропаганда і поширення ідеології тероризму;</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g) фінансування та інше сприяння терориз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Як називається людина, яка захоплена і утримується з метою спонукання органу влади здійснити якусь дію або утриматися від здійснення якоїсь дії як умови звільнення особи, що захоплена і (або) утримуєть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imes New Roman"/>
              </a:rPr>
              <a:t>Чи є війна в Україн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330033"/>
                </a:solidFill>
                <a:latin typeface="Times New Roman"/>
              </a:rPr>
              <a:t>Стан війни /воєнний стан</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Воєнний стан</a:t>
            </a:r>
            <a:r>
              <a:rPr b="0" lang="uk-UA" sz="2000" spc="-1" strike="noStrike">
                <a:solidFill>
                  <a:srgbClr val="000000"/>
                </a:solidFill>
                <a:latin typeface="Arial"/>
              </a:rPr>
              <a:t> - це особливий правовий режим, що вводиться в Україні або в окремих її місцевостях у разі збройної агресії чи загрози нападу, небезпеки державній незалежності України, її територіальній цілісності  (Законі України «Про правовий режим воєнного стану»).</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н війни</a:t>
            </a:r>
            <a:r>
              <a:rPr b="0" lang="ru-RU" sz="2000" spc="-1" strike="noStrike">
                <a:solidFill>
                  <a:srgbClr val="000000"/>
                </a:solidFill>
                <a:latin typeface="Arial"/>
              </a:rPr>
              <a:t> – відносини держав із моменту оголошення війни між ними до її закінчення (укладення миру).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19.Ч1.Ст.106 Конституції України, ЗУ “Про оборону України” (https://zakon.rada.gov.ua/laws/show/1932-12)</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ЗУ</a:t>
            </a:r>
            <a:r>
              <a:rPr b="1" lang="uk-UA" sz="1600" spc="-1" strike="noStrike">
                <a:solidFill>
                  <a:srgbClr val="000000"/>
                </a:solidFill>
                <a:latin typeface="Times New Roman"/>
              </a:rPr>
              <a:t> «Про забезпечення прав і свобод громадян та правовий режим на тимчасово окупованій території України»</a:t>
            </a:r>
            <a:r>
              <a:rPr b="1" lang="ru-RU"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1) сухопутна територія Автономної Республіки Крим та міста Севастополя, внутрішні води України цих територі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2) внутрішні морські води і територіальне море України навколо Кримського півострова, територія виключної (морської) економічної зони України вздовж узбережжя Кримського півострова та прилеглого до узбережжя континентального шельфу України, на які поширюється юрисдикція органів державної влади України відповідно до норм міжнародного права, Конституції та законів України;</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3) надра під територіями, зазначеними у пунктах 1 і 2 цієї частини, і повітряний простір над цими територія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ата початку тимчасової окупації Закон визначає </a:t>
            </a:r>
            <a:r>
              <a:rPr b="1" lang="uk-UA" sz="2800" spc="-1" strike="noStrike">
                <a:solidFill>
                  <a:srgbClr val="000000"/>
                </a:solidFill>
                <a:latin typeface="Arial"/>
              </a:rPr>
              <a:t>20 лютого 2014 року.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ідповідальність </a:t>
            </a:r>
            <a:r>
              <a:rPr b="0" lang="uk-UA" sz="2000" spc="-1" strike="noStrike">
                <a:solidFill>
                  <a:srgbClr val="000000"/>
                </a:solidFill>
                <a:latin typeface="Arial"/>
              </a:rPr>
              <a:t>за порушення прав і свобод людини і громадянина на тимчасово окупованій території покладається на Російську Федерацію як на державу-окупанта відповідно до норм і принципів міжнародного права;</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Про тимчасово окуповані території України</a:t>
            </a: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У «Про</a:t>
            </a:r>
            <a:r>
              <a:rPr b="1" lang="uk-UA" sz="2000" spc="-1" strike="noStrike">
                <a:solidFill>
                  <a:srgbClr val="000000"/>
                </a:solidFill>
                <a:latin typeface="Arial"/>
              </a:rPr>
              <a:t> </a:t>
            </a:r>
            <a:r>
              <a:rPr b="1" lang="ru-RU" sz="2000" spc="-1" strike="noStrike">
                <a:solidFill>
                  <a:srgbClr val="000000"/>
                </a:solidFill>
                <a:latin typeface="Arial"/>
              </a:rPr>
              <a:t>особливості державної політики із забезпечення державного</a:t>
            </a:r>
            <a:r>
              <a:rPr b="1" lang="uk-UA" sz="2000" spc="-1" strike="noStrike">
                <a:solidFill>
                  <a:srgbClr val="000000"/>
                </a:solidFill>
                <a:latin typeface="Arial"/>
              </a:rPr>
              <a:t> </a:t>
            </a:r>
            <a:r>
              <a:rPr b="1" lang="ru-RU" sz="2000" spc="-1" strike="noStrike">
                <a:solidFill>
                  <a:srgbClr val="000000"/>
                </a:solidFill>
                <a:latin typeface="Arial"/>
              </a:rPr>
              <a:t>суверенітету України на тимчасово окупованих територіях</a:t>
            </a:r>
            <a:r>
              <a:rPr b="1" lang="uk-UA" sz="2000" spc="-1" strike="noStrike">
                <a:solidFill>
                  <a:srgbClr val="000000"/>
                </a:solidFill>
                <a:latin typeface="Arial"/>
              </a:rPr>
              <a:t> </a:t>
            </a:r>
            <a:r>
              <a:rPr b="1" lang="ru-RU" sz="2000" spc="-1" strike="noStrike">
                <a:solidFill>
                  <a:srgbClr val="000000"/>
                </a:solidFill>
                <a:latin typeface="Arial"/>
              </a:rPr>
              <a:t>у Донецькій та Луганській областях».</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значає межі та перелік районів, міст, селищ і</a:t>
            </a:r>
            <a:r>
              <a:rPr b="0" lang="uk-UA" sz="2000" spc="-1" strike="noStrike">
                <a:solidFill>
                  <a:srgbClr val="000000"/>
                </a:solidFill>
                <a:latin typeface="Arial"/>
              </a:rPr>
              <a:t> </a:t>
            </a:r>
            <a:r>
              <a:rPr b="0" lang="ru-RU" sz="2000" spc="-1" strike="noStrike">
                <a:solidFill>
                  <a:srgbClr val="000000"/>
                </a:solidFill>
                <a:latin typeface="Arial"/>
              </a:rPr>
              <a:t>сіл, частин їх територій, тимчасово окупованих у Донецькій та Луганській областях.</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https://zakon.rada.gov.ua/laws/show/2268-19</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У «Провійськово-цивільні адміністрації».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Відповідно до цього Закону були утворені військово-цивільні адміністрації як тимчасові державні органи, які діють на території Донецької та Луганської областей, визначено їх правовий стату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Перевіримо!</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ТЕСТ</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Збройний конфлікт, що відбувається на території України, можна </a:t>
            </a:r>
            <a:r>
              <a:rPr b="1" lang="uk-UA" sz="2400" spc="-1" strike="noStrike">
                <a:solidFill>
                  <a:srgbClr val="000000"/>
                </a:solidFill>
                <a:latin typeface="Times New Roman"/>
              </a:rPr>
              <a:t>с</a:t>
            </a:r>
            <a:r>
              <a:rPr b="1" lang="ru-RU" sz="2400" spc="-1" strike="noStrike">
                <a:solidFill>
                  <a:srgbClr val="000000"/>
                </a:solidFill>
                <a:latin typeface="Times New Roman"/>
              </a:rPr>
              <a:t>характеризувати наступним чин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 Україна перебуває у стані війни із Російською Федерацією;</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 має місце збройна агресія з боку Російської Федерації щодо України;</a:t>
            </a:r>
            <a:endParaRPr b="0" lang="en-US" sz="20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 Україні існує внутрішній громадянський конфлік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330033"/>
                </a:solidFill>
                <a:latin typeface="Times New Roman"/>
              </a:rPr>
              <a:t>АТО,ООС</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У “Про боротьбу з тероризмом”</a:t>
            </a:r>
            <a:r>
              <a:rPr b="0" lang="uk-UA" sz="2000" spc="-1" strike="noStrike">
                <a:solidFill>
                  <a:srgbClr val="000000"/>
                </a:solidFill>
                <a:latin typeface="Times New Roman"/>
              </a:rPr>
              <a:t> дає визначення поняття антитерористична операція (АТО)</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30 квітня 2018 рік</a:t>
            </a:r>
            <a:r>
              <a:rPr b="0" lang="uk-UA" sz="2000" spc="-1" strike="noStrike">
                <a:solidFill>
                  <a:srgbClr val="000000"/>
                </a:solidFill>
                <a:latin typeface="Times New Roman"/>
              </a:rPr>
              <a:t> – початок дії Операції Об</a:t>
            </a:r>
            <a:r>
              <a:rPr b="0" lang="en-US" sz="2000" spc="-1" strike="noStrike">
                <a:solidFill>
                  <a:srgbClr val="000000"/>
                </a:solidFill>
                <a:latin typeface="Times New Roman"/>
              </a:rPr>
              <a:t>’</a:t>
            </a:r>
            <a:r>
              <a:rPr b="0" lang="uk-UA" sz="2000" spc="-1" strike="noStrike">
                <a:solidFill>
                  <a:srgbClr val="000000"/>
                </a:solidFill>
                <a:latin typeface="Times New Roman"/>
              </a:rPr>
              <a:t>єднаних Сил.</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imes New Roman"/>
              </a:rPr>
              <a:t>АТО припинила існування</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ерівництво військовими і правоохоронними</a:t>
            </a:r>
            <a:r>
              <a:rPr b="0" lang="uk-UA" sz="2000" spc="-1" strike="noStrike">
                <a:solidFill>
                  <a:srgbClr val="000000"/>
                </a:solidFill>
                <a:latin typeface="Times New Roman"/>
              </a:rPr>
              <a:t> </a:t>
            </a:r>
            <a:r>
              <a:rPr b="0" lang="ru-RU" sz="2000" spc="-1" strike="noStrike">
                <a:solidFill>
                  <a:srgbClr val="000000"/>
                </a:solidFill>
                <a:latin typeface="Times New Roman"/>
              </a:rPr>
              <a:t>підрозділами на сході перейшло від СБУ</a:t>
            </a:r>
            <a:r>
              <a:rPr b="0" lang="uk-UA" sz="2000" spc="-1" strike="noStrike">
                <a:solidFill>
                  <a:srgbClr val="000000"/>
                </a:solidFill>
                <a:latin typeface="Times New Roman"/>
              </a:rPr>
              <a:t> </a:t>
            </a:r>
            <a:r>
              <a:rPr b="0" lang="ru-RU" sz="2000" spc="-1" strike="noStrike">
                <a:solidFill>
                  <a:srgbClr val="000000"/>
                </a:solidFill>
                <a:latin typeface="Times New Roman"/>
              </a:rPr>
              <a:t>до ЗС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22T16:38:38Z</dcterms:created>
  <dc:creator>Юлия</dc:creator>
  <dc:description/>
  <dc:language>en-US</dc:language>
  <cp:lastModifiedBy>Юлия</cp:lastModifiedBy>
  <dcterms:modified xsi:type="dcterms:W3CDTF">2020-09-22T19:23:5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