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174-4B55-46FA-ABA0-EC367E6A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B19-EFEE-42E9-9218-0F7F2A41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C26-2007-47B8-8DB6-36DCA08A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FE8-BFFE-47B7-897F-4C4F597A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2C87-82D1-4DD1-8982-2C990CE0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CFE3-A1C1-429F-A4B4-7FF520DA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2CD7-DCEC-4F60-9BFC-8FFD4C57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94E0-04DC-4722-9BF7-780768E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267B-2DEB-4D93-806F-A568C2FA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4BFD-A358-44DE-B877-072BB94E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0F32-7D4C-4CFE-8823-606B8AA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2F6-3D49-4B00-B791-4C9E97B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7C22-F188-40D9-9FC9-73419CB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AE9B-BCF8-4317-A464-568C72E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009-3691-426A-9930-081513E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4F10-39C7-4572-AF10-FCB89D0B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7F40-0D50-476C-8507-B5AE284E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F3E-0FEB-41DB-BDA4-5D1EF6F8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5AD-4F8F-48CB-9F84-CE63A97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CB1-842E-4A64-BDCC-9BDF5301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998-7E11-40AE-B2D1-BD7332ED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8B1-2401-40B7-986D-B9D48DE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1C4-130B-4E1E-8FBD-A671B07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A28-A4D8-4B13-BF42-BFB5B93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719D-4CA4-472C-8593-FEA6E9459B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A53-629B-49BD-801C-877D38419B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04000" cy="574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Презентація навчальної дисципліни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58560" y="3645000"/>
            <a:ext cx="67690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ІБЛІОТЕКОЗНАВСТВО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Наукова библиотека Львивского университета им Франка , ул Драгоманова 5 |  Lviv, Ukraine, Structures"/>
          <p:cNvPicPr/>
          <p:nvPr/>
        </p:nvPicPr>
        <p:blipFill>
          <a:blip r:embed="rId1"/>
          <a:stretch/>
        </p:blipFill>
        <p:spPr>
          <a:xfrm>
            <a:off x="1619280" y="1125360"/>
            <a:ext cx="6265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7126200" cy="100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Мета вивчення навчальної дисциплін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7410240" cy="446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знайомити студентів з теоретичною базою бібліотекознавства, методологією та перспективами бібліотекознавчих досліджень; з особливостями організації бібліотечної діяльності в Україні та світі, її системою, функціями, принципами управління та специфікою підготовки кадрі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Студенти повинні досягти таких 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компетентностей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датність забезпечувати відбір, аналіз, оцінку, систематизацію, моніторинг, організацію, зберігання, розповсюдження та надання в користування інформації та знань у будь-яких форматах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здатність використовувати методи систематизації, пошуку, збереження, класифікації інформації для різних типів контенту та носії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343640" cy="72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ОЧІКУВАНІ РЕЗУЛЬТАТИ НАВЧАНН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У разі успішного завершення курсу студент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Comic Sans MS"/>
              </a:rPr>
              <a:t>зможе</a:t>
            </a: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застосовувати знання в практичних ситуаціях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розуміти предметну сферу та професійну діяльніс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ільно оперувати спеціальною термінологією для </a:t>
            </a: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ирішенн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есійних завдан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ацювати з методологією бібліотекознав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Електронна бібліотека | Придунайська філія МАУП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6T21:42:13Z</dcterms:created>
  <dc:creator>Microsoft Office</dc:creator>
  <dc:description/>
  <dc:language>en-US</dc:language>
  <cp:lastModifiedBy>Microsoft Office</cp:lastModifiedBy>
  <dcterms:modified xsi:type="dcterms:W3CDTF">2020-09-26T21:57:58Z</dcterms:modified>
  <cp:revision>2</cp:revision>
  <dc:subject/>
  <dc:title>Презентація навчальної дисципліни</dc:title>
</cp:coreProperties>
</file>