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AB8-C571-4D93-899B-15441D92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C783-69BB-452C-9175-ECEE7FD1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51C-4F67-4638-A832-361F5FB5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720-3B07-4925-816A-7CCC57E4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506E-DE70-4C6A-ABE8-07A74EC3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CAC6-29B6-4E2C-A8C9-164B3983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4057-F61A-4BB9-AE52-89B8F491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A35E-765D-489E-9424-6ED59193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34D5-AA0D-4E7D-B6AB-65716B95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E51E-6A18-43D4-AB05-69AFC305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3BDB-FBBB-4EE8-9DB1-7521FB9A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7E6-BE8C-4F34-A9F5-5A54EF7B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BB25-0A15-4CDB-A295-F7B34FC2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11D3-8AD5-4890-80BD-0CF579E1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374F-B367-4F71-AF2C-0198A0F5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CBA5-2D64-4601-AF0C-7C463006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0541-CB12-489D-8237-1A0D69CD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18B-EA57-4379-A59E-0AD58D0F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442-C967-40C1-AF53-2EAF0BC0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66C-00F6-4210-8291-A476BD2D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C91-B52F-4A99-B62F-2AFF9D46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A9F-F961-4830-B998-A8878434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5E5-2741-439F-B787-890A192E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249-8D7B-4D69-8280-484EE4B4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DF78-9C97-4C78-B849-6E7BD303DF8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EEBD-A869-415B-81BE-77BCC88D3F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04000" cy="574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Comic Sans MS"/>
              </a:rPr>
              <a:t>Презентація навчальної дисципліни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58560" y="3645000"/>
            <a:ext cx="67690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БІБЛІОТЕКОЗНАВСТВ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Наукова библиотека Львивского университета им Франка , ул Драгоманова 5 |  Lviv, Ukraine, Structures"/>
          <p:cNvPicPr/>
          <p:nvPr/>
        </p:nvPicPr>
        <p:blipFill>
          <a:blip r:embed="rId1"/>
          <a:stretch/>
        </p:blipFill>
        <p:spPr>
          <a:xfrm>
            <a:off x="1619280" y="1125360"/>
            <a:ext cx="6265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7126200" cy="1008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Мета вивчення навчальної дисциплін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410240" cy="446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ознайомити студентів з теоретичною базою бібліотекознавства, методологією та перспективами бібліотекознавчих досліджень; з особливостями організації бібліотечної діяльності в Україні та світі, її системою, функціями, принципами управління та специфікою підготовки кадрі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113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Студенти повинні досягти таких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компетентностей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здатність забезпечувати відбір, аналіз, оцінку, систематизацію, моніторинг, організацію, зберігання, розповсюдження та надання в користування інформації та знань у будь-яких форматах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здатність використовувати методи систематизації, пошуку, збереження, класифікації інформації для різних типів контенту та носіїв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343640" cy="720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ОЧІКУВАНІ РЕЗУЛЬТАТИ НАВЧАННЯ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У разі успішного завершення курсу студент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Comic Sans MS"/>
              </a:rPr>
              <a:t>зможе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застосовувати знання в практичних ситуаціях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розуміти предметну сферу та професійну діяльніст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ільно оперувати спеціальною термінологією для 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вирішення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фесійних завдан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ацювати з методологією бібліотекознавств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Електронна бібліотека | Придунайська філія МАУП"/>
          <p:cNvPicPr/>
          <p:nvPr/>
        </p:nvPicPr>
        <p:blipFill>
          <a:blip r:embed="rId1"/>
          <a:stretch/>
        </p:blipFill>
        <p:spPr>
          <a:xfrm>
            <a:off x="900000" y="1268280"/>
            <a:ext cx="7201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6T21:42:13Z</dcterms:created>
  <dc:creator>Microsoft Office</dc:creator>
  <dc:description/>
  <dc:language>en-US</dc:language>
  <cp:lastModifiedBy>Microsoft Office</cp:lastModifiedBy>
  <dcterms:modified xsi:type="dcterms:W3CDTF">2020-09-26T21:57:58Z</dcterms:modified>
  <cp:revision>2</cp:revision>
  <dc:subject/>
  <dc:title>Презентація навчальної дисципліни</dc:title>
</cp:coreProperties>
</file>