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F506-4ADD-4A51-8253-4D155D14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508D-22FF-4DD8-8637-99875381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B39F0-A547-4EFA-81E0-0DD51E3C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2F7EBD-468B-4BE1-B010-77D85C30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6C06E-B833-48FE-BCD7-6D5E34B7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3929B-CE35-42C8-BBE2-01EEF2A4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41390-94CA-43F8-8960-51B9CB87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6AE67-9D67-4821-8FFD-25BB043A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46CB1-D9E3-443D-B61D-A791C694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519C6-F9D1-4382-B064-DE6A6F652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6A435-A5E4-46DB-8F63-B6DAB502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8D84-1E0D-49F4-B99C-4868C9B07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38F9-B133-40EA-8112-C1CC06FB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48AD-B998-40FA-8092-5173F1C1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F9D1-A887-4C01-9916-F8E12800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2CA8-0616-4015-960C-2C474B15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A5E9-9D15-4C24-A599-5E27E4EB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1912-6026-4305-99B3-3240B1DC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8ECB-1987-4083-957B-9582F906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6C5A-FBFA-4511-BC4C-11351EF7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CE77-3DC5-494F-8AE3-2E4C5461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7684-DFA1-4CE3-A93C-CD34FB33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0E7B-E771-41D2-A69C-48774733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BBE3-1DF8-4A54-B337-4122A9AB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8F2E-4ADD-4F18-ACB0-1175E912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BB66-CB13-483B-8BC5-C6D80BDC9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48C36-D49C-4858-ADBE-5C2C02338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A286F-E742-4E6B-AF22-5174E812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5B20E-61CD-4650-BA8F-058CA803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E21D6-EBC5-440F-A9E4-26C5B353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C9BF0-BA2C-4310-8DC4-16F2EAED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2CB9-83F7-44F8-AEE0-7BFF2493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0F038-EB63-4903-8A57-FBA30D41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2DB99-5BF7-4CE2-92A5-43D310D0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B697C-F788-459E-9565-6F2EBB8B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E7142-3613-455A-AE8A-0D3E54C9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34262-2BC1-4B78-9DD9-BC47C72B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F7B4A-CC9A-46A3-B5C0-D504B1CA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F7185-5653-4CFA-BF71-DA5C8044A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A9840-C81E-4AC0-ADE7-E6DC55FA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CF422-1B50-4FA2-AD39-80756894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5EACA-A1F7-4F38-B886-30B15EA1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E283-E977-496D-8C57-5968F79E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71AE7-5612-436A-9285-DAAA7EEA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560AD-D67A-43FB-8D62-3BD00AF8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DC0E0-6380-47B7-BABD-C66C89A8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08A34-82FF-4F7B-982E-3BA8AD2D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571E1-F9B5-4938-869E-7063B277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C8E33-CF9A-4B8D-9A9F-13F969AE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39CF8-8BA5-4442-B5D5-339DD01E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48385-D2B0-4E35-8A03-8FDAB06D7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86C81-186F-433E-9102-D8E72C52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D7D95-56CD-432B-8F45-EE7CABC7A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EEF5-CCAD-4829-BE6D-69B4EBA4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964D4-0252-4B35-A7C9-B3013369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93B7D-9496-48F5-8B29-07C2D9DD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E0FB5-6EA0-4A08-9DD8-79A4B23F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864BA-4B38-4DB3-B34A-B3DE7693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BFE3E-82ED-4569-A2FC-2DCB26F1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9F4EC-CBCC-4BC5-940A-44CF7C76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BF8DE-6159-471C-9DB8-660E586D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FC695-78E8-419A-B794-79932B22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C9F48-006F-4350-9095-DD36043F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D84C4-C5CD-4EA8-A1BB-8C89C74D8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4D9C-5ED9-4582-8D05-0D078E99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6028C-4F8A-4932-8943-B34A03A1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9EBAA-58D2-481B-8F44-5DD54CD4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78D06-D85B-4CD1-A3D0-66C21BCB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EDC72-DF66-4F38-B81D-194F52BB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95002-6A1A-4A38-9337-93FC8A63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7CE1B-A6A6-4D8A-BF25-8659FE8E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3A6EA-6013-4D60-9CED-1C471C11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2D3FF-5EC3-475B-BBBD-DE77341C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5CD7E-C3B2-4CD7-AE69-B2A7A2A3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46675-BC35-4D2F-98A4-7B33B43D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F1FA-74A9-4B7E-A5B3-359BC3E3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6FE88-C83F-4469-B60E-34122989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3E772-9619-41FC-A89E-344D07BE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476A6-32E9-4070-9302-DFDC5882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E1B59-88D0-4EA3-ABEE-3075E0FE4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2870D-0DF0-4044-A87E-059FC67B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AAA02-EAC5-407C-9989-58C74718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ADFF8-6E27-40AD-A336-AEFFD63E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28678-1BF6-4BC4-9B96-5D3C7A97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C4903-E622-4265-89FB-EEC12929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40EE9-DDB2-4F14-9710-D1D65D78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C6C7-DC1B-44FB-B468-2582B00F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4CB5A-3BBD-41E4-A763-CF80B301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D7402-87E5-4F95-8F66-3D134ACA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4C54D-36E6-4A8F-9390-FEB6365D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C5C13-4843-4C29-B339-D9098722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1726E-FD93-452B-B1C9-AAB13214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6AFB3-8BA1-4FA0-9320-F9504785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8CEBE-79A7-4332-9E9D-DF9EDA8A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BCC21-9084-4384-BD13-7A7F8391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BA0A4-63F6-47BB-AC96-06C03E4C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46F8A-041F-474A-BCEF-05A67CB0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68DE-95C7-4720-990B-2FC7802D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F06D3-7B76-48DC-9E06-0BE080F9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9A145-326D-48AA-B591-7237BCB1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A63C6-1532-4408-97E6-D78D61AE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6E98D-B66A-48EC-A2DE-0A18D856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3B83E-35AD-42CB-B904-821B9AFF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888C1-C29B-454E-9D74-D9340F25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E0984-7DD8-4605-9955-EC6FA0DB1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C35C8-E7FB-4F2F-9532-83633467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8CF76-1C4A-4777-9E95-8FBA3935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71B49-6454-41DA-8CC6-18D33BA2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5757-39EF-4FBA-A909-4BCF7248CC3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3843-361B-4198-8C18-CEF73B02834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9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4283-F890-4E44-BB54-E31895D30EC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F895-CADE-4B44-BDE7-B2533E5E625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18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5B0A-F982-4DF3-A824-C544984B219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EACA-9DFA-4E12-A6B1-3A50F396B47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723D-34F5-410B-9FAA-735953BC045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06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EB36-632C-4D36-9129-9C0F4208F6F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63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5C89-9392-4031-BFD3-CE8A60859D2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6840" y="980640"/>
            <a:ext cx="8435880" cy="51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урс “КОНФЛІКТНО_ЧУТЛИВА ЖУРНРАЛІСТИКА”</a:t>
            </a:r>
            <a:r>
              <a:rPr b="0" lang="uk-UA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для кого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Для тих, хто прагне бути коректни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Для тих, хто відстоює людиноцентричніст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Для тих, хто прагне бути сучасним і поважає свободу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Для тих, хто пропагує толерантніст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Що вивчаємо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ктну термінологію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 працювати з чутливим групам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 не порушувати права люде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Прямая соединительная линия 8"/>
          <p:cNvSpPr/>
          <p:nvPr/>
        </p:nvSpPr>
        <p:spPr>
          <a:xfrm>
            <a:off x="357120" y="1571760"/>
            <a:ext cx="2786040" cy="642960"/>
          </a:xfrm>
          <a:prstGeom prst="line">
            <a:avLst/>
          </a:prstGeom>
          <a:ln w="10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13"/>
          <p:cNvSpPr/>
          <p:nvPr/>
        </p:nvSpPr>
        <p:spPr>
          <a:xfrm>
            <a:off x="357120" y="1571760"/>
            <a:ext cx="2786040" cy="571320"/>
          </a:xfrm>
          <a:prstGeom prst="line">
            <a:avLst/>
          </a:prstGeom>
          <a:ln w="10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ая соединительная линия 15"/>
          <p:cNvSpPr/>
          <p:nvPr/>
        </p:nvSpPr>
        <p:spPr>
          <a:xfrm>
            <a:off x="428760" y="1571760"/>
            <a:ext cx="2714400" cy="571320"/>
          </a:xfrm>
          <a:prstGeom prst="line">
            <a:avLst/>
          </a:prstGeom>
          <a:ln w="10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68360" y="475920"/>
            <a:ext cx="8229600" cy="56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Які навички формуємо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ти на чутливі тем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ілкуватися з чутливими групам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ти про конфлікт, дотримуючись стандартів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Які переваги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-толерантні і поважаємо права люде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 знаємо як писати про конфлік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033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До зустрічі!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7:19:27Z</dcterms:created>
  <dc:creator>Юля</dc:creator>
  <dc:description/>
  <dc:language>en-US</dc:language>
  <cp:lastModifiedBy>Юлия</cp:lastModifiedBy>
  <dcterms:modified xsi:type="dcterms:W3CDTF">2020-09-28T19:56:49Z</dcterms:modified>
  <cp:revision>26</cp:revision>
  <dc:subject/>
  <dc:title>Музика як виражальний засіб радіомовлення</dc:title>
</cp:coreProperties>
</file>