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828-8C42-4FBB-AD8E-64C930DE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70B-AF48-43DF-A3C8-1F412671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6C1DA-FA91-4CA6-B70F-A5EA16E3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4E682-C6BE-4ABB-A91B-2E30E132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8C55B-BC90-40C6-B6C8-EB5AF301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3CB20-7A54-494B-AAC4-0C76C32B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A7DB2-B7E3-4BDB-812F-77D934E0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3BA52-DBED-4C22-A7F8-229685CD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28308-08C2-45D7-90A3-0B6E5C75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470FF-4ACD-4BD9-B251-EB21FB6C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58684-AB63-4964-9D81-00E3585B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696-8F0D-4536-A990-3AC2708A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BE5-4313-430F-9261-E87188DA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B511-02D7-4B8D-9C17-380D124B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392A-5862-43FC-A64D-58012CBC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FF1B-94D4-4108-80E0-8EC35441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ACF9-4741-4525-AFE8-F0E4CE1A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9AD3-A0C2-4D19-BE42-FA7C6611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21B0-D51B-4DBE-B444-03082798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E77E-56B0-46A9-89A1-47150AEB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8A8-23F3-42A6-A237-71C16876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6D5E-A423-47FE-BB92-B726C541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BFEE-7999-4BB0-A96C-332DA454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A96F-9D75-4D36-A6E5-F98BC5E2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98F7-13B8-4EF8-B409-4FA4B624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6E7C-0405-4102-9B9C-22E13C1C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8E665-A732-4C06-8F31-FD83347E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13B36-C619-4B32-B853-84872C27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DD73C-0165-46CD-BDD9-1BCA5971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881C5-E1DD-4C7E-800E-7C06C271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EECEE-7202-45C0-9214-8D6881D5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367-8CFC-4A68-B74B-16B7BCA1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AEFD-1517-47CD-92A3-D6420210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C645C-CAA7-4D28-B424-3BBC5EB9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B994E-4CFB-4CD1-A77A-FBD21B5C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FCC76-E93E-44E7-AA30-A3793BC8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EDAD5-1450-4464-90A5-B9713FE1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5C82-DE1F-4369-9F6B-4D5A07AA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F42B6-DFE6-4F08-8DD7-08A25EDA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A4B39-0315-4D40-A152-A41718AE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DF256-9330-47F7-8EF8-A6E535E8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E2166-4A36-49BD-B105-35F9BAB3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23D-5E2A-4DD3-A9DB-2BE2088D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2F396-0A83-4B03-8C05-F55718E1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62240-FFB0-4171-B3E8-26CC4092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B6DA6-5ABD-4EDF-87B1-70B5C40E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5F0FD-84A3-47D4-8634-A7643805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B664F-9E38-4094-AEFA-40DEBA03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0A6BD-3378-420B-9CE9-BF7EFAA4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930E5-EF38-4AD8-919C-0EADFBAB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DA9D7-FD59-42D0-8DF3-3A287237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AD5C7-C9B0-42A7-AB47-11C6F45A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D3557-4331-4D77-B415-52BF5F8D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AA0-60B2-4664-9FBB-57F0DC6F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97E14-B005-4AC2-99E0-493D2DE5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CE510-D3FB-4187-91E7-75352BA0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36C6B-7169-4854-826C-26B2AFA6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F7827-FF1B-4DF8-A7C0-E1F1374E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95923-810C-4EA1-9D2C-05C1F534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B61C8-9BB2-4101-AD52-F9E4B41E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FB40D-AA8E-4143-A2C0-1567D85F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38BEE-D92B-4174-8395-B3960C1A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B88D6-4769-4CEA-BFD8-8015CA6A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3EE41-C2D7-4065-879E-021DA509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231-7B74-40CD-AEF0-79AD3C70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82A84-3CB2-4B21-82FC-ACC66ED3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ACF0A-1633-4DDB-B269-EAD977B5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24BB0-0E1E-4F5F-B8FC-D4D601B9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EFEBB-D2DD-4AFA-8725-7BFD05D6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B53BA-4B1F-420C-8B35-3947811F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CEFBB-F6E9-461E-ACD2-2B0C3428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9C987-49BC-4766-8624-9B8E818E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AE147-1A81-481E-A3DA-1B7EA8A2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59B84-8C62-4B6A-84A0-B3B92F20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CBDD1-B4E6-4373-9FEB-7D51B230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BDE-4763-4F42-A9FF-2505F6AB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C4616-BED1-4C57-AC3A-02E5F493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999AB-47C9-43CB-92BA-131859E8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B70F6-B130-49AF-BACA-AE689E9B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73B26-F40F-47E4-9756-C8083BCD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6AC1D-09CA-4CE3-94D7-34CED7F6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AAB98-2EE6-4614-A5A6-3FF0E5F2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8B95F-61D3-4CA8-85A2-C0053513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A5E24-9A07-4385-9EAD-936AC8CA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4BF97-1A15-4952-ABD2-1CA12306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460E1-D8B8-439F-A27F-04D73691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0B4-999C-4C38-895A-BD4D3DAF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4CFF4-F498-4C30-93B2-62E33F52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B749D-586A-446B-80BA-E34A8B28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AE299-EDBB-4FCA-8DF0-86528439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DD621-A793-4611-9D19-ECEB04CE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81930-D645-4D7E-A250-5D8B06C5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7343F-00A2-41DD-859D-797CFB78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A8900-B460-4906-AF58-FBBB25C6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062C8-4A1B-46DA-9EEC-993402AA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FF961-AD4F-489E-8D53-94EB93E4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34362-FB5C-4075-92F2-E7EA538E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230-0BE7-4724-AA8D-732A5B5C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3C38E-155E-4DBA-80B7-2C075C09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C19BA-51F4-4D37-9878-C28589BC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175B1-BE2D-4FC1-AC9B-4AB8C01B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5D361-1FB3-470A-B3D5-3B3ABE65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43259-74F4-4A57-B37A-F7856463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C998F-BB82-4E1C-B655-035B1318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67D24-0D82-429A-94F0-A39E72F7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F6054-26BA-40E7-82BC-A503ECA3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E747D-4E0B-4A58-9A4F-D11D9C01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F9916-9B7A-4104-B4F5-A1B76C56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3026-F80D-4EB0-8C74-8E0DB21A8AD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02B3-85A1-4059-A5D3-24E306F7C65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7AAA-BBED-48F4-B7F7-652BDD5B62D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288A-BF3D-4E7C-97BD-D6C00BF49D2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8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5A89-1044-4273-AF0C-658DDF780B0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9571-BA75-484B-A787-22C7C629E82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401E-9499-4769-BFCF-63933B18DC4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0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9107-F726-43BB-8131-8F3BAC0FA1A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6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899E-F3CE-40DD-B17A-B096D76FA6F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6840" y="980640"/>
            <a:ext cx="843588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урс “КОНФЛІКТНО_ЧУТЛИВА ЖУРНРАЛІСТИКА”</a:t>
            </a:r>
            <a:r>
              <a:rPr b="0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ля кого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ля тих, хто прагне бути коректни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ля тих, хто відстоює людиноцентричніс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ля тих, хто прагне бути сучасним і поважає свобод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ля тих, хто пропагує толерантніс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Що вивчаємо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ктну термінологію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працювати з чутливим групам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не порушувати права люд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ая соединительная линия 8"/>
          <p:cNvSpPr/>
          <p:nvPr/>
        </p:nvSpPr>
        <p:spPr>
          <a:xfrm>
            <a:off x="357120" y="1571760"/>
            <a:ext cx="2786040" cy="642960"/>
          </a:xfrm>
          <a:prstGeom prst="line">
            <a:avLst/>
          </a:prstGeom>
          <a:ln w="10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3"/>
          <p:cNvSpPr/>
          <p:nvPr/>
        </p:nvSpPr>
        <p:spPr>
          <a:xfrm>
            <a:off x="357120" y="1571760"/>
            <a:ext cx="2786040" cy="571320"/>
          </a:xfrm>
          <a:prstGeom prst="line">
            <a:avLst/>
          </a:prstGeom>
          <a:ln w="10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5"/>
          <p:cNvSpPr/>
          <p:nvPr/>
        </p:nvSpPr>
        <p:spPr>
          <a:xfrm>
            <a:off x="428760" y="1571760"/>
            <a:ext cx="2714400" cy="571320"/>
          </a:xfrm>
          <a:prstGeom prst="line">
            <a:avLst/>
          </a:prstGeom>
          <a:ln w="10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8360" y="475920"/>
            <a:ext cx="8229600" cy="56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навички формуємо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и на чутливі тем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ілкуватися з чутливими групам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и про конфлікт, дотримуючись стандартів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переваги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-толерантні і поважаємо права люде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 знаємо як писати про конфлік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03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о зустрічі!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7:19:27Z</dcterms:created>
  <dc:creator>Юля</dc:creator>
  <dc:description/>
  <dc:language>en-US</dc:language>
  <cp:lastModifiedBy>Юлия</cp:lastModifiedBy>
  <dcterms:modified xsi:type="dcterms:W3CDTF">2020-09-28T19:56:49Z</dcterms:modified>
  <cp:revision>26</cp:revision>
  <dc:subject/>
  <dc:title>Музика як виражальний засіб радіомовлення</dc:title>
</cp:coreProperties>
</file>