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DA8-0E55-4D1E-9BB6-7E888C8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9ED-2FD6-48BB-9C0C-0F965ACA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FD2-1C34-4BCC-BCFD-8E711EDF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205-F489-4E26-BDB7-0E44B316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D55-E4C2-454A-8694-7D4D701E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998-27F5-43CA-9CA7-BD88596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5A6C-D798-4030-8F68-E9970F2E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41D-95E2-447A-9FB5-901C95F0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21FF-8FE8-4D37-8D1D-C866290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A29E-6A76-42DB-9201-B905C297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B39-E408-4B8F-92EF-C512852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18C-985C-4ABB-9387-5B2C03F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0D5E-4BE8-496C-BD9C-384767E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9EA5-DF10-4146-893C-EEF8F42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D5EB-AFA2-4870-80A2-D5624302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725-96CA-41B8-96FA-9C53FAA8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615-441E-4B98-84A3-F579BB5B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05A5-5207-4CF3-B9A3-7DA5D857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C3AC-DF89-4BE5-8C57-C745641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4411-DCC9-4C8E-AB1B-4E7CBAB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4BC6-6F35-4190-8F5C-53B8748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D528-AEED-44A5-9FF1-6DFD6654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D5A-A520-4539-8493-C17D481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6C31-ABC5-4AB3-9F73-F2CD8949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CF1C-1131-43D1-893A-64C4317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EAC9-FA65-4963-9F3D-0E6ED23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0796-E8EC-4781-8F75-21B79A78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ACA3-CE6D-4DE6-8F5B-20B7B28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283A-C5D3-4D81-883F-4435A9C2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1766-F0A4-4FA0-8933-ED2F9385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BCEA-41B0-4A78-A4B1-44749ED5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A670-CAD0-46A6-B235-8C60042B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4336-41A1-4B1B-9119-4AFCBA02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F38-5251-4917-9085-4BEC181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88D0-079C-42E2-A002-6464902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7C0E-0591-4605-852B-2CA669C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3370-D21E-4A57-A19F-EBFE3F44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0C53-80A3-4DFC-ADFF-BA75AEE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3AB2-3340-4103-A6ED-4EFEEDB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4614-2C37-49FD-92FC-DC96A64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A84F-0EC3-4D02-AF0F-1A87E8C5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F1EA-959C-40BB-A9D5-65E03B92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DCB5-A3C5-46D2-9E9E-62B00EB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2F9-A688-4CCA-AEFE-A13616C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2FA-BA77-4735-92DF-CCE70AE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A0D-D67B-4FD0-AF4D-84894F0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366-9DAE-4C6E-92C5-5853283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D93-798E-4AC3-9083-3C6C14B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472B-AD67-48C2-9525-7DF1258690DD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C36C-1985-4474-8909-F24A42BE619E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79B-3338-4737-91D3-DFAC5B59C998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EC45-6089-41B1-A1A3-A797B0B00AA5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1f1"/>
            </a:gs>
            <a:gs pos="100000">
              <a:srgbClr val="007b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6" descr=""/>
          <p:cNvPicPr/>
          <p:nvPr/>
        </p:nvPicPr>
        <p:blipFill>
          <a:blip r:embed="rId1"/>
          <a:stretch/>
        </p:blipFill>
        <p:spPr>
          <a:xfrm>
            <a:off x="23760" y="128520"/>
            <a:ext cx="9364680" cy="1760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04920" y="22096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План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. Структура історичних знань та засоби їх формуванн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2. Джерела історичних знань, критерії їх класифікації. Методика роботи з історичними документам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3. Використання цифрового матеріалу на уроці істор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4. Методика використання хронологічних, синхроністичних таблиць та логічних схем на уроках істор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 u="sng">
                <a:solidFill>
                  <a:srgbClr val="ffcc00"/>
                </a:solidFill>
                <a:uFillTx/>
                <a:latin typeface="Times New Roman"/>
              </a:rPr>
              <a:t>Методика роботи з історичним джерелом для учнів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хема 6" descr=""/>
          <p:cNvPicPr/>
          <p:nvPr/>
        </p:nvPicPr>
        <p:blipFill>
          <a:blip r:embed="rId1"/>
          <a:stretch/>
        </p:blipFill>
        <p:spPr>
          <a:xfrm>
            <a:off x="182520" y="993600"/>
            <a:ext cx="4286160" cy="5639040"/>
          </a:xfrm>
          <a:prstGeom prst="rect">
            <a:avLst/>
          </a:prstGeom>
          <a:ln w="0">
            <a:noFill/>
          </a:ln>
        </p:spPr>
      </p:pic>
      <p:pic>
        <p:nvPicPr>
          <p:cNvPr id="218" name="Схема 7" descr=""/>
          <p:cNvPicPr/>
          <p:nvPr/>
        </p:nvPicPr>
        <p:blipFill>
          <a:blip r:embed="rId2"/>
          <a:stretch/>
        </p:blipFill>
        <p:spPr>
          <a:xfrm>
            <a:off x="4602240" y="993600"/>
            <a:ext cx="44020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Calibri"/>
              </a:rPr>
              <a:t>Пізнання  історії  починається  із  засвоєння  фактів</a:t>
            </a:r>
            <a:r>
              <a:rPr b="0" lang="uk-UA" sz="3600" spc="-1" strike="noStrike">
                <a:solidFill>
                  <a:srgbClr val="ffcc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2209680"/>
            <a:ext cx="2895840" cy="4191120"/>
          </a:xfrm>
          <a:prstGeom prst="rect">
            <a:avLst/>
          </a:prstGeom>
          <a:solidFill>
            <a:srgbClr val="69c24c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сі  фак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повторні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нікальні.   Тому   ї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ізнання повинн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йти шлях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оціативн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в’язкі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приклад, що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ітей склала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авильна уява пр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Фороський мая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його тре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рівня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часним маяком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5" descr="7914138_5d03068b"/>
          <p:cNvPicPr/>
          <p:nvPr/>
        </p:nvPicPr>
        <p:blipFill>
          <a:blip r:embed="rId1"/>
          <a:srcRect l="11429" t="0" r="0" b="5430"/>
          <a:stretch/>
        </p:blipFill>
        <p:spPr>
          <a:xfrm>
            <a:off x="4351320" y="2209680"/>
            <a:ext cx="4792680" cy="416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%D0%BC%D0%B0%D1%8F%D0%BA"/>
          <p:cNvPicPr/>
          <p:nvPr/>
        </p:nvPicPr>
        <p:blipFill>
          <a:blip r:embed="rId2"/>
          <a:stretch/>
        </p:blipFill>
        <p:spPr>
          <a:xfrm>
            <a:off x="3581280" y="2209680"/>
            <a:ext cx="2962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d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Timeline%203"/>
          <p:cNvPicPr/>
          <p:nvPr/>
        </p:nvPicPr>
        <p:blipFill>
          <a:blip r:embed="rId1"/>
          <a:stretch/>
        </p:blipFill>
        <p:spPr>
          <a:xfrm>
            <a:off x="1219320" y="1297080"/>
            <a:ext cx="6629400" cy="5560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Використання цифрового матеріалу на уроці історії. Хронологі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1603080"/>
          </a:xfrm>
          <a:prstGeom prst="rect">
            <a:avLst/>
          </a:prstGeom>
          <a:ln w="0">
            <a:noFill/>
          </a:ln>
        </p:spPr>
      </p:pic>
      <p:grpSp>
        <p:nvGrpSpPr>
          <p:cNvPr id="226" name="Rectangle 3"/>
          <p:cNvGrpSpPr/>
          <p:nvPr/>
        </p:nvGrpSpPr>
        <p:grpSpPr>
          <a:xfrm>
            <a:off x="0" y="3584520"/>
            <a:ext cx="9144000" cy="3273480"/>
            <a:chOff x="0" y="3584520"/>
            <a:chExt cx="9144000" cy="3273480"/>
          </a:xfrm>
        </p:grpSpPr>
        <p:pic>
          <p:nvPicPr>
            <p:cNvPr id="227" name="Rectangle 3" descr=""/>
            <p:cNvPicPr/>
            <p:nvPr/>
          </p:nvPicPr>
          <p:blipFill>
            <a:blip r:embed="rId2"/>
            <a:stretch/>
          </p:blipFill>
          <p:spPr>
            <a:xfrm>
              <a:off x="0" y="3587400"/>
              <a:ext cx="914400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3584520"/>
              <a:ext cx="9144000" cy="32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З ціллю полегшити запам'ятовування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виділяють 3 види да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основні  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  (їх   необхідно   запам’ятовувати   на тривалий час). Наприклад, дата  заснування держави, найважливіші віхи в житті країн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опорні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– ці дати необхідні на період вивчення курсу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другорядні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– дати потрібні для встановлення зв’язку між опорними дат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Rectangle 4"/>
          <p:cNvGrpSpPr/>
          <p:nvPr/>
        </p:nvGrpSpPr>
        <p:grpSpPr>
          <a:xfrm>
            <a:off x="304920" y="1219320"/>
            <a:ext cx="8461080" cy="2058480"/>
            <a:chOff x="304920" y="1219320"/>
            <a:chExt cx="8461080" cy="2058480"/>
          </a:xfrm>
        </p:grpSpPr>
        <p:pic>
          <p:nvPicPr>
            <p:cNvPr id="230" name="Rectangle 4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461080" cy="205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920" y="1219320"/>
              <a:ext cx="8458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ершочерговою є задача навчити учнів орієнтуватися за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хронологічною шкалою</a:t>
              </a: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cc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розрізняти дати до н.е. та н.е.;</a:t>
              </a:r>
              <a:br>
                <a:rPr sz="3200"/>
              </a:b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- розрізняти століття </a:t>
              </a: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(Наприклад: 1543 р. =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XVI </a:t>
              </a:r>
              <a:r>
                <a:rPr b="1" lang="uk-UA" sz="2300" spc="-1" strike="noStrike">
                  <a:solidFill>
                    <a:srgbClr val="000000"/>
                  </a:solidFill>
                  <a:latin typeface="Times New Roman"/>
                </a:rPr>
                <a:t>ст.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63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Найважливішим елементом у методиці розвитку хронологічних вмінь учнів на першому етапі постають </a:t>
            </a:r>
            <a:r>
              <a:rPr b="1" lang="uk-UA" sz="2600" spc="-1" strike="noStrike" u="sng">
                <a:solidFill>
                  <a:srgbClr val="ffcc00"/>
                </a:solidFill>
                <a:uFillTx/>
                <a:latin typeface="Times New Roman"/>
              </a:rPr>
              <a:t>хронологічні задачі</a:t>
            </a:r>
            <a:r>
              <a:rPr b="1" lang="uk-UA" sz="26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uk-UA" sz="2600" spc="-1" strike="noStrike">
                <a:solidFill>
                  <a:srgbClr val="77d9e8"/>
                </a:solidFill>
                <a:latin typeface="Times New Roman"/>
              </a:rPr>
              <a:t>Є стандартні і нестандартні задачі</a:t>
            </a:r>
            <a:r>
              <a:rPr b="0" lang="uk-UA" sz="2600" spc="-1" strike="noStrike">
                <a:solidFill>
                  <a:srgbClr val="77d9e8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Якщо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</a:rPr>
              <a:t>стандартн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дозволяють розвивати найпростіші хронологічні вміння учнів, такі як вміння співвідносити рік зі століттям, підраховувати час, який минув від однієї події до іншої, то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</a:rPr>
              <a:t>нестандартн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озраховані на формування таких складних вмінь учнів, як співвідносити різні системи літочислення, працювати з неадаптованими історичними джерелами, зміст яких складає хроноло­гічний матеріа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риклади хронологічних задач</a:t>
            </a:r>
            <a:r>
              <a:rPr b="0" lang="uk-UA" sz="2000" spc="-1" strike="noStrike">
                <a:solidFill>
                  <a:srgbClr val="ffcc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9ddc5"/>
                </a:solidFill>
                <a:latin typeface="Times New Roman"/>
              </a:rPr>
              <a:t>1.    Задачі на встановлення віддаленості події від сьогодення: «Скільки років тому відбулася подія, якщо відома її дата? 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9ddc5"/>
                </a:solidFill>
                <a:latin typeface="Times New Roman"/>
              </a:rPr>
              <a:t>2.    Задачі на встановлення віддаленості однієї події від іншої: «Скільки минуло років від однієї події до іншої?» або «На скільки років одна подія відбулася раніше за іншу?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4" descr=""/>
          <p:cNvPicPr/>
          <p:nvPr/>
        </p:nvPicPr>
        <p:blipFill>
          <a:blip r:embed="rId1"/>
          <a:stretch/>
        </p:blipFill>
        <p:spPr>
          <a:xfrm>
            <a:off x="231840" y="-23760"/>
            <a:ext cx="8686800" cy="1693800"/>
          </a:xfrm>
          <a:prstGeom prst="rect">
            <a:avLst/>
          </a:prstGeom>
          <a:ln w="0">
            <a:noFill/>
          </a:ln>
        </p:spPr>
      </p:pic>
      <p:pic>
        <p:nvPicPr>
          <p:cNvPr id="234" name="Схема 5" descr=""/>
          <p:cNvPicPr/>
          <p:nvPr/>
        </p:nvPicPr>
        <p:blipFill>
          <a:blip r:embed="rId2"/>
          <a:stretch/>
        </p:blipFill>
        <p:spPr>
          <a:xfrm>
            <a:off x="0" y="1590840"/>
            <a:ext cx="914400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1851_html_m54b6c79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2"/>
          <a:stretch/>
        </p:blipFill>
        <p:spPr>
          <a:xfrm>
            <a:off x="262080" y="133200"/>
            <a:ext cx="842472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Calibri"/>
              </a:rPr>
              <a:t>Лі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190512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яземский  Е.Е., Стрелкова  О.Ю.   Методические  рекомендацій учителю  истории. – М., 20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Александрова Г.І., Александров В.М., Полякова Л.І. Методика викладання історії в школі. Навч. посіб. для вищих навчальних закладів. – Мелітополь. 200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туденикин М.Т. Методика преподавания истории в школе. – М.: 20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Короткова М.В., Студеникин М.Т. Методика обучения истории в схемах, таблицах, описаниях. М. 1999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66"/>
                </a:solidFill>
                <a:latin typeface="Century Schoolbook"/>
              </a:rPr>
              <a:t>Структура історичних знань та засоби їх формуванн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хема 5" descr=""/>
          <p:cNvPicPr/>
          <p:nvPr/>
        </p:nvPicPr>
        <p:blipFill>
          <a:blip r:embed="rId1"/>
          <a:stretch/>
        </p:blipFill>
        <p:spPr>
          <a:xfrm>
            <a:off x="-12600" y="1603440"/>
            <a:ext cx="91692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Calibri"/>
              </a:rPr>
              <a:t>Також історичні знання можна поділити на таку структуру </a:t>
            </a:r>
            <a:r>
              <a:rPr b="1" lang="uk-UA" sz="3200" spc="-1" strike="noStrike" u="sng">
                <a:solidFill>
                  <a:srgbClr val="04617b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8" descr=""/>
          <p:cNvPicPr/>
          <p:nvPr/>
        </p:nvPicPr>
        <p:blipFill>
          <a:blip r:embed="rId1"/>
          <a:stretch/>
        </p:blipFill>
        <p:spPr>
          <a:xfrm>
            <a:off x="517680" y="1511280"/>
            <a:ext cx="8638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6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ccff"/>
                </a:solidFill>
                <a:latin typeface="Arial"/>
                <a:ea typeface="Arial"/>
              </a:rPr>
              <a:t>Історичні знання виконують п’ять головних функцій.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хема 5" descr=""/>
          <p:cNvPicPr/>
          <p:nvPr/>
        </p:nvPicPr>
        <p:blipFill>
          <a:blip r:embed="rId1"/>
          <a:stretch/>
        </p:blipFill>
        <p:spPr>
          <a:xfrm>
            <a:off x="-609480" y="152280"/>
            <a:ext cx="1066788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a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4" descr=""/>
          <p:cNvPicPr/>
          <p:nvPr/>
        </p:nvPicPr>
        <p:blipFill>
          <a:blip r:embed="rId1"/>
          <a:stretch/>
        </p:blipFill>
        <p:spPr>
          <a:xfrm>
            <a:off x="414360" y="384120"/>
            <a:ext cx="84376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388"/>
            </a:gs>
            <a:gs pos="50000">
              <a:srgbClr val="3f8cc1"/>
            </a:gs>
            <a:gs pos="100000">
              <a:srgbClr val="2c63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man Old Style"/>
              </a:rPr>
              <a:t>Історичні факти мають свою класифікацію, їх можна розділити на 3 групи</a:t>
            </a:r>
            <a:r>
              <a:rPr b="0" lang="uk-UA" sz="28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1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 факти – події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2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: факти-явищ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3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 факти – процес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57200" y="3505320"/>
            <a:ext cx="845820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cc00"/>
                </a:solidFill>
                <a:latin typeface="Times New Roman"/>
              </a:rPr>
              <a:t>Факти – под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неповторні, поодинокі факти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Наприклад: Битва при Жовтих Водах, відміна кріпосного 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cc00"/>
                </a:solidFill>
                <a:latin typeface="Times New Roman"/>
              </a:rPr>
              <a:t>Факти – явищ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це факти, які повторюються багато разів. У них відображені риси епохи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Наприклад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ія, повстанн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152280" y="0"/>
            <a:ext cx="8839440" cy="26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Проце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послідовна зміна станів у розв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історії це ланцюг взаємопов'язаних у часі факт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що поєдную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з одн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ч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ід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им з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‘язк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Наприклад</a:t>
            </a:r>
            <a:r>
              <a:rPr b="0" i="1" lang="uk-UA" sz="2000" spc="-1" strike="noStrike">
                <a:solidFill>
                  <a:srgbClr val="000000"/>
                </a:solidFill>
                <a:latin typeface="Bookman Old Style"/>
              </a:rPr>
              <a:t>, буржуазні революції в Європейських країнах XVII – XX ст.. висвітлюють революційний процес переходу від доіндустріального суспільства до суспільства індустріального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хема 6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888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cc00"/>
                </a:solidFill>
                <a:latin typeface="Arial"/>
                <a:ea typeface="Arial"/>
              </a:rPr>
              <a:t>Джерела історичних знань, критерії їх класифікації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хема 10" descr="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8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4960" y="2746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cc00"/>
                </a:solidFill>
                <a:latin typeface="Times New Roman"/>
              </a:rPr>
              <a:t>Навчання роботі з документом включає такі етапи</a:t>
            </a:r>
            <a:r>
              <a:rPr b="1" lang="uk-UA" sz="2500" spc="-1" strike="noStrike">
                <a:solidFill>
                  <a:srgbClr val="04617b"/>
                </a:solidFill>
                <a:latin typeface="Times New Roman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04960" y="3733920"/>
            <a:ext cx="5638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ff"/>
                </a:solidFill>
                <a:latin typeface="Bookman Old Style"/>
              </a:rPr>
              <a:t>Робота з документами також включає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читання і переказ документа і складання план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пояснювальне читання з попередньою і заключною бесід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самостійний розбір документа і відповіді на запитання до нього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9880" y="114300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1) учитель дає зразок розбору документа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2) учні аналізують документ під керівництвом учителя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3) працюють під керівництвом учителя і самостійно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4) самостійно вивчають документ у класі і вд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7" descr="14_2_List_of_Radzivill_Chron"/>
          <p:cNvPicPr/>
          <p:nvPr/>
        </p:nvPicPr>
        <p:blipFill>
          <a:blip r:embed="rId1"/>
          <a:stretch/>
        </p:blipFill>
        <p:spPr>
          <a:xfrm>
            <a:off x="152280" y="38088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38088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орівняльне зіставлення двох документів, що доповнюють один одного і характеризують одну і ту саму поді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 надання критичної оцінки докум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ій Терно</cp:lastModifiedBy>
  <dcterms:modified xsi:type="dcterms:W3CDTF">2014-09-20T18:26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