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D6A-7173-4115-B866-4916B9E5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6E2-C6DA-43CB-9AD7-7FE9C24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B10-3C4B-4B10-B620-57C4DDE2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C55-2264-416B-8A87-B49BE5C8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2D58-DA29-44C3-83C3-423A1219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38CA-631A-4C75-938B-E46ACAFC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765-36F2-4917-8206-F8B47648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762-6D77-4302-AE6C-F7CBF1CB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3ED4-026C-46D2-BA24-5565390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381F-6B4E-4987-9F05-50B2F8C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745-25B7-4B41-AA66-6E0246FF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078-242F-49DD-8298-A6FFB94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F18-9846-46E0-A811-FE8078A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C377-32C8-4764-B6F3-78E9052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F2E0-DA8D-4A63-8B0E-D8438918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C410-4618-461F-8101-ECDF874C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905A-B6BD-4807-B207-0D3BD83F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3D6BC-D563-4B67-9B22-0C87C193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512D-59D6-4975-B6FE-DF85AE17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002D-3C0C-4843-B21B-17588A7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3158-2137-40BC-9849-038C260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658C-9139-49F6-BD18-D0E7E4D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A18-3A2B-4BB7-941D-BA683A66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3A6C7-DB5F-4F20-92BA-594CEBC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4C37-89F6-4C0E-A1A0-825908E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5147-1941-4429-ADBC-68A35E4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1333-4FFC-4E6D-9B1A-F1C4B8F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7FA4-04EE-47D6-9ECF-435E677E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4FEE-1382-42BD-822E-B3AC6419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9B20-978D-4322-B9A2-2CAACE9E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81CA-6597-4C66-9234-68838CB3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5016-AFF2-4F70-8C99-B452CD2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3F72-CE69-4376-A0B7-C6CF41D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781-5D58-4AC6-9D8D-9ECCE0D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5F98-B389-4E82-83A4-9FA025EB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5E9E-9938-429C-A0E9-7B207B04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1D19-E7C3-4377-B630-EEBC2D0E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6AB4-9E93-487A-ACB3-5D0EA6EF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7BEE-767B-48B3-845F-0A50251E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0001-343D-4C03-9290-2D512D47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C3D9-86FC-4CFF-B239-33A95B2C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9B5B-83B0-4558-9ED2-2FCB6247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D124-7494-4B99-8BE4-3E30E704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8F4-F977-429D-BECB-905CF36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41B-D09F-468D-A523-5281E83B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42B-363C-43FC-8BC5-6BE6B09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EC0-F658-4494-8BB6-313492BD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690-32E2-44BB-A89F-3ED0438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8BF1-73AF-40DA-B7DA-71D7BAD60A3F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BA9-B955-4B9A-8E15-2A115E0860D3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725-19D1-48A4-8C5D-B6A3303B2A7E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DA1-DCF4-4EAD-AA1A-C17FB4E49D5B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1f1"/>
            </a:gs>
            <a:gs pos="100000">
              <a:srgbClr val="007b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6" descr=""/>
          <p:cNvPicPr/>
          <p:nvPr/>
        </p:nvPicPr>
        <p:blipFill>
          <a:blip r:embed="rId1"/>
          <a:stretch/>
        </p:blipFill>
        <p:spPr>
          <a:xfrm>
            <a:off x="23760" y="128520"/>
            <a:ext cx="9364680" cy="1760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04920" y="22096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onstantia"/>
              </a:rPr>
              <a:t>План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. Структура історичних знань та засоби їх формування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2. Джерела історичних знань, критерії їх класифікації. Методика роботи з історичними документам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3. Використання цифрового матеріалу на уроці істор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a5c249"/>
                </a:solidFill>
                <a:latin typeface="Constantia"/>
              </a:rPr>
              <a:t>4. Методика використання хронологічних, синхроністичних таблиць та логічних схем на уроках історії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 u="sng">
                <a:solidFill>
                  <a:srgbClr val="ffcc00"/>
                </a:solidFill>
                <a:uFillTx/>
                <a:latin typeface="Times New Roman"/>
              </a:rPr>
              <a:t>Методика роботи з історичним джерелом для учнів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хема 6" descr=""/>
          <p:cNvPicPr/>
          <p:nvPr/>
        </p:nvPicPr>
        <p:blipFill>
          <a:blip r:embed="rId1"/>
          <a:stretch/>
        </p:blipFill>
        <p:spPr>
          <a:xfrm>
            <a:off x="182520" y="993600"/>
            <a:ext cx="4286160" cy="5639040"/>
          </a:xfrm>
          <a:prstGeom prst="rect">
            <a:avLst/>
          </a:prstGeom>
          <a:ln w="0">
            <a:noFill/>
          </a:ln>
        </p:spPr>
      </p:pic>
      <p:pic>
        <p:nvPicPr>
          <p:cNvPr id="218" name="Схема 7" descr=""/>
          <p:cNvPicPr/>
          <p:nvPr/>
        </p:nvPicPr>
        <p:blipFill>
          <a:blip r:embed="rId2"/>
          <a:stretch/>
        </p:blipFill>
        <p:spPr>
          <a:xfrm>
            <a:off x="4602240" y="993600"/>
            <a:ext cx="440208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cc00"/>
                </a:solidFill>
                <a:latin typeface="Calibri"/>
              </a:rPr>
              <a:t>Пізнання  історії  починається  із  засвоєння  фактів</a:t>
            </a:r>
            <a:r>
              <a:rPr b="0" lang="uk-UA" sz="3600" spc="-1" strike="noStrike">
                <a:solidFill>
                  <a:srgbClr val="ffcc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2209680"/>
            <a:ext cx="2895840" cy="4191120"/>
          </a:xfrm>
          <a:prstGeom prst="rect">
            <a:avLst/>
          </a:prstGeom>
          <a:solidFill>
            <a:srgbClr val="69c24c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сі  фак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еповторні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нікальні.   Тому   ї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ізнання повинн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йти шлях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Асоціативн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в’язкі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Наприклад, щоб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дітей склала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авильна уява пр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Cambria Math"/>
                <a:ea typeface="Cambria Math"/>
              </a:rPr>
              <a:t>Фороський мая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його треб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рівнят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сучасним маяком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5" descr="7914138_5d03068b"/>
          <p:cNvPicPr/>
          <p:nvPr/>
        </p:nvPicPr>
        <p:blipFill>
          <a:blip r:embed="rId1"/>
          <a:srcRect l="11429" t="0" r="0" b="5430"/>
          <a:stretch/>
        </p:blipFill>
        <p:spPr>
          <a:xfrm>
            <a:off x="4351320" y="2209680"/>
            <a:ext cx="4792680" cy="416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%D0%BC%D0%B0%D1%8F%D0%BA"/>
          <p:cNvPicPr/>
          <p:nvPr/>
        </p:nvPicPr>
        <p:blipFill>
          <a:blip r:embed="rId2"/>
          <a:stretch/>
        </p:blipFill>
        <p:spPr>
          <a:xfrm>
            <a:off x="3581280" y="2209680"/>
            <a:ext cx="2962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d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Timeline%203"/>
          <p:cNvPicPr/>
          <p:nvPr/>
        </p:nvPicPr>
        <p:blipFill>
          <a:blip r:embed="rId1"/>
          <a:stretch/>
        </p:blipFill>
        <p:spPr>
          <a:xfrm>
            <a:off x="1219320" y="1297080"/>
            <a:ext cx="6629400" cy="5560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Використання цифрового матеріалу на уроці історії. Хронологі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1603080"/>
          </a:xfrm>
          <a:prstGeom prst="rect">
            <a:avLst/>
          </a:prstGeom>
          <a:ln w="0">
            <a:noFill/>
          </a:ln>
        </p:spPr>
      </p:pic>
      <p:grpSp>
        <p:nvGrpSpPr>
          <p:cNvPr id="226" name="Rectangle 3"/>
          <p:cNvGrpSpPr/>
          <p:nvPr/>
        </p:nvGrpSpPr>
        <p:grpSpPr>
          <a:xfrm>
            <a:off x="0" y="3584520"/>
            <a:ext cx="9144000" cy="3273480"/>
            <a:chOff x="0" y="3584520"/>
            <a:chExt cx="9144000" cy="3273480"/>
          </a:xfrm>
        </p:grpSpPr>
        <p:pic>
          <p:nvPicPr>
            <p:cNvPr id="227" name="Rectangle 3" descr=""/>
            <p:cNvPicPr/>
            <p:nvPr/>
          </p:nvPicPr>
          <p:blipFill>
            <a:blip r:embed="rId2"/>
            <a:stretch/>
          </p:blipFill>
          <p:spPr>
            <a:xfrm>
              <a:off x="0" y="3587400"/>
              <a:ext cx="914400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3584520"/>
              <a:ext cx="9144000" cy="32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З ціллю полегшити запам'ятовування,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Times New Roman"/>
                </a:rPr>
                <a:t>виділяють 3 види дат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основні  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  (їх   необхідно   запам’ятовувати   на тривалий час). Наприклад, дата  заснування держави, найважливіші віхи в житті країн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опорні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– ці дати необхідні на період вивчення курсу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●  </a:t>
              </a:r>
              <a:r>
                <a:rPr b="1" lang="uk-UA" sz="2400" spc="-1" strike="noStrike">
                  <a:solidFill>
                    <a:srgbClr val="000000"/>
                  </a:solidFill>
                  <a:latin typeface="Constantia"/>
                </a:rPr>
                <a:t>другорядні дати</a:t>
              </a:r>
              <a:r>
                <a:rPr b="0" lang="uk-UA" sz="2400" spc="-1" strike="noStrike">
                  <a:solidFill>
                    <a:srgbClr val="000000"/>
                  </a:solidFill>
                  <a:latin typeface="Constantia"/>
                </a:rPr>
                <a:t> – дати потрібні для встановлення зв’язку між опорними дат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Rectangle 4"/>
          <p:cNvGrpSpPr/>
          <p:nvPr/>
        </p:nvGrpSpPr>
        <p:grpSpPr>
          <a:xfrm>
            <a:off x="304920" y="1219320"/>
            <a:ext cx="8461080" cy="2058480"/>
            <a:chOff x="304920" y="1219320"/>
            <a:chExt cx="8461080" cy="2058480"/>
          </a:xfrm>
        </p:grpSpPr>
        <p:pic>
          <p:nvPicPr>
            <p:cNvPr id="230" name="Rectangle 4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461080" cy="205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920" y="1219320"/>
              <a:ext cx="8458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ершочерговою є задача навчити учнів орієнтуватися за </a:t>
              </a: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хронологічною шкалою</a:t>
              </a: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cc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розрізняти дати до н.е. та н.е.;</a:t>
              </a:r>
              <a:br>
                <a:rPr sz="3200"/>
              </a:br>
              <a:r>
                <a:rPr b="1" lang="ru-RU" sz="3200" spc="-1" strike="noStrike">
                  <a:solidFill>
                    <a:srgbClr val="ffcc00"/>
                  </a:solidFill>
                  <a:latin typeface="Times New Roman"/>
                </a:rPr>
                <a:t>- розрізняти століття </a:t>
              </a: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(Наприклад: 1543 р. = </a:t>
              </a: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XVI </a:t>
              </a:r>
              <a:r>
                <a:rPr b="1" lang="uk-UA" sz="2300" spc="-1" strike="noStrike">
                  <a:solidFill>
                    <a:srgbClr val="000000"/>
                  </a:solidFill>
                  <a:latin typeface="Times New Roman"/>
                </a:rPr>
                <a:t>ст.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63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Найважливішим елементом у методиці розвитку хронологічних вмінь учнів на першому етапі постають </a:t>
            </a:r>
            <a:r>
              <a:rPr b="1" lang="uk-UA" sz="2600" spc="-1" strike="noStrike" u="sng">
                <a:solidFill>
                  <a:srgbClr val="ffcc00"/>
                </a:solidFill>
                <a:uFillTx/>
                <a:latin typeface="Times New Roman"/>
              </a:rPr>
              <a:t>хронологічні задачі</a:t>
            </a:r>
            <a:r>
              <a:rPr b="1" lang="uk-UA" sz="26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uk-UA" sz="2600" spc="-1" strike="noStrike">
                <a:solidFill>
                  <a:srgbClr val="77d9e8"/>
                </a:solidFill>
                <a:latin typeface="Times New Roman"/>
              </a:rPr>
              <a:t>Є стандартні і нестандартні задачі</a:t>
            </a:r>
            <a:r>
              <a:rPr b="0" lang="uk-UA" sz="2600" spc="-1" strike="noStrike">
                <a:solidFill>
                  <a:srgbClr val="77d9e8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Якщо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</a:rPr>
              <a:t>стандартні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 дозволяють розвивати найпростіші хронологічні вміння учнів, такі як вміння співвідносити рік зі століттям, підраховувати час, який минув від однієї події до іншої, то</a:t>
            </a:r>
            <a:r>
              <a:rPr b="0" i="1" lang="uk-U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600" spc="-1" strike="noStrike">
                <a:solidFill>
                  <a:srgbClr val="ffffff"/>
                </a:solidFill>
                <a:latin typeface="Times New Roman"/>
              </a:rPr>
              <a:t>нестандартн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</a:rPr>
              <a:t>і</a:t>
            </a:r>
            <a:r>
              <a:rPr b="0" lang="uk-UA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</a:rPr>
              <a:t>розраховані на формування таких складних вмінь учнів, як співвідносити різні системи літочислення, працювати з неадаптованими історичними джерелами, зміст яких складає хроноло­гічний матеріа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cc00"/>
                </a:solidFill>
                <a:uFillTx/>
                <a:latin typeface="Times New Roman"/>
              </a:rPr>
              <a:t>Приклади хронологічних задач</a:t>
            </a:r>
            <a:r>
              <a:rPr b="0" lang="uk-UA" sz="2000" spc="-1" strike="noStrike">
                <a:solidFill>
                  <a:srgbClr val="ffcc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9ddc5"/>
                </a:solidFill>
                <a:latin typeface="Times New Roman"/>
              </a:rPr>
              <a:t>1.    Задачі на встановлення віддаленості події від сьогодення: «Скільки років тому відбулася подія, якщо відома її дата? 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9ddc5"/>
                </a:solidFill>
                <a:latin typeface="Times New Roman"/>
              </a:rPr>
              <a:t>2.    Задачі на встановлення віддаленості однієї події від іншої: «Скільки минуло років від однієї події до іншої?» або «На скільки років одна подія відбулася раніше за іншу?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3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4" descr=""/>
          <p:cNvPicPr/>
          <p:nvPr/>
        </p:nvPicPr>
        <p:blipFill>
          <a:blip r:embed="rId1"/>
          <a:stretch/>
        </p:blipFill>
        <p:spPr>
          <a:xfrm>
            <a:off x="231840" y="-23760"/>
            <a:ext cx="8686800" cy="1693800"/>
          </a:xfrm>
          <a:prstGeom prst="rect">
            <a:avLst/>
          </a:prstGeom>
          <a:ln w="0">
            <a:noFill/>
          </a:ln>
        </p:spPr>
      </p:pic>
      <p:pic>
        <p:nvPicPr>
          <p:cNvPr id="234" name="Схема 5" descr=""/>
          <p:cNvPicPr/>
          <p:nvPr/>
        </p:nvPicPr>
        <p:blipFill>
          <a:blip r:embed="rId2"/>
          <a:stretch/>
        </p:blipFill>
        <p:spPr>
          <a:xfrm>
            <a:off x="0" y="1590840"/>
            <a:ext cx="914400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1851_html_m54b6c79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2"/>
          <a:stretch/>
        </p:blipFill>
        <p:spPr>
          <a:xfrm>
            <a:off x="262080" y="133200"/>
            <a:ext cx="842472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cc00"/>
                </a:solidFill>
                <a:latin typeface="Calibri"/>
              </a:rPr>
              <a:t>Літератур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190512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яземский  Е.Е., Стрелкова  О.Ю.   Методические  рекомендацій учителю  истории. – М., 20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Александрова Г.І., Александров В.М., Полякова Л.І. Методика викладання історії в школі. Навч. посіб. для вищих навчальних закладів. – Мелітополь. 200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Студеникин М.Т. Методика преподавания истории в школе. – М.: 200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Короткова М.В., Студеникин М.Т. Методика обучения истории в схемах, таблицах, описаниях. М. 1999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b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66"/>
                </a:solidFill>
                <a:latin typeface="Century Schoolbook"/>
              </a:rPr>
              <a:t>Структура історичних знань та засоби їх формуванн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Схема 5" descr=""/>
          <p:cNvPicPr/>
          <p:nvPr/>
        </p:nvPicPr>
        <p:blipFill>
          <a:blip r:embed="rId1"/>
          <a:stretch/>
        </p:blipFill>
        <p:spPr>
          <a:xfrm>
            <a:off x="-12600" y="1603440"/>
            <a:ext cx="916920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Calibri"/>
              </a:rPr>
              <a:t>Також історичні знання можна поділити на таку структуру </a:t>
            </a:r>
            <a:r>
              <a:rPr b="1" lang="uk-UA" sz="3200" spc="-1" strike="noStrike" u="sng">
                <a:solidFill>
                  <a:srgbClr val="04617b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Содержимое 8" descr=""/>
          <p:cNvPicPr/>
          <p:nvPr/>
        </p:nvPicPr>
        <p:blipFill>
          <a:blip r:embed="rId1"/>
          <a:stretch/>
        </p:blipFill>
        <p:spPr>
          <a:xfrm>
            <a:off x="517680" y="1511280"/>
            <a:ext cx="8638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6a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ccff"/>
                </a:solidFill>
                <a:latin typeface="Arial"/>
                <a:ea typeface="Arial"/>
              </a:rPr>
              <a:t>Історичні знання виконують п’ять головних функцій.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хема 5" descr=""/>
          <p:cNvPicPr/>
          <p:nvPr/>
        </p:nvPicPr>
        <p:blipFill>
          <a:blip r:embed="rId1"/>
          <a:stretch/>
        </p:blipFill>
        <p:spPr>
          <a:xfrm>
            <a:off x="-609480" y="152280"/>
            <a:ext cx="1066788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a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4" descr=""/>
          <p:cNvPicPr/>
          <p:nvPr/>
        </p:nvPicPr>
        <p:blipFill>
          <a:blip r:embed="rId1"/>
          <a:stretch/>
        </p:blipFill>
        <p:spPr>
          <a:xfrm>
            <a:off x="414360" y="384120"/>
            <a:ext cx="84376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6388"/>
            </a:gs>
            <a:gs pos="50000">
              <a:srgbClr val="3f8cc1"/>
            </a:gs>
            <a:gs pos="100000">
              <a:srgbClr val="2c63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man Old Style"/>
              </a:rPr>
              <a:t>Історичні факти мають свою класифікацію, їх можна розділити на 3 групи</a:t>
            </a:r>
            <a:r>
              <a:rPr b="0" lang="uk-UA" sz="28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1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 факти – події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2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: факти-явищ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3 група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: факти – процес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457200" y="3505320"/>
            <a:ext cx="845820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cc00"/>
                </a:solidFill>
                <a:latin typeface="Times New Roman"/>
              </a:rPr>
              <a:t>Факти – под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неповторні, поодинокі факти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Наприклад: Битва при Жовтих Водах, відміна кріпосного п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cc00"/>
                </a:solidFill>
                <a:latin typeface="Times New Roman"/>
              </a:rPr>
              <a:t>Факти – явищ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це факти, які повторюються багато разів. У них відображені риси епохи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Наприклад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ія, повстанн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152280" y="0"/>
            <a:ext cx="8839440" cy="26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cc00"/>
                </a:solidFill>
                <a:uFillTx/>
                <a:latin typeface="Times New Roman"/>
                <a:ea typeface="Times New Roman"/>
              </a:rPr>
              <a:t>Проце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це послідовна зміна станів у розв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історії це ланцюг взаємопов'язаних у часі факт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що поєдную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ин з одн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ч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ід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им з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‘язк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Наприклад</a:t>
            </a:r>
            <a:r>
              <a:rPr b="0" i="1" lang="uk-UA" sz="2000" spc="-1" strike="noStrike">
                <a:solidFill>
                  <a:srgbClr val="000000"/>
                </a:solidFill>
                <a:latin typeface="Bookman Old Style"/>
              </a:rPr>
              <a:t>, буржуазні революції в Європейських країнах XVII – XX ст.. висвітлюють революційний процес переходу від доіндустріального суспільства до суспільства індустріального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Схема 6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8888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cc00"/>
                </a:solidFill>
                <a:latin typeface="Arial"/>
                <a:ea typeface="Arial"/>
              </a:rPr>
              <a:t>Джерела історичних знань, критерії їх класифікації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хема 10" descr="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8c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4960" y="2746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cc00"/>
                </a:solidFill>
                <a:latin typeface="Times New Roman"/>
              </a:rPr>
              <a:t>Навчання роботі з документом включає такі етапи</a:t>
            </a:r>
            <a:r>
              <a:rPr b="1" lang="uk-UA" sz="2500" spc="-1" strike="noStrike">
                <a:solidFill>
                  <a:srgbClr val="04617b"/>
                </a:solidFill>
                <a:latin typeface="Times New Roman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04960" y="3733920"/>
            <a:ext cx="5638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ffffff"/>
                </a:solidFill>
                <a:latin typeface="Bookman Old Style"/>
              </a:rPr>
              <a:t>Робота з документами також включає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читання і переказ документа і складання план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пояснювальне читання з попередньою і заключною бесідою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самостійний розбір документа і відповіді на запитання до нього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9880" y="1143000"/>
            <a:ext cx="5105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1) учитель дає зразок розбору документа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2) учні аналізують документ під керівництвом учителя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3) працюють під керівництвом учителя і самостійно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4) самостійно вивчають документ у класі і вдом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7" descr="14_2_List_of_Radzivill_Chron"/>
          <p:cNvPicPr/>
          <p:nvPr/>
        </p:nvPicPr>
        <p:blipFill>
          <a:blip r:embed="rId1"/>
          <a:stretch/>
        </p:blipFill>
        <p:spPr>
          <a:xfrm>
            <a:off x="152280" y="38088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380880" y="56386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орівняльне зіставлення двох документів, що доповнюють один одного і характеризують одну і ту саму поді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-  надання критичної оцінки докумен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ій Терно</cp:lastModifiedBy>
  <dcterms:modified xsi:type="dcterms:W3CDTF">2014-09-20T18:26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