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64b4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64b4f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4b4f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382680" y="685440"/>
            <a:ext cx="6092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64b4f"/>
                </a:solidFill>
                <a:latin typeface="Euphemia"/>
              </a:rPr>
              <a:t>Click to move the slide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phemi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Euphem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64b4f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4A2A-FC9D-4F2E-BF97-8408A774E239}" type="slidenum">
              <a:rPr b="0" lang="en-US" sz="1200" spc="-1" strike="noStrike">
                <a:solidFill>
                  <a:srgbClr val="164b4f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C38E-7F7A-444C-B5E0-4DECF12214D8}" type="slidenum">
              <a:rPr b="0" lang="ru-RU" sz="1200" spc="-1" strike="noStrike">
                <a:solidFill>
                  <a:srgbClr val="164b4f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164b4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5D8-CEDA-413F-896F-000D0490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9604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2400" y="4024800"/>
            <a:ext cx="9604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7A4-FCFE-4C9A-8FAB-6376534E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136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2400" y="402480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13600" y="402480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850-E306-4BB6-9A66-3E9386D1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39960" y="167652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787160" y="167652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2400" y="402480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39960" y="402480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787160" y="402480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9EC-0751-4D9A-AF70-10715BB9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9B0D-EFBE-4E2C-B60C-B8C66BB3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2400" y="1127520"/>
            <a:ext cx="9604080" cy="55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352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907E-CB9A-4AFB-9437-07D60A0A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960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5914-C042-4615-A07D-C0A04ECB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4686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13600" y="1676520"/>
            <a:ext cx="4686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E4E0-7F4A-4BAE-8BBB-3B0EAF77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2EAC-6749-4BB5-B4EB-0E6FFDD4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2400" y="233280"/>
            <a:ext cx="9604080" cy="55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3520" algn="ctr">
              <a:lnSpc>
                <a:spcPct val="90000"/>
              </a:lnSpc>
              <a:spcBef>
                <a:spcPts val="159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339F-4880-47BE-BDDA-BBBCCB96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13600" y="1676520"/>
            <a:ext cx="4686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92400" y="402480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3A55-5D2C-4443-8655-1E8B1BF0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2400" y="1127520"/>
            <a:ext cx="9604080" cy="55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352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7EB-0B8F-4C95-A0CF-32CCB084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4686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136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13600" y="402480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4754-3422-4F1E-99F4-4BD931FF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136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2400" y="4024800"/>
            <a:ext cx="9604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E3BA-8B3B-41E0-9B4F-C76441C1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9604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92400" y="4024800"/>
            <a:ext cx="9604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2E15-CE03-4F2F-82A7-CFEEE23B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136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92400" y="402480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13600" y="402480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48B6-1289-4EB9-91E3-3F315A75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9960" y="167652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787160" y="167652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92400" y="402480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539960" y="402480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787160" y="4024800"/>
            <a:ext cx="309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8D4B-D5F9-405B-B89F-B1DF4820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960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DD4B-CA0A-451B-829A-3543F86D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4686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13600" y="1676520"/>
            <a:ext cx="4686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EA6E-0C73-43E0-9BDD-5D4D980D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73E5-F01B-4998-9194-7D90EAED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2400" y="233280"/>
            <a:ext cx="9604080" cy="55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3520" algn="ctr">
              <a:lnSpc>
                <a:spcPct val="90000"/>
              </a:lnSpc>
              <a:spcBef>
                <a:spcPts val="159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3BA7-8F2F-4583-A613-A32EDF91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13600" y="1676520"/>
            <a:ext cx="4686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2400" y="402480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B11-6D7A-40D8-A6B1-23BAE8EC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4686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136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13600" y="402480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6A1-C1D4-4BEE-AA5A-55463FE0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13600" y="1676520"/>
            <a:ext cx="4686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2400" y="4024800"/>
            <a:ext cx="9604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6AEC-C1C6-4EAB-A328-AA83CB44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836640" y="0"/>
            <a:ext cx="1135224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b4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64b4f"/>
                </a:solidFill>
                <a:latin typeface="Euphemia"/>
              </a:rPr>
              <a:t>Click to edit the title text format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2400" y="1676520"/>
            <a:ext cx="960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103809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Click to edit the outline text format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1" marL="50148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econd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2" marL="77616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Third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3" marL="105084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Four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4" marL="132552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Fif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5" marL="132552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ix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6" marL="132552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even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7152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1f696f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f696f"/>
                </a:solidFill>
                <a:latin typeface="Euphemi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6412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b4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517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1f696f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6058-5256-4A8D-A212-CC8DFAF4911E}" type="slidenum">
              <a:rPr b="0" lang="ru-RU" sz="900" spc="-1" strike="noStrike">
                <a:solidFill>
                  <a:srgbClr val="1f696f"/>
                </a:solidFill>
                <a:latin typeface="Euphem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64b4f"/>
                </a:solidFill>
                <a:latin typeface="Euphemia"/>
              </a:rPr>
              <a:t>Click to edit the title text format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92400" y="1676520"/>
            <a:ext cx="960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103809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Click to edit the outline text format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1" marL="50148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econd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2" marL="77616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Third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3" marL="105084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Four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4" marL="132552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Fif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5" marL="132552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ix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lvl="6" marL="1325520" indent="-228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Seventh Outline Level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27152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1f696f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f696f"/>
                </a:solidFill>
                <a:latin typeface="Euphemi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164120" y="635652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4b4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0517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1f696f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1019-5D56-4016-BDFB-482B61F8CA99}" type="slidenum">
              <a:rPr b="0" lang="ru-RU" sz="900" spc="-1" strike="noStrike">
                <a:solidFill>
                  <a:srgbClr val="1f696f"/>
                </a:solidFill>
                <a:latin typeface="Euphem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2400" y="990720"/>
            <a:ext cx="93391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164b4f"/>
                </a:solidFill>
                <a:latin typeface="comic"/>
              </a:rPr>
              <a:t>Методичні прийоми повідомлення усного матеріалу</a:t>
            </a:r>
            <a:endParaRPr b="0" lang="en-US" sz="4800" spc="-1" strike="noStrike">
              <a:solidFill>
                <a:srgbClr val="164b4f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69720" y="1484280"/>
            <a:ext cx="9604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990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Метод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- це головний інструмент педагогічної діяльності, лише з його допомогою виробляється продукт навчання, здійснюється взаємодія вчителя й учнів.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1990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Методи навчання поділяються на </a:t>
            </a: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загальні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та </a:t>
            </a: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спеціальні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. Загальні застосовуються у школі при вивченні різних навчальних предметів; спеціальні - під час вивчення окремих дисциплін.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19908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Методика навчального предмета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- це галузь педагогічної науки, яка досліджує закономірності вивчення певного навчального предмета.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549360"/>
            <a:ext cx="960444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4b4f"/>
                </a:solidFill>
                <a:latin typeface="Euphemia"/>
              </a:rPr>
              <a:t>До змісту методики як часткової дидактики входять:</a:t>
            </a:r>
            <a:r>
              <a:rPr b="0" lang="ru-RU" sz="3600" spc="-1" strike="noStrike">
                <a:solidFill>
                  <a:srgbClr val="164b4f"/>
                </a:solidFill>
                <a:latin typeface="Euphemia"/>
              </a:rPr>
              <a:t> 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789768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4920" indent="996570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Установлення пізнавального й виховного значення даного навчального предмета та його місця в системі шкільної освіти;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14920" indent="996570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Визначення завдань вивчення даного предмета та його змісту;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14920" indent="996570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Вироблення відповідно до завдань і змісту навчання методів, методичних засобів та організаційних форм навчання.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pic>
        <p:nvPicPr>
          <p:cNvPr id="115" name="Picture 2" descr="C:\Users\Ольга\AppData\Local\Microsoft\Windows\Temporary Internet Files\Content.IE5\ZZC3EWHG\MC900428261[1].wmf"/>
          <p:cNvPicPr/>
          <p:nvPr/>
        </p:nvPicPr>
        <p:blipFill>
          <a:blip r:embed="rId1"/>
          <a:stretch/>
        </p:blipFill>
        <p:spPr>
          <a:xfrm>
            <a:off x="8902800" y="3141720"/>
            <a:ext cx="2682720" cy="25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0202760" cy="6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Найпоширеніші в педагогіці такі класифікації методів навчання:</a:t>
            </a:r>
            <a:r>
              <a:rPr b="0" lang="ru-RU" sz="3600" spc="-1" strike="noStrike">
                <a:solidFill>
                  <a:srgbClr val="164b4f"/>
                </a:solidFill>
                <a:latin typeface="Euphemia"/>
              </a:rPr>
              <a:t> 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710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103809600">
              <a:lnSpc>
                <a:spcPct val="7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За джерелом передачі та сприймання навчальної інформації (С.Петровський, Є.Голант);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3920" indent="103809600">
              <a:lnSpc>
                <a:spcPct val="7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За характером пізнавальної діяльності учнів (І.Лернер, М.Скаткін);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3920" indent="103809600">
              <a:lnSpc>
                <a:spcPct val="7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Залежно від основної дидактичної мети і завдань (І.Харламов);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3920" indent="103809600">
              <a:lnSpc>
                <a:spcPct val="7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Класифікація з точки зору цілісного підходу до діяльності у процесі навчання  (Ю.Бабанський).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pic>
        <p:nvPicPr>
          <p:cNvPr id="118" name="Рисунок 3" descr=""/>
          <p:cNvPicPr/>
          <p:nvPr/>
        </p:nvPicPr>
        <p:blipFill>
          <a:blip r:embed="rId1"/>
          <a:stretch/>
        </p:blipFill>
        <p:spPr>
          <a:xfrm>
            <a:off x="8686800" y="2997360"/>
            <a:ext cx="2881440" cy="331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64b4f"/>
                </a:solidFill>
                <a:latin typeface="Euphemia"/>
              </a:rPr>
              <a:t>Методи навчання: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96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1400" indent="10277136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Пояснювально-ілюстративний (розповідь, пояснення, наочність)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1400" indent="10277136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Репродуктивний (завдання, вправи, контрольна бесіда)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1400" indent="10277136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Проблемного викладу (міркування, доведення)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1400" indent="10277136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Частково-пошуковий (лінгвістична бесіда)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1400" indent="10277136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Дослідницький (проблемні задачі, самостійні роботи).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pic>
        <p:nvPicPr>
          <p:cNvPr id="121" name="Picture 4" descr="C:\Users\Ольга\AppData\Local\Microsoft\Windows\Temporary Internet Files\Content.IE5\ZZC3EWHG\MC900434810[1].png"/>
          <p:cNvPicPr/>
          <p:nvPr/>
        </p:nvPicPr>
        <p:blipFill>
          <a:blip r:embed="rId1"/>
          <a:stretch/>
        </p:blipFill>
        <p:spPr>
          <a:xfrm>
            <a:off x="9407520" y="0"/>
            <a:ext cx="2448000" cy="237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9986760" cy="6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64b4f"/>
                </a:solidFill>
                <a:latin typeface="Euphemia"/>
              </a:rPr>
              <a:t>Схема впливу методів на навчання історії: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2133720" y="1700280"/>
            <a:ext cx="8208360" cy="4320360"/>
            <a:chOff x="2133720" y="1700280"/>
            <a:chExt cx="8208360" cy="4320360"/>
          </a:xfrm>
        </p:grpSpPr>
        <p:sp>
          <p:nvSpPr>
            <p:cNvPr id="124" name="Rectangle 5"/>
            <p:cNvSpPr/>
            <p:nvPr/>
          </p:nvSpPr>
          <p:spPr>
            <a:xfrm>
              <a:off x="2133720" y="4382280"/>
              <a:ext cx="2873160" cy="74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64b4f"/>
                </a:solidFill>
                <a:latin typeface="Arial"/>
              </a:endParaRPr>
            </a:p>
          </p:txBody>
        </p:sp>
        <p:sp>
          <p:nvSpPr>
            <p:cNvPr id="125" name="WordArt 6"/>
            <p:cNvSpPr txBox="1"/>
            <p:nvPr/>
          </p:nvSpPr>
          <p:spPr>
            <a:xfrm>
              <a:off x="2407320" y="4531320"/>
              <a:ext cx="2188800" cy="33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Частково-пошуковий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126" name="Group 7"/>
            <p:cNvGrpSpPr/>
            <p:nvPr/>
          </p:nvGrpSpPr>
          <p:grpSpPr>
            <a:xfrm>
              <a:off x="2133720" y="1700280"/>
              <a:ext cx="8208360" cy="4320360"/>
              <a:chOff x="2133720" y="1700280"/>
              <a:chExt cx="8208360" cy="4320360"/>
            </a:xfrm>
          </p:grpSpPr>
          <p:grpSp>
            <p:nvGrpSpPr>
              <p:cNvPr id="127" name="Group 8"/>
              <p:cNvGrpSpPr/>
              <p:nvPr/>
            </p:nvGrpSpPr>
            <p:grpSpPr>
              <a:xfrm>
                <a:off x="2133720" y="1700280"/>
                <a:ext cx="8208360" cy="1936440"/>
                <a:chOff x="2133720" y="1700280"/>
                <a:chExt cx="8208360" cy="1936440"/>
              </a:xfrm>
            </p:grpSpPr>
            <p:grpSp>
              <p:nvGrpSpPr>
                <p:cNvPr id="128" name="Group 9"/>
                <p:cNvGrpSpPr/>
                <p:nvPr/>
              </p:nvGrpSpPr>
              <p:grpSpPr>
                <a:xfrm>
                  <a:off x="2133720" y="1700280"/>
                  <a:ext cx="8208360" cy="893160"/>
                  <a:chOff x="2133720" y="1700280"/>
                  <a:chExt cx="8208360" cy="893160"/>
                </a:xfrm>
              </p:grpSpPr>
              <p:sp>
                <p:nvSpPr>
                  <p:cNvPr id="129" name="Rectangle 10"/>
                  <p:cNvSpPr/>
                  <p:nvPr/>
                </p:nvSpPr>
                <p:spPr>
                  <a:xfrm>
                    <a:off x="2133720" y="1700280"/>
                    <a:ext cx="2873160" cy="74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64b4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Rectangle 11"/>
                  <p:cNvSpPr/>
                  <p:nvPr/>
                </p:nvSpPr>
                <p:spPr>
                  <a:xfrm>
                    <a:off x="7469280" y="1848960"/>
                    <a:ext cx="2872800" cy="7444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64b4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WordArt 12"/>
                  <p:cNvSpPr txBox="1"/>
                  <p:nvPr/>
                </p:nvSpPr>
                <p:spPr>
                  <a:xfrm>
                    <a:off x="2270520" y="1848960"/>
                    <a:ext cx="2588040" cy="3351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Пояснювально-ілюстративний</a:t>
                    </a:r>
                    <a:endParaRPr b="0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32" name="WordArt 13"/>
                  <p:cNvSpPr txBox="1"/>
                  <p:nvPr/>
                </p:nvSpPr>
                <p:spPr>
                  <a:xfrm>
                    <a:off x="8427240" y="1998000"/>
                    <a:ext cx="1094400" cy="3351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Знання</a:t>
                    </a:r>
                    <a:endParaRPr b="0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33" name="Line 14"/>
                  <p:cNvSpPr/>
                  <p:nvPr/>
                </p:nvSpPr>
                <p:spPr>
                  <a:xfrm>
                    <a:off x="5006880" y="2296080"/>
                    <a:ext cx="246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64b4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15"/>
                <p:cNvGrpSpPr/>
                <p:nvPr/>
              </p:nvGrpSpPr>
              <p:grpSpPr>
                <a:xfrm>
                  <a:off x="2133720" y="2593800"/>
                  <a:ext cx="8208360" cy="1042920"/>
                  <a:chOff x="2133720" y="2593800"/>
                  <a:chExt cx="8208360" cy="1042920"/>
                </a:xfrm>
              </p:grpSpPr>
              <p:sp>
                <p:nvSpPr>
                  <p:cNvPr id="135" name="Rectangle 16"/>
                  <p:cNvSpPr/>
                  <p:nvPr/>
                </p:nvSpPr>
                <p:spPr>
                  <a:xfrm>
                    <a:off x="2133720" y="2593800"/>
                    <a:ext cx="2873160" cy="74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64b4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Rectangle 17"/>
                  <p:cNvSpPr/>
                  <p:nvPr/>
                </p:nvSpPr>
                <p:spPr>
                  <a:xfrm>
                    <a:off x="7469280" y="2891880"/>
                    <a:ext cx="2872800" cy="744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64b4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WordArt 18"/>
                  <p:cNvSpPr txBox="1"/>
                  <p:nvPr/>
                </p:nvSpPr>
                <p:spPr>
                  <a:xfrm>
                    <a:off x="2680920" y="2742840"/>
                    <a:ext cx="1641600" cy="3351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Репродуктивний</a:t>
                    </a:r>
                    <a:endParaRPr b="0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38" name="WordArt 19"/>
                  <p:cNvSpPr txBox="1"/>
                  <p:nvPr/>
                </p:nvSpPr>
                <p:spPr>
                  <a:xfrm>
                    <a:off x="7880040" y="3040920"/>
                    <a:ext cx="2052000" cy="3351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Уміння і навички</a:t>
                    </a:r>
                    <a:endParaRPr b="0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139" name="Line 20"/>
                  <p:cNvSpPr/>
                  <p:nvPr/>
                </p:nvSpPr>
                <p:spPr>
                  <a:xfrm>
                    <a:off x="5006880" y="3189600"/>
                    <a:ext cx="246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64b4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" name="Group 21"/>
              <p:cNvGrpSpPr/>
              <p:nvPr/>
            </p:nvGrpSpPr>
            <p:grpSpPr>
              <a:xfrm>
                <a:off x="2133720" y="3488040"/>
                <a:ext cx="8208360" cy="2532600"/>
                <a:chOff x="2133720" y="3488040"/>
                <a:chExt cx="8208360" cy="2532600"/>
              </a:xfrm>
            </p:grpSpPr>
            <p:sp>
              <p:nvSpPr>
                <p:cNvPr id="141" name="Rectangle 22"/>
                <p:cNvSpPr/>
                <p:nvPr/>
              </p:nvSpPr>
              <p:spPr>
                <a:xfrm>
                  <a:off x="2133720" y="3488040"/>
                  <a:ext cx="2873160" cy="744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4b4f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23"/>
                <p:cNvSpPr/>
                <p:nvPr/>
              </p:nvSpPr>
              <p:spPr>
                <a:xfrm>
                  <a:off x="2133720" y="5275800"/>
                  <a:ext cx="2873160" cy="744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4b4f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24"/>
                <p:cNvSpPr/>
                <p:nvPr/>
              </p:nvSpPr>
              <p:spPr>
                <a:xfrm>
                  <a:off x="7469280" y="3934800"/>
                  <a:ext cx="2872800" cy="744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4b4f"/>
                    </a:solidFill>
                    <a:latin typeface="Arial"/>
                  </a:endParaRPr>
                </a:p>
              </p:txBody>
            </p:sp>
            <p:sp>
              <p:nvSpPr>
                <p:cNvPr id="144" name="Rectangle 25"/>
                <p:cNvSpPr/>
                <p:nvPr/>
              </p:nvSpPr>
              <p:spPr>
                <a:xfrm>
                  <a:off x="7469280" y="4977720"/>
                  <a:ext cx="2872800" cy="744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64b4f"/>
                    </a:solidFill>
                    <a:latin typeface="Arial"/>
                  </a:endParaRPr>
                </a:p>
              </p:txBody>
            </p:sp>
            <p:sp>
              <p:nvSpPr>
                <p:cNvPr id="145" name="WordArt 26"/>
                <p:cNvSpPr txBox="1"/>
                <p:nvPr/>
              </p:nvSpPr>
              <p:spPr>
                <a:xfrm>
                  <a:off x="2544120" y="3637080"/>
                  <a:ext cx="2052000" cy="297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</a:rPr>
                    <a:t>Проблемного викладу</a:t>
                  </a:r>
                  <a:endParaRPr b="0" lang="en-US" sz="1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146" name="WordArt 27"/>
                <p:cNvSpPr txBox="1"/>
                <p:nvPr/>
              </p:nvSpPr>
              <p:spPr>
                <a:xfrm>
                  <a:off x="2680920" y="5424840"/>
                  <a:ext cx="1641600" cy="335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</a:rPr>
                    <a:t>Дослідницький</a:t>
                  </a:r>
                  <a:endParaRPr b="0" lang="en-US" sz="1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147" name="WordArt 28"/>
                <p:cNvSpPr txBox="1"/>
                <p:nvPr/>
              </p:nvSpPr>
              <p:spPr>
                <a:xfrm>
                  <a:off x="8290440" y="4083840"/>
                  <a:ext cx="1368000" cy="335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</a:rPr>
                    <a:t>Творчість</a:t>
                  </a:r>
                  <a:endParaRPr b="0" lang="en-US" sz="1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148" name="WordArt 29"/>
                <p:cNvSpPr txBox="1"/>
                <p:nvPr/>
              </p:nvSpPr>
              <p:spPr>
                <a:xfrm>
                  <a:off x="8427240" y="5126760"/>
                  <a:ext cx="1094400" cy="335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</a:rPr>
                    <a:t>Цінності</a:t>
                  </a:r>
                  <a:endParaRPr b="0" lang="en-US" sz="16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  <a:ea typeface="Arial"/>
                  </a:endParaRPr>
                </a:p>
              </p:txBody>
            </p:sp>
            <p:sp>
              <p:nvSpPr>
                <p:cNvPr id="149" name="Line 30"/>
                <p:cNvSpPr/>
                <p:nvPr/>
              </p:nvSpPr>
              <p:spPr>
                <a:xfrm>
                  <a:off x="5006880" y="4083840"/>
                  <a:ext cx="2462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64b4f"/>
                    </a:solidFill>
                    <a:latin typeface="Arial"/>
                  </a:endParaRPr>
                </a:p>
              </p:txBody>
            </p:sp>
            <p:sp>
              <p:nvSpPr>
                <p:cNvPr id="150" name="Line 31"/>
                <p:cNvSpPr/>
                <p:nvPr/>
              </p:nvSpPr>
              <p:spPr>
                <a:xfrm flipV="1">
                  <a:off x="5006880" y="4232520"/>
                  <a:ext cx="2462400" cy="74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4b4f"/>
                    </a:solidFill>
                    <a:latin typeface="Arial"/>
                  </a:endParaRPr>
                </a:p>
              </p:txBody>
            </p:sp>
            <p:sp>
              <p:nvSpPr>
                <p:cNvPr id="151" name="Line 32"/>
                <p:cNvSpPr/>
                <p:nvPr/>
              </p:nvSpPr>
              <p:spPr>
                <a:xfrm flipV="1">
                  <a:off x="5006880" y="4381560"/>
                  <a:ext cx="2462400" cy="10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4b4f"/>
                    </a:solidFill>
                    <a:latin typeface="Arial"/>
                  </a:endParaRPr>
                </a:p>
              </p:txBody>
            </p:sp>
            <p:sp>
              <p:nvSpPr>
                <p:cNvPr id="152" name="Line 33"/>
                <p:cNvSpPr/>
                <p:nvPr/>
              </p:nvSpPr>
              <p:spPr>
                <a:xfrm>
                  <a:off x="5006880" y="3785760"/>
                  <a:ext cx="2462400" cy="1341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4b4f"/>
                    </a:solidFill>
                    <a:latin typeface="Arial"/>
                  </a:endParaRPr>
                </a:p>
              </p:txBody>
            </p:sp>
            <p:sp>
              <p:nvSpPr>
                <p:cNvPr id="153" name="Line 34"/>
                <p:cNvSpPr/>
                <p:nvPr/>
              </p:nvSpPr>
              <p:spPr>
                <a:xfrm>
                  <a:off x="5006880" y="4530960"/>
                  <a:ext cx="2462400" cy="7448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64b4f"/>
                    </a:solidFill>
                    <a:latin typeface="Arial"/>
                  </a:endParaRPr>
                </a:p>
              </p:txBody>
            </p:sp>
            <p:sp>
              <p:nvSpPr>
                <p:cNvPr id="154" name="Line 35"/>
                <p:cNvSpPr/>
                <p:nvPr/>
              </p:nvSpPr>
              <p:spPr>
                <a:xfrm>
                  <a:off x="5006880" y="5573880"/>
                  <a:ext cx="2462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64b4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64b4f"/>
                </a:solidFill>
                <a:latin typeface="Euphemia"/>
              </a:rPr>
              <a:t>Висновки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96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103809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Під час викладу матеріалу необхідно дотримуватись загальних вимог викладу, які передбачають розгляд змін їх причини і оцінки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3920" indent="103809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Бесіда повинна бути обов</a:t>
            </a:r>
            <a:r>
              <a:rPr b="0" lang="en-US" sz="2400" spc="-1" strike="noStrike">
                <a:solidFill>
                  <a:srgbClr val="164b4f"/>
                </a:solidFill>
                <a:latin typeface="Euphemia"/>
              </a:rPr>
              <a:t>’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язковим елементом уроку і забезпечити розумовий і моральний розвиток учнів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3920" indent="103809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За допомогою всіх методів, учитель діагностує хід і результати навчального процесу, вносить до нього необхідні зміни (контрольно-коригуюча функція).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pic>
        <p:nvPicPr>
          <p:cNvPr id="157" name="Picture 6" descr="j0195812"/>
          <p:cNvPicPr/>
          <p:nvPr/>
        </p:nvPicPr>
        <p:blipFill>
          <a:blip r:embed="rId1"/>
          <a:stretch/>
        </p:blipFill>
        <p:spPr>
          <a:xfrm>
            <a:off x="9513720" y="4292640"/>
            <a:ext cx="217044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64b4f"/>
                </a:solidFill>
                <a:latin typeface="Euphemia"/>
              </a:rPr>
              <a:t>Прийоми усного викладу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96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17460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ru-RU" sz="2000" spc="-1" strike="noStrike">
                <a:solidFill>
                  <a:srgbClr val="164b4f"/>
                </a:solidFill>
                <a:latin typeface="Euphemia"/>
              </a:rPr>
              <a:t>Одним із прийомів усного викладу є </a:t>
            </a:r>
            <a:r>
              <a:rPr b="1" lang="ru-RU" sz="2000" spc="-1" strike="noStrike">
                <a:solidFill>
                  <a:srgbClr val="164b4f"/>
                </a:solidFill>
                <a:latin typeface="Euphemia"/>
              </a:rPr>
              <a:t>розповідь</a:t>
            </a:r>
            <a:r>
              <a:rPr b="0" lang="ru-RU" sz="2000" spc="-1" strike="noStrike">
                <a:solidFill>
                  <a:srgbClr val="164b4f"/>
                </a:solidFill>
                <a:latin typeface="Euphemia"/>
              </a:rPr>
              <a:t>. У викладанні історії це стисле повідомлення про історичні події. 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7460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b4f"/>
                </a:solidFill>
                <a:latin typeface="Euphemia"/>
              </a:rPr>
              <a:t>Поділяється на: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74600" indent="809712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b4f"/>
                </a:solidFill>
                <a:latin typeface="Euphemia"/>
              </a:rPr>
              <a:t>Сюжетну розповідь 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74600" indent="809712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b4f"/>
                </a:solidFill>
                <a:latin typeface="Euphemia"/>
              </a:rPr>
              <a:t>Образну розповідь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74600" indent="809712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b4f"/>
                </a:solidFill>
                <a:latin typeface="Euphemia"/>
              </a:rPr>
              <a:t>Конспективну розповідь 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74600" indent="809712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b4f"/>
                </a:solidFill>
                <a:latin typeface="Euphemia"/>
              </a:rPr>
              <a:t>Інформаційне повідомлення 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7460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ru-RU" sz="2000" spc="-1" strike="noStrike">
                <a:solidFill>
                  <a:srgbClr val="164b4f"/>
                </a:solidFill>
                <a:latin typeface="Euphemia"/>
              </a:rPr>
              <a:t>Одна з вимог до розповіді – відображення в ній конкретної історичної характеристики часу, простору, історичних осіб, що сприяє розвитку в учнів уявлення про специфічність кожного історичного факту в порівнянні з іншими. 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</p:txBody>
      </p:sp>
      <p:pic>
        <p:nvPicPr>
          <p:cNvPr id="93" name="Picture 4" descr="MC900198594"/>
          <p:cNvPicPr/>
          <p:nvPr/>
        </p:nvPicPr>
        <p:blipFill>
          <a:blip r:embed="rId1"/>
          <a:stretch/>
        </p:blipFill>
        <p:spPr>
          <a:xfrm>
            <a:off x="7823160" y="2492280"/>
            <a:ext cx="2654280" cy="201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475920"/>
            <a:ext cx="9604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4b4f"/>
                </a:solidFill>
                <a:latin typeface="Euphemia"/>
              </a:rPr>
              <a:t>Вимоги до викладу історичного матеріалу: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1000" y="2349000"/>
            <a:ext cx="9604440" cy="15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Правильна педагогічна організація слухання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7160" indent="-22716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Правильна побудова викладу матеріалу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7160" indent="-22716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Організація керівництва запису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pic>
        <p:nvPicPr>
          <p:cNvPr id="96" name="Picture 2" descr="C:\Users\Ольга\AppData\Local\Microsoft\Windows\Temporary Internet Files\Content.IE5\ZZC3EWHG\MC900428261[1].wmf"/>
          <p:cNvPicPr/>
          <p:nvPr/>
        </p:nvPicPr>
        <p:blipFill>
          <a:blip r:embed="rId1"/>
          <a:stretch/>
        </p:blipFill>
        <p:spPr>
          <a:xfrm>
            <a:off x="7966080" y="2492280"/>
            <a:ext cx="3166920" cy="331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630080" y="476280"/>
            <a:ext cx="9604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14760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64b4f"/>
                </a:solidFill>
                <a:latin typeface="Euphemia"/>
              </a:rPr>
              <a:t>Для організації слухання на уроці необхідно: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47600" indent="6851412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4b4f"/>
                </a:solidFill>
                <a:latin typeface="Euphemia"/>
              </a:rPr>
              <a:t>Поставити завдання уроку;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47600" indent="6851412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4b4f"/>
                </a:solidFill>
                <a:latin typeface="Euphemia"/>
              </a:rPr>
              <a:t>Мотивація;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47600" indent="6851412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4b4f"/>
                </a:solidFill>
                <a:latin typeface="Euphemia"/>
              </a:rPr>
              <a:t>Зазначення шляхів до розуміння і засвоєння матеріалу.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4760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64b4f"/>
                </a:solidFill>
                <a:latin typeface="Euphemia"/>
              </a:rPr>
              <a:t>Для правильної побудови викладу: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47600" indent="6851412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4b4f"/>
                </a:solidFill>
                <a:latin typeface="Euphemia"/>
              </a:rPr>
              <a:t>Побудова плану;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47600" indent="6851412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4b4f"/>
                </a:solidFill>
                <a:latin typeface="Euphemia"/>
              </a:rPr>
              <a:t>Усвідомлення загального зв</a:t>
            </a:r>
            <a:r>
              <a:rPr b="0" lang="en-US" sz="2000" spc="-1" strike="noStrike">
                <a:solidFill>
                  <a:srgbClr val="164b4f"/>
                </a:solidFill>
                <a:latin typeface="Euphemia"/>
              </a:rPr>
              <a:t>’</a:t>
            </a:r>
            <a:r>
              <a:rPr b="0" lang="uk-UA" sz="2000" spc="-1" strike="noStrike">
                <a:solidFill>
                  <a:srgbClr val="164b4f"/>
                </a:solidFill>
                <a:latin typeface="Euphemia"/>
              </a:rPr>
              <a:t>язку викладу мислення;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47600" indent="6851412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4b4f"/>
                </a:solidFill>
                <a:latin typeface="Euphemia"/>
              </a:rPr>
              <a:t>Відтворення логічних зв</a:t>
            </a:r>
            <a:r>
              <a:rPr b="0" lang="en-US" sz="2000" spc="-1" strike="noStrike">
                <a:solidFill>
                  <a:srgbClr val="164b4f"/>
                </a:solidFill>
                <a:latin typeface="Euphemia"/>
              </a:rPr>
              <a:t>’</a:t>
            </a:r>
            <a:r>
              <a:rPr b="0" lang="uk-UA" sz="2000" spc="-1" strike="noStrike">
                <a:solidFill>
                  <a:srgbClr val="164b4f"/>
                </a:solidFill>
                <a:latin typeface="Euphemia"/>
              </a:rPr>
              <a:t>язків у стислому вигляді – висновок;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47600" indent="6851412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4b4f"/>
                </a:solidFill>
                <a:latin typeface="Euphemia"/>
              </a:rPr>
              <a:t>Використання логічних схем;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4760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64b4f"/>
                </a:solidFill>
                <a:latin typeface="Euphemia"/>
              </a:rPr>
              <a:t>Організація керівництва запису: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  <a:p>
            <a:pPr marL="147600" indent="6851412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64b4f"/>
                </a:solidFill>
                <a:latin typeface="Euphemia"/>
              </a:rPr>
              <a:t>Під запис лише найважливіші моменти – сутність, а не деталі;</a:t>
            </a:r>
            <a:endParaRPr b="0" lang="en-US" sz="2000" spc="-1" strike="noStrike">
              <a:solidFill>
                <a:srgbClr val="164b4f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9360" y="549000"/>
            <a:ext cx="10226520" cy="68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64b4f"/>
                </a:solidFill>
                <a:latin typeface="Euphemia"/>
              </a:rPr>
              <a:t>За спеціальністю історії, як навчального предмету:</a:t>
            </a:r>
            <a:endParaRPr b="0" lang="en-US" sz="28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96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96920" indent="9135216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Дотримуватись принципу історизму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196920" indent="9135216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Показ виникнення нового історичного явища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196920" indent="9135216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Оцінка данному історичному процесу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19692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- історична оцінка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19692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- моральна оцінка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19692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- наукова оцінка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pic>
        <p:nvPicPr>
          <p:cNvPr id="100" name="Picture 5" descr="teacher-doris-day-286x300"/>
          <p:cNvPicPr/>
          <p:nvPr/>
        </p:nvPicPr>
        <p:blipFill>
          <a:blip r:embed="rId1"/>
          <a:stretch/>
        </p:blipFill>
        <p:spPr>
          <a:xfrm>
            <a:off x="8110440" y="2852640"/>
            <a:ext cx="32688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164b4f"/>
                </a:solidFill>
                <a:latin typeface="Euphemia"/>
              </a:rPr>
              <a:t>Бесіда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96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	</a:t>
            </a: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Бесіда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</a:t>
            </a:r>
            <a:r>
              <a:rPr b="0" i="1" lang="ru-RU" sz="2400" spc="-1" strike="noStrike">
                <a:solidFill>
                  <a:srgbClr val="164b4f"/>
                </a:solidFill>
                <a:latin typeface="Euphemia"/>
              </a:rPr>
              <a:t>– метод словесного обговорення матеріалу, що вивчається, 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– найпоширеніша в навчанні. її завдання полягає в тому, щоб, по-перше, за допомогою цілеспрямованих і вміло поставлених запитань актуалізувати відомі учням знання, по-друге, досягти засвоєння ними нових знань шляхом самостійних обмірковувань, узагальнень та інших розумових операцій.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pic>
        <p:nvPicPr>
          <p:cNvPr id="103" name="Picture 7" descr="post-1687242-1314355126"/>
          <p:cNvPicPr/>
          <p:nvPr/>
        </p:nvPicPr>
        <p:blipFill>
          <a:blip r:embed="rId1"/>
          <a:stretch/>
        </p:blipFill>
        <p:spPr>
          <a:xfrm>
            <a:off x="8039160" y="3933720"/>
            <a:ext cx="3141720" cy="257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9720" y="404280"/>
            <a:ext cx="960444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4b4f"/>
                </a:solidFill>
                <a:latin typeface="Euphemia"/>
              </a:rPr>
              <a:t>Основні різновиди навчальної бесіди: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2400" y="1197000"/>
            <a:ext cx="960408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52800" indent="80793000">
              <a:lnSpc>
                <a:spcPct val="8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Вступна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</a:t>
            </a:r>
            <a:r>
              <a:rPr b="0" lang="ru-RU" sz="2100" spc="-1" strike="noStrike">
                <a:solidFill>
                  <a:srgbClr val="164b4f"/>
                </a:solidFill>
                <a:latin typeface="Euphemia"/>
              </a:rPr>
              <a:t>(проводиться перед початком навчальної роботи); </a:t>
            </a:r>
            <a:endParaRPr b="0" lang="en-US" sz="2100" spc="-1" strike="noStrike">
              <a:solidFill>
                <a:srgbClr val="164b4f"/>
              </a:solidFill>
              <a:latin typeface="Euphemia"/>
            </a:endParaRPr>
          </a:p>
          <a:p>
            <a:pPr marL="352800" indent="80793000">
              <a:lnSpc>
                <a:spcPct val="8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Бесіда-повідомлення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</a:t>
            </a:r>
            <a:r>
              <a:rPr b="0" lang="ru-RU" sz="2100" spc="-1" strike="noStrike">
                <a:solidFill>
                  <a:srgbClr val="164b4f"/>
                </a:solidFill>
                <a:latin typeface="Euphemia"/>
              </a:rPr>
              <a:t>(базується на спостереженнях, певних документах тощо);</a:t>
            </a:r>
            <a:endParaRPr b="0" lang="en-US" sz="2100" spc="-1" strike="noStrike">
              <a:solidFill>
                <a:srgbClr val="164b4f"/>
              </a:solidFill>
              <a:latin typeface="Euphemia"/>
            </a:endParaRPr>
          </a:p>
          <a:p>
            <a:pPr marL="352800" indent="80793000">
              <a:lnSpc>
                <a:spcPct val="8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Бесіда-повторення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</a:t>
            </a:r>
            <a:r>
              <a:rPr b="0" lang="ru-RU" sz="2100" spc="-1" strike="noStrike">
                <a:solidFill>
                  <a:srgbClr val="164b4f"/>
                </a:solidFill>
                <a:latin typeface="Euphemia"/>
              </a:rPr>
              <a:t>(проводиться для закріплення навчального матеріалу);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352800" indent="80793000">
              <a:lnSpc>
                <a:spcPct val="8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Контрольна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</a:t>
            </a:r>
            <a:r>
              <a:rPr b="0" lang="ru-RU" sz="2100" spc="-1" strike="noStrike">
                <a:solidFill>
                  <a:srgbClr val="164b4f"/>
                </a:solidFill>
                <a:latin typeface="Euphemia"/>
              </a:rPr>
              <a:t>(використовується для перевірки засвоєних знань); </a:t>
            </a:r>
            <a:endParaRPr b="0" lang="en-US" sz="2100" spc="-1" strike="noStrike">
              <a:solidFill>
                <a:srgbClr val="164b4f"/>
              </a:solidFill>
              <a:latin typeface="Euphemia"/>
            </a:endParaRPr>
          </a:p>
          <a:p>
            <a:pPr marL="352800" indent="80793000">
              <a:lnSpc>
                <a:spcPct val="8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Репродуктивна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</a:t>
            </a:r>
            <a:r>
              <a:rPr b="0" lang="ru-RU" sz="2100" spc="-1" strike="noStrike">
                <a:solidFill>
                  <a:srgbClr val="164b4f"/>
                </a:solidFill>
                <a:latin typeface="Euphemia"/>
              </a:rPr>
              <a:t>(використовується для відтворення матеріалу, який було засвоєно раніше); </a:t>
            </a:r>
            <a:endParaRPr b="0" lang="en-US" sz="2100" spc="-1" strike="noStrike">
              <a:solidFill>
                <a:srgbClr val="164b4f"/>
              </a:solidFill>
              <a:latin typeface="Euphemia"/>
            </a:endParaRPr>
          </a:p>
          <a:p>
            <a:pPr marL="352800" indent="80793000">
              <a:lnSpc>
                <a:spcPct val="8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Катехізисна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</a:t>
            </a:r>
            <a:r>
              <a:rPr b="0" lang="ru-RU" sz="2100" spc="-1" strike="noStrike">
                <a:solidFill>
                  <a:srgbClr val="164b4f"/>
                </a:solidFill>
                <a:latin typeface="Euphemia"/>
              </a:rPr>
              <a:t>(спрямована на відтворення відповідей, які вимагають тренування пам'яті); </a:t>
            </a:r>
            <a:endParaRPr b="0" lang="en-US" sz="2100" spc="-1" strike="noStrike">
              <a:solidFill>
                <a:srgbClr val="164b4f"/>
              </a:solidFill>
              <a:latin typeface="Euphemia"/>
            </a:endParaRPr>
          </a:p>
          <a:p>
            <a:pPr marL="352800" indent="80793000">
              <a:lnSpc>
                <a:spcPct val="8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Евристична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</a:t>
            </a:r>
            <a:r>
              <a:rPr b="0" lang="ru-RU" sz="2100" spc="-1" strike="noStrike">
                <a:solidFill>
                  <a:srgbClr val="164b4f"/>
                </a:solidFill>
                <a:latin typeface="Euphemia"/>
              </a:rPr>
              <a:t>(за допомогою запитань скеровує учнів на формування нових знань, висновків, правил, законів, логічних обгрунтувань на основі наявних знань і досвіду).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2400" y="38052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64b4f"/>
                </a:solidFill>
                <a:latin typeface="Euphemia"/>
              </a:rPr>
              <a:t>За дидактичною функцією:</a:t>
            </a:r>
            <a:endParaRPr b="0" lang="en-US" sz="3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96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103809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Вступна бесіда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3920" indent="103809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Контрольна бесіда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3920" indent="103809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Анолітично-узагальнююча бесіда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3920" indent="103809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Підсумкова бесіда;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223920" indent="1038096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4b4f"/>
                </a:solidFill>
                <a:latin typeface="Euphemia"/>
              </a:rPr>
              <a:t>Еврестична бесіда.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pic>
        <p:nvPicPr>
          <p:cNvPr id="108" name="Рисунок 4" descr=""/>
          <p:cNvPicPr/>
          <p:nvPr/>
        </p:nvPicPr>
        <p:blipFill>
          <a:blip r:embed="rId1"/>
          <a:stretch/>
        </p:blipFill>
        <p:spPr>
          <a:xfrm>
            <a:off x="7534440" y="2637000"/>
            <a:ext cx="320040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476280"/>
            <a:ext cx="1101744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64b4f"/>
                </a:solidFill>
                <a:latin typeface="Euphemia"/>
              </a:rPr>
              <a:t>Незалежно від мети методика бесіди складається з таких частин:</a:t>
            </a:r>
            <a:r>
              <a:rPr b="0" lang="ru-RU" sz="2600" spc="-1" strike="noStrike">
                <a:solidFill>
                  <a:srgbClr val="164b4f"/>
                </a:solidFill>
                <a:latin typeface="Euphemia"/>
              </a:rPr>
              <a:t> </a:t>
            </a:r>
            <a:endParaRPr b="0" lang="en-US" sz="2600" spc="-1" strike="noStrike">
              <a:solidFill>
                <a:srgbClr val="164b4f"/>
              </a:solidFill>
              <a:latin typeface="Euphem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2400" y="1676520"/>
            <a:ext cx="96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1035810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Вступна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(нагадування й виклад основної інформації, яка стосується методики та змісту проведення бесіди);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452520" indent="1035810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Основна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(ознайомлення з новими проблемами, їх зв'язок з попередніми знаннями, відповідне їх обговорення й аналіз, спільне обгрунтування);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452520" indent="103581000">
              <a:lnSpc>
                <a:spcPct val="90000"/>
              </a:lnSpc>
              <a:spcBef>
                <a:spcPts val="1599"/>
              </a:spcBef>
              <a:buClr>
                <a:srgbClr val="164b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4b4f"/>
                </a:solidFill>
                <a:latin typeface="Euphemia"/>
              </a:rPr>
              <a:t>Заключна</a:t>
            </a:r>
            <a:r>
              <a:rPr b="0" lang="ru-RU" sz="2400" spc="-1" strike="noStrike">
                <a:solidFill>
                  <a:srgbClr val="164b4f"/>
                </a:solidFill>
                <a:latin typeface="Euphemia"/>
              </a:rPr>
              <a:t> (підсумок результатів обговорення, аналіз і оцінка відповідей учнів, завдання для самостійної роботи й рекомендації щодо застосування отриманих знань у практичній діяльності). </a:t>
            </a: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  <a:p>
            <a:pPr marL="45252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b4f"/>
              </a:solidFill>
              <a:latin typeface="Euphemia"/>
            </a:endParaRPr>
          </a:p>
        </p:txBody>
      </p:sp>
      <p:pic>
        <p:nvPicPr>
          <p:cNvPr id="111" name="Picture 2" descr="C:\Users\Ольга\AppData\Local\Microsoft\Windows\Temporary Internet Files\Content.IE5\ZZC3EWHG\MC900432665[1].png"/>
          <p:cNvPicPr/>
          <p:nvPr/>
        </p:nvPicPr>
        <p:blipFill>
          <a:blip r:embed="rId1"/>
          <a:stretch/>
        </p:blipFill>
        <p:spPr>
          <a:xfrm>
            <a:off x="9623520" y="472428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4T15:09:35Z</dcterms:created>
  <dc:creator/>
  <dc:description/>
  <cp:keywords/>
  <dc:language>en-US</dc:language>
  <cp:lastModifiedBy/>
  <dcterms:modified xsi:type="dcterms:W3CDTF">2014-09-20T19:57:26Z</dcterms:modified>
  <cp:revision>2</cp:revision>
  <dc:subject/>
  <dc:title>Методичні прийоми повідомлення усного матеріал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8011099991</vt:lpwstr>
  </property>
</Properties>
</file>