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64b4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64b4f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4b4f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382680" y="685440"/>
            <a:ext cx="6092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64b4f"/>
                </a:solidFill>
                <a:latin typeface="Euphemia"/>
              </a:rPr>
              <a:t>Click to move the slide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phemi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64b4f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0357-1E81-4552-A827-C0B29F5DD8FB}" type="slidenum">
              <a:rPr b="0" lang="en-US" sz="1200" spc="-1" strike="noStrike">
                <a:solidFill>
                  <a:srgbClr val="164b4f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14F6-A547-4828-946E-96BB3D62E087}" type="slidenum">
              <a:rPr b="0" lang="ru-RU" sz="1200" spc="-1" strike="noStrike">
                <a:solidFill>
                  <a:srgbClr val="164b4f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164b4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0C5-C2F8-4B19-9B6B-14BA942D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2400" y="4024800"/>
            <a:ext cx="9604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B11-5F57-419D-84F2-FD7B6BE6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2400" y="402480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13600" y="402480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2D0-9184-4AB4-BF70-589A6368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39960" y="167652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787160" y="167652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2400" y="402480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39960" y="402480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787160" y="402480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3F7-9393-423E-A5E4-FA2C5D9C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2B11-DE18-4C45-A239-4B1EBF55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2400" y="1127520"/>
            <a:ext cx="9604080" cy="55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352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22E4-472D-4EA9-852B-9BA662FA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56A3-AA51-41E2-921D-566FDBB4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CBFB-8D48-4FE8-9D47-DE6A6F84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5187-CC75-4050-A7F3-EB343AA4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2400" y="233280"/>
            <a:ext cx="9604080" cy="55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3520" algn="ctr">
              <a:lnSpc>
                <a:spcPct val="90000"/>
              </a:lnSpc>
              <a:spcBef>
                <a:spcPts val="159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E513-5895-4B00-928D-89594AB5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92400" y="402480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351E-57D7-470E-A3D6-B1D41903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2400" y="1127520"/>
            <a:ext cx="9604080" cy="55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352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5AC-DF4E-4FBC-8346-EB5D1153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13600" y="402480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BDB9-2B82-40B4-9490-AE28AED5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2400" y="4024800"/>
            <a:ext cx="9604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6173-4A5C-453F-99C5-CA3E7DE7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92400" y="4024800"/>
            <a:ext cx="9604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7E91-82DE-4D84-A085-1B89692D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2400" y="402480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13600" y="402480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67A7-2049-4B18-A907-A70FD0AE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9960" y="167652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787160" y="167652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92400" y="402480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39960" y="402480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787160" y="402480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7C2A-FD5B-434C-9134-5FFD7E9A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EC33-A444-4976-A76A-49BAAD20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C7C-C0EA-4D41-9C52-9A6F72B0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D2C-F182-4771-B234-DDEB8441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2400" y="233280"/>
            <a:ext cx="9604080" cy="55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3520" algn="ctr">
              <a:lnSpc>
                <a:spcPct val="90000"/>
              </a:lnSpc>
              <a:spcBef>
                <a:spcPts val="159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503-6F35-4A2C-A229-E16FCF98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2400" y="402480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65B-9969-49F7-A35E-B5EF9C27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13600" y="402480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F09-988C-495D-A8AF-6846998B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2400" y="4024800"/>
            <a:ext cx="9604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190-FC15-4AD9-951A-A720959F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836640" y="0"/>
            <a:ext cx="11352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b4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64b4f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Click to edit the outline text format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1" marL="50148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con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2" marL="77616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Thir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3" marL="105084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our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4" marL="132552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if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5" marL="132552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ix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6" marL="132552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ven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7152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1f696f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f696f"/>
                </a:solidFill>
                <a:latin typeface="Euphemi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412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b4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517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1f696f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3580-4F26-46FB-89F8-BF3CA26E08C7}" type="slidenum">
              <a:rPr b="0" lang="ru-RU" sz="900" spc="-1" strike="noStrike">
                <a:solidFill>
                  <a:srgbClr val="1f696f"/>
                </a:solidFill>
                <a:latin typeface="Euphem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64b4f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Click to edit the outline text format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1" marL="50148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con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2" marL="77616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Thir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3" marL="105084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our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4" marL="132552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if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5" marL="132552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ix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6" marL="132552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ven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27152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1f696f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f696f"/>
                </a:solidFill>
                <a:latin typeface="Euphemi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6412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b4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517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1f696f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3F87-7DB1-48B9-A312-767EFC672498}" type="slidenum">
              <a:rPr b="0" lang="ru-RU" sz="900" spc="-1" strike="noStrike">
                <a:solidFill>
                  <a:srgbClr val="1f696f"/>
                </a:solidFill>
                <a:latin typeface="Euphem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2400" y="990720"/>
            <a:ext cx="9339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164b4f"/>
                </a:solidFill>
                <a:latin typeface="comic"/>
              </a:rPr>
              <a:t>Методичні прийоми повідомлення усного матеріалу</a:t>
            </a:r>
            <a:endParaRPr b="0" lang="en-US" sz="4800" spc="-1" strike="noStrike">
              <a:solidFill>
                <a:srgbClr val="164b4f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69720" y="1484280"/>
            <a:ext cx="9604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Метод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- це головний інструмент педагогічної діяльності, лише з його допомогою виробляється продукт навчання, здійснюється взаємодія вчителя й учнів.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199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Методи навчання поділяються на </a:t>
            </a: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загальні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та </a:t>
            </a: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спеціальні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. Загальні застосовуються у школі при вивченні різних навчальних предметів; спеціальні - під час вивчення окремих дисциплін.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199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Методика навчального предмет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- це галузь педагогічної науки, яка досліджує закономірності вивчення певного навчального предмета.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549360"/>
            <a:ext cx="960444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4b4f"/>
                </a:solidFill>
                <a:latin typeface="Euphemia"/>
              </a:rPr>
              <a:t>До змісту методики як часткової дидактики входять:</a:t>
            </a:r>
            <a:r>
              <a:rPr b="0" lang="ru-RU" sz="3600" spc="-1" strike="noStrike">
                <a:solidFill>
                  <a:srgbClr val="164b4f"/>
                </a:solidFill>
                <a:latin typeface="Euphemia"/>
              </a:rPr>
              <a:t> 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789768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4920" indent="996570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Установлення пізнавального й виховного значення даного навчального предмета та його місця в системі шкільної освіти;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14920" indent="996570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Визначення завдань вивчення даного предмета та його змісту;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14920" indent="996570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Вироблення відповідно до завдань і змісту навчання методів, методичних засобів та організаційних форм навчання.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115" name="Picture 2" descr="C:\Users\Ольга\AppData\Local\Microsoft\Windows\Temporary Internet Files\Content.IE5\ZZC3EWHG\MC900428261[1].wmf"/>
          <p:cNvPicPr/>
          <p:nvPr/>
        </p:nvPicPr>
        <p:blipFill>
          <a:blip r:embed="rId1"/>
          <a:stretch/>
        </p:blipFill>
        <p:spPr>
          <a:xfrm>
            <a:off x="8902800" y="3141720"/>
            <a:ext cx="2682720" cy="25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0202760" cy="6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Найпоширеніші в педагогіці такі класифікації методів навчання:</a:t>
            </a:r>
            <a:r>
              <a:rPr b="0" lang="ru-RU" sz="3600" spc="-1" strike="noStrike">
                <a:solidFill>
                  <a:srgbClr val="164b4f"/>
                </a:solidFill>
                <a:latin typeface="Euphemia"/>
              </a:rPr>
              <a:t> 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710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103809600">
              <a:lnSpc>
                <a:spcPct val="7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За джерелом передачі та сприймання навчальної інформації (С.Петровський, Є.Голант);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7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За характером пізнавальної діяльності учнів (І.Лернер, М.Скаткін);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7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Залежно від основної дидактичної мети і завдань (І.Харламов);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7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Класифікація з точки зору цілісного підходу до діяльності у процесі навчання  (Ю.Бабанський).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8686800" y="2997360"/>
            <a:ext cx="2881440" cy="331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64b4f"/>
                </a:solidFill>
                <a:latin typeface="Euphemia"/>
              </a:rPr>
              <a:t>Методи навчання: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1400" indent="1027713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Пояснювально-ілюстративний (розповідь, пояснення, наочність)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1400" indent="1027713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Репродуктивний (завдання, вправи, контрольна бесіда)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1400" indent="1027713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Проблемного викладу (міркування, доведення)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1400" indent="1027713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Частково-пошуковий (лінгвістична бесіда)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1400" indent="1027713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Дослідницький (проблемні задачі, самостійні роботи).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121" name="Picture 4" descr="C:\Users\Ольга\AppData\Local\Microsoft\Windows\Temporary Internet Files\Content.IE5\ZZC3EWHG\MC900434810[1].png"/>
          <p:cNvPicPr/>
          <p:nvPr/>
        </p:nvPicPr>
        <p:blipFill>
          <a:blip r:embed="rId1"/>
          <a:stretch/>
        </p:blipFill>
        <p:spPr>
          <a:xfrm>
            <a:off x="9407520" y="0"/>
            <a:ext cx="2448000" cy="237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9986760" cy="6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64b4f"/>
                </a:solidFill>
                <a:latin typeface="Euphemia"/>
              </a:rPr>
              <a:t>Схема впливу методів на навчання історії: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2133720" y="1700280"/>
            <a:ext cx="8208360" cy="4320360"/>
            <a:chOff x="2133720" y="1700280"/>
            <a:chExt cx="8208360" cy="4320360"/>
          </a:xfrm>
        </p:grpSpPr>
        <p:sp>
          <p:nvSpPr>
            <p:cNvPr id="124" name="Rectangle 5"/>
            <p:cNvSpPr/>
            <p:nvPr/>
          </p:nvSpPr>
          <p:spPr>
            <a:xfrm>
              <a:off x="2133720" y="4382280"/>
              <a:ext cx="2873160" cy="74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4b4f"/>
                </a:solidFill>
                <a:latin typeface="Arial"/>
              </a:endParaRPr>
            </a:p>
          </p:txBody>
        </p:sp>
        <p:sp>
          <p:nvSpPr>
            <p:cNvPr id="125" name="WordArt 6"/>
            <p:cNvSpPr txBox="1"/>
            <p:nvPr/>
          </p:nvSpPr>
          <p:spPr>
            <a:xfrm>
              <a:off x="2407320" y="4531320"/>
              <a:ext cx="2188800" cy="33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Частково-пошуковий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126" name="Group 7"/>
            <p:cNvGrpSpPr/>
            <p:nvPr/>
          </p:nvGrpSpPr>
          <p:grpSpPr>
            <a:xfrm>
              <a:off x="2133720" y="1700280"/>
              <a:ext cx="8208360" cy="4320360"/>
              <a:chOff x="2133720" y="1700280"/>
              <a:chExt cx="8208360" cy="4320360"/>
            </a:xfrm>
          </p:grpSpPr>
          <p:grpSp>
            <p:nvGrpSpPr>
              <p:cNvPr id="127" name="Group 8"/>
              <p:cNvGrpSpPr/>
              <p:nvPr/>
            </p:nvGrpSpPr>
            <p:grpSpPr>
              <a:xfrm>
                <a:off x="2133720" y="1700280"/>
                <a:ext cx="8208360" cy="1936440"/>
                <a:chOff x="2133720" y="1700280"/>
                <a:chExt cx="8208360" cy="1936440"/>
              </a:xfrm>
            </p:grpSpPr>
            <p:grpSp>
              <p:nvGrpSpPr>
                <p:cNvPr id="128" name="Group 9"/>
                <p:cNvGrpSpPr/>
                <p:nvPr/>
              </p:nvGrpSpPr>
              <p:grpSpPr>
                <a:xfrm>
                  <a:off x="2133720" y="1700280"/>
                  <a:ext cx="8208360" cy="893160"/>
                  <a:chOff x="2133720" y="1700280"/>
                  <a:chExt cx="8208360" cy="893160"/>
                </a:xfrm>
              </p:grpSpPr>
              <p:sp>
                <p:nvSpPr>
                  <p:cNvPr id="129" name="Rectangle 10"/>
                  <p:cNvSpPr/>
                  <p:nvPr/>
                </p:nvSpPr>
                <p:spPr>
                  <a:xfrm>
                    <a:off x="2133720" y="1700280"/>
                    <a:ext cx="2873160" cy="74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64b4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tangle 11"/>
                  <p:cNvSpPr/>
                  <p:nvPr/>
                </p:nvSpPr>
                <p:spPr>
                  <a:xfrm>
                    <a:off x="7469280" y="1848960"/>
                    <a:ext cx="2872800" cy="744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64b4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WordArt 12"/>
                  <p:cNvSpPr txBox="1"/>
                  <p:nvPr/>
                </p:nvSpPr>
                <p:spPr>
                  <a:xfrm>
                    <a:off x="2270520" y="1848960"/>
                    <a:ext cx="2588040" cy="3351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Пояснювально-ілюстративний</a:t>
                    </a:r>
                    <a:endPara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32" name="WordArt 13"/>
                  <p:cNvSpPr txBox="1"/>
                  <p:nvPr/>
                </p:nvSpPr>
                <p:spPr>
                  <a:xfrm>
                    <a:off x="8427240" y="1998000"/>
                    <a:ext cx="1094400" cy="3351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Знання</a:t>
                    </a:r>
                    <a:endPara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33" name="Line 14"/>
                  <p:cNvSpPr/>
                  <p:nvPr/>
                </p:nvSpPr>
                <p:spPr>
                  <a:xfrm>
                    <a:off x="5006880" y="2296080"/>
                    <a:ext cx="246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64b4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15"/>
                <p:cNvGrpSpPr/>
                <p:nvPr/>
              </p:nvGrpSpPr>
              <p:grpSpPr>
                <a:xfrm>
                  <a:off x="2133720" y="2593800"/>
                  <a:ext cx="8208360" cy="1042920"/>
                  <a:chOff x="2133720" y="2593800"/>
                  <a:chExt cx="8208360" cy="1042920"/>
                </a:xfrm>
              </p:grpSpPr>
              <p:sp>
                <p:nvSpPr>
                  <p:cNvPr id="135" name="Rectangle 16"/>
                  <p:cNvSpPr/>
                  <p:nvPr/>
                </p:nvSpPr>
                <p:spPr>
                  <a:xfrm>
                    <a:off x="2133720" y="2593800"/>
                    <a:ext cx="2873160" cy="74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64b4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17"/>
                  <p:cNvSpPr/>
                  <p:nvPr/>
                </p:nvSpPr>
                <p:spPr>
                  <a:xfrm>
                    <a:off x="7469280" y="2891880"/>
                    <a:ext cx="2872800" cy="74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64b4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WordArt 18"/>
                  <p:cNvSpPr txBox="1"/>
                  <p:nvPr/>
                </p:nvSpPr>
                <p:spPr>
                  <a:xfrm>
                    <a:off x="2680920" y="2742840"/>
                    <a:ext cx="1641600" cy="3351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Репродуктивний</a:t>
                    </a:r>
                    <a:endPara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38" name="WordArt 19"/>
                  <p:cNvSpPr txBox="1"/>
                  <p:nvPr/>
                </p:nvSpPr>
                <p:spPr>
                  <a:xfrm>
                    <a:off x="7880040" y="3040920"/>
                    <a:ext cx="2052000" cy="3351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Уміння і навички</a:t>
                    </a:r>
                    <a:endPara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39" name="Line 20"/>
                  <p:cNvSpPr/>
                  <p:nvPr/>
                </p:nvSpPr>
                <p:spPr>
                  <a:xfrm>
                    <a:off x="5006880" y="3189600"/>
                    <a:ext cx="246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64b4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" name="Group 21"/>
              <p:cNvGrpSpPr/>
              <p:nvPr/>
            </p:nvGrpSpPr>
            <p:grpSpPr>
              <a:xfrm>
                <a:off x="2133720" y="3488040"/>
                <a:ext cx="8208360" cy="2532600"/>
                <a:chOff x="2133720" y="3488040"/>
                <a:chExt cx="8208360" cy="2532600"/>
              </a:xfrm>
            </p:grpSpPr>
            <p:sp>
              <p:nvSpPr>
                <p:cNvPr id="141" name="Rectangle 22"/>
                <p:cNvSpPr/>
                <p:nvPr/>
              </p:nvSpPr>
              <p:spPr>
                <a:xfrm>
                  <a:off x="2133720" y="3488040"/>
                  <a:ext cx="2873160" cy="744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3"/>
                <p:cNvSpPr/>
                <p:nvPr/>
              </p:nvSpPr>
              <p:spPr>
                <a:xfrm>
                  <a:off x="2133720" y="5275800"/>
                  <a:ext cx="2873160" cy="744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24"/>
                <p:cNvSpPr/>
                <p:nvPr/>
              </p:nvSpPr>
              <p:spPr>
                <a:xfrm>
                  <a:off x="7469280" y="3934800"/>
                  <a:ext cx="2872800" cy="744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25"/>
                <p:cNvSpPr/>
                <p:nvPr/>
              </p:nvSpPr>
              <p:spPr>
                <a:xfrm>
                  <a:off x="7469280" y="4977720"/>
                  <a:ext cx="2872800" cy="744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45" name="WordArt 26"/>
                <p:cNvSpPr txBox="1"/>
                <p:nvPr/>
              </p:nvSpPr>
              <p:spPr>
                <a:xfrm>
                  <a:off x="2544120" y="3637080"/>
                  <a:ext cx="2052000" cy="297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</a:rPr>
                    <a:t>Проблемного викладу</a:t>
                  </a:r>
                  <a:endParaRPr b="0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146" name="WordArt 27"/>
                <p:cNvSpPr txBox="1"/>
                <p:nvPr/>
              </p:nvSpPr>
              <p:spPr>
                <a:xfrm>
                  <a:off x="2680920" y="5424840"/>
                  <a:ext cx="1641600" cy="335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</a:rPr>
                    <a:t>Дослідницький</a:t>
                  </a:r>
                  <a:endParaRPr b="0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147" name="WordArt 28"/>
                <p:cNvSpPr txBox="1"/>
                <p:nvPr/>
              </p:nvSpPr>
              <p:spPr>
                <a:xfrm>
                  <a:off x="8290440" y="4083840"/>
                  <a:ext cx="1368000" cy="335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</a:rPr>
                    <a:t>Творчість</a:t>
                  </a:r>
                  <a:endParaRPr b="0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148" name="WordArt 29"/>
                <p:cNvSpPr txBox="1"/>
                <p:nvPr/>
              </p:nvSpPr>
              <p:spPr>
                <a:xfrm>
                  <a:off x="8427240" y="5126760"/>
                  <a:ext cx="1094400" cy="335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</a:rPr>
                    <a:t>Цінності</a:t>
                  </a:r>
                  <a:endParaRPr b="0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149" name="Line 30"/>
                <p:cNvSpPr/>
                <p:nvPr/>
              </p:nvSpPr>
              <p:spPr>
                <a:xfrm>
                  <a:off x="5006880" y="4083840"/>
                  <a:ext cx="2462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50" name="Line 31"/>
                <p:cNvSpPr/>
                <p:nvPr/>
              </p:nvSpPr>
              <p:spPr>
                <a:xfrm flipV="1">
                  <a:off x="5006880" y="4232520"/>
                  <a:ext cx="2462400" cy="74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51" name="Line 32"/>
                <p:cNvSpPr/>
                <p:nvPr/>
              </p:nvSpPr>
              <p:spPr>
                <a:xfrm flipV="1">
                  <a:off x="5006880" y="4381560"/>
                  <a:ext cx="2462400" cy="10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52" name="Line 33"/>
                <p:cNvSpPr/>
                <p:nvPr/>
              </p:nvSpPr>
              <p:spPr>
                <a:xfrm>
                  <a:off x="5006880" y="3785760"/>
                  <a:ext cx="2462400" cy="1341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53" name="Line 34"/>
                <p:cNvSpPr/>
                <p:nvPr/>
              </p:nvSpPr>
              <p:spPr>
                <a:xfrm>
                  <a:off x="5006880" y="4530960"/>
                  <a:ext cx="2462400" cy="744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>
                  <a:off x="5006880" y="5573880"/>
                  <a:ext cx="2462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64b4f"/>
                </a:solidFill>
                <a:latin typeface="Euphemia"/>
              </a:rPr>
              <a:t>Висновки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Під час викладу матеріалу необхідно дотримуватись загальних вимог викладу, які передбачають розгляд змін їх причини і оцінки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Бесіда повинна бути обов</a:t>
            </a: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’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язковим елементом уроку і забезпечити розумовий і моральний розвиток учнів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За допомогою всіх методів, учитель діагностує хід і результати навчального процесу, вносить до нього необхідні зміни (контрольно-коригуюча функція).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157" name="Picture 6" descr="j0195812"/>
          <p:cNvPicPr/>
          <p:nvPr/>
        </p:nvPicPr>
        <p:blipFill>
          <a:blip r:embed="rId1"/>
          <a:stretch/>
        </p:blipFill>
        <p:spPr>
          <a:xfrm>
            <a:off x="9513720" y="4292640"/>
            <a:ext cx="217044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64b4f"/>
                </a:solidFill>
                <a:latin typeface="Euphemia"/>
              </a:rPr>
              <a:t>Прийоми усного викладу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1746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Одним із прийомів усного викладу є </a:t>
            </a:r>
            <a:r>
              <a:rPr b="1" lang="ru-RU" sz="2000" spc="-1" strike="noStrike">
                <a:solidFill>
                  <a:srgbClr val="164b4f"/>
                </a:solidFill>
                <a:latin typeface="Euphemia"/>
              </a:rPr>
              <a:t>розповідь</a:t>
            </a: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. У викладанні історії це стисле повідомлення про історичні події. 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746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Поділяється на: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74600" indent="809712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Сюжетну розповідь 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74600" indent="809712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Образну розповідь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74600" indent="809712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Конспективну розповідь 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74600" indent="809712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Інформаційне повідомлення 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746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Одна з вимог до розповіді – відображення в ній конкретної історичної характеристики часу, простору, історичних осіб, що сприяє розвитку в учнів уявлення про специфічність кожного історичного факту в порівнянні з іншими. 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93" name="Picture 4" descr="MC900198594"/>
          <p:cNvPicPr/>
          <p:nvPr/>
        </p:nvPicPr>
        <p:blipFill>
          <a:blip r:embed="rId1"/>
          <a:stretch/>
        </p:blipFill>
        <p:spPr>
          <a:xfrm>
            <a:off x="7823160" y="2492280"/>
            <a:ext cx="2654280" cy="201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475920"/>
            <a:ext cx="9604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4b4f"/>
                </a:solidFill>
                <a:latin typeface="Euphemia"/>
              </a:rPr>
              <a:t>Вимоги до викладу історичного матеріалу: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1000" y="2349000"/>
            <a:ext cx="960444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Правильна педагогічна організація слухання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7160" indent="-2271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Правильна побудова викладу матеріалу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7160" indent="-2271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Організація керівництва запису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96" name="Picture 2" descr="C:\Users\Ольга\AppData\Local\Microsoft\Windows\Temporary Internet Files\Content.IE5\ZZC3EWHG\MC900428261[1].wmf"/>
          <p:cNvPicPr/>
          <p:nvPr/>
        </p:nvPicPr>
        <p:blipFill>
          <a:blip r:embed="rId1"/>
          <a:stretch/>
        </p:blipFill>
        <p:spPr>
          <a:xfrm>
            <a:off x="7966080" y="2492280"/>
            <a:ext cx="316692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30080" y="476280"/>
            <a:ext cx="9604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476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64b4f"/>
                </a:solidFill>
                <a:latin typeface="Euphemia"/>
              </a:rPr>
              <a:t>Для організації слухання на уроці необхідно: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6851412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Поставити завдання уроку;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6851412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Мотивація;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6851412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Зазначення шляхів до розуміння і засвоєння матеріалу.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64b4f"/>
                </a:solidFill>
                <a:latin typeface="Euphemia"/>
              </a:rPr>
              <a:t>Для правильної побудови викладу: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6851412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Побудова плану;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6851412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Усвідомлення загального зв</a:t>
            </a:r>
            <a:r>
              <a:rPr b="0" lang="en-US" sz="2000" spc="-1" strike="noStrike">
                <a:solidFill>
                  <a:srgbClr val="164b4f"/>
                </a:solidFill>
                <a:latin typeface="Euphemia"/>
              </a:rPr>
              <a:t>’</a:t>
            </a: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язку викладу мислення;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6851412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Відтворення логічних зв</a:t>
            </a:r>
            <a:r>
              <a:rPr b="0" lang="en-US" sz="2000" spc="-1" strike="noStrike">
                <a:solidFill>
                  <a:srgbClr val="164b4f"/>
                </a:solidFill>
                <a:latin typeface="Euphemia"/>
              </a:rPr>
              <a:t>’</a:t>
            </a: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язків у стислому вигляді – висновок;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6851412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Використання логічних схем;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64b4f"/>
                </a:solidFill>
                <a:latin typeface="Euphemia"/>
              </a:rPr>
              <a:t>Організація керівництва запису: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6851412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Під запис лише найважливіші моменти – сутність, а не деталі;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9360" y="549000"/>
            <a:ext cx="10226520" cy="68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4b4f"/>
                </a:solidFill>
                <a:latin typeface="Euphemia"/>
              </a:rPr>
              <a:t>За спеціальністю історії, як навчального предмету:</a:t>
            </a:r>
            <a:endParaRPr b="0" lang="en-US" sz="2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96920" indent="913521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Дотримуватись принципу історизму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196920" indent="913521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Показ виникнення нового історичного явища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196920" indent="913521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Оцінка данному історичному процесу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1969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- історична оцінка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1969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- моральна оцінка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1969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- наукова оцінка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100" name="Picture 5" descr="teacher-doris-day-286x300"/>
          <p:cNvPicPr/>
          <p:nvPr/>
        </p:nvPicPr>
        <p:blipFill>
          <a:blip r:embed="rId1"/>
          <a:stretch/>
        </p:blipFill>
        <p:spPr>
          <a:xfrm>
            <a:off x="8110440" y="2852640"/>
            <a:ext cx="32688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64b4f"/>
                </a:solidFill>
                <a:latin typeface="Euphemia"/>
              </a:rPr>
              <a:t>Бесіда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Бесід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r>
              <a:rPr b="0" i="1" lang="ru-RU" sz="2400" spc="-1" strike="noStrike">
                <a:solidFill>
                  <a:srgbClr val="164b4f"/>
                </a:solidFill>
                <a:latin typeface="Euphemia"/>
              </a:rPr>
              <a:t>– метод словесного обговорення матеріалу, що вивчається, 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– найпоширеніша в навчанні. її завдання полягає в тому, щоб, по-перше, за допомогою цілеспрямованих і вміло поставлених запитань актуалізувати відомі учням знання, по-друге, досягти засвоєння ними нових знань шляхом самостійних обмірковувань, узагальнень та інших розумових операцій.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103" name="Picture 7" descr="post-1687242-1314355126"/>
          <p:cNvPicPr/>
          <p:nvPr/>
        </p:nvPicPr>
        <p:blipFill>
          <a:blip r:embed="rId1"/>
          <a:stretch/>
        </p:blipFill>
        <p:spPr>
          <a:xfrm>
            <a:off x="8039160" y="3933720"/>
            <a:ext cx="3141720" cy="257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404280"/>
            <a:ext cx="960444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4b4f"/>
                </a:solidFill>
                <a:latin typeface="Euphemia"/>
              </a:rPr>
              <a:t>Основні різновиди навчальної бесіди: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2400" y="1197000"/>
            <a:ext cx="960408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2800" indent="80793000">
              <a:lnSpc>
                <a:spcPct val="8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Вступн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r>
              <a:rPr b="0" lang="ru-RU" sz="2100" spc="-1" strike="noStrike">
                <a:solidFill>
                  <a:srgbClr val="164b4f"/>
                </a:solidFill>
                <a:latin typeface="Euphemia"/>
              </a:rPr>
              <a:t>(проводиться перед початком навчальної роботи); </a:t>
            </a:r>
            <a:endParaRPr b="0" lang="en-US" sz="2100" spc="-1" strike="noStrike">
              <a:solidFill>
                <a:srgbClr val="164b4f"/>
              </a:solidFill>
              <a:latin typeface="Euphemia"/>
            </a:endParaRPr>
          </a:p>
          <a:p>
            <a:pPr marL="352800" indent="80793000">
              <a:lnSpc>
                <a:spcPct val="8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Бесіда-повідомлення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r>
              <a:rPr b="0" lang="ru-RU" sz="2100" spc="-1" strike="noStrike">
                <a:solidFill>
                  <a:srgbClr val="164b4f"/>
                </a:solidFill>
                <a:latin typeface="Euphemia"/>
              </a:rPr>
              <a:t>(базується на спостереженнях, певних документах тощо);</a:t>
            </a:r>
            <a:endParaRPr b="0" lang="en-US" sz="2100" spc="-1" strike="noStrike">
              <a:solidFill>
                <a:srgbClr val="164b4f"/>
              </a:solidFill>
              <a:latin typeface="Euphemia"/>
            </a:endParaRPr>
          </a:p>
          <a:p>
            <a:pPr marL="352800" indent="80793000">
              <a:lnSpc>
                <a:spcPct val="8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Бесіда-повторення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r>
              <a:rPr b="0" lang="ru-RU" sz="2100" spc="-1" strike="noStrike">
                <a:solidFill>
                  <a:srgbClr val="164b4f"/>
                </a:solidFill>
                <a:latin typeface="Euphemia"/>
              </a:rPr>
              <a:t>(проводиться для закріплення навчального матеріалу);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352800" indent="80793000">
              <a:lnSpc>
                <a:spcPct val="8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Контрольн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r>
              <a:rPr b="0" lang="ru-RU" sz="2100" spc="-1" strike="noStrike">
                <a:solidFill>
                  <a:srgbClr val="164b4f"/>
                </a:solidFill>
                <a:latin typeface="Euphemia"/>
              </a:rPr>
              <a:t>(використовується для перевірки засвоєних знань); </a:t>
            </a:r>
            <a:endParaRPr b="0" lang="en-US" sz="2100" spc="-1" strike="noStrike">
              <a:solidFill>
                <a:srgbClr val="164b4f"/>
              </a:solidFill>
              <a:latin typeface="Euphemia"/>
            </a:endParaRPr>
          </a:p>
          <a:p>
            <a:pPr marL="352800" indent="80793000">
              <a:lnSpc>
                <a:spcPct val="8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Репродуктивн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r>
              <a:rPr b="0" lang="ru-RU" sz="2100" spc="-1" strike="noStrike">
                <a:solidFill>
                  <a:srgbClr val="164b4f"/>
                </a:solidFill>
                <a:latin typeface="Euphemia"/>
              </a:rPr>
              <a:t>(використовується для відтворення матеріалу, який було засвоєно раніше); </a:t>
            </a:r>
            <a:endParaRPr b="0" lang="en-US" sz="2100" spc="-1" strike="noStrike">
              <a:solidFill>
                <a:srgbClr val="164b4f"/>
              </a:solidFill>
              <a:latin typeface="Euphemia"/>
            </a:endParaRPr>
          </a:p>
          <a:p>
            <a:pPr marL="352800" indent="80793000">
              <a:lnSpc>
                <a:spcPct val="8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Катехізисн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r>
              <a:rPr b="0" lang="ru-RU" sz="2100" spc="-1" strike="noStrike">
                <a:solidFill>
                  <a:srgbClr val="164b4f"/>
                </a:solidFill>
                <a:latin typeface="Euphemia"/>
              </a:rPr>
              <a:t>(спрямована на відтворення відповідей, які вимагають тренування пам'яті); </a:t>
            </a:r>
            <a:endParaRPr b="0" lang="en-US" sz="2100" spc="-1" strike="noStrike">
              <a:solidFill>
                <a:srgbClr val="164b4f"/>
              </a:solidFill>
              <a:latin typeface="Euphemia"/>
            </a:endParaRPr>
          </a:p>
          <a:p>
            <a:pPr marL="352800" indent="80793000">
              <a:lnSpc>
                <a:spcPct val="8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Евристичн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r>
              <a:rPr b="0" lang="ru-RU" sz="2100" spc="-1" strike="noStrike">
                <a:solidFill>
                  <a:srgbClr val="164b4f"/>
                </a:solidFill>
                <a:latin typeface="Euphemia"/>
              </a:rPr>
              <a:t>(за допомогою запитань скеровує учнів на формування нових знань, висновків, правил, законів, логічних обгрунтувань на основі наявних знань і досвіду).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64b4f"/>
                </a:solidFill>
                <a:latin typeface="Euphemia"/>
              </a:rPr>
              <a:t>За дидактичною функцією: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Вступна бесіда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Контрольна бесіда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Анолітично-узагальнююча бесіда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Підсумкова бесіда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Еврестична бесіда.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108" name="Рисунок 4" descr=""/>
          <p:cNvPicPr/>
          <p:nvPr/>
        </p:nvPicPr>
        <p:blipFill>
          <a:blip r:embed="rId1"/>
          <a:stretch/>
        </p:blipFill>
        <p:spPr>
          <a:xfrm>
            <a:off x="7534440" y="2637000"/>
            <a:ext cx="320040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476280"/>
            <a:ext cx="1101744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64b4f"/>
                </a:solidFill>
                <a:latin typeface="Euphemia"/>
              </a:rPr>
              <a:t>Незалежно від мети методика бесіди складається з таких частин:</a:t>
            </a:r>
            <a:r>
              <a:rPr b="0" lang="ru-RU" sz="2600" spc="-1" strike="noStrike">
                <a:solidFill>
                  <a:srgbClr val="164b4f"/>
                </a:solidFill>
                <a:latin typeface="Euphemia"/>
              </a:rPr>
              <a:t> </a:t>
            </a:r>
            <a:endParaRPr b="0" lang="en-US" sz="2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1035810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Вступн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(нагадування й виклад основної інформації, яка стосується методики та змісту проведення бесіди);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452520" indent="1035810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Основн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(ознайомлення з новими проблемами, їх зв'язок з попередніми знаннями, відповідне їх обговорення й аналіз, спільне обгрунтування);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452520" indent="1035810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Заключн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(підсумок результатів обговорення, аналіз і оцінка відповідей учнів, завдання для самостійної роботи й рекомендації щодо застосування отриманих знань у практичній діяльності).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4525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111" name="Picture 2" descr="C:\Users\Ольга\AppData\Local\Microsoft\Windows\Temporary Internet Files\Content.IE5\ZZC3EWHG\MC900432665[1].png"/>
          <p:cNvPicPr/>
          <p:nvPr/>
        </p:nvPicPr>
        <p:blipFill>
          <a:blip r:embed="rId1"/>
          <a:stretch/>
        </p:blipFill>
        <p:spPr>
          <a:xfrm>
            <a:off x="9623520" y="472428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4T15:09:35Z</dcterms:created>
  <dc:creator/>
  <dc:description/>
  <cp:keywords/>
  <dc:language>en-US</dc:language>
  <cp:lastModifiedBy/>
  <dcterms:modified xsi:type="dcterms:W3CDTF">2014-09-20T19:57:26Z</dcterms:modified>
  <cp:revision>2</cp:revision>
  <dc:subject/>
  <dc:title>Методичні прийоми повідомлення усного матеріа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8011099991</vt:lpwstr>
  </property>
</Properties>
</file>